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8501-3723-4EDA-9E2B-C034E959C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B49C-418B-489C-9709-60BB2ABB2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002B-F3EA-4572-BA4C-BF945DEEB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951-B42A-4614-81C9-42804CFA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B78-7F64-42AE-B38E-82D0504A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B560F-8B30-4188-9F43-A884D05A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FE6AB-CDDF-4C1D-8EE6-234DDDB4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0D38E-B8DD-4D48-AC61-A15320F1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8225F-285B-4829-B869-7FF620FF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E39F1-9D02-4F25-90A3-85746DF8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54554-9EC7-4815-B99F-A48A3223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08E4A-BD23-4594-948A-B716BF89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3B36A-562D-4DA4-ABA5-A74DE286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488DC-9195-4A4D-A587-FF45B434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3F12E-3CEE-48B9-B973-EB35F426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D70-D08B-4E13-9899-00416DEC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E34DA-F867-4AC6-A1F5-AFF5A7E0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0355E-A221-479B-A0BA-5F494129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6CC67-EDF4-42C0-A93D-F2BB9648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D9393-0A07-4484-80F5-087FD58D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5D2F6-70C2-4ED0-892A-95AE8B30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41AEA-5261-4F04-8C78-B48FDC1B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1EA73-1825-43E3-978D-2092226B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21741-9A1D-4DB1-89B9-90382F6C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3EA99-463F-40E4-8A82-75F6B864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D0F82-57AE-4502-BB08-E3DCC6CD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A62-02AA-422B-9DCC-751777DB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817F0-54AA-4AFC-9148-0CCCE527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F1DCA-197F-4215-AE82-3728F446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E5D5D-6EC6-455D-A70D-58DD3A40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33BA1-124F-4F60-82BD-FA882F55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71014-23EA-4CE8-A27E-D8037370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F26DB-898A-4004-AEB8-5DF4F29E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E92DA-1E20-409D-9BAF-6E752916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78F20-F2AF-4B55-8034-B0871F26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55B28-A852-4D00-AD62-BB04357C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D6190-C301-40C6-9B2D-9CD3AB04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E24E-5A0D-4348-901D-543C6B6A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EF87D-E91A-48F0-9AC1-2719A849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1DF42-CD38-48DC-8DD2-DDDFBAF9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097BC-C713-42CC-A73D-C64E8037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A80B6-4A82-44DA-8914-A934AACC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87C77-4237-447C-9BB2-833BCCEC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BD802-947F-4C74-98D3-FA503CCC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1849C-4AF5-4461-BE8D-D72A5FFB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2F80A-E9B6-4A8D-9AEC-0E2AEB54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68461-A45F-4A91-9065-81CE93D9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22B1B-C2C8-4CDE-B76C-DFABAE8C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F156-515F-406A-9FFC-D4D30C96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BC641-D5A4-4135-8884-D0D79BF1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9DFCF-AFE5-4857-9670-A6C0F88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55489-CF5C-42AE-AB4E-B5142D6B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84095-2979-4DEF-ABB6-64941B71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0E8BD-FC28-4E0A-A405-BAE70CB7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33C2E-EC7E-430F-8A28-906E5B26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3BC56-D143-445D-BFD3-792A714B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C6100-60F1-4CC3-A466-C0C208AB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6B5C8-3D49-44E4-8C29-78601ADA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5A5BF-8D6A-4967-8108-37F833C3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163F-A24E-4172-907D-9B06407E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78504-7DE1-4E2C-BD58-36510B48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7313D-AB4D-4F02-AAA4-A02B814C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C0B85-9D94-4972-B582-7C037A27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06C78-0114-44C6-ABEC-F9B9E163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B9A5F-5371-44FD-83D8-B3F1E485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B1DBD-6CEC-4D6D-B993-1B9CEEA6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BA998-78B4-4087-9E89-A3A1A549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A747D-AD93-4C8E-AF3A-7A4D5E3D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ACCA0-675E-4C8B-BE21-AD1214F4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463EA-EC8A-404C-8A23-5F281E65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32F3-EC07-4862-B359-05124F14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54FB8-4F77-4A12-B0F0-669BD4D8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052CF-9B1B-496D-A022-44262280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D77A36-86FE-4D0F-8366-E3E91A47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58E531-5A49-4E61-879A-12CA050C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8A088-AE94-4312-B805-56036AF4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5E509-4B7A-4501-A3A3-BB6BAE13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40F73-0941-4E3D-BD17-799E4BC6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539F6C-B083-46CA-B980-607B805A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A8F95-129A-4860-ABD8-41F1CB44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0504-7908-4DEB-806A-D8EA4013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BDD3-DDAB-4BA2-A89A-C128DF32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41B7-2964-47AF-9D55-ABED13E2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5B8-D4F0-423B-BEA4-C475D2B0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8786-B23F-4309-96B5-4E3286E2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BE1C-377C-414B-BE26-C57F07AB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1501-AE6B-4F56-A85F-052FD8BA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CBBF-5D77-47FB-A268-9092B0D4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615D-29E5-4571-A815-5005C00D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10107-DBA7-4A80-848E-144F835A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D1CB5-F293-41B3-A418-A78A7CAE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CDAC8-2B4E-4B5C-A87E-872199FA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0030-25E4-493E-8921-F6DDC1B9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0DD5-D12C-4431-A29B-34503EF5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EAC-8747-43EC-B270-F57343B9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497F-51A6-4812-BB60-939A0663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5FDCF-C53A-46BA-A46A-CB181C11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6969-2813-4695-99E1-73214FE4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76B46-123E-4D77-B3F8-9DDC17D0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40F8-6F5A-45EF-BB3F-F72BF99C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6687-9752-4B39-BB46-3CAD70F7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B6BFC-CAC4-4542-B59E-6891C074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07A33-8463-4C21-90C3-DE0CDAAB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6ED77-7FD3-4095-8416-8390FA4B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183E2-8ED9-47CB-A6DF-43F76107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68D-B329-4B9B-930F-E056ADB4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4A516-28CB-464F-8CE3-44DFB98A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BE557-893E-4DEE-A611-380A74A2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D88B-8707-46F7-9687-42B2A3BB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75BCF-9CF7-4C64-A016-1E9420EB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D53B9-F7B5-4F2C-8D68-9E514ED1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9BC3D-7BCC-40C2-AD67-6E0E0E0D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E051B-24C1-468B-AB86-A74829F5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E3605-B11E-479F-BEA4-0E28A731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7635A-8FE8-468D-8653-30C7715C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0E5F6-32B3-43AE-8BFA-9135B0C9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869-715F-4BAB-932B-1002C482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26625-654E-4275-9AE7-B1163263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BB5F6-0942-4946-A664-F7D1905E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70187-58E0-4FD4-B55E-9438137B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BE6FA-67F7-4BC6-83EB-F699A271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7095B-AB49-4068-BC8B-2E812E83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63A9D-E561-4F5E-9B87-9277C9F8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6D6EC-68C9-4202-9796-FB882FFF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1C7EF-58CE-44B2-9016-DD0A042C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2F47B-39FC-413F-A9C7-3A62C984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422B-ACB4-4032-904D-0C4E670C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D23-3246-412E-B9C4-B059F753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F7348-87ED-444A-AC65-7673B31F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08FA4-66AB-4D4B-9216-9257180E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49B00-9145-4123-B551-06FF7DA6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A3EA5-35E4-453C-AAC6-9180577A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4344A-66DF-4EB2-AE7B-2E74DEA1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F504F-C985-4C15-9AB0-8C0D58F9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8FC27-6852-41EA-8ABF-86A17F13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E8B54-6347-4CDC-B4D6-32C5B510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8CEA6-5AB6-4C26-8F28-80019C50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EE15E-F9CE-4AE6-A453-D9398112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F0D-61E8-4E6C-8734-D1CA4529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71C1C-B520-4B14-880D-A9938729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04A26-C52F-4185-AFE0-00D8BD65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58728-0D16-4502-B9DD-74B27B8B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8D710-73C7-4BE6-8F62-C1997E4C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488D1-6DC0-4C63-997A-78B072E6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CE650-F079-4B7F-BDBE-F4011244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15F9E-3C9F-426F-A39A-4D4D0929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FE964-A53B-43B6-A37D-7D01BC32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7DF58-37D4-4602-ADEE-020B17FC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C790E-8F25-45E0-BA4A-563FD22B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A7F-E160-422D-8DDB-B79629FD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D2135-FA13-41CD-A3F8-34B4391E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211A1-71AF-44B6-865E-5275213F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8C03A-86FD-4698-8BB0-0EB7932A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E8B42-CA6D-4309-B708-4C369BFA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9809F-E789-41D1-8CD8-38D4ED84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1C9C9-8C47-4B6F-B733-3863B0C2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EA58D-3DD2-4DF7-8339-D35F1332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014D9-AF3A-492E-B5B0-CEAC9EA6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8581F-3AE7-4239-862E-A9CDF533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4DF27-C0B5-4042-B4DB-FECA8BBD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029-78AC-46BD-B81F-6383C0B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95FC5-7D6F-4A18-9228-60ADDD1F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4CA7C-9F37-45B0-9C9D-B3D3147B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883A5-37D2-42BC-8B12-0DCE2BF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77C77-E9C2-41C8-B22B-7B16C116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DABE7-AB6A-41BB-BAD9-050C96F8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D9B1F-23B6-4DC7-A21B-AADECB59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B0EFC-1202-4A24-A502-444921F6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D2ACF-B4B1-4DA4-B44B-72CE3912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4A0BF-06A0-470D-BF2F-2EB82A24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1E2DE-163C-4B91-8EA5-957BE8CA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2E5E-2D71-47CE-B8E4-A1EA5CBA5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28D4-A178-4824-A89E-476E5F858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A732-A1A6-445E-A989-1774D4A2A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E7EB-8317-4EDF-BCE1-8CD6A59A0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1751-D39D-4A9F-8326-E538B4CD7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2AC3-4021-47AE-BAFA-C7F8BB3BF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8FF4-7AFF-4568-A17A-2D8DB0207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6CF7-BE84-48B3-ACB2-38EAB3053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42C1-813E-42FB-B3BF-095768773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2A67-EC8D-433F-BA08-0DC5D76A9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8DD8-A4DC-462D-BB43-04C9833EE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D585-5029-4A0E-B850-B4BB6422A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DC7E-61D3-45A6-9BE6-5A18C5190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D0F1-76DA-45A4-957F-EF47A1645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4"/>
          <p:cNvSpPr/>
          <p:nvPr/>
        </p:nvSpPr>
        <p:spPr>
          <a:xfrm>
            <a:off x="26280" y="0"/>
            <a:ext cx="58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6a: Equations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0" descr="drummer_snow_dundas-yonge_02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 and Problem Solving - 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6"/>
          <p:cNvSpPr/>
          <p:nvPr/>
        </p:nvSpPr>
        <p:spPr>
          <a:xfrm>
            <a:off x="40320" y="838080"/>
            <a:ext cx="858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n equation to find the perimeter of any rect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28960" cy="244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http://www.livesmartdaily.com/wp-content/uploads/2009/03/garden_kit-01.jpg"/>
          <p:cNvPicPr/>
          <p:nvPr/>
        </p:nvPicPr>
        <p:blipFill>
          <a:blip r:embed="rId1"/>
          <a:stretch/>
        </p:blipFill>
        <p:spPr>
          <a:xfrm>
            <a:off x="6448320" y="838080"/>
            <a:ext cx="2695680" cy="17528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 and Problem Solving - 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6"/>
          <p:cNvSpPr/>
          <p:nvPr/>
        </p:nvSpPr>
        <p:spPr>
          <a:xfrm>
            <a:off x="0" y="838080"/>
            <a:ext cx="632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1) The width of a rectangular garden is 7 in. less than twice its length. The perimeter of the rectangle is 22 in.  What are the dimensions of the ga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17409"/>
          <p:cNvGrpSpPr/>
          <p:nvPr/>
        </p:nvGrpSpPr>
        <p:grpSpPr>
          <a:xfrm>
            <a:off x="347760" y="1295280"/>
            <a:ext cx="8682120" cy="4313520"/>
            <a:chOff x="347760" y="1295280"/>
            <a:chExt cx="8682120" cy="4313520"/>
          </a:xfrm>
        </p:grpSpPr>
        <p:sp>
          <p:nvSpPr>
            <p:cNvPr id="594" name="SMARTInkAnnotation290"/>
            <p:cNvSpPr/>
            <p:nvPr/>
          </p:nvSpPr>
          <p:spPr>
            <a:xfrm>
              <a:off x="2165760" y="1356120"/>
              <a:ext cx="2371680" cy="426600"/>
            </a:xfrm>
            <a:custGeom>
              <a:avLst/>
              <a:gdLst>
                <a:gd name="textAreaLeft" fmla="*/ 0 w 2371680"/>
                <a:gd name="textAreaRight" fmla="*/ 2372040 w 237168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2371881" h="426721">
                  <a:moveTo>
                    <a:pt x="173961" y="426720"/>
                  </a:moveTo>
                  <a:lnTo>
                    <a:pt x="1124964" y="426720"/>
                  </a:lnTo>
                  <a:lnTo>
                    <a:pt x="1193557" y="419806"/>
                  </a:lnTo>
                  <a:lnTo>
                    <a:pt x="1264752" y="419142"/>
                  </a:lnTo>
                  <a:lnTo>
                    <a:pt x="1784321" y="419100"/>
                  </a:lnTo>
                  <a:lnTo>
                    <a:pt x="1835121" y="422873"/>
                  </a:lnTo>
                  <a:lnTo>
                    <a:pt x="1871716" y="419845"/>
                  </a:lnTo>
                  <a:lnTo>
                    <a:pt x="1935976" y="425726"/>
                  </a:lnTo>
                  <a:lnTo>
                    <a:pt x="1976368" y="425677"/>
                  </a:lnTo>
                  <a:lnTo>
                    <a:pt x="2047355" y="419559"/>
                  </a:lnTo>
                  <a:lnTo>
                    <a:pt x="2112975" y="419127"/>
                  </a:lnTo>
                  <a:lnTo>
                    <a:pt x="2185011" y="411952"/>
                  </a:lnTo>
                  <a:lnTo>
                    <a:pt x="2200602" y="410843"/>
                  </a:lnTo>
                  <a:lnTo>
                    <a:pt x="2246577" y="398501"/>
                  </a:lnTo>
                  <a:lnTo>
                    <a:pt x="2280653" y="386043"/>
                  </a:lnTo>
                  <a:lnTo>
                    <a:pt x="2301000" y="374404"/>
                  </a:lnTo>
                  <a:lnTo>
                    <a:pt x="2324547" y="361384"/>
                  </a:lnTo>
                  <a:lnTo>
                    <a:pt x="2335149" y="355913"/>
                  </a:lnTo>
                  <a:lnTo>
                    <a:pt x="2343247" y="348401"/>
                  </a:lnTo>
                  <a:lnTo>
                    <a:pt x="2352566" y="336910"/>
                  </a:lnTo>
                  <a:lnTo>
                    <a:pt x="2358043" y="330078"/>
                  </a:lnTo>
                  <a:lnTo>
                    <a:pt x="2363300" y="321397"/>
                  </a:lnTo>
                  <a:lnTo>
                    <a:pt x="2368459" y="311894"/>
                  </a:lnTo>
                  <a:lnTo>
                    <a:pt x="2371019" y="306989"/>
                  </a:lnTo>
                  <a:lnTo>
                    <a:pt x="2371880" y="301180"/>
                  </a:lnTo>
                  <a:lnTo>
                    <a:pt x="2370579" y="287951"/>
                  </a:lnTo>
                  <a:lnTo>
                    <a:pt x="2369436" y="275863"/>
                  </a:lnTo>
                  <a:lnTo>
                    <a:pt x="2368928" y="264846"/>
                  </a:lnTo>
                  <a:lnTo>
                    <a:pt x="2368702" y="254305"/>
                  </a:lnTo>
                  <a:lnTo>
                    <a:pt x="2366344" y="243975"/>
                  </a:lnTo>
                  <a:lnTo>
                    <a:pt x="2364529" y="238850"/>
                  </a:lnTo>
                  <a:lnTo>
                    <a:pt x="2357998" y="228640"/>
                  </a:lnTo>
                  <a:lnTo>
                    <a:pt x="2350298" y="217611"/>
                  </a:lnTo>
                  <a:lnTo>
                    <a:pt x="2347060" y="211114"/>
                  </a:lnTo>
                  <a:lnTo>
                    <a:pt x="2340356" y="197968"/>
                  </a:lnTo>
                  <a:lnTo>
                    <a:pt x="2331732" y="186482"/>
                  </a:lnTo>
                  <a:lnTo>
                    <a:pt x="2317740" y="175732"/>
                  </a:lnTo>
                  <a:lnTo>
                    <a:pt x="2301925" y="165310"/>
                  </a:lnTo>
                  <a:lnTo>
                    <a:pt x="2289251" y="155033"/>
                  </a:lnTo>
                  <a:lnTo>
                    <a:pt x="2273460" y="144821"/>
                  </a:lnTo>
                  <a:lnTo>
                    <a:pt x="2255151" y="135485"/>
                  </a:lnTo>
                  <a:lnTo>
                    <a:pt x="2225804" y="124622"/>
                  </a:lnTo>
                  <a:lnTo>
                    <a:pt x="2171374" y="101287"/>
                  </a:lnTo>
                  <a:lnTo>
                    <a:pt x="2134377" y="86267"/>
                  </a:lnTo>
                  <a:lnTo>
                    <a:pt x="2096603" y="75138"/>
                  </a:lnTo>
                  <a:lnTo>
                    <a:pt x="2034594" y="62945"/>
                  </a:lnTo>
                  <a:lnTo>
                    <a:pt x="1987923" y="50730"/>
                  </a:lnTo>
                  <a:lnTo>
                    <a:pt x="1924383" y="38588"/>
                  </a:lnTo>
                  <a:lnTo>
                    <a:pt x="1855012" y="28036"/>
                  </a:lnTo>
                  <a:lnTo>
                    <a:pt x="1797929" y="20349"/>
                  </a:lnTo>
                  <a:lnTo>
                    <a:pt x="1738118" y="16754"/>
                  </a:lnTo>
                  <a:lnTo>
                    <a:pt x="1681543" y="11643"/>
                  </a:lnTo>
                  <a:lnTo>
                    <a:pt x="1623200" y="4767"/>
                  </a:lnTo>
                  <a:lnTo>
                    <a:pt x="1558970" y="1412"/>
                  </a:lnTo>
                  <a:lnTo>
                    <a:pt x="1495724" y="419"/>
                  </a:lnTo>
                  <a:lnTo>
                    <a:pt x="1046271" y="0"/>
                  </a:lnTo>
                  <a:lnTo>
                    <a:pt x="980499" y="4045"/>
                  </a:lnTo>
                  <a:lnTo>
                    <a:pt x="916796" y="6561"/>
                  </a:lnTo>
                  <a:lnTo>
                    <a:pt x="855023" y="7306"/>
                  </a:lnTo>
                  <a:lnTo>
                    <a:pt x="753126" y="13610"/>
                  </a:lnTo>
                  <a:lnTo>
                    <a:pt x="692134" y="17015"/>
                  </a:lnTo>
                  <a:lnTo>
                    <a:pt x="633423" y="21128"/>
                  </a:lnTo>
                  <a:lnTo>
                    <a:pt x="560488" y="26563"/>
                  </a:lnTo>
                  <a:lnTo>
                    <a:pt x="489856" y="34943"/>
                  </a:lnTo>
                  <a:lnTo>
                    <a:pt x="423850" y="39734"/>
                  </a:lnTo>
                  <a:lnTo>
                    <a:pt x="343244" y="50169"/>
                  </a:lnTo>
                  <a:lnTo>
                    <a:pt x="272067" y="56968"/>
                  </a:lnTo>
                  <a:lnTo>
                    <a:pt x="198664" y="64655"/>
                  </a:lnTo>
                  <a:lnTo>
                    <a:pt x="154507" y="74735"/>
                  </a:lnTo>
                  <a:lnTo>
                    <a:pt x="107000" y="92951"/>
                  </a:lnTo>
                  <a:lnTo>
                    <a:pt x="75221" y="104783"/>
                  </a:lnTo>
                  <a:lnTo>
                    <a:pt x="40888" y="123374"/>
                  </a:lnTo>
                  <a:lnTo>
                    <a:pt x="32126" y="131315"/>
                  </a:lnTo>
                  <a:lnTo>
                    <a:pt x="24563" y="140489"/>
                  </a:lnTo>
                  <a:lnTo>
                    <a:pt x="15558" y="150211"/>
                  </a:lnTo>
                  <a:lnTo>
                    <a:pt x="12479" y="155174"/>
                  </a:lnTo>
                  <a:lnTo>
                    <a:pt x="9058" y="165204"/>
                  </a:lnTo>
                  <a:lnTo>
                    <a:pt x="5280" y="177564"/>
                  </a:lnTo>
                  <a:lnTo>
                    <a:pt x="3087" y="184416"/>
                  </a:lnTo>
                  <a:lnTo>
                    <a:pt x="1625" y="191524"/>
                  </a:lnTo>
                  <a:lnTo>
                    <a:pt x="650" y="198803"/>
                  </a:lnTo>
                  <a:lnTo>
                    <a:pt x="0" y="206195"/>
                  </a:lnTo>
                  <a:lnTo>
                    <a:pt x="414" y="213663"/>
                  </a:lnTo>
                  <a:lnTo>
                    <a:pt x="1537" y="221182"/>
                  </a:lnTo>
                  <a:lnTo>
                    <a:pt x="3131" y="228735"/>
                  </a:lnTo>
                  <a:lnTo>
                    <a:pt x="7161" y="241642"/>
                  </a:lnTo>
                  <a:lnTo>
                    <a:pt x="11775" y="253870"/>
                  </a:lnTo>
                  <a:lnTo>
                    <a:pt x="16647" y="267771"/>
                  </a:lnTo>
                  <a:lnTo>
                    <a:pt x="21635" y="280158"/>
                  </a:lnTo>
                  <a:lnTo>
                    <a:pt x="27520" y="292155"/>
                  </a:lnTo>
                  <a:lnTo>
                    <a:pt x="31461" y="298910"/>
                  </a:lnTo>
                  <a:lnTo>
                    <a:pt x="35781" y="305953"/>
                  </a:lnTo>
                  <a:lnTo>
                    <a:pt x="47354" y="318295"/>
                  </a:lnTo>
                  <a:lnTo>
                    <a:pt x="60965" y="329424"/>
                  </a:lnTo>
                  <a:lnTo>
                    <a:pt x="75480" y="340015"/>
                  </a:lnTo>
                  <a:lnTo>
                    <a:pt x="92656" y="350367"/>
                  </a:lnTo>
                  <a:lnTo>
                    <a:pt x="119108" y="363457"/>
                  </a:lnTo>
                  <a:lnTo>
                    <a:pt x="147549" y="372698"/>
                  </a:lnTo>
                  <a:lnTo>
                    <a:pt x="208364" y="385990"/>
                  </a:lnTo>
                  <a:lnTo>
                    <a:pt x="277112" y="394723"/>
                  </a:lnTo>
                  <a:lnTo>
                    <a:pt x="347502" y="396040"/>
                  </a:lnTo>
                  <a:lnTo>
                    <a:pt x="411648" y="401451"/>
                  </a:lnTo>
                  <a:lnTo>
                    <a:pt x="450672" y="405642"/>
                  </a:lnTo>
                  <a:lnTo>
                    <a:pt x="471141" y="411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MARTInkAnnotation291"/>
            <p:cNvSpPr/>
            <p:nvPr/>
          </p:nvSpPr>
          <p:spPr>
            <a:xfrm>
              <a:off x="347760" y="1295280"/>
              <a:ext cx="1213200" cy="524160"/>
            </a:xfrm>
            <a:custGeom>
              <a:avLst/>
              <a:gdLst>
                <a:gd name="textAreaLeft" fmla="*/ 0 w 1213200"/>
                <a:gd name="textAreaRight" fmla="*/ 1213560 w 121320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213382" h="524219">
                  <a:moveTo>
                    <a:pt x="209050" y="518151"/>
                  </a:moveTo>
                  <a:lnTo>
                    <a:pt x="270075" y="518151"/>
                  </a:lnTo>
                  <a:lnTo>
                    <a:pt x="301350" y="523388"/>
                  </a:lnTo>
                  <a:lnTo>
                    <a:pt x="330284" y="524218"/>
                  </a:lnTo>
                  <a:lnTo>
                    <a:pt x="364445" y="520325"/>
                  </a:lnTo>
                  <a:lnTo>
                    <a:pt x="397239" y="518795"/>
                  </a:lnTo>
                  <a:lnTo>
                    <a:pt x="443559" y="518278"/>
                  </a:lnTo>
                  <a:lnTo>
                    <a:pt x="493663" y="518176"/>
                  </a:lnTo>
                  <a:lnTo>
                    <a:pt x="529412" y="514113"/>
                  </a:lnTo>
                  <a:lnTo>
                    <a:pt x="555480" y="512123"/>
                  </a:lnTo>
                  <a:lnTo>
                    <a:pt x="583152" y="511239"/>
                  </a:lnTo>
                  <a:lnTo>
                    <a:pt x="648231" y="510624"/>
                  </a:lnTo>
                  <a:lnTo>
                    <a:pt x="676022" y="508315"/>
                  </a:lnTo>
                  <a:lnTo>
                    <a:pt x="705307" y="505313"/>
                  </a:lnTo>
                  <a:lnTo>
                    <a:pt x="735255" y="503979"/>
                  </a:lnTo>
                  <a:lnTo>
                    <a:pt x="763241" y="501128"/>
                  </a:lnTo>
                  <a:lnTo>
                    <a:pt x="790637" y="497885"/>
                  </a:lnTo>
                  <a:lnTo>
                    <a:pt x="819747" y="496444"/>
                  </a:lnTo>
                  <a:lnTo>
                    <a:pt x="856605" y="491588"/>
                  </a:lnTo>
                  <a:lnTo>
                    <a:pt x="893020" y="488832"/>
                  </a:lnTo>
                  <a:lnTo>
                    <a:pt x="920283" y="485929"/>
                  </a:lnTo>
                  <a:lnTo>
                    <a:pt x="947641" y="481817"/>
                  </a:lnTo>
                  <a:lnTo>
                    <a:pt x="982082" y="474742"/>
                  </a:lnTo>
                  <a:lnTo>
                    <a:pt x="1024061" y="464766"/>
                  </a:lnTo>
                  <a:lnTo>
                    <a:pt x="1054773" y="454920"/>
                  </a:lnTo>
                  <a:lnTo>
                    <a:pt x="1091446" y="440467"/>
                  </a:lnTo>
                  <a:lnTo>
                    <a:pt x="1105275" y="432543"/>
                  </a:lnTo>
                  <a:lnTo>
                    <a:pt x="1117912" y="424223"/>
                  </a:lnTo>
                  <a:lnTo>
                    <a:pt x="1138460" y="413932"/>
                  </a:lnTo>
                  <a:lnTo>
                    <a:pt x="1155650" y="400535"/>
                  </a:lnTo>
                  <a:lnTo>
                    <a:pt x="1170620" y="385841"/>
                  </a:lnTo>
                  <a:lnTo>
                    <a:pt x="1180795" y="370763"/>
                  </a:lnTo>
                  <a:lnTo>
                    <a:pt x="1189172" y="356418"/>
                  </a:lnTo>
                  <a:lnTo>
                    <a:pt x="1197016" y="344735"/>
                  </a:lnTo>
                  <a:lnTo>
                    <a:pt x="1202148" y="332704"/>
                  </a:lnTo>
                  <a:lnTo>
                    <a:pt x="1207252" y="321148"/>
                  </a:lnTo>
                  <a:lnTo>
                    <a:pt x="1211495" y="310368"/>
                  </a:lnTo>
                  <a:lnTo>
                    <a:pt x="1213381" y="299932"/>
                  </a:lnTo>
                  <a:lnTo>
                    <a:pt x="1211962" y="289649"/>
                  </a:lnTo>
                  <a:lnTo>
                    <a:pt x="1206402" y="274340"/>
                  </a:lnTo>
                  <a:lnTo>
                    <a:pt x="1201804" y="263317"/>
                  </a:lnTo>
                  <a:lnTo>
                    <a:pt x="1196939" y="249952"/>
                  </a:lnTo>
                  <a:lnTo>
                    <a:pt x="1189696" y="237802"/>
                  </a:lnTo>
                  <a:lnTo>
                    <a:pt x="1180833" y="225912"/>
                  </a:lnTo>
                  <a:lnTo>
                    <a:pt x="1171249" y="212160"/>
                  </a:lnTo>
                  <a:lnTo>
                    <a:pt x="1161345" y="199840"/>
                  </a:lnTo>
                  <a:lnTo>
                    <a:pt x="1150452" y="188719"/>
                  </a:lnTo>
                  <a:lnTo>
                    <a:pt x="1130887" y="172939"/>
                  </a:lnTo>
                  <a:lnTo>
                    <a:pt x="1112295" y="156692"/>
                  </a:lnTo>
                  <a:lnTo>
                    <a:pt x="1095350" y="143296"/>
                  </a:lnTo>
                  <a:lnTo>
                    <a:pt x="1076530" y="131133"/>
                  </a:lnTo>
                  <a:lnTo>
                    <a:pt x="1044637" y="114766"/>
                  </a:lnTo>
                  <a:lnTo>
                    <a:pt x="1010634" y="99192"/>
                  </a:lnTo>
                  <a:lnTo>
                    <a:pt x="976852" y="86111"/>
                  </a:lnTo>
                  <a:lnTo>
                    <a:pt x="940032" y="74615"/>
                  </a:lnTo>
                  <a:lnTo>
                    <a:pt x="914084" y="66177"/>
                  </a:lnTo>
                  <a:lnTo>
                    <a:pt x="885619" y="59605"/>
                  </a:lnTo>
                  <a:lnTo>
                    <a:pt x="845078" y="51145"/>
                  </a:lnTo>
                  <a:lnTo>
                    <a:pt x="814592" y="43610"/>
                  </a:lnTo>
                  <a:lnTo>
                    <a:pt x="782133" y="36311"/>
                  </a:lnTo>
                  <a:lnTo>
                    <a:pt x="750774" y="33067"/>
                  </a:lnTo>
                  <a:lnTo>
                    <a:pt x="719903" y="27109"/>
                  </a:lnTo>
                  <a:lnTo>
                    <a:pt x="689249" y="20510"/>
                  </a:lnTo>
                  <a:lnTo>
                    <a:pt x="628178" y="14016"/>
                  </a:lnTo>
                  <a:lnTo>
                    <a:pt x="597683" y="10458"/>
                  </a:lnTo>
                  <a:lnTo>
                    <a:pt x="567195" y="8876"/>
                  </a:lnTo>
                  <a:lnTo>
                    <a:pt x="536712" y="5916"/>
                  </a:lnTo>
                  <a:lnTo>
                    <a:pt x="506231" y="2624"/>
                  </a:lnTo>
                  <a:lnTo>
                    <a:pt x="475751" y="1161"/>
                  </a:lnTo>
                  <a:lnTo>
                    <a:pt x="447528" y="511"/>
                  </a:lnTo>
                  <a:lnTo>
                    <a:pt x="311748" y="0"/>
                  </a:lnTo>
                  <a:lnTo>
                    <a:pt x="276921" y="4039"/>
                  </a:lnTo>
                  <a:lnTo>
                    <a:pt x="245153" y="10598"/>
                  </a:lnTo>
                  <a:lnTo>
                    <a:pt x="210246" y="13858"/>
                  </a:lnTo>
                  <a:lnTo>
                    <a:pt x="187850" y="19136"/>
                  </a:lnTo>
                  <a:lnTo>
                    <a:pt x="141692" y="35062"/>
                  </a:lnTo>
                  <a:lnTo>
                    <a:pt x="107974" y="47872"/>
                  </a:lnTo>
                  <a:lnTo>
                    <a:pt x="90467" y="56832"/>
                  </a:lnTo>
                  <a:lnTo>
                    <a:pt x="70245" y="71396"/>
                  </a:lnTo>
                  <a:lnTo>
                    <a:pt x="55919" y="81398"/>
                  </a:lnTo>
                  <a:lnTo>
                    <a:pt x="45601" y="93745"/>
                  </a:lnTo>
                  <a:lnTo>
                    <a:pt x="37346" y="106853"/>
                  </a:lnTo>
                  <a:lnTo>
                    <a:pt x="28033" y="118323"/>
                  </a:lnTo>
                  <a:lnTo>
                    <a:pt x="20507" y="131323"/>
                  </a:lnTo>
                  <a:lnTo>
                    <a:pt x="14340" y="145568"/>
                  </a:lnTo>
                  <a:lnTo>
                    <a:pt x="8777" y="160365"/>
                  </a:lnTo>
                  <a:lnTo>
                    <a:pt x="885" y="182976"/>
                  </a:lnTo>
                  <a:lnTo>
                    <a:pt x="0" y="189714"/>
                  </a:lnTo>
                  <a:lnTo>
                    <a:pt x="1274" y="201717"/>
                  </a:lnTo>
                  <a:lnTo>
                    <a:pt x="2405" y="214954"/>
                  </a:lnTo>
                  <a:lnTo>
                    <a:pt x="2908" y="230150"/>
                  </a:lnTo>
                  <a:lnTo>
                    <a:pt x="3131" y="248193"/>
                  </a:lnTo>
                  <a:lnTo>
                    <a:pt x="5488" y="262985"/>
                  </a:lnTo>
                  <a:lnTo>
                    <a:pt x="9358" y="276051"/>
                  </a:lnTo>
                  <a:lnTo>
                    <a:pt x="21218" y="312640"/>
                  </a:lnTo>
                  <a:lnTo>
                    <a:pt x="28485" y="325495"/>
                  </a:lnTo>
                  <a:lnTo>
                    <a:pt x="37359" y="337699"/>
                  </a:lnTo>
                  <a:lnTo>
                    <a:pt x="46947" y="351590"/>
                  </a:lnTo>
                  <a:lnTo>
                    <a:pt x="59111" y="363973"/>
                  </a:lnTo>
                  <a:lnTo>
                    <a:pt x="72984" y="375967"/>
                  </a:lnTo>
                  <a:lnTo>
                    <a:pt x="87616" y="389765"/>
                  </a:lnTo>
                  <a:lnTo>
                    <a:pt x="102586" y="402106"/>
                  </a:lnTo>
                  <a:lnTo>
                    <a:pt x="117706" y="412389"/>
                  </a:lnTo>
                  <a:lnTo>
                    <a:pt x="150367" y="428147"/>
                  </a:lnTo>
                  <a:lnTo>
                    <a:pt x="179245" y="440119"/>
                  </a:lnTo>
                  <a:lnTo>
                    <a:pt x="199190" y="445370"/>
                  </a:lnTo>
                  <a:lnTo>
                    <a:pt x="230306" y="449173"/>
                  </a:lnTo>
                  <a:lnTo>
                    <a:pt x="265960" y="454439"/>
                  </a:lnTo>
                  <a:lnTo>
                    <a:pt x="302489" y="456376"/>
                  </a:lnTo>
                  <a:lnTo>
                    <a:pt x="335984" y="456950"/>
                  </a:lnTo>
                  <a:lnTo>
                    <a:pt x="490990" y="45719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SMARTInkAnnotation292"/>
            <p:cNvSpPr/>
            <p:nvPr/>
          </p:nvSpPr>
          <p:spPr>
            <a:xfrm>
              <a:off x="488160" y="3147840"/>
              <a:ext cx="352440" cy="35712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352531" h="357064">
                  <a:moveTo>
                    <a:pt x="30370" y="106100"/>
                  </a:moveTo>
                  <a:lnTo>
                    <a:pt x="23809" y="106100"/>
                  </a:lnTo>
                  <a:lnTo>
                    <a:pt x="23456" y="106947"/>
                  </a:lnTo>
                  <a:lnTo>
                    <a:pt x="22843" y="112661"/>
                  </a:lnTo>
                  <a:lnTo>
                    <a:pt x="22762" y="130159"/>
                  </a:lnTo>
                  <a:lnTo>
                    <a:pt x="22752" y="153562"/>
                  </a:lnTo>
                  <a:lnTo>
                    <a:pt x="23598" y="159755"/>
                  </a:lnTo>
                  <a:lnTo>
                    <a:pt x="25009" y="165576"/>
                  </a:lnTo>
                  <a:lnTo>
                    <a:pt x="26796" y="171151"/>
                  </a:lnTo>
                  <a:lnTo>
                    <a:pt x="27987" y="177407"/>
                  </a:lnTo>
                  <a:lnTo>
                    <a:pt x="28781" y="184119"/>
                  </a:lnTo>
                  <a:lnTo>
                    <a:pt x="29311" y="191132"/>
                  </a:lnTo>
                  <a:lnTo>
                    <a:pt x="29664" y="198348"/>
                  </a:lnTo>
                  <a:lnTo>
                    <a:pt x="30056" y="213139"/>
                  </a:lnTo>
                  <a:lnTo>
                    <a:pt x="30342" y="265093"/>
                  </a:lnTo>
                  <a:lnTo>
                    <a:pt x="31198" y="273055"/>
                  </a:lnTo>
                  <a:lnTo>
                    <a:pt x="32615" y="280903"/>
                  </a:lnTo>
                  <a:lnTo>
                    <a:pt x="34407" y="288675"/>
                  </a:lnTo>
                  <a:lnTo>
                    <a:pt x="35601" y="296397"/>
                  </a:lnTo>
                  <a:lnTo>
                    <a:pt x="36397" y="304085"/>
                  </a:lnTo>
                  <a:lnTo>
                    <a:pt x="36928" y="311750"/>
                  </a:lnTo>
                  <a:lnTo>
                    <a:pt x="38129" y="318553"/>
                  </a:lnTo>
                  <a:lnTo>
                    <a:pt x="39776" y="324783"/>
                  </a:lnTo>
                  <a:lnTo>
                    <a:pt x="43017" y="335372"/>
                  </a:lnTo>
                  <a:lnTo>
                    <a:pt x="44842" y="346094"/>
                  </a:lnTo>
                  <a:lnTo>
                    <a:pt x="45580" y="357063"/>
                  </a:lnTo>
                  <a:lnTo>
                    <a:pt x="45601" y="353368"/>
                  </a:lnTo>
                  <a:lnTo>
                    <a:pt x="41562" y="342865"/>
                  </a:lnTo>
                  <a:lnTo>
                    <a:pt x="40371" y="336757"/>
                  </a:lnTo>
                  <a:lnTo>
                    <a:pt x="39578" y="329298"/>
                  </a:lnTo>
                  <a:lnTo>
                    <a:pt x="39048" y="320939"/>
                  </a:lnTo>
                  <a:lnTo>
                    <a:pt x="37849" y="312826"/>
                  </a:lnTo>
                  <a:lnTo>
                    <a:pt x="36203" y="304877"/>
                  </a:lnTo>
                  <a:lnTo>
                    <a:pt x="34258" y="297038"/>
                  </a:lnTo>
                  <a:lnTo>
                    <a:pt x="29840" y="277039"/>
                  </a:lnTo>
                  <a:lnTo>
                    <a:pt x="27477" y="265780"/>
                  </a:lnTo>
                  <a:lnTo>
                    <a:pt x="25901" y="254886"/>
                  </a:lnTo>
                  <a:lnTo>
                    <a:pt x="24851" y="244238"/>
                  </a:lnTo>
                  <a:lnTo>
                    <a:pt x="24151" y="233752"/>
                  </a:lnTo>
                  <a:lnTo>
                    <a:pt x="21990" y="223375"/>
                  </a:lnTo>
                  <a:lnTo>
                    <a:pt x="18857" y="213070"/>
                  </a:lnTo>
                  <a:lnTo>
                    <a:pt x="15075" y="202813"/>
                  </a:lnTo>
                  <a:lnTo>
                    <a:pt x="12553" y="192589"/>
                  </a:lnTo>
                  <a:lnTo>
                    <a:pt x="10872" y="182386"/>
                  </a:lnTo>
                  <a:lnTo>
                    <a:pt x="9751" y="172197"/>
                  </a:lnTo>
                  <a:lnTo>
                    <a:pt x="8158" y="162018"/>
                  </a:lnTo>
                  <a:lnTo>
                    <a:pt x="6248" y="151845"/>
                  </a:lnTo>
                  <a:lnTo>
                    <a:pt x="4129" y="141677"/>
                  </a:lnTo>
                  <a:lnTo>
                    <a:pt x="2716" y="132358"/>
                  </a:lnTo>
                  <a:lnTo>
                    <a:pt x="1774" y="123605"/>
                  </a:lnTo>
                  <a:lnTo>
                    <a:pt x="1146" y="115230"/>
                  </a:lnTo>
                  <a:lnTo>
                    <a:pt x="727" y="106261"/>
                  </a:lnTo>
                  <a:lnTo>
                    <a:pt x="262" y="87263"/>
                  </a:lnTo>
                  <a:lnTo>
                    <a:pt x="0" y="65617"/>
                  </a:lnTo>
                  <a:lnTo>
                    <a:pt x="810" y="59638"/>
                  </a:lnTo>
                  <a:lnTo>
                    <a:pt x="2197" y="53959"/>
                  </a:lnTo>
                  <a:lnTo>
                    <a:pt x="5995" y="43133"/>
                  </a:lnTo>
                  <a:lnTo>
                    <a:pt x="10506" y="32677"/>
                  </a:lnTo>
                  <a:lnTo>
                    <a:pt x="19848" y="22385"/>
                  </a:lnTo>
                  <a:lnTo>
                    <a:pt x="25895" y="17270"/>
                  </a:lnTo>
                  <a:lnTo>
                    <a:pt x="32467" y="13014"/>
                  </a:lnTo>
                  <a:lnTo>
                    <a:pt x="39388" y="9329"/>
                  </a:lnTo>
                  <a:lnTo>
                    <a:pt x="46542" y="6026"/>
                  </a:lnTo>
                  <a:lnTo>
                    <a:pt x="54698" y="3824"/>
                  </a:lnTo>
                  <a:lnTo>
                    <a:pt x="63522" y="2356"/>
                  </a:lnTo>
                  <a:lnTo>
                    <a:pt x="72791" y="1377"/>
                  </a:lnTo>
                  <a:lnTo>
                    <a:pt x="82357" y="725"/>
                  </a:lnTo>
                  <a:lnTo>
                    <a:pt x="92122" y="290"/>
                  </a:lnTo>
                  <a:lnTo>
                    <a:pt x="102018" y="0"/>
                  </a:lnTo>
                  <a:lnTo>
                    <a:pt x="112848" y="654"/>
                  </a:lnTo>
                  <a:lnTo>
                    <a:pt x="124302" y="1936"/>
                  </a:lnTo>
                  <a:lnTo>
                    <a:pt x="136171" y="3638"/>
                  </a:lnTo>
                  <a:lnTo>
                    <a:pt x="160648" y="7785"/>
                  </a:lnTo>
                  <a:lnTo>
                    <a:pt x="173102" y="10077"/>
                  </a:lnTo>
                  <a:lnTo>
                    <a:pt x="185638" y="13298"/>
                  </a:lnTo>
                  <a:lnTo>
                    <a:pt x="198229" y="17139"/>
                  </a:lnTo>
                  <a:lnTo>
                    <a:pt x="210856" y="21393"/>
                  </a:lnTo>
                  <a:lnTo>
                    <a:pt x="236175" y="30635"/>
                  </a:lnTo>
                  <a:lnTo>
                    <a:pt x="248853" y="35470"/>
                  </a:lnTo>
                  <a:lnTo>
                    <a:pt x="261539" y="41233"/>
                  </a:lnTo>
                  <a:lnTo>
                    <a:pt x="274229" y="47616"/>
                  </a:lnTo>
                  <a:lnTo>
                    <a:pt x="286923" y="54410"/>
                  </a:lnTo>
                  <a:lnTo>
                    <a:pt x="297925" y="60634"/>
                  </a:lnTo>
                  <a:lnTo>
                    <a:pt x="307800" y="66476"/>
                  </a:lnTo>
                  <a:lnTo>
                    <a:pt x="316923" y="72064"/>
                  </a:lnTo>
                  <a:lnTo>
                    <a:pt x="324699" y="78329"/>
                  </a:lnTo>
                  <a:lnTo>
                    <a:pt x="331576" y="85046"/>
                  </a:lnTo>
                  <a:lnTo>
                    <a:pt x="337854" y="92064"/>
                  </a:lnTo>
                  <a:lnTo>
                    <a:pt x="342886" y="99283"/>
                  </a:lnTo>
                  <a:lnTo>
                    <a:pt x="347087" y="106635"/>
                  </a:lnTo>
                  <a:lnTo>
                    <a:pt x="350735" y="114077"/>
                  </a:lnTo>
                  <a:lnTo>
                    <a:pt x="352320" y="120731"/>
                  </a:lnTo>
                  <a:lnTo>
                    <a:pt x="352530" y="126861"/>
                  </a:lnTo>
                  <a:lnTo>
                    <a:pt x="351823" y="132641"/>
                  </a:lnTo>
                  <a:lnTo>
                    <a:pt x="349659" y="138187"/>
                  </a:lnTo>
                  <a:lnTo>
                    <a:pt x="342738" y="148865"/>
                  </a:lnTo>
                  <a:lnTo>
                    <a:pt x="331760" y="156998"/>
                  </a:lnTo>
                  <a:lnTo>
                    <a:pt x="325277" y="160352"/>
                  </a:lnTo>
                  <a:lnTo>
                    <a:pt x="316721" y="164281"/>
                  </a:lnTo>
                  <a:lnTo>
                    <a:pt x="295926" y="173163"/>
                  </a:lnTo>
                  <a:lnTo>
                    <a:pt x="284454" y="176209"/>
                  </a:lnTo>
                  <a:lnTo>
                    <a:pt x="272573" y="178239"/>
                  </a:lnTo>
                  <a:lnTo>
                    <a:pt x="260418" y="179593"/>
                  </a:lnTo>
                  <a:lnTo>
                    <a:pt x="248082" y="181342"/>
                  </a:lnTo>
                  <a:lnTo>
                    <a:pt x="223087" y="185543"/>
                  </a:lnTo>
                  <a:lnTo>
                    <a:pt x="211341" y="187002"/>
                  </a:lnTo>
                  <a:lnTo>
                    <a:pt x="200124" y="187975"/>
                  </a:lnTo>
                  <a:lnTo>
                    <a:pt x="189259" y="188623"/>
                  </a:lnTo>
                  <a:lnTo>
                    <a:pt x="168156" y="189344"/>
                  </a:lnTo>
                  <a:lnTo>
                    <a:pt x="157788" y="189536"/>
                  </a:lnTo>
                  <a:lnTo>
                    <a:pt x="148335" y="188818"/>
                  </a:lnTo>
                  <a:lnTo>
                    <a:pt x="139493" y="187491"/>
                  </a:lnTo>
                  <a:lnTo>
                    <a:pt x="131059" y="185761"/>
                  </a:lnTo>
                  <a:lnTo>
                    <a:pt x="124589" y="184607"/>
                  </a:lnTo>
                  <a:lnTo>
                    <a:pt x="115143" y="183326"/>
                  </a:lnTo>
                  <a:lnTo>
                    <a:pt x="111439" y="182137"/>
                  </a:lnTo>
                  <a:lnTo>
                    <a:pt x="100762" y="175829"/>
                  </a:lnTo>
                  <a:lnTo>
                    <a:pt x="101004" y="174600"/>
                  </a:lnTo>
                  <a:lnTo>
                    <a:pt x="106570" y="167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MARTInkAnnotation293"/>
            <p:cNvSpPr/>
            <p:nvPr/>
          </p:nvSpPr>
          <p:spPr>
            <a:xfrm>
              <a:off x="937800" y="3398760"/>
              <a:ext cx="220320" cy="756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0639" h="7622">
                  <a:moveTo>
                    <a:pt x="14898" y="7621"/>
                  </a:moveTo>
                  <a:lnTo>
                    <a:pt x="8337" y="1059"/>
                  </a:lnTo>
                  <a:lnTo>
                    <a:pt x="7138" y="706"/>
                  </a:lnTo>
                  <a:lnTo>
                    <a:pt x="5491" y="471"/>
                  </a:lnTo>
                  <a:lnTo>
                    <a:pt x="0" y="28"/>
                  </a:lnTo>
                  <a:lnTo>
                    <a:pt x="196280" y="0"/>
                  </a:lnTo>
                  <a:lnTo>
                    <a:pt x="202706" y="847"/>
                  </a:lnTo>
                  <a:lnTo>
                    <a:pt x="207837" y="2258"/>
                  </a:lnTo>
                  <a:lnTo>
                    <a:pt x="220638" y="76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MARTInkAnnotation294"/>
            <p:cNvSpPr/>
            <p:nvPr/>
          </p:nvSpPr>
          <p:spPr>
            <a:xfrm>
              <a:off x="899640" y="3421440"/>
              <a:ext cx="243720" cy="226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43841" h="22861">
                  <a:moveTo>
                    <a:pt x="0" y="22860"/>
                  </a:moveTo>
                  <a:lnTo>
                    <a:pt x="76136" y="22860"/>
                  </a:lnTo>
                  <a:lnTo>
                    <a:pt x="88010" y="22014"/>
                  </a:lnTo>
                  <a:lnTo>
                    <a:pt x="100160" y="20603"/>
                  </a:lnTo>
                  <a:lnTo>
                    <a:pt x="139744" y="14571"/>
                  </a:lnTo>
                  <a:lnTo>
                    <a:pt x="167942" y="9863"/>
                  </a:lnTo>
                  <a:lnTo>
                    <a:pt x="194585" y="4948"/>
                  </a:lnTo>
                  <a:lnTo>
                    <a:pt x="205923" y="3299"/>
                  </a:lnTo>
                  <a:lnTo>
                    <a:pt x="216023" y="2199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MARTInkAnnotation295"/>
            <p:cNvSpPr/>
            <p:nvPr/>
          </p:nvSpPr>
          <p:spPr>
            <a:xfrm>
              <a:off x="1227240" y="3238560"/>
              <a:ext cx="205560" cy="1519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05741" h="151943">
                  <a:moveTo>
                    <a:pt x="0" y="7617"/>
                  </a:moveTo>
                  <a:lnTo>
                    <a:pt x="4045" y="7617"/>
                  </a:lnTo>
                  <a:lnTo>
                    <a:pt x="6084" y="6770"/>
                  </a:lnTo>
                  <a:lnTo>
                    <a:pt x="10606" y="3572"/>
                  </a:lnTo>
                  <a:lnTo>
                    <a:pt x="13844" y="2380"/>
                  </a:lnTo>
                  <a:lnTo>
                    <a:pt x="17696" y="1586"/>
                  </a:lnTo>
                  <a:lnTo>
                    <a:pt x="21957" y="1056"/>
                  </a:lnTo>
                  <a:lnTo>
                    <a:pt x="27338" y="703"/>
                  </a:lnTo>
                  <a:lnTo>
                    <a:pt x="33466" y="468"/>
                  </a:lnTo>
                  <a:lnTo>
                    <a:pt x="54225" y="137"/>
                  </a:lnTo>
                  <a:lnTo>
                    <a:pt x="132816" y="0"/>
                  </a:lnTo>
                  <a:lnTo>
                    <a:pt x="138498" y="846"/>
                  </a:lnTo>
                  <a:lnTo>
                    <a:pt x="143978" y="2256"/>
                  </a:lnTo>
                  <a:lnTo>
                    <a:pt x="149326" y="4043"/>
                  </a:lnTo>
                  <a:lnTo>
                    <a:pt x="154584" y="6081"/>
                  </a:lnTo>
                  <a:lnTo>
                    <a:pt x="159783" y="8286"/>
                  </a:lnTo>
                  <a:lnTo>
                    <a:pt x="164942" y="10603"/>
                  </a:lnTo>
                  <a:lnTo>
                    <a:pt x="168381" y="12995"/>
                  </a:lnTo>
                  <a:lnTo>
                    <a:pt x="170674" y="15435"/>
                  </a:lnTo>
                  <a:lnTo>
                    <a:pt x="172203" y="17909"/>
                  </a:lnTo>
                  <a:lnTo>
                    <a:pt x="173222" y="21252"/>
                  </a:lnTo>
                  <a:lnTo>
                    <a:pt x="173901" y="25174"/>
                  </a:lnTo>
                  <a:lnTo>
                    <a:pt x="174354" y="29482"/>
                  </a:lnTo>
                  <a:lnTo>
                    <a:pt x="173810" y="33200"/>
                  </a:lnTo>
                  <a:lnTo>
                    <a:pt x="172600" y="36526"/>
                  </a:lnTo>
                  <a:lnTo>
                    <a:pt x="170947" y="39590"/>
                  </a:lnTo>
                  <a:lnTo>
                    <a:pt x="167304" y="43325"/>
                  </a:lnTo>
                  <a:lnTo>
                    <a:pt x="162336" y="47509"/>
                  </a:lnTo>
                  <a:lnTo>
                    <a:pt x="156484" y="51992"/>
                  </a:lnTo>
                  <a:lnTo>
                    <a:pt x="150890" y="56674"/>
                  </a:lnTo>
                  <a:lnTo>
                    <a:pt x="145466" y="61488"/>
                  </a:lnTo>
                  <a:lnTo>
                    <a:pt x="134925" y="71353"/>
                  </a:lnTo>
                  <a:lnTo>
                    <a:pt x="124596" y="81382"/>
                  </a:lnTo>
                  <a:lnTo>
                    <a:pt x="118624" y="86427"/>
                  </a:lnTo>
                  <a:lnTo>
                    <a:pt x="112103" y="91484"/>
                  </a:lnTo>
                  <a:lnTo>
                    <a:pt x="105215" y="96548"/>
                  </a:lnTo>
                  <a:lnTo>
                    <a:pt x="98930" y="100771"/>
                  </a:lnTo>
                  <a:lnTo>
                    <a:pt x="93047" y="104433"/>
                  </a:lnTo>
                  <a:lnTo>
                    <a:pt x="87431" y="107721"/>
                  </a:lnTo>
                  <a:lnTo>
                    <a:pt x="82841" y="111606"/>
                  </a:lnTo>
                  <a:lnTo>
                    <a:pt x="78934" y="115890"/>
                  </a:lnTo>
                  <a:lnTo>
                    <a:pt x="75483" y="120439"/>
                  </a:lnTo>
                  <a:lnTo>
                    <a:pt x="72335" y="124318"/>
                  </a:lnTo>
                  <a:lnTo>
                    <a:pt x="69390" y="127752"/>
                  </a:lnTo>
                  <a:lnTo>
                    <a:pt x="66580" y="130886"/>
                  </a:lnTo>
                  <a:lnTo>
                    <a:pt x="64707" y="133823"/>
                  </a:lnTo>
                  <a:lnTo>
                    <a:pt x="63458" y="136628"/>
                  </a:lnTo>
                  <a:lnTo>
                    <a:pt x="62625" y="139344"/>
                  </a:lnTo>
                  <a:lnTo>
                    <a:pt x="62917" y="142002"/>
                  </a:lnTo>
                  <a:lnTo>
                    <a:pt x="63958" y="144620"/>
                  </a:lnTo>
                  <a:lnTo>
                    <a:pt x="65499" y="147212"/>
                  </a:lnTo>
                  <a:lnTo>
                    <a:pt x="68219" y="148941"/>
                  </a:lnTo>
                  <a:lnTo>
                    <a:pt x="71726" y="150093"/>
                  </a:lnTo>
                  <a:lnTo>
                    <a:pt x="75758" y="150861"/>
                  </a:lnTo>
                  <a:lnTo>
                    <a:pt x="81832" y="151373"/>
                  </a:lnTo>
                  <a:lnTo>
                    <a:pt x="89268" y="151714"/>
                  </a:lnTo>
                  <a:lnTo>
                    <a:pt x="97612" y="151942"/>
                  </a:lnTo>
                  <a:lnTo>
                    <a:pt x="106561" y="151247"/>
                  </a:lnTo>
                  <a:lnTo>
                    <a:pt x="115914" y="149937"/>
                  </a:lnTo>
                  <a:lnTo>
                    <a:pt x="125536" y="148217"/>
                  </a:lnTo>
                  <a:lnTo>
                    <a:pt x="135337" y="147071"/>
                  </a:lnTo>
                  <a:lnTo>
                    <a:pt x="145258" y="146306"/>
                  </a:lnTo>
                  <a:lnTo>
                    <a:pt x="155259" y="145796"/>
                  </a:lnTo>
                  <a:lnTo>
                    <a:pt x="163619" y="144610"/>
                  </a:lnTo>
                  <a:lnTo>
                    <a:pt x="170886" y="142972"/>
                  </a:lnTo>
                  <a:lnTo>
                    <a:pt x="177424" y="141034"/>
                  </a:lnTo>
                  <a:lnTo>
                    <a:pt x="183476" y="138895"/>
                  </a:lnTo>
                  <a:lnTo>
                    <a:pt x="189204" y="136622"/>
                  </a:lnTo>
                  <a:lnTo>
                    <a:pt x="205740" y="1295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MARTInkAnnotation296"/>
            <p:cNvSpPr/>
            <p:nvPr/>
          </p:nvSpPr>
          <p:spPr>
            <a:xfrm>
              <a:off x="1463760" y="3185640"/>
              <a:ext cx="334800" cy="21276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34967" h="213036">
                  <a:moveTo>
                    <a:pt x="7306" y="30155"/>
                  </a:moveTo>
                  <a:lnTo>
                    <a:pt x="745" y="23594"/>
                  </a:lnTo>
                  <a:lnTo>
                    <a:pt x="157" y="20748"/>
                  </a:lnTo>
                  <a:lnTo>
                    <a:pt x="0" y="18804"/>
                  </a:lnTo>
                  <a:lnTo>
                    <a:pt x="742" y="16661"/>
                  </a:lnTo>
                  <a:lnTo>
                    <a:pt x="3824" y="12022"/>
                  </a:lnTo>
                  <a:lnTo>
                    <a:pt x="6678" y="10447"/>
                  </a:lnTo>
                  <a:lnTo>
                    <a:pt x="14365" y="8696"/>
                  </a:lnTo>
                  <a:lnTo>
                    <a:pt x="19632" y="8229"/>
                  </a:lnTo>
                  <a:lnTo>
                    <a:pt x="25683" y="7918"/>
                  </a:lnTo>
                  <a:lnTo>
                    <a:pt x="32258" y="7710"/>
                  </a:lnTo>
                  <a:lnTo>
                    <a:pt x="40027" y="6725"/>
                  </a:lnTo>
                  <a:lnTo>
                    <a:pt x="48594" y="5222"/>
                  </a:lnTo>
                  <a:lnTo>
                    <a:pt x="57691" y="3373"/>
                  </a:lnTo>
                  <a:lnTo>
                    <a:pt x="68836" y="2140"/>
                  </a:lnTo>
                  <a:lnTo>
                    <a:pt x="81346" y="1319"/>
                  </a:lnTo>
                  <a:lnTo>
                    <a:pt x="107946" y="406"/>
                  </a:lnTo>
                  <a:lnTo>
                    <a:pt x="133880" y="0"/>
                  </a:lnTo>
                  <a:lnTo>
                    <a:pt x="146722" y="738"/>
                  </a:lnTo>
                  <a:lnTo>
                    <a:pt x="159517" y="2077"/>
                  </a:lnTo>
                  <a:lnTo>
                    <a:pt x="172280" y="3816"/>
                  </a:lnTo>
                  <a:lnTo>
                    <a:pt x="185022" y="4976"/>
                  </a:lnTo>
                  <a:lnTo>
                    <a:pt x="197750" y="5749"/>
                  </a:lnTo>
                  <a:lnTo>
                    <a:pt x="210469" y="6265"/>
                  </a:lnTo>
                  <a:lnTo>
                    <a:pt x="221488" y="7455"/>
                  </a:lnTo>
                  <a:lnTo>
                    <a:pt x="231374" y="9095"/>
                  </a:lnTo>
                  <a:lnTo>
                    <a:pt x="240505" y="11035"/>
                  </a:lnTo>
                  <a:lnTo>
                    <a:pt x="249132" y="14022"/>
                  </a:lnTo>
                  <a:lnTo>
                    <a:pt x="257423" y="17706"/>
                  </a:lnTo>
                  <a:lnTo>
                    <a:pt x="265491" y="21856"/>
                  </a:lnTo>
                  <a:lnTo>
                    <a:pt x="271716" y="26316"/>
                  </a:lnTo>
                  <a:lnTo>
                    <a:pt x="276713" y="30982"/>
                  </a:lnTo>
                  <a:lnTo>
                    <a:pt x="280891" y="35786"/>
                  </a:lnTo>
                  <a:lnTo>
                    <a:pt x="282829" y="39836"/>
                  </a:lnTo>
                  <a:lnTo>
                    <a:pt x="283275" y="43382"/>
                  </a:lnTo>
                  <a:lnTo>
                    <a:pt x="282725" y="46593"/>
                  </a:lnTo>
                  <a:lnTo>
                    <a:pt x="281512" y="50427"/>
                  </a:lnTo>
                  <a:lnTo>
                    <a:pt x="279857" y="54677"/>
                  </a:lnTo>
                  <a:lnTo>
                    <a:pt x="277907" y="59203"/>
                  </a:lnTo>
                  <a:lnTo>
                    <a:pt x="274067" y="63913"/>
                  </a:lnTo>
                  <a:lnTo>
                    <a:pt x="268967" y="68747"/>
                  </a:lnTo>
                  <a:lnTo>
                    <a:pt x="263026" y="73663"/>
                  </a:lnTo>
                  <a:lnTo>
                    <a:pt x="256526" y="78634"/>
                  </a:lnTo>
                  <a:lnTo>
                    <a:pt x="249653" y="83641"/>
                  </a:lnTo>
                  <a:lnTo>
                    <a:pt x="242531" y="88673"/>
                  </a:lnTo>
                  <a:lnTo>
                    <a:pt x="234396" y="93720"/>
                  </a:lnTo>
                  <a:lnTo>
                    <a:pt x="225586" y="98778"/>
                  </a:lnTo>
                  <a:lnTo>
                    <a:pt x="216326" y="103844"/>
                  </a:lnTo>
                  <a:lnTo>
                    <a:pt x="207613" y="108914"/>
                  </a:lnTo>
                  <a:lnTo>
                    <a:pt x="191158" y="119064"/>
                  </a:lnTo>
                  <a:lnTo>
                    <a:pt x="167614" y="134298"/>
                  </a:lnTo>
                  <a:lnTo>
                    <a:pt x="161591" y="139377"/>
                  </a:lnTo>
                  <a:lnTo>
                    <a:pt x="156730" y="144456"/>
                  </a:lnTo>
                  <a:lnTo>
                    <a:pt x="152642" y="149536"/>
                  </a:lnTo>
                  <a:lnTo>
                    <a:pt x="149070" y="153769"/>
                  </a:lnTo>
                  <a:lnTo>
                    <a:pt x="145842" y="157438"/>
                  </a:lnTo>
                  <a:lnTo>
                    <a:pt x="142843" y="160730"/>
                  </a:lnTo>
                  <a:lnTo>
                    <a:pt x="141691" y="164619"/>
                  </a:lnTo>
                  <a:lnTo>
                    <a:pt x="141769" y="168904"/>
                  </a:lnTo>
                  <a:lnTo>
                    <a:pt x="142668" y="173455"/>
                  </a:lnTo>
                  <a:lnTo>
                    <a:pt x="144961" y="177335"/>
                  </a:lnTo>
                  <a:lnTo>
                    <a:pt x="152024" y="183904"/>
                  </a:lnTo>
                  <a:lnTo>
                    <a:pt x="157125" y="186841"/>
                  </a:lnTo>
                  <a:lnTo>
                    <a:pt x="163065" y="189646"/>
                  </a:lnTo>
                  <a:lnTo>
                    <a:pt x="169566" y="192362"/>
                  </a:lnTo>
                  <a:lnTo>
                    <a:pt x="176439" y="195020"/>
                  </a:lnTo>
                  <a:lnTo>
                    <a:pt x="190850" y="200231"/>
                  </a:lnTo>
                  <a:lnTo>
                    <a:pt x="199095" y="202805"/>
                  </a:lnTo>
                  <a:lnTo>
                    <a:pt x="217288" y="207924"/>
                  </a:lnTo>
                  <a:lnTo>
                    <a:pt x="226881" y="209628"/>
                  </a:lnTo>
                  <a:lnTo>
                    <a:pt x="236663" y="210764"/>
                  </a:lnTo>
                  <a:lnTo>
                    <a:pt x="246570" y="211521"/>
                  </a:lnTo>
                  <a:lnTo>
                    <a:pt x="257409" y="212026"/>
                  </a:lnTo>
                  <a:lnTo>
                    <a:pt x="290349" y="212736"/>
                  </a:lnTo>
                  <a:lnTo>
                    <a:pt x="334966" y="21303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SMARTInkAnnotation297"/>
            <p:cNvSpPr/>
            <p:nvPr/>
          </p:nvSpPr>
          <p:spPr>
            <a:xfrm>
              <a:off x="534240" y="3659400"/>
              <a:ext cx="415800" cy="46260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415989" h="462568">
                  <a:moveTo>
                    <a:pt x="68027" y="181239"/>
                  </a:moveTo>
                  <a:lnTo>
                    <a:pt x="74588" y="187800"/>
                  </a:lnTo>
                  <a:lnTo>
                    <a:pt x="75176" y="190646"/>
                  </a:lnTo>
                  <a:lnTo>
                    <a:pt x="75333" y="192591"/>
                  </a:lnTo>
                  <a:lnTo>
                    <a:pt x="76285" y="194733"/>
                  </a:lnTo>
                  <a:lnTo>
                    <a:pt x="79599" y="199372"/>
                  </a:lnTo>
                  <a:lnTo>
                    <a:pt x="80822" y="202641"/>
                  </a:lnTo>
                  <a:lnTo>
                    <a:pt x="83389" y="215332"/>
                  </a:lnTo>
                  <a:lnTo>
                    <a:pt x="86990" y="224896"/>
                  </a:lnTo>
                  <a:lnTo>
                    <a:pt x="89155" y="234791"/>
                  </a:lnTo>
                  <a:lnTo>
                    <a:pt x="90964" y="244833"/>
                  </a:lnTo>
                  <a:lnTo>
                    <a:pt x="94590" y="254941"/>
                  </a:lnTo>
                  <a:lnTo>
                    <a:pt x="96766" y="267335"/>
                  </a:lnTo>
                  <a:lnTo>
                    <a:pt x="97347" y="274197"/>
                  </a:lnTo>
                  <a:lnTo>
                    <a:pt x="97734" y="282158"/>
                  </a:lnTo>
                  <a:lnTo>
                    <a:pt x="98163" y="300034"/>
                  </a:lnTo>
                  <a:lnTo>
                    <a:pt x="98405" y="329138"/>
                  </a:lnTo>
                  <a:lnTo>
                    <a:pt x="99286" y="338259"/>
                  </a:lnTo>
                  <a:lnTo>
                    <a:pt x="100720" y="346879"/>
                  </a:lnTo>
                  <a:lnTo>
                    <a:pt x="102522" y="355165"/>
                  </a:lnTo>
                  <a:lnTo>
                    <a:pt x="103724" y="364077"/>
                  </a:lnTo>
                  <a:lnTo>
                    <a:pt x="104525" y="373404"/>
                  </a:lnTo>
                  <a:lnTo>
                    <a:pt x="105059" y="383009"/>
                  </a:lnTo>
                  <a:lnTo>
                    <a:pt x="106262" y="391106"/>
                  </a:lnTo>
                  <a:lnTo>
                    <a:pt x="109856" y="404618"/>
                  </a:lnTo>
                  <a:lnTo>
                    <a:pt x="116639" y="425790"/>
                  </a:lnTo>
                  <a:lnTo>
                    <a:pt x="119266" y="438377"/>
                  </a:lnTo>
                  <a:lnTo>
                    <a:pt x="119966" y="444104"/>
                  </a:lnTo>
                  <a:lnTo>
                    <a:pt x="123002" y="452726"/>
                  </a:lnTo>
                  <a:lnTo>
                    <a:pt x="128637" y="462567"/>
                  </a:lnTo>
                  <a:lnTo>
                    <a:pt x="128831" y="460649"/>
                  </a:lnTo>
                  <a:lnTo>
                    <a:pt x="128883" y="458953"/>
                  </a:lnTo>
                  <a:lnTo>
                    <a:pt x="124911" y="448475"/>
                  </a:lnTo>
                  <a:lnTo>
                    <a:pt x="118427" y="437170"/>
                  </a:lnTo>
                  <a:lnTo>
                    <a:pt x="110747" y="422833"/>
                  </a:lnTo>
                  <a:lnTo>
                    <a:pt x="107514" y="414268"/>
                  </a:lnTo>
                  <a:lnTo>
                    <a:pt x="104512" y="405172"/>
                  </a:lnTo>
                  <a:lnTo>
                    <a:pt x="96660" y="383776"/>
                  </a:lnTo>
                  <a:lnTo>
                    <a:pt x="77822" y="335547"/>
                  </a:lnTo>
                  <a:lnTo>
                    <a:pt x="72017" y="323904"/>
                  </a:lnTo>
                  <a:lnTo>
                    <a:pt x="65607" y="312756"/>
                  </a:lnTo>
                  <a:lnTo>
                    <a:pt x="58794" y="301937"/>
                  </a:lnTo>
                  <a:lnTo>
                    <a:pt x="52558" y="290491"/>
                  </a:lnTo>
                  <a:lnTo>
                    <a:pt x="46708" y="278627"/>
                  </a:lnTo>
                  <a:lnTo>
                    <a:pt x="41114" y="266484"/>
                  </a:lnTo>
                  <a:lnTo>
                    <a:pt x="36539" y="254156"/>
                  </a:lnTo>
                  <a:lnTo>
                    <a:pt x="32641" y="241703"/>
                  </a:lnTo>
                  <a:lnTo>
                    <a:pt x="29197" y="229169"/>
                  </a:lnTo>
                  <a:lnTo>
                    <a:pt x="25207" y="217425"/>
                  </a:lnTo>
                  <a:lnTo>
                    <a:pt x="20854" y="206210"/>
                  </a:lnTo>
                  <a:lnTo>
                    <a:pt x="16258" y="195347"/>
                  </a:lnTo>
                  <a:lnTo>
                    <a:pt x="12348" y="183871"/>
                  </a:lnTo>
                  <a:lnTo>
                    <a:pt x="8894" y="171987"/>
                  </a:lnTo>
                  <a:lnTo>
                    <a:pt x="5745" y="159831"/>
                  </a:lnTo>
                  <a:lnTo>
                    <a:pt x="3646" y="149187"/>
                  </a:lnTo>
                  <a:lnTo>
                    <a:pt x="2246" y="139551"/>
                  </a:lnTo>
                  <a:lnTo>
                    <a:pt x="1313" y="130587"/>
                  </a:lnTo>
                  <a:lnTo>
                    <a:pt x="691" y="121224"/>
                  </a:lnTo>
                  <a:lnTo>
                    <a:pt x="277" y="111596"/>
                  </a:lnTo>
                  <a:lnTo>
                    <a:pt x="0" y="101790"/>
                  </a:lnTo>
                  <a:lnTo>
                    <a:pt x="1509" y="92713"/>
                  </a:lnTo>
                  <a:lnTo>
                    <a:pt x="4208" y="84122"/>
                  </a:lnTo>
                  <a:lnTo>
                    <a:pt x="7701" y="75854"/>
                  </a:lnTo>
                  <a:lnTo>
                    <a:pt x="16098" y="62152"/>
                  </a:lnTo>
                  <a:lnTo>
                    <a:pt x="26321" y="50418"/>
                  </a:lnTo>
                  <a:lnTo>
                    <a:pt x="32603" y="44919"/>
                  </a:lnTo>
                  <a:lnTo>
                    <a:pt x="39331" y="39559"/>
                  </a:lnTo>
                  <a:lnTo>
                    <a:pt x="47203" y="34292"/>
                  </a:lnTo>
                  <a:lnTo>
                    <a:pt x="55838" y="29088"/>
                  </a:lnTo>
                  <a:lnTo>
                    <a:pt x="64981" y="23925"/>
                  </a:lnTo>
                  <a:lnTo>
                    <a:pt x="75310" y="19636"/>
                  </a:lnTo>
                  <a:lnTo>
                    <a:pt x="86429" y="15931"/>
                  </a:lnTo>
                  <a:lnTo>
                    <a:pt x="98075" y="12614"/>
                  </a:lnTo>
                  <a:lnTo>
                    <a:pt x="110072" y="9556"/>
                  </a:lnTo>
                  <a:lnTo>
                    <a:pt x="134692" y="3900"/>
                  </a:lnTo>
                  <a:lnTo>
                    <a:pt x="147184" y="2053"/>
                  </a:lnTo>
                  <a:lnTo>
                    <a:pt x="159745" y="821"/>
                  </a:lnTo>
                  <a:lnTo>
                    <a:pt x="172352" y="0"/>
                  </a:lnTo>
                  <a:lnTo>
                    <a:pt x="185837" y="300"/>
                  </a:lnTo>
                  <a:lnTo>
                    <a:pt x="199907" y="1346"/>
                  </a:lnTo>
                  <a:lnTo>
                    <a:pt x="214367" y="2891"/>
                  </a:lnTo>
                  <a:lnTo>
                    <a:pt x="228241" y="4767"/>
                  </a:lnTo>
                  <a:lnTo>
                    <a:pt x="254944" y="9109"/>
                  </a:lnTo>
                  <a:lnTo>
                    <a:pt x="267992" y="12299"/>
                  </a:lnTo>
                  <a:lnTo>
                    <a:pt x="280924" y="16119"/>
                  </a:lnTo>
                  <a:lnTo>
                    <a:pt x="293778" y="20359"/>
                  </a:lnTo>
                  <a:lnTo>
                    <a:pt x="319350" y="29586"/>
                  </a:lnTo>
                  <a:lnTo>
                    <a:pt x="332096" y="34417"/>
                  </a:lnTo>
                  <a:lnTo>
                    <a:pt x="343979" y="39331"/>
                  </a:lnTo>
                  <a:lnTo>
                    <a:pt x="355289" y="44300"/>
                  </a:lnTo>
                  <a:lnTo>
                    <a:pt x="366215" y="49307"/>
                  </a:lnTo>
                  <a:lnTo>
                    <a:pt x="376039" y="54337"/>
                  </a:lnTo>
                  <a:lnTo>
                    <a:pt x="385128" y="59385"/>
                  </a:lnTo>
                  <a:lnTo>
                    <a:pt x="393728" y="64443"/>
                  </a:lnTo>
                  <a:lnTo>
                    <a:pt x="405541" y="74579"/>
                  </a:lnTo>
                  <a:lnTo>
                    <a:pt x="409877" y="79652"/>
                  </a:lnTo>
                  <a:lnTo>
                    <a:pt x="412767" y="84728"/>
                  </a:lnTo>
                  <a:lnTo>
                    <a:pt x="415978" y="94883"/>
                  </a:lnTo>
                  <a:lnTo>
                    <a:pt x="415988" y="99962"/>
                  </a:lnTo>
                  <a:lnTo>
                    <a:pt x="413741" y="110120"/>
                  </a:lnTo>
                  <a:lnTo>
                    <a:pt x="411110" y="114353"/>
                  </a:lnTo>
                  <a:lnTo>
                    <a:pt x="403670" y="121314"/>
                  </a:lnTo>
                  <a:lnTo>
                    <a:pt x="397623" y="124356"/>
                  </a:lnTo>
                  <a:lnTo>
                    <a:pt x="390204" y="127230"/>
                  </a:lnTo>
                  <a:lnTo>
                    <a:pt x="381872" y="129993"/>
                  </a:lnTo>
                  <a:lnTo>
                    <a:pt x="372084" y="132682"/>
                  </a:lnTo>
                  <a:lnTo>
                    <a:pt x="361325" y="135321"/>
                  </a:lnTo>
                  <a:lnTo>
                    <a:pt x="349919" y="137927"/>
                  </a:lnTo>
                  <a:lnTo>
                    <a:pt x="338082" y="139664"/>
                  </a:lnTo>
                  <a:lnTo>
                    <a:pt x="325957" y="140822"/>
                  </a:lnTo>
                  <a:lnTo>
                    <a:pt x="313640" y="141594"/>
                  </a:lnTo>
                  <a:lnTo>
                    <a:pt x="301196" y="142956"/>
                  </a:lnTo>
                  <a:lnTo>
                    <a:pt x="288666" y="144710"/>
                  </a:lnTo>
                  <a:lnTo>
                    <a:pt x="276080" y="146727"/>
                  </a:lnTo>
                  <a:lnTo>
                    <a:pt x="262609" y="148071"/>
                  </a:lnTo>
                  <a:lnTo>
                    <a:pt x="248548" y="148967"/>
                  </a:lnTo>
                  <a:lnTo>
                    <a:pt x="221919" y="149963"/>
                  </a:lnTo>
                  <a:lnTo>
                    <a:pt x="192647" y="150523"/>
                  </a:lnTo>
                  <a:lnTo>
                    <a:pt x="144227" y="1507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MARTInkAnnotation298"/>
            <p:cNvSpPr/>
            <p:nvPr/>
          </p:nvSpPr>
          <p:spPr>
            <a:xfrm>
              <a:off x="1021320" y="391680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7620"/>
                  </a:moveTo>
                  <a:lnTo>
                    <a:pt x="14652" y="7620"/>
                  </a:lnTo>
                  <a:lnTo>
                    <a:pt x="18234" y="6774"/>
                  </a:lnTo>
                  <a:lnTo>
                    <a:pt x="21470" y="5362"/>
                  </a:lnTo>
                  <a:lnTo>
                    <a:pt x="24473" y="3575"/>
                  </a:lnTo>
                  <a:lnTo>
                    <a:pt x="29016" y="2383"/>
                  </a:lnTo>
                  <a:lnTo>
                    <a:pt x="34583" y="1589"/>
                  </a:lnTo>
                  <a:lnTo>
                    <a:pt x="40836" y="1059"/>
                  </a:lnTo>
                  <a:lnTo>
                    <a:pt x="47544" y="706"/>
                  </a:lnTo>
                  <a:lnTo>
                    <a:pt x="61771" y="314"/>
                  </a:lnTo>
                  <a:lnTo>
                    <a:pt x="84847" y="41"/>
                  </a:ln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MARTInkAnnotation299"/>
            <p:cNvSpPr/>
            <p:nvPr/>
          </p:nvSpPr>
          <p:spPr>
            <a:xfrm>
              <a:off x="971280" y="3970440"/>
              <a:ext cx="209880" cy="3780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0131" h="38101">
                  <a:moveTo>
                    <a:pt x="4390" y="38100"/>
                  </a:moveTo>
                  <a:lnTo>
                    <a:pt x="0" y="38100"/>
                  </a:lnTo>
                  <a:lnTo>
                    <a:pt x="1875" y="38100"/>
                  </a:lnTo>
                  <a:lnTo>
                    <a:pt x="3560" y="37254"/>
                  </a:lnTo>
                  <a:lnTo>
                    <a:pt x="5530" y="35842"/>
                  </a:lnTo>
                  <a:lnTo>
                    <a:pt x="7690" y="34055"/>
                  </a:lnTo>
                  <a:lnTo>
                    <a:pt x="11670" y="32863"/>
                  </a:lnTo>
                  <a:lnTo>
                    <a:pt x="16863" y="32069"/>
                  </a:lnTo>
                  <a:lnTo>
                    <a:pt x="22866" y="31539"/>
                  </a:lnTo>
                  <a:lnTo>
                    <a:pt x="29407" y="31186"/>
                  </a:lnTo>
                  <a:lnTo>
                    <a:pt x="43449" y="30794"/>
                  </a:lnTo>
                  <a:lnTo>
                    <a:pt x="52443" y="29843"/>
                  </a:lnTo>
                  <a:lnTo>
                    <a:pt x="62672" y="28362"/>
                  </a:lnTo>
                  <a:lnTo>
                    <a:pt x="85326" y="24459"/>
                  </a:lnTo>
                  <a:lnTo>
                    <a:pt x="146919" y="12576"/>
                  </a:lnTo>
                  <a:lnTo>
                    <a:pt x="156983" y="10924"/>
                  </a:lnTo>
                  <a:lnTo>
                    <a:pt x="165385" y="9823"/>
                  </a:lnTo>
                  <a:lnTo>
                    <a:pt x="172680" y="9088"/>
                  </a:lnTo>
                  <a:lnTo>
                    <a:pt x="180083" y="7752"/>
                  </a:lnTo>
                  <a:lnTo>
                    <a:pt x="187559" y="6015"/>
                  </a:lnTo>
                  <a:lnTo>
                    <a:pt x="21013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MARTInkAnnotation300"/>
            <p:cNvSpPr/>
            <p:nvPr/>
          </p:nvSpPr>
          <p:spPr>
            <a:xfrm>
              <a:off x="2385360" y="371880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14301" h="27432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5237" y="8607"/>
                  </a:lnTo>
                  <a:lnTo>
                    <a:pt x="6561" y="15397"/>
                  </a:lnTo>
                  <a:lnTo>
                    <a:pt x="7760" y="19578"/>
                  </a:lnTo>
                  <a:lnTo>
                    <a:pt x="9407" y="24059"/>
                  </a:lnTo>
                  <a:lnTo>
                    <a:pt x="11352" y="28739"/>
                  </a:lnTo>
                  <a:lnTo>
                    <a:pt x="13494" y="33552"/>
                  </a:lnTo>
                  <a:lnTo>
                    <a:pt x="18133" y="43417"/>
                  </a:lnTo>
                  <a:lnTo>
                    <a:pt x="20555" y="49265"/>
                  </a:lnTo>
                  <a:lnTo>
                    <a:pt x="23017" y="55703"/>
                  </a:lnTo>
                  <a:lnTo>
                    <a:pt x="28010" y="69630"/>
                  </a:lnTo>
                  <a:lnTo>
                    <a:pt x="33051" y="84287"/>
                  </a:lnTo>
                  <a:lnTo>
                    <a:pt x="35581" y="92598"/>
                  </a:lnTo>
                  <a:lnTo>
                    <a:pt x="40649" y="110864"/>
                  </a:lnTo>
                  <a:lnTo>
                    <a:pt x="48263" y="140187"/>
                  </a:lnTo>
                  <a:lnTo>
                    <a:pt x="51648" y="149338"/>
                  </a:lnTo>
                  <a:lnTo>
                    <a:pt x="55599" y="157979"/>
                  </a:lnTo>
                  <a:lnTo>
                    <a:pt x="74106" y="194142"/>
                  </a:lnTo>
                  <a:lnTo>
                    <a:pt x="78191" y="203088"/>
                  </a:lnTo>
                  <a:lnTo>
                    <a:pt x="81761" y="211592"/>
                  </a:lnTo>
                  <a:lnTo>
                    <a:pt x="84987" y="219801"/>
                  </a:lnTo>
                  <a:lnTo>
                    <a:pt x="87985" y="226967"/>
                  </a:lnTo>
                  <a:lnTo>
                    <a:pt x="90830" y="233438"/>
                  </a:lnTo>
                  <a:lnTo>
                    <a:pt x="96249" y="245144"/>
                  </a:lnTo>
                  <a:lnTo>
                    <a:pt x="101480" y="255990"/>
                  </a:lnTo>
                  <a:lnTo>
                    <a:pt x="104368" y="264198"/>
                  </a:lnTo>
                  <a:lnTo>
                    <a:pt x="105139" y="267572"/>
                  </a:lnTo>
                  <a:lnTo>
                    <a:pt x="106500" y="269821"/>
                  </a:lnTo>
                  <a:lnTo>
                    <a:pt x="108253" y="271320"/>
                  </a:lnTo>
                  <a:lnTo>
                    <a:pt x="114300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MARTInkAnnotation301"/>
            <p:cNvSpPr/>
            <p:nvPr/>
          </p:nvSpPr>
          <p:spPr>
            <a:xfrm>
              <a:off x="2355120" y="3833280"/>
              <a:ext cx="182880" cy="75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0"/>
                  </a:moveTo>
                  <a:lnTo>
                    <a:pt x="123607" y="0"/>
                  </a:lnTo>
                  <a:lnTo>
                    <a:pt x="133204" y="847"/>
                  </a:lnTo>
                  <a:lnTo>
                    <a:pt x="142143" y="2257"/>
                  </a:lnTo>
                  <a:lnTo>
                    <a:pt x="150642" y="4045"/>
                  </a:lnTo>
                  <a:lnTo>
                    <a:pt x="158001" y="5237"/>
                  </a:lnTo>
                  <a:lnTo>
                    <a:pt x="164601" y="6031"/>
                  </a:lnTo>
                  <a:lnTo>
                    <a:pt x="1828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MARTInkAnnotation302"/>
            <p:cNvSpPr/>
            <p:nvPr/>
          </p:nvSpPr>
          <p:spPr>
            <a:xfrm>
              <a:off x="2583720" y="3627360"/>
              <a:ext cx="241560" cy="25884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41719" h="258958">
                  <a:moveTo>
                    <a:pt x="0" y="22737"/>
                  </a:moveTo>
                  <a:lnTo>
                    <a:pt x="0" y="18692"/>
                  </a:lnTo>
                  <a:lnTo>
                    <a:pt x="847" y="17500"/>
                  </a:lnTo>
                  <a:lnTo>
                    <a:pt x="2258" y="16706"/>
                  </a:lnTo>
                  <a:lnTo>
                    <a:pt x="4045" y="16176"/>
                  </a:lnTo>
                  <a:lnTo>
                    <a:pt x="8289" y="13330"/>
                  </a:lnTo>
                  <a:lnTo>
                    <a:pt x="13844" y="9243"/>
                  </a:lnTo>
                  <a:lnTo>
                    <a:pt x="17696" y="6967"/>
                  </a:lnTo>
                  <a:lnTo>
                    <a:pt x="21957" y="4604"/>
                  </a:lnTo>
                  <a:lnTo>
                    <a:pt x="27339" y="3028"/>
                  </a:lnTo>
                  <a:lnTo>
                    <a:pt x="33466" y="1978"/>
                  </a:lnTo>
                  <a:lnTo>
                    <a:pt x="40090" y="1278"/>
                  </a:lnTo>
                  <a:lnTo>
                    <a:pt x="47047" y="811"/>
                  </a:lnTo>
                  <a:lnTo>
                    <a:pt x="54225" y="500"/>
                  </a:lnTo>
                  <a:lnTo>
                    <a:pt x="69820" y="154"/>
                  </a:lnTo>
                  <a:lnTo>
                    <a:pt x="88040" y="0"/>
                  </a:lnTo>
                  <a:lnTo>
                    <a:pt x="97640" y="806"/>
                  </a:lnTo>
                  <a:lnTo>
                    <a:pt x="107427" y="2189"/>
                  </a:lnTo>
                  <a:lnTo>
                    <a:pt x="117338" y="3958"/>
                  </a:lnTo>
                  <a:lnTo>
                    <a:pt x="127332" y="5984"/>
                  </a:lnTo>
                  <a:lnTo>
                    <a:pt x="147468" y="10494"/>
                  </a:lnTo>
                  <a:lnTo>
                    <a:pt x="177844" y="17792"/>
                  </a:lnTo>
                  <a:lnTo>
                    <a:pt x="187143" y="20287"/>
                  </a:lnTo>
                  <a:lnTo>
                    <a:pt x="204248" y="25317"/>
                  </a:lnTo>
                  <a:lnTo>
                    <a:pt x="211519" y="28690"/>
                  </a:lnTo>
                  <a:lnTo>
                    <a:pt x="218059" y="32633"/>
                  </a:lnTo>
                  <a:lnTo>
                    <a:pt x="224113" y="36954"/>
                  </a:lnTo>
                  <a:lnTo>
                    <a:pt x="228996" y="40682"/>
                  </a:lnTo>
                  <a:lnTo>
                    <a:pt x="233097" y="44014"/>
                  </a:lnTo>
                  <a:lnTo>
                    <a:pt x="236678" y="47081"/>
                  </a:lnTo>
                  <a:lnTo>
                    <a:pt x="239065" y="50820"/>
                  </a:lnTo>
                  <a:lnTo>
                    <a:pt x="240657" y="55006"/>
                  </a:lnTo>
                  <a:lnTo>
                    <a:pt x="241718" y="59489"/>
                  </a:lnTo>
                  <a:lnTo>
                    <a:pt x="241579" y="64172"/>
                  </a:lnTo>
                  <a:lnTo>
                    <a:pt x="240639" y="68987"/>
                  </a:lnTo>
                  <a:lnTo>
                    <a:pt x="239166" y="73891"/>
                  </a:lnTo>
                  <a:lnTo>
                    <a:pt x="236491" y="78853"/>
                  </a:lnTo>
                  <a:lnTo>
                    <a:pt x="233014" y="83854"/>
                  </a:lnTo>
                  <a:lnTo>
                    <a:pt x="229003" y="88882"/>
                  </a:lnTo>
                  <a:lnTo>
                    <a:pt x="223788" y="93927"/>
                  </a:lnTo>
                  <a:lnTo>
                    <a:pt x="217773" y="98984"/>
                  </a:lnTo>
                  <a:lnTo>
                    <a:pt x="211222" y="104048"/>
                  </a:lnTo>
                  <a:lnTo>
                    <a:pt x="205161" y="109118"/>
                  </a:lnTo>
                  <a:lnTo>
                    <a:pt x="199427" y="114191"/>
                  </a:lnTo>
                  <a:lnTo>
                    <a:pt x="193912" y="119266"/>
                  </a:lnTo>
                  <a:lnTo>
                    <a:pt x="186848" y="125190"/>
                  </a:lnTo>
                  <a:lnTo>
                    <a:pt x="169968" y="138545"/>
                  </a:lnTo>
                  <a:lnTo>
                    <a:pt x="161572" y="145662"/>
                  </a:lnTo>
                  <a:lnTo>
                    <a:pt x="153435" y="152947"/>
                  </a:lnTo>
                  <a:lnTo>
                    <a:pt x="145470" y="160344"/>
                  </a:lnTo>
                  <a:lnTo>
                    <a:pt x="137620" y="166968"/>
                  </a:lnTo>
                  <a:lnTo>
                    <a:pt x="129847" y="173078"/>
                  </a:lnTo>
                  <a:lnTo>
                    <a:pt x="122124" y="178844"/>
                  </a:lnTo>
                  <a:lnTo>
                    <a:pt x="115283" y="184382"/>
                  </a:lnTo>
                  <a:lnTo>
                    <a:pt x="109029" y="189767"/>
                  </a:lnTo>
                  <a:lnTo>
                    <a:pt x="103166" y="195050"/>
                  </a:lnTo>
                  <a:lnTo>
                    <a:pt x="99257" y="200266"/>
                  </a:lnTo>
                  <a:lnTo>
                    <a:pt x="96652" y="205437"/>
                  </a:lnTo>
                  <a:lnTo>
                    <a:pt x="94914" y="210577"/>
                  </a:lnTo>
                  <a:lnTo>
                    <a:pt x="93756" y="215696"/>
                  </a:lnTo>
                  <a:lnTo>
                    <a:pt x="92984" y="220804"/>
                  </a:lnTo>
                  <a:lnTo>
                    <a:pt x="92469" y="225901"/>
                  </a:lnTo>
                  <a:lnTo>
                    <a:pt x="93820" y="230147"/>
                  </a:lnTo>
                  <a:lnTo>
                    <a:pt x="96413" y="233823"/>
                  </a:lnTo>
                  <a:lnTo>
                    <a:pt x="99835" y="237121"/>
                  </a:lnTo>
                  <a:lnTo>
                    <a:pt x="104657" y="240167"/>
                  </a:lnTo>
                  <a:lnTo>
                    <a:pt x="110411" y="243043"/>
                  </a:lnTo>
                  <a:lnTo>
                    <a:pt x="116788" y="245808"/>
                  </a:lnTo>
                  <a:lnTo>
                    <a:pt x="124425" y="248498"/>
                  </a:lnTo>
                  <a:lnTo>
                    <a:pt x="132903" y="251137"/>
                  </a:lnTo>
                  <a:lnTo>
                    <a:pt x="141942" y="253744"/>
                  </a:lnTo>
                  <a:lnTo>
                    <a:pt x="152202" y="255482"/>
                  </a:lnTo>
                  <a:lnTo>
                    <a:pt x="163275" y="256640"/>
                  </a:lnTo>
                  <a:lnTo>
                    <a:pt x="184327" y="257927"/>
                  </a:lnTo>
                  <a:lnTo>
                    <a:pt x="199327" y="258500"/>
                  </a:lnTo>
                  <a:lnTo>
                    <a:pt x="236220" y="2589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MARTInkAnnotation303"/>
            <p:cNvSpPr/>
            <p:nvPr/>
          </p:nvSpPr>
          <p:spPr>
            <a:xfrm>
              <a:off x="1455840" y="3727800"/>
              <a:ext cx="223200" cy="2192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223312" h="219390">
                  <a:moveTo>
                    <a:pt x="0" y="44217"/>
                  </a:moveTo>
                  <a:lnTo>
                    <a:pt x="11352" y="32866"/>
                  </a:lnTo>
                  <a:lnTo>
                    <a:pt x="18027" y="28448"/>
                  </a:lnTo>
                  <a:lnTo>
                    <a:pt x="22178" y="26084"/>
                  </a:lnTo>
                  <a:lnTo>
                    <a:pt x="27486" y="23662"/>
                  </a:lnTo>
                  <a:lnTo>
                    <a:pt x="33564" y="21200"/>
                  </a:lnTo>
                  <a:lnTo>
                    <a:pt x="40156" y="18712"/>
                  </a:lnTo>
                  <a:lnTo>
                    <a:pt x="54254" y="13691"/>
                  </a:lnTo>
                  <a:lnTo>
                    <a:pt x="61569" y="11166"/>
                  </a:lnTo>
                  <a:lnTo>
                    <a:pt x="69833" y="8636"/>
                  </a:lnTo>
                  <a:lnTo>
                    <a:pt x="88046" y="3568"/>
                  </a:lnTo>
                  <a:lnTo>
                    <a:pt x="97644" y="1877"/>
                  </a:lnTo>
                  <a:lnTo>
                    <a:pt x="107429" y="751"/>
                  </a:lnTo>
                  <a:lnTo>
                    <a:pt x="117340" y="0"/>
                  </a:lnTo>
                  <a:lnTo>
                    <a:pt x="126486" y="346"/>
                  </a:lnTo>
                  <a:lnTo>
                    <a:pt x="135124" y="1423"/>
                  </a:lnTo>
                  <a:lnTo>
                    <a:pt x="143423" y="2988"/>
                  </a:lnTo>
                  <a:lnTo>
                    <a:pt x="152342" y="4031"/>
                  </a:lnTo>
                  <a:lnTo>
                    <a:pt x="161675" y="4726"/>
                  </a:lnTo>
                  <a:lnTo>
                    <a:pt x="171283" y="5190"/>
                  </a:lnTo>
                  <a:lnTo>
                    <a:pt x="179382" y="6346"/>
                  </a:lnTo>
                  <a:lnTo>
                    <a:pt x="186475" y="7963"/>
                  </a:lnTo>
                  <a:lnTo>
                    <a:pt x="192896" y="9888"/>
                  </a:lnTo>
                  <a:lnTo>
                    <a:pt x="198871" y="12017"/>
                  </a:lnTo>
                  <a:lnTo>
                    <a:pt x="204547" y="14284"/>
                  </a:lnTo>
                  <a:lnTo>
                    <a:pt x="210025" y="16642"/>
                  </a:lnTo>
                  <a:lnTo>
                    <a:pt x="214523" y="19060"/>
                  </a:lnTo>
                  <a:lnTo>
                    <a:pt x="218369" y="21519"/>
                  </a:lnTo>
                  <a:lnTo>
                    <a:pt x="221779" y="24005"/>
                  </a:lnTo>
                  <a:lnTo>
                    <a:pt x="223206" y="27356"/>
                  </a:lnTo>
                  <a:lnTo>
                    <a:pt x="223311" y="31283"/>
                  </a:lnTo>
                  <a:lnTo>
                    <a:pt x="222534" y="35594"/>
                  </a:lnTo>
                  <a:lnTo>
                    <a:pt x="220323" y="39315"/>
                  </a:lnTo>
                  <a:lnTo>
                    <a:pt x="213350" y="45707"/>
                  </a:lnTo>
                  <a:lnTo>
                    <a:pt x="209120" y="49444"/>
                  </a:lnTo>
                  <a:lnTo>
                    <a:pt x="199904" y="58111"/>
                  </a:lnTo>
                  <a:lnTo>
                    <a:pt x="193383" y="62793"/>
                  </a:lnTo>
                  <a:lnTo>
                    <a:pt x="185649" y="67608"/>
                  </a:lnTo>
                  <a:lnTo>
                    <a:pt x="177106" y="72511"/>
                  </a:lnTo>
                  <a:lnTo>
                    <a:pt x="167177" y="77473"/>
                  </a:lnTo>
                  <a:lnTo>
                    <a:pt x="156325" y="82474"/>
                  </a:lnTo>
                  <a:lnTo>
                    <a:pt x="144856" y="87502"/>
                  </a:lnTo>
                  <a:lnTo>
                    <a:pt x="123083" y="97604"/>
                  </a:lnTo>
                  <a:lnTo>
                    <a:pt x="81510" y="117886"/>
                  </a:lnTo>
                  <a:lnTo>
                    <a:pt x="72120" y="123810"/>
                  </a:lnTo>
                  <a:lnTo>
                    <a:pt x="63320" y="130299"/>
                  </a:lnTo>
                  <a:lnTo>
                    <a:pt x="54913" y="137165"/>
                  </a:lnTo>
                  <a:lnTo>
                    <a:pt x="47616" y="143436"/>
                  </a:lnTo>
                  <a:lnTo>
                    <a:pt x="41057" y="149310"/>
                  </a:lnTo>
                  <a:lnTo>
                    <a:pt x="34991" y="154919"/>
                  </a:lnTo>
                  <a:lnTo>
                    <a:pt x="29255" y="159505"/>
                  </a:lnTo>
                  <a:lnTo>
                    <a:pt x="23736" y="163409"/>
                  </a:lnTo>
                  <a:lnTo>
                    <a:pt x="18365" y="166858"/>
                  </a:lnTo>
                  <a:lnTo>
                    <a:pt x="15630" y="170851"/>
                  </a:lnTo>
                  <a:lnTo>
                    <a:pt x="14653" y="175206"/>
                  </a:lnTo>
                  <a:lnTo>
                    <a:pt x="14849" y="179803"/>
                  </a:lnTo>
                  <a:lnTo>
                    <a:pt x="16673" y="184561"/>
                  </a:lnTo>
                  <a:lnTo>
                    <a:pt x="19582" y="189427"/>
                  </a:lnTo>
                  <a:lnTo>
                    <a:pt x="23215" y="194363"/>
                  </a:lnTo>
                  <a:lnTo>
                    <a:pt x="28176" y="198501"/>
                  </a:lnTo>
                  <a:lnTo>
                    <a:pt x="34024" y="202107"/>
                  </a:lnTo>
                  <a:lnTo>
                    <a:pt x="40463" y="205357"/>
                  </a:lnTo>
                  <a:lnTo>
                    <a:pt x="47295" y="208371"/>
                  </a:lnTo>
                  <a:lnTo>
                    <a:pt x="54390" y="211226"/>
                  </a:lnTo>
                  <a:lnTo>
                    <a:pt x="61660" y="213976"/>
                  </a:lnTo>
                  <a:lnTo>
                    <a:pt x="69894" y="215810"/>
                  </a:lnTo>
                  <a:lnTo>
                    <a:pt x="78769" y="217032"/>
                  </a:lnTo>
                  <a:lnTo>
                    <a:pt x="88073" y="217847"/>
                  </a:lnTo>
                  <a:lnTo>
                    <a:pt x="98509" y="218391"/>
                  </a:lnTo>
                  <a:lnTo>
                    <a:pt x="121393" y="218994"/>
                  </a:lnTo>
                  <a:lnTo>
                    <a:pt x="177869" y="2193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MARTInkAnnotation304"/>
            <p:cNvSpPr/>
            <p:nvPr/>
          </p:nvSpPr>
          <p:spPr>
            <a:xfrm>
              <a:off x="2166480" y="3885840"/>
              <a:ext cx="65520" cy="9936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5578" h="99351">
                  <a:moveTo>
                    <a:pt x="10270" y="98236"/>
                  </a:moveTo>
                  <a:lnTo>
                    <a:pt x="10659" y="98270"/>
                  </a:lnTo>
                  <a:lnTo>
                    <a:pt x="19153" y="98782"/>
                  </a:lnTo>
                  <a:lnTo>
                    <a:pt x="35364" y="99350"/>
                  </a:lnTo>
                  <a:lnTo>
                    <a:pt x="42396" y="98655"/>
                  </a:lnTo>
                  <a:lnTo>
                    <a:pt x="54726" y="95625"/>
                  </a:lnTo>
                  <a:lnTo>
                    <a:pt x="58691" y="93632"/>
                  </a:lnTo>
                  <a:lnTo>
                    <a:pt x="61334" y="91457"/>
                  </a:lnTo>
                  <a:lnTo>
                    <a:pt x="63096" y="89159"/>
                  </a:lnTo>
                  <a:lnTo>
                    <a:pt x="64271" y="85935"/>
                  </a:lnTo>
                  <a:lnTo>
                    <a:pt x="65055" y="82091"/>
                  </a:lnTo>
                  <a:lnTo>
                    <a:pt x="65577" y="77836"/>
                  </a:lnTo>
                  <a:lnTo>
                    <a:pt x="65078" y="74152"/>
                  </a:lnTo>
                  <a:lnTo>
                    <a:pt x="63899" y="70850"/>
                  </a:lnTo>
                  <a:lnTo>
                    <a:pt x="62266" y="67801"/>
                  </a:lnTo>
                  <a:lnTo>
                    <a:pt x="59485" y="63229"/>
                  </a:lnTo>
                  <a:lnTo>
                    <a:pt x="51878" y="51376"/>
                  </a:lnTo>
                  <a:lnTo>
                    <a:pt x="47479" y="45506"/>
                  </a:lnTo>
                  <a:lnTo>
                    <a:pt x="42853" y="39899"/>
                  </a:lnTo>
                  <a:lnTo>
                    <a:pt x="38076" y="34468"/>
                  </a:lnTo>
                  <a:lnTo>
                    <a:pt x="33198" y="29154"/>
                  </a:lnTo>
                  <a:lnTo>
                    <a:pt x="23262" y="18733"/>
                  </a:lnTo>
                  <a:lnTo>
                    <a:pt x="17395" y="13584"/>
                  </a:lnTo>
                  <a:lnTo>
                    <a:pt x="10943" y="8458"/>
                  </a:lnTo>
                  <a:lnTo>
                    <a:pt x="4103" y="334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MARTInkAnnotation305"/>
            <p:cNvSpPr/>
            <p:nvPr/>
          </p:nvSpPr>
          <p:spPr>
            <a:xfrm>
              <a:off x="4343760" y="3224880"/>
              <a:ext cx="332280" cy="246240"/>
            </a:xfrm>
            <a:custGeom>
              <a:avLst/>
              <a:gdLst>
                <a:gd name="textAreaLeft" fmla="*/ 0 w 332280"/>
                <a:gd name="textAreaRight" fmla="*/ 332280 w 33228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332388" h="246333">
                  <a:moveTo>
                    <a:pt x="0" y="51835"/>
                  </a:moveTo>
                  <a:lnTo>
                    <a:pt x="0" y="47790"/>
                  </a:lnTo>
                  <a:lnTo>
                    <a:pt x="846" y="45751"/>
                  </a:lnTo>
                  <a:lnTo>
                    <a:pt x="4045" y="41229"/>
                  </a:lnTo>
                  <a:lnTo>
                    <a:pt x="10546" y="36397"/>
                  </a:lnTo>
                  <a:lnTo>
                    <a:pt x="14651" y="33923"/>
                  </a:lnTo>
                  <a:lnTo>
                    <a:pt x="20774" y="31427"/>
                  </a:lnTo>
                  <a:lnTo>
                    <a:pt x="28242" y="28917"/>
                  </a:lnTo>
                  <a:lnTo>
                    <a:pt x="36609" y="26396"/>
                  </a:lnTo>
                  <a:lnTo>
                    <a:pt x="46419" y="23869"/>
                  </a:lnTo>
                  <a:lnTo>
                    <a:pt x="68609" y="18803"/>
                  </a:lnTo>
                  <a:lnTo>
                    <a:pt x="94840" y="13730"/>
                  </a:lnTo>
                  <a:lnTo>
                    <a:pt x="153072" y="3574"/>
                  </a:lnTo>
                  <a:lnTo>
                    <a:pt x="168087" y="1881"/>
                  </a:lnTo>
                  <a:lnTo>
                    <a:pt x="183178" y="752"/>
                  </a:lnTo>
                  <a:lnTo>
                    <a:pt x="198319" y="0"/>
                  </a:lnTo>
                  <a:lnTo>
                    <a:pt x="212646" y="345"/>
                  </a:lnTo>
                  <a:lnTo>
                    <a:pt x="226431" y="1422"/>
                  </a:lnTo>
                  <a:lnTo>
                    <a:pt x="239854" y="2986"/>
                  </a:lnTo>
                  <a:lnTo>
                    <a:pt x="252189" y="4029"/>
                  </a:lnTo>
                  <a:lnTo>
                    <a:pt x="263799" y="4724"/>
                  </a:lnTo>
                  <a:lnTo>
                    <a:pt x="274926" y="5188"/>
                  </a:lnTo>
                  <a:lnTo>
                    <a:pt x="285731" y="6344"/>
                  </a:lnTo>
                  <a:lnTo>
                    <a:pt x="296320" y="7961"/>
                  </a:lnTo>
                  <a:lnTo>
                    <a:pt x="306767" y="9885"/>
                  </a:lnTo>
                  <a:lnTo>
                    <a:pt x="314578" y="12015"/>
                  </a:lnTo>
                  <a:lnTo>
                    <a:pt x="320632" y="14282"/>
                  </a:lnTo>
                  <a:lnTo>
                    <a:pt x="325515" y="16640"/>
                  </a:lnTo>
                  <a:lnTo>
                    <a:pt x="328769" y="19905"/>
                  </a:lnTo>
                  <a:lnTo>
                    <a:pt x="330939" y="23775"/>
                  </a:lnTo>
                  <a:lnTo>
                    <a:pt x="332387" y="28048"/>
                  </a:lnTo>
                  <a:lnTo>
                    <a:pt x="331658" y="32591"/>
                  </a:lnTo>
                  <a:lnTo>
                    <a:pt x="329478" y="37312"/>
                  </a:lnTo>
                  <a:lnTo>
                    <a:pt x="326332" y="42153"/>
                  </a:lnTo>
                  <a:lnTo>
                    <a:pt x="320848" y="46227"/>
                  </a:lnTo>
                  <a:lnTo>
                    <a:pt x="313806" y="49790"/>
                  </a:lnTo>
                  <a:lnTo>
                    <a:pt x="305724" y="53011"/>
                  </a:lnTo>
                  <a:lnTo>
                    <a:pt x="296949" y="57699"/>
                  </a:lnTo>
                  <a:lnTo>
                    <a:pt x="287713" y="63365"/>
                  </a:lnTo>
                  <a:lnTo>
                    <a:pt x="278169" y="69682"/>
                  </a:lnTo>
                  <a:lnTo>
                    <a:pt x="256275" y="83473"/>
                  </a:lnTo>
                  <a:lnTo>
                    <a:pt x="244510" y="90707"/>
                  </a:lnTo>
                  <a:lnTo>
                    <a:pt x="231587" y="98070"/>
                  </a:lnTo>
                  <a:lnTo>
                    <a:pt x="203681" y="113024"/>
                  </a:lnTo>
                  <a:lnTo>
                    <a:pt x="190821" y="121414"/>
                  </a:lnTo>
                  <a:lnTo>
                    <a:pt x="178860" y="130395"/>
                  </a:lnTo>
                  <a:lnTo>
                    <a:pt x="156540" y="148557"/>
                  </a:lnTo>
                  <a:lnTo>
                    <a:pt x="135331" y="165096"/>
                  </a:lnTo>
                  <a:lnTo>
                    <a:pt x="127474" y="173062"/>
                  </a:lnTo>
                  <a:lnTo>
                    <a:pt x="121389" y="180913"/>
                  </a:lnTo>
                  <a:lnTo>
                    <a:pt x="116486" y="188687"/>
                  </a:lnTo>
                  <a:lnTo>
                    <a:pt x="113217" y="195563"/>
                  </a:lnTo>
                  <a:lnTo>
                    <a:pt x="111039" y="201840"/>
                  </a:lnTo>
                  <a:lnTo>
                    <a:pt x="109586" y="207719"/>
                  </a:lnTo>
                  <a:lnTo>
                    <a:pt x="110310" y="213331"/>
                  </a:lnTo>
                  <a:lnTo>
                    <a:pt x="112487" y="218766"/>
                  </a:lnTo>
                  <a:lnTo>
                    <a:pt x="115631" y="224082"/>
                  </a:lnTo>
                  <a:lnTo>
                    <a:pt x="120268" y="228473"/>
                  </a:lnTo>
                  <a:lnTo>
                    <a:pt x="125898" y="232247"/>
                  </a:lnTo>
                  <a:lnTo>
                    <a:pt x="132193" y="235609"/>
                  </a:lnTo>
                  <a:lnTo>
                    <a:pt x="140622" y="237851"/>
                  </a:lnTo>
                  <a:lnTo>
                    <a:pt x="150475" y="239346"/>
                  </a:lnTo>
                  <a:lnTo>
                    <a:pt x="161276" y="240342"/>
                  </a:lnTo>
                  <a:lnTo>
                    <a:pt x="173557" y="241853"/>
                  </a:lnTo>
                  <a:lnTo>
                    <a:pt x="200750" y="245790"/>
                  </a:lnTo>
                  <a:lnTo>
                    <a:pt x="213420" y="246332"/>
                  </a:lnTo>
                  <a:lnTo>
                    <a:pt x="225253" y="245846"/>
                  </a:lnTo>
                  <a:lnTo>
                    <a:pt x="259080" y="242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MARTInkAnnotation306"/>
            <p:cNvSpPr/>
            <p:nvPr/>
          </p:nvSpPr>
          <p:spPr>
            <a:xfrm>
              <a:off x="4796640" y="3193200"/>
              <a:ext cx="362160" cy="24336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62470" h="243497">
                  <a:moveTo>
                    <a:pt x="11948" y="37756"/>
                  </a:moveTo>
                  <a:lnTo>
                    <a:pt x="7903" y="33711"/>
                  </a:lnTo>
                  <a:lnTo>
                    <a:pt x="6712" y="31672"/>
                  </a:lnTo>
                  <a:lnTo>
                    <a:pt x="4799" y="24576"/>
                  </a:lnTo>
                  <a:lnTo>
                    <a:pt x="4642" y="23889"/>
                  </a:lnTo>
                  <a:lnTo>
                    <a:pt x="376" y="18878"/>
                  </a:lnTo>
                  <a:lnTo>
                    <a:pt x="0" y="17551"/>
                  </a:lnTo>
                  <a:lnTo>
                    <a:pt x="596" y="16666"/>
                  </a:lnTo>
                  <a:lnTo>
                    <a:pt x="1840" y="16076"/>
                  </a:lnTo>
                  <a:lnTo>
                    <a:pt x="7636" y="11200"/>
                  </a:lnTo>
                  <a:lnTo>
                    <a:pt x="11614" y="9892"/>
                  </a:lnTo>
                  <a:lnTo>
                    <a:pt x="22806" y="8439"/>
                  </a:lnTo>
                  <a:lnTo>
                    <a:pt x="29347" y="7205"/>
                  </a:lnTo>
                  <a:lnTo>
                    <a:pt x="36247" y="5535"/>
                  </a:lnTo>
                  <a:lnTo>
                    <a:pt x="43388" y="3575"/>
                  </a:lnTo>
                  <a:lnTo>
                    <a:pt x="52381" y="2269"/>
                  </a:lnTo>
                  <a:lnTo>
                    <a:pt x="62610" y="1398"/>
                  </a:lnTo>
                  <a:lnTo>
                    <a:pt x="73663" y="817"/>
                  </a:lnTo>
                  <a:lnTo>
                    <a:pt x="99490" y="172"/>
                  </a:lnTo>
                  <a:lnTo>
                    <a:pt x="113490" y="0"/>
                  </a:lnTo>
                  <a:lnTo>
                    <a:pt x="127903" y="732"/>
                  </a:lnTo>
                  <a:lnTo>
                    <a:pt x="142592" y="2067"/>
                  </a:lnTo>
                  <a:lnTo>
                    <a:pt x="157464" y="3803"/>
                  </a:lnTo>
                  <a:lnTo>
                    <a:pt x="187535" y="7990"/>
                  </a:lnTo>
                  <a:lnTo>
                    <a:pt x="202666" y="10292"/>
                  </a:lnTo>
                  <a:lnTo>
                    <a:pt x="216141" y="12674"/>
                  </a:lnTo>
                  <a:lnTo>
                    <a:pt x="228510" y="15107"/>
                  </a:lnTo>
                  <a:lnTo>
                    <a:pt x="240143" y="17577"/>
                  </a:lnTo>
                  <a:lnTo>
                    <a:pt x="249591" y="20070"/>
                  </a:lnTo>
                  <a:lnTo>
                    <a:pt x="257584" y="22579"/>
                  </a:lnTo>
                  <a:lnTo>
                    <a:pt x="264605" y="25098"/>
                  </a:lnTo>
                  <a:lnTo>
                    <a:pt x="269286" y="28470"/>
                  </a:lnTo>
                  <a:lnTo>
                    <a:pt x="272407" y="32412"/>
                  </a:lnTo>
                  <a:lnTo>
                    <a:pt x="274488" y="36734"/>
                  </a:lnTo>
                  <a:lnTo>
                    <a:pt x="274181" y="40461"/>
                  </a:lnTo>
                  <a:lnTo>
                    <a:pt x="272284" y="43793"/>
                  </a:lnTo>
                  <a:lnTo>
                    <a:pt x="259265" y="57043"/>
                  </a:lnTo>
                  <a:lnTo>
                    <a:pt x="253026" y="63314"/>
                  </a:lnTo>
                  <a:lnTo>
                    <a:pt x="244633" y="69188"/>
                  </a:lnTo>
                  <a:lnTo>
                    <a:pt x="234806" y="74797"/>
                  </a:lnTo>
                  <a:lnTo>
                    <a:pt x="224020" y="80230"/>
                  </a:lnTo>
                  <a:lnTo>
                    <a:pt x="211749" y="85545"/>
                  </a:lnTo>
                  <a:lnTo>
                    <a:pt x="198489" y="90782"/>
                  </a:lnTo>
                  <a:lnTo>
                    <a:pt x="184569" y="95967"/>
                  </a:lnTo>
                  <a:lnTo>
                    <a:pt x="171055" y="101963"/>
                  </a:lnTo>
                  <a:lnTo>
                    <a:pt x="157813" y="108501"/>
                  </a:lnTo>
                  <a:lnTo>
                    <a:pt x="144752" y="115399"/>
                  </a:lnTo>
                  <a:lnTo>
                    <a:pt x="118950" y="129838"/>
                  </a:lnTo>
                  <a:lnTo>
                    <a:pt x="106143" y="137244"/>
                  </a:lnTo>
                  <a:lnTo>
                    <a:pt x="82881" y="149988"/>
                  </a:lnTo>
                  <a:lnTo>
                    <a:pt x="71937" y="155758"/>
                  </a:lnTo>
                  <a:lnTo>
                    <a:pt x="62948" y="161297"/>
                  </a:lnTo>
                  <a:lnTo>
                    <a:pt x="55261" y="166683"/>
                  </a:lnTo>
                  <a:lnTo>
                    <a:pt x="48443" y="171968"/>
                  </a:lnTo>
                  <a:lnTo>
                    <a:pt x="43898" y="177184"/>
                  </a:lnTo>
                  <a:lnTo>
                    <a:pt x="40868" y="182355"/>
                  </a:lnTo>
                  <a:lnTo>
                    <a:pt x="38848" y="187495"/>
                  </a:lnTo>
                  <a:lnTo>
                    <a:pt x="39195" y="192615"/>
                  </a:lnTo>
                  <a:lnTo>
                    <a:pt x="41119" y="197723"/>
                  </a:lnTo>
                  <a:lnTo>
                    <a:pt x="44096" y="202820"/>
                  </a:lnTo>
                  <a:lnTo>
                    <a:pt x="49466" y="207066"/>
                  </a:lnTo>
                  <a:lnTo>
                    <a:pt x="56434" y="210742"/>
                  </a:lnTo>
                  <a:lnTo>
                    <a:pt x="64465" y="214040"/>
                  </a:lnTo>
                  <a:lnTo>
                    <a:pt x="73206" y="217933"/>
                  </a:lnTo>
                  <a:lnTo>
                    <a:pt x="91950" y="226772"/>
                  </a:lnTo>
                  <a:lnTo>
                    <a:pt x="103382" y="229807"/>
                  </a:lnTo>
                  <a:lnTo>
                    <a:pt x="116085" y="231830"/>
                  </a:lnTo>
                  <a:lnTo>
                    <a:pt x="129632" y="233178"/>
                  </a:lnTo>
                  <a:lnTo>
                    <a:pt x="160491" y="236935"/>
                  </a:lnTo>
                  <a:lnTo>
                    <a:pt x="177017" y="239122"/>
                  </a:lnTo>
                  <a:lnTo>
                    <a:pt x="193113" y="240580"/>
                  </a:lnTo>
                  <a:lnTo>
                    <a:pt x="208925" y="241552"/>
                  </a:lnTo>
                  <a:lnTo>
                    <a:pt x="240041" y="242632"/>
                  </a:lnTo>
                  <a:lnTo>
                    <a:pt x="308591" y="243383"/>
                  </a:lnTo>
                  <a:lnTo>
                    <a:pt x="362469" y="2434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SMARTInkAnnotation307"/>
            <p:cNvSpPr/>
            <p:nvPr/>
          </p:nvSpPr>
          <p:spPr>
            <a:xfrm>
              <a:off x="5311440" y="3322440"/>
              <a:ext cx="220680" cy="75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0980" h="7620">
                  <a:moveTo>
                    <a:pt x="0" y="7619"/>
                  </a:moveTo>
                  <a:lnTo>
                    <a:pt x="55007" y="7619"/>
                  </a:lnTo>
                  <a:lnTo>
                    <a:pt x="62071" y="6772"/>
                  </a:lnTo>
                  <a:lnTo>
                    <a:pt x="69321" y="5361"/>
                  </a:lnTo>
                  <a:lnTo>
                    <a:pt x="76694" y="3573"/>
                  </a:lnTo>
                  <a:lnTo>
                    <a:pt x="84148" y="2382"/>
                  </a:lnTo>
                  <a:lnTo>
                    <a:pt x="91659" y="1587"/>
                  </a:lnTo>
                  <a:lnTo>
                    <a:pt x="99206" y="1057"/>
                  </a:lnTo>
                  <a:lnTo>
                    <a:pt x="106777" y="704"/>
                  </a:lnTo>
                  <a:lnTo>
                    <a:pt x="121963" y="312"/>
                  </a:lnTo>
                  <a:lnTo>
                    <a:pt x="202009" y="0"/>
                  </a:lnTo>
                  <a:lnTo>
                    <a:pt x="206638" y="847"/>
                  </a:lnTo>
                  <a:lnTo>
                    <a:pt x="210572" y="2257"/>
                  </a:lnTo>
                  <a:lnTo>
                    <a:pt x="220979" y="76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SMARTInkAnnotation308"/>
            <p:cNvSpPr/>
            <p:nvPr/>
          </p:nvSpPr>
          <p:spPr>
            <a:xfrm>
              <a:off x="5349600" y="341388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0" h="15241">
                  <a:moveTo>
                    <a:pt x="0" y="15240"/>
                  </a:moveTo>
                  <a:lnTo>
                    <a:pt x="21957" y="15240"/>
                  </a:lnTo>
                  <a:lnTo>
                    <a:pt x="26491" y="14394"/>
                  </a:lnTo>
                  <a:lnTo>
                    <a:pt x="31207" y="12982"/>
                  </a:lnTo>
                  <a:lnTo>
                    <a:pt x="36044" y="11195"/>
                  </a:lnTo>
                  <a:lnTo>
                    <a:pt x="40963" y="10003"/>
                  </a:lnTo>
                  <a:lnTo>
                    <a:pt x="45935" y="9209"/>
                  </a:lnTo>
                  <a:lnTo>
                    <a:pt x="50943" y="8680"/>
                  </a:lnTo>
                  <a:lnTo>
                    <a:pt x="55975" y="7480"/>
                  </a:lnTo>
                  <a:lnTo>
                    <a:pt x="61023" y="5833"/>
                  </a:lnTo>
                  <a:lnTo>
                    <a:pt x="66082" y="3889"/>
                  </a:lnTo>
                  <a:lnTo>
                    <a:pt x="71147" y="2593"/>
                  </a:lnTo>
                  <a:lnTo>
                    <a:pt x="76218" y="1728"/>
                  </a:lnTo>
                  <a:lnTo>
                    <a:pt x="81292" y="1152"/>
                  </a:lnTo>
                  <a:lnTo>
                    <a:pt x="86368" y="768"/>
                  </a:lnTo>
                  <a:lnTo>
                    <a:pt x="91445" y="512"/>
                  </a:lnTo>
                  <a:lnTo>
                    <a:pt x="101602" y="228"/>
                  </a:lnTo>
                  <a:lnTo>
                    <a:pt x="138194" y="9"/>
                  </a:lnTo>
                  <a:lnTo>
                    <a:pt x="1600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SMARTInkAnnotation309"/>
            <p:cNvSpPr/>
            <p:nvPr/>
          </p:nvSpPr>
          <p:spPr>
            <a:xfrm>
              <a:off x="5730480" y="3177720"/>
              <a:ext cx="236160" cy="3045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36220" h="304696">
                  <a:moveTo>
                    <a:pt x="0" y="53235"/>
                  </a:moveTo>
                  <a:lnTo>
                    <a:pt x="4044" y="49190"/>
                  </a:lnTo>
                  <a:lnTo>
                    <a:pt x="5236" y="47152"/>
                  </a:lnTo>
                  <a:lnTo>
                    <a:pt x="6560" y="42629"/>
                  </a:lnTo>
                  <a:lnTo>
                    <a:pt x="8607" y="40238"/>
                  </a:lnTo>
                  <a:lnTo>
                    <a:pt x="15396" y="35323"/>
                  </a:lnTo>
                  <a:lnTo>
                    <a:pt x="21800" y="30316"/>
                  </a:lnTo>
                  <a:lnTo>
                    <a:pt x="28315" y="25269"/>
                  </a:lnTo>
                  <a:lnTo>
                    <a:pt x="32424" y="22738"/>
                  </a:lnTo>
                  <a:lnTo>
                    <a:pt x="36855" y="20203"/>
                  </a:lnTo>
                  <a:lnTo>
                    <a:pt x="42350" y="17667"/>
                  </a:lnTo>
                  <a:lnTo>
                    <a:pt x="48553" y="15130"/>
                  </a:lnTo>
                  <a:lnTo>
                    <a:pt x="55229" y="12592"/>
                  </a:lnTo>
                  <a:lnTo>
                    <a:pt x="61373" y="10899"/>
                  </a:lnTo>
                  <a:lnTo>
                    <a:pt x="67161" y="9771"/>
                  </a:lnTo>
                  <a:lnTo>
                    <a:pt x="72714" y="9019"/>
                  </a:lnTo>
                  <a:lnTo>
                    <a:pt x="78956" y="7671"/>
                  </a:lnTo>
                  <a:lnTo>
                    <a:pt x="85657" y="5926"/>
                  </a:lnTo>
                  <a:lnTo>
                    <a:pt x="92664" y="3915"/>
                  </a:lnTo>
                  <a:lnTo>
                    <a:pt x="99029" y="2575"/>
                  </a:lnTo>
                  <a:lnTo>
                    <a:pt x="104966" y="1682"/>
                  </a:lnTo>
                  <a:lnTo>
                    <a:pt x="110617" y="1086"/>
                  </a:lnTo>
                  <a:lnTo>
                    <a:pt x="116925" y="689"/>
                  </a:lnTo>
                  <a:lnTo>
                    <a:pt x="123669" y="424"/>
                  </a:lnTo>
                  <a:lnTo>
                    <a:pt x="137936" y="130"/>
                  </a:lnTo>
                  <a:lnTo>
                    <a:pt x="152745" y="0"/>
                  </a:lnTo>
                  <a:lnTo>
                    <a:pt x="160249" y="812"/>
                  </a:lnTo>
                  <a:lnTo>
                    <a:pt x="167793" y="2199"/>
                  </a:lnTo>
                  <a:lnTo>
                    <a:pt x="175362" y="3971"/>
                  </a:lnTo>
                  <a:lnTo>
                    <a:pt x="181254" y="5999"/>
                  </a:lnTo>
                  <a:lnTo>
                    <a:pt x="186029" y="8198"/>
                  </a:lnTo>
                  <a:lnTo>
                    <a:pt x="190059" y="10510"/>
                  </a:lnTo>
                  <a:lnTo>
                    <a:pt x="199053" y="15337"/>
                  </a:lnTo>
                  <a:lnTo>
                    <a:pt x="203822" y="17810"/>
                  </a:lnTo>
                  <a:lnTo>
                    <a:pt x="207847" y="20305"/>
                  </a:lnTo>
                  <a:lnTo>
                    <a:pt x="214578" y="25335"/>
                  </a:lnTo>
                  <a:lnTo>
                    <a:pt x="216712" y="27862"/>
                  </a:lnTo>
                  <a:lnTo>
                    <a:pt x="218134" y="30393"/>
                  </a:lnTo>
                  <a:lnTo>
                    <a:pt x="219082" y="32927"/>
                  </a:lnTo>
                  <a:lnTo>
                    <a:pt x="218868" y="36309"/>
                  </a:lnTo>
                  <a:lnTo>
                    <a:pt x="216372" y="44584"/>
                  </a:lnTo>
                  <a:lnTo>
                    <a:pt x="210183" y="53906"/>
                  </a:lnTo>
                  <a:lnTo>
                    <a:pt x="206161" y="58762"/>
                  </a:lnTo>
                  <a:lnTo>
                    <a:pt x="200941" y="63693"/>
                  </a:lnTo>
                  <a:lnTo>
                    <a:pt x="194921" y="68674"/>
                  </a:lnTo>
                  <a:lnTo>
                    <a:pt x="188367" y="73688"/>
                  </a:lnTo>
                  <a:lnTo>
                    <a:pt x="181457" y="78723"/>
                  </a:lnTo>
                  <a:lnTo>
                    <a:pt x="167007" y="88834"/>
                  </a:lnTo>
                  <a:lnTo>
                    <a:pt x="158751" y="93901"/>
                  </a:lnTo>
                  <a:lnTo>
                    <a:pt x="149860" y="98972"/>
                  </a:lnTo>
                  <a:lnTo>
                    <a:pt x="140547" y="104047"/>
                  </a:lnTo>
                  <a:lnTo>
                    <a:pt x="130951" y="109969"/>
                  </a:lnTo>
                  <a:lnTo>
                    <a:pt x="121167" y="116458"/>
                  </a:lnTo>
                  <a:lnTo>
                    <a:pt x="111258" y="123324"/>
                  </a:lnTo>
                  <a:lnTo>
                    <a:pt x="101264" y="129594"/>
                  </a:lnTo>
                  <a:lnTo>
                    <a:pt x="91216" y="135468"/>
                  </a:lnTo>
                  <a:lnTo>
                    <a:pt x="81131" y="141077"/>
                  </a:lnTo>
                  <a:lnTo>
                    <a:pt x="71867" y="146510"/>
                  </a:lnTo>
                  <a:lnTo>
                    <a:pt x="54801" y="157062"/>
                  </a:lnTo>
                  <a:lnTo>
                    <a:pt x="46694" y="163093"/>
                  </a:lnTo>
                  <a:lnTo>
                    <a:pt x="38749" y="169653"/>
                  </a:lnTo>
                  <a:lnTo>
                    <a:pt x="30912" y="176567"/>
                  </a:lnTo>
                  <a:lnTo>
                    <a:pt x="24842" y="182870"/>
                  </a:lnTo>
                  <a:lnTo>
                    <a:pt x="19948" y="188765"/>
                  </a:lnTo>
                  <a:lnTo>
                    <a:pt x="15838" y="194388"/>
                  </a:lnTo>
                  <a:lnTo>
                    <a:pt x="12252" y="199831"/>
                  </a:lnTo>
                  <a:lnTo>
                    <a:pt x="9014" y="205152"/>
                  </a:lnTo>
                  <a:lnTo>
                    <a:pt x="6009" y="210393"/>
                  </a:lnTo>
                  <a:lnTo>
                    <a:pt x="4006" y="215580"/>
                  </a:lnTo>
                  <a:lnTo>
                    <a:pt x="2670" y="220732"/>
                  </a:lnTo>
                  <a:lnTo>
                    <a:pt x="1780" y="225860"/>
                  </a:lnTo>
                  <a:lnTo>
                    <a:pt x="2880" y="230971"/>
                  </a:lnTo>
                  <a:lnTo>
                    <a:pt x="5307" y="236073"/>
                  </a:lnTo>
                  <a:lnTo>
                    <a:pt x="11671" y="245410"/>
                  </a:lnTo>
                  <a:lnTo>
                    <a:pt x="17323" y="252382"/>
                  </a:lnTo>
                  <a:lnTo>
                    <a:pt x="20861" y="256273"/>
                  </a:lnTo>
                  <a:lnTo>
                    <a:pt x="29309" y="265112"/>
                  </a:lnTo>
                  <a:lnTo>
                    <a:pt x="35626" y="268993"/>
                  </a:lnTo>
                  <a:lnTo>
                    <a:pt x="43223" y="272427"/>
                  </a:lnTo>
                  <a:lnTo>
                    <a:pt x="59850" y="278500"/>
                  </a:lnTo>
                  <a:lnTo>
                    <a:pt x="75707" y="284022"/>
                  </a:lnTo>
                  <a:lnTo>
                    <a:pt x="84337" y="286680"/>
                  </a:lnTo>
                  <a:lnTo>
                    <a:pt x="102958" y="291891"/>
                  </a:lnTo>
                  <a:lnTo>
                    <a:pt x="112666" y="293619"/>
                  </a:lnTo>
                  <a:lnTo>
                    <a:pt x="122523" y="294771"/>
                  </a:lnTo>
                  <a:lnTo>
                    <a:pt x="132482" y="295539"/>
                  </a:lnTo>
                  <a:lnTo>
                    <a:pt x="142508" y="296898"/>
                  </a:lnTo>
                  <a:lnTo>
                    <a:pt x="152578" y="298650"/>
                  </a:lnTo>
                  <a:lnTo>
                    <a:pt x="162679" y="300665"/>
                  </a:lnTo>
                  <a:lnTo>
                    <a:pt x="171952" y="302008"/>
                  </a:lnTo>
                  <a:lnTo>
                    <a:pt x="180675" y="302904"/>
                  </a:lnTo>
                  <a:lnTo>
                    <a:pt x="189029" y="303501"/>
                  </a:lnTo>
                  <a:lnTo>
                    <a:pt x="196293" y="303899"/>
                  </a:lnTo>
                  <a:lnTo>
                    <a:pt x="208878" y="304341"/>
                  </a:lnTo>
                  <a:lnTo>
                    <a:pt x="236219" y="3046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MARTInkAnnotation310"/>
            <p:cNvSpPr/>
            <p:nvPr/>
          </p:nvSpPr>
          <p:spPr>
            <a:xfrm>
              <a:off x="419760" y="3375720"/>
              <a:ext cx="3443040" cy="883800"/>
            </a:xfrm>
            <a:custGeom>
              <a:avLst/>
              <a:gdLst>
                <a:gd name="textAreaLeft" fmla="*/ 0 w 3443040"/>
                <a:gd name="textAreaRight" fmla="*/ 3443400 w 3443040"/>
                <a:gd name="textAreaTop" fmla="*/ 0 h 883800"/>
                <a:gd name="textAreaBottom" fmla="*/ 884160 h 883800"/>
              </a:gdLst>
              <a:ahLst/>
              <a:rect l="textAreaLeft" t="textAreaTop" r="textAreaRight" b="textAreaBottom"/>
              <a:pathLst>
                <a:path w="3443231" h="883890">
                  <a:moveTo>
                    <a:pt x="121585" y="845789"/>
                  </a:moveTo>
                  <a:lnTo>
                    <a:pt x="125630" y="845789"/>
                  </a:lnTo>
                  <a:lnTo>
                    <a:pt x="127668" y="846635"/>
                  </a:lnTo>
                  <a:lnTo>
                    <a:pt x="134582" y="851026"/>
                  </a:lnTo>
                  <a:lnTo>
                    <a:pt x="139497" y="852350"/>
                  </a:lnTo>
                  <a:lnTo>
                    <a:pt x="192591" y="854250"/>
                  </a:lnTo>
                  <a:lnTo>
                    <a:pt x="202925" y="858644"/>
                  </a:lnTo>
                  <a:lnTo>
                    <a:pt x="221159" y="860558"/>
                  </a:lnTo>
                  <a:lnTo>
                    <a:pt x="322368" y="861029"/>
                  </a:lnTo>
                  <a:lnTo>
                    <a:pt x="619677" y="861029"/>
                  </a:lnTo>
                  <a:lnTo>
                    <a:pt x="676289" y="864802"/>
                  </a:lnTo>
                  <a:lnTo>
                    <a:pt x="697474" y="863553"/>
                  </a:lnTo>
                  <a:lnTo>
                    <a:pt x="801738" y="868483"/>
                  </a:lnTo>
                  <a:lnTo>
                    <a:pt x="909201" y="864254"/>
                  </a:lnTo>
                  <a:lnTo>
                    <a:pt x="1014639" y="868428"/>
                  </a:lnTo>
                  <a:lnTo>
                    <a:pt x="1310428" y="868649"/>
                  </a:lnTo>
                  <a:lnTo>
                    <a:pt x="1411756" y="861735"/>
                  </a:lnTo>
                  <a:lnTo>
                    <a:pt x="1516185" y="861071"/>
                  </a:lnTo>
                  <a:lnTo>
                    <a:pt x="1622733" y="861031"/>
                  </a:lnTo>
                  <a:lnTo>
                    <a:pt x="1729405" y="854116"/>
                  </a:lnTo>
                  <a:lnTo>
                    <a:pt x="1836085" y="853450"/>
                  </a:lnTo>
                  <a:lnTo>
                    <a:pt x="1942765" y="849367"/>
                  </a:lnTo>
                  <a:lnTo>
                    <a:pt x="2066943" y="843670"/>
                  </a:lnTo>
                  <a:lnTo>
                    <a:pt x="2169305" y="836394"/>
                  </a:lnTo>
                  <a:lnTo>
                    <a:pt x="2284485" y="826846"/>
                  </a:lnTo>
                  <a:lnTo>
                    <a:pt x="2383563" y="819227"/>
                  </a:lnTo>
                  <a:lnTo>
                    <a:pt x="2476063" y="809092"/>
                  </a:lnTo>
                  <a:lnTo>
                    <a:pt x="2582839" y="801687"/>
                  </a:lnTo>
                  <a:lnTo>
                    <a:pt x="2689525" y="784775"/>
                  </a:lnTo>
                  <a:lnTo>
                    <a:pt x="2792160" y="767046"/>
                  </a:lnTo>
                  <a:lnTo>
                    <a:pt x="2919277" y="744189"/>
                  </a:lnTo>
                  <a:lnTo>
                    <a:pt x="3007486" y="718649"/>
                  </a:lnTo>
                  <a:lnTo>
                    <a:pt x="3098403" y="691643"/>
                  </a:lnTo>
                  <a:lnTo>
                    <a:pt x="3156700" y="667759"/>
                  </a:lnTo>
                  <a:lnTo>
                    <a:pt x="3209866" y="642559"/>
                  </a:lnTo>
                  <a:lnTo>
                    <a:pt x="3250794" y="621416"/>
                  </a:lnTo>
                  <a:lnTo>
                    <a:pt x="3289234" y="595917"/>
                  </a:lnTo>
                  <a:lnTo>
                    <a:pt x="3333696" y="569138"/>
                  </a:lnTo>
                  <a:lnTo>
                    <a:pt x="3361144" y="546393"/>
                  </a:lnTo>
                  <a:lnTo>
                    <a:pt x="3381002" y="525093"/>
                  </a:lnTo>
                  <a:lnTo>
                    <a:pt x="3402881" y="499184"/>
                  </a:lnTo>
                  <a:lnTo>
                    <a:pt x="3410997" y="486002"/>
                  </a:lnTo>
                  <a:lnTo>
                    <a:pt x="3420326" y="464301"/>
                  </a:lnTo>
                  <a:lnTo>
                    <a:pt x="3428452" y="441785"/>
                  </a:lnTo>
                  <a:lnTo>
                    <a:pt x="3438783" y="415466"/>
                  </a:lnTo>
                  <a:lnTo>
                    <a:pt x="3441629" y="402228"/>
                  </a:lnTo>
                  <a:lnTo>
                    <a:pt x="3443230" y="380494"/>
                  </a:lnTo>
                  <a:lnTo>
                    <a:pt x="3442759" y="366365"/>
                  </a:lnTo>
                  <a:lnTo>
                    <a:pt x="3435558" y="341238"/>
                  </a:lnTo>
                  <a:lnTo>
                    <a:pt x="3425981" y="312067"/>
                  </a:lnTo>
                  <a:lnTo>
                    <a:pt x="3414417" y="289434"/>
                  </a:lnTo>
                  <a:lnTo>
                    <a:pt x="3402860" y="276504"/>
                  </a:lnTo>
                  <a:lnTo>
                    <a:pt x="3390103" y="264267"/>
                  </a:lnTo>
                  <a:lnTo>
                    <a:pt x="3372554" y="243097"/>
                  </a:lnTo>
                  <a:lnTo>
                    <a:pt x="3350797" y="221585"/>
                  </a:lnTo>
                  <a:lnTo>
                    <a:pt x="3303651" y="189382"/>
                  </a:lnTo>
                  <a:lnTo>
                    <a:pt x="3257373" y="165858"/>
                  </a:lnTo>
                  <a:lnTo>
                    <a:pt x="3207465" y="142647"/>
                  </a:lnTo>
                  <a:lnTo>
                    <a:pt x="3156842" y="117899"/>
                  </a:lnTo>
                  <a:lnTo>
                    <a:pt x="3085090" y="91553"/>
                  </a:lnTo>
                  <a:lnTo>
                    <a:pt x="2992008" y="66973"/>
                  </a:lnTo>
                  <a:lnTo>
                    <a:pt x="2887442" y="46220"/>
                  </a:lnTo>
                  <a:lnTo>
                    <a:pt x="2784721" y="30496"/>
                  </a:lnTo>
                  <a:lnTo>
                    <a:pt x="2652680" y="12672"/>
                  </a:lnTo>
                  <a:lnTo>
                    <a:pt x="2538493" y="3990"/>
                  </a:lnTo>
                  <a:lnTo>
                    <a:pt x="2437911" y="499"/>
                  </a:lnTo>
                  <a:lnTo>
                    <a:pt x="2299861" y="0"/>
                  </a:lnTo>
                  <a:lnTo>
                    <a:pt x="2199115" y="6005"/>
                  </a:lnTo>
                  <a:lnTo>
                    <a:pt x="2098506" y="12617"/>
                  </a:lnTo>
                  <a:lnTo>
                    <a:pt x="1998416" y="18913"/>
                  </a:lnTo>
                  <a:lnTo>
                    <a:pt x="1903046" y="24571"/>
                  </a:lnTo>
                  <a:lnTo>
                    <a:pt x="1808089" y="34912"/>
                  </a:lnTo>
                  <a:lnTo>
                    <a:pt x="1712788" y="41698"/>
                  </a:lnTo>
                  <a:lnTo>
                    <a:pt x="1622878" y="51195"/>
                  </a:lnTo>
                  <a:lnTo>
                    <a:pt x="1532999" y="59114"/>
                  </a:lnTo>
                  <a:lnTo>
                    <a:pt x="1438367" y="71184"/>
                  </a:lnTo>
                  <a:lnTo>
                    <a:pt x="1348545" y="77770"/>
                  </a:lnTo>
                  <a:lnTo>
                    <a:pt x="1250026" y="89292"/>
                  </a:lnTo>
                  <a:lnTo>
                    <a:pt x="1142705" y="101891"/>
                  </a:lnTo>
                  <a:lnTo>
                    <a:pt x="1035987" y="112454"/>
                  </a:lnTo>
                  <a:lnTo>
                    <a:pt x="931563" y="121263"/>
                  </a:lnTo>
                  <a:lnTo>
                    <a:pt x="790993" y="129185"/>
                  </a:lnTo>
                  <a:lnTo>
                    <a:pt x="685618" y="138903"/>
                  </a:lnTo>
                  <a:lnTo>
                    <a:pt x="582194" y="145368"/>
                  </a:lnTo>
                  <a:lnTo>
                    <a:pt x="470368" y="157391"/>
                  </a:lnTo>
                  <a:lnTo>
                    <a:pt x="370435" y="166005"/>
                  </a:lnTo>
                  <a:lnTo>
                    <a:pt x="268666" y="181078"/>
                  </a:lnTo>
                  <a:lnTo>
                    <a:pt x="232294" y="186545"/>
                  </a:lnTo>
                  <a:lnTo>
                    <a:pt x="169720" y="205754"/>
                  </a:lnTo>
                  <a:lnTo>
                    <a:pt x="103195" y="233650"/>
                  </a:lnTo>
                  <a:lnTo>
                    <a:pt x="79758" y="243809"/>
                  </a:lnTo>
                  <a:lnTo>
                    <a:pt x="58441" y="257356"/>
                  </a:lnTo>
                  <a:lnTo>
                    <a:pt x="35677" y="283696"/>
                  </a:lnTo>
                  <a:lnTo>
                    <a:pt x="27523" y="292863"/>
                  </a:lnTo>
                  <a:lnTo>
                    <a:pt x="21078" y="302582"/>
                  </a:lnTo>
                  <a:lnTo>
                    <a:pt x="17648" y="312546"/>
                  </a:lnTo>
                  <a:lnTo>
                    <a:pt x="15278" y="322619"/>
                  </a:lnTo>
                  <a:lnTo>
                    <a:pt x="10029" y="337810"/>
                  </a:lnTo>
                  <a:lnTo>
                    <a:pt x="7646" y="363192"/>
                  </a:lnTo>
                  <a:lnTo>
                    <a:pt x="2120" y="388746"/>
                  </a:lnTo>
                  <a:lnTo>
                    <a:pt x="150" y="413236"/>
                  </a:lnTo>
                  <a:lnTo>
                    <a:pt x="727" y="427483"/>
                  </a:lnTo>
                  <a:lnTo>
                    <a:pt x="4119" y="448938"/>
                  </a:lnTo>
                  <a:lnTo>
                    <a:pt x="796" y="474045"/>
                  </a:lnTo>
                  <a:lnTo>
                    <a:pt x="0" y="495754"/>
                  </a:lnTo>
                  <a:lnTo>
                    <a:pt x="660" y="509878"/>
                  </a:lnTo>
                  <a:lnTo>
                    <a:pt x="5725" y="535001"/>
                  </a:lnTo>
                  <a:lnTo>
                    <a:pt x="6823" y="556712"/>
                  </a:lnTo>
                  <a:lnTo>
                    <a:pt x="7148" y="579232"/>
                  </a:lnTo>
                  <a:lnTo>
                    <a:pt x="8071" y="594393"/>
                  </a:lnTo>
                  <a:lnTo>
                    <a:pt x="13350" y="616361"/>
                  </a:lnTo>
                  <a:lnTo>
                    <a:pt x="25195" y="648731"/>
                  </a:lnTo>
                  <a:lnTo>
                    <a:pt x="36769" y="670843"/>
                  </a:lnTo>
                  <a:lnTo>
                    <a:pt x="50613" y="694988"/>
                  </a:lnTo>
                  <a:lnTo>
                    <a:pt x="73679" y="721205"/>
                  </a:lnTo>
                  <a:lnTo>
                    <a:pt x="107061" y="748971"/>
                  </a:lnTo>
                  <a:lnTo>
                    <a:pt x="136966" y="773607"/>
                  </a:lnTo>
                  <a:lnTo>
                    <a:pt x="177201" y="799929"/>
                  </a:lnTo>
                  <a:lnTo>
                    <a:pt x="206079" y="813010"/>
                  </a:lnTo>
                  <a:lnTo>
                    <a:pt x="246178" y="829060"/>
                  </a:lnTo>
                  <a:lnTo>
                    <a:pt x="350185" y="8838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SMARTInkAnnotation311"/>
            <p:cNvSpPr/>
            <p:nvPr/>
          </p:nvSpPr>
          <p:spPr>
            <a:xfrm>
              <a:off x="1605960" y="2659680"/>
              <a:ext cx="248760" cy="27684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248811" h="277106">
                  <a:moveTo>
                    <a:pt x="25063" y="45367"/>
                  </a:moveTo>
                  <a:lnTo>
                    <a:pt x="29109" y="45367"/>
                  </a:lnTo>
                  <a:lnTo>
                    <a:pt x="30300" y="44520"/>
                  </a:lnTo>
                  <a:lnTo>
                    <a:pt x="31095" y="43109"/>
                  </a:lnTo>
                  <a:lnTo>
                    <a:pt x="32369" y="38806"/>
                  </a:lnTo>
                  <a:lnTo>
                    <a:pt x="36635" y="34016"/>
                  </a:lnTo>
                  <a:lnTo>
                    <a:pt x="43188" y="29598"/>
                  </a:lnTo>
                  <a:lnTo>
                    <a:pt x="47307" y="27234"/>
                  </a:lnTo>
                  <a:lnTo>
                    <a:pt x="52592" y="24812"/>
                  </a:lnTo>
                  <a:lnTo>
                    <a:pt x="58656" y="22350"/>
                  </a:lnTo>
                  <a:lnTo>
                    <a:pt x="65238" y="19862"/>
                  </a:lnTo>
                  <a:lnTo>
                    <a:pt x="79325" y="14840"/>
                  </a:lnTo>
                  <a:lnTo>
                    <a:pt x="86638" y="12316"/>
                  </a:lnTo>
                  <a:lnTo>
                    <a:pt x="94900" y="10633"/>
                  </a:lnTo>
                  <a:lnTo>
                    <a:pt x="103794" y="9511"/>
                  </a:lnTo>
                  <a:lnTo>
                    <a:pt x="113111" y="8763"/>
                  </a:lnTo>
                  <a:lnTo>
                    <a:pt x="122708" y="7418"/>
                  </a:lnTo>
                  <a:lnTo>
                    <a:pt x="132493" y="5674"/>
                  </a:lnTo>
                  <a:lnTo>
                    <a:pt x="142403" y="3665"/>
                  </a:lnTo>
                  <a:lnTo>
                    <a:pt x="152397" y="2325"/>
                  </a:lnTo>
                  <a:lnTo>
                    <a:pt x="162446" y="1432"/>
                  </a:lnTo>
                  <a:lnTo>
                    <a:pt x="172531" y="837"/>
                  </a:lnTo>
                  <a:lnTo>
                    <a:pt x="190511" y="176"/>
                  </a:lnTo>
                  <a:lnTo>
                    <a:pt x="198862" y="0"/>
                  </a:lnTo>
                  <a:lnTo>
                    <a:pt x="206969" y="729"/>
                  </a:lnTo>
                  <a:lnTo>
                    <a:pt x="214914" y="2062"/>
                  </a:lnTo>
                  <a:lnTo>
                    <a:pt x="222750" y="3797"/>
                  </a:lnTo>
                  <a:lnTo>
                    <a:pt x="228821" y="5800"/>
                  </a:lnTo>
                  <a:lnTo>
                    <a:pt x="233715" y="7982"/>
                  </a:lnTo>
                  <a:lnTo>
                    <a:pt x="241411" y="12665"/>
                  </a:lnTo>
                  <a:lnTo>
                    <a:pt x="247653" y="17568"/>
                  </a:lnTo>
                  <a:lnTo>
                    <a:pt x="248810" y="20908"/>
                  </a:lnTo>
                  <a:lnTo>
                    <a:pt x="248734" y="24828"/>
                  </a:lnTo>
                  <a:lnTo>
                    <a:pt x="247837" y="29134"/>
                  </a:lnTo>
                  <a:lnTo>
                    <a:pt x="245546" y="34545"/>
                  </a:lnTo>
                  <a:lnTo>
                    <a:pt x="242325" y="40692"/>
                  </a:lnTo>
                  <a:lnTo>
                    <a:pt x="238484" y="47330"/>
                  </a:lnTo>
                  <a:lnTo>
                    <a:pt x="232537" y="53449"/>
                  </a:lnTo>
                  <a:lnTo>
                    <a:pt x="225186" y="59222"/>
                  </a:lnTo>
                  <a:lnTo>
                    <a:pt x="216898" y="64763"/>
                  </a:lnTo>
                  <a:lnTo>
                    <a:pt x="208833" y="71844"/>
                  </a:lnTo>
                  <a:lnTo>
                    <a:pt x="200917" y="79952"/>
                  </a:lnTo>
                  <a:lnTo>
                    <a:pt x="193099" y="88744"/>
                  </a:lnTo>
                  <a:lnTo>
                    <a:pt x="183654" y="97145"/>
                  </a:lnTo>
                  <a:lnTo>
                    <a:pt x="173123" y="105286"/>
                  </a:lnTo>
                  <a:lnTo>
                    <a:pt x="161870" y="113253"/>
                  </a:lnTo>
                  <a:lnTo>
                    <a:pt x="150134" y="121104"/>
                  </a:lnTo>
                  <a:lnTo>
                    <a:pt x="125806" y="136601"/>
                  </a:lnTo>
                  <a:lnTo>
                    <a:pt x="88309" y="159606"/>
                  </a:lnTo>
                  <a:lnTo>
                    <a:pt x="77387" y="167246"/>
                  </a:lnTo>
                  <a:lnTo>
                    <a:pt x="67566" y="174880"/>
                  </a:lnTo>
                  <a:lnTo>
                    <a:pt x="58478" y="182509"/>
                  </a:lnTo>
                  <a:lnTo>
                    <a:pt x="49880" y="190982"/>
                  </a:lnTo>
                  <a:lnTo>
                    <a:pt x="41608" y="200017"/>
                  </a:lnTo>
                  <a:lnTo>
                    <a:pt x="33553" y="209427"/>
                  </a:lnTo>
                  <a:lnTo>
                    <a:pt x="26489" y="217394"/>
                  </a:lnTo>
                  <a:lnTo>
                    <a:pt x="14126" y="230761"/>
                  </a:lnTo>
                  <a:lnTo>
                    <a:pt x="1691" y="243761"/>
                  </a:lnTo>
                  <a:lnTo>
                    <a:pt x="168" y="247903"/>
                  </a:lnTo>
                  <a:lnTo>
                    <a:pt x="0" y="252358"/>
                  </a:lnTo>
                  <a:lnTo>
                    <a:pt x="734" y="257021"/>
                  </a:lnTo>
                  <a:lnTo>
                    <a:pt x="2917" y="260976"/>
                  </a:lnTo>
                  <a:lnTo>
                    <a:pt x="9858" y="267629"/>
                  </a:lnTo>
                  <a:lnTo>
                    <a:pt x="14926" y="270588"/>
                  </a:lnTo>
                  <a:lnTo>
                    <a:pt x="20845" y="273408"/>
                  </a:lnTo>
                  <a:lnTo>
                    <a:pt x="27331" y="276135"/>
                  </a:lnTo>
                  <a:lnTo>
                    <a:pt x="35042" y="277105"/>
                  </a:lnTo>
                  <a:lnTo>
                    <a:pt x="43569" y="276905"/>
                  </a:lnTo>
                  <a:lnTo>
                    <a:pt x="52640" y="275926"/>
                  </a:lnTo>
                  <a:lnTo>
                    <a:pt x="62921" y="275273"/>
                  </a:lnTo>
                  <a:lnTo>
                    <a:pt x="74008" y="274837"/>
                  </a:lnTo>
                  <a:lnTo>
                    <a:pt x="85633" y="274547"/>
                  </a:lnTo>
                  <a:lnTo>
                    <a:pt x="97617" y="273507"/>
                  </a:lnTo>
                  <a:lnTo>
                    <a:pt x="109839" y="271967"/>
                  </a:lnTo>
                  <a:lnTo>
                    <a:pt x="163917" y="263412"/>
                  </a:lnTo>
                  <a:lnTo>
                    <a:pt x="176052" y="261003"/>
                  </a:lnTo>
                  <a:lnTo>
                    <a:pt x="186683" y="258551"/>
                  </a:lnTo>
                  <a:lnTo>
                    <a:pt x="196310" y="256070"/>
                  </a:lnTo>
                  <a:lnTo>
                    <a:pt x="205267" y="254415"/>
                  </a:lnTo>
                  <a:lnTo>
                    <a:pt x="213779" y="253313"/>
                  </a:lnTo>
                  <a:lnTo>
                    <a:pt x="238423" y="251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MARTInkAnnotation312"/>
            <p:cNvSpPr/>
            <p:nvPr/>
          </p:nvSpPr>
          <p:spPr>
            <a:xfrm>
              <a:off x="2000520" y="2666880"/>
              <a:ext cx="262800" cy="26532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63104" h="265413">
                  <a:moveTo>
                    <a:pt x="118323" y="0"/>
                  </a:moveTo>
                  <a:lnTo>
                    <a:pt x="118323" y="21957"/>
                  </a:lnTo>
                  <a:lnTo>
                    <a:pt x="117476" y="26491"/>
                  </a:lnTo>
                  <a:lnTo>
                    <a:pt x="116065" y="31208"/>
                  </a:lnTo>
                  <a:lnTo>
                    <a:pt x="114278" y="36045"/>
                  </a:lnTo>
                  <a:lnTo>
                    <a:pt x="112239" y="40963"/>
                  </a:lnTo>
                  <a:lnTo>
                    <a:pt x="110034" y="45936"/>
                  </a:lnTo>
                  <a:lnTo>
                    <a:pt x="107717" y="50944"/>
                  </a:lnTo>
                  <a:lnTo>
                    <a:pt x="104479" y="56823"/>
                  </a:lnTo>
                  <a:lnTo>
                    <a:pt x="100627" y="63282"/>
                  </a:lnTo>
                  <a:lnTo>
                    <a:pt x="96366" y="70128"/>
                  </a:lnTo>
                  <a:lnTo>
                    <a:pt x="92678" y="76385"/>
                  </a:lnTo>
                  <a:lnTo>
                    <a:pt x="89373" y="82250"/>
                  </a:lnTo>
                  <a:lnTo>
                    <a:pt x="86323" y="87854"/>
                  </a:lnTo>
                  <a:lnTo>
                    <a:pt x="82596" y="94129"/>
                  </a:lnTo>
                  <a:lnTo>
                    <a:pt x="73940" y="107875"/>
                  </a:lnTo>
                  <a:lnTo>
                    <a:pt x="44558" y="152505"/>
                  </a:lnTo>
                  <a:lnTo>
                    <a:pt x="40359" y="160090"/>
                  </a:lnTo>
                  <a:lnTo>
                    <a:pt x="36714" y="167686"/>
                  </a:lnTo>
                  <a:lnTo>
                    <a:pt x="33437" y="175291"/>
                  </a:lnTo>
                  <a:lnTo>
                    <a:pt x="29559" y="182901"/>
                  </a:lnTo>
                  <a:lnTo>
                    <a:pt x="25280" y="190514"/>
                  </a:lnTo>
                  <a:lnTo>
                    <a:pt x="20735" y="198130"/>
                  </a:lnTo>
                  <a:lnTo>
                    <a:pt x="16857" y="204900"/>
                  </a:lnTo>
                  <a:lnTo>
                    <a:pt x="10291" y="216938"/>
                  </a:lnTo>
                  <a:lnTo>
                    <a:pt x="8202" y="221672"/>
                  </a:lnTo>
                  <a:lnTo>
                    <a:pt x="5880" y="229190"/>
                  </a:lnTo>
                  <a:lnTo>
                    <a:pt x="2591" y="235353"/>
                  </a:lnTo>
                  <a:lnTo>
                    <a:pt x="528" y="238183"/>
                  </a:lnTo>
                  <a:lnTo>
                    <a:pt x="0" y="241762"/>
                  </a:lnTo>
                  <a:lnTo>
                    <a:pt x="494" y="245841"/>
                  </a:lnTo>
                  <a:lnTo>
                    <a:pt x="3326" y="256465"/>
                  </a:lnTo>
                  <a:lnTo>
                    <a:pt x="5971" y="260176"/>
                  </a:lnTo>
                  <a:lnTo>
                    <a:pt x="7862" y="262350"/>
                  </a:lnTo>
                  <a:lnTo>
                    <a:pt x="10815" y="263800"/>
                  </a:lnTo>
                  <a:lnTo>
                    <a:pt x="18613" y="265412"/>
                  </a:lnTo>
                  <a:lnTo>
                    <a:pt x="23063" y="264994"/>
                  </a:lnTo>
                  <a:lnTo>
                    <a:pt x="27723" y="263870"/>
                  </a:lnTo>
                  <a:lnTo>
                    <a:pt x="32523" y="262273"/>
                  </a:lnTo>
                  <a:lnTo>
                    <a:pt x="38263" y="261209"/>
                  </a:lnTo>
                  <a:lnTo>
                    <a:pt x="44630" y="260499"/>
                  </a:lnTo>
                  <a:lnTo>
                    <a:pt x="51414" y="260026"/>
                  </a:lnTo>
                  <a:lnTo>
                    <a:pt x="59324" y="258864"/>
                  </a:lnTo>
                  <a:lnTo>
                    <a:pt x="67984" y="257243"/>
                  </a:lnTo>
                  <a:lnTo>
                    <a:pt x="86637" y="253184"/>
                  </a:lnTo>
                  <a:lnTo>
                    <a:pt x="136279" y="241193"/>
                  </a:lnTo>
                  <a:lnTo>
                    <a:pt x="145534" y="239535"/>
                  </a:lnTo>
                  <a:lnTo>
                    <a:pt x="154244" y="238430"/>
                  </a:lnTo>
                  <a:lnTo>
                    <a:pt x="162590" y="237694"/>
                  </a:lnTo>
                  <a:lnTo>
                    <a:pt x="170694" y="237203"/>
                  </a:lnTo>
                  <a:lnTo>
                    <a:pt x="186473" y="236657"/>
                  </a:lnTo>
                  <a:lnTo>
                    <a:pt x="194236" y="235665"/>
                  </a:lnTo>
                  <a:lnTo>
                    <a:pt x="201952" y="234156"/>
                  </a:lnTo>
                  <a:lnTo>
                    <a:pt x="209635" y="232305"/>
                  </a:lnTo>
                  <a:lnTo>
                    <a:pt x="216451" y="231070"/>
                  </a:lnTo>
                  <a:lnTo>
                    <a:pt x="222689" y="230247"/>
                  </a:lnTo>
                  <a:lnTo>
                    <a:pt x="228540" y="229698"/>
                  </a:lnTo>
                  <a:lnTo>
                    <a:pt x="234135" y="229332"/>
                  </a:lnTo>
                  <a:lnTo>
                    <a:pt x="239558" y="229088"/>
                  </a:lnTo>
                  <a:lnTo>
                    <a:pt x="244866" y="228926"/>
                  </a:lnTo>
                  <a:lnTo>
                    <a:pt x="249252" y="227970"/>
                  </a:lnTo>
                  <a:lnTo>
                    <a:pt x="253022" y="226487"/>
                  </a:lnTo>
                  <a:lnTo>
                    <a:pt x="263103" y="2209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SMARTInkAnnotation313"/>
            <p:cNvSpPr/>
            <p:nvPr/>
          </p:nvSpPr>
          <p:spPr>
            <a:xfrm>
              <a:off x="2545560" y="2849760"/>
              <a:ext cx="205560" cy="140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5741" h="14174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7" y="6032"/>
                  </a:lnTo>
                  <a:lnTo>
                    <a:pt x="14651" y="6561"/>
                  </a:lnTo>
                  <a:lnTo>
                    <a:pt x="19081" y="6914"/>
                  </a:lnTo>
                  <a:lnTo>
                    <a:pt x="23727" y="7149"/>
                  </a:lnTo>
                  <a:lnTo>
                    <a:pt x="28518" y="7306"/>
                  </a:lnTo>
                  <a:lnTo>
                    <a:pt x="51442" y="7527"/>
                  </a:lnTo>
                  <a:lnTo>
                    <a:pt x="59695" y="8405"/>
                  </a:lnTo>
                  <a:lnTo>
                    <a:pt x="67736" y="9837"/>
                  </a:lnTo>
                  <a:lnTo>
                    <a:pt x="75638" y="11638"/>
                  </a:lnTo>
                  <a:lnTo>
                    <a:pt x="85138" y="12839"/>
                  </a:lnTo>
                  <a:lnTo>
                    <a:pt x="95706" y="13639"/>
                  </a:lnTo>
                  <a:lnTo>
                    <a:pt x="106984" y="14173"/>
                  </a:lnTo>
                  <a:lnTo>
                    <a:pt x="117889" y="13682"/>
                  </a:lnTo>
                  <a:lnTo>
                    <a:pt x="128546" y="12508"/>
                  </a:lnTo>
                  <a:lnTo>
                    <a:pt x="139037" y="10879"/>
                  </a:lnTo>
                  <a:lnTo>
                    <a:pt x="149418" y="9793"/>
                  </a:lnTo>
                  <a:lnTo>
                    <a:pt x="159726" y="9069"/>
                  </a:lnTo>
                  <a:lnTo>
                    <a:pt x="178516" y="8264"/>
                  </a:lnTo>
                  <a:lnTo>
                    <a:pt x="20574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SMARTInkAnnotation314"/>
            <p:cNvSpPr/>
            <p:nvPr/>
          </p:nvSpPr>
          <p:spPr>
            <a:xfrm>
              <a:off x="2873160" y="2712600"/>
              <a:ext cx="270360" cy="2361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70672" h="236212">
                  <a:moveTo>
                    <a:pt x="0" y="22851"/>
                  </a:moveTo>
                  <a:lnTo>
                    <a:pt x="4045" y="22851"/>
                  </a:lnTo>
                  <a:lnTo>
                    <a:pt x="6084" y="22004"/>
                  </a:lnTo>
                  <a:lnTo>
                    <a:pt x="12998" y="17614"/>
                  </a:lnTo>
                  <a:lnTo>
                    <a:pt x="17912" y="16290"/>
                  </a:lnTo>
                  <a:lnTo>
                    <a:pt x="22102" y="15937"/>
                  </a:lnTo>
                  <a:lnTo>
                    <a:pt x="27435" y="15702"/>
                  </a:lnTo>
                  <a:lnTo>
                    <a:pt x="33530" y="15545"/>
                  </a:lnTo>
                  <a:lnTo>
                    <a:pt x="40134" y="14594"/>
                  </a:lnTo>
                  <a:lnTo>
                    <a:pt x="47076" y="13113"/>
                  </a:lnTo>
                  <a:lnTo>
                    <a:pt x="54244" y="11279"/>
                  </a:lnTo>
                  <a:lnTo>
                    <a:pt x="62410" y="10056"/>
                  </a:lnTo>
                  <a:lnTo>
                    <a:pt x="71240" y="9241"/>
                  </a:lnTo>
                  <a:lnTo>
                    <a:pt x="80513" y="8698"/>
                  </a:lnTo>
                  <a:lnTo>
                    <a:pt x="97591" y="8094"/>
                  </a:lnTo>
                  <a:lnTo>
                    <a:pt x="105700" y="7933"/>
                  </a:lnTo>
                  <a:lnTo>
                    <a:pt x="115340" y="6979"/>
                  </a:lnTo>
                  <a:lnTo>
                    <a:pt x="126000" y="5497"/>
                  </a:lnTo>
                  <a:lnTo>
                    <a:pt x="137340" y="3661"/>
                  </a:lnTo>
                  <a:lnTo>
                    <a:pt x="148287" y="2438"/>
                  </a:lnTo>
                  <a:lnTo>
                    <a:pt x="158971" y="1622"/>
                  </a:lnTo>
                  <a:lnTo>
                    <a:pt x="169481" y="1079"/>
                  </a:lnTo>
                  <a:lnTo>
                    <a:pt x="190190" y="474"/>
                  </a:lnTo>
                  <a:lnTo>
                    <a:pt x="251840" y="10"/>
                  </a:lnTo>
                  <a:lnTo>
                    <a:pt x="259532" y="0"/>
                  </a:lnTo>
                  <a:lnTo>
                    <a:pt x="261921" y="843"/>
                  </a:lnTo>
                  <a:lnTo>
                    <a:pt x="263514" y="2253"/>
                  </a:lnTo>
                  <a:lnTo>
                    <a:pt x="264576" y="4039"/>
                  </a:lnTo>
                  <a:lnTo>
                    <a:pt x="266131" y="5230"/>
                  </a:lnTo>
                  <a:lnTo>
                    <a:pt x="268014" y="6023"/>
                  </a:lnTo>
                  <a:lnTo>
                    <a:pt x="270116" y="6553"/>
                  </a:lnTo>
                  <a:lnTo>
                    <a:pt x="270671" y="7752"/>
                  </a:lnTo>
                  <a:lnTo>
                    <a:pt x="270194" y="9399"/>
                  </a:lnTo>
                  <a:lnTo>
                    <a:pt x="269029" y="11343"/>
                  </a:lnTo>
                  <a:lnTo>
                    <a:pt x="267736" y="15761"/>
                  </a:lnTo>
                  <a:lnTo>
                    <a:pt x="267390" y="18124"/>
                  </a:lnTo>
                  <a:lnTo>
                    <a:pt x="264749" y="25266"/>
                  </a:lnTo>
                  <a:lnTo>
                    <a:pt x="262859" y="29541"/>
                  </a:lnTo>
                  <a:lnTo>
                    <a:pt x="259906" y="34085"/>
                  </a:lnTo>
                  <a:lnTo>
                    <a:pt x="256244" y="38807"/>
                  </a:lnTo>
                  <a:lnTo>
                    <a:pt x="252109" y="43648"/>
                  </a:lnTo>
                  <a:lnTo>
                    <a:pt x="248506" y="48569"/>
                  </a:lnTo>
                  <a:lnTo>
                    <a:pt x="245258" y="53543"/>
                  </a:lnTo>
                  <a:lnTo>
                    <a:pt x="242245" y="58552"/>
                  </a:lnTo>
                  <a:lnTo>
                    <a:pt x="237697" y="63585"/>
                  </a:lnTo>
                  <a:lnTo>
                    <a:pt x="232124" y="68634"/>
                  </a:lnTo>
                  <a:lnTo>
                    <a:pt x="225870" y="73693"/>
                  </a:lnTo>
                  <a:lnTo>
                    <a:pt x="220853" y="79606"/>
                  </a:lnTo>
                  <a:lnTo>
                    <a:pt x="216662" y="86088"/>
                  </a:lnTo>
                  <a:lnTo>
                    <a:pt x="206719" y="105088"/>
                  </a:lnTo>
                  <a:lnTo>
                    <a:pt x="203852" y="110695"/>
                  </a:lnTo>
                  <a:lnTo>
                    <a:pt x="200248" y="116974"/>
                  </a:lnTo>
                  <a:lnTo>
                    <a:pt x="196153" y="123700"/>
                  </a:lnTo>
                  <a:lnTo>
                    <a:pt x="191729" y="130723"/>
                  </a:lnTo>
                  <a:lnTo>
                    <a:pt x="187932" y="137946"/>
                  </a:lnTo>
                  <a:lnTo>
                    <a:pt x="184555" y="145301"/>
                  </a:lnTo>
                  <a:lnTo>
                    <a:pt x="181456" y="152744"/>
                  </a:lnTo>
                  <a:lnTo>
                    <a:pt x="179391" y="159400"/>
                  </a:lnTo>
                  <a:lnTo>
                    <a:pt x="178014" y="165530"/>
                  </a:lnTo>
                  <a:lnTo>
                    <a:pt x="177097" y="171311"/>
                  </a:lnTo>
                  <a:lnTo>
                    <a:pt x="176484" y="176858"/>
                  </a:lnTo>
                  <a:lnTo>
                    <a:pt x="176076" y="182249"/>
                  </a:lnTo>
                  <a:lnTo>
                    <a:pt x="175804" y="187536"/>
                  </a:lnTo>
                  <a:lnTo>
                    <a:pt x="174776" y="192755"/>
                  </a:lnTo>
                  <a:lnTo>
                    <a:pt x="173245" y="197927"/>
                  </a:lnTo>
                  <a:lnTo>
                    <a:pt x="171376" y="203068"/>
                  </a:lnTo>
                  <a:lnTo>
                    <a:pt x="170131" y="208189"/>
                  </a:lnTo>
                  <a:lnTo>
                    <a:pt x="169301" y="213296"/>
                  </a:lnTo>
                  <a:lnTo>
                    <a:pt x="168747" y="218395"/>
                  </a:lnTo>
                  <a:lnTo>
                    <a:pt x="167532" y="222640"/>
                  </a:lnTo>
                  <a:lnTo>
                    <a:pt x="163923" y="229615"/>
                  </a:lnTo>
                  <a:lnTo>
                    <a:pt x="160020" y="2362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SMARTInkAnnotation315"/>
            <p:cNvSpPr/>
            <p:nvPr/>
          </p:nvSpPr>
          <p:spPr>
            <a:xfrm>
              <a:off x="2918880" y="2842200"/>
              <a:ext cx="312120" cy="4572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12421" h="45721">
                  <a:moveTo>
                    <a:pt x="0" y="45720"/>
                  </a:moveTo>
                  <a:lnTo>
                    <a:pt x="17167" y="45720"/>
                  </a:lnTo>
                  <a:lnTo>
                    <a:pt x="21605" y="44873"/>
                  </a:lnTo>
                  <a:lnTo>
                    <a:pt x="27103" y="43462"/>
                  </a:lnTo>
                  <a:lnTo>
                    <a:pt x="33309" y="41675"/>
                  </a:lnTo>
                  <a:lnTo>
                    <a:pt x="39986" y="40483"/>
                  </a:lnTo>
                  <a:lnTo>
                    <a:pt x="46977" y="39689"/>
                  </a:lnTo>
                  <a:lnTo>
                    <a:pt x="54178" y="39159"/>
                  </a:lnTo>
                  <a:lnTo>
                    <a:pt x="62365" y="37960"/>
                  </a:lnTo>
                  <a:lnTo>
                    <a:pt x="71210" y="36313"/>
                  </a:lnTo>
                  <a:lnTo>
                    <a:pt x="80493" y="34369"/>
                  </a:lnTo>
                  <a:lnTo>
                    <a:pt x="90916" y="33073"/>
                  </a:lnTo>
                  <a:lnTo>
                    <a:pt x="102097" y="32209"/>
                  </a:lnTo>
                  <a:lnTo>
                    <a:pt x="113785" y="31632"/>
                  </a:lnTo>
                  <a:lnTo>
                    <a:pt x="124963" y="30402"/>
                  </a:lnTo>
                  <a:lnTo>
                    <a:pt x="135802" y="28734"/>
                  </a:lnTo>
                  <a:lnTo>
                    <a:pt x="146415" y="26776"/>
                  </a:lnTo>
                  <a:lnTo>
                    <a:pt x="156877" y="25471"/>
                  </a:lnTo>
                  <a:lnTo>
                    <a:pt x="167238" y="24601"/>
                  </a:lnTo>
                  <a:lnTo>
                    <a:pt x="177532" y="24021"/>
                  </a:lnTo>
                  <a:lnTo>
                    <a:pt x="186935" y="22787"/>
                  </a:lnTo>
                  <a:lnTo>
                    <a:pt x="195743" y="21118"/>
                  </a:lnTo>
                  <a:lnTo>
                    <a:pt x="204155" y="19159"/>
                  </a:lnTo>
                  <a:lnTo>
                    <a:pt x="213150" y="17853"/>
                  </a:lnTo>
                  <a:lnTo>
                    <a:pt x="222533" y="16982"/>
                  </a:lnTo>
                  <a:lnTo>
                    <a:pt x="232176" y="16401"/>
                  </a:lnTo>
                  <a:lnTo>
                    <a:pt x="240297" y="15168"/>
                  </a:lnTo>
                  <a:lnTo>
                    <a:pt x="247405" y="13498"/>
                  </a:lnTo>
                  <a:lnTo>
                    <a:pt x="253836" y="11539"/>
                  </a:lnTo>
                  <a:lnTo>
                    <a:pt x="260665" y="10233"/>
                  </a:lnTo>
                  <a:lnTo>
                    <a:pt x="267756" y="9362"/>
                  </a:lnTo>
                  <a:lnTo>
                    <a:pt x="275024" y="8781"/>
                  </a:lnTo>
                  <a:lnTo>
                    <a:pt x="281563" y="7548"/>
                  </a:lnTo>
                  <a:lnTo>
                    <a:pt x="287615" y="5879"/>
                  </a:lnTo>
                  <a:lnTo>
                    <a:pt x="293343" y="3919"/>
                  </a:lnTo>
                  <a:lnTo>
                    <a:pt x="298009" y="2613"/>
                  </a:lnTo>
                  <a:lnTo>
                    <a:pt x="301966" y="1742"/>
                  </a:lnTo>
                  <a:lnTo>
                    <a:pt x="3124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SMARTInkAnnotation316"/>
            <p:cNvSpPr/>
            <p:nvPr/>
          </p:nvSpPr>
          <p:spPr>
            <a:xfrm>
              <a:off x="3429360" y="2788920"/>
              <a:ext cx="228600" cy="15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8601" h="15241">
                  <a:moveTo>
                    <a:pt x="0" y="15240"/>
                  </a:moveTo>
                  <a:lnTo>
                    <a:pt x="4045" y="15240"/>
                  </a:lnTo>
                  <a:lnTo>
                    <a:pt x="6083" y="14393"/>
                  </a:lnTo>
                  <a:lnTo>
                    <a:pt x="8289" y="12982"/>
                  </a:lnTo>
                  <a:lnTo>
                    <a:pt x="10606" y="11195"/>
                  </a:lnTo>
                  <a:lnTo>
                    <a:pt x="12997" y="10003"/>
                  </a:lnTo>
                  <a:lnTo>
                    <a:pt x="15438" y="9209"/>
                  </a:lnTo>
                  <a:lnTo>
                    <a:pt x="17912" y="8679"/>
                  </a:lnTo>
                  <a:lnTo>
                    <a:pt x="21255" y="8326"/>
                  </a:lnTo>
                  <a:lnTo>
                    <a:pt x="25176" y="8091"/>
                  </a:lnTo>
                  <a:lnTo>
                    <a:pt x="29484" y="7934"/>
                  </a:lnTo>
                  <a:lnTo>
                    <a:pt x="34896" y="6983"/>
                  </a:lnTo>
                  <a:lnTo>
                    <a:pt x="41044" y="5502"/>
                  </a:lnTo>
                  <a:lnTo>
                    <a:pt x="47683" y="3668"/>
                  </a:lnTo>
                  <a:lnTo>
                    <a:pt x="55495" y="2445"/>
                  </a:lnTo>
                  <a:lnTo>
                    <a:pt x="64090" y="1630"/>
                  </a:lnTo>
                  <a:lnTo>
                    <a:pt x="73207" y="1087"/>
                  </a:lnTo>
                  <a:lnTo>
                    <a:pt x="92368" y="483"/>
                  </a:lnTo>
                  <a:lnTo>
                    <a:pt x="142362" y="64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SMARTInkAnnotation317"/>
            <p:cNvSpPr/>
            <p:nvPr/>
          </p:nvSpPr>
          <p:spPr>
            <a:xfrm>
              <a:off x="3483000" y="2872800"/>
              <a:ext cx="228240" cy="30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8288" h="30379">
                  <a:moveTo>
                    <a:pt x="7306" y="7620"/>
                  </a:moveTo>
                  <a:lnTo>
                    <a:pt x="3261" y="7620"/>
                  </a:lnTo>
                  <a:lnTo>
                    <a:pt x="2069" y="8467"/>
                  </a:lnTo>
                  <a:lnTo>
                    <a:pt x="1275" y="9878"/>
                  </a:lnTo>
                  <a:lnTo>
                    <a:pt x="0" y="14181"/>
                  </a:lnTo>
                  <a:lnTo>
                    <a:pt x="742" y="15380"/>
                  </a:lnTo>
                  <a:lnTo>
                    <a:pt x="2084" y="17027"/>
                  </a:lnTo>
                  <a:lnTo>
                    <a:pt x="3824" y="18972"/>
                  </a:lnTo>
                  <a:lnTo>
                    <a:pt x="5832" y="20268"/>
                  </a:lnTo>
                  <a:lnTo>
                    <a:pt x="8016" y="21132"/>
                  </a:lnTo>
                  <a:lnTo>
                    <a:pt x="10319" y="21708"/>
                  </a:lnTo>
                  <a:lnTo>
                    <a:pt x="12702" y="22939"/>
                  </a:lnTo>
                  <a:lnTo>
                    <a:pt x="15136" y="24606"/>
                  </a:lnTo>
                  <a:lnTo>
                    <a:pt x="17606" y="26564"/>
                  </a:lnTo>
                  <a:lnTo>
                    <a:pt x="20946" y="27869"/>
                  </a:lnTo>
                  <a:lnTo>
                    <a:pt x="24866" y="28740"/>
                  </a:lnTo>
                  <a:lnTo>
                    <a:pt x="29173" y="29320"/>
                  </a:lnTo>
                  <a:lnTo>
                    <a:pt x="34584" y="29706"/>
                  </a:lnTo>
                  <a:lnTo>
                    <a:pt x="40731" y="29964"/>
                  </a:lnTo>
                  <a:lnTo>
                    <a:pt x="54335" y="30251"/>
                  </a:lnTo>
                  <a:lnTo>
                    <a:pt x="68848" y="30378"/>
                  </a:lnTo>
                  <a:lnTo>
                    <a:pt x="77121" y="29565"/>
                  </a:lnTo>
                  <a:lnTo>
                    <a:pt x="86023" y="28177"/>
                  </a:lnTo>
                  <a:lnTo>
                    <a:pt x="95343" y="26405"/>
                  </a:lnTo>
                  <a:lnTo>
                    <a:pt x="104944" y="25223"/>
                  </a:lnTo>
                  <a:lnTo>
                    <a:pt x="114732" y="24435"/>
                  </a:lnTo>
                  <a:lnTo>
                    <a:pt x="124643" y="23910"/>
                  </a:lnTo>
                  <a:lnTo>
                    <a:pt x="134638" y="22714"/>
                  </a:lnTo>
                  <a:lnTo>
                    <a:pt x="144687" y="21069"/>
                  </a:lnTo>
                  <a:lnTo>
                    <a:pt x="154774" y="19126"/>
                  </a:lnTo>
                  <a:lnTo>
                    <a:pt x="164038" y="16984"/>
                  </a:lnTo>
                  <a:lnTo>
                    <a:pt x="172753" y="14710"/>
                  </a:lnTo>
                  <a:lnTo>
                    <a:pt x="181105" y="12346"/>
                  </a:lnTo>
                  <a:lnTo>
                    <a:pt x="188365" y="9924"/>
                  </a:lnTo>
                  <a:lnTo>
                    <a:pt x="194898" y="7463"/>
                  </a:lnTo>
                  <a:lnTo>
                    <a:pt x="200948" y="4975"/>
                  </a:lnTo>
                  <a:lnTo>
                    <a:pt x="206674" y="3317"/>
                  </a:lnTo>
                  <a:lnTo>
                    <a:pt x="212185" y="2211"/>
                  </a:lnTo>
                  <a:lnTo>
                    <a:pt x="2282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SMARTInkAnnotation318"/>
            <p:cNvSpPr/>
            <p:nvPr/>
          </p:nvSpPr>
          <p:spPr>
            <a:xfrm>
              <a:off x="3818160" y="2743200"/>
              <a:ext cx="520200" cy="159480"/>
            </a:xfrm>
            <a:custGeom>
              <a:avLst/>
              <a:gdLst>
                <a:gd name="textAreaLeft" fmla="*/ 0 w 520200"/>
                <a:gd name="textAreaRight" fmla="*/ 520560 w 5202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520473" h="159545">
                  <a:moveTo>
                    <a:pt x="0" y="60960"/>
                  </a:moveTo>
                  <a:lnTo>
                    <a:pt x="0" y="65005"/>
                  </a:lnTo>
                  <a:lnTo>
                    <a:pt x="847" y="67044"/>
                  </a:lnTo>
                  <a:lnTo>
                    <a:pt x="4045" y="71566"/>
                  </a:lnTo>
                  <a:lnTo>
                    <a:pt x="5237" y="73957"/>
                  </a:lnTo>
                  <a:lnTo>
                    <a:pt x="6561" y="78872"/>
                  </a:lnTo>
                  <a:lnTo>
                    <a:pt x="6914" y="81368"/>
                  </a:lnTo>
                  <a:lnTo>
                    <a:pt x="7149" y="83879"/>
                  </a:lnTo>
                  <a:lnTo>
                    <a:pt x="7306" y="86399"/>
                  </a:lnTo>
                  <a:lnTo>
                    <a:pt x="8258" y="89773"/>
                  </a:lnTo>
                  <a:lnTo>
                    <a:pt x="9739" y="93715"/>
                  </a:lnTo>
                  <a:lnTo>
                    <a:pt x="11572" y="98037"/>
                  </a:lnTo>
                  <a:lnTo>
                    <a:pt x="15868" y="107354"/>
                  </a:lnTo>
                  <a:lnTo>
                    <a:pt x="18199" y="112210"/>
                  </a:lnTo>
                  <a:lnTo>
                    <a:pt x="20599" y="116293"/>
                  </a:lnTo>
                  <a:lnTo>
                    <a:pt x="23046" y="119862"/>
                  </a:lnTo>
                  <a:lnTo>
                    <a:pt x="25524" y="123088"/>
                  </a:lnTo>
                  <a:lnTo>
                    <a:pt x="28870" y="126932"/>
                  </a:lnTo>
                  <a:lnTo>
                    <a:pt x="32793" y="131188"/>
                  </a:lnTo>
                  <a:lnTo>
                    <a:pt x="37102" y="135719"/>
                  </a:lnTo>
                  <a:lnTo>
                    <a:pt x="42515" y="139586"/>
                  </a:lnTo>
                  <a:lnTo>
                    <a:pt x="48663" y="143011"/>
                  </a:lnTo>
                  <a:lnTo>
                    <a:pt x="55303" y="146141"/>
                  </a:lnTo>
                  <a:lnTo>
                    <a:pt x="62268" y="149074"/>
                  </a:lnTo>
                  <a:lnTo>
                    <a:pt x="69452" y="151876"/>
                  </a:lnTo>
                  <a:lnTo>
                    <a:pt x="83361" y="156401"/>
                  </a:lnTo>
                  <a:lnTo>
                    <a:pt x="95187" y="158411"/>
                  </a:lnTo>
                  <a:lnTo>
                    <a:pt x="110603" y="159305"/>
                  </a:lnTo>
                  <a:lnTo>
                    <a:pt x="119456" y="159544"/>
                  </a:lnTo>
                  <a:lnTo>
                    <a:pt x="133807" y="157551"/>
                  </a:lnTo>
                  <a:lnTo>
                    <a:pt x="146676" y="153843"/>
                  </a:lnTo>
                  <a:lnTo>
                    <a:pt x="160863" y="149372"/>
                  </a:lnTo>
                  <a:lnTo>
                    <a:pt x="173377" y="144563"/>
                  </a:lnTo>
                  <a:lnTo>
                    <a:pt x="183737" y="139604"/>
                  </a:lnTo>
                  <a:lnTo>
                    <a:pt x="187684" y="137096"/>
                  </a:lnTo>
                  <a:lnTo>
                    <a:pt x="191163" y="134577"/>
                  </a:lnTo>
                  <a:lnTo>
                    <a:pt x="193482" y="131205"/>
                  </a:lnTo>
                  <a:lnTo>
                    <a:pt x="195028" y="127263"/>
                  </a:lnTo>
                  <a:lnTo>
                    <a:pt x="196059" y="122942"/>
                  </a:lnTo>
                  <a:lnTo>
                    <a:pt x="196746" y="119215"/>
                  </a:lnTo>
                  <a:lnTo>
                    <a:pt x="197204" y="115883"/>
                  </a:lnTo>
                  <a:lnTo>
                    <a:pt x="197510" y="112815"/>
                  </a:lnTo>
                  <a:lnTo>
                    <a:pt x="197713" y="109077"/>
                  </a:lnTo>
                  <a:lnTo>
                    <a:pt x="198067" y="94097"/>
                  </a:lnTo>
                  <a:lnTo>
                    <a:pt x="198116" y="85112"/>
                  </a:lnTo>
                  <a:lnTo>
                    <a:pt x="198964" y="84682"/>
                  </a:lnTo>
                  <a:lnTo>
                    <a:pt x="204680" y="83933"/>
                  </a:lnTo>
                  <a:lnTo>
                    <a:pt x="217562" y="87899"/>
                  </a:lnTo>
                  <a:lnTo>
                    <a:pt x="228210" y="92124"/>
                  </a:lnTo>
                  <a:lnTo>
                    <a:pt x="233420" y="94436"/>
                  </a:lnTo>
                  <a:lnTo>
                    <a:pt x="248240" y="97005"/>
                  </a:lnTo>
                  <a:lnTo>
                    <a:pt x="256934" y="97690"/>
                  </a:lnTo>
                  <a:lnTo>
                    <a:pt x="266116" y="98993"/>
                  </a:lnTo>
                  <a:lnTo>
                    <a:pt x="275624" y="100709"/>
                  </a:lnTo>
                  <a:lnTo>
                    <a:pt x="319263" y="109546"/>
                  </a:lnTo>
                  <a:lnTo>
                    <a:pt x="332222" y="111131"/>
                  </a:lnTo>
                  <a:lnTo>
                    <a:pt x="345941" y="112187"/>
                  </a:lnTo>
                  <a:lnTo>
                    <a:pt x="360168" y="112892"/>
                  </a:lnTo>
                  <a:lnTo>
                    <a:pt x="373885" y="114208"/>
                  </a:lnTo>
                  <a:lnTo>
                    <a:pt x="387264" y="115932"/>
                  </a:lnTo>
                  <a:lnTo>
                    <a:pt x="400416" y="117928"/>
                  </a:lnTo>
                  <a:lnTo>
                    <a:pt x="412571" y="119259"/>
                  </a:lnTo>
                  <a:lnTo>
                    <a:pt x="424060" y="120146"/>
                  </a:lnTo>
                  <a:lnTo>
                    <a:pt x="435107" y="120737"/>
                  </a:lnTo>
                  <a:lnTo>
                    <a:pt x="445858" y="120285"/>
                  </a:lnTo>
                  <a:lnTo>
                    <a:pt x="456412" y="119137"/>
                  </a:lnTo>
                  <a:lnTo>
                    <a:pt x="466835" y="117524"/>
                  </a:lnTo>
                  <a:lnTo>
                    <a:pt x="482931" y="113475"/>
                  </a:lnTo>
                  <a:lnTo>
                    <a:pt x="489594" y="111210"/>
                  </a:lnTo>
                  <a:lnTo>
                    <a:pt x="495730" y="108007"/>
                  </a:lnTo>
                  <a:lnTo>
                    <a:pt x="501513" y="104178"/>
                  </a:lnTo>
                  <a:lnTo>
                    <a:pt x="507062" y="99932"/>
                  </a:lnTo>
                  <a:lnTo>
                    <a:pt x="511608" y="95408"/>
                  </a:lnTo>
                  <a:lnTo>
                    <a:pt x="515486" y="90699"/>
                  </a:lnTo>
                  <a:lnTo>
                    <a:pt x="518917" y="85866"/>
                  </a:lnTo>
                  <a:lnTo>
                    <a:pt x="520359" y="80951"/>
                  </a:lnTo>
                  <a:lnTo>
                    <a:pt x="520472" y="75980"/>
                  </a:lnTo>
                  <a:lnTo>
                    <a:pt x="519701" y="70974"/>
                  </a:lnTo>
                  <a:lnTo>
                    <a:pt x="518341" y="65096"/>
                  </a:lnTo>
                  <a:lnTo>
                    <a:pt x="516588" y="58637"/>
                  </a:lnTo>
                  <a:lnTo>
                    <a:pt x="514571" y="51791"/>
                  </a:lnTo>
                  <a:lnTo>
                    <a:pt x="511534" y="45534"/>
                  </a:lnTo>
                  <a:lnTo>
                    <a:pt x="507816" y="39669"/>
                  </a:lnTo>
                  <a:lnTo>
                    <a:pt x="503645" y="34067"/>
                  </a:lnTo>
                  <a:lnTo>
                    <a:pt x="500016" y="29484"/>
                  </a:lnTo>
                  <a:lnTo>
                    <a:pt x="496751" y="25583"/>
                  </a:lnTo>
                  <a:lnTo>
                    <a:pt x="493728" y="22135"/>
                  </a:lnTo>
                  <a:lnTo>
                    <a:pt x="490018" y="18143"/>
                  </a:lnTo>
                  <a:lnTo>
                    <a:pt x="4724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SMARTInkAnnotation319"/>
            <p:cNvSpPr/>
            <p:nvPr/>
          </p:nvSpPr>
          <p:spPr>
            <a:xfrm>
              <a:off x="6180480" y="3132000"/>
              <a:ext cx="289080" cy="5180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289322" h="518161">
                  <a:moveTo>
                    <a:pt x="175021" y="0"/>
                  </a:moveTo>
                  <a:lnTo>
                    <a:pt x="170975" y="0"/>
                  </a:lnTo>
                  <a:lnTo>
                    <a:pt x="169784" y="847"/>
                  </a:lnTo>
                  <a:lnTo>
                    <a:pt x="168990" y="2258"/>
                  </a:lnTo>
                  <a:lnTo>
                    <a:pt x="167714" y="6561"/>
                  </a:lnTo>
                  <a:lnTo>
                    <a:pt x="159403" y="11352"/>
                  </a:lnTo>
                  <a:lnTo>
                    <a:pt x="153122" y="18027"/>
                  </a:lnTo>
                  <a:lnTo>
                    <a:pt x="146661" y="26639"/>
                  </a:lnTo>
                  <a:lnTo>
                    <a:pt x="138146" y="36111"/>
                  </a:lnTo>
                  <a:lnTo>
                    <a:pt x="133504" y="41854"/>
                  </a:lnTo>
                  <a:lnTo>
                    <a:pt x="128716" y="48223"/>
                  </a:lnTo>
                  <a:lnTo>
                    <a:pt x="123831" y="55009"/>
                  </a:lnTo>
                  <a:lnTo>
                    <a:pt x="118034" y="61226"/>
                  </a:lnTo>
                  <a:lnTo>
                    <a:pt x="111629" y="67064"/>
                  </a:lnTo>
                  <a:lnTo>
                    <a:pt x="104821" y="72649"/>
                  </a:lnTo>
                  <a:lnTo>
                    <a:pt x="98587" y="79760"/>
                  </a:lnTo>
                  <a:lnTo>
                    <a:pt x="92739" y="87887"/>
                  </a:lnTo>
                  <a:lnTo>
                    <a:pt x="87146" y="96691"/>
                  </a:lnTo>
                  <a:lnTo>
                    <a:pt x="81724" y="105948"/>
                  </a:lnTo>
                  <a:lnTo>
                    <a:pt x="76416" y="115505"/>
                  </a:lnTo>
                  <a:lnTo>
                    <a:pt x="71184" y="125263"/>
                  </a:lnTo>
                  <a:lnTo>
                    <a:pt x="65157" y="134309"/>
                  </a:lnTo>
                  <a:lnTo>
                    <a:pt x="58598" y="142879"/>
                  </a:lnTo>
                  <a:lnTo>
                    <a:pt x="51686" y="151133"/>
                  </a:lnTo>
                  <a:lnTo>
                    <a:pt x="45384" y="160022"/>
                  </a:lnTo>
                  <a:lnTo>
                    <a:pt x="39490" y="169335"/>
                  </a:lnTo>
                  <a:lnTo>
                    <a:pt x="33867" y="178930"/>
                  </a:lnTo>
                  <a:lnTo>
                    <a:pt x="29272" y="188713"/>
                  </a:lnTo>
                  <a:lnTo>
                    <a:pt x="25361" y="198622"/>
                  </a:lnTo>
                  <a:lnTo>
                    <a:pt x="21907" y="208615"/>
                  </a:lnTo>
                  <a:lnTo>
                    <a:pt x="17912" y="218663"/>
                  </a:lnTo>
                  <a:lnTo>
                    <a:pt x="13555" y="228749"/>
                  </a:lnTo>
                  <a:lnTo>
                    <a:pt x="8957" y="238860"/>
                  </a:lnTo>
                  <a:lnTo>
                    <a:pt x="5892" y="248140"/>
                  </a:lnTo>
                  <a:lnTo>
                    <a:pt x="3848" y="256867"/>
                  </a:lnTo>
                  <a:lnTo>
                    <a:pt x="2485" y="265224"/>
                  </a:lnTo>
                  <a:lnTo>
                    <a:pt x="1577" y="274183"/>
                  </a:lnTo>
                  <a:lnTo>
                    <a:pt x="972" y="283542"/>
                  </a:lnTo>
                  <a:lnTo>
                    <a:pt x="568" y="293168"/>
                  </a:lnTo>
                  <a:lnTo>
                    <a:pt x="120" y="312895"/>
                  </a:lnTo>
                  <a:lnTo>
                    <a:pt x="0" y="322897"/>
                  </a:lnTo>
                  <a:lnTo>
                    <a:pt x="1614" y="332105"/>
                  </a:lnTo>
                  <a:lnTo>
                    <a:pt x="4383" y="340783"/>
                  </a:lnTo>
                  <a:lnTo>
                    <a:pt x="7922" y="349109"/>
                  </a:lnTo>
                  <a:lnTo>
                    <a:pt x="16370" y="365133"/>
                  </a:lnTo>
                  <a:lnTo>
                    <a:pt x="20993" y="372962"/>
                  </a:lnTo>
                  <a:lnTo>
                    <a:pt x="27462" y="380721"/>
                  </a:lnTo>
                  <a:lnTo>
                    <a:pt x="35162" y="388435"/>
                  </a:lnTo>
                  <a:lnTo>
                    <a:pt x="43682" y="396116"/>
                  </a:lnTo>
                  <a:lnTo>
                    <a:pt x="52748" y="403778"/>
                  </a:lnTo>
                  <a:lnTo>
                    <a:pt x="71853" y="419063"/>
                  </a:lnTo>
                  <a:lnTo>
                    <a:pt x="82536" y="425849"/>
                  </a:lnTo>
                  <a:lnTo>
                    <a:pt x="93891" y="432066"/>
                  </a:lnTo>
                  <a:lnTo>
                    <a:pt x="105694" y="437904"/>
                  </a:lnTo>
                  <a:lnTo>
                    <a:pt x="117797" y="444336"/>
                  </a:lnTo>
                  <a:lnTo>
                    <a:pt x="154209" y="464677"/>
                  </a:lnTo>
                  <a:lnTo>
                    <a:pt x="176214" y="476328"/>
                  </a:lnTo>
                  <a:lnTo>
                    <a:pt x="207642" y="492407"/>
                  </a:lnTo>
                  <a:lnTo>
                    <a:pt x="218782" y="496758"/>
                  </a:lnTo>
                  <a:lnTo>
                    <a:pt x="230442" y="500505"/>
                  </a:lnTo>
                  <a:lnTo>
                    <a:pt x="242448" y="503850"/>
                  </a:lnTo>
                  <a:lnTo>
                    <a:pt x="252146" y="506080"/>
                  </a:lnTo>
                  <a:lnTo>
                    <a:pt x="260304" y="507567"/>
                  </a:lnTo>
                  <a:lnTo>
                    <a:pt x="267436" y="508558"/>
                  </a:lnTo>
                  <a:lnTo>
                    <a:pt x="273038" y="510065"/>
                  </a:lnTo>
                  <a:lnTo>
                    <a:pt x="277619" y="511917"/>
                  </a:lnTo>
                  <a:lnTo>
                    <a:pt x="289321" y="518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SMARTInkAnnotation320"/>
            <p:cNvSpPr/>
            <p:nvPr/>
          </p:nvSpPr>
          <p:spPr>
            <a:xfrm>
              <a:off x="6429240" y="3255120"/>
              <a:ext cx="230760" cy="21168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230915" h="211714">
                  <a:moveTo>
                    <a:pt x="17554" y="44531"/>
                  </a:moveTo>
                  <a:lnTo>
                    <a:pt x="17554" y="33180"/>
                  </a:lnTo>
                  <a:lnTo>
                    <a:pt x="18400" y="31884"/>
                  </a:lnTo>
                  <a:lnTo>
                    <a:pt x="19812" y="31019"/>
                  </a:lnTo>
                  <a:lnTo>
                    <a:pt x="21599" y="30443"/>
                  </a:lnTo>
                  <a:lnTo>
                    <a:pt x="25843" y="27545"/>
                  </a:lnTo>
                  <a:lnTo>
                    <a:pt x="28160" y="25587"/>
                  </a:lnTo>
                  <a:lnTo>
                    <a:pt x="32245" y="23436"/>
                  </a:lnTo>
                  <a:lnTo>
                    <a:pt x="37508" y="21154"/>
                  </a:lnTo>
                  <a:lnTo>
                    <a:pt x="43557" y="18787"/>
                  </a:lnTo>
                  <a:lnTo>
                    <a:pt x="57051" y="13898"/>
                  </a:lnTo>
                  <a:lnTo>
                    <a:pt x="64205" y="11409"/>
                  </a:lnTo>
                  <a:lnTo>
                    <a:pt x="71515" y="9750"/>
                  </a:lnTo>
                  <a:lnTo>
                    <a:pt x="78927" y="8644"/>
                  </a:lnTo>
                  <a:lnTo>
                    <a:pt x="86410" y="7906"/>
                  </a:lnTo>
                  <a:lnTo>
                    <a:pt x="94785" y="6568"/>
                  </a:lnTo>
                  <a:lnTo>
                    <a:pt x="103755" y="4829"/>
                  </a:lnTo>
                  <a:lnTo>
                    <a:pt x="113121" y="2823"/>
                  </a:lnTo>
                  <a:lnTo>
                    <a:pt x="122752" y="1486"/>
                  </a:lnTo>
                  <a:lnTo>
                    <a:pt x="132559" y="594"/>
                  </a:lnTo>
                  <a:lnTo>
                    <a:pt x="142484" y="0"/>
                  </a:lnTo>
                  <a:lnTo>
                    <a:pt x="151641" y="451"/>
                  </a:lnTo>
                  <a:lnTo>
                    <a:pt x="160285" y="1597"/>
                  </a:lnTo>
                  <a:lnTo>
                    <a:pt x="168589" y="3209"/>
                  </a:lnTo>
                  <a:lnTo>
                    <a:pt x="176663" y="4283"/>
                  </a:lnTo>
                  <a:lnTo>
                    <a:pt x="184588" y="4999"/>
                  </a:lnTo>
                  <a:lnTo>
                    <a:pt x="192410" y="5476"/>
                  </a:lnTo>
                  <a:lnTo>
                    <a:pt x="199318" y="6641"/>
                  </a:lnTo>
                  <a:lnTo>
                    <a:pt x="205617" y="8264"/>
                  </a:lnTo>
                  <a:lnTo>
                    <a:pt x="219803" y="12908"/>
                  </a:lnTo>
                  <a:lnTo>
                    <a:pt x="220967" y="14136"/>
                  </a:lnTo>
                  <a:lnTo>
                    <a:pt x="221742" y="15801"/>
                  </a:lnTo>
                  <a:lnTo>
                    <a:pt x="222260" y="17758"/>
                  </a:lnTo>
                  <a:lnTo>
                    <a:pt x="221758" y="19909"/>
                  </a:lnTo>
                  <a:lnTo>
                    <a:pt x="218942" y="24557"/>
                  </a:lnTo>
                  <a:lnTo>
                    <a:pt x="216159" y="27828"/>
                  </a:lnTo>
                  <a:lnTo>
                    <a:pt x="212610" y="31703"/>
                  </a:lnTo>
                  <a:lnTo>
                    <a:pt x="208552" y="35979"/>
                  </a:lnTo>
                  <a:lnTo>
                    <a:pt x="202459" y="40523"/>
                  </a:lnTo>
                  <a:lnTo>
                    <a:pt x="195011" y="45246"/>
                  </a:lnTo>
                  <a:lnTo>
                    <a:pt x="186658" y="50087"/>
                  </a:lnTo>
                  <a:lnTo>
                    <a:pt x="176857" y="55009"/>
                  </a:lnTo>
                  <a:lnTo>
                    <a:pt x="166090" y="59983"/>
                  </a:lnTo>
                  <a:lnTo>
                    <a:pt x="142837" y="70025"/>
                  </a:lnTo>
                  <a:lnTo>
                    <a:pt x="118391" y="80133"/>
                  </a:lnTo>
                  <a:lnTo>
                    <a:pt x="106792" y="86046"/>
                  </a:lnTo>
                  <a:lnTo>
                    <a:pt x="95672" y="92527"/>
                  </a:lnTo>
                  <a:lnTo>
                    <a:pt x="84873" y="99389"/>
                  </a:lnTo>
                  <a:lnTo>
                    <a:pt x="74287" y="105656"/>
                  </a:lnTo>
                  <a:lnTo>
                    <a:pt x="63842" y="111528"/>
                  </a:lnTo>
                  <a:lnTo>
                    <a:pt x="53493" y="117135"/>
                  </a:lnTo>
                  <a:lnTo>
                    <a:pt x="44900" y="122567"/>
                  </a:lnTo>
                  <a:lnTo>
                    <a:pt x="37478" y="127882"/>
                  </a:lnTo>
                  <a:lnTo>
                    <a:pt x="30837" y="133118"/>
                  </a:lnTo>
                  <a:lnTo>
                    <a:pt x="24716" y="138303"/>
                  </a:lnTo>
                  <a:lnTo>
                    <a:pt x="18942" y="143452"/>
                  </a:lnTo>
                  <a:lnTo>
                    <a:pt x="13399" y="148578"/>
                  </a:lnTo>
                  <a:lnTo>
                    <a:pt x="8858" y="153689"/>
                  </a:lnTo>
                  <a:lnTo>
                    <a:pt x="4983" y="158790"/>
                  </a:lnTo>
                  <a:lnTo>
                    <a:pt x="1554" y="163883"/>
                  </a:lnTo>
                  <a:lnTo>
                    <a:pt x="114" y="168973"/>
                  </a:lnTo>
                  <a:lnTo>
                    <a:pt x="0" y="174059"/>
                  </a:lnTo>
                  <a:lnTo>
                    <a:pt x="772" y="179143"/>
                  </a:lnTo>
                  <a:lnTo>
                    <a:pt x="2979" y="183379"/>
                  </a:lnTo>
                  <a:lnTo>
                    <a:pt x="6144" y="187050"/>
                  </a:lnTo>
                  <a:lnTo>
                    <a:pt x="9947" y="190344"/>
                  </a:lnTo>
                  <a:lnTo>
                    <a:pt x="14176" y="193386"/>
                  </a:lnTo>
                  <a:lnTo>
                    <a:pt x="18689" y="196261"/>
                  </a:lnTo>
                  <a:lnTo>
                    <a:pt x="23391" y="199025"/>
                  </a:lnTo>
                  <a:lnTo>
                    <a:pt x="29911" y="201713"/>
                  </a:lnTo>
                  <a:lnTo>
                    <a:pt x="37645" y="204352"/>
                  </a:lnTo>
                  <a:lnTo>
                    <a:pt x="46188" y="206959"/>
                  </a:lnTo>
                  <a:lnTo>
                    <a:pt x="55270" y="208696"/>
                  </a:lnTo>
                  <a:lnTo>
                    <a:pt x="64712" y="209854"/>
                  </a:lnTo>
                  <a:lnTo>
                    <a:pt x="74392" y="210627"/>
                  </a:lnTo>
                  <a:lnTo>
                    <a:pt x="85080" y="211142"/>
                  </a:lnTo>
                  <a:lnTo>
                    <a:pt x="108244" y="211713"/>
                  </a:lnTo>
                  <a:lnTo>
                    <a:pt x="120347" y="210173"/>
                  </a:lnTo>
                  <a:lnTo>
                    <a:pt x="132650" y="207452"/>
                  </a:lnTo>
                  <a:lnTo>
                    <a:pt x="145084" y="203945"/>
                  </a:lnTo>
                  <a:lnTo>
                    <a:pt x="158454" y="200760"/>
                  </a:lnTo>
                  <a:lnTo>
                    <a:pt x="172448" y="197790"/>
                  </a:lnTo>
                  <a:lnTo>
                    <a:pt x="186857" y="194964"/>
                  </a:lnTo>
                  <a:lnTo>
                    <a:pt x="198155" y="193080"/>
                  </a:lnTo>
                  <a:lnTo>
                    <a:pt x="207382" y="191823"/>
                  </a:lnTo>
                  <a:lnTo>
                    <a:pt x="230914" y="189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SMARTInkAnnotation321"/>
            <p:cNvSpPr/>
            <p:nvPr/>
          </p:nvSpPr>
          <p:spPr>
            <a:xfrm>
              <a:off x="6768360" y="3200400"/>
              <a:ext cx="295560" cy="22824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95563" h="228437">
                  <a:moveTo>
                    <a:pt x="97442" y="7592"/>
                  </a:moveTo>
                  <a:lnTo>
                    <a:pt x="97442" y="286"/>
                  </a:lnTo>
                  <a:lnTo>
                    <a:pt x="104003" y="0"/>
                  </a:lnTo>
                  <a:lnTo>
                    <a:pt x="104356" y="837"/>
                  </a:lnTo>
                  <a:lnTo>
                    <a:pt x="104749" y="4025"/>
                  </a:lnTo>
                  <a:lnTo>
                    <a:pt x="104006" y="6061"/>
                  </a:lnTo>
                  <a:lnTo>
                    <a:pt x="100924" y="10580"/>
                  </a:lnTo>
                  <a:lnTo>
                    <a:pt x="98990" y="17669"/>
                  </a:lnTo>
                  <a:lnTo>
                    <a:pt x="98474" y="21930"/>
                  </a:lnTo>
                  <a:lnTo>
                    <a:pt x="97284" y="26464"/>
                  </a:lnTo>
                  <a:lnTo>
                    <a:pt x="95644" y="31180"/>
                  </a:lnTo>
                  <a:lnTo>
                    <a:pt x="93703" y="36017"/>
                  </a:lnTo>
                  <a:lnTo>
                    <a:pt x="90717" y="41782"/>
                  </a:lnTo>
                  <a:lnTo>
                    <a:pt x="87031" y="48166"/>
                  </a:lnTo>
                  <a:lnTo>
                    <a:pt x="82882" y="54961"/>
                  </a:lnTo>
                  <a:lnTo>
                    <a:pt x="73756" y="69285"/>
                  </a:lnTo>
                  <a:lnTo>
                    <a:pt x="68951" y="76660"/>
                  </a:lnTo>
                  <a:lnTo>
                    <a:pt x="63209" y="84118"/>
                  </a:lnTo>
                  <a:lnTo>
                    <a:pt x="56840" y="91629"/>
                  </a:lnTo>
                  <a:lnTo>
                    <a:pt x="50054" y="99177"/>
                  </a:lnTo>
                  <a:lnTo>
                    <a:pt x="44684" y="106749"/>
                  </a:lnTo>
                  <a:lnTo>
                    <a:pt x="40257" y="114336"/>
                  </a:lnTo>
                  <a:lnTo>
                    <a:pt x="36458" y="121935"/>
                  </a:lnTo>
                  <a:lnTo>
                    <a:pt x="32233" y="129540"/>
                  </a:lnTo>
                  <a:lnTo>
                    <a:pt x="27723" y="137151"/>
                  </a:lnTo>
                  <a:lnTo>
                    <a:pt x="23023" y="144765"/>
                  </a:lnTo>
                  <a:lnTo>
                    <a:pt x="19043" y="151534"/>
                  </a:lnTo>
                  <a:lnTo>
                    <a:pt x="15542" y="157740"/>
                  </a:lnTo>
                  <a:lnTo>
                    <a:pt x="9396" y="169151"/>
                  </a:lnTo>
                  <a:lnTo>
                    <a:pt x="3841" y="179867"/>
                  </a:lnTo>
                  <a:lnTo>
                    <a:pt x="2022" y="185095"/>
                  </a:lnTo>
                  <a:lnTo>
                    <a:pt x="809" y="190274"/>
                  </a:lnTo>
                  <a:lnTo>
                    <a:pt x="0" y="195420"/>
                  </a:lnTo>
                  <a:lnTo>
                    <a:pt x="307" y="199697"/>
                  </a:lnTo>
                  <a:lnTo>
                    <a:pt x="1359" y="203396"/>
                  </a:lnTo>
                  <a:lnTo>
                    <a:pt x="4785" y="209763"/>
                  </a:lnTo>
                  <a:lnTo>
                    <a:pt x="9131" y="215414"/>
                  </a:lnTo>
                  <a:lnTo>
                    <a:pt x="13884" y="220749"/>
                  </a:lnTo>
                  <a:lnTo>
                    <a:pt x="16337" y="223356"/>
                  </a:lnTo>
                  <a:lnTo>
                    <a:pt x="19665" y="225095"/>
                  </a:lnTo>
                  <a:lnTo>
                    <a:pt x="27879" y="227027"/>
                  </a:lnTo>
                  <a:lnTo>
                    <a:pt x="33287" y="227542"/>
                  </a:lnTo>
                  <a:lnTo>
                    <a:pt x="39431" y="227885"/>
                  </a:lnTo>
                  <a:lnTo>
                    <a:pt x="53033" y="228267"/>
                  </a:lnTo>
                  <a:lnTo>
                    <a:pt x="67545" y="228436"/>
                  </a:lnTo>
                  <a:lnTo>
                    <a:pt x="75817" y="227635"/>
                  </a:lnTo>
                  <a:lnTo>
                    <a:pt x="84719" y="226254"/>
                  </a:lnTo>
                  <a:lnTo>
                    <a:pt x="94040" y="224487"/>
                  </a:lnTo>
                  <a:lnTo>
                    <a:pt x="102794" y="222462"/>
                  </a:lnTo>
                  <a:lnTo>
                    <a:pt x="111170" y="220265"/>
                  </a:lnTo>
                  <a:lnTo>
                    <a:pt x="119294" y="217954"/>
                  </a:lnTo>
                  <a:lnTo>
                    <a:pt x="128098" y="216413"/>
                  </a:lnTo>
                  <a:lnTo>
                    <a:pt x="137353" y="215386"/>
                  </a:lnTo>
                  <a:lnTo>
                    <a:pt x="146909" y="214702"/>
                  </a:lnTo>
                  <a:lnTo>
                    <a:pt x="157513" y="213398"/>
                  </a:lnTo>
                  <a:lnTo>
                    <a:pt x="168816" y="211683"/>
                  </a:lnTo>
                  <a:lnTo>
                    <a:pt x="180585" y="209693"/>
                  </a:lnTo>
                  <a:lnTo>
                    <a:pt x="190971" y="208366"/>
                  </a:lnTo>
                  <a:lnTo>
                    <a:pt x="200435" y="207481"/>
                  </a:lnTo>
                  <a:lnTo>
                    <a:pt x="209284" y="206892"/>
                  </a:lnTo>
                  <a:lnTo>
                    <a:pt x="223632" y="206236"/>
                  </a:lnTo>
                  <a:lnTo>
                    <a:pt x="235654" y="205945"/>
                  </a:lnTo>
                  <a:lnTo>
                    <a:pt x="246640" y="205815"/>
                  </a:lnTo>
                  <a:lnTo>
                    <a:pt x="251942" y="204934"/>
                  </a:lnTo>
                  <a:lnTo>
                    <a:pt x="257169" y="203500"/>
                  </a:lnTo>
                  <a:lnTo>
                    <a:pt x="262346" y="201698"/>
                  </a:lnTo>
                  <a:lnTo>
                    <a:pt x="270357" y="199694"/>
                  </a:lnTo>
                  <a:lnTo>
                    <a:pt x="276740" y="198804"/>
                  </a:lnTo>
                  <a:lnTo>
                    <a:pt x="285093" y="198303"/>
                  </a:lnTo>
                  <a:lnTo>
                    <a:pt x="295562" y="1980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SMARTInkAnnotation322"/>
            <p:cNvSpPr/>
            <p:nvPr/>
          </p:nvSpPr>
          <p:spPr>
            <a:xfrm>
              <a:off x="7216560" y="332244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1" h="7622">
                  <a:moveTo>
                    <a:pt x="0" y="7621"/>
                  </a:moveTo>
                  <a:lnTo>
                    <a:pt x="184966" y="7621"/>
                  </a:lnTo>
                  <a:lnTo>
                    <a:pt x="190197" y="6774"/>
                  </a:lnTo>
                  <a:lnTo>
                    <a:pt x="194532" y="5363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SMARTInkAnnotation323"/>
            <p:cNvSpPr/>
            <p:nvPr/>
          </p:nvSpPr>
          <p:spPr>
            <a:xfrm>
              <a:off x="7567200" y="3208320"/>
              <a:ext cx="213120" cy="2894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213252" h="289558">
                  <a:moveTo>
                    <a:pt x="0" y="7617"/>
                  </a:moveTo>
                  <a:lnTo>
                    <a:pt x="6561" y="7617"/>
                  </a:lnTo>
                  <a:lnTo>
                    <a:pt x="11664" y="5359"/>
                  </a:lnTo>
                  <a:lnTo>
                    <a:pt x="15397" y="3572"/>
                  </a:lnTo>
                  <a:lnTo>
                    <a:pt x="19578" y="2380"/>
                  </a:lnTo>
                  <a:lnTo>
                    <a:pt x="24058" y="1586"/>
                  </a:lnTo>
                  <a:lnTo>
                    <a:pt x="28738" y="1056"/>
                  </a:lnTo>
                  <a:lnTo>
                    <a:pt x="33552" y="703"/>
                  </a:lnTo>
                  <a:lnTo>
                    <a:pt x="38454" y="468"/>
                  </a:lnTo>
                  <a:lnTo>
                    <a:pt x="49264" y="207"/>
                  </a:lnTo>
                  <a:lnTo>
                    <a:pt x="129581" y="0"/>
                  </a:lnTo>
                  <a:lnTo>
                    <a:pt x="136340" y="846"/>
                  </a:lnTo>
                  <a:lnTo>
                    <a:pt x="142540" y="2256"/>
                  </a:lnTo>
                  <a:lnTo>
                    <a:pt x="148367" y="4043"/>
                  </a:lnTo>
                  <a:lnTo>
                    <a:pt x="154792" y="5235"/>
                  </a:lnTo>
                  <a:lnTo>
                    <a:pt x="161615" y="6029"/>
                  </a:lnTo>
                  <a:lnTo>
                    <a:pt x="168704" y="6558"/>
                  </a:lnTo>
                  <a:lnTo>
                    <a:pt x="175122" y="6911"/>
                  </a:lnTo>
                  <a:lnTo>
                    <a:pt x="186770" y="7303"/>
                  </a:lnTo>
                  <a:lnTo>
                    <a:pt x="203684" y="7589"/>
                  </a:lnTo>
                  <a:lnTo>
                    <a:pt x="209176" y="7609"/>
                  </a:lnTo>
                  <a:lnTo>
                    <a:pt x="210571" y="8459"/>
                  </a:lnTo>
                  <a:lnTo>
                    <a:pt x="211501" y="9871"/>
                  </a:lnTo>
                  <a:lnTo>
                    <a:pt x="212993" y="14177"/>
                  </a:lnTo>
                  <a:lnTo>
                    <a:pt x="213251" y="18969"/>
                  </a:lnTo>
                  <a:lnTo>
                    <a:pt x="211054" y="25645"/>
                  </a:lnTo>
                  <a:lnTo>
                    <a:pt x="207255" y="33410"/>
                  </a:lnTo>
                  <a:lnTo>
                    <a:pt x="202745" y="39682"/>
                  </a:lnTo>
                  <a:lnTo>
                    <a:pt x="198664" y="44234"/>
                  </a:lnTo>
                  <a:lnTo>
                    <a:pt x="187355" y="56065"/>
                  </a:lnTo>
                  <a:lnTo>
                    <a:pt x="170754" y="72960"/>
                  </a:lnTo>
                  <a:lnTo>
                    <a:pt x="165482" y="79119"/>
                  </a:lnTo>
                  <a:lnTo>
                    <a:pt x="160275" y="85765"/>
                  </a:lnTo>
                  <a:lnTo>
                    <a:pt x="155110" y="92736"/>
                  </a:lnTo>
                  <a:lnTo>
                    <a:pt x="144855" y="107254"/>
                  </a:lnTo>
                  <a:lnTo>
                    <a:pt x="139751" y="114682"/>
                  </a:lnTo>
                  <a:lnTo>
                    <a:pt x="127304" y="131966"/>
                  </a:lnTo>
                  <a:lnTo>
                    <a:pt x="114153" y="150090"/>
                  </a:lnTo>
                  <a:lnTo>
                    <a:pt x="97229" y="174573"/>
                  </a:lnTo>
                  <a:lnTo>
                    <a:pt x="86676" y="190193"/>
                  </a:lnTo>
                  <a:lnTo>
                    <a:pt x="82337" y="197914"/>
                  </a:lnTo>
                  <a:lnTo>
                    <a:pt x="78598" y="205602"/>
                  </a:lnTo>
                  <a:lnTo>
                    <a:pt x="75259" y="213267"/>
                  </a:lnTo>
                  <a:lnTo>
                    <a:pt x="71339" y="220070"/>
                  </a:lnTo>
                  <a:lnTo>
                    <a:pt x="67033" y="226300"/>
                  </a:lnTo>
                  <a:lnTo>
                    <a:pt x="62469" y="232145"/>
                  </a:lnTo>
                  <a:lnTo>
                    <a:pt x="59426" y="237736"/>
                  </a:lnTo>
                  <a:lnTo>
                    <a:pt x="57398" y="243156"/>
                  </a:lnTo>
                  <a:lnTo>
                    <a:pt x="56045" y="248463"/>
                  </a:lnTo>
                  <a:lnTo>
                    <a:pt x="54297" y="253694"/>
                  </a:lnTo>
                  <a:lnTo>
                    <a:pt x="52284" y="258875"/>
                  </a:lnTo>
                  <a:lnTo>
                    <a:pt x="50097" y="264023"/>
                  </a:lnTo>
                  <a:lnTo>
                    <a:pt x="47665" y="271999"/>
                  </a:lnTo>
                  <a:lnTo>
                    <a:pt x="46584" y="278367"/>
                  </a:lnTo>
                  <a:lnTo>
                    <a:pt x="45891" y="287096"/>
                  </a:lnTo>
                  <a:lnTo>
                    <a:pt x="45720" y="2895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MARTInkAnnotation324"/>
            <p:cNvSpPr/>
            <p:nvPr/>
          </p:nvSpPr>
          <p:spPr>
            <a:xfrm>
              <a:off x="7635600" y="338328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13">
                  <a:moveTo>
                    <a:pt x="0" y="0"/>
                  </a:moveTo>
                  <a:lnTo>
                    <a:pt x="33529" y="0"/>
                  </a:lnTo>
                  <a:lnTo>
                    <a:pt x="39286" y="847"/>
                  </a:lnTo>
                  <a:lnTo>
                    <a:pt x="44817" y="2258"/>
                  </a:lnTo>
                  <a:lnTo>
                    <a:pt x="50198" y="4045"/>
                  </a:lnTo>
                  <a:lnTo>
                    <a:pt x="57173" y="5237"/>
                  </a:lnTo>
                  <a:lnTo>
                    <a:pt x="65209" y="6031"/>
                  </a:lnTo>
                  <a:lnTo>
                    <a:pt x="73952" y="6561"/>
                  </a:lnTo>
                  <a:lnTo>
                    <a:pt x="92699" y="7149"/>
                  </a:lnTo>
                  <a:lnTo>
                    <a:pt x="152512" y="7579"/>
                  </a:lnTo>
                  <a:lnTo>
                    <a:pt x="193063" y="7612"/>
                  </a:lnTo>
                  <a:lnTo>
                    <a:pt x="201523" y="6768"/>
                  </a:lnTo>
                  <a:lnTo>
                    <a:pt x="208855" y="5359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MARTInkAnnotation325"/>
            <p:cNvSpPr/>
            <p:nvPr/>
          </p:nvSpPr>
          <p:spPr>
            <a:xfrm>
              <a:off x="7833600" y="3086280"/>
              <a:ext cx="182160" cy="4190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426" h="419101">
                  <a:moveTo>
                    <a:pt x="106680" y="0"/>
                  </a:moveTo>
                  <a:lnTo>
                    <a:pt x="106680" y="4045"/>
                  </a:lnTo>
                  <a:lnTo>
                    <a:pt x="107527" y="5237"/>
                  </a:lnTo>
                  <a:lnTo>
                    <a:pt x="108939" y="6031"/>
                  </a:lnTo>
                  <a:lnTo>
                    <a:pt x="110726" y="6561"/>
                  </a:lnTo>
                  <a:lnTo>
                    <a:pt x="114969" y="9407"/>
                  </a:lnTo>
                  <a:lnTo>
                    <a:pt x="120524" y="14341"/>
                  </a:lnTo>
                  <a:lnTo>
                    <a:pt x="128637" y="22178"/>
                  </a:lnTo>
                  <a:lnTo>
                    <a:pt x="132325" y="26639"/>
                  </a:lnTo>
                  <a:lnTo>
                    <a:pt x="135630" y="31306"/>
                  </a:lnTo>
                  <a:lnTo>
                    <a:pt x="138680" y="36111"/>
                  </a:lnTo>
                  <a:lnTo>
                    <a:pt x="142407" y="41007"/>
                  </a:lnTo>
                  <a:lnTo>
                    <a:pt x="146585" y="45965"/>
                  </a:lnTo>
                  <a:lnTo>
                    <a:pt x="151063" y="50963"/>
                  </a:lnTo>
                  <a:lnTo>
                    <a:pt x="154895" y="56835"/>
                  </a:lnTo>
                  <a:lnTo>
                    <a:pt x="158297" y="63290"/>
                  </a:lnTo>
                  <a:lnTo>
                    <a:pt x="161412" y="70133"/>
                  </a:lnTo>
                  <a:lnTo>
                    <a:pt x="164334" y="77236"/>
                  </a:lnTo>
                  <a:lnTo>
                    <a:pt x="167131" y="84511"/>
                  </a:lnTo>
                  <a:lnTo>
                    <a:pt x="169840" y="91900"/>
                  </a:lnTo>
                  <a:lnTo>
                    <a:pt x="172494" y="100214"/>
                  </a:lnTo>
                  <a:lnTo>
                    <a:pt x="175109" y="109142"/>
                  </a:lnTo>
                  <a:lnTo>
                    <a:pt x="177699" y="118482"/>
                  </a:lnTo>
                  <a:lnTo>
                    <a:pt x="179426" y="128094"/>
                  </a:lnTo>
                  <a:lnTo>
                    <a:pt x="180577" y="137890"/>
                  </a:lnTo>
                  <a:lnTo>
                    <a:pt x="181345" y="147806"/>
                  </a:lnTo>
                  <a:lnTo>
                    <a:pt x="181857" y="157805"/>
                  </a:lnTo>
                  <a:lnTo>
                    <a:pt x="182425" y="177945"/>
                  </a:lnTo>
                  <a:lnTo>
                    <a:pt x="181731" y="188903"/>
                  </a:lnTo>
                  <a:lnTo>
                    <a:pt x="180421" y="200442"/>
                  </a:lnTo>
                  <a:lnTo>
                    <a:pt x="178700" y="212368"/>
                  </a:lnTo>
                  <a:lnTo>
                    <a:pt x="177554" y="223705"/>
                  </a:lnTo>
                  <a:lnTo>
                    <a:pt x="176789" y="234650"/>
                  </a:lnTo>
                  <a:lnTo>
                    <a:pt x="176280" y="245333"/>
                  </a:lnTo>
                  <a:lnTo>
                    <a:pt x="174247" y="255842"/>
                  </a:lnTo>
                  <a:lnTo>
                    <a:pt x="171198" y="266235"/>
                  </a:lnTo>
                  <a:lnTo>
                    <a:pt x="167472" y="276550"/>
                  </a:lnTo>
                  <a:lnTo>
                    <a:pt x="163295" y="285967"/>
                  </a:lnTo>
                  <a:lnTo>
                    <a:pt x="158817" y="294785"/>
                  </a:lnTo>
                  <a:lnTo>
                    <a:pt x="154138" y="303203"/>
                  </a:lnTo>
                  <a:lnTo>
                    <a:pt x="144424" y="321588"/>
                  </a:lnTo>
                  <a:lnTo>
                    <a:pt x="139463" y="331232"/>
                  </a:lnTo>
                  <a:lnTo>
                    <a:pt x="133615" y="339355"/>
                  </a:lnTo>
                  <a:lnTo>
                    <a:pt x="127177" y="346463"/>
                  </a:lnTo>
                  <a:lnTo>
                    <a:pt x="120344" y="352896"/>
                  </a:lnTo>
                  <a:lnTo>
                    <a:pt x="113250" y="358877"/>
                  </a:lnTo>
                  <a:lnTo>
                    <a:pt x="105979" y="364558"/>
                  </a:lnTo>
                  <a:lnTo>
                    <a:pt x="98593" y="370039"/>
                  </a:lnTo>
                  <a:lnTo>
                    <a:pt x="83613" y="380644"/>
                  </a:lnTo>
                  <a:lnTo>
                    <a:pt x="76062" y="385843"/>
                  </a:lnTo>
                  <a:lnTo>
                    <a:pt x="68488" y="390155"/>
                  </a:lnTo>
                  <a:lnTo>
                    <a:pt x="60898" y="393876"/>
                  </a:lnTo>
                  <a:lnTo>
                    <a:pt x="46540" y="400270"/>
                  </a:lnTo>
                  <a:lnTo>
                    <a:pt x="34513" y="405933"/>
                  </a:lnTo>
                  <a:lnTo>
                    <a:pt x="28089" y="408629"/>
                  </a:lnTo>
                  <a:lnTo>
                    <a:pt x="21266" y="411273"/>
                  </a:lnTo>
                  <a:lnTo>
                    <a:pt x="0" y="419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MARTInkAnnotation326"/>
            <p:cNvSpPr/>
            <p:nvPr/>
          </p:nvSpPr>
          <p:spPr>
            <a:xfrm>
              <a:off x="8321400" y="3124440"/>
              <a:ext cx="50040" cy="3045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50110" h="304801">
                  <a:moveTo>
                    <a:pt x="45719" y="0"/>
                  </a:moveTo>
                  <a:lnTo>
                    <a:pt x="49764" y="4045"/>
                  </a:lnTo>
                  <a:lnTo>
                    <a:pt x="50109" y="6084"/>
                  </a:lnTo>
                  <a:lnTo>
                    <a:pt x="49493" y="8289"/>
                  </a:lnTo>
                  <a:lnTo>
                    <a:pt x="48235" y="10606"/>
                  </a:lnTo>
                  <a:lnTo>
                    <a:pt x="46837" y="15438"/>
                  </a:lnTo>
                  <a:lnTo>
                    <a:pt x="46465" y="17912"/>
                  </a:lnTo>
                  <a:lnTo>
                    <a:pt x="45369" y="21255"/>
                  </a:lnTo>
                  <a:lnTo>
                    <a:pt x="43793" y="25177"/>
                  </a:lnTo>
                  <a:lnTo>
                    <a:pt x="41895" y="29485"/>
                  </a:lnTo>
                  <a:lnTo>
                    <a:pt x="40630" y="34896"/>
                  </a:lnTo>
                  <a:lnTo>
                    <a:pt x="39786" y="41044"/>
                  </a:lnTo>
                  <a:lnTo>
                    <a:pt x="39224" y="47683"/>
                  </a:lnTo>
                  <a:lnTo>
                    <a:pt x="38849" y="54649"/>
                  </a:lnTo>
                  <a:lnTo>
                    <a:pt x="38432" y="69162"/>
                  </a:lnTo>
                  <a:lnTo>
                    <a:pt x="37474" y="76588"/>
                  </a:lnTo>
                  <a:lnTo>
                    <a:pt x="35989" y="84078"/>
                  </a:lnTo>
                  <a:lnTo>
                    <a:pt x="34152" y="91612"/>
                  </a:lnTo>
                  <a:lnTo>
                    <a:pt x="32082" y="99175"/>
                  </a:lnTo>
                  <a:lnTo>
                    <a:pt x="27522" y="114351"/>
                  </a:lnTo>
                  <a:lnTo>
                    <a:pt x="25968" y="122801"/>
                  </a:lnTo>
                  <a:lnTo>
                    <a:pt x="24932" y="131820"/>
                  </a:lnTo>
                  <a:lnTo>
                    <a:pt x="24242" y="141220"/>
                  </a:lnTo>
                  <a:lnTo>
                    <a:pt x="22933" y="150027"/>
                  </a:lnTo>
                  <a:lnTo>
                    <a:pt x="21216" y="158438"/>
                  </a:lnTo>
                  <a:lnTo>
                    <a:pt x="19224" y="166585"/>
                  </a:lnTo>
                  <a:lnTo>
                    <a:pt x="17049" y="174557"/>
                  </a:lnTo>
                  <a:lnTo>
                    <a:pt x="12374" y="190188"/>
                  </a:lnTo>
                  <a:lnTo>
                    <a:pt x="10790" y="197912"/>
                  </a:lnTo>
                  <a:lnTo>
                    <a:pt x="9733" y="205601"/>
                  </a:lnTo>
                  <a:lnTo>
                    <a:pt x="9029" y="213268"/>
                  </a:lnTo>
                  <a:lnTo>
                    <a:pt x="7713" y="220919"/>
                  </a:lnTo>
                  <a:lnTo>
                    <a:pt x="5988" y="228559"/>
                  </a:lnTo>
                  <a:lnTo>
                    <a:pt x="3992" y="236193"/>
                  </a:lnTo>
                  <a:lnTo>
                    <a:pt x="2660" y="242975"/>
                  </a:lnTo>
                  <a:lnTo>
                    <a:pt x="1774" y="249190"/>
                  </a:lnTo>
                  <a:lnTo>
                    <a:pt x="1183" y="255027"/>
                  </a:lnTo>
                  <a:lnTo>
                    <a:pt x="788" y="260611"/>
                  </a:lnTo>
                  <a:lnTo>
                    <a:pt x="525" y="266028"/>
                  </a:lnTo>
                  <a:lnTo>
                    <a:pt x="155" y="279483"/>
                  </a:lnTo>
                  <a:lnTo>
                    <a:pt x="0" y="3048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MARTInkAnnotation327"/>
            <p:cNvSpPr/>
            <p:nvPr/>
          </p:nvSpPr>
          <p:spPr>
            <a:xfrm>
              <a:off x="8329320" y="3299760"/>
              <a:ext cx="136800" cy="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6847" h="1">
                  <a:moveTo>
                    <a:pt x="7306" y="0"/>
                  </a:moveTo>
                  <a:lnTo>
                    <a:pt x="0" y="0"/>
                  </a:lnTo>
                  <a:lnTo>
                    <a:pt x="1368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MARTInkAnnotation328"/>
            <p:cNvSpPr/>
            <p:nvPr/>
          </p:nvSpPr>
          <p:spPr>
            <a:xfrm>
              <a:off x="8572680" y="3162600"/>
              <a:ext cx="144720" cy="255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44781" h="255279">
                  <a:moveTo>
                    <a:pt x="0" y="45681"/>
                  </a:moveTo>
                  <a:lnTo>
                    <a:pt x="0" y="41636"/>
                  </a:lnTo>
                  <a:lnTo>
                    <a:pt x="846" y="39598"/>
                  </a:lnTo>
                  <a:lnTo>
                    <a:pt x="4046" y="35075"/>
                  </a:lnTo>
                  <a:lnTo>
                    <a:pt x="4390" y="33530"/>
                  </a:lnTo>
                  <a:lnTo>
                    <a:pt x="3774" y="32501"/>
                  </a:lnTo>
                  <a:lnTo>
                    <a:pt x="2516" y="31814"/>
                  </a:lnTo>
                  <a:lnTo>
                    <a:pt x="2524" y="30510"/>
                  </a:lnTo>
                  <a:lnTo>
                    <a:pt x="3377" y="28794"/>
                  </a:lnTo>
                  <a:lnTo>
                    <a:pt x="6581" y="24629"/>
                  </a:lnTo>
                  <a:lnTo>
                    <a:pt x="10827" y="19956"/>
                  </a:lnTo>
                  <a:lnTo>
                    <a:pt x="17978" y="12565"/>
                  </a:lnTo>
                  <a:lnTo>
                    <a:pt x="25459" y="5013"/>
                  </a:lnTo>
                  <a:lnTo>
                    <a:pt x="28826" y="3329"/>
                  </a:lnTo>
                  <a:lnTo>
                    <a:pt x="32764" y="2206"/>
                  </a:lnTo>
                  <a:lnTo>
                    <a:pt x="37082" y="1458"/>
                  </a:lnTo>
                  <a:lnTo>
                    <a:pt x="41656" y="959"/>
                  </a:lnTo>
                  <a:lnTo>
                    <a:pt x="46397" y="626"/>
                  </a:lnTo>
                  <a:lnTo>
                    <a:pt x="51251" y="405"/>
                  </a:lnTo>
                  <a:lnTo>
                    <a:pt x="61160" y="158"/>
                  </a:lnTo>
                  <a:lnTo>
                    <a:pt x="81320" y="0"/>
                  </a:lnTo>
                  <a:lnTo>
                    <a:pt x="87233" y="834"/>
                  </a:lnTo>
                  <a:lnTo>
                    <a:pt x="93715" y="2236"/>
                  </a:lnTo>
                  <a:lnTo>
                    <a:pt x="100578" y="4018"/>
                  </a:lnTo>
                  <a:lnTo>
                    <a:pt x="106845" y="6052"/>
                  </a:lnTo>
                  <a:lnTo>
                    <a:pt x="112717" y="8255"/>
                  </a:lnTo>
                  <a:lnTo>
                    <a:pt x="118325" y="10570"/>
                  </a:lnTo>
                  <a:lnTo>
                    <a:pt x="122910" y="12961"/>
                  </a:lnTo>
                  <a:lnTo>
                    <a:pt x="126813" y="15401"/>
                  </a:lnTo>
                  <a:lnTo>
                    <a:pt x="130262" y="17874"/>
                  </a:lnTo>
                  <a:lnTo>
                    <a:pt x="132562" y="20370"/>
                  </a:lnTo>
                  <a:lnTo>
                    <a:pt x="134094" y="22880"/>
                  </a:lnTo>
                  <a:lnTo>
                    <a:pt x="135797" y="27928"/>
                  </a:lnTo>
                  <a:lnTo>
                    <a:pt x="136757" y="35529"/>
                  </a:lnTo>
                  <a:lnTo>
                    <a:pt x="136981" y="40604"/>
                  </a:lnTo>
                  <a:lnTo>
                    <a:pt x="135348" y="43990"/>
                  </a:lnTo>
                  <a:lnTo>
                    <a:pt x="132565" y="47941"/>
                  </a:lnTo>
                  <a:lnTo>
                    <a:pt x="129016" y="52267"/>
                  </a:lnTo>
                  <a:lnTo>
                    <a:pt x="125805" y="56845"/>
                  </a:lnTo>
                  <a:lnTo>
                    <a:pt x="122817" y="61591"/>
                  </a:lnTo>
                  <a:lnTo>
                    <a:pt x="119978" y="66447"/>
                  </a:lnTo>
                  <a:lnTo>
                    <a:pt x="115545" y="71379"/>
                  </a:lnTo>
                  <a:lnTo>
                    <a:pt x="110050" y="76359"/>
                  </a:lnTo>
                  <a:lnTo>
                    <a:pt x="103847" y="81373"/>
                  </a:lnTo>
                  <a:lnTo>
                    <a:pt x="98018" y="86409"/>
                  </a:lnTo>
                  <a:lnTo>
                    <a:pt x="92439" y="91460"/>
                  </a:lnTo>
                  <a:lnTo>
                    <a:pt x="87026" y="96520"/>
                  </a:lnTo>
                  <a:lnTo>
                    <a:pt x="80031" y="102434"/>
                  </a:lnTo>
                  <a:lnTo>
                    <a:pt x="63227" y="115778"/>
                  </a:lnTo>
                  <a:lnTo>
                    <a:pt x="55699" y="122046"/>
                  </a:lnTo>
                  <a:lnTo>
                    <a:pt x="48985" y="127918"/>
                  </a:lnTo>
                  <a:lnTo>
                    <a:pt x="42817" y="133525"/>
                  </a:lnTo>
                  <a:lnTo>
                    <a:pt x="37012" y="139804"/>
                  </a:lnTo>
                  <a:lnTo>
                    <a:pt x="31448" y="146530"/>
                  </a:lnTo>
                  <a:lnTo>
                    <a:pt x="26045" y="153554"/>
                  </a:lnTo>
                  <a:lnTo>
                    <a:pt x="21597" y="159930"/>
                  </a:lnTo>
                  <a:lnTo>
                    <a:pt x="17785" y="165873"/>
                  </a:lnTo>
                  <a:lnTo>
                    <a:pt x="14397" y="171529"/>
                  </a:lnTo>
                  <a:lnTo>
                    <a:pt x="11291" y="176993"/>
                  </a:lnTo>
                  <a:lnTo>
                    <a:pt x="5583" y="187580"/>
                  </a:lnTo>
                  <a:lnTo>
                    <a:pt x="3721" y="192774"/>
                  </a:lnTo>
                  <a:lnTo>
                    <a:pt x="2482" y="197930"/>
                  </a:lnTo>
                  <a:lnTo>
                    <a:pt x="1654" y="203060"/>
                  </a:lnTo>
                  <a:lnTo>
                    <a:pt x="1949" y="208174"/>
                  </a:lnTo>
                  <a:lnTo>
                    <a:pt x="2994" y="213276"/>
                  </a:lnTo>
                  <a:lnTo>
                    <a:pt x="4535" y="218371"/>
                  </a:lnTo>
                  <a:lnTo>
                    <a:pt x="8507" y="226290"/>
                  </a:lnTo>
                  <a:lnTo>
                    <a:pt x="10753" y="229587"/>
                  </a:lnTo>
                  <a:lnTo>
                    <a:pt x="13941" y="233479"/>
                  </a:lnTo>
                  <a:lnTo>
                    <a:pt x="17762" y="237766"/>
                  </a:lnTo>
                  <a:lnTo>
                    <a:pt x="22001" y="242318"/>
                  </a:lnTo>
                  <a:lnTo>
                    <a:pt x="26520" y="245352"/>
                  </a:lnTo>
                  <a:lnTo>
                    <a:pt x="31227" y="247375"/>
                  </a:lnTo>
                  <a:lnTo>
                    <a:pt x="36058" y="248724"/>
                  </a:lnTo>
                  <a:lnTo>
                    <a:pt x="48199" y="252480"/>
                  </a:lnTo>
                  <a:lnTo>
                    <a:pt x="54993" y="254667"/>
                  </a:lnTo>
                  <a:lnTo>
                    <a:pt x="62061" y="255278"/>
                  </a:lnTo>
                  <a:lnTo>
                    <a:pt x="69314" y="254840"/>
                  </a:lnTo>
                  <a:lnTo>
                    <a:pt x="76689" y="253700"/>
                  </a:lnTo>
                  <a:lnTo>
                    <a:pt x="84993" y="252094"/>
                  </a:lnTo>
                  <a:lnTo>
                    <a:pt x="110320" y="246634"/>
                  </a:lnTo>
                  <a:lnTo>
                    <a:pt x="115881" y="245690"/>
                  </a:lnTo>
                  <a:lnTo>
                    <a:pt x="120434" y="245060"/>
                  </a:lnTo>
                  <a:lnTo>
                    <a:pt x="125163" y="243794"/>
                  </a:lnTo>
                  <a:lnTo>
                    <a:pt x="130008" y="242103"/>
                  </a:lnTo>
                  <a:lnTo>
                    <a:pt x="144780" y="2361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MARTInkAnnotation329"/>
            <p:cNvSpPr/>
            <p:nvPr/>
          </p:nvSpPr>
          <p:spPr>
            <a:xfrm>
              <a:off x="8817120" y="3170160"/>
              <a:ext cx="212760" cy="228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3006" h="228598">
                  <a:moveTo>
                    <a:pt x="98705" y="0"/>
                  </a:moveTo>
                  <a:lnTo>
                    <a:pt x="103095" y="0"/>
                  </a:lnTo>
                  <a:lnTo>
                    <a:pt x="101221" y="0"/>
                  </a:lnTo>
                  <a:lnTo>
                    <a:pt x="100382" y="847"/>
                  </a:lnTo>
                  <a:lnTo>
                    <a:pt x="99824" y="2258"/>
                  </a:lnTo>
                  <a:lnTo>
                    <a:pt x="99036" y="8289"/>
                  </a:lnTo>
                  <a:lnTo>
                    <a:pt x="98852" y="12998"/>
                  </a:lnTo>
                  <a:lnTo>
                    <a:pt x="98771" y="17912"/>
                  </a:lnTo>
                  <a:lnTo>
                    <a:pt x="97903" y="21255"/>
                  </a:lnTo>
                  <a:lnTo>
                    <a:pt x="96476" y="25177"/>
                  </a:lnTo>
                  <a:lnTo>
                    <a:pt x="94680" y="29485"/>
                  </a:lnTo>
                  <a:lnTo>
                    <a:pt x="91788" y="34050"/>
                  </a:lnTo>
                  <a:lnTo>
                    <a:pt x="88167" y="38787"/>
                  </a:lnTo>
                  <a:lnTo>
                    <a:pt x="84059" y="43638"/>
                  </a:lnTo>
                  <a:lnTo>
                    <a:pt x="80474" y="49412"/>
                  </a:lnTo>
                  <a:lnTo>
                    <a:pt x="77239" y="55802"/>
                  </a:lnTo>
                  <a:lnTo>
                    <a:pt x="71384" y="68827"/>
                  </a:lnTo>
                  <a:lnTo>
                    <a:pt x="65960" y="80261"/>
                  </a:lnTo>
                  <a:lnTo>
                    <a:pt x="62482" y="86527"/>
                  </a:lnTo>
                  <a:lnTo>
                    <a:pt x="58469" y="93245"/>
                  </a:lnTo>
                  <a:lnTo>
                    <a:pt x="54102" y="100264"/>
                  </a:lnTo>
                  <a:lnTo>
                    <a:pt x="50342" y="106635"/>
                  </a:lnTo>
                  <a:lnTo>
                    <a:pt x="46990" y="112577"/>
                  </a:lnTo>
                  <a:lnTo>
                    <a:pt x="43908" y="118232"/>
                  </a:lnTo>
                  <a:lnTo>
                    <a:pt x="40161" y="124541"/>
                  </a:lnTo>
                  <a:lnTo>
                    <a:pt x="31481" y="138325"/>
                  </a:lnTo>
                  <a:lnTo>
                    <a:pt x="27643" y="144710"/>
                  </a:lnTo>
                  <a:lnTo>
                    <a:pt x="24236" y="150660"/>
                  </a:lnTo>
                  <a:lnTo>
                    <a:pt x="18194" y="161787"/>
                  </a:lnTo>
                  <a:lnTo>
                    <a:pt x="12687" y="172376"/>
                  </a:lnTo>
                  <a:lnTo>
                    <a:pt x="10879" y="177571"/>
                  </a:lnTo>
                  <a:lnTo>
                    <a:pt x="9674" y="182727"/>
                  </a:lnTo>
                  <a:lnTo>
                    <a:pt x="8872" y="187858"/>
                  </a:lnTo>
                  <a:lnTo>
                    <a:pt x="7489" y="192126"/>
                  </a:lnTo>
                  <a:lnTo>
                    <a:pt x="3696" y="199125"/>
                  </a:lnTo>
                  <a:lnTo>
                    <a:pt x="1445" y="205058"/>
                  </a:lnTo>
                  <a:lnTo>
                    <a:pt x="445" y="210517"/>
                  </a:lnTo>
                  <a:lnTo>
                    <a:pt x="0" y="215765"/>
                  </a:lnTo>
                  <a:lnTo>
                    <a:pt x="729" y="218350"/>
                  </a:lnTo>
                  <a:lnTo>
                    <a:pt x="3795" y="223480"/>
                  </a:lnTo>
                  <a:lnTo>
                    <a:pt x="5799" y="225187"/>
                  </a:lnTo>
                  <a:lnTo>
                    <a:pt x="7981" y="226324"/>
                  </a:lnTo>
                  <a:lnTo>
                    <a:pt x="12663" y="227589"/>
                  </a:lnTo>
                  <a:lnTo>
                    <a:pt x="17567" y="228150"/>
                  </a:lnTo>
                  <a:lnTo>
                    <a:pt x="20906" y="228300"/>
                  </a:lnTo>
                  <a:lnTo>
                    <a:pt x="29133" y="228467"/>
                  </a:lnTo>
                  <a:lnTo>
                    <a:pt x="83952" y="228597"/>
                  </a:lnTo>
                  <a:lnTo>
                    <a:pt x="92257" y="227751"/>
                  </a:lnTo>
                  <a:lnTo>
                    <a:pt x="101179" y="226341"/>
                  </a:lnTo>
                  <a:lnTo>
                    <a:pt x="110514" y="224554"/>
                  </a:lnTo>
                  <a:lnTo>
                    <a:pt x="119278" y="223363"/>
                  </a:lnTo>
                  <a:lnTo>
                    <a:pt x="127661" y="222568"/>
                  </a:lnTo>
                  <a:lnTo>
                    <a:pt x="135789" y="222039"/>
                  </a:lnTo>
                  <a:lnTo>
                    <a:pt x="143748" y="221686"/>
                  </a:lnTo>
                  <a:lnTo>
                    <a:pt x="159364" y="221294"/>
                  </a:lnTo>
                  <a:lnTo>
                    <a:pt x="165392" y="220342"/>
                  </a:lnTo>
                  <a:lnTo>
                    <a:pt x="170256" y="218862"/>
                  </a:lnTo>
                  <a:lnTo>
                    <a:pt x="174347" y="217028"/>
                  </a:lnTo>
                  <a:lnTo>
                    <a:pt x="177919" y="215806"/>
                  </a:lnTo>
                  <a:lnTo>
                    <a:pt x="184146" y="214447"/>
                  </a:lnTo>
                  <a:lnTo>
                    <a:pt x="187839" y="214085"/>
                  </a:lnTo>
                  <a:lnTo>
                    <a:pt x="191995" y="213843"/>
                  </a:lnTo>
                  <a:lnTo>
                    <a:pt x="200280" y="213575"/>
                  </a:lnTo>
                  <a:lnTo>
                    <a:pt x="213005" y="213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MARTInkAnnotation330"/>
            <p:cNvSpPr/>
            <p:nvPr/>
          </p:nvSpPr>
          <p:spPr>
            <a:xfrm>
              <a:off x="648000" y="4496040"/>
              <a:ext cx="335160" cy="32760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35278" h="327642">
                  <a:moveTo>
                    <a:pt x="91437" y="0"/>
                  </a:moveTo>
                  <a:lnTo>
                    <a:pt x="84876" y="6561"/>
                  </a:lnTo>
                  <a:lnTo>
                    <a:pt x="84131" y="15397"/>
                  </a:lnTo>
                  <a:lnTo>
                    <a:pt x="83180" y="18731"/>
                  </a:lnTo>
                  <a:lnTo>
                    <a:pt x="78642" y="28316"/>
                  </a:lnTo>
                  <a:lnTo>
                    <a:pt x="77284" y="36856"/>
                  </a:lnTo>
                  <a:lnTo>
                    <a:pt x="74422" y="46296"/>
                  </a:lnTo>
                  <a:lnTo>
                    <a:pt x="72474" y="51184"/>
                  </a:lnTo>
                  <a:lnTo>
                    <a:pt x="68051" y="63388"/>
                  </a:lnTo>
                  <a:lnTo>
                    <a:pt x="35554" y="160032"/>
                  </a:lnTo>
                  <a:lnTo>
                    <a:pt x="32169" y="167648"/>
                  </a:lnTo>
                  <a:lnTo>
                    <a:pt x="28218" y="175266"/>
                  </a:lnTo>
                  <a:lnTo>
                    <a:pt x="23891" y="182884"/>
                  </a:lnTo>
                  <a:lnTo>
                    <a:pt x="21006" y="190502"/>
                  </a:lnTo>
                  <a:lnTo>
                    <a:pt x="19083" y="198122"/>
                  </a:lnTo>
                  <a:lnTo>
                    <a:pt x="17801" y="205741"/>
                  </a:lnTo>
                  <a:lnTo>
                    <a:pt x="16100" y="213361"/>
                  </a:lnTo>
                  <a:lnTo>
                    <a:pt x="14119" y="220980"/>
                  </a:lnTo>
                  <a:lnTo>
                    <a:pt x="11952" y="228600"/>
                  </a:lnTo>
                  <a:lnTo>
                    <a:pt x="7286" y="243840"/>
                  </a:lnTo>
                  <a:lnTo>
                    <a:pt x="4856" y="251460"/>
                  </a:lnTo>
                  <a:lnTo>
                    <a:pt x="3237" y="258233"/>
                  </a:lnTo>
                  <a:lnTo>
                    <a:pt x="2157" y="264442"/>
                  </a:lnTo>
                  <a:lnTo>
                    <a:pt x="1437" y="270275"/>
                  </a:lnTo>
                  <a:lnTo>
                    <a:pt x="957" y="275856"/>
                  </a:lnTo>
                  <a:lnTo>
                    <a:pt x="637" y="281271"/>
                  </a:lnTo>
                  <a:lnTo>
                    <a:pt x="282" y="291803"/>
                  </a:lnTo>
                  <a:lnTo>
                    <a:pt x="22" y="312081"/>
                  </a:lnTo>
                  <a:lnTo>
                    <a:pt x="0" y="325274"/>
                  </a:lnTo>
                  <a:lnTo>
                    <a:pt x="846" y="326069"/>
                  </a:lnTo>
                  <a:lnTo>
                    <a:pt x="2256" y="326599"/>
                  </a:lnTo>
                  <a:lnTo>
                    <a:pt x="8287" y="327346"/>
                  </a:lnTo>
                  <a:lnTo>
                    <a:pt x="17693" y="327567"/>
                  </a:lnTo>
                  <a:lnTo>
                    <a:pt x="36042" y="327641"/>
                  </a:lnTo>
                  <a:lnTo>
                    <a:pt x="41807" y="326801"/>
                  </a:lnTo>
                  <a:lnTo>
                    <a:pt x="48191" y="325394"/>
                  </a:lnTo>
                  <a:lnTo>
                    <a:pt x="54986" y="323609"/>
                  </a:lnTo>
                  <a:lnTo>
                    <a:pt x="62057" y="321573"/>
                  </a:lnTo>
                  <a:lnTo>
                    <a:pt x="76686" y="317052"/>
                  </a:lnTo>
                  <a:lnTo>
                    <a:pt x="93912" y="312221"/>
                  </a:lnTo>
                  <a:lnTo>
                    <a:pt x="103247" y="309747"/>
                  </a:lnTo>
                  <a:lnTo>
                    <a:pt x="112857" y="308098"/>
                  </a:lnTo>
                  <a:lnTo>
                    <a:pt x="122651" y="306999"/>
                  </a:lnTo>
                  <a:lnTo>
                    <a:pt x="132566" y="306266"/>
                  </a:lnTo>
                  <a:lnTo>
                    <a:pt x="143410" y="304931"/>
                  </a:lnTo>
                  <a:lnTo>
                    <a:pt x="154872" y="303194"/>
                  </a:lnTo>
                  <a:lnTo>
                    <a:pt x="166747" y="301189"/>
                  </a:lnTo>
                  <a:lnTo>
                    <a:pt x="178050" y="299007"/>
                  </a:lnTo>
                  <a:lnTo>
                    <a:pt x="199641" y="294323"/>
                  </a:lnTo>
                  <a:lnTo>
                    <a:pt x="210986" y="292735"/>
                  </a:lnTo>
                  <a:lnTo>
                    <a:pt x="222783" y="291677"/>
                  </a:lnTo>
                  <a:lnTo>
                    <a:pt x="234881" y="290971"/>
                  </a:lnTo>
                  <a:lnTo>
                    <a:pt x="245486" y="289654"/>
                  </a:lnTo>
                  <a:lnTo>
                    <a:pt x="255097" y="287929"/>
                  </a:lnTo>
                  <a:lnTo>
                    <a:pt x="264043" y="285933"/>
                  </a:lnTo>
                  <a:lnTo>
                    <a:pt x="272548" y="284602"/>
                  </a:lnTo>
                  <a:lnTo>
                    <a:pt x="280758" y="283715"/>
                  </a:lnTo>
                  <a:lnTo>
                    <a:pt x="288771" y="283123"/>
                  </a:lnTo>
                  <a:lnTo>
                    <a:pt x="296653" y="282729"/>
                  </a:lnTo>
                  <a:lnTo>
                    <a:pt x="312184" y="282291"/>
                  </a:lnTo>
                  <a:lnTo>
                    <a:pt x="335277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MARTInkAnnotation331"/>
            <p:cNvSpPr/>
            <p:nvPr/>
          </p:nvSpPr>
          <p:spPr>
            <a:xfrm>
              <a:off x="1021320" y="4618080"/>
              <a:ext cx="167400" cy="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7641" h="1">
                  <a:moveTo>
                    <a:pt x="0" y="0"/>
                  </a:move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MARTInkAnnotation332"/>
            <p:cNvSpPr/>
            <p:nvPr/>
          </p:nvSpPr>
          <p:spPr>
            <a:xfrm>
              <a:off x="991080" y="4648680"/>
              <a:ext cx="281880" cy="2268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81941" h="22861">
                  <a:moveTo>
                    <a:pt x="0" y="0"/>
                  </a:moveTo>
                  <a:lnTo>
                    <a:pt x="4045" y="4045"/>
                  </a:lnTo>
                  <a:lnTo>
                    <a:pt x="6083" y="5237"/>
                  </a:lnTo>
                  <a:lnTo>
                    <a:pt x="8289" y="6031"/>
                  </a:lnTo>
                  <a:lnTo>
                    <a:pt x="10606" y="6561"/>
                  </a:lnTo>
                  <a:lnTo>
                    <a:pt x="17696" y="7150"/>
                  </a:lnTo>
                  <a:lnTo>
                    <a:pt x="21957" y="7307"/>
                  </a:lnTo>
                  <a:lnTo>
                    <a:pt x="40090" y="7527"/>
                  </a:lnTo>
                  <a:lnTo>
                    <a:pt x="47893" y="8405"/>
                  </a:lnTo>
                  <a:lnTo>
                    <a:pt x="56482" y="9837"/>
                  </a:lnTo>
                  <a:lnTo>
                    <a:pt x="65595" y="11638"/>
                  </a:lnTo>
                  <a:lnTo>
                    <a:pt x="75057" y="12839"/>
                  </a:lnTo>
                  <a:lnTo>
                    <a:pt x="84751" y="13639"/>
                  </a:lnTo>
                  <a:lnTo>
                    <a:pt x="94601" y="14173"/>
                  </a:lnTo>
                  <a:lnTo>
                    <a:pt x="114576" y="14766"/>
                  </a:lnTo>
                  <a:lnTo>
                    <a:pt x="177542" y="15198"/>
                  </a:lnTo>
                  <a:lnTo>
                    <a:pt x="222465" y="15232"/>
                  </a:lnTo>
                  <a:lnTo>
                    <a:pt x="232130" y="16082"/>
                  </a:lnTo>
                  <a:lnTo>
                    <a:pt x="241114" y="17494"/>
                  </a:lnTo>
                  <a:lnTo>
                    <a:pt x="249642" y="19283"/>
                  </a:lnTo>
                  <a:lnTo>
                    <a:pt x="256175" y="20475"/>
                  </a:lnTo>
                  <a:lnTo>
                    <a:pt x="261376" y="21270"/>
                  </a:lnTo>
                  <a:lnTo>
                    <a:pt x="265691" y="21800"/>
                  </a:lnTo>
                  <a:lnTo>
                    <a:pt x="272743" y="22389"/>
                  </a:lnTo>
                  <a:lnTo>
                    <a:pt x="281940" y="22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MARTInkAnnotation333"/>
            <p:cNvSpPr/>
            <p:nvPr/>
          </p:nvSpPr>
          <p:spPr>
            <a:xfrm>
              <a:off x="1593360" y="4328640"/>
              <a:ext cx="302400" cy="43416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302411" h="434341">
                  <a:moveTo>
                    <a:pt x="144199" y="0"/>
                  </a:moveTo>
                  <a:lnTo>
                    <a:pt x="140154" y="0"/>
                  </a:lnTo>
                  <a:lnTo>
                    <a:pt x="138962" y="847"/>
                  </a:lnTo>
                  <a:lnTo>
                    <a:pt x="138168" y="2258"/>
                  </a:lnTo>
                  <a:lnTo>
                    <a:pt x="137638" y="4045"/>
                  </a:lnTo>
                  <a:lnTo>
                    <a:pt x="134792" y="8289"/>
                  </a:lnTo>
                  <a:lnTo>
                    <a:pt x="126066" y="17912"/>
                  </a:lnTo>
                  <a:lnTo>
                    <a:pt x="118695" y="29484"/>
                  </a:lnTo>
                  <a:lnTo>
                    <a:pt x="113673" y="41044"/>
                  </a:lnTo>
                  <a:lnTo>
                    <a:pt x="111148" y="47683"/>
                  </a:lnTo>
                  <a:lnTo>
                    <a:pt x="107772" y="54648"/>
                  </a:lnTo>
                  <a:lnTo>
                    <a:pt x="103828" y="61833"/>
                  </a:lnTo>
                  <a:lnTo>
                    <a:pt x="99505" y="69162"/>
                  </a:lnTo>
                  <a:lnTo>
                    <a:pt x="90186" y="84079"/>
                  </a:lnTo>
                  <a:lnTo>
                    <a:pt x="85330" y="91612"/>
                  </a:lnTo>
                  <a:lnTo>
                    <a:pt x="79553" y="100022"/>
                  </a:lnTo>
                  <a:lnTo>
                    <a:pt x="66361" y="118396"/>
                  </a:lnTo>
                  <a:lnTo>
                    <a:pt x="60134" y="128038"/>
                  </a:lnTo>
                  <a:lnTo>
                    <a:pt x="54289" y="137852"/>
                  </a:lnTo>
                  <a:lnTo>
                    <a:pt x="48699" y="147782"/>
                  </a:lnTo>
                  <a:lnTo>
                    <a:pt x="43279" y="158634"/>
                  </a:lnTo>
                  <a:lnTo>
                    <a:pt x="37972" y="170103"/>
                  </a:lnTo>
                  <a:lnTo>
                    <a:pt x="32742" y="181982"/>
                  </a:lnTo>
                  <a:lnTo>
                    <a:pt x="22414" y="204212"/>
                  </a:lnTo>
                  <a:lnTo>
                    <a:pt x="17289" y="214881"/>
                  </a:lnTo>
                  <a:lnTo>
                    <a:pt x="13025" y="226228"/>
                  </a:lnTo>
                  <a:lnTo>
                    <a:pt x="9337" y="238025"/>
                  </a:lnTo>
                  <a:lnTo>
                    <a:pt x="6031" y="250123"/>
                  </a:lnTo>
                  <a:lnTo>
                    <a:pt x="3827" y="261576"/>
                  </a:lnTo>
                  <a:lnTo>
                    <a:pt x="2358" y="272597"/>
                  </a:lnTo>
                  <a:lnTo>
                    <a:pt x="1378" y="283331"/>
                  </a:lnTo>
                  <a:lnTo>
                    <a:pt x="725" y="293874"/>
                  </a:lnTo>
                  <a:lnTo>
                    <a:pt x="0" y="314619"/>
                  </a:lnTo>
                  <a:lnTo>
                    <a:pt x="653" y="324047"/>
                  </a:lnTo>
                  <a:lnTo>
                    <a:pt x="1935" y="332871"/>
                  </a:lnTo>
                  <a:lnTo>
                    <a:pt x="3636" y="341295"/>
                  </a:lnTo>
                  <a:lnTo>
                    <a:pt x="6464" y="349450"/>
                  </a:lnTo>
                  <a:lnTo>
                    <a:pt x="10042" y="357426"/>
                  </a:lnTo>
                  <a:lnTo>
                    <a:pt x="14121" y="365284"/>
                  </a:lnTo>
                  <a:lnTo>
                    <a:pt x="19380" y="372216"/>
                  </a:lnTo>
                  <a:lnTo>
                    <a:pt x="25427" y="378531"/>
                  </a:lnTo>
                  <a:lnTo>
                    <a:pt x="31998" y="384434"/>
                  </a:lnTo>
                  <a:lnTo>
                    <a:pt x="38918" y="390063"/>
                  </a:lnTo>
                  <a:lnTo>
                    <a:pt x="46072" y="395509"/>
                  </a:lnTo>
                  <a:lnTo>
                    <a:pt x="53381" y="400833"/>
                  </a:lnTo>
                  <a:lnTo>
                    <a:pt x="62487" y="404381"/>
                  </a:lnTo>
                  <a:lnTo>
                    <a:pt x="72791" y="406748"/>
                  </a:lnTo>
                  <a:lnTo>
                    <a:pt x="83894" y="408325"/>
                  </a:lnTo>
                  <a:lnTo>
                    <a:pt x="94682" y="409377"/>
                  </a:lnTo>
                  <a:lnTo>
                    <a:pt x="105261" y="410078"/>
                  </a:lnTo>
                  <a:lnTo>
                    <a:pt x="115701" y="410545"/>
                  </a:lnTo>
                  <a:lnTo>
                    <a:pt x="126894" y="410010"/>
                  </a:lnTo>
                  <a:lnTo>
                    <a:pt x="138589" y="408807"/>
                  </a:lnTo>
                  <a:lnTo>
                    <a:pt x="150619" y="407158"/>
                  </a:lnTo>
                  <a:lnTo>
                    <a:pt x="162026" y="405212"/>
                  </a:lnTo>
                  <a:lnTo>
                    <a:pt x="173017" y="403068"/>
                  </a:lnTo>
                  <a:lnTo>
                    <a:pt x="183731" y="400792"/>
                  </a:lnTo>
                  <a:lnTo>
                    <a:pt x="194260" y="397582"/>
                  </a:lnTo>
                  <a:lnTo>
                    <a:pt x="204666" y="393748"/>
                  </a:lnTo>
                  <a:lnTo>
                    <a:pt x="214991" y="389499"/>
                  </a:lnTo>
                  <a:lnTo>
                    <a:pt x="225260" y="384126"/>
                  </a:lnTo>
                  <a:lnTo>
                    <a:pt x="235493" y="378004"/>
                  </a:lnTo>
                  <a:lnTo>
                    <a:pt x="272205" y="353973"/>
                  </a:lnTo>
                  <a:lnTo>
                    <a:pt x="278643" y="348589"/>
                  </a:lnTo>
                  <a:lnTo>
                    <a:pt x="288054" y="338090"/>
                  </a:lnTo>
                  <a:lnTo>
                    <a:pt x="295059" y="327781"/>
                  </a:lnTo>
                  <a:lnTo>
                    <a:pt x="298113" y="322661"/>
                  </a:lnTo>
                  <a:lnTo>
                    <a:pt x="301505" y="312456"/>
                  </a:lnTo>
                  <a:lnTo>
                    <a:pt x="302410" y="307364"/>
                  </a:lnTo>
                  <a:lnTo>
                    <a:pt x="302166" y="302276"/>
                  </a:lnTo>
                  <a:lnTo>
                    <a:pt x="299638" y="292107"/>
                  </a:lnTo>
                  <a:lnTo>
                    <a:pt x="296932" y="287871"/>
                  </a:lnTo>
                  <a:lnTo>
                    <a:pt x="289409" y="280908"/>
                  </a:lnTo>
                  <a:lnTo>
                    <a:pt x="284186" y="278712"/>
                  </a:lnTo>
                  <a:lnTo>
                    <a:pt x="278163" y="277248"/>
                  </a:lnTo>
                  <a:lnTo>
                    <a:pt x="271609" y="276272"/>
                  </a:lnTo>
                  <a:lnTo>
                    <a:pt x="264699" y="275622"/>
                  </a:lnTo>
                  <a:lnTo>
                    <a:pt x="257552" y="275188"/>
                  </a:lnTo>
                  <a:lnTo>
                    <a:pt x="250248" y="274899"/>
                  </a:lnTo>
                  <a:lnTo>
                    <a:pt x="242838" y="275552"/>
                  </a:lnTo>
                  <a:lnTo>
                    <a:pt x="235359" y="276835"/>
                  </a:lnTo>
                  <a:lnTo>
                    <a:pt x="227832" y="278537"/>
                  </a:lnTo>
                  <a:lnTo>
                    <a:pt x="220275" y="281364"/>
                  </a:lnTo>
                  <a:lnTo>
                    <a:pt x="212696" y="284943"/>
                  </a:lnTo>
                  <a:lnTo>
                    <a:pt x="205104" y="289022"/>
                  </a:lnTo>
                  <a:lnTo>
                    <a:pt x="198349" y="293435"/>
                  </a:lnTo>
                  <a:lnTo>
                    <a:pt x="192153" y="298070"/>
                  </a:lnTo>
                  <a:lnTo>
                    <a:pt x="186328" y="302853"/>
                  </a:lnTo>
                  <a:lnTo>
                    <a:pt x="177599" y="314941"/>
                  </a:lnTo>
                  <a:lnTo>
                    <a:pt x="174085" y="321721"/>
                  </a:lnTo>
                  <a:lnTo>
                    <a:pt x="170897" y="328781"/>
                  </a:lnTo>
                  <a:lnTo>
                    <a:pt x="167924" y="336027"/>
                  </a:lnTo>
                  <a:lnTo>
                    <a:pt x="165096" y="343398"/>
                  </a:lnTo>
                  <a:lnTo>
                    <a:pt x="164057" y="350852"/>
                  </a:lnTo>
                  <a:lnTo>
                    <a:pt x="164211" y="358361"/>
                  </a:lnTo>
                  <a:lnTo>
                    <a:pt x="165160" y="365907"/>
                  </a:lnTo>
                  <a:lnTo>
                    <a:pt x="166640" y="373479"/>
                  </a:lnTo>
                  <a:lnTo>
                    <a:pt x="168473" y="381066"/>
                  </a:lnTo>
                  <a:lnTo>
                    <a:pt x="170542" y="388664"/>
                  </a:lnTo>
                  <a:lnTo>
                    <a:pt x="173614" y="396269"/>
                  </a:lnTo>
                  <a:lnTo>
                    <a:pt x="177356" y="403879"/>
                  </a:lnTo>
                  <a:lnTo>
                    <a:pt x="186029" y="417415"/>
                  </a:lnTo>
                  <a:lnTo>
                    <a:pt x="190712" y="422211"/>
                  </a:lnTo>
                  <a:lnTo>
                    <a:pt x="205159" y="434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MARTInkAnnotation334"/>
            <p:cNvSpPr/>
            <p:nvPr/>
          </p:nvSpPr>
          <p:spPr>
            <a:xfrm>
              <a:off x="1539720" y="4168800"/>
              <a:ext cx="1069920" cy="879120"/>
            </a:xfrm>
            <a:custGeom>
              <a:avLst/>
              <a:gdLst>
                <a:gd name="textAreaLeft" fmla="*/ 0 w 1069920"/>
                <a:gd name="textAreaRight" fmla="*/ 1070280 w 106992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1070060" h="879207">
                  <a:moveTo>
                    <a:pt x="7546" y="441785"/>
                  </a:moveTo>
                  <a:lnTo>
                    <a:pt x="7546" y="449876"/>
                  </a:lnTo>
                  <a:lnTo>
                    <a:pt x="11592" y="467042"/>
                  </a:lnTo>
                  <a:lnTo>
                    <a:pt x="15835" y="476435"/>
                  </a:lnTo>
                  <a:lnTo>
                    <a:pt x="29504" y="501499"/>
                  </a:lnTo>
                  <a:lnTo>
                    <a:pt x="38754" y="521947"/>
                  </a:lnTo>
                  <a:lnTo>
                    <a:pt x="49356" y="545146"/>
                  </a:lnTo>
                  <a:lnTo>
                    <a:pt x="62535" y="569568"/>
                  </a:lnTo>
                  <a:lnTo>
                    <a:pt x="79117" y="592275"/>
                  </a:lnTo>
                  <a:lnTo>
                    <a:pt x="98622" y="613656"/>
                  </a:lnTo>
                  <a:lnTo>
                    <a:pt x="153982" y="665193"/>
                  </a:lnTo>
                  <a:lnTo>
                    <a:pt x="177051" y="685575"/>
                  </a:lnTo>
                  <a:lnTo>
                    <a:pt x="202262" y="705923"/>
                  </a:lnTo>
                  <a:lnTo>
                    <a:pt x="230400" y="726255"/>
                  </a:lnTo>
                  <a:lnTo>
                    <a:pt x="274801" y="756742"/>
                  </a:lnTo>
                  <a:lnTo>
                    <a:pt x="304973" y="774805"/>
                  </a:lnTo>
                  <a:lnTo>
                    <a:pt x="334469" y="791301"/>
                  </a:lnTo>
                  <a:lnTo>
                    <a:pt x="361690" y="807099"/>
                  </a:lnTo>
                  <a:lnTo>
                    <a:pt x="392415" y="820329"/>
                  </a:lnTo>
                  <a:lnTo>
                    <a:pt x="424132" y="831853"/>
                  </a:lnTo>
                  <a:lnTo>
                    <a:pt x="466635" y="847861"/>
                  </a:lnTo>
                  <a:lnTo>
                    <a:pt x="496066" y="858201"/>
                  </a:lnTo>
                  <a:lnTo>
                    <a:pt x="512719" y="862483"/>
                  </a:lnTo>
                  <a:lnTo>
                    <a:pt x="530595" y="866183"/>
                  </a:lnTo>
                  <a:lnTo>
                    <a:pt x="599861" y="878206"/>
                  </a:lnTo>
                  <a:lnTo>
                    <a:pt x="616630" y="879206"/>
                  </a:lnTo>
                  <a:lnTo>
                    <a:pt x="633735" y="879025"/>
                  </a:lnTo>
                  <a:lnTo>
                    <a:pt x="651065" y="878059"/>
                  </a:lnTo>
                  <a:lnTo>
                    <a:pt x="683868" y="876984"/>
                  </a:lnTo>
                  <a:lnTo>
                    <a:pt x="715380" y="874813"/>
                  </a:lnTo>
                  <a:lnTo>
                    <a:pt x="746319" y="868204"/>
                  </a:lnTo>
                  <a:lnTo>
                    <a:pt x="777003" y="859622"/>
                  </a:lnTo>
                  <a:lnTo>
                    <a:pt x="806727" y="850164"/>
                  </a:lnTo>
                  <a:lnTo>
                    <a:pt x="834048" y="840316"/>
                  </a:lnTo>
                  <a:lnTo>
                    <a:pt x="860303" y="825778"/>
                  </a:lnTo>
                  <a:lnTo>
                    <a:pt x="886082" y="808029"/>
                  </a:lnTo>
                  <a:lnTo>
                    <a:pt x="911651" y="788851"/>
                  </a:lnTo>
                  <a:lnTo>
                    <a:pt x="937126" y="766781"/>
                  </a:lnTo>
                  <a:lnTo>
                    <a:pt x="960866" y="743708"/>
                  </a:lnTo>
                  <a:lnTo>
                    <a:pt x="979884" y="722164"/>
                  </a:lnTo>
                  <a:lnTo>
                    <a:pt x="996803" y="699042"/>
                  </a:lnTo>
                  <a:lnTo>
                    <a:pt x="1012789" y="673808"/>
                  </a:lnTo>
                  <a:lnTo>
                    <a:pt x="1020608" y="659967"/>
                  </a:lnTo>
                  <a:lnTo>
                    <a:pt x="1028361" y="645659"/>
                  </a:lnTo>
                  <a:lnTo>
                    <a:pt x="1039233" y="618474"/>
                  </a:lnTo>
                  <a:lnTo>
                    <a:pt x="1046887" y="591434"/>
                  </a:lnTo>
                  <a:lnTo>
                    <a:pt x="1050113" y="577111"/>
                  </a:lnTo>
                  <a:lnTo>
                    <a:pt x="1061375" y="521668"/>
                  </a:lnTo>
                  <a:lnTo>
                    <a:pt x="1069186" y="478718"/>
                  </a:lnTo>
                  <a:lnTo>
                    <a:pt x="1070059" y="464714"/>
                  </a:lnTo>
                  <a:lnTo>
                    <a:pt x="1068772" y="437864"/>
                  </a:lnTo>
                  <a:lnTo>
                    <a:pt x="1067243" y="423931"/>
                  </a:lnTo>
                  <a:lnTo>
                    <a:pt x="1063287" y="394903"/>
                  </a:lnTo>
                  <a:lnTo>
                    <a:pt x="1060200" y="380897"/>
                  </a:lnTo>
                  <a:lnTo>
                    <a:pt x="1052254" y="354046"/>
                  </a:lnTo>
                  <a:lnTo>
                    <a:pt x="1043078" y="328001"/>
                  </a:lnTo>
                  <a:lnTo>
                    <a:pt x="1032509" y="302314"/>
                  </a:lnTo>
                  <a:lnTo>
                    <a:pt x="1019345" y="276787"/>
                  </a:lnTo>
                  <a:lnTo>
                    <a:pt x="1000512" y="251331"/>
                  </a:lnTo>
                  <a:lnTo>
                    <a:pt x="978878" y="225905"/>
                  </a:lnTo>
                  <a:lnTo>
                    <a:pt x="957973" y="200494"/>
                  </a:lnTo>
                  <a:lnTo>
                    <a:pt x="932878" y="177347"/>
                  </a:lnTo>
                  <a:lnTo>
                    <a:pt x="904791" y="154923"/>
                  </a:lnTo>
                  <a:lnTo>
                    <a:pt x="875375" y="130847"/>
                  </a:lnTo>
                  <a:lnTo>
                    <a:pt x="843110" y="110551"/>
                  </a:lnTo>
                  <a:lnTo>
                    <a:pt x="793883" y="84844"/>
                  </a:lnTo>
                  <a:lnTo>
                    <a:pt x="761736" y="68938"/>
                  </a:lnTo>
                  <a:lnTo>
                    <a:pt x="727693" y="53402"/>
                  </a:lnTo>
                  <a:lnTo>
                    <a:pt x="709470" y="46550"/>
                  </a:lnTo>
                  <a:lnTo>
                    <a:pt x="690549" y="40289"/>
                  </a:lnTo>
                  <a:lnTo>
                    <a:pt x="615559" y="18072"/>
                  </a:lnTo>
                  <a:lnTo>
                    <a:pt x="596615" y="13683"/>
                  </a:lnTo>
                  <a:lnTo>
                    <a:pt x="577212" y="9910"/>
                  </a:lnTo>
                  <a:lnTo>
                    <a:pt x="557503" y="6549"/>
                  </a:lnTo>
                  <a:lnTo>
                    <a:pt x="538437" y="4308"/>
                  </a:lnTo>
                  <a:lnTo>
                    <a:pt x="519801" y="2814"/>
                  </a:lnTo>
                  <a:lnTo>
                    <a:pt x="501449" y="1817"/>
                  </a:lnTo>
                  <a:lnTo>
                    <a:pt x="465254" y="711"/>
                  </a:lnTo>
                  <a:lnTo>
                    <a:pt x="397772" y="0"/>
                  </a:lnTo>
                  <a:lnTo>
                    <a:pt x="381150" y="789"/>
                  </a:lnTo>
                  <a:lnTo>
                    <a:pt x="364142" y="2161"/>
                  </a:lnTo>
                  <a:lnTo>
                    <a:pt x="346876" y="3922"/>
                  </a:lnTo>
                  <a:lnTo>
                    <a:pt x="314146" y="8137"/>
                  </a:lnTo>
                  <a:lnTo>
                    <a:pt x="282666" y="13679"/>
                  </a:lnTo>
                  <a:lnTo>
                    <a:pt x="223322" y="28778"/>
                  </a:lnTo>
                  <a:lnTo>
                    <a:pt x="197427" y="36399"/>
                  </a:lnTo>
                  <a:lnTo>
                    <a:pt x="174629" y="48254"/>
                  </a:lnTo>
                  <a:lnTo>
                    <a:pt x="131551" y="71324"/>
                  </a:lnTo>
                  <a:lnTo>
                    <a:pt x="107815" y="84942"/>
                  </a:lnTo>
                  <a:lnTo>
                    <a:pt x="89928" y="99462"/>
                  </a:lnTo>
                  <a:lnTo>
                    <a:pt x="68080" y="124173"/>
                  </a:lnTo>
                  <a:lnTo>
                    <a:pt x="53077" y="143144"/>
                  </a:lnTo>
                  <a:lnTo>
                    <a:pt x="37942" y="162865"/>
                  </a:lnTo>
                  <a:lnTo>
                    <a:pt x="23232" y="188962"/>
                  </a:lnTo>
                  <a:lnTo>
                    <a:pt x="9466" y="216827"/>
                  </a:lnTo>
                  <a:lnTo>
                    <a:pt x="4166" y="236535"/>
                  </a:lnTo>
                  <a:lnTo>
                    <a:pt x="1811" y="256582"/>
                  </a:lnTo>
                  <a:lnTo>
                    <a:pt x="764" y="276782"/>
                  </a:lnTo>
                  <a:lnTo>
                    <a:pt x="298" y="297048"/>
                  </a:lnTo>
                  <a:lnTo>
                    <a:pt x="0" y="337654"/>
                  </a:lnTo>
                  <a:lnTo>
                    <a:pt x="2217" y="357969"/>
                  </a:lnTo>
                  <a:lnTo>
                    <a:pt x="5177" y="379133"/>
                  </a:lnTo>
                  <a:lnTo>
                    <a:pt x="6493" y="402651"/>
                  </a:lnTo>
                  <a:lnTo>
                    <a:pt x="11594" y="424957"/>
                  </a:lnTo>
                  <a:lnTo>
                    <a:pt x="20352" y="446159"/>
                  </a:lnTo>
                  <a:lnTo>
                    <a:pt x="32711" y="466871"/>
                  </a:lnTo>
                  <a:lnTo>
                    <a:pt x="49904" y="493527"/>
                  </a:lnTo>
                  <a:lnTo>
                    <a:pt x="62779" y="511913"/>
                  </a:lnTo>
                  <a:lnTo>
                    <a:pt x="77814" y="531373"/>
                  </a:lnTo>
                  <a:lnTo>
                    <a:pt x="95785" y="551311"/>
                  </a:lnTo>
                  <a:lnTo>
                    <a:pt x="128988" y="577530"/>
                  </a:lnTo>
                  <a:lnTo>
                    <a:pt x="153243" y="593556"/>
                  </a:lnTo>
                  <a:lnTo>
                    <a:pt x="190698" y="616858"/>
                  </a:lnTo>
                  <a:lnTo>
                    <a:pt x="215947" y="631355"/>
                  </a:lnTo>
                  <a:lnTo>
                    <a:pt x="241280" y="643443"/>
                  </a:lnTo>
                  <a:lnTo>
                    <a:pt x="266650" y="654460"/>
                  </a:lnTo>
                  <a:lnTo>
                    <a:pt x="317431" y="675330"/>
                  </a:lnTo>
                  <a:lnTo>
                    <a:pt x="347437" y="686620"/>
                  </a:lnTo>
                  <a:lnTo>
                    <a:pt x="379485" y="697173"/>
                  </a:lnTo>
                  <a:lnTo>
                    <a:pt x="403786" y="7008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MARTInkAnnotation335"/>
            <p:cNvSpPr/>
            <p:nvPr/>
          </p:nvSpPr>
          <p:spPr>
            <a:xfrm>
              <a:off x="2293920" y="3063240"/>
              <a:ext cx="2190600" cy="1703520"/>
            </a:xfrm>
            <a:custGeom>
              <a:avLst/>
              <a:gdLst>
                <a:gd name="textAreaLeft" fmla="*/ 0 w 2190600"/>
                <a:gd name="textAreaRight" fmla="*/ 2190960 w 2190600"/>
                <a:gd name="textAreaTop" fmla="*/ 0 h 1703520"/>
                <a:gd name="textAreaBottom" fmla="*/ 1703880 h 1703520"/>
              </a:gdLst>
              <a:ahLst/>
              <a:rect l="textAreaLeft" t="textAreaTop" r="textAreaRight" b="textAreaBottom"/>
              <a:pathLst>
                <a:path w="2190938" h="1703354">
                  <a:moveTo>
                    <a:pt x="472440" y="1600200"/>
                  </a:moveTo>
                  <a:lnTo>
                    <a:pt x="479001" y="1600200"/>
                  </a:lnTo>
                  <a:lnTo>
                    <a:pt x="543581" y="1623119"/>
                  </a:lnTo>
                  <a:lnTo>
                    <a:pt x="600690" y="1640564"/>
                  </a:lnTo>
                  <a:lnTo>
                    <a:pt x="666157" y="1657915"/>
                  </a:lnTo>
                  <a:lnTo>
                    <a:pt x="724536" y="1668641"/>
                  </a:lnTo>
                  <a:lnTo>
                    <a:pt x="789031" y="1678912"/>
                  </a:lnTo>
                  <a:lnTo>
                    <a:pt x="854452" y="1689095"/>
                  </a:lnTo>
                  <a:lnTo>
                    <a:pt x="910279" y="1695872"/>
                  </a:lnTo>
                  <a:lnTo>
                    <a:pt x="964732" y="1699103"/>
                  </a:lnTo>
                  <a:lnTo>
                    <a:pt x="1019248" y="1703353"/>
                  </a:lnTo>
                  <a:lnTo>
                    <a:pt x="1118028" y="1699966"/>
                  </a:lnTo>
                  <a:lnTo>
                    <a:pt x="1178687" y="1695424"/>
                  </a:lnTo>
                  <a:lnTo>
                    <a:pt x="1304536" y="1681366"/>
                  </a:lnTo>
                  <a:lnTo>
                    <a:pt x="1368004" y="1669781"/>
                  </a:lnTo>
                  <a:lnTo>
                    <a:pt x="1429708" y="1651579"/>
                  </a:lnTo>
                  <a:lnTo>
                    <a:pt x="1490888" y="1634144"/>
                  </a:lnTo>
                  <a:lnTo>
                    <a:pt x="1555958" y="1610164"/>
                  </a:lnTo>
                  <a:lnTo>
                    <a:pt x="1615408" y="1585655"/>
                  </a:lnTo>
                  <a:lnTo>
                    <a:pt x="1674603" y="1558261"/>
                  </a:lnTo>
                  <a:lnTo>
                    <a:pt x="1730995" y="1528695"/>
                  </a:lnTo>
                  <a:lnTo>
                    <a:pt x="1838848" y="1468086"/>
                  </a:lnTo>
                  <a:lnTo>
                    <a:pt x="1903128" y="1421390"/>
                  </a:lnTo>
                  <a:lnTo>
                    <a:pt x="1974504" y="1358767"/>
                  </a:lnTo>
                  <a:lnTo>
                    <a:pt x="2027793" y="1307227"/>
                  </a:lnTo>
                  <a:lnTo>
                    <a:pt x="2061233" y="1264756"/>
                  </a:lnTo>
                  <a:lnTo>
                    <a:pt x="2091744" y="1224138"/>
                  </a:lnTo>
                  <a:lnTo>
                    <a:pt x="2117247" y="1180305"/>
                  </a:lnTo>
                  <a:lnTo>
                    <a:pt x="2140044" y="1135145"/>
                  </a:lnTo>
                  <a:lnTo>
                    <a:pt x="2157899" y="1089590"/>
                  </a:lnTo>
                  <a:lnTo>
                    <a:pt x="2173067" y="1043919"/>
                  </a:lnTo>
                  <a:lnTo>
                    <a:pt x="2182454" y="998214"/>
                  </a:lnTo>
                  <a:lnTo>
                    <a:pt x="2186458" y="952498"/>
                  </a:lnTo>
                  <a:lnTo>
                    <a:pt x="2190937" y="907626"/>
                  </a:lnTo>
                  <a:lnTo>
                    <a:pt x="2187634" y="837141"/>
                  </a:lnTo>
                  <a:lnTo>
                    <a:pt x="2179056" y="796211"/>
                  </a:lnTo>
                  <a:lnTo>
                    <a:pt x="2160987" y="745302"/>
                  </a:lnTo>
                  <a:lnTo>
                    <a:pt x="2144443" y="711427"/>
                  </a:lnTo>
                  <a:lnTo>
                    <a:pt x="2111627" y="662483"/>
                  </a:lnTo>
                  <a:lnTo>
                    <a:pt x="2085886" y="626962"/>
                  </a:lnTo>
                  <a:lnTo>
                    <a:pt x="2046846" y="580574"/>
                  </a:lnTo>
                  <a:lnTo>
                    <a:pt x="1999592" y="536729"/>
                  </a:lnTo>
                  <a:lnTo>
                    <a:pt x="1931317" y="489289"/>
                  </a:lnTo>
                  <a:lnTo>
                    <a:pt x="1873698" y="453128"/>
                  </a:lnTo>
                  <a:lnTo>
                    <a:pt x="1811140" y="425664"/>
                  </a:lnTo>
                  <a:lnTo>
                    <a:pt x="1741962" y="396031"/>
                  </a:lnTo>
                  <a:lnTo>
                    <a:pt x="1676463" y="371802"/>
                  </a:lnTo>
                  <a:lnTo>
                    <a:pt x="1624866" y="355885"/>
                  </a:lnTo>
                  <a:lnTo>
                    <a:pt x="1572043" y="341291"/>
                  </a:lnTo>
                  <a:lnTo>
                    <a:pt x="1519702" y="330382"/>
                  </a:lnTo>
                  <a:lnTo>
                    <a:pt x="1453818" y="314212"/>
                  </a:lnTo>
                  <a:lnTo>
                    <a:pt x="1401606" y="305331"/>
                  </a:lnTo>
                  <a:lnTo>
                    <a:pt x="1334912" y="294745"/>
                  </a:lnTo>
                  <a:lnTo>
                    <a:pt x="1267582" y="290584"/>
                  </a:lnTo>
                  <a:lnTo>
                    <a:pt x="1199970" y="287505"/>
                  </a:lnTo>
                  <a:lnTo>
                    <a:pt x="1146334" y="283589"/>
                  </a:lnTo>
                  <a:lnTo>
                    <a:pt x="1082699" y="282265"/>
                  </a:lnTo>
                  <a:lnTo>
                    <a:pt x="933546" y="281948"/>
                  </a:lnTo>
                  <a:lnTo>
                    <a:pt x="881032" y="277898"/>
                  </a:lnTo>
                  <a:lnTo>
                    <a:pt x="816275" y="275027"/>
                  </a:lnTo>
                  <a:lnTo>
                    <a:pt x="752307" y="272202"/>
                  </a:lnTo>
                  <a:lnTo>
                    <a:pt x="690941" y="267787"/>
                  </a:lnTo>
                  <a:lnTo>
                    <a:pt x="626733" y="260831"/>
                  </a:lnTo>
                  <a:lnTo>
                    <a:pt x="564254" y="251304"/>
                  </a:lnTo>
                  <a:lnTo>
                    <a:pt x="507039" y="241270"/>
                  </a:lnTo>
                  <a:lnTo>
                    <a:pt x="449735" y="235524"/>
                  </a:lnTo>
                  <a:lnTo>
                    <a:pt x="394515" y="222097"/>
                  </a:lnTo>
                  <a:lnTo>
                    <a:pt x="306626" y="203265"/>
                  </a:lnTo>
                  <a:lnTo>
                    <a:pt x="203628" y="173036"/>
                  </a:lnTo>
                  <a:lnTo>
                    <a:pt x="163491" y="161776"/>
                  </a:lnTo>
                  <a:lnTo>
                    <a:pt x="99196" y="134936"/>
                  </a:lnTo>
                  <a:lnTo>
                    <a:pt x="69453" y="123676"/>
                  </a:lnTo>
                  <a:lnTo>
                    <a:pt x="11190" y="86422"/>
                  </a:lnTo>
                  <a:lnTo>
                    <a:pt x="5537" y="81308"/>
                  </a:lnTo>
                  <a:lnTo>
                    <a:pt x="3692" y="78758"/>
                  </a:lnTo>
                  <a:lnTo>
                    <a:pt x="1641" y="73668"/>
                  </a:lnTo>
                  <a:lnTo>
                    <a:pt x="486" y="66042"/>
                  </a:lnTo>
                  <a:lnTo>
                    <a:pt x="0" y="26881"/>
                  </a:lnTo>
                  <a:lnTo>
                    <a:pt x="847" y="24694"/>
                  </a:lnTo>
                  <a:lnTo>
                    <a:pt x="7306" y="15659"/>
                  </a:lnTo>
                  <a:lnTo>
                    <a:pt x="76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MARTInkAnnotation336"/>
            <p:cNvSpPr/>
            <p:nvPr/>
          </p:nvSpPr>
          <p:spPr>
            <a:xfrm>
              <a:off x="735480" y="5144040"/>
              <a:ext cx="536760" cy="295200"/>
            </a:xfrm>
            <a:custGeom>
              <a:avLst/>
              <a:gdLst>
                <a:gd name="textAreaLeft" fmla="*/ 0 w 536760"/>
                <a:gd name="textAreaRight" fmla="*/ 537120 w 5367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536778" h="295191">
                  <a:moveTo>
                    <a:pt x="49605" y="0"/>
                  </a:moveTo>
                  <a:lnTo>
                    <a:pt x="45560" y="4045"/>
                  </a:lnTo>
                  <a:lnTo>
                    <a:pt x="44368" y="6083"/>
                  </a:lnTo>
                  <a:lnTo>
                    <a:pt x="41845" y="13844"/>
                  </a:lnTo>
                  <a:lnTo>
                    <a:pt x="38254" y="21957"/>
                  </a:lnTo>
                  <a:lnTo>
                    <a:pt x="31472" y="36045"/>
                  </a:lnTo>
                  <a:lnTo>
                    <a:pt x="29050" y="41810"/>
                  </a:lnTo>
                  <a:lnTo>
                    <a:pt x="26588" y="48194"/>
                  </a:lnTo>
                  <a:lnTo>
                    <a:pt x="24100" y="54989"/>
                  </a:lnTo>
                  <a:lnTo>
                    <a:pt x="20749" y="61213"/>
                  </a:lnTo>
                  <a:lnTo>
                    <a:pt x="16821" y="67055"/>
                  </a:lnTo>
                  <a:lnTo>
                    <a:pt x="12509" y="72644"/>
                  </a:lnTo>
                  <a:lnTo>
                    <a:pt x="9634" y="78909"/>
                  </a:lnTo>
                  <a:lnTo>
                    <a:pt x="7718" y="85626"/>
                  </a:lnTo>
                  <a:lnTo>
                    <a:pt x="6440" y="92644"/>
                  </a:lnTo>
                  <a:lnTo>
                    <a:pt x="4742" y="99863"/>
                  </a:lnTo>
                  <a:lnTo>
                    <a:pt x="2763" y="107215"/>
                  </a:lnTo>
                  <a:lnTo>
                    <a:pt x="597" y="114657"/>
                  </a:lnTo>
                  <a:lnTo>
                    <a:pt x="0" y="122158"/>
                  </a:lnTo>
                  <a:lnTo>
                    <a:pt x="448" y="129698"/>
                  </a:lnTo>
                  <a:lnTo>
                    <a:pt x="1594" y="137266"/>
                  </a:lnTo>
                  <a:lnTo>
                    <a:pt x="3204" y="144850"/>
                  </a:lnTo>
                  <a:lnTo>
                    <a:pt x="5125" y="152447"/>
                  </a:lnTo>
                  <a:lnTo>
                    <a:pt x="7252" y="160051"/>
                  </a:lnTo>
                  <a:lnTo>
                    <a:pt x="9516" y="166814"/>
                  </a:lnTo>
                  <a:lnTo>
                    <a:pt x="11872" y="173016"/>
                  </a:lnTo>
                  <a:lnTo>
                    <a:pt x="14290" y="178844"/>
                  </a:lnTo>
                  <a:lnTo>
                    <a:pt x="17595" y="185269"/>
                  </a:lnTo>
                  <a:lnTo>
                    <a:pt x="21492" y="192093"/>
                  </a:lnTo>
                  <a:lnTo>
                    <a:pt x="25783" y="199182"/>
                  </a:lnTo>
                  <a:lnTo>
                    <a:pt x="31184" y="205601"/>
                  </a:lnTo>
                  <a:lnTo>
                    <a:pt x="37324" y="211574"/>
                  </a:lnTo>
                  <a:lnTo>
                    <a:pt x="43958" y="217250"/>
                  </a:lnTo>
                  <a:lnTo>
                    <a:pt x="55844" y="225813"/>
                  </a:lnTo>
                  <a:lnTo>
                    <a:pt x="67618" y="232442"/>
                  </a:lnTo>
                  <a:lnTo>
                    <a:pt x="81318" y="238209"/>
                  </a:lnTo>
                  <a:lnTo>
                    <a:pt x="95873" y="241338"/>
                  </a:lnTo>
                  <a:lnTo>
                    <a:pt x="103310" y="242171"/>
                  </a:lnTo>
                  <a:lnTo>
                    <a:pt x="118347" y="240841"/>
                  </a:lnTo>
                  <a:lnTo>
                    <a:pt x="133497" y="237427"/>
                  </a:lnTo>
                  <a:lnTo>
                    <a:pt x="148697" y="233088"/>
                  </a:lnTo>
                  <a:lnTo>
                    <a:pt x="161662" y="226079"/>
                  </a:lnTo>
                  <a:lnTo>
                    <a:pt x="173068" y="217320"/>
                  </a:lnTo>
                  <a:lnTo>
                    <a:pt x="178481" y="212613"/>
                  </a:lnTo>
                  <a:lnTo>
                    <a:pt x="183782" y="207782"/>
                  </a:lnTo>
                  <a:lnTo>
                    <a:pt x="188163" y="202021"/>
                  </a:lnTo>
                  <a:lnTo>
                    <a:pt x="191930" y="195640"/>
                  </a:lnTo>
                  <a:lnTo>
                    <a:pt x="195289" y="188847"/>
                  </a:lnTo>
                  <a:lnTo>
                    <a:pt x="199221" y="182625"/>
                  </a:lnTo>
                  <a:lnTo>
                    <a:pt x="203536" y="176783"/>
                  </a:lnTo>
                  <a:lnTo>
                    <a:pt x="208105" y="171195"/>
                  </a:lnTo>
                  <a:lnTo>
                    <a:pt x="211999" y="164930"/>
                  </a:lnTo>
                  <a:lnTo>
                    <a:pt x="215441" y="158214"/>
                  </a:lnTo>
                  <a:lnTo>
                    <a:pt x="218583" y="151195"/>
                  </a:lnTo>
                  <a:lnTo>
                    <a:pt x="221523" y="145670"/>
                  </a:lnTo>
                  <a:lnTo>
                    <a:pt x="227049" y="137273"/>
                  </a:lnTo>
                  <a:lnTo>
                    <a:pt x="230069" y="130720"/>
                  </a:lnTo>
                  <a:lnTo>
                    <a:pt x="231769" y="122269"/>
                  </a:lnTo>
                  <a:lnTo>
                    <a:pt x="232443" y="114767"/>
                  </a:lnTo>
                  <a:lnTo>
                    <a:pt x="232473" y="118483"/>
                  </a:lnTo>
                  <a:lnTo>
                    <a:pt x="234738" y="124908"/>
                  </a:lnTo>
                  <a:lnTo>
                    <a:pt x="237720" y="132561"/>
                  </a:lnTo>
                  <a:lnTo>
                    <a:pt x="239045" y="138785"/>
                  </a:lnTo>
                  <a:lnTo>
                    <a:pt x="241938" y="144170"/>
                  </a:lnTo>
                  <a:lnTo>
                    <a:pt x="246407" y="151147"/>
                  </a:lnTo>
                  <a:lnTo>
                    <a:pt x="251927" y="159184"/>
                  </a:lnTo>
                  <a:lnTo>
                    <a:pt x="256453" y="166236"/>
                  </a:lnTo>
                  <a:lnTo>
                    <a:pt x="260317" y="172631"/>
                  </a:lnTo>
                  <a:lnTo>
                    <a:pt x="263740" y="178587"/>
                  </a:lnTo>
                  <a:lnTo>
                    <a:pt x="268562" y="185098"/>
                  </a:lnTo>
                  <a:lnTo>
                    <a:pt x="274316" y="191979"/>
                  </a:lnTo>
                  <a:lnTo>
                    <a:pt x="280692" y="199106"/>
                  </a:lnTo>
                  <a:lnTo>
                    <a:pt x="288330" y="206397"/>
                  </a:lnTo>
                  <a:lnTo>
                    <a:pt x="296809" y="213798"/>
                  </a:lnTo>
                  <a:lnTo>
                    <a:pt x="305848" y="221272"/>
                  </a:lnTo>
                  <a:lnTo>
                    <a:pt x="324922" y="236350"/>
                  </a:lnTo>
                  <a:lnTo>
                    <a:pt x="334749" y="243927"/>
                  </a:lnTo>
                  <a:lnTo>
                    <a:pt x="344688" y="250671"/>
                  </a:lnTo>
                  <a:lnTo>
                    <a:pt x="354700" y="256861"/>
                  </a:lnTo>
                  <a:lnTo>
                    <a:pt x="364762" y="262680"/>
                  </a:lnTo>
                  <a:lnTo>
                    <a:pt x="375703" y="268253"/>
                  </a:lnTo>
                  <a:lnTo>
                    <a:pt x="387230" y="273662"/>
                  </a:lnTo>
                  <a:lnTo>
                    <a:pt x="399149" y="278961"/>
                  </a:lnTo>
                  <a:lnTo>
                    <a:pt x="409634" y="283340"/>
                  </a:lnTo>
                  <a:lnTo>
                    <a:pt x="419165" y="287107"/>
                  </a:lnTo>
                  <a:lnTo>
                    <a:pt x="428058" y="290464"/>
                  </a:lnTo>
                  <a:lnTo>
                    <a:pt x="437374" y="292703"/>
                  </a:lnTo>
                  <a:lnTo>
                    <a:pt x="446971" y="294196"/>
                  </a:lnTo>
                  <a:lnTo>
                    <a:pt x="456756" y="295190"/>
                  </a:lnTo>
                  <a:lnTo>
                    <a:pt x="466666" y="295007"/>
                  </a:lnTo>
                  <a:lnTo>
                    <a:pt x="476659" y="294037"/>
                  </a:lnTo>
                  <a:lnTo>
                    <a:pt x="486708" y="292545"/>
                  </a:lnTo>
                  <a:lnTo>
                    <a:pt x="502388" y="288629"/>
                  </a:lnTo>
                  <a:lnTo>
                    <a:pt x="508941" y="286399"/>
                  </a:lnTo>
                  <a:lnTo>
                    <a:pt x="514155" y="283220"/>
                  </a:lnTo>
                  <a:lnTo>
                    <a:pt x="522207" y="275170"/>
                  </a:lnTo>
                  <a:lnTo>
                    <a:pt x="525540" y="269807"/>
                  </a:lnTo>
                  <a:lnTo>
                    <a:pt x="528608" y="263692"/>
                  </a:lnTo>
                  <a:lnTo>
                    <a:pt x="531501" y="257075"/>
                  </a:lnTo>
                  <a:lnTo>
                    <a:pt x="533429" y="249276"/>
                  </a:lnTo>
                  <a:lnTo>
                    <a:pt x="534714" y="240691"/>
                  </a:lnTo>
                  <a:lnTo>
                    <a:pt x="535571" y="231581"/>
                  </a:lnTo>
                  <a:lnTo>
                    <a:pt x="536143" y="222967"/>
                  </a:lnTo>
                  <a:lnTo>
                    <a:pt x="536524" y="214685"/>
                  </a:lnTo>
                  <a:lnTo>
                    <a:pt x="536777" y="206623"/>
                  </a:lnTo>
                  <a:lnTo>
                    <a:pt x="536100" y="197862"/>
                  </a:lnTo>
                  <a:lnTo>
                    <a:pt x="534802" y="188635"/>
                  </a:lnTo>
                  <a:lnTo>
                    <a:pt x="533090" y="179096"/>
                  </a:lnTo>
                  <a:lnTo>
                    <a:pt x="531101" y="170197"/>
                  </a:lnTo>
                  <a:lnTo>
                    <a:pt x="528929" y="161725"/>
                  </a:lnTo>
                  <a:lnTo>
                    <a:pt x="526635" y="153537"/>
                  </a:lnTo>
                  <a:lnTo>
                    <a:pt x="523411" y="146384"/>
                  </a:lnTo>
                  <a:lnTo>
                    <a:pt x="519569" y="139922"/>
                  </a:lnTo>
                  <a:lnTo>
                    <a:pt x="515315" y="133922"/>
                  </a:lnTo>
                  <a:lnTo>
                    <a:pt x="511632" y="128228"/>
                  </a:lnTo>
                  <a:lnTo>
                    <a:pt x="508330" y="122739"/>
                  </a:lnTo>
                  <a:lnTo>
                    <a:pt x="505281" y="117386"/>
                  </a:lnTo>
                  <a:lnTo>
                    <a:pt x="503250" y="112124"/>
                  </a:lnTo>
                  <a:lnTo>
                    <a:pt x="501895" y="106923"/>
                  </a:lnTo>
                  <a:lnTo>
                    <a:pt x="500992" y="101762"/>
                  </a:lnTo>
                  <a:lnTo>
                    <a:pt x="497730" y="93769"/>
                  </a:lnTo>
                  <a:lnTo>
                    <a:pt x="491565" y="83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MARTInkAnnotation337"/>
            <p:cNvSpPr/>
            <p:nvPr/>
          </p:nvSpPr>
          <p:spPr>
            <a:xfrm>
              <a:off x="1448280" y="5250600"/>
              <a:ext cx="243720" cy="7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43841" h="7620">
                  <a:moveTo>
                    <a:pt x="0" y="7619"/>
                  </a:moveTo>
                  <a:lnTo>
                    <a:pt x="4045" y="7619"/>
                  </a:lnTo>
                  <a:lnTo>
                    <a:pt x="7777" y="6773"/>
                  </a:lnTo>
                  <a:lnTo>
                    <a:pt x="12805" y="5361"/>
                  </a:lnTo>
                  <a:lnTo>
                    <a:pt x="18696" y="3574"/>
                  </a:lnTo>
                  <a:lnTo>
                    <a:pt x="23471" y="2382"/>
                  </a:lnTo>
                  <a:lnTo>
                    <a:pt x="27501" y="1588"/>
                  </a:lnTo>
                  <a:lnTo>
                    <a:pt x="31034" y="1058"/>
                  </a:lnTo>
                  <a:lnTo>
                    <a:pt x="35929" y="705"/>
                  </a:lnTo>
                  <a:lnTo>
                    <a:pt x="41733" y="470"/>
                  </a:lnTo>
                  <a:lnTo>
                    <a:pt x="56648" y="208"/>
                  </a:lnTo>
                  <a:lnTo>
                    <a:pt x="189077" y="0"/>
                  </a:lnTo>
                  <a:lnTo>
                    <a:pt x="196325" y="847"/>
                  </a:lnTo>
                  <a:lnTo>
                    <a:pt x="202850" y="2257"/>
                  </a:lnTo>
                  <a:lnTo>
                    <a:pt x="208893" y="4045"/>
                  </a:lnTo>
                  <a:lnTo>
                    <a:pt x="214616" y="5236"/>
                  </a:lnTo>
                  <a:lnTo>
                    <a:pt x="220124" y="6031"/>
                  </a:lnTo>
                  <a:lnTo>
                    <a:pt x="225489" y="6560"/>
                  </a:lnTo>
                  <a:lnTo>
                    <a:pt x="229913" y="6913"/>
                  </a:lnTo>
                  <a:lnTo>
                    <a:pt x="233708" y="7148"/>
                  </a:lnTo>
                  <a:lnTo>
                    <a:pt x="243840" y="76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SMARTInkAnnotation338"/>
            <p:cNvSpPr/>
            <p:nvPr/>
          </p:nvSpPr>
          <p:spPr>
            <a:xfrm>
              <a:off x="1501560" y="5372640"/>
              <a:ext cx="182880" cy="43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82881" h="4391">
                  <a:moveTo>
                    <a:pt x="0" y="0"/>
                  </a:moveTo>
                  <a:lnTo>
                    <a:pt x="38320" y="0"/>
                  </a:lnTo>
                  <a:lnTo>
                    <a:pt x="46713" y="846"/>
                  </a:lnTo>
                  <a:lnTo>
                    <a:pt x="55696" y="2258"/>
                  </a:lnTo>
                  <a:lnTo>
                    <a:pt x="65070" y="4045"/>
                  </a:lnTo>
                  <a:lnTo>
                    <a:pt x="73861" y="4390"/>
                  </a:lnTo>
                  <a:lnTo>
                    <a:pt x="82260" y="3773"/>
                  </a:lnTo>
                  <a:lnTo>
                    <a:pt x="90400" y="2516"/>
                  </a:lnTo>
                  <a:lnTo>
                    <a:pt x="100060" y="1677"/>
                  </a:lnTo>
                  <a:lnTo>
                    <a:pt x="110733" y="1119"/>
                  </a:lnTo>
                  <a:lnTo>
                    <a:pt x="139208" y="331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SMARTInkAnnotation339"/>
            <p:cNvSpPr/>
            <p:nvPr/>
          </p:nvSpPr>
          <p:spPr>
            <a:xfrm>
              <a:off x="1958760" y="5098320"/>
              <a:ext cx="320040" cy="27828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320041" h="278284">
                  <a:moveTo>
                    <a:pt x="0" y="53300"/>
                  </a:moveTo>
                  <a:lnTo>
                    <a:pt x="0" y="49255"/>
                  </a:lnTo>
                  <a:lnTo>
                    <a:pt x="847" y="48064"/>
                  </a:lnTo>
                  <a:lnTo>
                    <a:pt x="2258" y="47269"/>
                  </a:lnTo>
                  <a:lnTo>
                    <a:pt x="4046" y="46739"/>
                  </a:lnTo>
                  <a:lnTo>
                    <a:pt x="6084" y="44693"/>
                  </a:lnTo>
                  <a:lnTo>
                    <a:pt x="10606" y="37904"/>
                  </a:lnTo>
                  <a:lnTo>
                    <a:pt x="17696" y="31499"/>
                  </a:lnTo>
                  <a:lnTo>
                    <a:pt x="26492" y="25831"/>
                  </a:lnTo>
                  <a:lnTo>
                    <a:pt x="36045" y="20489"/>
                  </a:lnTo>
                  <a:lnTo>
                    <a:pt x="42657" y="17880"/>
                  </a:lnTo>
                  <a:lnTo>
                    <a:pt x="50451" y="15293"/>
                  </a:lnTo>
                  <a:lnTo>
                    <a:pt x="67296" y="10162"/>
                  </a:lnTo>
                  <a:lnTo>
                    <a:pt x="83249" y="5059"/>
                  </a:lnTo>
                  <a:lnTo>
                    <a:pt x="92753" y="3359"/>
                  </a:lnTo>
                  <a:lnTo>
                    <a:pt x="103322" y="2226"/>
                  </a:lnTo>
                  <a:lnTo>
                    <a:pt x="114601" y="1471"/>
                  </a:lnTo>
                  <a:lnTo>
                    <a:pt x="125508" y="967"/>
                  </a:lnTo>
                  <a:lnTo>
                    <a:pt x="146657" y="408"/>
                  </a:lnTo>
                  <a:lnTo>
                    <a:pt x="201661" y="0"/>
                  </a:lnTo>
                  <a:lnTo>
                    <a:pt x="208947" y="834"/>
                  </a:lnTo>
                  <a:lnTo>
                    <a:pt x="214652" y="2236"/>
                  </a:lnTo>
                  <a:lnTo>
                    <a:pt x="224094" y="6052"/>
                  </a:lnTo>
                  <a:lnTo>
                    <a:pt x="233935" y="10570"/>
                  </a:lnTo>
                  <a:lnTo>
                    <a:pt x="237237" y="12960"/>
                  </a:lnTo>
                  <a:lnTo>
                    <a:pt x="239438" y="15400"/>
                  </a:lnTo>
                  <a:lnTo>
                    <a:pt x="240905" y="17874"/>
                  </a:lnTo>
                  <a:lnTo>
                    <a:pt x="242536" y="22879"/>
                  </a:lnTo>
                  <a:lnTo>
                    <a:pt x="242971" y="25400"/>
                  </a:lnTo>
                  <a:lnTo>
                    <a:pt x="241567" y="27926"/>
                  </a:lnTo>
                  <a:lnTo>
                    <a:pt x="235492" y="32992"/>
                  </a:lnTo>
                  <a:lnTo>
                    <a:pt x="227148" y="40323"/>
                  </a:lnTo>
                  <a:lnTo>
                    <a:pt x="222552" y="44649"/>
                  </a:lnTo>
                  <a:lnTo>
                    <a:pt x="216101" y="49226"/>
                  </a:lnTo>
                  <a:lnTo>
                    <a:pt x="208414" y="53971"/>
                  </a:lnTo>
                  <a:lnTo>
                    <a:pt x="199903" y="58828"/>
                  </a:lnTo>
                  <a:lnTo>
                    <a:pt x="181415" y="68739"/>
                  </a:lnTo>
                  <a:lnTo>
                    <a:pt x="171743" y="73753"/>
                  </a:lnTo>
                  <a:lnTo>
                    <a:pt x="161062" y="78788"/>
                  </a:lnTo>
                  <a:lnTo>
                    <a:pt x="137905" y="88899"/>
                  </a:lnTo>
                  <a:lnTo>
                    <a:pt x="127497" y="93967"/>
                  </a:lnTo>
                  <a:lnTo>
                    <a:pt x="118018" y="99037"/>
                  </a:lnTo>
                  <a:lnTo>
                    <a:pt x="109159" y="104112"/>
                  </a:lnTo>
                  <a:lnTo>
                    <a:pt x="100713" y="109188"/>
                  </a:lnTo>
                  <a:lnTo>
                    <a:pt x="84555" y="119344"/>
                  </a:lnTo>
                  <a:lnTo>
                    <a:pt x="61178" y="134582"/>
                  </a:lnTo>
                  <a:lnTo>
                    <a:pt x="55179" y="139661"/>
                  </a:lnTo>
                  <a:lnTo>
                    <a:pt x="50333" y="144741"/>
                  </a:lnTo>
                  <a:lnTo>
                    <a:pt x="46255" y="149820"/>
                  </a:lnTo>
                  <a:lnTo>
                    <a:pt x="43537" y="155747"/>
                  </a:lnTo>
                  <a:lnTo>
                    <a:pt x="41725" y="162238"/>
                  </a:lnTo>
                  <a:lnTo>
                    <a:pt x="40517" y="169106"/>
                  </a:lnTo>
                  <a:lnTo>
                    <a:pt x="40558" y="175377"/>
                  </a:lnTo>
                  <a:lnTo>
                    <a:pt x="41432" y="181252"/>
                  </a:lnTo>
                  <a:lnTo>
                    <a:pt x="42861" y="186861"/>
                  </a:lnTo>
                  <a:lnTo>
                    <a:pt x="44661" y="193141"/>
                  </a:lnTo>
                  <a:lnTo>
                    <a:pt x="48919" y="206892"/>
                  </a:lnTo>
                  <a:lnTo>
                    <a:pt x="52932" y="213267"/>
                  </a:lnTo>
                  <a:lnTo>
                    <a:pt x="58148" y="219212"/>
                  </a:lnTo>
                  <a:lnTo>
                    <a:pt x="64165" y="224869"/>
                  </a:lnTo>
                  <a:lnTo>
                    <a:pt x="70717" y="230332"/>
                  </a:lnTo>
                  <a:lnTo>
                    <a:pt x="77625" y="235668"/>
                  </a:lnTo>
                  <a:lnTo>
                    <a:pt x="84770" y="240918"/>
                  </a:lnTo>
                  <a:lnTo>
                    <a:pt x="92920" y="246113"/>
                  </a:lnTo>
                  <a:lnTo>
                    <a:pt x="101740" y="251269"/>
                  </a:lnTo>
                  <a:lnTo>
                    <a:pt x="111007" y="256399"/>
                  </a:lnTo>
                  <a:lnTo>
                    <a:pt x="120571" y="260666"/>
                  </a:lnTo>
                  <a:lnTo>
                    <a:pt x="130334" y="264357"/>
                  </a:lnTo>
                  <a:lnTo>
                    <a:pt x="140230" y="267665"/>
                  </a:lnTo>
                  <a:lnTo>
                    <a:pt x="150213" y="269870"/>
                  </a:lnTo>
                  <a:lnTo>
                    <a:pt x="160255" y="271340"/>
                  </a:lnTo>
                  <a:lnTo>
                    <a:pt x="170337" y="272320"/>
                  </a:lnTo>
                  <a:lnTo>
                    <a:pt x="181291" y="273820"/>
                  </a:lnTo>
                  <a:lnTo>
                    <a:pt x="204752" y="277745"/>
                  </a:lnTo>
                  <a:lnTo>
                    <a:pt x="215241" y="278283"/>
                  </a:lnTo>
                  <a:lnTo>
                    <a:pt x="224774" y="277795"/>
                  </a:lnTo>
                  <a:lnTo>
                    <a:pt x="233669" y="276624"/>
                  </a:lnTo>
                  <a:lnTo>
                    <a:pt x="242140" y="275843"/>
                  </a:lnTo>
                  <a:lnTo>
                    <a:pt x="250326" y="275322"/>
                  </a:lnTo>
                  <a:lnTo>
                    <a:pt x="258324" y="274975"/>
                  </a:lnTo>
                  <a:lnTo>
                    <a:pt x="266196" y="273896"/>
                  </a:lnTo>
                  <a:lnTo>
                    <a:pt x="273984" y="272331"/>
                  </a:lnTo>
                  <a:lnTo>
                    <a:pt x="281716" y="270441"/>
                  </a:lnTo>
                  <a:lnTo>
                    <a:pt x="289411" y="268334"/>
                  </a:lnTo>
                  <a:lnTo>
                    <a:pt x="304733" y="263735"/>
                  </a:lnTo>
                  <a:lnTo>
                    <a:pt x="309836" y="261323"/>
                  </a:lnTo>
                  <a:lnTo>
                    <a:pt x="313237" y="258869"/>
                  </a:lnTo>
                  <a:lnTo>
                    <a:pt x="320040" y="2514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SMARTInkAnnotation340"/>
            <p:cNvSpPr/>
            <p:nvPr/>
          </p:nvSpPr>
          <p:spPr>
            <a:xfrm>
              <a:off x="2394720" y="5060160"/>
              <a:ext cx="150480" cy="4953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50761" h="495301">
                  <a:moveTo>
                    <a:pt x="135520" y="0"/>
                  </a:moveTo>
                  <a:lnTo>
                    <a:pt x="135520" y="6561"/>
                  </a:lnTo>
                  <a:lnTo>
                    <a:pt x="131475" y="11352"/>
                  </a:lnTo>
                  <a:lnTo>
                    <a:pt x="120869" y="22178"/>
                  </a:lnTo>
                  <a:lnTo>
                    <a:pt x="107002" y="36111"/>
                  </a:lnTo>
                  <a:lnTo>
                    <a:pt x="102114" y="41854"/>
                  </a:lnTo>
                  <a:lnTo>
                    <a:pt x="97163" y="48222"/>
                  </a:lnTo>
                  <a:lnTo>
                    <a:pt x="73004" y="80740"/>
                  </a:lnTo>
                  <a:lnTo>
                    <a:pt x="66750" y="90233"/>
                  </a:lnTo>
                  <a:lnTo>
                    <a:pt x="60886" y="99949"/>
                  </a:lnTo>
                  <a:lnTo>
                    <a:pt x="55284" y="109812"/>
                  </a:lnTo>
                  <a:lnTo>
                    <a:pt x="44544" y="129803"/>
                  </a:lnTo>
                  <a:lnTo>
                    <a:pt x="39309" y="139875"/>
                  </a:lnTo>
                  <a:lnTo>
                    <a:pt x="34126" y="150824"/>
                  </a:lnTo>
                  <a:lnTo>
                    <a:pt x="23852" y="174277"/>
                  </a:lnTo>
                  <a:lnTo>
                    <a:pt x="19588" y="186458"/>
                  </a:lnTo>
                  <a:lnTo>
                    <a:pt x="15898" y="198812"/>
                  </a:lnTo>
                  <a:lnTo>
                    <a:pt x="3894" y="245012"/>
                  </a:lnTo>
                  <a:lnTo>
                    <a:pt x="2049" y="256475"/>
                  </a:lnTo>
                  <a:lnTo>
                    <a:pt x="820" y="268350"/>
                  </a:lnTo>
                  <a:lnTo>
                    <a:pt x="0" y="280499"/>
                  </a:lnTo>
                  <a:lnTo>
                    <a:pt x="300" y="292833"/>
                  </a:lnTo>
                  <a:lnTo>
                    <a:pt x="1347" y="305289"/>
                  </a:lnTo>
                  <a:lnTo>
                    <a:pt x="2891" y="317826"/>
                  </a:lnTo>
                  <a:lnTo>
                    <a:pt x="5614" y="330417"/>
                  </a:lnTo>
                  <a:lnTo>
                    <a:pt x="9123" y="343044"/>
                  </a:lnTo>
                  <a:lnTo>
                    <a:pt x="13155" y="355696"/>
                  </a:lnTo>
                  <a:lnTo>
                    <a:pt x="18383" y="368364"/>
                  </a:lnTo>
                  <a:lnTo>
                    <a:pt x="24409" y="381043"/>
                  </a:lnTo>
                  <a:lnTo>
                    <a:pt x="30966" y="393729"/>
                  </a:lnTo>
                  <a:lnTo>
                    <a:pt x="38724" y="405572"/>
                  </a:lnTo>
                  <a:lnTo>
                    <a:pt x="47283" y="416854"/>
                  </a:lnTo>
                  <a:lnTo>
                    <a:pt x="56375" y="427763"/>
                  </a:lnTo>
                  <a:lnTo>
                    <a:pt x="65823" y="437575"/>
                  </a:lnTo>
                  <a:lnTo>
                    <a:pt x="75509" y="446657"/>
                  </a:lnTo>
                  <a:lnTo>
                    <a:pt x="85353" y="455251"/>
                  </a:lnTo>
                  <a:lnTo>
                    <a:pt x="94455" y="462674"/>
                  </a:lnTo>
                  <a:lnTo>
                    <a:pt x="103063" y="469316"/>
                  </a:lnTo>
                  <a:lnTo>
                    <a:pt x="111342" y="475438"/>
                  </a:lnTo>
                  <a:lnTo>
                    <a:pt x="119401" y="480366"/>
                  </a:lnTo>
                  <a:lnTo>
                    <a:pt x="127314" y="484497"/>
                  </a:lnTo>
                  <a:lnTo>
                    <a:pt x="150760" y="4953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SMARTInkAnnotation341"/>
            <p:cNvSpPr/>
            <p:nvPr/>
          </p:nvSpPr>
          <p:spPr>
            <a:xfrm>
              <a:off x="2661480" y="5067720"/>
              <a:ext cx="222120" cy="3657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222173" h="365761">
                  <a:moveTo>
                    <a:pt x="181182" y="0"/>
                  </a:moveTo>
                  <a:lnTo>
                    <a:pt x="174621" y="6561"/>
                  </a:lnTo>
                  <a:lnTo>
                    <a:pt x="169517" y="9408"/>
                  </a:lnTo>
                  <a:lnTo>
                    <a:pt x="165786" y="11352"/>
                  </a:lnTo>
                  <a:lnTo>
                    <a:pt x="159381" y="18027"/>
                  </a:lnTo>
                  <a:lnTo>
                    <a:pt x="156488" y="22178"/>
                  </a:lnTo>
                  <a:lnTo>
                    <a:pt x="152019" y="26639"/>
                  </a:lnTo>
                  <a:lnTo>
                    <a:pt x="146500" y="31306"/>
                  </a:lnTo>
                  <a:lnTo>
                    <a:pt x="140281" y="36111"/>
                  </a:lnTo>
                  <a:lnTo>
                    <a:pt x="133595" y="41854"/>
                  </a:lnTo>
                  <a:lnTo>
                    <a:pt x="126597" y="48223"/>
                  </a:lnTo>
                  <a:lnTo>
                    <a:pt x="119392" y="55008"/>
                  </a:lnTo>
                  <a:lnTo>
                    <a:pt x="111202" y="62072"/>
                  </a:lnTo>
                  <a:lnTo>
                    <a:pt x="102355" y="69321"/>
                  </a:lnTo>
                  <a:lnTo>
                    <a:pt x="93071" y="76695"/>
                  </a:lnTo>
                  <a:lnTo>
                    <a:pt x="85188" y="84150"/>
                  </a:lnTo>
                  <a:lnTo>
                    <a:pt x="78239" y="91660"/>
                  </a:lnTo>
                  <a:lnTo>
                    <a:pt x="71914" y="99207"/>
                  </a:lnTo>
                  <a:lnTo>
                    <a:pt x="64310" y="107624"/>
                  </a:lnTo>
                  <a:lnTo>
                    <a:pt x="46830" y="126009"/>
                  </a:lnTo>
                  <a:lnTo>
                    <a:pt x="39121" y="135653"/>
                  </a:lnTo>
                  <a:lnTo>
                    <a:pt x="32288" y="145468"/>
                  </a:lnTo>
                  <a:lnTo>
                    <a:pt x="26039" y="155399"/>
                  </a:lnTo>
                  <a:lnTo>
                    <a:pt x="21027" y="165406"/>
                  </a:lnTo>
                  <a:lnTo>
                    <a:pt x="16839" y="175464"/>
                  </a:lnTo>
                  <a:lnTo>
                    <a:pt x="13200" y="185556"/>
                  </a:lnTo>
                  <a:lnTo>
                    <a:pt x="9927" y="195670"/>
                  </a:lnTo>
                  <a:lnTo>
                    <a:pt x="6899" y="205801"/>
                  </a:lnTo>
                  <a:lnTo>
                    <a:pt x="4034" y="215940"/>
                  </a:lnTo>
                  <a:lnTo>
                    <a:pt x="2123" y="226087"/>
                  </a:lnTo>
                  <a:lnTo>
                    <a:pt x="849" y="236238"/>
                  </a:lnTo>
                  <a:lnTo>
                    <a:pt x="0" y="246392"/>
                  </a:lnTo>
                  <a:lnTo>
                    <a:pt x="1128" y="255701"/>
                  </a:lnTo>
                  <a:lnTo>
                    <a:pt x="3572" y="264447"/>
                  </a:lnTo>
                  <a:lnTo>
                    <a:pt x="6895" y="272818"/>
                  </a:lnTo>
                  <a:lnTo>
                    <a:pt x="10804" y="280939"/>
                  </a:lnTo>
                  <a:lnTo>
                    <a:pt x="15104" y="288892"/>
                  </a:lnTo>
                  <a:lnTo>
                    <a:pt x="19663" y="296735"/>
                  </a:lnTo>
                  <a:lnTo>
                    <a:pt x="26090" y="303657"/>
                  </a:lnTo>
                  <a:lnTo>
                    <a:pt x="33761" y="309964"/>
                  </a:lnTo>
                  <a:lnTo>
                    <a:pt x="42261" y="315863"/>
                  </a:lnTo>
                  <a:lnTo>
                    <a:pt x="51315" y="320642"/>
                  </a:lnTo>
                  <a:lnTo>
                    <a:pt x="60737" y="324675"/>
                  </a:lnTo>
                  <a:lnTo>
                    <a:pt x="70405" y="328210"/>
                  </a:lnTo>
                  <a:lnTo>
                    <a:pt x="81084" y="329720"/>
                  </a:lnTo>
                  <a:lnTo>
                    <a:pt x="92437" y="329880"/>
                  </a:lnTo>
                  <a:lnTo>
                    <a:pt x="104239" y="329140"/>
                  </a:lnTo>
                  <a:lnTo>
                    <a:pt x="116340" y="327800"/>
                  </a:lnTo>
                  <a:lnTo>
                    <a:pt x="128641" y="326060"/>
                  </a:lnTo>
                  <a:lnTo>
                    <a:pt x="141075" y="324053"/>
                  </a:lnTo>
                  <a:lnTo>
                    <a:pt x="152750" y="321022"/>
                  </a:lnTo>
                  <a:lnTo>
                    <a:pt x="163921" y="317308"/>
                  </a:lnTo>
                  <a:lnTo>
                    <a:pt x="174755" y="313139"/>
                  </a:lnTo>
                  <a:lnTo>
                    <a:pt x="183671" y="307819"/>
                  </a:lnTo>
                  <a:lnTo>
                    <a:pt x="191308" y="301733"/>
                  </a:lnTo>
                  <a:lnTo>
                    <a:pt x="198092" y="295135"/>
                  </a:lnTo>
                  <a:lnTo>
                    <a:pt x="203462" y="288197"/>
                  </a:lnTo>
                  <a:lnTo>
                    <a:pt x="207889" y="281031"/>
                  </a:lnTo>
                  <a:lnTo>
                    <a:pt x="211687" y="273714"/>
                  </a:lnTo>
                  <a:lnTo>
                    <a:pt x="215065" y="266296"/>
                  </a:lnTo>
                  <a:lnTo>
                    <a:pt x="218164" y="258811"/>
                  </a:lnTo>
                  <a:lnTo>
                    <a:pt x="221077" y="251280"/>
                  </a:lnTo>
                  <a:lnTo>
                    <a:pt x="222172" y="244567"/>
                  </a:lnTo>
                  <a:lnTo>
                    <a:pt x="222056" y="238398"/>
                  </a:lnTo>
                  <a:lnTo>
                    <a:pt x="219668" y="227874"/>
                  </a:lnTo>
                  <a:lnTo>
                    <a:pt x="215785" y="220375"/>
                  </a:lnTo>
                  <a:lnTo>
                    <a:pt x="211237" y="211962"/>
                  </a:lnTo>
                  <a:lnTo>
                    <a:pt x="208839" y="207348"/>
                  </a:lnTo>
                  <a:lnTo>
                    <a:pt x="205546" y="204272"/>
                  </a:lnTo>
                  <a:lnTo>
                    <a:pt x="201658" y="202222"/>
                  </a:lnTo>
                  <a:lnTo>
                    <a:pt x="197373" y="200854"/>
                  </a:lnTo>
                  <a:lnTo>
                    <a:pt x="192823" y="199943"/>
                  </a:lnTo>
                  <a:lnTo>
                    <a:pt x="188096" y="199335"/>
                  </a:lnTo>
                  <a:lnTo>
                    <a:pt x="183251" y="198930"/>
                  </a:lnTo>
                  <a:lnTo>
                    <a:pt x="179175" y="199507"/>
                  </a:lnTo>
                  <a:lnTo>
                    <a:pt x="172388" y="202405"/>
                  </a:lnTo>
                  <a:lnTo>
                    <a:pt x="168546" y="205210"/>
                  </a:lnTo>
                  <a:lnTo>
                    <a:pt x="164291" y="208773"/>
                  </a:lnTo>
                  <a:lnTo>
                    <a:pt x="159761" y="212842"/>
                  </a:lnTo>
                  <a:lnTo>
                    <a:pt x="156742" y="218094"/>
                  </a:lnTo>
                  <a:lnTo>
                    <a:pt x="154729" y="224137"/>
                  </a:lnTo>
                  <a:lnTo>
                    <a:pt x="153386" y="230704"/>
                  </a:lnTo>
                  <a:lnTo>
                    <a:pt x="152492" y="237623"/>
                  </a:lnTo>
                  <a:lnTo>
                    <a:pt x="151895" y="244775"/>
                  </a:lnTo>
                  <a:lnTo>
                    <a:pt x="151498" y="252083"/>
                  </a:lnTo>
                  <a:lnTo>
                    <a:pt x="152079" y="260342"/>
                  </a:lnTo>
                  <a:lnTo>
                    <a:pt x="153313" y="269235"/>
                  </a:lnTo>
                  <a:lnTo>
                    <a:pt x="154983" y="278550"/>
                  </a:lnTo>
                  <a:lnTo>
                    <a:pt x="157789" y="288147"/>
                  </a:lnTo>
                  <a:lnTo>
                    <a:pt x="161353" y="297931"/>
                  </a:lnTo>
                  <a:lnTo>
                    <a:pt x="165423" y="307841"/>
                  </a:lnTo>
                  <a:lnTo>
                    <a:pt x="170676" y="317834"/>
                  </a:lnTo>
                  <a:lnTo>
                    <a:pt x="176718" y="327882"/>
                  </a:lnTo>
                  <a:lnTo>
                    <a:pt x="183286" y="337968"/>
                  </a:lnTo>
                  <a:lnTo>
                    <a:pt x="189358" y="345539"/>
                  </a:lnTo>
                  <a:lnTo>
                    <a:pt x="195100" y="351432"/>
                  </a:lnTo>
                  <a:lnTo>
                    <a:pt x="211662" y="3657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SMARTInkAnnotation342"/>
            <p:cNvSpPr/>
            <p:nvPr/>
          </p:nvSpPr>
          <p:spPr>
            <a:xfrm>
              <a:off x="3116880" y="4907880"/>
              <a:ext cx="106200" cy="7009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700920"/>
                <a:gd name="textAreaBottom" fmla="*/ 701280 h 700920"/>
              </a:gdLst>
              <a:ahLst/>
              <a:rect l="textAreaLeft" t="textAreaTop" r="textAreaRight" b="textAreaBottom"/>
              <a:pathLst>
                <a:path w="106226" h="701041">
                  <a:moveTo>
                    <a:pt x="22860" y="0"/>
                  </a:moveTo>
                  <a:lnTo>
                    <a:pt x="33466" y="21212"/>
                  </a:lnTo>
                  <a:lnTo>
                    <a:pt x="35857" y="26841"/>
                  </a:lnTo>
                  <a:lnTo>
                    <a:pt x="38298" y="33134"/>
                  </a:lnTo>
                  <a:lnTo>
                    <a:pt x="40772" y="39869"/>
                  </a:lnTo>
                  <a:lnTo>
                    <a:pt x="44114" y="47746"/>
                  </a:lnTo>
                  <a:lnTo>
                    <a:pt x="52344" y="65530"/>
                  </a:lnTo>
                  <a:lnTo>
                    <a:pt x="56063" y="75860"/>
                  </a:lnTo>
                  <a:lnTo>
                    <a:pt x="59389" y="86980"/>
                  </a:lnTo>
                  <a:lnTo>
                    <a:pt x="62453" y="98626"/>
                  </a:lnTo>
                  <a:lnTo>
                    <a:pt x="66188" y="111471"/>
                  </a:lnTo>
                  <a:lnTo>
                    <a:pt x="74855" y="139289"/>
                  </a:lnTo>
                  <a:lnTo>
                    <a:pt x="78690" y="154666"/>
                  </a:lnTo>
                  <a:lnTo>
                    <a:pt x="82093" y="170845"/>
                  </a:lnTo>
                  <a:lnTo>
                    <a:pt x="85209" y="187557"/>
                  </a:lnTo>
                  <a:lnTo>
                    <a:pt x="90929" y="221930"/>
                  </a:lnTo>
                  <a:lnTo>
                    <a:pt x="96293" y="257809"/>
                  </a:lnTo>
                  <a:lnTo>
                    <a:pt x="101499" y="296333"/>
                  </a:lnTo>
                  <a:lnTo>
                    <a:pt x="103226" y="315242"/>
                  </a:lnTo>
                  <a:lnTo>
                    <a:pt x="104378" y="333775"/>
                  </a:lnTo>
                  <a:lnTo>
                    <a:pt x="105145" y="352057"/>
                  </a:lnTo>
                  <a:lnTo>
                    <a:pt x="105998" y="390432"/>
                  </a:lnTo>
                  <a:lnTo>
                    <a:pt x="106225" y="410148"/>
                  </a:lnTo>
                  <a:lnTo>
                    <a:pt x="105530" y="429219"/>
                  </a:lnTo>
                  <a:lnTo>
                    <a:pt x="104220" y="447859"/>
                  </a:lnTo>
                  <a:lnTo>
                    <a:pt x="102500" y="466213"/>
                  </a:lnTo>
                  <a:lnTo>
                    <a:pt x="99660" y="484375"/>
                  </a:lnTo>
                  <a:lnTo>
                    <a:pt x="96074" y="502411"/>
                  </a:lnTo>
                  <a:lnTo>
                    <a:pt x="91989" y="520360"/>
                  </a:lnTo>
                  <a:lnTo>
                    <a:pt x="87573" y="537407"/>
                  </a:lnTo>
                  <a:lnTo>
                    <a:pt x="82935" y="553851"/>
                  </a:lnTo>
                  <a:lnTo>
                    <a:pt x="78150" y="569894"/>
                  </a:lnTo>
                  <a:lnTo>
                    <a:pt x="73267" y="583976"/>
                  </a:lnTo>
                  <a:lnTo>
                    <a:pt x="68318" y="596751"/>
                  </a:lnTo>
                  <a:lnTo>
                    <a:pt x="63326" y="608655"/>
                  </a:lnTo>
                  <a:lnTo>
                    <a:pt x="58303" y="619976"/>
                  </a:lnTo>
                  <a:lnTo>
                    <a:pt x="48208" y="641588"/>
                  </a:lnTo>
                  <a:lnTo>
                    <a:pt x="43146" y="650398"/>
                  </a:lnTo>
                  <a:lnTo>
                    <a:pt x="38077" y="657966"/>
                  </a:lnTo>
                  <a:lnTo>
                    <a:pt x="33005" y="664704"/>
                  </a:lnTo>
                  <a:lnTo>
                    <a:pt x="27930" y="670889"/>
                  </a:lnTo>
                  <a:lnTo>
                    <a:pt x="22853" y="676706"/>
                  </a:lnTo>
                  <a:lnTo>
                    <a:pt x="13543" y="686839"/>
                  </a:lnTo>
                  <a:lnTo>
                    <a:pt x="0" y="701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SMARTInkAnnotation343"/>
            <p:cNvSpPr/>
            <p:nvPr/>
          </p:nvSpPr>
          <p:spPr>
            <a:xfrm>
              <a:off x="3459960" y="522792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0"/>
                  </a:moveTo>
                  <a:lnTo>
                    <a:pt x="32563" y="0"/>
                  </a:lnTo>
                  <a:lnTo>
                    <a:pt x="39489" y="847"/>
                  </a:lnTo>
                  <a:lnTo>
                    <a:pt x="46646" y="2258"/>
                  </a:lnTo>
                  <a:lnTo>
                    <a:pt x="53957" y="4045"/>
                  </a:lnTo>
                  <a:lnTo>
                    <a:pt x="62218" y="5237"/>
                  </a:lnTo>
                  <a:lnTo>
                    <a:pt x="71112" y="6031"/>
                  </a:lnTo>
                  <a:lnTo>
                    <a:pt x="80428" y="6561"/>
                  </a:lnTo>
                  <a:lnTo>
                    <a:pt x="90025" y="7760"/>
                  </a:lnTo>
                  <a:lnTo>
                    <a:pt x="99810" y="9407"/>
                  </a:lnTo>
                  <a:lnTo>
                    <a:pt x="109720" y="11351"/>
                  </a:lnTo>
                  <a:lnTo>
                    <a:pt x="119714" y="12648"/>
                  </a:lnTo>
                  <a:lnTo>
                    <a:pt x="129763" y="13512"/>
                  </a:lnTo>
                  <a:lnTo>
                    <a:pt x="139848" y="14088"/>
                  </a:lnTo>
                  <a:lnTo>
                    <a:pt x="157828" y="14728"/>
                  </a:lnTo>
                  <a:lnTo>
                    <a:pt x="19812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MARTInkAnnotation344"/>
            <p:cNvSpPr/>
            <p:nvPr/>
          </p:nvSpPr>
          <p:spPr>
            <a:xfrm>
              <a:off x="3764520" y="5003280"/>
              <a:ext cx="340920" cy="39204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41147" h="392078">
                  <a:moveTo>
                    <a:pt x="0" y="26317"/>
                  </a:moveTo>
                  <a:lnTo>
                    <a:pt x="4045" y="26317"/>
                  </a:lnTo>
                  <a:lnTo>
                    <a:pt x="6083" y="25471"/>
                  </a:lnTo>
                  <a:lnTo>
                    <a:pt x="12997" y="21080"/>
                  </a:lnTo>
                  <a:lnTo>
                    <a:pt x="22948" y="18557"/>
                  </a:lnTo>
                  <a:lnTo>
                    <a:pt x="75407" y="5762"/>
                  </a:lnTo>
                  <a:lnTo>
                    <a:pt x="98425" y="812"/>
                  </a:lnTo>
                  <a:lnTo>
                    <a:pt x="109644" y="0"/>
                  </a:lnTo>
                  <a:lnTo>
                    <a:pt x="120509" y="306"/>
                  </a:lnTo>
                  <a:lnTo>
                    <a:pt x="131140" y="1356"/>
                  </a:lnTo>
                  <a:lnTo>
                    <a:pt x="142460" y="2056"/>
                  </a:lnTo>
                  <a:lnTo>
                    <a:pt x="166327" y="2835"/>
                  </a:lnTo>
                  <a:lnTo>
                    <a:pt x="226504" y="3375"/>
                  </a:lnTo>
                  <a:lnTo>
                    <a:pt x="237362" y="3403"/>
                  </a:lnTo>
                  <a:lnTo>
                    <a:pt x="247988" y="4267"/>
                  </a:lnTo>
                  <a:lnTo>
                    <a:pt x="258459" y="5691"/>
                  </a:lnTo>
                  <a:lnTo>
                    <a:pt x="268826" y="7486"/>
                  </a:lnTo>
                  <a:lnTo>
                    <a:pt x="277431" y="8683"/>
                  </a:lnTo>
                  <a:lnTo>
                    <a:pt x="284860" y="9481"/>
                  </a:lnTo>
                  <a:lnTo>
                    <a:pt x="291507" y="10013"/>
                  </a:lnTo>
                  <a:lnTo>
                    <a:pt x="298478" y="11215"/>
                  </a:lnTo>
                  <a:lnTo>
                    <a:pt x="305665" y="12862"/>
                  </a:lnTo>
                  <a:lnTo>
                    <a:pt x="312997" y="14807"/>
                  </a:lnTo>
                  <a:lnTo>
                    <a:pt x="323401" y="19226"/>
                  </a:lnTo>
                  <a:lnTo>
                    <a:pt x="330847" y="23166"/>
                  </a:lnTo>
                  <a:lnTo>
                    <a:pt x="336979" y="24916"/>
                  </a:lnTo>
                  <a:lnTo>
                    <a:pt x="338953" y="26230"/>
                  </a:lnTo>
                  <a:lnTo>
                    <a:pt x="340268" y="27952"/>
                  </a:lnTo>
                  <a:lnTo>
                    <a:pt x="341146" y="29947"/>
                  </a:lnTo>
                  <a:lnTo>
                    <a:pt x="340884" y="32124"/>
                  </a:lnTo>
                  <a:lnTo>
                    <a:pt x="339863" y="34422"/>
                  </a:lnTo>
                  <a:lnTo>
                    <a:pt x="334380" y="43959"/>
                  </a:lnTo>
                  <a:lnTo>
                    <a:pt x="324942" y="62352"/>
                  </a:lnTo>
                  <a:lnTo>
                    <a:pt x="315446" y="74506"/>
                  </a:lnTo>
                  <a:lnTo>
                    <a:pt x="309357" y="81302"/>
                  </a:lnTo>
                  <a:lnTo>
                    <a:pt x="303605" y="88374"/>
                  </a:lnTo>
                  <a:lnTo>
                    <a:pt x="298076" y="95628"/>
                  </a:lnTo>
                  <a:lnTo>
                    <a:pt x="292698" y="103005"/>
                  </a:lnTo>
                  <a:lnTo>
                    <a:pt x="286572" y="110462"/>
                  </a:lnTo>
                  <a:lnTo>
                    <a:pt x="279948" y="117974"/>
                  </a:lnTo>
                  <a:lnTo>
                    <a:pt x="272992" y="125522"/>
                  </a:lnTo>
                  <a:lnTo>
                    <a:pt x="256232" y="142939"/>
                  </a:lnTo>
                  <a:lnTo>
                    <a:pt x="247021" y="152325"/>
                  </a:lnTo>
                  <a:lnTo>
                    <a:pt x="238341" y="161969"/>
                  </a:lnTo>
                  <a:lnTo>
                    <a:pt x="230014" y="171785"/>
                  </a:lnTo>
                  <a:lnTo>
                    <a:pt x="213988" y="191723"/>
                  </a:lnTo>
                  <a:lnTo>
                    <a:pt x="183004" y="232118"/>
                  </a:lnTo>
                  <a:lnTo>
                    <a:pt x="152425" y="272709"/>
                  </a:lnTo>
                  <a:lnTo>
                    <a:pt x="145644" y="282865"/>
                  </a:lnTo>
                  <a:lnTo>
                    <a:pt x="139429" y="293022"/>
                  </a:lnTo>
                  <a:lnTo>
                    <a:pt x="133593" y="303181"/>
                  </a:lnTo>
                  <a:lnTo>
                    <a:pt x="128009" y="312493"/>
                  </a:lnTo>
                  <a:lnTo>
                    <a:pt x="117288" y="329613"/>
                  </a:lnTo>
                  <a:lnTo>
                    <a:pt x="112905" y="337734"/>
                  </a:lnTo>
                  <a:lnTo>
                    <a:pt x="109137" y="345689"/>
                  </a:lnTo>
                  <a:lnTo>
                    <a:pt x="105778" y="353532"/>
                  </a:lnTo>
                  <a:lnTo>
                    <a:pt x="99788" y="366761"/>
                  </a:lnTo>
                  <a:lnTo>
                    <a:pt x="95150" y="377439"/>
                  </a:lnTo>
                  <a:lnTo>
                    <a:pt x="93913" y="381472"/>
                  </a:lnTo>
                  <a:lnTo>
                    <a:pt x="91440" y="3920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MARTInkAnnotation345"/>
            <p:cNvSpPr/>
            <p:nvPr/>
          </p:nvSpPr>
          <p:spPr>
            <a:xfrm>
              <a:off x="3879000" y="5227920"/>
              <a:ext cx="243720" cy="3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43841" h="1">
                  <a:moveTo>
                    <a:pt x="0" y="0"/>
                  </a:move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MARTInkAnnotation346"/>
            <p:cNvSpPr/>
            <p:nvPr/>
          </p:nvSpPr>
          <p:spPr>
            <a:xfrm>
              <a:off x="4435200" y="5144040"/>
              <a:ext cx="297000" cy="532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97180" h="53341">
                  <a:moveTo>
                    <a:pt x="0" y="53340"/>
                  </a:moveTo>
                  <a:lnTo>
                    <a:pt x="0" y="39252"/>
                  </a:lnTo>
                  <a:lnTo>
                    <a:pt x="846" y="38021"/>
                  </a:lnTo>
                  <a:lnTo>
                    <a:pt x="2257" y="36354"/>
                  </a:lnTo>
                  <a:lnTo>
                    <a:pt x="4044" y="34396"/>
                  </a:lnTo>
                  <a:lnTo>
                    <a:pt x="6930" y="33091"/>
                  </a:lnTo>
                  <a:lnTo>
                    <a:pt x="19927" y="30407"/>
                  </a:lnTo>
                  <a:lnTo>
                    <a:pt x="25984" y="28738"/>
                  </a:lnTo>
                  <a:lnTo>
                    <a:pt x="32562" y="26778"/>
                  </a:lnTo>
                  <a:lnTo>
                    <a:pt x="39488" y="25472"/>
                  </a:lnTo>
                  <a:lnTo>
                    <a:pt x="46645" y="24602"/>
                  </a:lnTo>
                  <a:lnTo>
                    <a:pt x="53956" y="24021"/>
                  </a:lnTo>
                  <a:lnTo>
                    <a:pt x="61371" y="23634"/>
                  </a:lnTo>
                  <a:lnTo>
                    <a:pt x="76382" y="23204"/>
                  </a:lnTo>
                  <a:lnTo>
                    <a:pt x="99114" y="22962"/>
                  </a:lnTo>
                  <a:lnTo>
                    <a:pt x="107562" y="22082"/>
                  </a:lnTo>
                  <a:lnTo>
                    <a:pt x="116582" y="20648"/>
                  </a:lnTo>
                  <a:lnTo>
                    <a:pt x="125981" y="18845"/>
                  </a:lnTo>
                  <a:lnTo>
                    <a:pt x="135634" y="17643"/>
                  </a:lnTo>
                  <a:lnTo>
                    <a:pt x="145456" y="16842"/>
                  </a:lnTo>
                  <a:lnTo>
                    <a:pt x="155390" y="16308"/>
                  </a:lnTo>
                  <a:lnTo>
                    <a:pt x="173201" y="15715"/>
                  </a:lnTo>
                  <a:lnTo>
                    <a:pt x="181508" y="15556"/>
                  </a:lnTo>
                  <a:lnTo>
                    <a:pt x="190432" y="14604"/>
                  </a:lnTo>
                  <a:lnTo>
                    <a:pt x="199767" y="13123"/>
                  </a:lnTo>
                  <a:lnTo>
                    <a:pt x="209378" y="11289"/>
                  </a:lnTo>
                  <a:lnTo>
                    <a:pt x="218325" y="10066"/>
                  </a:lnTo>
                  <a:lnTo>
                    <a:pt x="226830" y="9251"/>
                  </a:lnTo>
                  <a:lnTo>
                    <a:pt x="235039" y="8707"/>
                  </a:lnTo>
                  <a:lnTo>
                    <a:pt x="243053" y="8345"/>
                  </a:lnTo>
                  <a:lnTo>
                    <a:pt x="258730" y="7943"/>
                  </a:lnTo>
                  <a:lnTo>
                    <a:pt x="264773" y="6988"/>
                  </a:lnTo>
                  <a:lnTo>
                    <a:pt x="269649" y="5505"/>
                  </a:lnTo>
                  <a:lnTo>
                    <a:pt x="273746" y="3671"/>
                  </a:lnTo>
                  <a:lnTo>
                    <a:pt x="278171" y="2447"/>
                  </a:lnTo>
                  <a:lnTo>
                    <a:pt x="282813" y="1632"/>
                  </a:lnTo>
                  <a:lnTo>
                    <a:pt x="29717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MARTInkAnnotation347"/>
            <p:cNvSpPr/>
            <p:nvPr/>
          </p:nvSpPr>
          <p:spPr>
            <a:xfrm>
              <a:off x="4480920" y="5227920"/>
              <a:ext cx="274320" cy="30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74321" h="30481">
                  <a:moveTo>
                    <a:pt x="0" y="30480"/>
                  </a:moveTo>
                  <a:lnTo>
                    <a:pt x="64850" y="30480"/>
                  </a:lnTo>
                  <a:lnTo>
                    <a:pt x="74560" y="29634"/>
                  </a:lnTo>
                  <a:lnTo>
                    <a:pt x="84420" y="28223"/>
                  </a:lnTo>
                  <a:lnTo>
                    <a:pt x="94379" y="26436"/>
                  </a:lnTo>
                  <a:lnTo>
                    <a:pt x="104407" y="25243"/>
                  </a:lnTo>
                  <a:lnTo>
                    <a:pt x="114477" y="24449"/>
                  </a:lnTo>
                  <a:lnTo>
                    <a:pt x="124578" y="23920"/>
                  </a:lnTo>
                  <a:lnTo>
                    <a:pt x="134699" y="22720"/>
                  </a:lnTo>
                  <a:lnTo>
                    <a:pt x="144832" y="21073"/>
                  </a:lnTo>
                  <a:lnTo>
                    <a:pt x="154975" y="19129"/>
                  </a:lnTo>
                  <a:lnTo>
                    <a:pt x="165123" y="17833"/>
                  </a:lnTo>
                  <a:lnTo>
                    <a:pt x="175276" y="16969"/>
                  </a:lnTo>
                  <a:lnTo>
                    <a:pt x="185430" y="16392"/>
                  </a:lnTo>
                  <a:lnTo>
                    <a:pt x="194740" y="15162"/>
                  </a:lnTo>
                  <a:lnTo>
                    <a:pt x="203487" y="13495"/>
                  </a:lnTo>
                  <a:lnTo>
                    <a:pt x="211858" y="11537"/>
                  </a:lnTo>
                  <a:lnTo>
                    <a:pt x="220825" y="10231"/>
                  </a:lnTo>
                  <a:lnTo>
                    <a:pt x="230190" y="9360"/>
                  </a:lnTo>
                  <a:lnTo>
                    <a:pt x="239820" y="8781"/>
                  </a:lnTo>
                  <a:lnTo>
                    <a:pt x="247934" y="7547"/>
                  </a:lnTo>
                  <a:lnTo>
                    <a:pt x="255035" y="5878"/>
                  </a:lnTo>
                  <a:lnTo>
                    <a:pt x="2743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SMARTInkAnnotation348"/>
            <p:cNvSpPr/>
            <p:nvPr/>
          </p:nvSpPr>
          <p:spPr>
            <a:xfrm>
              <a:off x="5006880" y="4938120"/>
              <a:ext cx="182160" cy="2966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82289" h="296914">
                  <a:moveTo>
                    <a:pt x="60836" y="0"/>
                  </a:moveTo>
                  <a:lnTo>
                    <a:pt x="60836" y="11351"/>
                  </a:lnTo>
                  <a:lnTo>
                    <a:pt x="59990" y="13494"/>
                  </a:lnTo>
                  <a:lnTo>
                    <a:pt x="55599" y="20556"/>
                  </a:lnTo>
                  <a:lnTo>
                    <a:pt x="53075" y="28856"/>
                  </a:lnTo>
                  <a:lnTo>
                    <a:pt x="49485" y="37096"/>
                  </a:lnTo>
                  <a:lnTo>
                    <a:pt x="45066" y="44145"/>
                  </a:lnTo>
                  <a:lnTo>
                    <a:pt x="40281" y="50100"/>
                  </a:lnTo>
                  <a:lnTo>
                    <a:pt x="35331" y="55569"/>
                  </a:lnTo>
                  <a:lnTo>
                    <a:pt x="30309" y="63079"/>
                  </a:lnTo>
                  <a:lnTo>
                    <a:pt x="25255" y="71215"/>
                  </a:lnTo>
                  <a:lnTo>
                    <a:pt x="20187" y="77653"/>
                  </a:lnTo>
                  <a:lnTo>
                    <a:pt x="17370" y="83337"/>
                  </a:lnTo>
                  <a:lnTo>
                    <a:pt x="16618" y="86038"/>
                  </a:lnTo>
                  <a:lnTo>
                    <a:pt x="15271" y="87839"/>
                  </a:lnTo>
                  <a:lnTo>
                    <a:pt x="13525" y="89039"/>
                  </a:lnTo>
                  <a:lnTo>
                    <a:pt x="11516" y="89840"/>
                  </a:lnTo>
                  <a:lnTo>
                    <a:pt x="7025" y="92986"/>
                  </a:lnTo>
                  <a:lnTo>
                    <a:pt x="0" y="98955"/>
                  </a:lnTo>
                  <a:lnTo>
                    <a:pt x="3958" y="99029"/>
                  </a:lnTo>
                  <a:lnTo>
                    <a:pt x="10493" y="99051"/>
                  </a:lnTo>
                  <a:lnTo>
                    <a:pt x="13727" y="99900"/>
                  </a:lnTo>
                  <a:lnTo>
                    <a:pt x="17577" y="101314"/>
                  </a:lnTo>
                  <a:lnTo>
                    <a:pt x="21836" y="103102"/>
                  </a:lnTo>
                  <a:lnTo>
                    <a:pt x="27216" y="104295"/>
                  </a:lnTo>
                  <a:lnTo>
                    <a:pt x="33343" y="105090"/>
                  </a:lnTo>
                  <a:lnTo>
                    <a:pt x="39967" y="105620"/>
                  </a:lnTo>
                  <a:lnTo>
                    <a:pt x="46923" y="105974"/>
                  </a:lnTo>
                  <a:lnTo>
                    <a:pt x="61426" y="106365"/>
                  </a:lnTo>
                  <a:lnTo>
                    <a:pt x="68849" y="107317"/>
                  </a:lnTo>
                  <a:lnTo>
                    <a:pt x="76338" y="108799"/>
                  </a:lnTo>
                  <a:lnTo>
                    <a:pt x="83871" y="110632"/>
                  </a:lnTo>
                  <a:lnTo>
                    <a:pt x="90586" y="112701"/>
                  </a:lnTo>
                  <a:lnTo>
                    <a:pt x="96756" y="114927"/>
                  </a:lnTo>
                  <a:lnTo>
                    <a:pt x="102563" y="117259"/>
                  </a:lnTo>
                  <a:lnTo>
                    <a:pt x="108974" y="120506"/>
                  </a:lnTo>
                  <a:lnTo>
                    <a:pt x="115788" y="124364"/>
                  </a:lnTo>
                  <a:lnTo>
                    <a:pt x="122871" y="128629"/>
                  </a:lnTo>
                  <a:lnTo>
                    <a:pt x="137514" y="137884"/>
                  </a:lnTo>
                  <a:lnTo>
                    <a:pt x="144975" y="142723"/>
                  </a:lnTo>
                  <a:lnTo>
                    <a:pt x="150795" y="147642"/>
                  </a:lnTo>
                  <a:lnTo>
                    <a:pt x="155523" y="152615"/>
                  </a:lnTo>
                  <a:lnTo>
                    <a:pt x="159521" y="157623"/>
                  </a:lnTo>
                  <a:lnTo>
                    <a:pt x="163032" y="163502"/>
                  </a:lnTo>
                  <a:lnTo>
                    <a:pt x="166220" y="169961"/>
                  </a:lnTo>
                  <a:lnTo>
                    <a:pt x="169192" y="176807"/>
                  </a:lnTo>
                  <a:lnTo>
                    <a:pt x="174752" y="188930"/>
                  </a:lnTo>
                  <a:lnTo>
                    <a:pt x="177420" y="194533"/>
                  </a:lnTo>
                  <a:lnTo>
                    <a:pt x="179199" y="200809"/>
                  </a:lnTo>
                  <a:lnTo>
                    <a:pt x="180385" y="207533"/>
                  </a:lnTo>
                  <a:lnTo>
                    <a:pt x="181175" y="214555"/>
                  </a:lnTo>
                  <a:lnTo>
                    <a:pt x="181703" y="221777"/>
                  </a:lnTo>
                  <a:lnTo>
                    <a:pt x="182053" y="229131"/>
                  </a:lnTo>
                  <a:lnTo>
                    <a:pt x="182288" y="236574"/>
                  </a:lnTo>
                  <a:lnTo>
                    <a:pt x="180750" y="243230"/>
                  </a:lnTo>
                  <a:lnTo>
                    <a:pt x="178033" y="249360"/>
                  </a:lnTo>
                  <a:lnTo>
                    <a:pt x="174527" y="255140"/>
                  </a:lnTo>
                  <a:lnTo>
                    <a:pt x="171344" y="260686"/>
                  </a:lnTo>
                  <a:lnTo>
                    <a:pt x="165549" y="271365"/>
                  </a:lnTo>
                  <a:lnTo>
                    <a:pt x="161971" y="276584"/>
                  </a:lnTo>
                  <a:lnTo>
                    <a:pt x="157893" y="281756"/>
                  </a:lnTo>
                  <a:lnTo>
                    <a:pt x="153481" y="286897"/>
                  </a:lnTo>
                  <a:lnTo>
                    <a:pt x="147999" y="290325"/>
                  </a:lnTo>
                  <a:lnTo>
                    <a:pt x="141805" y="292610"/>
                  </a:lnTo>
                  <a:lnTo>
                    <a:pt x="135135" y="294133"/>
                  </a:lnTo>
                  <a:lnTo>
                    <a:pt x="128995" y="295149"/>
                  </a:lnTo>
                  <a:lnTo>
                    <a:pt x="123209" y="295826"/>
                  </a:lnTo>
                  <a:lnTo>
                    <a:pt x="117658" y="296277"/>
                  </a:lnTo>
                  <a:lnTo>
                    <a:pt x="112264" y="296578"/>
                  </a:lnTo>
                  <a:lnTo>
                    <a:pt x="101755" y="296913"/>
                  </a:lnTo>
                  <a:lnTo>
                    <a:pt x="95735" y="296155"/>
                  </a:lnTo>
                  <a:lnTo>
                    <a:pt x="89182" y="294804"/>
                  </a:lnTo>
                  <a:lnTo>
                    <a:pt x="82274" y="293056"/>
                  </a:lnTo>
                  <a:lnTo>
                    <a:pt x="75128" y="291044"/>
                  </a:lnTo>
                  <a:lnTo>
                    <a:pt x="60415" y="286551"/>
                  </a:lnTo>
                  <a:lnTo>
                    <a:pt x="53781" y="282474"/>
                  </a:lnTo>
                  <a:lnTo>
                    <a:pt x="47666" y="277216"/>
                  </a:lnTo>
                  <a:lnTo>
                    <a:pt x="22736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SMARTInkAnnotation349"/>
            <p:cNvSpPr/>
            <p:nvPr/>
          </p:nvSpPr>
          <p:spPr>
            <a:xfrm>
              <a:off x="5029560" y="4907880"/>
              <a:ext cx="335160" cy="212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35281" h="21480">
                  <a:moveTo>
                    <a:pt x="0" y="0"/>
                  </a:moveTo>
                  <a:lnTo>
                    <a:pt x="28739" y="0"/>
                  </a:lnTo>
                  <a:lnTo>
                    <a:pt x="34399" y="846"/>
                  </a:lnTo>
                  <a:lnTo>
                    <a:pt x="40713" y="2258"/>
                  </a:lnTo>
                  <a:lnTo>
                    <a:pt x="47462" y="4045"/>
                  </a:lnTo>
                  <a:lnTo>
                    <a:pt x="54501" y="5237"/>
                  </a:lnTo>
                  <a:lnTo>
                    <a:pt x="61735" y="6031"/>
                  </a:lnTo>
                  <a:lnTo>
                    <a:pt x="69096" y="6561"/>
                  </a:lnTo>
                  <a:lnTo>
                    <a:pt x="78238" y="6914"/>
                  </a:lnTo>
                  <a:lnTo>
                    <a:pt x="99683" y="7306"/>
                  </a:lnTo>
                  <a:lnTo>
                    <a:pt x="111329" y="8257"/>
                  </a:lnTo>
                  <a:lnTo>
                    <a:pt x="123326" y="9738"/>
                  </a:lnTo>
                  <a:lnTo>
                    <a:pt x="135557" y="11572"/>
                  </a:lnTo>
                  <a:lnTo>
                    <a:pt x="160437" y="15868"/>
                  </a:lnTo>
                  <a:lnTo>
                    <a:pt x="172998" y="18198"/>
                  </a:lnTo>
                  <a:lnTo>
                    <a:pt x="185605" y="19752"/>
                  </a:lnTo>
                  <a:lnTo>
                    <a:pt x="198244" y="20788"/>
                  </a:lnTo>
                  <a:lnTo>
                    <a:pt x="210902" y="21479"/>
                  </a:lnTo>
                  <a:lnTo>
                    <a:pt x="222728" y="21093"/>
                  </a:lnTo>
                  <a:lnTo>
                    <a:pt x="233999" y="19989"/>
                  </a:lnTo>
                  <a:lnTo>
                    <a:pt x="244899" y="18406"/>
                  </a:lnTo>
                  <a:lnTo>
                    <a:pt x="256399" y="17351"/>
                  </a:lnTo>
                  <a:lnTo>
                    <a:pt x="268300" y="16647"/>
                  </a:lnTo>
                  <a:lnTo>
                    <a:pt x="298500" y="15657"/>
                  </a:lnTo>
                  <a:lnTo>
                    <a:pt x="33528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http://www.vertexpg.com/wp-content/uploads/2008/04/pool_04.jpg"/>
          <p:cNvPicPr/>
          <p:nvPr/>
        </p:nvPicPr>
        <p:blipFill>
          <a:blip r:embed="rId1"/>
          <a:stretch/>
        </p:blipFill>
        <p:spPr>
          <a:xfrm>
            <a:off x="6095880" y="838080"/>
            <a:ext cx="3048120" cy="229104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6"/>
          <p:cNvSpPr/>
          <p:nvPr/>
        </p:nvSpPr>
        <p:spPr>
          <a:xfrm>
            <a:off x="0" y="838080"/>
            <a:ext cx="594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2) The width of a rectangular pool is 18 yd. less than 3 times its length. The perimeter of the pool is 28 yd. What are the dimensions of the p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7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 and Problem Solving - Rectan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MARTInkAnnotation167"/>
          <p:cNvSpPr/>
          <p:nvPr/>
        </p:nvSpPr>
        <p:spPr>
          <a:xfrm>
            <a:off x="541440" y="2898720"/>
            <a:ext cx="604800" cy="216000"/>
          </a:xfrm>
          <a:custGeom>
            <a:avLst/>
            <a:gdLst>
              <a:gd name="textAreaLeft" fmla="*/ 0 w 604800"/>
              <a:gd name="textAreaRight" fmla="*/ 605160 w 604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604227" h="216094">
                <a:moveTo>
                  <a:pt x="30043" y="4390"/>
                </a:moveTo>
                <a:lnTo>
                  <a:pt x="30043" y="0"/>
                </a:lnTo>
                <a:lnTo>
                  <a:pt x="30043" y="8416"/>
                </a:lnTo>
                <a:lnTo>
                  <a:pt x="27785" y="14928"/>
                </a:lnTo>
                <a:lnTo>
                  <a:pt x="25998" y="19036"/>
                </a:lnTo>
                <a:lnTo>
                  <a:pt x="24806" y="23467"/>
                </a:lnTo>
                <a:lnTo>
                  <a:pt x="24012" y="28115"/>
                </a:lnTo>
                <a:lnTo>
                  <a:pt x="23482" y="32906"/>
                </a:lnTo>
                <a:lnTo>
                  <a:pt x="22282" y="38641"/>
                </a:lnTo>
                <a:lnTo>
                  <a:pt x="20636" y="45004"/>
                </a:lnTo>
                <a:lnTo>
                  <a:pt x="18692" y="51786"/>
                </a:lnTo>
                <a:lnTo>
                  <a:pt x="9487" y="86158"/>
                </a:lnTo>
                <a:lnTo>
                  <a:pt x="4538" y="102538"/>
                </a:lnTo>
                <a:lnTo>
                  <a:pt x="2880" y="110462"/>
                </a:lnTo>
                <a:lnTo>
                  <a:pt x="1774" y="118285"/>
                </a:lnTo>
                <a:lnTo>
                  <a:pt x="1037" y="126040"/>
                </a:lnTo>
                <a:lnTo>
                  <a:pt x="546" y="134597"/>
                </a:lnTo>
                <a:lnTo>
                  <a:pt x="0" y="153135"/>
                </a:lnTo>
                <a:lnTo>
                  <a:pt x="701" y="161127"/>
                </a:lnTo>
                <a:lnTo>
                  <a:pt x="2015" y="168148"/>
                </a:lnTo>
                <a:lnTo>
                  <a:pt x="3737" y="174522"/>
                </a:lnTo>
                <a:lnTo>
                  <a:pt x="5733" y="180465"/>
                </a:lnTo>
                <a:lnTo>
                  <a:pt x="7909" y="186120"/>
                </a:lnTo>
                <a:lnTo>
                  <a:pt x="10207" y="191583"/>
                </a:lnTo>
                <a:lnTo>
                  <a:pt x="12586" y="196072"/>
                </a:lnTo>
                <a:lnTo>
                  <a:pt x="15018" y="199911"/>
                </a:lnTo>
                <a:lnTo>
                  <a:pt x="17486" y="203318"/>
                </a:lnTo>
                <a:lnTo>
                  <a:pt x="24744" y="209361"/>
                </a:lnTo>
                <a:lnTo>
                  <a:pt x="29051" y="212157"/>
                </a:lnTo>
                <a:lnTo>
                  <a:pt x="38351" y="215264"/>
                </a:lnTo>
                <a:lnTo>
                  <a:pt x="43201" y="216093"/>
                </a:lnTo>
                <a:lnTo>
                  <a:pt x="53107" y="214756"/>
                </a:lnTo>
                <a:lnTo>
                  <a:pt x="58119" y="213214"/>
                </a:lnTo>
                <a:lnTo>
                  <a:pt x="68203" y="206985"/>
                </a:lnTo>
                <a:lnTo>
                  <a:pt x="73263" y="202954"/>
                </a:lnTo>
                <a:lnTo>
                  <a:pt x="78330" y="198572"/>
                </a:lnTo>
                <a:lnTo>
                  <a:pt x="83401" y="193958"/>
                </a:lnTo>
                <a:lnTo>
                  <a:pt x="93551" y="184316"/>
                </a:lnTo>
                <a:lnTo>
                  <a:pt x="103706" y="174386"/>
                </a:lnTo>
                <a:lnTo>
                  <a:pt x="107939" y="169368"/>
                </a:lnTo>
                <a:lnTo>
                  <a:pt x="111607" y="164328"/>
                </a:lnTo>
                <a:lnTo>
                  <a:pt x="114899" y="159276"/>
                </a:lnTo>
                <a:lnTo>
                  <a:pt x="117940" y="154214"/>
                </a:lnTo>
                <a:lnTo>
                  <a:pt x="120814" y="149146"/>
                </a:lnTo>
                <a:lnTo>
                  <a:pt x="126266" y="138999"/>
                </a:lnTo>
                <a:lnTo>
                  <a:pt x="131511" y="128845"/>
                </a:lnTo>
                <a:lnTo>
                  <a:pt x="133248" y="124614"/>
                </a:lnTo>
                <a:lnTo>
                  <a:pt x="134406" y="120946"/>
                </a:lnTo>
                <a:lnTo>
                  <a:pt x="136265" y="113021"/>
                </a:lnTo>
                <a:lnTo>
                  <a:pt x="137264" y="112371"/>
                </a:lnTo>
                <a:lnTo>
                  <a:pt x="143244" y="111242"/>
                </a:lnTo>
                <a:lnTo>
                  <a:pt x="143610" y="112031"/>
                </a:lnTo>
                <a:lnTo>
                  <a:pt x="144017" y="115166"/>
                </a:lnTo>
                <a:lnTo>
                  <a:pt x="144972" y="117187"/>
                </a:lnTo>
                <a:lnTo>
                  <a:pt x="148291" y="121691"/>
                </a:lnTo>
                <a:lnTo>
                  <a:pt x="152055" y="124924"/>
                </a:lnTo>
                <a:lnTo>
                  <a:pt x="157104" y="128773"/>
                </a:lnTo>
                <a:lnTo>
                  <a:pt x="163011" y="133032"/>
                </a:lnTo>
                <a:lnTo>
                  <a:pt x="183459" y="147117"/>
                </a:lnTo>
                <a:lnTo>
                  <a:pt x="191587" y="151188"/>
                </a:lnTo>
                <a:lnTo>
                  <a:pt x="200392" y="154749"/>
                </a:lnTo>
                <a:lnTo>
                  <a:pt x="209649" y="157969"/>
                </a:lnTo>
                <a:lnTo>
                  <a:pt x="231223" y="166063"/>
                </a:lnTo>
                <a:lnTo>
                  <a:pt x="242903" y="170592"/>
                </a:lnTo>
                <a:lnTo>
                  <a:pt x="255770" y="174458"/>
                </a:lnTo>
                <a:lnTo>
                  <a:pt x="269427" y="177882"/>
                </a:lnTo>
                <a:lnTo>
                  <a:pt x="283613" y="181012"/>
                </a:lnTo>
                <a:lnTo>
                  <a:pt x="298149" y="183098"/>
                </a:lnTo>
                <a:lnTo>
                  <a:pt x="312920" y="184489"/>
                </a:lnTo>
                <a:lnTo>
                  <a:pt x="327848" y="185416"/>
                </a:lnTo>
                <a:lnTo>
                  <a:pt x="343726" y="186881"/>
                </a:lnTo>
                <a:lnTo>
                  <a:pt x="377173" y="190766"/>
                </a:lnTo>
                <a:lnTo>
                  <a:pt x="393543" y="191294"/>
                </a:lnTo>
                <a:lnTo>
                  <a:pt x="409537" y="190799"/>
                </a:lnTo>
                <a:lnTo>
                  <a:pt x="425279" y="189623"/>
                </a:lnTo>
                <a:lnTo>
                  <a:pt x="441700" y="187992"/>
                </a:lnTo>
                <a:lnTo>
                  <a:pt x="475750" y="183922"/>
                </a:lnTo>
                <a:lnTo>
                  <a:pt x="490588" y="181652"/>
                </a:lnTo>
                <a:lnTo>
                  <a:pt x="503866" y="179291"/>
                </a:lnTo>
                <a:lnTo>
                  <a:pt x="516105" y="176871"/>
                </a:lnTo>
                <a:lnTo>
                  <a:pt x="538735" y="171924"/>
                </a:lnTo>
                <a:lnTo>
                  <a:pt x="549511" y="169419"/>
                </a:lnTo>
                <a:lnTo>
                  <a:pt x="559235" y="166056"/>
                </a:lnTo>
                <a:lnTo>
                  <a:pt x="568258" y="162121"/>
                </a:lnTo>
                <a:lnTo>
                  <a:pt x="576813" y="157804"/>
                </a:lnTo>
                <a:lnTo>
                  <a:pt x="583363" y="153233"/>
                </a:lnTo>
                <a:lnTo>
                  <a:pt x="588576" y="148492"/>
                </a:lnTo>
                <a:lnTo>
                  <a:pt x="592898" y="143638"/>
                </a:lnTo>
                <a:lnTo>
                  <a:pt x="596626" y="138709"/>
                </a:lnTo>
                <a:lnTo>
                  <a:pt x="599959" y="133729"/>
                </a:lnTo>
                <a:lnTo>
                  <a:pt x="603027" y="128716"/>
                </a:lnTo>
                <a:lnTo>
                  <a:pt x="604226" y="122834"/>
                </a:lnTo>
                <a:lnTo>
                  <a:pt x="604178" y="116373"/>
                </a:lnTo>
                <a:lnTo>
                  <a:pt x="603300" y="109525"/>
                </a:lnTo>
                <a:lnTo>
                  <a:pt x="601021" y="103267"/>
                </a:lnTo>
                <a:lnTo>
                  <a:pt x="597808" y="97401"/>
                </a:lnTo>
                <a:lnTo>
                  <a:pt x="593973" y="91798"/>
                </a:lnTo>
                <a:lnTo>
                  <a:pt x="589723" y="87215"/>
                </a:lnTo>
                <a:lnTo>
                  <a:pt x="585197" y="83313"/>
                </a:lnTo>
                <a:lnTo>
                  <a:pt x="580486" y="79866"/>
                </a:lnTo>
                <a:lnTo>
                  <a:pt x="575651" y="75874"/>
                </a:lnTo>
                <a:lnTo>
                  <a:pt x="570735" y="71519"/>
                </a:lnTo>
                <a:lnTo>
                  <a:pt x="561604" y="63012"/>
                </a:lnTo>
                <a:lnTo>
                  <a:pt x="548203" y="501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MARTInkAnnotation168"/>
          <p:cNvSpPr/>
          <p:nvPr/>
        </p:nvSpPr>
        <p:spPr>
          <a:xfrm>
            <a:off x="1341360" y="2955960"/>
            <a:ext cx="212760" cy="15840"/>
          </a:xfrm>
          <a:custGeom>
            <a:avLst/>
            <a:gdLst>
              <a:gd name="textAreaLeft" fmla="*/ 0 w 212760"/>
              <a:gd name="textAreaRight" fmla="*/ 213120 w 212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13361" h="15241">
                <a:moveTo>
                  <a:pt x="0" y="0"/>
                </a:moveTo>
                <a:lnTo>
                  <a:pt x="83813" y="0"/>
                </a:lnTo>
                <a:lnTo>
                  <a:pt x="95669" y="847"/>
                </a:lnTo>
                <a:lnTo>
                  <a:pt x="107806" y="2258"/>
                </a:lnTo>
                <a:lnTo>
                  <a:pt x="120131" y="4046"/>
                </a:lnTo>
                <a:lnTo>
                  <a:pt x="131734" y="5237"/>
                </a:lnTo>
                <a:lnTo>
                  <a:pt x="142856" y="6031"/>
                </a:lnTo>
                <a:lnTo>
                  <a:pt x="153657" y="6561"/>
                </a:lnTo>
                <a:lnTo>
                  <a:pt x="163399" y="7760"/>
                </a:lnTo>
                <a:lnTo>
                  <a:pt x="172432" y="9407"/>
                </a:lnTo>
                <a:lnTo>
                  <a:pt x="180995" y="11352"/>
                </a:lnTo>
                <a:lnTo>
                  <a:pt x="188397" y="12648"/>
                </a:lnTo>
                <a:lnTo>
                  <a:pt x="195025" y="13512"/>
                </a:lnTo>
                <a:lnTo>
                  <a:pt x="21336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InkAnnotation169"/>
          <p:cNvSpPr/>
          <p:nvPr/>
        </p:nvSpPr>
        <p:spPr>
          <a:xfrm>
            <a:off x="1419120" y="2987640"/>
            <a:ext cx="257400" cy="38160"/>
          </a:xfrm>
          <a:custGeom>
            <a:avLst/>
            <a:gdLst>
              <a:gd name="textAreaLeft" fmla="*/ 0 w 257400"/>
              <a:gd name="textAreaRight" fmla="*/ 257760 w 257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57323" h="38101">
                <a:moveTo>
                  <a:pt x="51582" y="0"/>
                </a:moveTo>
                <a:lnTo>
                  <a:pt x="43492" y="0"/>
                </a:lnTo>
                <a:lnTo>
                  <a:pt x="39415" y="847"/>
                </a:lnTo>
                <a:lnTo>
                  <a:pt x="35004" y="2258"/>
                </a:lnTo>
                <a:lnTo>
                  <a:pt x="23848" y="6561"/>
                </a:lnTo>
                <a:lnTo>
                  <a:pt x="17807" y="7150"/>
                </a:lnTo>
                <a:lnTo>
                  <a:pt x="13825" y="7306"/>
                </a:lnTo>
                <a:lnTo>
                  <a:pt x="10324" y="8257"/>
                </a:lnTo>
                <a:lnTo>
                  <a:pt x="7143" y="9738"/>
                </a:lnTo>
                <a:lnTo>
                  <a:pt x="0" y="14153"/>
                </a:lnTo>
                <a:lnTo>
                  <a:pt x="1107" y="15362"/>
                </a:lnTo>
                <a:lnTo>
                  <a:pt x="3539" y="17015"/>
                </a:lnTo>
                <a:lnTo>
                  <a:pt x="6853" y="18963"/>
                </a:lnTo>
                <a:lnTo>
                  <a:pt x="11603" y="21109"/>
                </a:lnTo>
                <a:lnTo>
                  <a:pt x="17309" y="23386"/>
                </a:lnTo>
                <a:lnTo>
                  <a:pt x="23654" y="25751"/>
                </a:lnTo>
                <a:lnTo>
                  <a:pt x="31270" y="27327"/>
                </a:lnTo>
                <a:lnTo>
                  <a:pt x="39734" y="28378"/>
                </a:lnTo>
                <a:lnTo>
                  <a:pt x="48763" y="29079"/>
                </a:lnTo>
                <a:lnTo>
                  <a:pt x="59016" y="30392"/>
                </a:lnTo>
                <a:lnTo>
                  <a:pt x="70085" y="32115"/>
                </a:lnTo>
                <a:lnTo>
                  <a:pt x="81697" y="34110"/>
                </a:lnTo>
                <a:lnTo>
                  <a:pt x="94519" y="35440"/>
                </a:lnTo>
                <a:lnTo>
                  <a:pt x="108147" y="36327"/>
                </a:lnTo>
                <a:lnTo>
                  <a:pt x="135989" y="37312"/>
                </a:lnTo>
                <a:lnTo>
                  <a:pt x="186099" y="37945"/>
                </a:lnTo>
                <a:lnTo>
                  <a:pt x="257322" y="381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InkAnnotation170"/>
          <p:cNvSpPr/>
          <p:nvPr/>
        </p:nvSpPr>
        <p:spPr>
          <a:xfrm>
            <a:off x="2087640" y="2752560"/>
            <a:ext cx="276120" cy="293760"/>
          </a:xfrm>
          <a:custGeom>
            <a:avLst/>
            <a:gdLst>
              <a:gd name="textAreaLeft" fmla="*/ 0 w 276120"/>
              <a:gd name="textAreaRight" fmla="*/ 276480 w 27612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275229" h="294464">
                <a:moveTo>
                  <a:pt x="53340" y="82620"/>
                </a:moveTo>
                <a:lnTo>
                  <a:pt x="53340" y="67224"/>
                </a:lnTo>
                <a:lnTo>
                  <a:pt x="54187" y="63889"/>
                </a:lnTo>
                <a:lnTo>
                  <a:pt x="57386" y="57926"/>
                </a:lnTo>
                <a:lnTo>
                  <a:pt x="61117" y="55151"/>
                </a:lnTo>
                <a:lnTo>
                  <a:pt x="66145" y="52454"/>
                </a:lnTo>
                <a:lnTo>
                  <a:pt x="77658" y="47200"/>
                </a:lnTo>
                <a:lnTo>
                  <a:pt x="88419" y="42042"/>
                </a:lnTo>
                <a:lnTo>
                  <a:pt x="94506" y="38635"/>
                </a:lnTo>
                <a:lnTo>
                  <a:pt x="101104" y="34670"/>
                </a:lnTo>
                <a:lnTo>
                  <a:pt x="108043" y="30333"/>
                </a:lnTo>
                <a:lnTo>
                  <a:pt x="115209" y="26595"/>
                </a:lnTo>
                <a:lnTo>
                  <a:pt x="122526" y="23257"/>
                </a:lnTo>
                <a:lnTo>
                  <a:pt x="129944" y="20185"/>
                </a:lnTo>
                <a:lnTo>
                  <a:pt x="138276" y="17290"/>
                </a:lnTo>
                <a:lnTo>
                  <a:pt x="147217" y="14513"/>
                </a:lnTo>
                <a:lnTo>
                  <a:pt x="156565" y="11816"/>
                </a:lnTo>
                <a:lnTo>
                  <a:pt x="167030" y="10017"/>
                </a:lnTo>
                <a:lnTo>
                  <a:pt x="178240" y="8818"/>
                </a:lnTo>
                <a:lnTo>
                  <a:pt x="189947" y="8019"/>
                </a:lnTo>
                <a:lnTo>
                  <a:pt x="199445" y="6639"/>
                </a:lnTo>
                <a:lnTo>
                  <a:pt x="207470" y="4873"/>
                </a:lnTo>
                <a:lnTo>
                  <a:pt x="214513" y="2849"/>
                </a:lnTo>
                <a:lnTo>
                  <a:pt x="221749" y="1499"/>
                </a:lnTo>
                <a:lnTo>
                  <a:pt x="229113" y="599"/>
                </a:lnTo>
                <a:lnTo>
                  <a:pt x="236562" y="0"/>
                </a:lnTo>
                <a:lnTo>
                  <a:pt x="242375" y="447"/>
                </a:lnTo>
                <a:lnTo>
                  <a:pt x="247096" y="1591"/>
                </a:lnTo>
                <a:lnTo>
                  <a:pt x="254601" y="5120"/>
                </a:lnTo>
                <a:lnTo>
                  <a:pt x="260758" y="9511"/>
                </a:lnTo>
                <a:lnTo>
                  <a:pt x="261046" y="11868"/>
                </a:lnTo>
                <a:lnTo>
                  <a:pt x="259544" y="14285"/>
                </a:lnTo>
                <a:lnTo>
                  <a:pt x="253360" y="19229"/>
                </a:lnTo>
                <a:lnTo>
                  <a:pt x="233334" y="31560"/>
                </a:lnTo>
                <a:lnTo>
                  <a:pt x="226676" y="35880"/>
                </a:lnTo>
                <a:lnTo>
                  <a:pt x="218851" y="39606"/>
                </a:lnTo>
                <a:lnTo>
                  <a:pt x="210247" y="42938"/>
                </a:lnTo>
                <a:lnTo>
                  <a:pt x="201125" y="46005"/>
                </a:lnTo>
                <a:lnTo>
                  <a:pt x="190810" y="50590"/>
                </a:lnTo>
                <a:lnTo>
                  <a:pt x="179700" y="56187"/>
                </a:lnTo>
                <a:lnTo>
                  <a:pt x="168060" y="62458"/>
                </a:lnTo>
                <a:lnTo>
                  <a:pt x="156913" y="67485"/>
                </a:lnTo>
                <a:lnTo>
                  <a:pt x="146096" y="71683"/>
                </a:lnTo>
                <a:lnTo>
                  <a:pt x="108445" y="84505"/>
                </a:lnTo>
                <a:lnTo>
                  <a:pt x="101083" y="88110"/>
                </a:lnTo>
                <a:lnTo>
                  <a:pt x="94483" y="92207"/>
                </a:lnTo>
                <a:lnTo>
                  <a:pt x="88388" y="96631"/>
                </a:lnTo>
                <a:lnTo>
                  <a:pt x="83479" y="99581"/>
                </a:lnTo>
                <a:lnTo>
                  <a:pt x="75766" y="102858"/>
                </a:lnTo>
                <a:lnTo>
                  <a:pt x="74218" y="105426"/>
                </a:lnTo>
                <a:lnTo>
                  <a:pt x="74032" y="108830"/>
                </a:lnTo>
                <a:lnTo>
                  <a:pt x="74754" y="112794"/>
                </a:lnTo>
                <a:lnTo>
                  <a:pt x="77776" y="116282"/>
                </a:lnTo>
                <a:lnTo>
                  <a:pt x="82331" y="119455"/>
                </a:lnTo>
                <a:lnTo>
                  <a:pt x="87907" y="122417"/>
                </a:lnTo>
                <a:lnTo>
                  <a:pt x="94165" y="125238"/>
                </a:lnTo>
                <a:lnTo>
                  <a:pt x="100877" y="127965"/>
                </a:lnTo>
                <a:lnTo>
                  <a:pt x="107891" y="130630"/>
                </a:lnTo>
                <a:lnTo>
                  <a:pt x="115954" y="133253"/>
                </a:lnTo>
                <a:lnTo>
                  <a:pt x="124716" y="135849"/>
                </a:lnTo>
                <a:lnTo>
                  <a:pt x="133944" y="138426"/>
                </a:lnTo>
                <a:lnTo>
                  <a:pt x="145176" y="140991"/>
                </a:lnTo>
                <a:lnTo>
                  <a:pt x="171203" y="146098"/>
                </a:lnTo>
                <a:lnTo>
                  <a:pt x="183562" y="149492"/>
                </a:lnTo>
                <a:lnTo>
                  <a:pt x="195188" y="153448"/>
                </a:lnTo>
                <a:lnTo>
                  <a:pt x="206326" y="157779"/>
                </a:lnTo>
                <a:lnTo>
                  <a:pt x="217137" y="162359"/>
                </a:lnTo>
                <a:lnTo>
                  <a:pt x="238181" y="171964"/>
                </a:lnTo>
                <a:lnTo>
                  <a:pt x="260978" y="182846"/>
                </a:lnTo>
                <a:lnTo>
                  <a:pt x="266272" y="186691"/>
                </a:lnTo>
                <a:lnTo>
                  <a:pt x="274412" y="195478"/>
                </a:lnTo>
                <a:lnTo>
                  <a:pt x="275228" y="200192"/>
                </a:lnTo>
                <a:lnTo>
                  <a:pt x="274079" y="205028"/>
                </a:lnTo>
                <a:lnTo>
                  <a:pt x="264112" y="224957"/>
                </a:lnTo>
                <a:lnTo>
                  <a:pt x="259895" y="230004"/>
                </a:lnTo>
                <a:lnTo>
                  <a:pt x="254543" y="235063"/>
                </a:lnTo>
                <a:lnTo>
                  <a:pt x="248436" y="240129"/>
                </a:lnTo>
                <a:lnTo>
                  <a:pt x="240130" y="245199"/>
                </a:lnTo>
                <a:lnTo>
                  <a:pt x="230361" y="250273"/>
                </a:lnTo>
                <a:lnTo>
                  <a:pt x="219614" y="255348"/>
                </a:lnTo>
                <a:lnTo>
                  <a:pt x="209063" y="259579"/>
                </a:lnTo>
                <a:lnTo>
                  <a:pt x="198642" y="263246"/>
                </a:lnTo>
                <a:lnTo>
                  <a:pt x="188308" y="266537"/>
                </a:lnTo>
                <a:lnTo>
                  <a:pt x="167795" y="272452"/>
                </a:lnTo>
                <a:lnTo>
                  <a:pt x="157583" y="275215"/>
                </a:lnTo>
                <a:lnTo>
                  <a:pt x="146542" y="277903"/>
                </a:lnTo>
                <a:lnTo>
                  <a:pt x="89968" y="290861"/>
                </a:lnTo>
                <a:lnTo>
                  <a:pt x="79452" y="292567"/>
                </a:lnTo>
                <a:lnTo>
                  <a:pt x="69055" y="293705"/>
                </a:lnTo>
                <a:lnTo>
                  <a:pt x="58737" y="294463"/>
                </a:lnTo>
                <a:lnTo>
                  <a:pt x="49317" y="294122"/>
                </a:lnTo>
                <a:lnTo>
                  <a:pt x="40498" y="293048"/>
                </a:lnTo>
                <a:lnTo>
                  <a:pt x="32079" y="291485"/>
                </a:lnTo>
                <a:lnTo>
                  <a:pt x="25619" y="290444"/>
                </a:lnTo>
                <a:lnTo>
                  <a:pt x="20466" y="289749"/>
                </a:lnTo>
                <a:lnTo>
                  <a:pt x="12482" y="288978"/>
                </a:lnTo>
                <a:lnTo>
                  <a:pt x="9169" y="288772"/>
                </a:lnTo>
                <a:lnTo>
                  <a:pt x="0" y="288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InkAnnotation171"/>
          <p:cNvSpPr/>
          <p:nvPr/>
        </p:nvSpPr>
        <p:spPr>
          <a:xfrm>
            <a:off x="2500200" y="2735280"/>
            <a:ext cx="265320" cy="297000"/>
          </a:xfrm>
          <a:custGeom>
            <a:avLst/>
            <a:gdLst>
              <a:gd name="textAreaLeft" fmla="*/ 0 w 265320"/>
              <a:gd name="textAreaRight" fmla="*/ 265680 w 2653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65169" h="296695">
                <a:moveTo>
                  <a:pt x="89908" y="0"/>
                </a:moveTo>
                <a:lnTo>
                  <a:pt x="89908" y="4045"/>
                </a:lnTo>
                <a:lnTo>
                  <a:pt x="89061" y="6084"/>
                </a:lnTo>
                <a:lnTo>
                  <a:pt x="83825" y="13844"/>
                </a:lnTo>
                <a:lnTo>
                  <a:pt x="79302" y="21957"/>
                </a:lnTo>
                <a:lnTo>
                  <a:pt x="76727" y="31208"/>
                </a:lnTo>
                <a:lnTo>
                  <a:pt x="76041" y="36045"/>
                </a:lnTo>
                <a:lnTo>
                  <a:pt x="74737" y="40963"/>
                </a:lnTo>
                <a:lnTo>
                  <a:pt x="73021" y="45936"/>
                </a:lnTo>
                <a:lnTo>
                  <a:pt x="71030" y="50944"/>
                </a:lnTo>
                <a:lnTo>
                  <a:pt x="68856" y="55976"/>
                </a:lnTo>
                <a:lnTo>
                  <a:pt x="64183" y="66082"/>
                </a:lnTo>
                <a:lnTo>
                  <a:pt x="61751" y="71995"/>
                </a:lnTo>
                <a:lnTo>
                  <a:pt x="59283" y="78477"/>
                </a:lnTo>
                <a:lnTo>
                  <a:pt x="56791" y="85338"/>
                </a:lnTo>
                <a:lnTo>
                  <a:pt x="55130" y="92452"/>
                </a:lnTo>
                <a:lnTo>
                  <a:pt x="54023" y="99734"/>
                </a:lnTo>
                <a:lnTo>
                  <a:pt x="53285" y="107130"/>
                </a:lnTo>
                <a:lnTo>
                  <a:pt x="51946" y="114600"/>
                </a:lnTo>
                <a:lnTo>
                  <a:pt x="50207" y="122120"/>
                </a:lnTo>
                <a:lnTo>
                  <a:pt x="48200" y="129673"/>
                </a:lnTo>
                <a:lnTo>
                  <a:pt x="43713" y="144839"/>
                </a:lnTo>
                <a:lnTo>
                  <a:pt x="41332" y="152439"/>
                </a:lnTo>
                <a:lnTo>
                  <a:pt x="38051" y="160046"/>
                </a:lnTo>
                <a:lnTo>
                  <a:pt x="34170" y="167658"/>
                </a:lnTo>
                <a:lnTo>
                  <a:pt x="29889" y="175272"/>
                </a:lnTo>
                <a:lnTo>
                  <a:pt x="26189" y="182888"/>
                </a:lnTo>
                <a:lnTo>
                  <a:pt x="22875" y="190505"/>
                </a:lnTo>
                <a:lnTo>
                  <a:pt x="19819" y="198123"/>
                </a:lnTo>
                <a:lnTo>
                  <a:pt x="14166" y="213361"/>
                </a:lnTo>
                <a:lnTo>
                  <a:pt x="11474" y="220981"/>
                </a:lnTo>
                <a:lnTo>
                  <a:pt x="8832" y="227754"/>
                </a:lnTo>
                <a:lnTo>
                  <a:pt x="6224" y="233962"/>
                </a:lnTo>
                <a:lnTo>
                  <a:pt x="3639" y="239795"/>
                </a:lnTo>
                <a:lnTo>
                  <a:pt x="1915" y="245377"/>
                </a:lnTo>
                <a:lnTo>
                  <a:pt x="766" y="250791"/>
                </a:lnTo>
                <a:lnTo>
                  <a:pt x="0" y="256094"/>
                </a:lnTo>
                <a:lnTo>
                  <a:pt x="336" y="261323"/>
                </a:lnTo>
                <a:lnTo>
                  <a:pt x="1406" y="266502"/>
                </a:lnTo>
                <a:lnTo>
                  <a:pt x="2967" y="271648"/>
                </a:lnTo>
                <a:lnTo>
                  <a:pt x="6547" y="275925"/>
                </a:lnTo>
                <a:lnTo>
                  <a:pt x="11474" y="279623"/>
                </a:lnTo>
                <a:lnTo>
                  <a:pt x="17299" y="282936"/>
                </a:lnTo>
                <a:lnTo>
                  <a:pt x="23722" y="285990"/>
                </a:lnTo>
                <a:lnTo>
                  <a:pt x="30544" y="288874"/>
                </a:lnTo>
                <a:lnTo>
                  <a:pt x="37632" y="291643"/>
                </a:lnTo>
                <a:lnTo>
                  <a:pt x="46590" y="293488"/>
                </a:lnTo>
                <a:lnTo>
                  <a:pt x="56796" y="294719"/>
                </a:lnTo>
                <a:lnTo>
                  <a:pt x="67834" y="295539"/>
                </a:lnTo>
                <a:lnTo>
                  <a:pt x="79425" y="296086"/>
                </a:lnTo>
                <a:lnTo>
                  <a:pt x="103593" y="296694"/>
                </a:lnTo>
                <a:lnTo>
                  <a:pt x="116811" y="296009"/>
                </a:lnTo>
                <a:lnTo>
                  <a:pt x="130704" y="294706"/>
                </a:lnTo>
                <a:lnTo>
                  <a:pt x="145045" y="292991"/>
                </a:lnTo>
                <a:lnTo>
                  <a:pt x="159686" y="291847"/>
                </a:lnTo>
                <a:lnTo>
                  <a:pt x="174527" y="291085"/>
                </a:lnTo>
                <a:lnTo>
                  <a:pt x="189501" y="290577"/>
                </a:lnTo>
                <a:lnTo>
                  <a:pt x="202870" y="289391"/>
                </a:lnTo>
                <a:lnTo>
                  <a:pt x="215169" y="287754"/>
                </a:lnTo>
                <a:lnTo>
                  <a:pt x="226755" y="285816"/>
                </a:lnTo>
                <a:lnTo>
                  <a:pt x="236173" y="284524"/>
                </a:lnTo>
                <a:lnTo>
                  <a:pt x="244145" y="283663"/>
                </a:lnTo>
                <a:lnTo>
                  <a:pt x="265168" y="2819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MARTInkAnnotation172"/>
          <p:cNvSpPr/>
          <p:nvPr/>
        </p:nvSpPr>
        <p:spPr>
          <a:xfrm>
            <a:off x="2949480" y="2933640"/>
            <a:ext cx="243000" cy="360"/>
          </a:xfrm>
          <a:custGeom>
            <a:avLst/>
            <a:gdLst>
              <a:gd name="textAreaLeft" fmla="*/ 0 w 243000"/>
              <a:gd name="textAreaRight" fmla="*/ 243360 w 2430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43841" h="1">
                <a:moveTo>
                  <a:pt x="0" y="0"/>
                </a:moveTo>
                <a:lnTo>
                  <a:pt x="2438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InkAnnotation173"/>
          <p:cNvSpPr/>
          <p:nvPr/>
        </p:nvSpPr>
        <p:spPr>
          <a:xfrm>
            <a:off x="3422520" y="2727360"/>
            <a:ext cx="82800" cy="290520"/>
          </a:xfrm>
          <a:custGeom>
            <a:avLst/>
            <a:gdLst>
              <a:gd name="textAreaLeft" fmla="*/ 0 w 82800"/>
              <a:gd name="textAreaRight" fmla="*/ 83160 w 828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2657" h="289561">
                <a:moveTo>
                  <a:pt x="82656" y="0"/>
                </a:moveTo>
                <a:lnTo>
                  <a:pt x="82656" y="4045"/>
                </a:lnTo>
                <a:lnTo>
                  <a:pt x="81810" y="5237"/>
                </a:lnTo>
                <a:lnTo>
                  <a:pt x="80399" y="6031"/>
                </a:lnTo>
                <a:lnTo>
                  <a:pt x="76096" y="7306"/>
                </a:lnTo>
                <a:lnTo>
                  <a:pt x="75507" y="11996"/>
                </a:lnTo>
                <a:lnTo>
                  <a:pt x="75350" y="15617"/>
                </a:lnTo>
                <a:lnTo>
                  <a:pt x="74399" y="18878"/>
                </a:lnTo>
                <a:lnTo>
                  <a:pt x="72918" y="21899"/>
                </a:lnTo>
                <a:lnTo>
                  <a:pt x="71084" y="24759"/>
                </a:lnTo>
                <a:lnTo>
                  <a:pt x="69015" y="28360"/>
                </a:lnTo>
                <a:lnTo>
                  <a:pt x="64458" y="36876"/>
                </a:lnTo>
                <a:lnTo>
                  <a:pt x="49599" y="66155"/>
                </a:lnTo>
                <a:lnTo>
                  <a:pt x="47072" y="72044"/>
                </a:lnTo>
                <a:lnTo>
                  <a:pt x="44540" y="78509"/>
                </a:lnTo>
                <a:lnTo>
                  <a:pt x="39469" y="92466"/>
                </a:lnTo>
                <a:lnTo>
                  <a:pt x="19156" y="152440"/>
                </a:lnTo>
                <a:lnTo>
                  <a:pt x="17462" y="160047"/>
                </a:lnTo>
                <a:lnTo>
                  <a:pt x="16334" y="167658"/>
                </a:lnTo>
                <a:lnTo>
                  <a:pt x="15581" y="175272"/>
                </a:lnTo>
                <a:lnTo>
                  <a:pt x="14233" y="182888"/>
                </a:lnTo>
                <a:lnTo>
                  <a:pt x="12488" y="190505"/>
                </a:lnTo>
                <a:lnTo>
                  <a:pt x="10477" y="198124"/>
                </a:lnTo>
                <a:lnTo>
                  <a:pt x="9137" y="205743"/>
                </a:lnTo>
                <a:lnTo>
                  <a:pt x="8244" y="213362"/>
                </a:lnTo>
                <a:lnTo>
                  <a:pt x="7648" y="220981"/>
                </a:lnTo>
                <a:lnTo>
                  <a:pt x="6404" y="227754"/>
                </a:lnTo>
                <a:lnTo>
                  <a:pt x="4728" y="233963"/>
                </a:lnTo>
                <a:lnTo>
                  <a:pt x="2764" y="239795"/>
                </a:lnTo>
                <a:lnTo>
                  <a:pt x="1455" y="245377"/>
                </a:lnTo>
                <a:lnTo>
                  <a:pt x="582" y="250792"/>
                </a:lnTo>
                <a:lnTo>
                  <a:pt x="0" y="256094"/>
                </a:lnTo>
                <a:lnTo>
                  <a:pt x="459" y="260476"/>
                </a:lnTo>
                <a:lnTo>
                  <a:pt x="1612" y="264244"/>
                </a:lnTo>
                <a:lnTo>
                  <a:pt x="3226" y="267603"/>
                </a:lnTo>
                <a:lnTo>
                  <a:pt x="5021" y="273592"/>
                </a:lnTo>
                <a:lnTo>
                  <a:pt x="6030" y="281725"/>
                </a:lnTo>
                <a:lnTo>
                  <a:pt x="6456" y="2895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InkAnnotation174"/>
          <p:cNvSpPr/>
          <p:nvPr/>
        </p:nvSpPr>
        <p:spPr>
          <a:xfrm>
            <a:off x="3668760" y="2727360"/>
            <a:ext cx="156960" cy="158760"/>
          </a:xfrm>
          <a:custGeom>
            <a:avLst/>
            <a:gdLst>
              <a:gd name="textAreaLeft" fmla="*/ 0 w 156960"/>
              <a:gd name="textAreaRight" fmla="*/ 157320 w 1569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57251" h="158409">
                <a:moveTo>
                  <a:pt x="149674" y="0"/>
                </a:moveTo>
                <a:lnTo>
                  <a:pt x="145629" y="0"/>
                </a:lnTo>
                <a:lnTo>
                  <a:pt x="143591" y="847"/>
                </a:lnTo>
                <a:lnTo>
                  <a:pt x="139068" y="4045"/>
                </a:lnTo>
                <a:lnTo>
                  <a:pt x="135831" y="5237"/>
                </a:lnTo>
                <a:lnTo>
                  <a:pt x="131978" y="6031"/>
                </a:lnTo>
                <a:lnTo>
                  <a:pt x="127717" y="6561"/>
                </a:lnTo>
                <a:lnTo>
                  <a:pt x="123183" y="8607"/>
                </a:lnTo>
                <a:lnTo>
                  <a:pt x="118467" y="11665"/>
                </a:lnTo>
                <a:lnTo>
                  <a:pt x="113629" y="15397"/>
                </a:lnTo>
                <a:lnTo>
                  <a:pt x="107864" y="19578"/>
                </a:lnTo>
                <a:lnTo>
                  <a:pt x="94686" y="28739"/>
                </a:lnTo>
                <a:lnTo>
                  <a:pt x="88462" y="33553"/>
                </a:lnTo>
                <a:lnTo>
                  <a:pt x="82619" y="38455"/>
                </a:lnTo>
                <a:lnTo>
                  <a:pt x="77031" y="43417"/>
                </a:lnTo>
                <a:lnTo>
                  <a:pt x="70765" y="48418"/>
                </a:lnTo>
                <a:lnTo>
                  <a:pt x="64048" y="53445"/>
                </a:lnTo>
                <a:lnTo>
                  <a:pt x="49811" y="63547"/>
                </a:lnTo>
                <a:lnTo>
                  <a:pt x="35018" y="73681"/>
                </a:lnTo>
                <a:lnTo>
                  <a:pt x="29210" y="79601"/>
                </a:lnTo>
                <a:lnTo>
                  <a:pt x="24491" y="86087"/>
                </a:lnTo>
                <a:lnTo>
                  <a:pt x="20499" y="92951"/>
                </a:lnTo>
                <a:lnTo>
                  <a:pt x="16143" y="99221"/>
                </a:lnTo>
                <a:lnTo>
                  <a:pt x="11547" y="105094"/>
                </a:lnTo>
                <a:lnTo>
                  <a:pt x="6789" y="110703"/>
                </a:lnTo>
                <a:lnTo>
                  <a:pt x="3618" y="115289"/>
                </a:lnTo>
                <a:lnTo>
                  <a:pt x="1503" y="119192"/>
                </a:lnTo>
                <a:lnTo>
                  <a:pt x="93" y="122642"/>
                </a:lnTo>
                <a:lnTo>
                  <a:pt x="0" y="126634"/>
                </a:lnTo>
                <a:lnTo>
                  <a:pt x="784" y="130990"/>
                </a:lnTo>
                <a:lnTo>
                  <a:pt x="2154" y="135586"/>
                </a:lnTo>
                <a:lnTo>
                  <a:pt x="4761" y="139498"/>
                </a:lnTo>
                <a:lnTo>
                  <a:pt x="8192" y="142952"/>
                </a:lnTo>
                <a:lnTo>
                  <a:pt x="12172" y="146101"/>
                </a:lnTo>
                <a:lnTo>
                  <a:pt x="16519" y="149048"/>
                </a:lnTo>
                <a:lnTo>
                  <a:pt x="21111" y="151858"/>
                </a:lnTo>
                <a:lnTo>
                  <a:pt x="25866" y="154579"/>
                </a:lnTo>
                <a:lnTo>
                  <a:pt x="31575" y="156393"/>
                </a:lnTo>
                <a:lnTo>
                  <a:pt x="37922" y="157602"/>
                </a:lnTo>
                <a:lnTo>
                  <a:pt x="44693" y="158408"/>
                </a:lnTo>
                <a:lnTo>
                  <a:pt x="51746" y="158099"/>
                </a:lnTo>
                <a:lnTo>
                  <a:pt x="58989" y="157046"/>
                </a:lnTo>
                <a:lnTo>
                  <a:pt x="66357" y="155497"/>
                </a:lnTo>
                <a:lnTo>
                  <a:pt x="73810" y="152771"/>
                </a:lnTo>
                <a:lnTo>
                  <a:pt x="81318" y="149261"/>
                </a:lnTo>
                <a:lnTo>
                  <a:pt x="88863" y="145228"/>
                </a:lnTo>
                <a:lnTo>
                  <a:pt x="96434" y="141692"/>
                </a:lnTo>
                <a:lnTo>
                  <a:pt x="104021" y="138488"/>
                </a:lnTo>
                <a:lnTo>
                  <a:pt x="111619" y="135505"/>
                </a:lnTo>
                <a:lnTo>
                  <a:pt x="118377" y="131823"/>
                </a:lnTo>
                <a:lnTo>
                  <a:pt x="124576" y="127675"/>
                </a:lnTo>
                <a:lnTo>
                  <a:pt x="130402" y="123217"/>
                </a:lnTo>
                <a:lnTo>
                  <a:pt x="135133" y="117705"/>
                </a:lnTo>
                <a:lnTo>
                  <a:pt x="139133" y="111490"/>
                </a:lnTo>
                <a:lnTo>
                  <a:pt x="151638" y="87310"/>
                </a:lnTo>
                <a:lnTo>
                  <a:pt x="153523" y="81913"/>
                </a:lnTo>
                <a:lnTo>
                  <a:pt x="154780" y="76622"/>
                </a:lnTo>
                <a:lnTo>
                  <a:pt x="155618" y="71401"/>
                </a:lnTo>
                <a:lnTo>
                  <a:pt x="156178" y="66228"/>
                </a:lnTo>
                <a:lnTo>
                  <a:pt x="156550" y="61085"/>
                </a:lnTo>
                <a:lnTo>
                  <a:pt x="156797" y="55963"/>
                </a:lnTo>
                <a:lnTo>
                  <a:pt x="157074" y="45757"/>
                </a:lnTo>
                <a:lnTo>
                  <a:pt x="157250" y="29453"/>
                </a:lnTo>
                <a:lnTo>
                  <a:pt x="156419" y="27255"/>
                </a:lnTo>
                <a:lnTo>
                  <a:pt x="155018" y="25790"/>
                </a:lnTo>
                <a:lnTo>
                  <a:pt x="149674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InkAnnotation175"/>
          <p:cNvSpPr/>
          <p:nvPr/>
        </p:nvSpPr>
        <p:spPr>
          <a:xfrm>
            <a:off x="3697200" y="2887560"/>
            <a:ext cx="127080" cy="133560"/>
          </a:xfrm>
          <a:custGeom>
            <a:avLst/>
            <a:gdLst>
              <a:gd name="textAreaLeft" fmla="*/ 0 w 127080"/>
              <a:gd name="textAreaRight" fmla="*/ 127440 w 12708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27127" h="133551">
                <a:moveTo>
                  <a:pt x="67067" y="0"/>
                </a:moveTo>
                <a:lnTo>
                  <a:pt x="55495" y="11572"/>
                </a:lnTo>
                <a:lnTo>
                  <a:pt x="53426" y="12795"/>
                </a:lnTo>
                <a:lnTo>
                  <a:pt x="51200" y="13610"/>
                </a:lnTo>
                <a:lnTo>
                  <a:pt x="48869" y="14153"/>
                </a:lnTo>
                <a:lnTo>
                  <a:pt x="45622" y="15362"/>
                </a:lnTo>
                <a:lnTo>
                  <a:pt x="41763" y="17015"/>
                </a:lnTo>
                <a:lnTo>
                  <a:pt x="37498" y="18963"/>
                </a:lnTo>
                <a:lnTo>
                  <a:pt x="33808" y="21955"/>
                </a:lnTo>
                <a:lnTo>
                  <a:pt x="30501" y="25644"/>
                </a:lnTo>
                <a:lnTo>
                  <a:pt x="27450" y="29796"/>
                </a:lnTo>
                <a:lnTo>
                  <a:pt x="24569" y="34257"/>
                </a:lnTo>
                <a:lnTo>
                  <a:pt x="21801" y="38925"/>
                </a:lnTo>
                <a:lnTo>
                  <a:pt x="19110" y="43730"/>
                </a:lnTo>
                <a:lnTo>
                  <a:pt x="13862" y="53584"/>
                </a:lnTo>
                <a:lnTo>
                  <a:pt x="3594" y="73708"/>
                </a:lnTo>
                <a:lnTo>
                  <a:pt x="1891" y="77925"/>
                </a:lnTo>
                <a:lnTo>
                  <a:pt x="757" y="81584"/>
                </a:lnTo>
                <a:lnTo>
                  <a:pt x="0" y="84869"/>
                </a:lnTo>
                <a:lnTo>
                  <a:pt x="342" y="88753"/>
                </a:lnTo>
                <a:lnTo>
                  <a:pt x="1417" y="93035"/>
                </a:lnTo>
                <a:lnTo>
                  <a:pt x="2981" y="97583"/>
                </a:lnTo>
                <a:lnTo>
                  <a:pt x="4022" y="102309"/>
                </a:lnTo>
                <a:lnTo>
                  <a:pt x="4717" y="107153"/>
                </a:lnTo>
                <a:lnTo>
                  <a:pt x="5180" y="112075"/>
                </a:lnTo>
                <a:lnTo>
                  <a:pt x="7183" y="116203"/>
                </a:lnTo>
                <a:lnTo>
                  <a:pt x="10211" y="119802"/>
                </a:lnTo>
                <a:lnTo>
                  <a:pt x="13923" y="123048"/>
                </a:lnTo>
                <a:lnTo>
                  <a:pt x="18938" y="125212"/>
                </a:lnTo>
                <a:lnTo>
                  <a:pt x="24821" y="126655"/>
                </a:lnTo>
                <a:lnTo>
                  <a:pt x="31283" y="127617"/>
                </a:lnTo>
                <a:lnTo>
                  <a:pt x="37284" y="129104"/>
                </a:lnTo>
                <a:lnTo>
                  <a:pt x="42978" y="130943"/>
                </a:lnTo>
                <a:lnTo>
                  <a:pt x="48468" y="133015"/>
                </a:lnTo>
                <a:lnTo>
                  <a:pt x="54668" y="133550"/>
                </a:lnTo>
                <a:lnTo>
                  <a:pt x="61341" y="133060"/>
                </a:lnTo>
                <a:lnTo>
                  <a:pt x="68330" y="131887"/>
                </a:lnTo>
                <a:lnTo>
                  <a:pt x="74682" y="130258"/>
                </a:lnTo>
                <a:lnTo>
                  <a:pt x="80610" y="128325"/>
                </a:lnTo>
                <a:lnTo>
                  <a:pt x="86256" y="126190"/>
                </a:lnTo>
                <a:lnTo>
                  <a:pt x="91713" y="123074"/>
                </a:lnTo>
                <a:lnTo>
                  <a:pt x="97045" y="119302"/>
                </a:lnTo>
                <a:lnTo>
                  <a:pt x="102292" y="115095"/>
                </a:lnTo>
                <a:lnTo>
                  <a:pt x="107484" y="110596"/>
                </a:lnTo>
                <a:lnTo>
                  <a:pt x="112638" y="105905"/>
                </a:lnTo>
                <a:lnTo>
                  <a:pt x="117768" y="101083"/>
                </a:lnTo>
                <a:lnTo>
                  <a:pt x="121188" y="96175"/>
                </a:lnTo>
                <a:lnTo>
                  <a:pt x="123467" y="91210"/>
                </a:lnTo>
                <a:lnTo>
                  <a:pt x="124988" y="86207"/>
                </a:lnTo>
                <a:lnTo>
                  <a:pt x="126001" y="81178"/>
                </a:lnTo>
                <a:lnTo>
                  <a:pt x="126676" y="76132"/>
                </a:lnTo>
                <a:lnTo>
                  <a:pt x="127126" y="71075"/>
                </a:lnTo>
                <a:lnTo>
                  <a:pt x="126580" y="66010"/>
                </a:lnTo>
                <a:lnTo>
                  <a:pt x="125369" y="60940"/>
                </a:lnTo>
                <a:lnTo>
                  <a:pt x="123715" y="55867"/>
                </a:lnTo>
                <a:lnTo>
                  <a:pt x="121766" y="50791"/>
                </a:lnTo>
                <a:lnTo>
                  <a:pt x="119620" y="45714"/>
                </a:lnTo>
                <a:lnTo>
                  <a:pt x="117342" y="40636"/>
                </a:lnTo>
                <a:lnTo>
                  <a:pt x="114131" y="36404"/>
                </a:lnTo>
                <a:lnTo>
                  <a:pt x="110296" y="32736"/>
                </a:lnTo>
                <a:lnTo>
                  <a:pt x="97548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InkAnnotation176"/>
          <p:cNvSpPr/>
          <p:nvPr/>
        </p:nvSpPr>
        <p:spPr>
          <a:xfrm>
            <a:off x="625320" y="3346560"/>
            <a:ext cx="344520" cy="501480"/>
          </a:xfrm>
          <a:custGeom>
            <a:avLst/>
            <a:gdLst>
              <a:gd name="textAreaLeft" fmla="*/ 0 w 344520"/>
              <a:gd name="textAreaRight" fmla="*/ 344880 w 34452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345064" h="500780">
                <a:moveTo>
                  <a:pt x="53338" y="135612"/>
                </a:moveTo>
                <a:lnTo>
                  <a:pt x="53338" y="260321"/>
                </a:lnTo>
                <a:lnTo>
                  <a:pt x="52491" y="270398"/>
                </a:lnTo>
                <a:lnTo>
                  <a:pt x="51080" y="280503"/>
                </a:lnTo>
                <a:lnTo>
                  <a:pt x="49293" y="290626"/>
                </a:lnTo>
                <a:lnTo>
                  <a:pt x="48101" y="301608"/>
                </a:lnTo>
                <a:lnTo>
                  <a:pt x="47307" y="313163"/>
                </a:lnTo>
                <a:lnTo>
                  <a:pt x="46424" y="336444"/>
                </a:lnTo>
                <a:lnTo>
                  <a:pt x="46032" y="358079"/>
                </a:lnTo>
                <a:lnTo>
                  <a:pt x="45080" y="368590"/>
                </a:lnTo>
                <a:lnTo>
                  <a:pt x="43599" y="378984"/>
                </a:lnTo>
                <a:lnTo>
                  <a:pt x="41766" y="389300"/>
                </a:lnTo>
                <a:lnTo>
                  <a:pt x="40543" y="399564"/>
                </a:lnTo>
                <a:lnTo>
                  <a:pt x="39728" y="409793"/>
                </a:lnTo>
                <a:lnTo>
                  <a:pt x="39185" y="420000"/>
                </a:lnTo>
                <a:lnTo>
                  <a:pt x="37976" y="429344"/>
                </a:lnTo>
                <a:lnTo>
                  <a:pt x="36323" y="438113"/>
                </a:lnTo>
                <a:lnTo>
                  <a:pt x="34375" y="446499"/>
                </a:lnTo>
                <a:lnTo>
                  <a:pt x="32210" y="460333"/>
                </a:lnTo>
                <a:lnTo>
                  <a:pt x="31248" y="472126"/>
                </a:lnTo>
                <a:lnTo>
                  <a:pt x="30706" y="487438"/>
                </a:lnTo>
                <a:lnTo>
                  <a:pt x="30508" y="499370"/>
                </a:lnTo>
                <a:lnTo>
                  <a:pt x="29651" y="500037"/>
                </a:lnTo>
                <a:lnTo>
                  <a:pt x="26442" y="500779"/>
                </a:lnTo>
                <a:lnTo>
                  <a:pt x="25247" y="500130"/>
                </a:lnTo>
                <a:lnTo>
                  <a:pt x="24451" y="498851"/>
                </a:lnTo>
                <a:lnTo>
                  <a:pt x="23920" y="497151"/>
                </a:lnTo>
                <a:lnTo>
                  <a:pt x="23172" y="486669"/>
                </a:lnTo>
                <a:lnTo>
                  <a:pt x="20740" y="473106"/>
                </a:lnTo>
                <a:lnTo>
                  <a:pt x="18906" y="464748"/>
                </a:lnTo>
                <a:lnTo>
                  <a:pt x="17683" y="455790"/>
                </a:lnTo>
                <a:lnTo>
                  <a:pt x="16868" y="446431"/>
                </a:lnTo>
                <a:lnTo>
                  <a:pt x="16325" y="436804"/>
                </a:lnTo>
                <a:lnTo>
                  <a:pt x="15116" y="427000"/>
                </a:lnTo>
                <a:lnTo>
                  <a:pt x="13463" y="417077"/>
                </a:lnTo>
                <a:lnTo>
                  <a:pt x="11515" y="407075"/>
                </a:lnTo>
                <a:lnTo>
                  <a:pt x="10216" y="397021"/>
                </a:lnTo>
                <a:lnTo>
                  <a:pt x="9350" y="386932"/>
                </a:lnTo>
                <a:lnTo>
                  <a:pt x="8773" y="376818"/>
                </a:lnTo>
                <a:lnTo>
                  <a:pt x="8131" y="354293"/>
                </a:lnTo>
                <a:lnTo>
                  <a:pt x="7960" y="342359"/>
                </a:lnTo>
                <a:lnTo>
                  <a:pt x="6999" y="330170"/>
                </a:lnTo>
                <a:lnTo>
                  <a:pt x="5512" y="317811"/>
                </a:lnTo>
                <a:lnTo>
                  <a:pt x="3674" y="305337"/>
                </a:lnTo>
                <a:lnTo>
                  <a:pt x="2449" y="292789"/>
                </a:lnTo>
                <a:lnTo>
                  <a:pt x="1632" y="280190"/>
                </a:lnTo>
                <a:lnTo>
                  <a:pt x="724" y="255749"/>
                </a:lnTo>
                <a:lnTo>
                  <a:pt x="213" y="222949"/>
                </a:lnTo>
                <a:lnTo>
                  <a:pt x="0" y="110223"/>
                </a:lnTo>
                <a:lnTo>
                  <a:pt x="846" y="101753"/>
                </a:lnTo>
                <a:lnTo>
                  <a:pt x="4044" y="87826"/>
                </a:lnTo>
                <a:lnTo>
                  <a:pt x="8287" y="73734"/>
                </a:lnTo>
                <a:lnTo>
                  <a:pt x="10604" y="66419"/>
                </a:lnTo>
                <a:lnTo>
                  <a:pt x="17694" y="53778"/>
                </a:lnTo>
                <a:lnTo>
                  <a:pt x="26490" y="42514"/>
                </a:lnTo>
                <a:lnTo>
                  <a:pt x="36043" y="31864"/>
                </a:lnTo>
                <a:lnTo>
                  <a:pt x="41808" y="27501"/>
                </a:lnTo>
                <a:lnTo>
                  <a:pt x="48191" y="23744"/>
                </a:lnTo>
                <a:lnTo>
                  <a:pt x="54987" y="20394"/>
                </a:lnTo>
                <a:lnTo>
                  <a:pt x="62904" y="17313"/>
                </a:lnTo>
                <a:lnTo>
                  <a:pt x="71568" y="14413"/>
                </a:lnTo>
                <a:lnTo>
                  <a:pt x="80732" y="11632"/>
                </a:lnTo>
                <a:lnTo>
                  <a:pt x="99944" y="6286"/>
                </a:lnTo>
                <a:lnTo>
                  <a:pt x="109809" y="3674"/>
                </a:lnTo>
                <a:lnTo>
                  <a:pt x="120619" y="1934"/>
                </a:lnTo>
                <a:lnTo>
                  <a:pt x="132058" y="773"/>
                </a:lnTo>
                <a:lnTo>
                  <a:pt x="143918" y="0"/>
                </a:lnTo>
                <a:lnTo>
                  <a:pt x="156058" y="330"/>
                </a:lnTo>
                <a:lnTo>
                  <a:pt x="168385" y="1397"/>
                </a:lnTo>
                <a:lnTo>
                  <a:pt x="180836" y="2956"/>
                </a:lnTo>
                <a:lnTo>
                  <a:pt x="192523" y="4841"/>
                </a:lnTo>
                <a:lnTo>
                  <a:pt x="203702" y="6945"/>
                </a:lnTo>
                <a:lnTo>
                  <a:pt x="214540" y="9194"/>
                </a:lnTo>
                <a:lnTo>
                  <a:pt x="226000" y="12387"/>
                </a:lnTo>
                <a:lnTo>
                  <a:pt x="237872" y="16208"/>
                </a:lnTo>
                <a:lnTo>
                  <a:pt x="250021" y="20450"/>
                </a:lnTo>
                <a:lnTo>
                  <a:pt x="261507" y="24970"/>
                </a:lnTo>
                <a:lnTo>
                  <a:pt x="272550" y="29678"/>
                </a:lnTo>
                <a:lnTo>
                  <a:pt x="283300" y="34509"/>
                </a:lnTo>
                <a:lnTo>
                  <a:pt x="293006" y="39423"/>
                </a:lnTo>
                <a:lnTo>
                  <a:pt x="302017" y="44393"/>
                </a:lnTo>
                <a:lnTo>
                  <a:pt x="310564" y="49399"/>
                </a:lnTo>
                <a:lnTo>
                  <a:pt x="317955" y="55277"/>
                </a:lnTo>
                <a:lnTo>
                  <a:pt x="324576" y="61735"/>
                </a:lnTo>
                <a:lnTo>
                  <a:pt x="330683" y="68581"/>
                </a:lnTo>
                <a:lnTo>
                  <a:pt x="339727" y="80702"/>
                </a:lnTo>
                <a:lnTo>
                  <a:pt x="343324" y="86306"/>
                </a:lnTo>
                <a:lnTo>
                  <a:pt x="344876" y="91734"/>
                </a:lnTo>
                <a:lnTo>
                  <a:pt x="345063" y="97047"/>
                </a:lnTo>
                <a:lnTo>
                  <a:pt x="344341" y="102282"/>
                </a:lnTo>
                <a:lnTo>
                  <a:pt x="339024" y="114872"/>
                </a:lnTo>
                <a:lnTo>
                  <a:pt x="335235" y="121785"/>
                </a:lnTo>
                <a:lnTo>
                  <a:pt x="330169" y="128087"/>
                </a:lnTo>
                <a:lnTo>
                  <a:pt x="324252" y="133982"/>
                </a:lnTo>
                <a:lnTo>
                  <a:pt x="317768" y="139605"/>
                </a:lnTo>
                <a:lnTo>
                  <a:pt x="310058" y="144201"/>
                </a:lnTo>
                <a:lnTo>
                  <a:pt x="301531" y="148112"/>
                </a:lnTo>
                <a:lnTo>
                  <a:pt x="292460" y="151565"/>
                </a:lnTo>
                <a:lnTo>
                  <a:pt x="283026" y="155561"/>
                </a:lnTo>
                <a:lnTo>
                  <a:pt x="263513" y="164516"/>
                </a:lnTo>
                <a:lnTo>
                  <a:pt x="252721" y="167581"/>
                </a:lnTo>
                <a:lnTo>
                  <a:pt x="241294" y="169624"/>
                </a:lnTo>
                <a:lnTo>
                  <a:pt x="229442" y="170987"/>
                </a:lnTo>
                <a:lnTo>
                  <a:pt x="218154" y="173589"/>
                </a:lnTo>
                <a:lnTo>
                  <a:pt x="207242" y="177017"/>
                </a:lnTo>
                <a:lnTo>
                  <a:pt x="196580" y="180995"/>
                </a:lnTo>
                <a:lnTo>
                  <a:pt x="186086" y="183647"/>
                </a:lnTo>
                <a:lnTo>
                  <a:pt x="175704" y="185416"/>
                </a:lnTo>
                <a:lnTo>
                  <a:pt x="165395" y="186595"/>
                </a:lnTo>
                <a:lnTo>
                  <a:pt x="155983" y="187380"/>
                </a:lnTo>
                <a:lnTo>
                  <a:pt x="147168" y="187904"/>
                </a:lnTo>
                <a:lnTo>
                  <a:pt x="127142" y="188642"/>
                </a:lnTo>
                <a:lnTo>
                  <a:pt x="106678" y="1889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InkAnnotation177"/>
          <p:cNvSpPr/>
          <p:nvPr/>
        </p:nvSpPr>
        <p:spPr>
          <a:xfrm>
            <a:off x="982800" y="3611520"/>
            <a:ext cx="206280" cy="1584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05741" h="15241">
                <a:moveTo>
                  <a:pt x="0" y="7620"/>
                </a:moveTo>
                <a:lnTo>
                  <a:pt x="4046" y="3575"/>
                </a:lnTo>
                <a:lnTo>
                  <a:pt x="6084" y="2383"/>
                </a:lnTo>
                <a:lnTo>
                  <a:pt x="8289" y="1589"/>
                </a:lnTo>
                <a:lnTo>
                  <a:pt x="13867" y="314"/>
                </a:lnTo>
                <a:lnTo>
                  <a:pt x="19146" y="139"/>
                </a:lnTo>
                <a:lnTo>
                  <a:pt x="121965" y="0"/>
                </a:lnTo>
                <a:lnTo>
                  <a:pt x="129570" y="847"/>
                </a:lnTo>
                <a:lnTo>
                  <a:pt x="137180" y="2258"/>
                </a:lnTo>
                <a:lnTo>
                  <a:pt x="144793" y="4045"/>
                </a:lnTo>
                <a:lnTo>
                  <a:pt x="152409" y="5237"/>
                </a:lnTo>
                <a:lnTo>
                  <a:pt x="160026" y="6031"/>
                </a:lnTo>
                <a:lnTo>
                  <a:pt x="167644" y="6561"/>
                </a:lnTo>
                <a:lnTo>
                  <a:pt x="174416" y="7761"/>
                </a:lnTo>
                <a:lnTo>
                  <a:pt x="180624" y="9407"/>
                </a:lnTo>
                <a:lnTo>
                  <a:pt x="186456" y="11352"/>
                </a:lnTo>
                <a:lnTo>
                  <a:pt x="191191" y="12648"/>
                </a:lnTo>
                <a:lnTo>
                  <a:pt x="195194" y="13512"/>
                </a:lnTo>
                <a:lnTo>
                  <a:pt x="20574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MARTInkAnnotation178"/>
          <p:cNvSpPr/>
          <p:nvPr/>
        </p:nvSpPr>
        <p:spPr>
          <a:xfrm>
            <a:off x="960480" y="3695760"/>
            <a:ext cx="228600" cy="30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28481" h="30479">
                <a:moveTo>
                  <a:pt x="15120" y="0"/>
                </a:moveTo>
                <a:lnTo>
                  <a:pt x="11074" y="0"/>
                </a:lnTo>
                <a:lnTo>
                  <a:pt x="9036" y="847"/>
                </a:lnTo>
                <a:lnTo>
                  <a:pt x="6831" y="2258"/>
                </a:lnTo>
                <a:lnTo>
                  <a:pt x="287" y="7306"/>
                </a:lnTo>
                <a:lnTo>
                  <a:pt x="151" y="8257"/>
                </a:lnTo>
                <a:lnTo>
                  <a:pt x="61" y="9739"/>
                </a:lnTo>
                <a:lnTo>
                  <a:pt x="0" y="11573"/>
                </a:lnTo>
                <a:lnTo>
                  <a:pt x="807" y="13642"/>
                </a:lnTo>
                <a:lnTo>
                  <a:pt x="2191" y="15868"/>
                </a:lnTo>
                <a:lnTo>
                  <a:pt x="3961" y="18199"/>
                </a:lnTo>
                <a:lnTo>
                  <a:pt x="6834" y="19752"/>
                </a:lnTo>
                <a:lnTo>
                  <a:pt x="10442" y="20788"/>
                </a:lnTo>
                <a:lnTo>
                  <a:pt x="14542" y="21479"/>
                </a:lnTo>
                <a:lnTo>
                  <a:pt x="19815" y="21939"/>
                </a:lnTo>
                <a:lnTo>
                  <a:pt x="25870" y="22246"/>
                </a:lnTo>
                <a:lnTo>
                  <a:pt x="32446" y="22451"/>
                </a:lnTo>
                <a:lnTo>
                  <a:pt x="38524" y="23434"/>
                </a:lnTo>
                <a:lnTo>
                  <a:pt x="44270" y="24936"/>
                </a:lnTo>
                <a:lnTo>
                  <a:pt x="49793" y="26784"/>
                </a:lnTo>
                <a:lnTo>
                  <a:pt x="56862" y="28016"/>
                </a:lnTo>
                <a:lnTo>
                  <a:pt x="64961" y="28837"/>
                </a:lnTo>
                <a:lnTo>
                  <a:pt x="73747" y="29385"/>
                </a:lnTo>
                <a:lnTo>
                  <a:pt x="92541" y="29994"/>
                </a:lnTo>
                <a:lnTo>
                  <a:pt x="137044" y="30416"/>
                </a:lnTo>
                <a:lnTo>
                  <a:pt x="205273" y="30478"/>
                </a:lnTo>
                <a:lnTo>
                  <a:pt x="211316" y="29632"/>
                </a:lnTo>
                <a:lnTo>
                  <a:pt x="216191" y="28221"/>
                </a:lnTo>
                <a:lnTo>
                  <a:pt x="228480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InkAnnotation179"/>
          <p:cNvSpPr/>
          <p:nvPr/>
        </p:nvSpPr>
        <p:spPr>
          <a:xfrm>
            <a:off x="1447920" y="3382920"/>
            <a:ext cx="203040" cy="266760"/>
          </a:xfrm>
          <a:custGeom>
            <a:avLst/>
            <a:gdLst>
              <a:gd name="textAreaLeft" fmla="*/ 0 w 203040"/>
              <a:gd name="textAreaRight" fmla="*/ 203400 w 2030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03647" h="266024">
                <a:moveTo>
                  <a:pt x="0" y="30291"/>
                </a:moveTo>
                <a:lnTo>
                  <a:pt x="0" y="26246"/>
                </a:lnTo>
                <a:lnTo>
                  <a:pt x="847" y="24208"/>
                </a:lnTo>
                <a:lnTo>
                  <a:pt x="6561" y="16425"/>
                </a:lnTo>
                <a:lnTo>
                  <a:pt x="9454" y="15967"/>
                </a:lnTo>
                <a:lnTo>
                  <a:pt x="13923" y="15662"/>
                </a:lnTo>
                <a:lnTo>
                  <a:pt x="19442" y="15458"/>
                </a:lnTo>
                <a:lnTo>
                  <a:pt x="25661" y="13629"/>
                </a:lnTo>
                <a:lnTo>
                  <a:pt x="32347" y="10716"/>
                </a:lnTo>
                <a:lnTo>
                  <a:pt x="39345" y="7081"/>
                </a:lnTo>
                <a:lnTo>
                  <a:pt x="46550" y="4658"/>
                </a:lnTo>
                <a:lnTo>
                  <a:pt x="53893" y="3043"/>
                </a:lnTo>
                <a:lnTo>
                  <a:pt x="61329" y="1965"/>
                </a:lnTo>
                <a:lnTo>
                  <a:pt x="69673" y="1247"/>
                </a:lnTo>
                <a:lnTo>
                  <a:pt x="78622" y="769"/>
                </a:lnTo>
                <a:lnTo>
                  <a:pt x="97596" y="237"/>
                </a:lnTo>
                <a:lnTo>
                  <a:pt x="117319" y="0"/>
                </a:lnTo>
                <a:lnTo>
                  <a:pt x="126472" y="784"/>
                </a:lnTo>
                <a:lnTo>
                  <a:pt x="135115" y="2153"/>
                </a:lnTo>
                <a:lnTo>
                  <a:pt x="143417" y="3912"/>
                </a:lnTo>
                <a:lnTo>
                  <a:pt x="151491" y="5932"/>
                </a:lnTo>
                <a:lnTo>
                  <a:pt x="159414" y="8125"/>
                </a:lnTo>
                <a:lnTo>
                  <a:pt x="167236" y="10434"/>
                </a:lnTo>
                <a:lnTo>
                  <a:pt x="174144" y="12820"/>
                </a:lnTo>
                <a:lnTo>
                  <a:pt x="180443" y="15257"/>
                </a:lnTo>
                <a:lnTo>
                  <a:pt x="186336" y="17728"/>
                </a:lnTo>
                <a:lnTo>
                  <a:pt x="191110" y="20223"/>
                </a:lnTo>
                <a:lnTo>
                  <a:pt x="195140" y="22732"/>
                </a:lnTo>
                <a:lnTo>
                  <a:pt x="198674" y="25252"/>
                </a:lnTo>
                <a:lnTo>
                  <a:pt x="201029" y="28625"/>
                </a:lnTo>
                <a:lnTo>
                  <a:pt x="203646" y="36889"/>
                </a:lnTo>
                <a:lnTo>
                  <a:pt x="202651" y="41463"/>
                </a:lnTo>
                <a:lnTo>
                  <a:pt x="200294" y="46205"/>
                </a:lnTo>
                <a:lnTo>
                  <a:pt x="184344" y="70030"/>
                </a:lnTo>
                <a:lnTo>
                  <a:pt x="177930" y="76257"/>
                </a:lnTo>
                <a:lnTo>
                  <a:pt x="170266" y="82102"/>
                </a:lnTo>
                <a:lnTo>
                  <a:pt x="161771" y="87691"/>
                </a:lnTo>
                <a:lnTo>
                  <a:pt x="152721" y="94805"/>
                </a:lnTo>
                <a:lnTo>
                  <a:pt x="143301" y="102933"/>
                </a:lnTo>
                <a:lnTo>
                  <a:pt x="133634" y="111739"/>
                </a:lnTo>
                <a:lnTo>
                  <a:pt x="123802" y="120150"/>
                </a:lnTo>
                <a:lnTo>
                  <a:pt x="113862" y="128297"/>
                </a:lnTo>
                <a:lnTo>
                  <a:pt x="103848" y="136268"/>
                </a:lnTo>
                <a:lnTo>
                  <a:pt x="94632" y="144123"/>
                </a:lnTo>
                <a:lnTo>
                  <a:pt x="85948" y="151899"/>
                </a:lnTo>
                <a:lnTo>
                  <a:pt x="77619" y="159623"/>
                </a:lnTo>
                <a:lnTo>
                  <a:pt x="68679" y="167312"/>
                </a:lnTo>
                <a:lnTo>
                  <a:pt x="59333" y="174979"/>
                </a:lnTo>
                <a:lnTo>
                  <a:pt x="49715" y="182630"/>
                </a:lnTo>
                <a:lnTo>
                  <a:pt x="41610" y="190270"/>
                </a:lnTo>
                <a:lnTo>
                  <a:pt x="34514" y="197904"/>
                </a:lnTo>
                <a:lnTo>
                  <a:pt x="28089" y="205533"/>
                </a:lnTo>
                <a:lnTo>
                  <a:pt x="23806" y="212312"/>
                </a:lnTo>
                <a:lnTo>
                  <a:pt x="20951" y="218525"/>
                </a:lnTo>
                <a:lnTo>
                  <a:pt x="19047" y="224360"/>
                </a:lnTo>
                <a:lnTo>
                  <a:pt x="17778" y="229944"/>
                </a:lnTo>
                <a:lnTo>
                  <a:pt x="16932" y="235360"/>
                </a:lnTo>
                <a:lnTo>
                  <a:pt x="16368" y="240664"/>
                </a:lnTo>
                <a:lnTo>
                  <a:pt x="17685" y="245046"/>
                </a:lnTo>
                <a:lnTo>
                  <a:pt x="20257" y="248814"/>
                </a:lnTo>
                <a:lnTo>
                  <a:pt x="23665" y="252173"/>
                </a:lnTo>
                <a:lnTo>
                  <a:pt x="28476" y="255259"/>
                </a:lnTo>
                <a:lnTo>
                  <a:pt x="34224" y="258163"/>
                </a:lnTo>
                <a:lnTo>
                  <a:pt x="40596" y="260946"/>
                </a:lnTo>
                <a:lnTo>
                  <a:pt x="49077" y="262801"/>
                </a:lnTo>
                <a:lnTo>
                  <a:pt x="58965" y="264038"/>
                </a:lnTo>
                <a:lnTo>
                  <a:pt x="69790" y="264862"/>
                </a:lnTo>
                <a:lnTo>
                  <a:pt x="80393" y="265412"/>
                </a:lnTo>
                <a:lnTo>
                  <a:pt x="101206" y="266023"/>
                </a:lnTo>
                <a:lnTo>
                  <a:pt x="110651" y="265339"/>
                </a:lnTo>
                <a:lnTo>
                  <a:pt x="119487" y="264036"/>
                </a:lnTo>
                <a:lnTo>
                  <a:pt x="144780" y="2588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InkAnnotation180"/>
          <p:cNvSpPr/>
          <p:nvPr/>
        </p:nvSpPr>
        <p:spPr>
          <a:xfrm>
            <a:off x="1798560" y="3292560"/>
            <a:ext cx="219240" cy="189000"/>
          </a:xfrm>
          <a:custGeom>
            <a:avLst/>
            <a:gdLst>
              <a:gd name="textAreaLeft" fmla="*/ 0 w 219240"/>
              <a:gd name="textAreaRight" fmla="*/ 219600 w 2192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17707" h="189140">
                <a:moveTo>
                  <a:pt x="158969" y="14153"/>
                </a:moveTo>
                <a:lnTo>
                  <a:pt x="158969" y="2581"/>
                </a:lnTo>
                <a:lnTo>
                  <a:pt x="158123" y="1358"/>
                </a:lnTo>
                <a:lnTo>
                  <a:pt x="156711" y="543"/>
                </a:lnTo>
                <a:lnTo>
                  <a:pt x="154924" y="0"/>
                </a:lnTo>
                <a:lnTo>
                  <a:pt x="148423" y="1654"/>
                </a:lnTo>
                <a:lnTo>
                  <a:pt x="144318" y="3280"/>
                </a:lnTo>
                <a:lnTo>
                  <a:pt x="132984" y="7345"/>
                </a:lnTo>
                <a:lnTo>
                  <a:pt x="126406" y="9614"/>
                </a:lnTo>
                <a:lnTo>
                  <a:pt x="119480" y="12820"/>
                </a:lnTo>
                <a:lnTo>
                  <a:pt x="112323" y="16652"/>
                </a:lnTo>
                <a:lnTo>
                  <a:pt x="105012" y="20899"/>
                </a:lnTo>
                <a:lnTo>
                  <a:pt x="90115" y="30133"/>
                </a:lnTo>
                <a:lnTo>
                  <a:pt x="82586" y="34966"/>
                </a:lnTo>
                <a:lnTo>
                  <a:pt x="74181" y="40729"/>
                </a:lnTo>
                <a:lnTo>
                  <a:pt x="55810" y="53905"/>
                </a:lnTo>
                <a:lnTo>
                  <a:pt x="47016" y="60974"/>
                </a:lnTo>
                <a:lnTo>
                  <a:pt x="38614" y="68227"/>
                </a:lnTo>
                <a:lnTo>
                  <a:pt x="30473" y="75602"/>
                </a:lnTo>
                <a:lnTo>
                  <a:pt x="23351" y="83906"/>
                </a:lnTo>
                <a:lnTo>
                  <a:pt x="16911" y="92828"/>
                </a:lnTo>
                <a:lnTo>
                  <a:pt x="10924" y="102163"/>
                </a:lnTo>
                <a:lnTo>
                  <a:pt x="6932" y="110080"/>
                </a:lnTo>
                <a:lnTo>
                  <a:pt x="4271" y="117051"/>
                </a:lnTo>
                <a:lnTo>
                  <a:pt x="2497" y="123392"/>
                </a:lnTo>
                <a:lnTo>
                  <a:pt x="1314" y="130159"/>
                </a:lnTo>
                <a:lnTo>
                  <a:pt x="526" y="137210"/>
                </a:lnTo>
                <a:lnTo>
                  <a:pt x="0" y="144451"/>
                </a:lnTo>
                <a:lnTo>
                  <a:pt x="1343" y="150972"/>
                </a:lnTo>
                <a:lnTo>
                  <a:pt x="3932" y="157012"/>
                </a:lnTo>
                <a:lnTo>
                  <a:pt x="7351" y="162732"/>
                </a:lnTo>
                <a:lnTo>
                  <a:pt x="12170" y="168239"/>
                </a:lnTo>
                <a:lnTo>
                  <a:pt x="17924" y="173604"/>
                </a:lnTo>
                <a:lnTo>
                  <a:pt x="24298" y="178874"/>
                </a:lnTo>
                <a:lnTo>
                  <a:pt x="31936" y="182387"/>
                </a:lnTo>
                <a:lnTo>
                  <a:pt x="40413" y="184729"/>
                </a:lnTo>
                <a:lnTo>
                  <a:pt x="49452" y="186290"/>
                </a:lnTo>
                <a:lnTo>
                  <a:pt x="58864" y="187331"/>
                </a:lnTo>
                <a:lnTo>
                  <a:pt x="68526" y="188025"/>
                </a:lnTo>
                <a:lnTo>
                  <a:pt x="78354" y="188488"/>
                </a:lnTo>
                <a:lnTo>
                  <a:pt x="100562" y="189002"/>
                </a:lnTo>
                <a:lnTo>
                  <a:pt x="112411" y="189139"/>
                </a:lnTo>
                <a:lnTo>
                  <a:pt x="123697" y="187537"/>
                </a:lnTo>
                <a:lnTo>
                  <a:pt x="134608" y="184776"/>
                </a:lnTo>
                <a:lnTo>
                  <a:pt x="145268" y="181242"/>
                </a:lnTo>
                <a:lnTo>
                  <a:pt x="155762" y="177192"/>
                </a:lnTo>
                <a:lnTo>
                  <a:pt x="166144" y="172799"/>
                </a:lnTo>
                <a:lnTo>
                  <a:pt x="176452" y="168177"/>
                </a:lnTo>
                <a:lnTo>
                  <a:pt x="185018" y="162555"/>
                </a:lnTo>
                <a:lnTo>
                  <a:pt x="192422" y="156268"/>
                </a:lnTo>
                <a:lnTo>
                  <a:pt x="199051" y="149537"/>
                </a:lnTo>
                <a:lnTo>
                  <a:pt x="204317" y="143356"/>
                </a:lnTo>
                <a:lnTo>
                  <a:pt x="208674" y="137542"/>
                </a:lnTo>
                <a:lnTo>
                  <a:pt x="212426" y="131972"/>
                </a:lnTo>
                <a:lnTo>
                  <a:pt x="214927" y="124873"/>
                </a:lnTo>
                <a:lnTo>
                  <a:pt x="216594" y="116752"/>
                </a:lnTo>
                <a:lnTo>
                  <a:pt x="217706" y="107953"/>
                </a:lnTo>
                <a:lnTo>
                  <a:pt x="217600" y="100393"/>
                </a:lnTo>
                <a:lnTo>
                  <a:pt x="216683" y="93660"/>
                </a:lnTo>
                <a:lnTo>
                  <a:pt x="215225" y="87478"/>
                </a:lnTo>
                <a:lnTo>
                  <a:pt x="212560" y="81663"/>
                </a:lnTo>
                <a:lnTo>
                  <a:pt x="209090" y="76093"/>
                </a:lnTo>
                <a:lnTo>
                  <a:pt x="205083" y="70686"/>
                </a:lnTo>
                <a:lnTo>
                  <a:pt x="200718" y="66235"/>
                </a:lnTo>
                <a:lnTo>
                  <a:pt x="196115" y="62421"/>
                </a:lnTo>
                <a:lnTo>
                  <a:pt x="191353" y="59032"/>
                </a:lnTo>
                <a:lnTo>
                  <a:pt x="188178" y="55926"/>
                </a:lnTo>
                <a:lnTo>
                  <a:pt x="186062" y="53008"/>
                </a:lnTo>
                <a:lnTo>
                  <a:pt x="184651" y="50216"/>
                </a:lnTo>
                <a:lnTo>
                  <a:pt x="182017" y="48355"/>
                </a:lnTo>
                <a:lnTo>
                  <a:pt x="178568" y="47114"/>
                </a:lnTo>
                <a:lnTo>
                  <a:pt x="166589" y="4463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InkAnnotation181"/>
          <p:cNvSpPr/>
          <p:nvPr/>
        </p:nvSpPr>
        <p:spPr>
          <a:xfrm>
            <a:off x="1847880" y="3483000"/>
            <a:ext cx="214200" cy="235080"/>
          </a:xfrm>
          <a:custGeom>
            <a:avLst/>
            <a:gdLst>
              <a:gd name="textAreaLeft" fmla="*/ 0 w 214200"/>
              <a:gd name="textAreaRight" fmla="*/ 214560 w 2142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3946" h="235287">
                <a:moveTo>
                  <a:pt x="79587" y="0"/>
                </a:moveTo>
                <a:lnTo>
                  <a:pt x="46471" y="0"/>
                </a:lnTo>
                <a:lnTo>
                  <a:pt x="43963" y="1693"/>
                </a:lnTo>
                <a:lnTo>
                  <a:pt x="38919" y="8091"/>
                </a:lnTo>
                <a:lnTo>
                  <a:pt x="36388" y="12167"/>
                </a:lnTo>
                <a:lnTo>
                  <a:pt x="33855" y="16578"/>
                </a:lnTo>
                <a:lnTo>
                  <a:pt x="31319" y="21212"/>
                </a:lnTo>
                <a:lnTo>
                  <a:pt x="28782" y="26841"/>
                </a:lnTo>
                <a:lnTo>
                  <a:pt x="26243" y="33134"/>
                </a:lnTo>
                <a:lnTo>
                  <a:pt x="21165" y="46900"/>
                </a:lnTo>
                <a:lnTo>
                  <a:pt x="8467" y="83975"/>
                </a:lnTo>
                <a:lnTo>
                  <a:pt x="5927" y="92390"/>
                </a:lnTo>
                <a:lnTo>
                  <a:pt x="847" y="110771"/>
                </a:lnTo>
                <a:lnTo>
                  <a:pt x="0" y="120414"/>
                </a:lnTo>
                <a:lnTo>
                  <a:pt x="283" y="130230"/>
                </a:lnTo>
                <a:lnTo>
                  <a:pt x="1317" y="140160"/>
                </a:lnTo>
                <a:lnTo>
                  <a:pt x="2854" y="149320"/>
                </a:lnTo>
                <a:lnTo>
                  <a:pt x="4725" y="157967"/>
                </a:lnTo>
                <a:lnTo>
                  <a:pt x="6819" y="166271"/>
                </a:lnTo>
                <a:lnTo>
                  <a:pt x="9908" y="174347"/>
                </a:lnTo>
                <a:lnTo>
                  <a:pt x="13661" y="182272"/>
                </a:lnTo>
                <a:lnTo>
                  <a:pt x="17857" y="190094"/>
                </a:lnTo>
                <a:lnTo>
                  <a:pt x="23194" y="197003"/>
                </a:lnTo>
                <a:lnTo>
                  <a:pt x="29291" y="203302"/>
                </a:lnTo>
                <a:lnTo>
                  <a:pt x="35896" y="209195"/>
                </a:lnTo>
                <a:lnTo>
                  <a:pt x="43687" y="214817"/>
                </a:lnTo>
                <a:lnTo>
                  <a:pt x="52267" y="220258"/>
                </a:lnTo>
                <a:lnTo>
                  <a:pt x="61374" y="225579"/>
                </a:lnTo>
                <a:lnTo>
                  <a:pt x="70832" y="229126"/>
                </a:lnTo>
                <a:lnTo>
                  <a:pt x="80523" y="231491"/>
                </a:lnTo>
                <a:lnTo>
                  <a:pt x="90371" y="233067"/>
                </a:lnTo>
                <a:lnTo>
                  <a:pt x="100323" y="234118"/>
                </a:lnTo>
                <a:lnTo>
                  <a:pt x="110345" y="234819"/>
                </a:lnTo>
                <a:lnTo>
                  <a:pt x="120412" y="235286"/>
                </a:lnTo>
                <a:lnTo>
                  <a:pt x="129664" y="234751"/>
                </a:lnTo>
                <a:lnTo>
                  <a:pt x="138372" y="233547"/>
                </a:lnTo>
                <a:lnTo>
                  <a:pt x="146717" y="231898"/>
                </a:lnTo>
                <a:lnTo>
                  <a:pt x="155667" y="229105"/>
                </a:lnTo>
                <a:lnTo>
                  <a:pt x="165020" y="225550"/>
                </a:lnTo>
                <a:lnTo>
                  <a:pt x="174643" y="221487"/>
                </a:lnTo>
                <a:lnTo>
                  <a:pt x="181904" y="215391"/>
                </a:lnTo>
                <a:lnTo>
                  <a:pt x="187592" y="207941"/>
                </a:lnTo>
                <a:lnTo>
                  <a:pt x="192230" y="199588"/>
                </a:lnTo>
                <a:lnTo>
                  <a:pt x="197016" y="191478"/>
                </a:lnTo>
                <a:lnTo>
                  <a:pt x="206849" y="175694"/>
                </a:lnTo>
                <a:lnTo>
                  <a:pt x="210148" y="167083"/>
                </a:lnTo>
                <a:lnTo>
                  <a:pt x="212348" y="157956"/>
                </a:lnTo>
                <a:lnTo>
                  <a:pt x="213815" y="148484"/>
                </a:lnTo>
                <a:lnTo>
                  <a:pt x="213945" y="139629"/>
                </a:lnTo>
                <a:lnTo>
                  <a:pt x="213186" y="131186"/>
                </a:lnTo>
                <a:lnTo>
                  <a:pt x="211833" y="123017"/>
                </a:lnTo>
                <a:lnTo>
                  <a:pt x="209238" y="115032"/>
                </a:lnTo>
                <a:lnTo>
                  <a:pt x="205814" y="107168"/>
                </a:lnTo>
                <a:lnTo>
                  <a:pt x="201839" y="99385"/>
                </a:lnTo>
                <a:lnTo>
                  <a:pt x="197495" y="92503"/>
                </a:lnTo>
                <a:lnTo>
                  <a:pt x="192906" y="86222"/>
                </a:lnTo>
                <a:lnTo>
                  <a:pt x="188153" y="80342"/>
                </a:lnTo>
                <a:lnTo>
                  <a:pt x="182444" y="75575"/>
                </a:lnTo>
                <a:lnTo>
                  <a:pt x="176099" y="71550"/>
                </a:lnTo>
                <a:lnTo>
                  <a:pt x="169328" y="68020"/>
                </a:lnTo>
                <a:lnTo>
                  <a:pt x="162274" y="64820"/>
                </a:lnTo>
                <a:lnTo>
                  <a:pt x="155032" y="61840"/>
                </a:lnTo>
                <a:lnTo>
                  <a:pt x="147664" y="59006"/>
                </a:lnTo>
                <a:lnTo>
                  <a:pt x="141058" y="57118"/>
                </a:lnTo>
                <a:lnTo>
                  <a:pt x="134961" y="55858"/>
                </a:lnTo>
                <a:lnTo>
                  <a:pt x="129203" y="55019"/>
                </a:lnTo>
                <a:lnTo>
                  <a:pt x="124518" y="54459"/>
                </a:lnTo>
                <a:lnTo>
                  <a:pt x="120547" y="54086"/>
                </a:lnTo>
                <a:lnTo>
                  <a:pt x="110067" y="533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InkAnnotation182"/>
          <p:cNvSpPr/>
          <p:nvPr/>
        </p:nvSpPr>
        <p:spPr>
          <a:xfrm>
            <a:off x="631800" y="4245120"/>
            <a:ext cx="69840" cy="357120"/>
          </a:xfrm>
          <a:custGeom>
            <a:avLst/>
            <a:gdLst>
              <a:gd name="textAreaLeft" fmla="*/ 0 w 69840"/>
              <a:gd name="textAreaRight" fmla="*/ 70200 w 69840"/>
              <a:gd name="textAreaTop" fmla="*/ 0 h 357120"/>
              <a:gd name="textAreaBottom" fmla="*/ 357120 h 357120"/>
            </a:gdLst>
            <a:ahLst/>
            <a:rect l="textAreaLeft" t="textAreaTop" r="textAreaRight" b="textAreaBottom"/>
            <a:pathLst>
              <a:path w="68581" h="358141">
                <a:moveTo>
                  <a:pt x="0" y="0"/>
                </a:moveTo>
                <a:lnTo>
                  <a:pt x="4045" y="0"/>
                </a:lnTo>
                <a:lnTo>
                  <a:pt x="5237" y="847"/>
                </a:lnTo>
                <a:lnTo>
                  <a:pt x="6031" y="2258"/>
                </a:lnTo>
                <a:lnTo>
                  <a:pt x="6914" y="6084"/>
                </a:lnTo>
                <a:lnTo>
                  <a:pt x="7411" y="13844"/>
                </a:lnTo>
                <a:lnTo>
                  <a:pt x="7558" y="27338"/>
                </a:lnTo>
                <a:lnTo>
                  <a:pt x="7618" y="77434"/>
                </a:lnTo>
                <a:lnTo>
                  <a:pt x="8465" y="85489"/>
                </a:lnTo>
                <a:lnTo>
                  <a:pt x="9877" y="94246"/>
                </a:lnTo>
                <a:lnTo>
                  <a:pt x="11665" y="103471"/>
                </a:lnTo>
                <a:lnTo>
                  <a:pt x="15909" y="122752"/>
                </a:lnTo>
                <a:lnTo>
                  <a:pt x="18226" y="132634"/>
                </a:lnTo>
                <a:lnTo>
                  <a:pt x="19771" y="142610"/>
                </a:lnTo>
                <a:lnTo>
                  <a:pt x="20800" y="152647"/>
                </a:lnTo>
                <a:lnTo>
                  <a:pt x="21487" y="162725"/>
                </a:lnTo>
                <a:lnTo>
                  <a:pt x="22791" y="172830"/>
                </a:lnTo>
                <a:lnTo>
                  <a:pt x="24508" y="182953"/>
                </a:lnTo>
                <a:lnTo>
                  <a:pt x="26498" y="193089"/>
                </a:lnTo>
                <a:lnTo>
                  <a:pt x="27826" y="203233"/>
                </a:lnTo>
                <a:lnTo>
                  <a:pt x="28710" y="213381"/>
                </a:lnTo>
                <a:lnTo>
                  <a:pt x="29300" y="223534"/>
                </a:lnTo>
                <a:lnTo>
                  <a:pt x="30540" y="233689"/>
                </a:lnTo>
                <a:lnTo>
                  <a:pt x="32213" y="243846"/>
                </a:lnTo>
                <a:lnTo>
                  <a:pt x="34176" y="254004"/>
                </a:lnTo>
                <a:lnTo>
                  <a:pt x="38614" y="274322"/>
                </a:lnTo>
                <a:lnTo>
                  <a:pt x="40982" y="284481"/>
                </a:lnTo>
                <a:lnTo>
                  <a:pt x="42562" y="293794"/>
                </a:lnTo>
                <a:lnTo>
                  <a:pt x="43614" y="302543"/>
                </a:lnTo>
                <a:lnTo>
                  <a:pt x="44316" y="310915"/>
                </a:lnTo>
                <a:lnTo>
                  <a:pt x="45631" y="318190"/>
                </a:lnTo>
                <a:lnTo>
                  <a:pt x="47354" y="324734"/>
                </a:lnTo>
                <a:lnTo>
                  <a:pt x="49349" y="330789"/>
                </a:lnTo>
                <a:lnTo>
                  <a:pt x="51526" y="336520"/>
                </a:lnTo>
                <a:lnTo>
                  <a:pt x="53824" y="342033"/>
                </a:lnTo>
                <a:lnTo>
                  <a:pt x="59550" y="354958"/>
                </a:lnTo>
                <a:lnTo>
                  <a:pt x="60867" y="356019"/>
                </a:lnTo>
                <a:lnTo>
                  <a:pt x="62591" y="356726"/>
                </a:lnTo>
                <a:lnTo>
                  <a:pt x="68580" y="358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InkAnnotation183"/>
          <p:cNvSpPr/>
          <p:nvPr/>
        </p:nvSpPr>
        <p:spPr>
          <a:xfrm>
            <a:off x="625320" y="4076640"/>
            <a:ext cx="355680" cy="241200"/>
          </a:xfrm>
          <a:custGeom>
            <a:avLst/>
            <a:gdLst>
              <a:gd name="textAreaLeft" fmla="*/ 0 w 355680"/>
              <a:gd name="textAreaRight" fmla="*/ 356040 w 35568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56110" h="240379">
                <a:moveTo>
                  <a:pt x="0" y="129393"/>
                </a:moveTo>
                <a:lnTo>
                  <a:pt x="0" y="97614"/>
                </a:lnTo>
                <a:lnTo>
                  <a:pt x="847" y="92967"/>
                </a:lnTo>
                <a:lnTo>
                  <a:pt x="2258" y="87329"/>
                </a:lnTo>
                <a:lnTo>
                  <a:pt x="4045" y="81031"/>
                </a:lnTo>
                <a:lnTo>
                  <a:pt x="6083" y="75138"/>
                </a:lnTo>
                <a:lnTo>
                  <a:pt x="8289" y="69516"/>
                </a:lnTo>
                <a:lnTo>
                  <a:pt x="10606" y="64075"/>
                </a:lnTo>
                <a:lnTo>
                  <a:pt x="13844" y="57908"/>
                </a:lnTo>
                <a:lnTo>
                  <a:pt x="17696" y="51257"/>
                </a:lnTo>
                <a:lnTo>
                  <a:pt x="21957" y="44282"/>
                </a:lnTo>
                <a:lnTo>
                  <a:pt x="26492" y="37939"/>
                </a:lnTo>
                <a:lnTo>
                  <a:pt x="31208" y="32017"/>
                </a:lnTo>
                <a:lnTo>
                  <a:pt x="36045" y="26376"/>
                </a:lnTo>
                <a:lnTo>
                  <a:pt x="41810" y="21768"/>
                </a:lnTo>
                <a:lnTo>
                  <a:pt x="48193" y="17850"/>
                </a:lnTo>
                <a:lnTo>
                  <a:pt x="54989" y="14391"/>
                </a:lnTo>
                <a:lnTo>
                  <a:pt x="62059" y="11238"/>
                </a:lnTo>
                <a:lnTo>
                  <a:pt x="69313" y="8290"/>
                </a:lnTo>
                <a:lnTo>
                  <a:pt x="76688" y="5478"/>
                </a:lnTo>
                <a:lnTo>
                  <a:pt x="84992" y="3603"/>
                </a:lnTo>
                <a:lnTo>
                  <a:pt x="93915" y="2353"/>
                </a:lnTo>
                <a:lnTo>
                  <a:pt x="103250" y="1520"/>
                </a:lnTo>
                <a:lnTo>
                  <a:pt x="112860" y="965"/>
                </a:lnTo>
                <a:lnTo>
                  <a:pt x="132569" y="347"/>
                </a:lnTo>
                <a:lnTo>
                  <a:pt x="166750" y="0"/>
                </a:lnTo>
                <a:lnTo>
                  <a:pt x="178900" y="797"/>
                </a:lnTo>
                <a:lnTo>
                  <a:pt x="191233" y="2176"/>
                </a:lnTo>
                <a:lnTo>
                  <a:pt x="203689" y="3942"/>
                </a:lnTo>
                <a:lnTo>
                  <a:pt x="215379" y="6812"/>
                </a:lnTo>
                <a:lnTo>
                  <a:pt x="226560" y="10419"/>
                </a:lnTo>
                <a:lnTo>
                  <a:pt x="237400" y="14517"/>
                </a:lnTo>
                <a:lnTo>
                  <a:pt x="248013" y="18943"/>
                </a:lnTo>
                <a:lnTo>
                  <a:pt x="258475" y="23586"/>
                </a:lnTo>
                <a:lnTo>
                  <a:pt x="279131" y="33261"/>
                </a:lnTo>
                <a:lnTo>
                  <a:pt x="299601" y="43205"/>
                </a:lnTo>
                <a:lnTo>
                  <a:pt x="308107" y="49075"/>
                </a:lnTo>
                <a:lnTo>
                  <a:pt x="315471" y="55528"/>
                </a:lnTo>
                <a:lnTo>
                  <a:pt x="322074" y="62369"/>
                </a:lnTo>
                <a:lnTo>
                  <a:pt x="328169" y="69471"/>
                </a:lnTo>
                <a:lnTo>
                  <a:pt x="333926" y="76745"/>
                </a:lnTo>
                <a:lnTo>
                  <a:pt x="339457" y="84134"/>
                </a:lnTo>
                <a:lnTo>
                  <a:pt x="343992" y="91601"/>
                </a:lnTo>
                <a:lnTo>
                  <a:pt x="347861" y="99118"/>
                </a:lnTo>
                <a:lnTo>
                  <a:pt x="351287" y="106670"/>
                </a:lnTo>
                <a:lnTo>
                  <a:pt x="353571" y="113398"/>
                </a:lnTo>
                <a:lnTo>
                  <a:pt x="355094" y="119576"/>
                </a:lnTo>
                <a:lnTo>
                  <a:pt x="356109" y="125389"/>
                </a:lnTo>
                <a:lnTo>
                  <a:pt x="355940" y="131803"/>
                </a:lnTo>
                <a:lnTo>
                  <a:pt x="354980" y="138620"/>
                </a:lnTo>
                <a:lnTo>
                  <a:pt x="353493" y="145704"/>
                </a:lnTo>
                <a:lnTo>
                  <a:pt x="350809" y="152120"/>
                </a:lnTo>
                <a:lnTo>
                  <a:pt x="347326" y="158091"/>
                </a:lnTo>
                <a:lnTo>
                  <a:pt x="343311" y="163765"/>
                </a:lnTo>
                <a:lnTo>
                  <a:pt x="338094" y="169241"/>
                </a:lnTo>
                <a:lnTo>
                  <a:pt x="332076" y="174585"/>
                </a:lnTo>
                <a:lnTo>
                  <a:pt x="325524" y="179841"/>
                </a:lnTo>
                <a:lnTo>
                  <a:pt x="317769" y="185039"/>
                </a:lnTo>
                <a:lnTo>
                  <a:pt x="309213" y="190197"/>
                </a:lnTo>
                <a:lnTo>
                  <a:pt x="300122" y="195329"/>
                </a:lnTo>
                <a:lnTo>
                  <a:pt x="280990" y="205547"/>
                </a:lnTo>
                <a:lnTo>
                  <a:pt x="271146" y="210642"/>
                </a:lnTo>
                <a:lnTo>
                  <a:pt x="261198" y="214039"/>
                </a:lnTo>
                <a:lnTo>
                  <a:pt x="251178" y="216303"/>
                </a:lnTo>
                <a:lnTo>
                  <a:pt x="241112" y="217814"/>
                </a:lnTo>
                <a:lnTo>
                  <a:pt x="231015" y="219667"/>
                </a:lnTo>
                <a:lnTo>
                  <a:pt x="210764" y="223984"/>
                </a:lnTo>
                <a:lnTo>
                  <a:pt x="180323" y="231174"/>
                </a:lnTo>
                <a:lnTo>
                  <a:pt x="171016" y="232807"/>
                </a:lnTo>
                <a:lnTo>
                  <a:pt x="162270" y="233895"/>
                </a:lnTo>
                <a:lnTo>
                  <a:pt x="153900" y="234622"/>
                </a:lnTo>
                <a:lnTo>
                  <a:pt x="146627" y="235105"/>
                </a:lnTo>
                <a:lnTo>
                  <a:pt x="134030" y="235643"/>
                </a:lnTo>
                <a:lnTo>
                  <a:pt x="129147" y="236633"/>
                </a:lnTo>
                <a:lnTo>
                  <a:pt x="121463" y="239991"/>
                </a:lnTo>
                <a:lnTo>
                  <a:pt x="118229" y="240378"/>
                </a:lnTo>
                <a:lnTo>
                  <a:pt x="115226" y="239790"/>
                </a:lnTo>
                <a:lnTo>
                  <a:pt x="106680" y="23607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InkAnnotation184"/>
          <p:cNvSpPr/>
          <p:nvPr/>
        </p:nvSpPr>
        <p:spPr>
          <a:xfrm>
            <a:off x="1150920" y="4313160"/>
            <a:ext cx="365040" cy="22320"/>
          </a:xfrm>
          <a:custGeom>
            <a:avLst/>
            <a:gdLst>
              <a:gd name="textAreaLeft" fmla="*/ 0 w 365040"/>
              <a:gd name="textAreaRight" fmla="*/ 365400 w 365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65761" h="22861">
                <a:moveTo>
                  <a:pt x="0" y="22860"/>
                </a:moveTo>
                <a:lnTo>
                  <a:pt x="14651" y="22860"/>
                </a:lnTo>
                <a:lnTo>
                  <a:pt x="19928" y="22014"/>
                </a:lnTo>
                <a:lnTo>
                  <a:pt x="25985" y="20603"/>
                </a:lnTo>
                <a:lnTo>
                  <a:pt x="48904" y="14572"/>
                </a:lnTo>
                <a:lnTo>
                  <a:pt x="58003" y="12254"/>
                </a:lnTo>
                <a:lnTo>
                  <a:pt x="68302" y="10710"/>
                </a:lnTo>
                <a:lnTo>
                  <a:pt x="79401" y="9680"/>
                </a:lnTo>
                <a:lnTo>
                  <a:pt x="91034" y="8993"/>
                </a:lnTo>
                <a:lnTo>
                  <a:pt x="117507" y="8230"/>
                </a:lnTo>
                <a:lnTo>
                  <a:pt x="131678" y="8027"/>
                </a:lnTo>
                <a:lnTo>
                  <a:pt x="146205" y="7045"/>
                </a:lnTo>
                <a:lnTo>
                  <a:pt x="160970" y="5543"/>
                </a:lnTo>
                <a:lnTo>
                  <a:pt x="175894" y="3696"/>
                </a:lnTo>
                <a:lnTo>
                  <a:pt x="190076" y="2464"/>
                </a:lnTo>
                <a:lnTo>
                  <a:pt x="203764" y="1643"/>
                </a:lnTo>
                <a:lnTo>
                  <a:pt x="230262" y="731"/>
                </a:lnTo>
                <a:lnTo>
                  <a:pt x="281767" y="145"/>
                </a:lnTo>
                <a:lnTo>
                  <a:pt x="3657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InkAnnotation185"/>
          <p:cNvSpPr/>
          <p:nvPr/>
        </p:nvSpPr>
        <p:spPr>
          <a:xfrm>
            <a:off x="1143000" y="4457880"/>
            <a:ext cx="274680" cy="29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274321" h="30481">
                <a:moveTo>
                  <a:pt x="0" y="30480"/>
                </a:moveTo>
                <a:lnTo>
                  <a:pt x="40090" y="30480"/>
                </a:lnTo>
                <a:lnTo>
                  <a:pt x="47047" y="29633"/>
                </a:lnTo>
                <a:lnTo>
                  <a:pt x="54225" y="28223"/>
                </a:lnTo>
                <a:lnTo>
                  <a:pt x="61550" y="26436"/>
                </a:lnTo>
                <a:lnTo>
                  <a:pt x="70667" y="25243"/>
                </a:lnTo>
                <a:lnTo>
                  <a:pt x="80978" y="24449"/>
                </a:lnTo>
                <a:lnTo>
                  <a:pt x="92085" y="23919"/>
                </a:lnTo>
                <a:lnTo>
                  <a:pt x="102877" y="22720"/>
                </a:lnTo>
                <a:lnTo>
                  <a:pt x="113458" y="21073"/>
                </a:lnTo>
                <a:lnTo>
                  <a:pt x="123898" y="19129"/>
                </a:lnTo>
                <a:lnTo>
                  <a:pt x="134246" y="17833"/>
                </a:lnTo>
                <a:lnTo>
                  <a:pt x="144531" y="16969"/>
                </a:lnTo>
                <a:lnTo>
                  <a:pt x="154774" y="16392"/>
                </a:lnTo>
                <a:lnTo>
                  <a:pt x="165836" y="15162"/>
                </a:lnTo>
                <a:lnTo>
                  <a:pt x="177444" y="13495"/>
                </a:lnTo>
                <a:lnTo>
                  <a:pt x="189416" y="11537"/>
                </a:lnTo>
                <a:lnTo>
                  <a:pt x="199937" y="10231"/>
                </a:lnTo>
                <a:lnTo>
                  <a:pt x="209492" y="9360"/>
                </a:lnTo>
                <a:lnTo>
                  <a:pt x="218401" y="8781"/>
                </a:lnTo>
                <a:lnTo>
                  <a:pt x="227727" y="7547"/>
                </a:lnTo>
                <a:lnTo>
                  <a:pt x="237332" y="5878"/>
                </a:lnTo>
                <a:lnTo>
                  <a:pt x="247121" y="3918"/>
                </a:lnTo>
                <a:lnTo>
                  <a:pt x="254494" y="2613"/>
                </a:lnTo>
                <a:lnTo>
                  <a:pt x="260256" y="1742"/>
                </a:lnTo>
                <a:lnTo>
                  <a:pt x="2743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InkAnnotation186"/>
          <p:cNvSpPr/>
          <p:nvPr/>
        </p:nvSpPr>
        <p:spPr>
          <a:xfrm>
            <a:off x="1617840" y="4040280"/>
            <a:ext cx="306360" cy="395280"/>
          </a:xfrm>
          <a:custGeom>
            <a:avLst/>
            <a:gdLst>
              <a:gd name="textAreaLeft" fmla="*/ 0 w 306360"/>
              <a:gd name="textAreaRight" fmla="*/ 306720 w 3063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306768" h="394709">
                <a:moveTo>
                  <a:pt x="66102" y="67048"/>
                </a:moveTo>
                <a:lnTo>
                  <a:pt x="66102" y="63004"/>
                </a:lnTo>
                <a:lnTo>
                  <a:pt x="66949" y="60965"/>
                </a:lnTo>
                <a:lnTo>
                  <a:pt x="71339" y="54051"/>
                </a:lnTo>
                <a:lnTo>
                  <a:pt x="72663" y="49136"/>
                </a:lnTo>
                <a:lnTo>
                  <a:pt x="74709" y="46640"/>
                </a:lnTo>
                <a:lnTo>
                  <a:pt x="85680" y="38235"/>
                </a:lnTo>
                <a:lnTo>
                  <a:pt x="94841" y="29971"/>
                </a:lnTo>
                <a:lnTo>
                  <a:pt x="101348" y="26243"/>
                </a:lnTo>
                <a:lnTo>
                  <a:pt x="109073" y="22912"/>
                </a:lnTo>
                <a:lnTo>
                  <a:pt x="117609" y="19844"/>
                </a:lnTo>
                <a:lnTo>
                  <a:pt x="126687" y="16952"/>
                </a:lnTo>
                <a:lnTo>
                  <a:pt x="136125" y="14178"/>
                </a:lnTo>
                <a:lnTo>
                  <a:pt x="145804" y="11481"/>
                </a:lnTo>
                <a:lnTo>
                  <a:pt x="163332" y="6227"/>
                </a:lnTo>
                <a:lnTo>
                  <a:pt x="171562" y="3641"/>
                </a:lnTo>
                <a:lnTo>
                  <a:pt x="180435" y="1917"/>
                </a:lnTo>
                <a:lnTo>
                  <a:pt x="189738" y="767"/>
                </a:lnTo>
                <a:lnTo>
                  <a:pt x="199326" y="0"/>
                </a:lnTo>
                <a:lnTo>
                  <a:pt x="209104" y="336"/>
                </a:lnTo>
                <a:lnTo>
                  <a:pt x="219010" y="1407"/>
                </a:lnTo>
                <a:lnTo>
                  <a:pt x="229001" y="2967"/>
                </a:lnTo>
                <a:lnTo>
                  <a:pt x="238201" y="4854"/>
                </a:lnTo>
                <a:lnTo>
                  <a:pt x="246875" y="6959"/>
                </a:lnTo>
                <a:lnTo>
                  <a:pt x="255197" y="9208"/>
                </a:lnTo>
                <a:lnTo>
                  <a:pt x="271218" y="13966"/>
                </a:lnTo>
                <a:lnTo>
                  <a:pt x="279046" y="16420"/>
                </a:lnTo>
                <a:lnTo>
                  <a:pt x="285958" y="18903"/>
                </a:lnTo>
                <a:lnTo>
                  <a:pt x="292259" y="21404"/>
                </a:lnTo>
                <a:lnTo>
                  <a:pt x="298153" y="23919"/>
                </a:lnTo>
                <a:lnTo>
                  <a:pt x="302083" y="27289"/>
                </a:lnTo>
                <a:lnTo>
                  <a:pt x="304703" y="31229"/>
                </a:lnTo>
                <a:lnTo>
                  <a:pt x="306449" y="35548"/>
                </a:lnTo>
                <a:lnTo>
                  <a:pt x="306767" y="40121"/>
                </a:lnTo>
                <a:lnTo>
                  <a:pt x="304862" y="49718"/>
                </a:lnTo>
                <a:lnTo>
                  <a:pt x="296678" y="61885"/>
                </a:lnTo>
                <a:lnTo>
                  <a:pt x="290939" y="68687"/>
                </a:lnTo>
                <a:lnTo>
                  <a:pt x="283726" y="75761"/>
                </a:lnTo>
                <a:lnTo>
                  <a:pt x="275532" y="83016"/>
                </a:lnTo>
                <a:lnTo>
                  <a:pt x="266682" y="90394"/>
                </a:lnTo>
                <a:lnTo>
                  <a:pt x="256548" y="97852"/>
                </a:lnTo>
                <a:lnTo>
                  <a:pt x="245560" y="105364"/>
                </a:lnTo>
                <a:lnTo>
                  <a:pt x="222061" y="120484"/>
                </a:lnTo>
                <a:lnTo>
                  <a:pt x="197506" y="135671"/>
                </a:lnTo>
                <a:lnTo>
                  <a:pt x="184185" y="143277"/>
                </a:lnTo>
                <a:lnTo>
                  <a:pt x="142012" y="166116"/>
                </a:lnTo>
                <a:lnTo>
                  <a:pt x="102329" y="188971"/>
                </a:lnTo>
                <a:lnTo>
                  <a:pt x="76558" y="204209"/>
                </a:lnTo>
                <a:lnTo>
                  <a:pt x="65453" y="212676"/>
                </a:lnTo>
                <a:lnTo>
                  <a:pt x="55509" y="221707"/>
                </a:lnTo>
                <a:lnTo>
                  <a:pt x="21300" y="256489"/>
                </a:lnTo>
                <a:lnTo>
                  <a:pt x="15067" y="263615"/>
                </a:lnTo>
                <a:lnTo>
                  <a:pt x="10065" y="270060"/>
                </a:lnTo>
                <a:lnTo>
                  <a:pt x="5884" y="276049"/>
                </a:lnTo>
                <a:lnTo>
                  <a:pt x="3097" y="282582"/>
                </a:lnTo>
                <a:lnTo>
                  <a:pt x="1239" y="289477"/>
                </a:lnTo>
                <a:lnTo>
                  <a:pt x="0" y="296615"/>
                </a:lnTo>
                <a:lnTo>
                  <a:pt x="867" y="303912"/>
                </a:lnTo>
                <a:lnTo>
                  <a:pt x="3139" y="311318"/>
                </a:lnTo>
                <a:lnTo>
                  <a:pt x="6347" y="318795"/>
                </a:lnTo>
                <a:lnTo>
                  <a:pt x="11025" y="325472"/>
                </a:lnTo>
                <a:lnTo>
                  <a:pt x="16684" y="331618"/>
                </a:lnTo>
                <a:lnTo>
                  <a:pt x="22997" y="337408"/>
                </a:lnTo>
                <a:lnTo>
                  <a:pt x="30592" y="342961"/>
                </a:lnTo>
                <a:lnTo>
                  <a:pt x="39042" y="348357"/>
                </a:lnTo>
                <a:lnTo>
                  <a:pt x="48062" y="353647"/>
                </a:lnTo>
                <a:lnTo>
                  <a:pt x="59155" y="358867"/>
                </a:lnTo>
                <a:lnTo>
                  <a:pt x="71631" y="364041"/>
                </a:lnTo>
                <a:lnTo>
                  <a:pt x="85028" y="369184"/>
                </a:lnTo>
                <a:lnTo>
                  <a:pt x="99039" y="373458"/>
                </a:lnTo>
                <a:lnTo>
                  <a:pt x="113460" y="377155"/>
                </a:lnTo>
                <a:lnTo>
                  <a:pt x="128154" y="380466"/>
                </a:lnTo>
                <a:lnTo>
                  <a:pt x="158027" y="386402"/>
                </a:lnTo>
                <a:lnTo>
                  <a:pt x="173106" y="389171"/>
                </a:lnTo>
                <a:lnTo>
                  <a:pt x="185698" y="391017"/>
                </a:lnTo>
                <a:lnTo>
                  <a:pt x="196633" y="392247"/>
                </a:lnTo>
                <a:lnTo>
                  <a:pt x="206462" y="393067"/>
                </a:lnTo>
                <a:lnTo>
                  <a:pt x="214709" y="393614"/>
                </a:lnTo>
                <a:lnTo>
                  <a:pt x="241362" y="3947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InkAnnotation187"/>
          <p:cNvSpPr/>
          <p:nvPr/>
        </p:nvSpPr>
        <p:spPr>
          <a:xfrm>
            <a:off x="2058840" y="4213080"/>
            <a:ext cx="439920" cy="206640"/>
          </a:xfrm>
          <a:custGeom>
            <a:avLst/>
            <a:gdLst>
              <a:gd name="textAreaLeft" fmla="*/ 0 w 439920"/>
              <a:gd name="textAreaRight" fmla="*/ 440280 w 439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440341" h="205275">
                <a:moveTo>
                  <a:pt x="14153" y="45720"/>
                </a:moveTo>
                <a:lnTo>
                  <a:pt x="14153" y="49765"/>
                </a:lnTo>
                <a:lnTo>
                  <a:pt x="13306" y="51803"/>
                </a:lnTo>
                <a:lnTo>
                  <a:pt x="10108" y="56326"/>
                </a:lnTo>
                <a:lnTo>
                  <a:pt x="8916" y="58718"/>
                </a:lnTo>
                <a:lnTo>
                  <a:pt x="7592" y="63632"/>
                </a:lnTo>
                <a:lnTo>
                  <a:pt x="7239" y="66974"/>
                </a:lnTo>
                <a:lnTo>
                  <a:pt x="7004" y="70896"/>
                </a:lnTo>
                <a:lnTo>
                  <a:pt x="6847" y="75204"/>
                </a:lnTo>
                <a:lnTo>
                  <a:pt x="5896" y="80616"/>
                </a:lnTo>
                <a:lnTo>
                  <a:pt x="4415" y="86764"/>
                </a:lnTo>
                <a:lnTo>
                  <a:pt x="2581" y="93403"/>
                </a:lnTo>
                <a:lnTo>
                  <a:pt x="1358" y="100369"/>
                </a:lnTo>
                <a:lnTo>
                  <a:pt x="543" y="107553"/>
                </a:lnTo>
                <a:lnTo>
                  <a:pt x="0" y="114882"/>
                </a:lnTo>
                <a:lnTo>
                  <a:pt x="484" y="121461"/>
                </a:lnTo>
                <a:lnTo>
                  <a:pt x="1654" y="127541"/>
                </a:lnTo>
                <a:lnTo>
                  <a:pt x="3280" y="133287"/>
                </a:lnTo>
                <a:lnTo>
                  <a:pt x="5211" y="138812"/>
                </a:lnTo>
                <a:lnTo>
                  <a:pt x="7345" y="144188"/>
                </a:lnTo>
                <a:lnTo>
                  <a:pt x="9614" y="149465"/>
                </a:lnTo>
                <a:lnTo>
                  <a:pt x="12820" y="155524"/>
                </a:lnTo>
                <a:lnTo>
                  <a:pt x="16651" y="162102"/>
                </a:lnTo>
                <a:lnTo>
                  <a:pt x="20899" y="169028"/>
                </a:lnTo>
                <a:lnTo>
                  <a:pt x="24577" y="174492"/>
                </a:lnTo>
                <a:lnTo>
                  <a:pt x="27876" y="178982"/>
                </a:lnTo>
                <a:lnTo>
                  <a:pt x="30922" y="182821"/>
                </a:lnTo>
                <a:lnTo>
                  <a:pt x="35492" y="186227"/>
                </a:lnTo>
                <a:lnTo>
                  <a:pt x="47344" y="192270"/>
                </a:lnTo>
                <a:lnTo>
                  <a:pt x="61078" y="197778"/>
                </a:lnTo>
                <a:lnTo>
                  <a:pt x="74802" y="202201"/>
                </a:lnTo>
                <a:lnTo>
                  <a:pt x="86546" y="204167"/>
                </a:lnTo>
                <a:lnTo>
                  <a:pt x="99668" y="205041"/>
                </a:lnTo>
                <a:lnTo>
                  <a:pt x="106723" y="205274"/>
                </a:lnTo>
                <a:lnTo>
                  <a:pt x="113966" y="203736"/>
                </a:lnTo>
                <a:lnTo>
                  <a:pt x="121335" y="201017"/>
                </a:lnTo>
                <a:lnTo>
                  <a:pt x="128788" y="197512"/>
                </a:lnTo>
                <a:lnTo>
                  <a:pt x="139326" y="191358"/>
                </a:lnTo>
                <a:lnTo>
                  <a:pt x="143322" y="188532"/>
                </a:lnTo>
                <a:lnTo>
                  <a:pt x="147679" y="184108"/>
                </a:lnTo>
                <a:lnTo>
                  <a:pt x="152277" y="178618"/>
                </a:lnTo>
                <a:lnTo>
                  <a:pt x="157036" y="172419"/>
                </a:lnTo>
                <a:lnTo>
                  <a:pt x="161055" y="166593"/>
                </a:lnTo>
                <a:lnTo>
                  <a:pt x="164581" y="161015"/>
                </a:lnTo>
                <a:lnTo>
                  <a:pt x="167778" y="155604"/>
                </a:lnTo>
                <a:lnTo>
                  <a:pt x="169910" y="149455"/>
                </a:lnTo>
                <a:lnTo>
                  <a:pt x="171331" y="142817"/>
                </a:lnTo>
                <a:lnTo>
                  <a:pt x="172278" y="135851"/>
                </a:lnTo>
                <a:lnTo>
                  <a:pt x="173757" y="129514"/>
                </a:lnTo>
                <a:lnTo>
                  <a:pt x="175589" y="123596"/>
                </a:lnTo>
                <a:lnTo>
                  <a:pt x="177657" y="117957"/>
                </a:lnTo>
                <a:lnTo>
                  <a:pt x="179036" y="112505"/>
                </a:lnTo>
                <a:lnTo>
                  <a:pt x="179955" y="107177"/>
                </a:lnTo>
                <a:lnTo>
                  <a:pt x="180567" y="101931"/>
                </a:lnTo>
                <a:lnTo>
                  <a:pt x="180976" y="97588"/>
                </a:lnTo>
                <a:lnTo>
                  <a:pt x="181248" y="93845"/>
                </a:lnTo>
                <a:lnTo>
                  <a:pt x="181430" y="90503"/>
                </a:lnTo>
                <a:lnTo>
                  <a:pt x="181632" y="84533"/>
                </a:lnTo>
                <a:lnTo>
                  <a:pt x="181784" y="76687"/>
                </a:lnTo>
                <a:lnTo>
                  <a:pt x="185836" y="80390"/>
                </a:lnTo>
                <a:lnTo>
                  <a:pt x="187875" y="81534"/>
                </a:lnTo>
                <a:lnTo>
                  <a:pt x="192398" y="82804"/>
                </a:lnTo>
                <a:lnTo>
                  <a:pt x="194790" y="84836"/>
                </a:lnTo>
                <a:lnTo>
                  <a:pt x="197231" y="87884"/>
                </a:lnTo>
                <a:lnTo>
                  <a:pt x="199705" y="91610"/>
                </a:lnTo>
                <a:lnTo>
                  <a:pt x="203047" y="95786"/>
                </a:lnTo>
                <a:lnTo>
                  <a:pt x="206969" y="100264"/>
                </a:lnTo>
                <a:lnTo>
                  <a:pt x="211277" y="104943"/>
                </a:lnTo>
                <a:lnTo>
                  <a:pt x="220579" y="114657"/>
                </a:lnTo>
                <a:lnTo>
                  <a:pt x="225431" y="119618"/>
                </a:lnTo>
                <a:lnTo>
                  <a:pt x="232051" y="124619"/>
                </a:lnTo>
                <a:lnTo>
                  <a:pt x="239852" y="129646"/>
                </a:lnTo>
                <a:lnTo>
                  <a:pt x="248439" y="134691"/>
                </a:lnTo>
                <a:lnTo>
                  <a:pt x="264753" y="144812"/>
                </a:lnTo>
                <a:lnTo>
                  <a:pt x="272660" y="149881"/>
                </a:lnTo>
                <a:lnTo>
                  <a:pt x="281318" y="154954"/>
                </a:lnTo>
                <a:lnTo>
                  <a:pt x="290476" y="160029"/>
                </a:lnTo>
                <a:lnTo>
                  <a:pt x="299968" y="165106"/>
                </a:lnTo>
                <a:lnTo>
                  <a:pt x="309683" y="169338"/>
                </a:lnTo>
                <a:lnTo>
                  <a:pt x="319547" y="173005"/>
                </a:lnTo>
                <a:lnTo>
                  <a:pt x="355665" y="184975"/>
                </a:lnTo>
                <a:lnTo>
                  <a:pt x="364594" y="186817"/>
                </a:lnTo>
                <a:lnTo>
                  <a:pt x="373934" y="188045"/>
                </a:lnTo>
                <a:lnTo>
                  <a:pt x="383547" y="188863"/>
                </a:lnTo>
                <a:lnTo>
                  <a:pt x="392496" y="189408"/>
                </a:lnTo>
                <a:lnTo>
                  <a:pt x="409212" y="190015"/>
                </a:lnTo>
                <a:lnTo>
                  <a:pt x="420592" y="188027"/>
                </a:lnTo>
                <a:lnTo>
                  <a:pt x="424813" y="186311"/>
                </a:lnTo>
                <a:lnTo>
                  <a:pt x="428473" y="183474"/>
                </a:lnTo>
                <a:lnTo>
                  <a:pt x="431760" y="179890"/>
                </a:lnTo>
                <a:lnTo>
                  <a:pt x="434797" y="175807"/>
                </a:lnTo>
                <a:lnTo>
                  <a:pt x="436823" y="171391"/>
                </a:lnTo>
                <a:lnTo>
                  <a:pt x="438173" y="166754"/>
                </a:lnTo>
                <a:lnTo>
                  <a:pt x="439073" y="161969"/>
                </a:lnTo>
                <a:lnTo>
                  <a:pt x="439673" y="157086"/>
                </a:lnTo>
                <a:lnTo>
                  <a:pt x="440073" y="152138"/>
                </a:lnTo>
                <a:lnTo>
                  <a:pt x="440340" y="147145"/>
                </a:lnTo>
                <a:lnTo>
                  <a:pt x="439671" y="141276"/>
                </a:lnTo>
                <a:lnTo>
                  <a:pt x="438378" y="134825"/>
                </a:lnTo>
                <a:lnTo>
                  <a:pt x="436670" y="127983"/>
                </a:lnTo>
                <a:lnTo>
                  <a:pt x="433837" y="120882"/>
                </a:lnTo>
                <a:lnTo>
                  <a:pt x="430256" y="113608"/>
                </a:lnTo>
                <a:lnTo>
                  <a:pt x="426175" y="106219"/>
                </a:lnTo>
                <a:lnTo>
                  <a:pt x="421761" y="98753"/>
                </a:lnTo>
                <a:lnTo>
                  <a:pt x="412341" y="83683"/>
                </a:lnTo>
                <a:lnTo>
                  <a:pt x="406612" y="76955"/>
                </a:lnTo>
                <a:lnTo>
                  <a:pt x="400252" y="70777"/>
                </a:lnTo>
                <a:lnTo>
                  <a:pt x="393472" y="64965"/>
                </a:lnTo>
                <a:lnTo>
                  <a:pt x="387259" y="59397"/>
                </a:lnTo>
                <a:lnTo>
                  <a:pt x="375840" y="48695"/>
                </a:lnTo>
                <a:lnTo>
                  <a:pt x="359891" y="33149"/>
                </a:lnTo>
                <a:lnTo>
                  <a:pt x="354712" y="28873"/>
                </a:lnTo>
                <a:lnTo>
                  <a:pt x="349566" y="25175"/>
                </a:lnTo>
                <a:lnTo>
                  <a:pt x="340179" y="18810"/>
                </a:lnTo>
                <a:lnTo>
                  <a:pt x="333184" y="13158"/>
                </a:lnTo>
                <a:lnTo>
                  <a:pt x="327032" y="7867"/>
                </a:lnTo>
                <a:lnTo>
                  <a:pt x="31895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InkAnnotation188"/>
          <p:cNvSpPr/>
          <p:nvPr/>
        </p:nvSpPr>
        <p:spPr>
          <a:xfrm>
            <a:off x="2666880" y="4030560"/>
            <a:ext cx="22320" cy="366840"/>
          </a:xfrm>
          <a:custGeom>
            <a:avLst/>
            <a:gdLst>
              <a:gd name="textAreaLeft" fmla="*/ 0 w 22320"/>
              <a:gd name="textAreaRight" fmla="*/ 22680 w 22320"/>
              <a:gd name="textAreaTop" fmla="*/ 0 h 366840"/>
              <a:gd name="textAreaBottom" fmla="*/ 366840 h 366840"/>
            </a:gdLst>
            <a:ahLst/>
            <a:rect l="textAreaLeft" t="textAreaTop" r="textAreaRight" b="textAreaBottom"/>
            <a:pathLst>
              <a:path w="22832" h="365761">
                <a:moveTo>
                  <a:pt x="15211" y="0"/>
                </a:moveTo>
                <a:lnTo>
                  <a:pt x="15211" y="76468"/>
                </a:lnTo>
                <a:lnTo>
                  <a:pt x="14365" y="83999"/>
                </a:lnTo>
                <a:lnTo>
                  <a:pt x="12954" y="91559"/>
                </a:lnTo>
                <a:lnTo>
                  <a:pt x="11166" y="99140"/>
                </a:lnTo>
                <a:lnTo>
                  <a:pt x="9974" y="107579"/>
                </a:lnTo>
                <a:lnTo>
                  <a:pt x="9180" y="116593"/>
                </a:lnTo>
                <a:lnTo>
                  <a:pt x="8651" y="125989"/>
                </a:lnTo>
                <a:lnTo>
                  <a:pt x="8062" y="145460"/>
                </a:lnTo>
                <a:lnTo>
                  <a:pt x="7905" y="155393"/>
                </a:lnTo>
                <a:lnTo>
                  <a:pt x="6954" y="165402"/>
                </a:lnTo>
                <a:lnTo>
                  <a:pt x="5473" y="175461"/>
                </a:lnTo>
                <a:lnTo>
                  <a:pt x="3639" y="185554"/>
                </a:lnTo>
                <a:lnTo>
                  <a:pt x="2416" y="195669"/>
                </a:lnTo>
                <a:lnTo>
                  <a:pt x="1602" y="205799"/>
                </a:lnTo>
                <a:lnTo>
                  <a:pt x="1058" y="215940"/>
                </a:lnTo>
                <a:lnTo>
                  <a:pt x="454" y="236238"/>
                </a:lnTo>
                <a:lnTo>
                  <a:pt x="0" y="296735"/>
                </a:lnTo>
                <a:lnTo>
                  <a:pt x="837" y="304503"/>
                </a:lnTo>
                <a:lnTo>
                  <a:pt x="2242" y="312222"/>
                </a:lnTo>
                <a:lnTo>
                  <a:pt x="4025" y="319908"/>
                </a:lnTo>
                <a:lnTo>
                  <a:pt x="6060" y="326725"/>
                </a:lnTo>
                <a:lnTo>
                  <a:pt x="8264" y="332964"/>
                </a:lnTo>
                <a:lnTo>
                  <a:pt x="10580" y="338816"/>
                </a:lnTo>
                <a:lnTo>
                  <a:pt x="12124" y="343564"/>
                </a:lnTo>
                <a:lnTo>
                  <a:pt x="13153" y="347576"/>
                </a:lnTo>
                <a:lnTo>
                  <a:pt x="13839" y="351097"/>
                </a:lnTo>
                <a:lnTo>
                  <a:pt x="15143" y="354291"/>
                </a:lnTo>
                <a:lnTo>
                  <a:pt x="16859" y="357268"/>
                </a:lnTo>
                <a:lnTo>
                  <a:pt x="22831" y="3657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InkAnnotation189"/>
          <p:cNvSpPr/>
          <p:nvPr/>
        </p:nvSpPr>
        <p:spPr>
          <a:xfrm>
            <a:off x="2637000" y="4206960"/>
            <a:ext cx="182520" cy="1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82881" h="15241">
                <a:moveTo>
                  <a:pt x="0" y="15240"/>
                </a:moveTo>
                <a:lnTo>
                  <a:pt x="0" y="8679"/>
                </a:lnTo>
                <a:lnTo>
                  <a:pt x="847" y="8326"/>
                </a:lnTo>
                <a:lnTo>
                  <a:pt x="4045" y="7934"/>
                </a:lnTo>
                <a:lnTo>
                  <a:pt x="6084" y="6983"/>
                </a:lnTo>
                <a:lnTo>
                  <a:pt x="8289" y="5502"/>
                </a:lnTo>
                <a:lnTo>
                  <a:pt x="10606" y="3668"/>
                </a:lnTo>
                <a:lnTo>
                  <a:pt x="13844" y="2445"/>
                </a:lnTo>
                <a:lnTo>
                  <a:pt x="17696" y="1630"/>
                </a:lnTo>
                <a:lnTo>
                  <a:pt x="21958" y="1087"/>
                </a:lnTo>
                <a:lnTo>
                  <a:pt x="26492" y="725"/>
                </a:lnTo>
                <a:lnTo>
                  <a:pt x="31208" y="483"/>
                </a:lnTo>
                <a:lnTo>
                  <a:pt x="36045" y="322"/>
                </a:lnTo>
                <a:lnTo>
                  <a:pt x="75344" y="43"/>
                </a:lnTo>
                <a:lnTo>
                  <a:pt x="83249" y="28"/>
                </a:lnTo>
                <a:lnTo>
                  <a:pt x="91906" y="866"/>
                </a:lnTo>
                <a:lnTo>
                  <a:pt x="101064" y="2271"/>
                </a:lnTo>
                <a:lnTo>
                  <a:pt x="110556" y="4054"/>
                </a:lnTo>
                <a:lnTo>
                  <a:pt x="119424" y="5242"/>
                </a:lnTo>
                <a:lnTo>
                  <a:pt x="127876" y="6035"/>
                </a:lnTo>
                <a:lnTo>
                  <a:pt x="136051" y="6563"/>
                </a:lnTo>
                <a:lnTo>
                  <a:pt x="149649" y="7150"/>
                </a:lnTo>
                <a:lnTo>
                  <a:pt x="155646" y="7307"/>
                </a:lnTo>
                <a:lnTo>
                  <a:pt x="161338" y="6565"/>
                </a:lnTo>
                <a:lnTo>
                  <a:pt x="166825" y="5223"/>
                </a:lnTo>
                <a:lnTo>
                  <a:pt x="1828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InkAnnotation190"/>
          <p:cNvSpPr/>
          <p:nvPr/>
        </p:nvSpPr>
        <p:spPr>
          <a:xfrm>
            <a:off x="2873520" y="3940200"/>
            <a:ext cx="242640" cy="363600"/>
          </a:xfrm>
          <a:custGeom>
            <a:avLst/>
            <a:gdLst>
              <a:gd name="textAreaLeft" fmla="*/ 0 w 242640"/>
              <a:gd name="textAreaRight" fmla="*/ 243000 w 2426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243841" h="363640">
                <a:moveTo>
                  <a:pt x="0" y="37970"/>
                </a:moveTo>
                <a:lnTo>
                  <a:pt x="4045" y="33925"/>
                </a:lnTo>
                <a:lnTo>
                  <a:pt x="5237" y="31887"/>
                </a:lnTo>
                <a:lnTo>
                  <a:pt x="7306" y="24103"/>
                </a:lnTo>
                <a:lnTo>
                  <a:pt x="11573" y="19092"/>
                </a:lnTo>
                <a:lnTo>
                  <a:pt x="18126" y="14622"/>
                </a:lnTo>
                <a:lnTo>
                  <a:pt x="22244" y="12245"/>
                </a:lnTo>
                <a:lnTo>
                  <a:pt x="31335" y="7346"/>
                </a:lnTo>
                <a:lnTo>
                  <a:pt x="36130" y="4854"/>
                </a:lnTo>
                <a:lnTo>
                  <a:pt x="41867" y="3193"/>
                </a:lnTo>
                <a:lnTo>
                  <a:pt x="48231" y="2086"/>
                </a:lnTo>
                <a:lnTo>
                  <a:pt x="55014" y="1347"/>
                </a:lnTo>
                <a:lnTo>
                  <a:pt x="62076" y="855"/>
                </a:lnTo>
                <a:lnTo>
                  <a:pt x="69324" y="527"/>
                </a:lnTo>
                <a:lnTo>
                  <a:pt x="84151" y="162"/>
                </a:lnTo>
                <a:lnTo>
                  <a:pt x="99207" y="0"/>
                </a:lnTo>
                <a:lnTo>
                  <a:pt x="106778" y="803"/>
                </a:lnTo>
                <a:lnTo>
                  <a:pt x="114365" y="2186"/>
                </a:lnTo>
                <a:lnTo>
                  <a:pt x="121964" y="3954"/>
                </a:lnTo>
                <a:lnTo>
                  <a:pt x="129569" y="5979"/>
                </a:lnTo>
                <a:lnTo>
                  <a:pt x="144793" y="10488"/>
                </a:lnTo>
                <a:lnTo>
                  <a:pt x="152409" y="13722"/>
                </a:lnTo>
                <a:lnTo>
                  <a:pt x="160026" y="17571"/>
                </a:lnTo>
                <a:lnTo>
                  <a:pt x="167644" y="21831"/>
                </a:lnTo>
                <a:lnTo>
                  <a:pt x="173570" y="25517"/>
                </a:lnTo>
                <a:lnTo>
                  <a:pt x="178366" y="28822"/>
                </a:lnTo>
                <a:lnTo>
                  <a:pt x="182411" y="31871"/>
                </a:lnTo>
                <a:lnTo>
                  <a:pt x="189163" y="39775"/>
                </a:lnTo>
                <a:lnTo>
                  <a:pt x="192149" y="44253"/>
                </a:lnTo>
                <a:lnTo>
                  <a:pt x="193293" y="48932"/>
                </a:lnTo>
                <a:lnTo>
                  <a:pt x="193208" y="53745"/>
                </a:lnTo>
                <a:lnTo>
                  <a:pt x="190857" y="63608"/>
                </a:lnTo>
                <a:lnTo>
                  <a:pt x="186990" y="73636"/>
                </a:lnTo>
                <a:lnTo>
                  <a:pt x="183927" y="79527"/>
                </a:lnTo>
                <a:lnTo>
                  <a:pt x="180191" y="85995"/>
                </a:lnTo>
                <a:lnTo>
                  <a:pt x="176008" y="92847"/>
                </a:lnTo>
                <a:lnTo>
                  <a:pt x="166843" y="107233"/>
                </a:lnTo>
                <a:lnTo>
                  <a:pt x="162029" y="114626"/>
                </a:lnTo>
                <a:lnTo>
                  <a:pt x="155432" y="122094"/>
                </a:lnTo>
                <a:lnTo>
                  <a:pt x="147648" y="129612"/>
                </a:lnTo>
                <a:lnTo>
                  <a:pt x="139072" y="137165"/>
                </a:lnTo>
                <a:lnTo>
                  <a:pt x="122770" y="152330"/>
                </a:lnTo>
                <a:lnTo>
                  <a:pt x="114867" y="159930"/>
                </a:lnTo>
                <a:lnTo>
                  <a:pt x="107058" y="168384"/>
                </a:lnTo>
                <a:lnTo>
                  <a:pt x="99312" y="177405"/>
                </a:lnTo>
                <a:lnTo>
                  <a:pt x="91608" y="186807"/>
                </a:lnTo>
                <a:lnTo>
                  <a:pt x="84779" y="195615"/>
                </a:lnTo>
                <a:lnTo>
                  <a:pt x="78533" y="204026"/>
                </a:lnTo>
                <a:lnTo>
                  <a:pt x="72675" y="212174"/>
                </a:lnTo>
                <a:lnTo>
                  <a:pt x="67077" y="220993"/>
                </a:lnTo>
                <a:lnTo>
                  <a:pt x="61651" y="230258"/>
                </a:lnTo>
                <a:lnTo>
                  <a:pt x="56341" y="239823"/>
                </a:lnTo>
                <a:lnTo>
                  <a:pt x="51954" y="248738"/>
                </a:lnTo>
                <a:lnTo>
                  <a:pt x="48183" y="257222"/>
                </a:lnTo>
                <a:lnTo>
                  <a:pt x="44822" y="265418"/>
                </a:lnTo>
                <a:lnTo>
                  <a:pt x="42581" y="273422"/>
                </a:lnTo>
                <a:lnTo>
                  <a:pt x="41088" y="281298"/>
                </a:lnTo>
                <a:lnTo>
                  <a:pt x="40092" y="289089"/>
                </a:lnTo>
                <a:lnTo>
                  <a:pt x="40275" y="296823"/>
                </a:lnTo>
                <a:lnTo>
                  <a:pt x="41243" y="304518"/>
                </a:lnTo>
                <a:lnTo>
                  <a:pt x="42735" y="312189"/>
                </a:lnTo>
                <a:lnTo>
                  <a:pt x="45424" y="318996"/>
                </a:lnTo>
                <a:lnTo>
                  <a:pt x="48909" y="325227"/>
                </a:lnTo>
                <a:lnTo>
                  <a:pt x="52926" y="331075"/>
                </a:lnTo>
                <a:lnTo>
                  <a:pt x="58144" y="336667"/>
                </a:lnTo>
                <a:lnTo>
                  <a:pt x="64163" y="342088"/>
                </a:lnTo>
                <a:lnTo>
                  <a:pt x="70715" y="347395"/>
                </a:lnTo>
                <a:lnTo>
                  <a:pt x="77624" y="351780"/>
                </a:lnTo>
                <a:lnTo>
                  <a:pt x="84769" y="355550"/>
                </a:lnTo>
                <a:lnTo>
                  <a:pt x="92073" y="358910"/>
                </a:lnTo>
                <a:lnTo>
                  <a:pt x="101175" y="361150"/>
                </a:lnTo>
                <a:lnTo>
                  <a:pt x="111477" y="362644"/>
                </a:lnTo>
                <a:lnTo>
                  <a:pt x="122578" y="363639"/>
                </a:lnTo>
                <a:lnTo>
                  <a:pt x="133366" y="363456"/>
                </a:lnTo>
                <a:lnTo>
                  <a:pt x="143944" y="362488"/>
                </a:lnTo>
                <a:lnTo>
                  <a:pt x="154383" y="360995"/>
                </a:lnTo>
                <a:lnTo>
                  <a:pt x="164728" y="359153"/>
                </a:lnTo>
                <a:lnTo>
                  <a:pt x="175013" y="357079"/>
                </a:lnTo>
                <a:lnTo>
                  <a:pt x="185255" y="354849"/>
                </a:lnTo>
                <a:lnTo>
                  <a:pt x="194623" y="352516"/>
                </a:lnTo>
                <a:lnTo>
                  <a:pt x="203409" y="350114"/>
                </a:lnTo>
                <a:lnTo>
                  <a:pt x="211806" y="347666"/>
                </a:lnTo>
                <a:lnTo>
                  <a:pt x="219097" y="345187"/>
                </a:lnTo>
                <a:lnTo>
                  <a:pt x="225651" y="342688"/>
                </a:lnTo>
                <a:lnTo>
                  <a:pt x="243840" y="3351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ARTInkAnnotation191"/>
          <p:cNvSpPr/>
          <p:nvPr/>
        </p:nvSpPr>
        <p:spPr>
          <a:xfrm>
            <a:off x="3200400" y="3909960"/>
            <a:ext cx="289080" cy="411120"/>
          </a:xfrm>
          <a:custGeom>
            <a:avLst/>
            <a:gdLst>
              <a:gd name="textAreaLeft" fmla="*/ 0 w 289080"/>
              <a:gd name="textAreaRight" fmla="*/ 289440 w 28908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289423" h="409927">
                <a:moveTo>
                  <a:pt x="121782" y="29071"/>
                </a:moveTo>
                <a:lnTo>
                  <a:pt x="135649" y="15204"/>
                </a:lnTo>
                <a:lnTo>
                  <a:pt x="136107" y="13900"/>
                </a:lnTo>
                <a:lnTo>
                  <a:pt x="136615" y="10192"/>
                </a:lnTo>
                <a:lnTo>
                  <a:pt x="137597" y="8019"/>
                </a:lnTo>
                <a:lnTo>
                  <a:pt x="143547" y="0"/>
                </a:lnTo>
                <a:lnTo>
                  <a:pt x="143912" y="1223"/>
                </a:lnTo>
                <a:lnTo>
                  <a:pt x="144498" y="13097"/>
                </a:lnTo>
                <a:lnTo>
                  <a:pt x="144546" y="15882"/>
                </a:lnTo>
                <a:lnTo>
                  <a:pt x="142341" y="23491"/>
                </a:lnTo>
                <a:lnTo>
                  <a:pt x="138540" y="33364"/>
                </a:lnTo>
                <a:lnTo>
                  <a:pt x="134027" y="46219"/>
                </a:lnTo>
                <a:lnTo>
                  <a:pt x="131639" y="54050"/>
                </a:lnTo>
                <a:lnTo>
                  <a:pt x="126728" y="71781"/>
                </a:lnTo>
                <a:lnTo>
                  <a:pt x="119202" y="100804"/>
                </a:lnTo>
                <a:lnTo>
                  <a:pt x="115829" y="110760"/>
                </a:lnTo>
                <a:lnTo>
                  <a:pt x="111887" y="120784"/>
                </a:lnTo>
                <a:lnTo>
                  <a:pt x="102991" y="141799"/>
                </a:lnTo>
                <a:lnTo>
                  <a:pt x="93393" y="165250"/>
                </a:lnTo>
                <a:lnTo>
                  <a:pt x="87616" y="176584"/>
                </a:lnTo>
                <a:lnTo>
                  <a:pt x="81224" y="187527"/>
                </a:lnTo>
                <a:lnTo>
                  <a:pt x="74424" y="198208"/>
                </a:lnTo>
                <a:lnTo>
                  <a:pt x="68197" y="209562"/>
                </a:lnTo>
                <a:lnTo>
                  <a:pt x="62352" y="221365"/>
                </a:lnTo>
                <a:lnTo>
                  <a:pt x="56762" y="233467"/>
                </a:lnTo>
                <a:lnTo>
                  <a:pt x="50495" y="244922"/>
                </a:lnTo>
                <a:lnTo>
                  <a:pt x="43778" y="255945"/>
                </a:lnTo>
                <a:lnTo>
                  <a:pt x="36759" y="266680"/>
                </a:lnTo>
                <a:lnTo>
                  <a:pt x="31233" y="277224"/>
                </a:lnTo>
                <a:lnTo>
                  <a:pt x="26703" y="287639"/>
                </a:lnTo>
                <a:lnTo>
                  <a:pt x="19411" y="307397"/>
                </a:lnTo>
                <a:lnTo>
                  <a:pt x="7831" y="340777"/>
                </a:lnTo>
                <a:lnTo>
                  <a:pt x="5175" y="348635"/>
                </a:lnTo>
                <a:lnTo>
                  <a:pt x="3404" y="355567"/>
                </a:lnTo>
                <a:lnTo>
                  <a:pt x="1437" y="367785"/>
                </a:lnTo>
                <a:lnTo>
                  <a:pt x="562" y="378859"/>
                </a:lnTo>
                <a:lnTo>
                  <a:pt x="173" y="388579"/>
                </a:lnTo>
                <a:lnTo>
                  <a:pt x="0" y="395721"/>
                </a:lnTo>
                <a:lnTo>
                  <a:pt x="801" y="398811"/>
                </a:lnTo>
                <a:lnTo>
                  <a:pt x="3949" y="404502"/>
                </a:lnTo>
                <a:lnTo>
                  <a:pt x="5973" y="406358"/>
                </a:lnTo>
                <a:lnTo>
                  <a:pt x="8169" y="407596"/>
                </a:lnTo>
                <a:lnTo>
                  <a:pt x="10480" y="408421"/>
                </a:lnTo>
                <a:lnTo>
                  <a:pt x="17563" y="409337"/>
                </a:lnTo>
                <a:lnTo>
                  <a:pt x="21823" y="409582"/>
                </a:lnTo>
                <a:lnTo>
                  <a:pt x="33329" y="409853"/>
                </a:lnTo>
                <a:lnTo>
                  <a:pt x="39953" y="409926"/>
                </a:lnTo>
                <a:lnTo>
                  <a:pt x="46909" y="409128"/>
                </a:lnTo>
                <a:lnTo>
                  <a:pt x="54087" y="407749"/>
                </a:lnTo>
                <a:lnTo>
                  <a:pt x="61413" y="405983"/>
                </a:lnTo>
                <a:lnTo>
                  <a:pt x="69682" y="404806"/>
                </a:lnTo>
                <a:lnTo>
                  <a:pt x="78582" y="404021"/>
                </a:lnTo>
                <a:lnTo>
                  <a:pt x="87902" y="403498"/>
                </a:lnTo>
                <a:lnTo>
                  <a:pt x="97502" y="402302"/>
                </a:lnTo>
                <a:lnTo>
                  <a:pt x="107289" y="400659"/>
                </a:lnTo>
                <a:lnTo>
                  <a:pt x="151375" y="391937"/>
                </a:lnTo>
                <a:lnTo>
                  <a:pt x="161830" y="390362"/>
                </a:lnTo>
                <a:lnTo>
                  <a:pt x="171341" y="389311"/>
                </a:lnTo>
                <a:lnTo>
                  <a:pt x="180222" y="388611"/>
                </a:lnTo>
                <a:lnTo>
                  <a:pt x="189528" y="387298"/>
                </a:lnTo>
                <a:lnTo>
                  <a:pt x="199119" y="385576"/>
                </a:lnTo>
                <a:lnTo>
                  <a:pt x="208900" y="383581"/>
                </a:lnTo>
                <a:lnTo>
                  <a:pt x="228799" y="379106"/>
                </a:lnTo>
                <a:lnTo>
                  <a:pt x="238847" y="376728"/>
                </a:lnTo>
                <a:lnTo>
                  <a:pt x="248085" y="375142"/>
                </a:lnTo>
                <a:lnTo>
                  <a:pt x="256784" y="374085"/>
                </a:lnTo>
                <a:lnTo>
                  <a:pt x="271530" y="372911"/>
                </a:lnTo>
                <a:lnTo>
                  <a:pt x="289422" y="37197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ARTInkAnnotation192"/>
          <p:cNvSpPr/>
          <p:nvPr/>
        </p:nvSpPr>
        <p:spPr>
          <a:xfrm>
            <a:off x="4106880" y="3436920"/>
            <a:ext cx="263520" cy="281160"/>
          </a:xfrm>
          <a:custGeom>
            <a:avLst/>
            <a:gdLst>
              <a:gd name="textAreaLeft" fmla="*/ 0 w 263520"/>
              <a:gd name="textAreaRight" fmla="*/ 263880 w 26352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264116" h="281532">
                <a:moveTo>
                  <a:pt x="61341" y="106539"/>
                </a:moveTo>
                <a:lnTo>
                  <a:pt x="61341" y="102494"/>
                </a:lnTo>
                <a:lnTo>
                  <a:pt x="60494" y="101302"/>
                </a:lnTo>
                <a:lnTo>
                  <a:pt x="59083" y="100508"/>
                </a:lnTo>
                <a:lnTo>
                  <a:pt x="54779" y="99233"/>
                </a:lnTo>
                <a:lnTo>
                  <a:pt x="54191" y="94543"/>
                </a:lnTo>
                <a:lnTo>
                  <a:pt x="53930" y="87661"/>
                </a:lnTo>
                <a:lnTo>
                  <a:pt x="53814" y="81780"/>
                </a:lnTo>
                <a:lnTo>
                  <a:pt x="53748" y="69664"/>
                </a:lnTo>
                <a:lnTo>
                  <a:pt x="54586" y="65869"/>
                </a:lnTo>
                <a:lnTo>
                  <a:pt x="57774" y="59395"/>
                </a:lnTo>
                <a:lnTo>
                  <a:pt x="61503" y="55636"/>
                </a:lnTo>
                <a:lnTo>
                  <a:pt x="66529" y="51437"/>
                </a:lnTo>
                <a:lnTo>
                  <a:pt x="72419" y="46944"/>
                </a:lnTo>
                <a:lnTo>
                  <a:pt x="78040" y="43103"/>
                </a:lnTo>
                <a:lnTo>
                  <a:pt x="83480" y="39695"/>
                </a:lnTo>
                <a:lnTo>
                  <a:pt x="88800" y="36576"/>
                </a:lnTo>
                <a:lnTo>
                  <a:pt x="95734" y="32804"/>
                </a:lnTo>
                <a:lnTo>
                  <a:pt x="112469" y="24097"/>
                </a:lnTo>
                <a:lnTo>
                  <a:pt x="120826" y="20251"/>
                </a:lnTo>
                <a:lnTo>
                  <a:pt x="128938" y="16840"/>
                </a:lnTo>
                <a:lnTo>
                  <a:pt x="136885" y="13720"/>
                </a:lnTo>
                <a:lnTo>
                  <a:pt x="145571" y="10793"/>
                </a:lnTo>
                <a:lnTo>
                  <a:pt x="154747" y="7995"/>
                </a:lnTo>
                <a:lnTo>
                  <a:pt x="164252" y="5283"/>
                </a:lnTo>
                <a:lnTo>
                  <a:pt x="173975" y="3475"/>
                </a:lnTo>
                <a:lnTo>
                  <a:pt x="183843" y="2269"/>
                </a:lnTo>
                <a:lnTo>
                  <a:pt x="193809" y="1466"/>
                </a:lnTo>
                <a:lnTo>
                  <a:pt x="202993" y="930"/>
                </a:lnTo>
                <a:lnTo>
                  <a:pt x="219971" y="335"/>
                </a:lnTo>
                <a:lnTo>
                  <a:pt x="239763" y="0"/>
                </a:lnTo>
                <a:lnTo>
                  <a:pt x="245483" y="800"/>
                </a:lnTo>
                <a:lnTo>
                  <a:pt x="250989" y="2179"/>
                </a:lnTo>
                <a:lnTo>
                  <a:pt x="256352" y="3946"/>
                </a:lnTo>
                <a:lnTo>
                  <a:pt x="259928" y="6817"/>
                </a:lnTo>
                <a:lnTo>
                  <a:pt x="262313" y="10424"/>
                </a:lnTo>
                <a:lnTo>
                  <a:pt x="263902" y="14523"/>
                </a:lnTo>
                <a:lnTo>
                  <a:pt x="264115" y="18101"/>
                </a:lnTo>
                <a:lnTo>
                  <a:pt x="263410" y="21334"/>
                </a:lnTo>
                <a:lnTo>
                  <a:pt x="262094" y="24335"/>
                </a:lnTo>
                <a:lnTo>
                  <a:pt x="256115" y="32187"/>
                </a:lnTo>
                <a:lnTo>
                  <a:pt x="252150" y="36651"/>
                </a:lnTo>
                <a:lnTo>
                  <a:pt x="246120" y="42167"/>
                </a:lnTo>
                <a:lnTo>
                  <a:pt x="238714" y="48384"/>
                </a:lnTo>
                <a:lnTo>
                  <a:pt x="230389" y="55069"/>
                </a:lnTo>
                <a:lnTo>
                  <a:pt x="220606" y="62066"/>
                </a:lnTo>
                <a:lnTo>
                  <a:pt x="209851" y="69270"/>
                </a:lnTo>
                <a:lnTo>
                  <a:pt x="186612" y="84048"/>
                </a:lnTo>
                <a:lnTo>
                  <a:pt x="148882" y="107495"/>
                </a:lnTo>
                <a:lnTo>
                  <a:pt x="106752" y="134668"/>
                </a:lnTo>
                <a:lnTo>
                  <a:pt x="80113" y="151214"/>
                </a:lnTo>
                <a:lnTo>
                  <a:pt x="67929" y="159182"/>
                </a:lnTo>
                <a:lnTo>
                  <a:pt x="45360" y="174809"/>
                </a:lnTo>
                <a:lnTo>
                  <a:pt x="36294" y="182533"/>
                </a:lnTo>
                <a:lnTo>
                  <a:pt x="28556" y="190221"/>
                </a:lnTo>
                <a:lnTo>
                  <a:pt x="21704" y="197887"/>
                </a:lnTo>
                <a:lnTo>
                  <a:pt x="15443" y="205538"/>
                </a:lnTo>
                <a:lnTo>
                  <a:pt x="9575" y="213178"/>
                </a:lnTo>
                <a:lnTo>
                  <a:pt x="3970" y="220812"/>
                </a:lnTo>
                <a:lnTo>
                  <a:pt x="1080" y="227594"/>
                </a:lnTo>
                <a:lnTo>
                  <a:pt x="0" y="233809"/>
                </a:lnTo>
                <a:lnTo>
                  <a:pt x="127" y="239646"/>
                </a:lnTo>
                <a:lnTo>
                  <a:pt x="1059" y="245230"/>
                </a:lnTo>
                <a:lnTo>
                  <a:pt x="2526" y="250646"/>
                </a:lnTo>
                <a:lnTo>
                  <a:pt x="4351" y="255950"/>
                </a:lnTo>
                <a:lnTo>
                  <a:pt x="8108" y="261180"/>
                </a:lnTo>
                <a:lnTo>
                  <a:pt x="13152" y="266359"/>
                </a:lnTo>
                <a:lnTo>
                  <a:pt x="19055" y="271506"/>
                </a:lnTo>
                <a:lnTo>
                  <a:pt x="27223" y="274937"/>
                </a:lnTo>
                <a:lnTo>
                  <a:pt x="36903" y="277225"/>
                </a:lnTo>
                <a:lnTo>
                  <a:pt x="47588" y="278749"/>
                </a:lnTo>
                <a:lnTo>
                  <a:pt x="59793" y="279766"/>
                </a:lnTo>
                <a:lnTo>
                  <a:pt x="73009" y="280444"/>
                </a:lnTo>
                <a:lnTo>
                  <a:pt x="101240" y="281197"/>
                </a:lnTo>
                <a:lnTo>
                  <a:pt x="130720" y="281531"/>
                </a:lnTo>
                <a:lnTo>
                  <a:pt x="144001" y="280774"/>
                </a:lnTo>
                <a:lnTo>
                  <a:pt x="156240" y="279422"/>
                </a:lnTo>
                <a:lnTo>
                  <a:pt x="190881" y="2741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InkAnnotation193"/>
          <p:cNvSpPr/>
          <p:nvPr/>
        </p:nvSpPr>
        <p:spPr>
          <a:xfrm>
            <a:off x="4529160" y="3406680"/>
            <a:ext cx="201600" cy="192240"/>
          </a:xfrm>
          <a:custGeom>
            <a:avLst/>
            <a:gdLst>
              <a:gd name="textAreaLeft" fmla="*/ 0 w 201600"/>
              <a:gd name="textAreaRight" fmla="*/ 201960 w 2016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01761" h="192850">
                <a:moveTo>
                  <a:pt x="111385" y="7592"/>
                </a:moveTo>
                <a:lnTo>
                  <a:pt x="111385" y="0"/>
                </a:lnTo>
                <a:lnTo>
                  <a:pt x="107340" y="4025"/>
                </a:lnTo>
                <a:lnTo>
                  <a:pt x="105302" y="5214"/>
                </a:lnTo>
                <a:lnTo>
                  <a:pt x="100779" y="6535"/>
                </a:lnTo>
                <a:lnTo>
                  <a:pt x="97541" y="8581"/>
                </a:lnTo>
                <a:lnTo>
                  <a:pt x="93689" y="11638"/>
                </a:lnTo>
                <a:lnTo>
                  <a:pt x="89428" y="15369"/>
                </a:lnTo>
                <a:lnTo>
                  <a:pt x="84894" y="19550"/>
                </a:lnTo>
                <a:lnTo>
                  <a:pt x="75340" y="28711"/>
                </a:lnTo>
                <a:lnTo>
                  <a:pt x="70422" y="35218"/>
                </a:lnTo>
                <a:lnTo>
                  <a:pt x="65450" y="42943"/>
                </a:lnTo>
                <a:lnTo>
                  <a:pt x="60441" y="51479"/>
                </a:lnTo>
                <a:lnTo>
                  <a:pt x="54562" y="59710"/>
                </a:lnTo>
                <a:lnTo>
                  <a:pt x="48103" y="67738"/>
                </a:lnTo>
                <a:lnTo>
                  <a:pt x="41257" y="75629"/>
                </a:lnTo>
                <a:lnTo>
                  <a:pt x="35000" y="83430"/>
                </a:lnTo>
                <a:lnTo>
                  <a:pt x="29135" y="91170"/>
                </a:lnTo>
                <a:lnTo>
                  <a:pt x="18103" y="106545"/>
                </a:lnTo>
                <a:lnTo>
                  <a:pt x="7555" y="121844"/>
                </a:lnTo>
                <a:lnTo>
                  <a:pt x="4066" y="129480"/>
                </a:lnTo>
                <a:lnTo>
                  <a:pt x="1739" y="137111"/>
                </a:lnTo>
                <a:lnTo>
                  <a:pt x="187" y="144738"/>
                </a:lnTo>
                <a:lnTo>
                  <a:pt x="0" y="151516"/>
                </a:lnTo>
                <a:lnTo>
                  <a:pt x="722" y="157728"/>
                </a:lnTo>
                <a:lnTo>
                  <a:pt x="2049" y="163563"/>
                </a:lnTo>
                <a:lnTo>
                  <a:pt x="3782" y="169146"/>
                </a:lnTo>
                <a:lnTo>
                  <a:pt x="5782" y="174561"/>
                </a:lnTo>
                <a:lnTo>
                  <a:pt x="7963" y="179865"/>
                </a:lnTo>
                <a:lnTo>
                  <a:pt x="12805" y="184247"/>
                </a:lnTo>
                <a:lnTo>
                  <a:pt x="19418" y="188015"/>
                </a:lnTo>
                <a:lnTo>
                  <a:pt x="27213" y="191374"/>
                </a:lnTo>
                <a:lnTo>
                  <a:pt x="34950" y="192767"/>
                </a:lnTo>
                <a:lnTo>
                  <a:pt x="42649" y="192849"/>
                </a:lnTo>
                <a:lnTo>
                  <a:pt x="50321" y="192057"/>
                </a:lnTo>
                <a:lnTo>
                  <a:pt x="59669" y="190682"/>
                </a:lnTo>
                <a:lnTo>
                  <a:pt x="81345" y="186896"/>
                </a:lnTo>
                <a:lnTo>
                  <a:pt x="92205" y="184701"/>
                </a:lnTo>
                <a:lnTo>
                  <a:pt x="113303" y="180005"/>
                </a:lnTo>
                <a:lnTo>
                  <a:pt x="123670" y="175874"/>
                </a:lnTo>
                <a:lnTo>
                  <a:pt x="133968" y="170580"/>
                </a:lnTo>
                <a:lnTo>
                  <a:pt x="144221" y="164511"/>
                </a:lnTo>
                <a:lnTo>
                  <a:pt x="153595" y="157925"/>
                </a:lnTo>
                <a:lnTo>
                  <a:pt x="162385" y="150994"/>
                </a:lnTo>
                <a:lnTo>
                  <a:pt x="170785" y="143834"/>
                </a:lnTo>
                <a:lnTo>
                  <a:pt x="178079" y="135673"/>
                </a:lnTo>
                <a:lnTo>
                  <a:pt x="184634" y="126846"/>
                </a:lnTo>
                <a:lnTo>
                  <a:pt x="190698" y="117575"/>
                </a:lnTo>
                <a:lnTo>
                  <a:pt x="194740" y="108854"/>
                </a:lnTo>
                <a:lnTo>
                  <a:pt x="197435" y="100500"/>
                </a:lnTo>
                <a:lnTo>
                  <a:pt x="199231" y="92391"/>
                </a:lnTo>
                <a:lnTo>
                  <a:pt x="200429" y="84445"/>
                </a:lnTo>
                <a:lnTo>
                  <a:pt x="201228" y="76607"/>
                </a:lnTo>
                <a:lnTo>
                  <a:pt x="201760" y="68842"/>
                </a:lnTo>
                <a:lnTo>
                  <a:pt x="201268" y="61125"/>
                </a:lnTo>
                <a:lnTo>
                  <a:pt x="200094" y="53441"/>
                </a:lnTo>
                <a:lnTo>
                  <a:pt x="198464" y="45778"/>
                </a:lnTo>
                <a:lnTo>
                  <a:pt x="195684" y="39822"/>
                </a:lnTo>
                <a:lnTo>
                  <a:pt x="192138" y="35006"/>
                </a:lnTo>
                <a:lnTo>
                  <a:pt x="188080" y="30948"/>
                </a:lnTo>
                <a:lnTo>
                  <a:pt x="183682" y="27396"/>
                </a:lnTo>
                <a:lnTo>
                  <a:pt x="179056" y="24181"/>
                </a:lnTo>
                <a:lnTo>
                  <a:pt x="174279" y="21191"/>
                </a:lnTo>
                <a:lnTo>
                  <a:pt x="169401" y="19198"/>
                </a:lnTo>
                <a:lnTo>
                  <a:pt x="164456" y="17870"/>
                </a:lnTo>
                <a:lnTo>
                  <a:pt x="159466" y="16984"/>
                </a:lnTo>
                <a:lnTo>
                  <a:pt x="154445" y="16393"/>
                </a:lnTo>
                <a:lnTo>
                  <a:pt x="149405" y="15999"/>
                </a:lnTo>
                <a:lnTo>
                  <a:pt x="140136" y="15562"/>
                </a:lnTo>
                <a:lnTo>
                  <a:pt x="126625" y="152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InkAnnotation194"/>
          <p:cNvSpPr/>
          <p:nvPr/>
        </p:nvSpPr>
        <p:spPr>
          <a:xfrm>
            <a:off x="4511520" y="3581280"/>
            <a:ext cx="211320" cy="187560"/>
          </a:xfrm>
          <a:custGeom>
            <a:avLst/>
            <a:gdLst>
              <a:gd name="textAreaLeft" fmla="*/ 0 w 211320"/>
              <a:gd name="textAreaRight" fmla="*/ 211680 w 21132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11077" h="187622">
                <a:moveTo>
                  <a:pt x="121021" y="53340"/>
                </a:moveTo>
                <a:lnTo>
                  <a:pt x="121021" y="49295"/>
                </a:lnTo>
                <a:lnTo>
                  <a:pt x="120174" y="48104"/>
                </a:lnTo>
                <a:lnTo>
                  <a:pt x="118763" y="47309"/>
                </a:lnTo>
                <a:lnTo>
                  <a:pt x="116976" y="46779"/>
                </a:lnTo>
                <a:lnTo>
                  <a:pt x="115784" y="45580"/>
                </a:lnTo>
                <a:lnTo>
                  <a:pt x="114989" y="43933"/>
                </a:lnTo>
                <a:lnTo>
                  <a:pt x="114459" y="41989"/>
                </a:lnTo>
                <a:lnTo>
                  <a:pt x="113260" y="40692"/>
                </a:lnTo>
                <a:lnTo>
                  <a:pt x="111613" y="39828"/>
                </a:lnTo>
                <a:lnTo>
                  <a:pt x="106679" y="38021"/>
                </a:lnTo>
                <a:lnTo>
                  <a:pt x="102993" y="36354"/>
                </a:lnTo>
                <a:lnTo>
                  <a:pt x="98843" y="34396"/>
                </a:lnTo>
                <a:lnTo>
                  <a:pt x="95229" y="33091"/>
                </a:lnTo>
                <a:lnTo>
                  <a:pt x="88956" y="31640"/>
                </a:lnTo>
                <a:lnTo>
                  <a:pt x="85250" y="32100"/>
                </a:lnTo>
                <a:lnTo>
                  <a:pt x="81087" y="33253"/>
                </a:lnTo>
                <a:lnTo>
                  <a:pt x="71099" y="36793"/>
                </a:lnTo>
                <a:lnTo>
                  <a:pt x="58193" y="41188"/>
                </a:lnTo>
                <a:lnTo>
                  <a:pt x="52043" y="44392"/>
                </a:lnTo>
                <a:lnTo>
                  <a:pt x="46248" y="48221"/>
                </a:lnTo>
                <a:lnTo>
                  <a:pt x="40693" y="52468"/>
                </a:lnTo>
                <a:lnTo>
                  <a:pt x="35295" y="56991"/>
                </a:lnTo>
                <a:lnTo>
                  <a:pt x="30004" y="61701"/>
                </a:lnTo>
                <a:lnTo>
                  <a:pt x="24783" y="66534"/>
                </a:lnTo>
                <a:lnTo>
                  <a:pt x="19609" y="72296"/>
                </a:lnTo>
                <a:lnTo>
                  <a:pt x="14465" y="78678"/>
                </a:lnTo>
                <a:lnTo>
                  <a:pt x="9344" y="85472"/>
                </a:lnTo>
                <a:lnTo>
                  <a:pt x="5929" y="92541"/>
                </a:lnTo>
                <a:lnTo>
                  <a:pt x="3653" y="99794"/>
                </a:lnTo>
                <a:lnTo>
                  <a:pt x="2136" y="107170"/>
                </a:lnTo>
                <a:lnTo>
                  <a:pt x="1124" y="114626"/>
                </a:lnTo>
                <a:lnTo>
                  <a:pt x="449" y="122138"/>
                </a:lnTo>
                <a:lnTo>
                  <a:pt x="0" y="129685"/>
                </a:lnTo>
                <a:lnTo>
                  <a:pt x="1393" y="136410"/>
                </a:lnTo>
                <a:lnTo>
                  <a:pt x="4016" y="142587"/>
                </a:lnTo>
                <a:lnTo>
                  <a:pt x="7457" y="148398"/>
                </a:lnTo>
                <a:lnTo>
                  <a:pt x="12292" y="153965"/>
                </a:lnTo>
                <a:lnTo>
                  <a:pt x="18055" y="159370"/>
                </a:lnTo>
                <a:lnTo>
                  <a:pt x="24437" y="164667"/>
                </a:lnTo>
                <a:lnTo>
                  <a:pt x="32078" y="169892"/>
                </a:lnTo>
                <a:lnTo>
                  <a:pt x="40558" y="175068"/>
                </a:lnTo>
                <a:lnTo>
                  <a:pt x="49600" y="180212"/>
                </a:lnTo>
                <a:lnTo>
                  <a:pt x="59013" y="183642"/>
                </a:lnTo>
                <a:lnTo>
                  <a:pt x="68676" y="185927"/>
                </a:lnTo>
                <a:lnTo>
                  <a:pt x="78504" y="187452"/>
                </a:lnTo>
                <a:lnTo>
                  <a:pt x="89290" y="187621"/>
                </a:lnTo>
                <a:lnTo>
                  <a:pt x="100713" y="186887"/>
                </a:lnTo>
                <a:lnTo>
                  <a:pt x="112563" y="185551"/>
                </a:lnTo>
                <a:lnTo>
                  <a:pt x="123848" y="183814"/>
                </a:lnTo>
                <a:lnTo>
                  <a:pt x="134759" y="181809"/>
                </a:lnTo>
                <a:lnTo>
                  <a:pt x="145420" y="179627"/>
                </a:lnTo>
                <a:lnTo>
                  <a:pt x="155066" y="175631"/>
                </a:lnTo>
                <a:lnTo>
                  <a:pt x="164038" y="170427"/>
                </a:lnTo>
                <a:lnTo>
                  <a:pt x="172559" y="164418"/>
                </a:lnTo>
                <a:lnTo>
                  <a:pt x="180779" y="157872"/>
                </a:lnTo>
                <a:lnTo>
                  <a:pt x="188800" y="150968"/>
                </a:lnTo>
                <a:lnTo>
                  <a:pt x="196687" y="143826"/>
                </a:lnTo>
                <a:lnTo>
                  <a:pt x="201944" y="135677"/>
                </a:lnTo>
                <a:lnTo>
                  <a:pt x="205450" y="126858"/>
                </a:lnTo>
                <a:lnTo>
                  <a:pt x="207787" y="117592"/>
                </a:lnTo>
                <a:lnTo>
                  <a:pt x="209345" y="108028"/>
                </a:lnTo>
                <a:lnTo>
                  <a:pt x="210383" y="98266"/>
                </a:lnTo>
                <a:lnTo>
                  <a:pt x="211076" y="88370"/>
                </a:lnTo>
                <a:lnTo>
                  <a:pt x="209844" y="79234"/>
                </a:lnTo>
                <a:lnTo>
                  <a:pt x="207330" y="70602"/>
                </a:lnTo>
                <a:lnTo>
                  <a:pt x="203960" y="62308"/>
                </a:lnTo>
                <a:lnTo>
                  <a:pt x="200020" y="54239"/>
                </a:lnTo>
                <a:lnTo>
                  <a:pt x="195701" y="46319"/>
                </a:lnTo>
                <a:lnTo>
                  <a:pt x="191127" y="38500"/>
                </a:lnTo>
                <a:lnTo>
                  <a:pt x="186385" y="31593"/>
                </a:lnTo>
                <a:lnTo>
                  <a:pt x="181530" y="25296"/>
                </a:lnTo>
                <a:lnTo>
                  <a:pt x="176600" y="19404"/>
                </a:lnTo>
                <a:lnTo>
                  <a:pt x="170774" y="14629"/>
                </a:lnTo>
                <a:lnTo>
                  <a:pt x="164349" y="10599"/>
                </a:lnTo>
                <a:lnTo>
                  <a:pt x="157526" y="7067"/>
                </a:lnTo>
                <a:lnTo>
                  <a:pt x="151285" y="4711"/>
                </a:lnTo>
                <a:lnTo>
                  <a:pt x="145430" y="3141"/>
                </a:lnTo>
                <a:lnTo>
                  <a:pt x="139833" y="2094"/>
                </a:lnTo>
                <a:lnTo>
                  <a:pt x="135256" y="1396"/>
                </a:lnTo>
                <a:lnTo>
                  <a:pt x="131358" y="931"/>
                </a:lnTo>
                <a:lnTo>
                  <a:pt x="12102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InkAnnotation195"/>
          <p:cNvSpPr/>
          <p:nvPr/>
        </p:nvSpPr>
        <p:spPr>
          <a:xfrm>
            <a:off x="4930920" y="3551400"/>
            <a:ext cx="166680" cy="37800"/>
          </a:xfrm>
          <a:custGeom>
            <a:avLst/>
            <a:gdLst>
              <a:gd name="textAreaLeft" fmla="*/ 0 w 166680"/>
              <a:gd name="textAreaRight" fmla="*/ 167040 w 1666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67640" h="38101">
                <a:moveTo>
                  <a:pt x="0" y="38100"/>
                </a:moveTo>
                <a:lnTo>
                  <a:pt x="4044" y="38100"/>
                </a:lnTo>
                <a:lnTo>
                  <a:pt x="6083" y="37254"/>
                </a:lnTo>
                <a:lnTo>
                  <a:pt x="8288" y="35842"/>
                </a:lnTo>
                <a:lnTo>
                  <a:pt x="10605" y="34055"/>
                </a:lnTo>
                <a:lnTo>
                  <a:pt x="12997" y="32017"/>
                </a:lnTo>
                <a:lnTo>
                  <a:pt x="15438" y="29811"/>
                </a:lnTo>
                <a:lnTo>
                  <a:pt x="17911" y="27494"/>
                </a:lnTo>
                <a:lnTo>
                  <a:pt x="21254" y="25950"/>
                </a:lnTo>
                <a:lnTo>
                  <a:pt x="25175" y="24919"/>
                </a:lnTo>
                <a:lnTo>
                  <a:pt x="29483" y="24233"/>
                </a:lnTo>
                <a:lnTo>
                  <a:pt x="34895" y="22929"/>
                </a:lnTo>
                <a:lnTo>
                  <a:pt x="41044" y="21213"/>
                </a:lnTo>
                <a:lnTo>
                  <a:pt x="47682" y="19222"/>
                </a:lnTo>
                <a:lnTo>
                  <a:pt x="54648" y="17894"/>
                </a:lnTo>
                <a:lnTo>
                  <a:pt x="61831" y="17010"/>
                </a:lnTo>
                <a:lnTo>
                  <a:pt x="69161" y="16420"/>
                </a:lnTo>
                <a:lnTo>
                  <a:pt x="76588" y="15180"/>
                </a:lnTo>
                <a:lnTo>
                  <a:pt x="84078" y="13507"/>
                </a:lnTo>
                <a:lnTo>
                  <a:pt x="91611" y="11545"/>
                </a:lnTo>
                <a:lnTo>
                  <a:pt x="98327" y="10237"/>
                </a:lnTo>
                <a:lnTo>
                  <a:pt x="104498" y="9364"/>
                </a:lnTo>
                <a:lnTo>
                  <a:pt x="110305" y="8783"/>
                </a:lnTo>
                <a:lnTo>
                  <a:pt x="115870" y="8395"/>
                </a:lnTo>
                <a:lnTo>
                  <a:pt x="121273" y="8137"/>
                </a:lnTo>
                <a:lnTo>
                  <a:pt x="126569" y="7965"/>
                </a:lnTo>
                <a:lnTo>
                  <a:pt x="131792" y="7003"/>
                </a:lnTo>
                <a:lnTo>
                  <a:pt x="136968" y="5516"/>
                </a:lnTo>
                <a:lnTo>
                  <a:pt x="142111" y="3677"/>
                </a:lnTo>
                <a:lnTo>
                  <a:pt x="146387" y="2451"/>
                </a:lnTo>
                <a:lnTo>
                  <a:pt x="150085" y="1635"/>
                </a:lnTo>
                <a:lnTo>
                  <a:pt x="153396" y="1090"/>
                </a:lnTo>
                <a:lnTo>
                  <a:pt x="156450" y="726"/>
                </a:lnTo>
                <a:lnTo>
                  <a:pt x="159333" y="484"/>
                </a:lnTo>
                <a:lnTo>
                  <a:pt x="16763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InkAnnotation196"/>
          <p:cNvSpPr/>
          <p:nvPr/>
        </p:nvSpPr>
        <p:spPr>
          <a:xfrm>
            <a:off x="4906800" y="3641760"/>
            <a:ext cx="206640" cy="31680"/>
          </a:xfrm>
          <a:custGeom>
            <a:avLst/>
            <a:gdLst>
              <a:gd name="textAreaLeft" fmla="*/ 0 w 206640"/>
              <a:gd name="textAreaRight" fmla="*/ 207000 w 2066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05741" h="30481">
                <a:moveTo>
                  <a:pt x="0" y="30480"/>
                </a:moveTo>
                <a:lnTo>
                  <a:pt x="55082" y="30480"/>
                </a:lnTo>
                <a:lnTo>
                  <a:pt x="62121" y="29634"/>
                </a:lnTo>
                <a:lnTo>
                  <a:pt x="69354" y="28223"/>
                </a:lnTo>
                <a:lnTo>
                  <a:pt x="76716" y="26435"/>
                </a:lnTo>
                <a:lnTo>
                  <a:pt x="85011" y="25244"/>
                </a:lnTo>
                <a:lnTo>
                  <a:pt x="93927" y="24449"/>
                </a:lnTo>
                <a:lnTo>
                  <a:pt x="103258" y="23919"/>
                </a:lnTo>
                <a:lnTo>
                  <a:pt x="112019" y="22720"/>
                </a:lnTo>
                <a:lnTo>
                  <a:pt x="120399" y="21073"/>
                </a:lnTo>
                <a:lnTo>
                  <a:pt x="128527" y="19129"/>
                </a:lnTo>
                <a:lnTo>
                  <a:pt x="135638" y="16986"/>
                </a:lnTo>
                <a:lnTo>
                  <a:pt x="142072" y="14711"/>
                </a:lnTo>
                <a:lnTo>
                  <a:pt x="148055" y="12347"/>
                </a:lnTo>
                <a:lnTo>
                  <a:pt x="154583" y="10771"/>
                </a:lnTo>
                <a:lnTo>
                  <a:pt x="161475" y="9721"/>
                </a:lnTo>
                <a:lnTo>
                  <a:pt x="168610" y="9021"/>
                </a:lnTo>
                <a:lnTo>
                  <a:pt x="175061" y="8554"/>
                </a:lnTo>
                <a:lnTo>
                  <a:pt x="181054" y="8242"/>
                </a:lnTo>
                <a:lnTo>
                  <a:pt x="186743" y="8035"/>
                </a:lnTo>
                <a:lnTo>
                  <a:pt x="191382" y="7050"/>
                </a:lnTo>
                <a:lnTo>
                  <a:pt x="195322" y="5547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InkAnnotation197"/>
          <p:cNvSpPr/>
          <p:nvPr/>
        </p:nvSpPr>
        <p:spPr>
          <a:xfrm>
            <a:off x="5257800" y="3382920"/>
            <a:ext cx="312840" cy="343080"/>
          </a:xfrm>
          <a:custGeom>
            <a:avLst/>
            <a:gdLst>
              <a:gd name="textAreaLeft" fmla="*/ 0 w 312840"/>
              <a:gd name="textAreaRight" fmla="*/ 313200 w 3128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311924" h="342852">
                <a:moveTo>
                  <a:pt x="60464" y="68540"/>
                </a:moveTo>
                <a:lnTo>
                  <a:pt x="60464" y="54673"/>
                </a:lnTo>
                <a:lnTo>
                  <a:pt x="62721" y="51653"/>
                </a:lnTo>
                <a:lnTo>
                  <a:pt x="71070" y="42815"/>
                </a:lnTo>
                <a:lnTo>
                  <a:pt x="82420" y="31379"/>
                </a:lnTo>
                <a:lnTo>
                  <a:pt x="91671" y="24366"/>
                </a:lnTo>
                <a:lnTo>
                  <a:pt x="96509" y="21311"/>
                </a:lnTo>
                <a:lnTo>
                  <a:pt x="102273" y="18427"/>
                </a:lnTo>
                <a:lnTo>
                  <a:pt x="108657" y="15658"/>
                </a:lnTo>
                <a:lnTo>
                  <a:pt x="115452" y="12965"/>
                </a:lnTo>
                <a:lnTo>
                  <a:pt x="121676" y="10324"/>
                </a:lnTo>
                <a:lnTo>
                  <a:pt x="133107" y="5131"/>
                </a:lnTo>
                <a:lnTo>
                  <a:pt x="138526" y="3407"/>
                </a:lnTo>
                <a:lnTo>
                  <a:pt x="143831" y="2258"/>
                </a:lnTo>
                <a:lnTo>
                  <a:pt x="149062" y="1492"/>
                </a:lnTo>
                <a:lnTo>
                  <a:pt x="154242" y="982"/>
                </a:lnTo>
                <a:lnTo>
                  <a:pt x="159390" y="641"/>
                </a:lnTo>
                <a:lnTo>
                  <a:pt x="168777" y="263"/>
                </a:lnTo>
                <a:lnTo>
                  <a:pt x="175771" y="94"/>
                </a:lnTo>
                <a:lnTo>
                  <a:pt x="188515" y="0"/>
                </a:lnTo>
                <a:lnTo>
                  <a:pt x="192398" y="834"/>
                </a:lnTo>
                <a:lnTo>
                  <a:pt x="201907" y="5205"/>
                </a:lnTo>
                <a:lnTo>
                  <a:pt x="207430" y="6524"/>
                </a:lnTo>
                <a:lnTo>
                  <a:pt x="209241" y="7723"/>
                </a:lnTo>
                <a:lnTo>
                  <a:pt x="210448" y="9369"/>
                </a:lnTo>
                <a:lnTo>
                  <a:pt x="211254" y="11312"/>
                </a:lnTo>
                <a:lnTo>
                  <a:pt x="212147" y="17988"/>
                </a:lnTo>
                <a:lnTo>
                  <a:pt x="212386" y="22139"/>
                </a:lnTo>
                <a:lnTo>
                  <a:pt x="211699" y="25753"/>
                </a:lnTo>
                <a:lnTo>
                  <a:pt x="206686" y="35731"/>
                </a:lnTo>
                <a:lnTo>
                  <a:pt x="202216" y="44363"/>
                </a:lnTo>
                <a:lnTo>
                  <a:pt x="198991" y="49882"/>
                </a:lnTo>
                <a:lnTo>
                  <a:pt x="190894" y="62787"/>
                </a:lnTo>
                <a:lnTo>
                  <a:pt x="185516" y="69785"/>
                </a:lnTo>
                <a:lnTo>
                  <a:pt x="179392" y="76990"/>
                </a:lnTo>
                <a:lnTo>
                  <a:pt x="172770" y="84333"/>
                </a:lnTo>
                <a:lnTo>
                  <a:pt x="166660" y="91769"/>
                </a:lnTo>
                <a:lnTo>
                  <a:pt x="160895" y="99266"/>
                </a:lnTo>
                <a:lnTo>
                  <a:pt x="155358" y="106804"/>
                </a:lnTo>
                <a:lnTo>
                  <a:pt x="149126" y="114369"/>
                </a:lnTo>
                <a:lnTo>
                  <a:pt x="142433" y="121953"/>
                </a:lnTo>
                <a:lnTo>
                  <a:pt x="128221" y="137152"/>
                </a:lnTo>
                <a:lnTo>
                  <a:pt x="98401" y="167606"/>
                </a:lnTo>
                <a:lnTo>
                  <a:pt x="90835" y="175224"/>
                </a:lnTo>
                <a:lnTo>
                  <a:pt x="83251" y="183690"/>
                </a:lnTo>
                <a:lnTo>
                  <a:pt x="75655" y="192719"/>
                </a:lnTo>
                <a:lnTo>
                  <a:pt x="68051" y="202126"/>
                </a:lnTo>
                <a:lnTo>
                  <a:pt x="60442" y="210091"/>
                </a:lnTo>
                <a:lnTo>
                  <a:pt x="52830" y="217094"/>
                </a:lnTo>
                <a:lnTo>
                  <a:pt x="45214" y="223456"/>
                </a:lnTo>
                <a:lnTo>
                  <a:pt x="38444" y="230237"/>
                </a:lnTo>
                <a:lnTo>
                  <a:pt x="32237" y="237298"/>
                </a:lnTo>
                <a:lnTo>
                  <a:pt x="26406" y="244545"/>
                </a:lnTo>
                <a:lnTo>
                  <a:pt x="21672" y="251070"/>
                </a:lnTo>
                <a:lnTo>
                  <a:pt x="17669" y="257114"/>
                </a:lnTo>
                <a:lnTo>
                  <a:pt x="14153" y="262836"/>
                </a:lnTo>
                <a:lnTo>
                  <a:pt x="10964" y="268344"/>
                </a:lnTo>
                <a:lnTo>
                  <a:pt x="5161" y="278979"/>
                </a:lnTo>
                <a:lnTo>
                  <a:pt x="2018" y="289351"/>
                </a:lnTo>
                <a:lnTo>
                  <a:pt x="621" y="298758"/>
                </a:lnTo>
                <a:lnTo>
                  <a:pt x="0" y="305761"/>
                </a:lnTo>
                <a:lnTo>
                  <a:pt x="681" y="308814"/>
                </a:lnTo>
                <a:lnTo>
                  <a:pt x="3696" y="314464"/>
                </a:lnTo>
                <a:lnTo>
                  <a:pt x="10153" y="322405"/>
                </a:lnTo>
                <a:lnTo>
                  <a:pt x="17219" y="327560"/>
                </a:lnTo>
                <a:lnTo>
                  <a:pt x="21474" y="330120"/>
                </a:lnTo>
                <a:lnTo>
                  <a:pt x="26850" y="331827"/>
                </a:lnTo>
                <a:lnTo>
                  <a:pt x="32975" y="332964"/>
                </a:lnTo>
                <a:lnTo>
                  <a:pt x="39598" y="333723"/>
                </a:lnTo>
                <a:lnTo>
                  <a:pt x="46553" y="334229"/>
                </a:lnTo>
                <a:lnTo>
                  <a:pt x="53730" y="334565"/>
                </a:lnTo>
                <a:lnTo>
                  <a:pt x="61054" y="334790"/>
                </a:lnTo>
                <a:lnTo>
                  <a:pt x="69324" y="335787"/>
                </a:lnTo>
                <a:lnTo>
                  <a:pt x="78224" y="337298"/>
                </a:lnTo>
                <a:lnTo>
                  <a:pt x="87544" y="339152"/>
                </a:lnTo>
                <a:lnTo>
                  <a:pt x="97144" y="340388"/>
                </a:lnTo>
                <a:lnTo>
                  <a:pt x="106931" y="341212"/>
                </a:lnTo>
                <a:lnTo>
                  <a:pt x="116842" y="341762"/>
                </a:lnTo>
                <a:lnTo>
                  <a:pt x="139143" y="342372"/>
                </a:lnTo>
                <a:lnTo>
                  <a:pt x="245794" y="342851"/>
                </a:lnTo>
                <a:lnTo>
                  <a:pt x="254290" y="342008"/>
                </a:lnTo>
                <a:lnTo>
                  <a:pt x="261648" y="340598"/>
                </a:lnTo>
                <a:lnTo>
                  <a:pt x="268246" y="338812"/>
                </a:lnTo>
                <a:lnTo>
                  <a:pt x="275185" y="337621"/>
                </a:lnTo>
                <a:lnTo>
                  <a:pt x="282351" y="336827"/>
                </a:lnTo>
                <a:lnTo>
                  <a:pt x="295393" y="335946"/>
                </a:lnTo>
                <a:lnTo>
                  <a:pt x="311923" y="33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InkAnnotation198"/>
          <p:cNvSpPr/>
          <p:nvPr/>
        </p:nvSpPr>
        <p:spPr>
          <a:xfrm>
            <a:off x="5708520" y="3322800"/>
            <a:ext cx="243000" cy="555480"/>
          </a:xfrm>
          <a:custGeom>
            <a:avLst/>
            <a:gdLst>
              <a:gd name="textAreaLeft" fmla="*/ 0 w 243000"/>
              <a:gd name="textAreaRight" fmla="*/ 243360 w 24300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43224" h="556261">
                <a:moveTo>
                  <a:pt x="182263" y="0"/>
                </a:moveTo>
                <a:lnTo>
                  <a:pt x="175702" y="0"/>
                </a:lnTo>
                <a:lnTo>
                  <a:pt x="170912" y="4046"/>
                </a:lnTo>
                <a:lnTo>
                  <a:pt x="164131" y="14652"/>
                </a:lnTo>
                <a:lnTo>
                  <a:pt x="156989" y="21470"/>
                </a:lnTo>
                <a:lnTo>
                  <a:pt x="152713" y="24473"/>
                </a:lnTo>
                <a:lnTo>
                  <a:pt x="148170" y="28169"/>
                </a:lnTo>
                <a:lnTo>
                  <a:pt x="143447" y="32326"/>
                </a:lnTo>
                <a:lnTo>
                  <a:pt x="138607" y="36791"/>
                </a:lnTo>
                <a:lnTo>
                  <a:pt x="132838" y="41460"/>
                </a:lnTo>
                <a:lnTo>
                  <a:pt x="126454" y="46267"/>
                </a:lnTo>
                <a:lnTo>
                  <a:pt x="119657" y="51165"/>
                </a:lnTo>
                <a:lnTo>
                  <a:pt x="113432" y="56970"/>
                </a:lnTo>
                <a:lnTo>
                  <a:pt x="107589" y="63380"/>
                </a:lnTo>
                <a:lnTo>
                  <a:pt x="102001" y="70193"/>
                </a:lnTo>
                <a:lnTo>
                  <a:pt x="95735" y="77276"/>
                </a:lnTo>
                <a:lnTo>
                  <a:pt x="81999" y="91918"/>
                </a:lnTo>
                <a:lnTo>
                  <a:pt x="74781" y="100225"/>
                </a:lnTo>
                <a:lnTo>
                  <a:pt x="67428" y="109150"/>
                </a:lnTo>
                <a:lnTo>
                  <a:pt x="52485" y="128098"/>
                </a:lnTo>
                <a:lnTo>
                  <a:pt x="37378" y="147808"/>
                </a:lnTo>
                <a:lnTo>
                  <a:pt x="24454" y="165599"/>
                </a:lnTo>
                <a:lnTo>
                  <a:pt x="18637" y="173900"/>
                </a:lnTo>
                <a:lnTo>
                  <a:pt x="13912" y="182820"/>
                </a:lnTo>
                <a:lnTo>
                  <a:pt x="9916" y="192153"/>
                </a:lnTo>
                <a:lnTo>
                  <a:pt x="6405" y="201762"/>
                </a:lnTo>
                <a:lnTo>
                  <a:pt x="4064" y="211555"/>
                </a:lnTo>
                <a:lnTo>
                  <a:pt x="2504" y="221470"/>
                </a:lnTo>
                <a:lnTo>
                  <a:pt x="1463" y="231467"/>
                </a:lnTo>
                <a:lnTo>
                  <a:pt x="770" y="241518"/>
                </a:lnTo>
                <a:lnTo>
                  <a:pt x="307" y="251605"/>
                </a:lnTo>
                <a:lnTo>
                  <a:pt x="0" y="261717"/>
                </a:lnTo>
                <a:lnTo>
                  <a:pt x="641" y="272691"/>
                </a:lnTo>
                <a:lnTo>
                  <a:pt x="1915" y="284241"/>
                </a:lnTo>
                <a:lnTo>
                  <a:pt x="3611" y="296174"/>
                </a:lnTo>
                <a:lnTo>
                  <a:pt x="6434" y="307516"/>
                </a:lnTo>
                <a:lnTo>
                  <a:pt x="10011" y="318464"/>
                </a:lnTo>
                <a:lnTo>
                  <a:pt x="14088" y="329150"/>
                </a:lnTo>
                <a:lnTo>
                  <a:pt x="19347" y="339660"/>
                </a:lnTo>
                <a:lnTo>
                  <a:pt x="25392" y="350053"/>
                </a:lnTo>
                <a:lnTo>
                  <a:pt x="31962" y="360369"/>
                </a:lnTo>
                <a:lnTo>
                  <a:pt x="38882" y="370632"/>
                </a:lnTo>
                <a:lnTo>
                  <a:pt x="53345" y="391068"/>
                </a:lnTo>
                <a:lnTo>
                  <a:pt x="75767" y="421613"/>
                </a:lnTo>
                <a:lnTo>
                  <a:pt x="85019" y="430935"/>
                </a:lnTo>
                <a:lnTo>
                  <a:pt x="95420" y="439690"/>
                </a:lnTo>
                <a:lnTo>
                  <a:pt x="138486" y="471992"/>
                </a:lnTo>
                <a:lnTo>
                  <a:pt x="148845" y="480608"/>
                </a:lnTo>
                <a:lnTo>
                  <a:pt x="159138" y="489738"/>
                </a:lnTo>
                <a:lnTo>
                  <a:pt x="177912" y="507222"/>
                </a:lnTo>
                <a:lnTo>
                  <a:pt x="191900" y="520636"/>
                </a:lnTo>
                <a:lnTo>
                  <a:pt x="198848" y="526584"/>
                </a:lnTo>
                <a:lnTo>
                  <a:pt x="206020" y="532243"/>
                </a:lnTo>
                <a:lnTo>
                  <a:pt x="213341" y="537709"/>
                </a:lnTo>
                <a:lnTo>
                  <a:pt x="219069" y="542199"/>
                </a:lnTo>
                <a:lnTo>
                  <a:pt x="223734" y="546039"/>
                </a:lnTo>
                <a:lnTo>
                  <a:pt x="231174" y="551718"/>
                </a:lnTo>
                <a:lnTo>
                  <a:pt x="234344" y="553232"/>
                </a:lnTo>
                <a:lnTo>
                  <a:pt x="243223" y="556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InkAnnotation199"/>
          <p:cNvSpPr/>
          <p:nvPr/>
        </p:nvSpPr>
        <p:spPr>
          <a:xfrm>
            <a:off x="5889600" y="3406680"/>
            <a:ext cx="347760" cy="341280"/>
          </a:xfrm>
          <a:custGeom>
            <a:avLst/>
            <a:gdLst>
              <a:gd name="textAreaLeft" fmla="*/ 0 w 347760"/>
              <a:gd name="textAreaRight" fmla="*/ 348120 w 3477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347235" h="340950">
                <a:moveTo>
                  <a:pt x="60960" y="68134"/>
                </a:moveTo>
                <a:lnTo>
                  <a:pt x="54399" y="61574"/>
                </a:lnTo>
                <a:lnTo>
                  <a:pt x="53811" y="58727"/>
                </a:lnTo>
                <a:lnTo>
                  <a:pt x="53654" y="56783"/>
                </a:lnTo>
                <a:lnTo>
                  <a:pt x="54396" y="54640"/>
                </a:lnTo>
                <a:lnTo>
                  <a:pt x="57478" y="50001"/>
                </a:lnTo>
                <a:lnTo>
                  <a:pt x="63973" y="42630"/>
                </a:lnTo>
                <a:lnTo>
                  <a:pt x="71048" y="37608"/>
                </a:lnTo>
                <a:lnTo>
                  <a:pt x="79837" y="32554"/>
                </a:lnTo>
                <a:lnTo>
                  <a:pt x="89387" y="27485"/>
                </a:lnTo>
                <a:lnTo>
                  <a:pt x="95152" y="24948"/>
                </a:lnTo>
                <a:lnTo>
                  <a:pt x="101534" y="22410"/>
                </a:lnTo>
                <a:lnTo>
                  <a:pt x="108330" y="19872"/>
                </a:lnTo>
                <a:lnTo>
                  <a:pt x="116247" y="17333"/>
                </a:lnTo>
                <a:lnTo>
                  <a:pt x="124910" y="14793"/>
                </a:lnTo>
                <a:lnTo>
                  <a:pt x="143569" y="9714"/>
                </a:lnTo>
                <a:lnTo>
                  <a:pt x="163151" y="4634"/>
                </a:lnTo>
                <a:lnTo>
                  <a:pt x="173961" y="2941"/>
                </a:lnTo>
                <a:lnTo>
                  <a:pt x="185400" y="1812"/>
                </a:lnTo>
                <a:lnTo>
                  <a:pt x="197260" y="1059"/>
                </a:lnTo>
                <a:lnTo>
                  <a:pt x="209401" y="558"/>
                </a:lnTo>
                <a:lnTo>
                  <a:pt x="234178" y="0"/>
                </a:lnTo>
                <a:lnTo>
                  <a:pt x="245865" y="698"/>
                </a:lnTo>
                <a:lnTo>
                  <a:pt x="257043" y="2010"/>
                </a:lnTo>
                <a:lnTo>
                  <a:pt x="267882" y="3731"/>
                </a:lnTo>
                <a:lnTo>
                  <a:pt x="278495" y="5726"/>
                </a:lnTo>
                <a:lnTo>
                  <a:pt x="299317" y="10199"/>
                </a:lnTo>
                <a:lnTo>
                  <a:pt x="307919" y="13424"/>
                </a:lnTo>
                <a:lnTo>
                  <a:pt x="315345" y="17267"/>
                </a:lnTo>
                <a:lnTo>
                  <a:pt x="321990" y="21523"/>
                </a:lnTo>
                <a:lnTo>
                  <a:pt x="328114" y="25206"/>
                </a:lnTo>
                <a:lnTo>
                  <a:pt x="333889" y="28509"/>
                </a:lnTo>
                <a:lnTo>
                  <a:pt x="339433" y="31558"/>
                </a:lnTo>
                <a:lnTo>
                  <a:pt x="343129" y="34437"/>
                </a:lnTo>
                <a:lnTo>
                  <a:pt x="345592" y="37202"/>
                </a:lnTo>
                <a:lnTo>
                  <a:pt x="347234" y="39893"/>
                </a:lnTo>
                <a:lnTo>
                  <a:pt x="346636" y="43380"/>
                </a:lnTo>
                <a:lnTo>
                  <a:pt x="341456" y="51770"/>
                </a:lnTo>
                <a:lnTo>
                  <a:pt x="333510" y="61143"/>
                </a:lnTo>
                <a:lnTo>
                  <a:pt x="329020" y="66013"/>
                </a:lnTo>
                <a:lnTo>
                  <a:pt x="321794" y="70954"/>
                </a:lnTo>
                <a:lnTo>
                  <a:pt x="312742" y="75941"/>
                </a:lnTo>
                <a:lnTo>
                  <a:pt x="302475" y="80958"/>
                </a:lnTo>
                <a:lnTo>
                  <a:pt x="290550" y="85997"/>
                </a:lnTo>
                <a:lnTo>
                  <a:pt x="277520" y="91049"/>
                </a:lnTo>
                <a:lnTo>
                  <a:pt x="249496" y="101179"/>
                </a:lnTo>
                <a:lnTo>
                  <a:pt x="206005" y="116401"/>
                </a:lnTo>
                <a:lnTo>
                  <a:pt x="165931" y="131636"/>
                </a:lnTo>
                <a:lnTo>
                  <a:pt x="140069" y="141795"/>
                </a:lnTo>
                <a:lnTo>
                  <a:pt x="128940" y="146875"/>
                </a:lnTo>
                <a:lnTo>
                  <a:pt x="118979" y="151955"/>
                </a:lnTo>
                <a:lnTo>
                  <a:pt x="109800" y="157034"/>
                </a:lnTo>
                <a:lnTo>
                  <a:pt x="102833" y="161268"/>
                </a:lnTo>
                <a:lnTo>
                  <a:pt x="92835" y="168229"/>
                </a:lnTo>
                <a:lnTo>
                  <a:pt x="89830" y="172117"/>
                </a:lnTo>
                <a:lnTo>
                  <a:pt x="87827" y="176403"/>
                </a:lnTo>
                <a:lnTo>
                  <a:pt x="86491" y="180953"/>
                </a:lnTo>
                <a:lnTo>
                  <a:pt x="87294" y="184834"/>
                </a:lnTo>
                <a:lnTo>
                  <a:pt x="89523" y="188267"/>
                </a:lnTo>
                <a:lnTo>
                  <a:pt x="97361" y="195187"/>
                </a:lnTo>
                <a:lnTo>
                  <a:pt x="103007" y="199402"/>
                </a:lnTo>
                <a:lnTo>
                  <a:pt x="109311" y="203906"/>
                </a:lnTo>
                <a:lnTo>
                  <a:pt x="116900" y="207755"/>
                </a:lnTo>
                <a:lnTo>
                  <a:pt x="125347" y="211168"/>
                </a:lnTo>
                <a:lnTo>
                  <a:pt x="134365" y="214290"/>
                </a:lnTo>
                <a:lnTo>
                  <a:pt x="143763" y="217218"/>
                </a:lnTo>
                <a:lnTo>
                  <a:pt x="174864" y="226231"/>
                </a:lnTo>
                <a:lnTo>
                  <a:pt x="213807" y="238403"/>
                </a:lnTo>
                <a:lnTo>
                  <a:pt x="236701" y="244845"/>
                </a:lnTo>
                <a:lnTo>
                  <a:pt x="245854" y="248595"/>
                </a:lnTo>
                <a:lnTo>
                  <a:pt x="253649" y="252788"/>
                </a:lnTo>
                <a:lnTo>
                  <a:pt x="260539" y="257276"/>
                </a:lnTo>
                <a:lnTo>
                  <a:pt x="266826" y="261116"/>
                </a:lnTo>
                <a:lnTo>
                  <a:pt x="272711" y="264522"/>
                </a:lnTo>
                <a:lnTo>
                  <a:pt x="278327" y="267639"/>
                </a:lnTo>
                <a:lnTo>
                  <a:pt x="282072" y="270564"/>
                </a:lnTo>
                <a:lnTo>
                  <a:pt x="284568" y="273361"/>
                </a:lnTo>
                <a:lnTo>
                  <a:pt x="286232" y="276072"/>
                </a:lnTo>
                <a:lnTo>
                  <a:pt x="285648" y="278726"/>
                </a:lnTo>
                <a:lnTo>
                  <a:pt x="283565" y="281342"/>
                </a:lnTo>
                <a:lnTo>
                  <a:pt x="276736" y="286507"/>
                </a:lnTo>
                <a:lnTo>
                  <a:pt x="268056" y="291624"/>
                </a:lnTo>
                <a:lnTo>
                  <a:pt x="261678" y="294174"/>
                </a:lnTo>
                <a:lnTo>
                  <a:pt x="254037" y="296721"/>
                </a:lnTo>
                <a:lnTo>
                  <a:pt x="245558" y="299265"/>
                </a:lnTo>
                <a:lnTo>
                  <a:pt x="227107" y="304350"/>
                </a:lnTo>
                <a:lnTo>
                  <a:pt x="217444" y="306892"/>
                </a:lnTo>
                <a:lnTo>
                  <a:pt x="195420" y="311973"/>
                </a:lnTo>
                <a:lnTo>
                  <a:pt x="86007" y="334834"/>
                </a:lnTo>
                <a:lnTo>
                  <a:pt x="75118" y="337374"/>
                </a:lnTo>
                <a:lnTo>
                  <a:pt x="65319" y="339068"/>
                </a:lnTo>
                <a:lnTo>
                  <a:pt x="56246" y="340197"/>
                </a:lnTo>
                <a:lnTo>
                  <a:pt x="47657" y="340949"/>
                </a:lnTo>
                <a:lnTo>
                  <a:pt x="40238" y="340604"/>
                </a:lnTo>
                <a:lnTo>
                  <a:pt x="33599" y="339528"/>
                </a:lnTo>
                <a:lnTo>
                  <a:pt x="27479" y="337963"/>
                </a:lnTo>
                <a:lnTo>
                  <a:pt x="21706" y="336920"/>
                </a:lnTo>
                <a:lnTo>
                  <a:pt x="16164" y="336225"/>
                </a:lnTo>
                <a:lnTo>
                  <a:pt x="10776" y="335762"/>
                </a:lnTo>
                <a:lnTo>
                  <a:pt x="7184" y="334606"/>
                </a:lnTo>
                <a:lnTo>
                  <a:pt x="4790" y="332988"/>
                </a:lnTo>
                <a:lnTo>
                  <a:pt x="0" y="3272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InkAnnotation200"/>
          <p:cNvSpPr/>
          <p:nvPr/>
        </p:nvSpPr>
        <p:spPr>
          <a:xfrm>
            <a:off x="6264360" y="3413160"/>
            <a:ext cx="296640" cy="301680"/>
          </a:xfrm>
          <a:custGeom>
            <a:avLst/>
            <a:gdLst>
              <a:gd name="textAreaLeft" fmla="*/ 0 w 296640"/>
              <a:gd name="textAreaRight" fmla="*/ 297000 w 2966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96696" h="301240">
                <a:moveTo>
                  <a:pt x="159535" y="0"/>
                </a:moveTo>
                <a:lnTo>
                  <a:pt x="159535" y="11351"/>
                </a:lnTo>
                <a:lnTo>
                  <a:pt x="158688" y="13494"/>
                </a:lnTo>
                <a:lnTo>
                  <a:pt x="154298" y="20556"/>
                </a:lnTo>
                <a:lnTo>
                  <a:pt x="151774" y="28857"/>
                </a:lnTo>
                <a:lnTo>
                  <a:pt x="148184" y="37096"/>
                </a:lnTo>
                <a:lnTo>
                  <a:pt x="146041" y="42511"/>
                </a:lnTo>
                <a:lnTo>
                  <a:pt x="141403" y="55300"/>
                </a:lnTo>
                <a:lnTo>
                  <a:pt x="138133" y="62267"/>
                </a:lnTo>
                <a:lnTo>
                  <a:pt x="134261" y="69452"/>
                </a:lnTo>
                <a:lnTo>
                  <a:pt x="129986" y="76781"/>
                </a:lnTo>
                <a:lnTo>
                  <a:pt x="120720" y="91699"/>
                </a:lnTo>
                <a:lnTo>
                  <a:pt x="115879" y="99232"/>
                </a:lnTo>
                <a:lnTo>
                  <a:pt x="111804" y="106795"/>
                </a:lnTo>
                <a:lnTo>
                  <a:pt x="108240" y="114377"/>
                </a:lnTo>
                <a:lnTo>
                  <a:pt x="105019" y="121971"/>
                </a:lnTo>
                <a:lnTo>
                  <a:pt x="96923" y="139441"/>
                </a:lnTo>
                <a:lnTo>
                  <a:pt x="92394" y="148840"/>
                </a:lnTo>
                <a:lnTo>
                  <a:pt x="86834" y="158494"/>
                </a:lnTo>
                <a:lnTo>
                  <a:pt x="80588" y="168316"/>
                </a:lnTo>
                <a:lnTo>
                  <a:pt x="25000" y="251340"/>
                </a:lnTo>
                <a:lnTo>
                  <a:pt x="20738" y="258153"/>
                </a:lnTo>
                <a:lnTo>
                  <a:pt x="17050" y="264389"/>
                </a:lnTo>
                <a:lnTo>
                  <a:pt x="13745" y="270239"/>
                </a:lnTo>
                <a:lnTo>
                  <a:pt x="7815" y="278998"/>
                </a:lnTo>
                <a:lnTo>
                  <a:pt x="3204" y="285712"/>
                </a:lnTo>
                <a:lnTo>
                  <a:pt x="243" y="294664"/>
                </a:lnTo>
                <a:lnTo>
                  <a:pt x="0" y="295503"/>
                </a:lnTo>
                <a:lnTo>
                  <a:pt x="686" y="296908"/>
                </a:lnTo>
                <a:lnTo>
                  <a:pt x="3704" y="300728"/>
                </a:lnTo>
                <a:lnTo>
                  <a:pt x="5695" y="301239"/>
                </a:lnTo>
                <a:lnTo>
                  <a:pt x="7869" y="300732"/>
                </a:lnTo>
                <a:lnTo>
                  <a:pt x="10164" y="299548"/>
                </a:lnTo>
                <a:lnTo>
                  <a:pt x="17230" y="298232"/>
                </a:lnTo>
                <a:lnTo>
                  <a:pt x="21485" y="297882"/>
                </a:lnTo>
                <a:lnTo>
                  <a:pt x="26862" y="295955"/>
                </a:lnTo>
                <a:lnTo>
                  <a:pt x="32985" y="292977"/>
                </a:lnTo>
                <a:lnTo>
                  <a:pt x="39609" y="289298"/>
                </a:lnTo>
                <a:lnTo>
                  <a:pt x="46565" y="285998"/>
                </a:lnTo>
                <a:lnTo>
                  <a:pt x="53741" y="282953"/>
                </a:lnTo>
                <a:lnTo>
                  <a:pt x="61066" y="280075"/>
                </a:lnTo>
                <a:lnTo>
                  <a:pt x="69335" y="278157"/>
                </a:lnTo>
                <a:lnTo>
                  <a:pt x="78236" y="276878"/>
                </a:lnTo>
                <a:lnTo>
                  <a:pt x="87555" y="276026"/>
                </a:lnTo>
                <a:lnTo>
                  <a:pt x="97155" y="274610"/>
                </a:lnTo>
                <a:lnTo>
                  <a:pt x="106942" y="272820"/>
                </a:lnTo>
                <a:lnTo>
                  <a:pt x="116853" y="270780"/>
                </a:lnTo>
                <a:lnTo>
                  <a:pt x="127694" y="269420"/>
                </a:lnTo>
                <a:lnTo>
                  <a:pt x="139154" y="268513"/>
                </a:lnTo>
                <a:lnTo>
                  <a:pt x="161484" y="267506"/>
                </a:lnTo>
                <a:lnTo>
                  <a:pt x="179875" y="267059"/>
                </a:lnTo>
                <a:lnTo>
                  <a:pt x="258216" y="266710"/>
                </a:lnTo>
                <a:lnTo>
                  <a:pt x="264270" y="267553"/>
                </a:lnTo>
                <a:lnTo>
                  <a:pt x="273252" y="270748"/>
                </a:lnTo>
                <a:lnTo>
                  <a:pt x="282325" y="272733"/>
                </a:lnTo>
                <a:lnTo>
                  <a:pt x="296695" y="2743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InkAnnotation201"/>
          <p:cNvSpPr/>
          <p:nvPr/>
        </p:nvSpPr>
        <p:spPr>
          <a:xfrm>
            <a:off x="6629400" y="3521160"/>
            <a:ext cx="282600" cy="52200"/>
          </a:xfrm>
          <a:custGeom>
            <a:avLst/>
            <a:gdLst>
              <a:gd name="textAreaLeft" fmla="*/ 0 w 282600"/>
              <a:gd name="textAreaRight" fmla="*/ 282960 w 2826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81941" h="53341">
                <a:moveTo>
                  <a:pt x="0" y="53340"/>
                </a:moveTo>
                <a:lnTo>
                  <a:pt x="11572" y="53340"/>
                </a:lnTo>
                <a:lnTo>
                  <a:pt x="13642" y="52493"/>
                </a:lnTo>
                <a:lnTo>
                  <a:pt x="15868" y="51083"/>
                </a:lnTo>
                <a:lnTo>
                  <a:pt x="18198" y="49295"/>
                </a:lnTo>
                <a:lnTo>
                  <a:pt x="21446" y="48103"/>
                </a:lnTo>
                <a:lnTo>
                  <a:pt x="29570" y="46779"/>
                </a:lnTo>
                <a:lnTo>
                  <a:pt x="34953" y="45580"/>
                </a:lnTo>
                <a:lnTo>
                  <a:pt x="41082" y="43933"/>
                </a:lnTo>
                <a:lnTo>
                  <a:pt x="47708" y="41989"/>
                </a:lnTo>
                <a:lnTo>
                  <a:pt x="53819" y="39846"/>
                </a:lnTo>
                <a:lnTo>
                  <a:pt x="59586" y="37570"/>
                </a:lnTo>
                <a:lnTo>
                  <a:pt x="65125" y="35207"/>
                </a:lnTo>
                <a:lnTo>
                  <a:pt x="72203" y="33631"/>
                </a:lnTo>
                <a:lnTo>
                  <a:pt x="80309" y="32581"/>
                </a:lnTo>
                <a:lnTo>
                  <a:pt x="89100" y="31881"/>
                </a:lnTo>
                <a:lnTo>
                  <a:pt x="98347" y="31414"/>
                </a:lnTo>
                <a:lnTo>
                  <a:pt x="117652" y="30895"/>
                </a:lnTo>
                <a:lnTo>
                  <a:pt x="127541" y="29910"/>
                </a:lnTo>
                <a:lnTo>
                  <a:pt x="137521" y="28407"/>
                </a:lnTo>
                <a:lnTo>
                  <a:pt x="185962" y="19911"/>
                </a:lnTo>
                <a:lnTo>
                  <a:pt x="198482" y="18354"/>
                </a:lnTo>
                <a:lnTo>
                  <a:pt x="210214" y="17316"/>
                </a:lnTo>
                <a:lnTo>
                  <a:pt x="221423" y="16624"/>
                </a:lnTo>
                <a:lnTo>
                  <a:pt x="231436" y="15316"/>
                </a:lnTo>
                <a:lnTo>
                  <a:pt x="240650" y="13597"/>
                </a:lnTo>
                <a:lnTo>
                  <a:pt x="249334" y="11604"/>
                </a:lnTo>
                <a:lnTo>
                  <a:pt x="256816" y="9430"/>
                </a:lnTo>
                <a:lnTo>
                  <a:pt x="263497" y="7133"/>
                </a:lnTo>
                <a:lnTo>
                  <a:pt x="2819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InkAnnotation202"/>
          <p:cNvSpPr/>
          <p:nvPr/>
        </p:nvSpPr>
        <p:spPr>
          <a:xfrm>
            <a:off x="7010280" y="3421080"/>
            <a:ext cx="38160" cy="236520"/>
          </a:xfrm>
          <a:custGeom>
            <a:avLst/>
            <a:gdLst>
              <a:gd name="textAreaLeft" fmla="*/ 0 w 38160"/>
              <a:gd name="textAreaRight" fmla="*/ 38520 w 381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37950" h="236221">
                <a:moveTo>
                  <a:pt x="30422" y="0"/>
                </a:moveTo>
                <a:lnTo>
                  <a:pt x="30422" y="4045"/>
                </a:lnTo>
                <a:lnTo>
                  <a:pt x="31269" y="5237"/>
                </a:lnTo>
                <a:lnTo>
                  <a:pt x="32680" y="6031"/>
                </a:lnTo>
                <a:lnTo>
                  <a:pt x="34468" y="6561"/>
                </a:lnTo>
                <a:lnTo>
                  <a:pt x="35659" y="7760"/>
                </a:lnTo>
                <a:lnTo>
                  <a:pt x="36454" y="9407"/>
                </a:lnTo>
                <a:lnTo>
                  <a:pt x="36984" y="11352"/>
                </a:lnTo>
                <a:lnTo>
                  <a:pt x="37571" y="18027"/>
                </a:lnTo>
                <a:lnTo>
                  <a:pt x="37729" y="22178"/>
                </a:lnTo>
                <a:lnTo>
                  <a:pt x="37949" y="36111"/>
                </a:lnTo>
                <a:lnTo>
                  <a:pt x="37134" y="41854"/>
                </a:lnTo>
                <a:lnTo>
                  <a:pt x="35743" y="48222"/>
                </a:lnTo>
                <a:lnTo>
                  <a:pt x="33969" y="55008"/>
                </a:lnTo>
                <a:lnTo>
                  <a:pt x="31940" y="61226"/>
                </a:lnTo>
                <a:lnTo>
                  <a:pt x="29741" y="67064"/>
                </a:lnTo>
                <a:lnTo>
                  <a:pt x="27428" y="72649"/>
                </a:lnTo>
                <a:lnTo>
                  <a:pt x="25885" y="78913"/>
                </a:lnTo>
                <a:lnTo>
                  <a:pt x="24859" y="85629"/>
                </a:lnTo>
                <a:lnTo>
                  <a:pt x="24173" y="92646"/>
                </a:lnTo>
                <a:lnTo>
                  <a:pt x="22869" y="99864"/>
                </a:lnTo>
                <a:lnTo>
                  <a:pt x="21154" y="107216"/>
                </a:lnTo>
                <a:lnTo>
                  <a:pt x="19163" y="114657"/>
                </a:lnTo>
                <a:lnTo>
                  <a:pt x="17836" y="122158"/>
                </a:lnTo>
                <a:lnTo>
                  <a:pt x="16952" y="129699"/>
                </a:lnTo>
                <a:lnTo>
                  <a:pt x="16362" y="137266"/>
                </a:lnTo>
                <a:lnTo>
                  <a:pt x="14275" y="144851"/>
                </a:lnTo>
                <a:lnTo>
                  <a:pt x="11191" y="152447"/>
                </a:lnTo>
                <a:lnTo>
                  <a:pt x="7442" y="160051"/>
                </a:lnTo>
                <a:lnTo>
                  <a:pt x="4942" y="166815"/>
                </a:lnTo>
                <a:lnTo>
                  <a:pt x="3275" y="173016"/>
                </a:lnTo>
                <a:lnTo>
                  <a:pt x="2164" y="178844"/>
                </a:lnTo>
                <a:lnTo>
                  <a:pt x="1423" y="184423"/>
                </a:lnTo>
                <a:lnTo>
                  <a:pt x="930" y="189835"/>
                </a:lnTo>
                <a:lnTo>
                  <a:pt x="601" y="195137"/>
                </a:lnTo>
                <a:lnTo>
                  <a:pt x="235" y="205543"/>
                </a:lnTo>
                <a:lnTo>
                  <a:pt x="0" y="221976"/>
                </a:lnTo>
                <a:lnTo>
                  <a:pt x="828" y="225031"/>
                </a:lnTo>
                <a:lnTo>
                  <a:pt x="2226" y="227914"/>
                </a:lnTo>
                <a:lnTo>
                  <a:pt x="7562" y="236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InkAnnotation203"/>
          <p:cNvSpPr/>
          <p:nvPr/>
        </p:nvSpPr>
        <p:spPr>
          <a:xfrm>
            <a:off x="7202520" y="3390840"/>
            <a:ext cx="142920" cy="158760"/>
          </a:xfrm>
          <a:custGeom>
            <a:avLst/>
            <a:gdLst>
              <a:gd name="textAreaLeft" fmla="*/ 0 w 142920"/>
              <a:gd name="textAreaRight" fmla="*/ 143280 w 142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42327" h="159220">
                <a:moveTo>
                  <a:pt x="119933" y="7619"/>
                </a:moveTo>
                <a:lnTo>
                  <a:pt x="119933" y="313"/>
                </a:lnTo>
                <a:lnTo>
                  <a:pt x="123978" y="92"/>
                </a:lnTo>
                <a:lnTo>
                  <a:pt x="127460" y="1"/>
                </a:lnTo>
                <a:lnTo>
                  <a:pt x="123480" y="0"/>
                </a:lnTo>
                <a:lnTo>
                  <a:pt x="121451" y="846"/>
                </a:lnTo>
                <a:lnTo>
                  <a:pt x="119252" y="2257"/>
                </a:lnTo>
                <a:lnTo>
                  <a:pt x="116939" y="4044"/>
                </a:lnTo>
                <a:lnTo>
                  <a:pt x="113704" y="6929"/>
                </a:lnTo>
                <a:lnTo>
                  <a:pt x="105593" y="14650"/>
                </a:lnTo>
                <a:lnTo>
                  <a:pt x="91508" y="28517"/>
                </a:lnTo>
                <a:lnTo>
                  <a:pt x="85743" y="33404"/>
                </a:lnTo>
                <a:lnTo>
                  <a:pt x="79358" y="38356"/>
                </a:lnTo>
                <a:lnTo>
                  <a:pt x="72563" y="43350"/>
                </a:lnTo>
                <a:lnTo>
                  <a:pt x="58240" y="53415"/>
                </a:lnTo>
                <a:lnTo>
                  <a:pt x="50864" y="58469"/>
                </a:lnTo>
                <a:lnTo>
                  <a:pt x="44254" y="64380"/>
                </a:lnTo>
                <a:lnTo>
                  <a:pt x="38154" y="70859"/>
                </a:lnTo>
                <a:lnTo>
                  <a:pt x="32393" y="77719"/>
                </a:lnTo>
                <a:lnTo>
                  <a:pt x="26859" y="83986"/>
                </a:lnTo>
                <a:lnTo>
                  <a:pt x="16196" y="95464"/>
                </a:lnTo>
                <a:lnTo>
                  <a:pt x="11828" y="100896"/>
                </a:lnTo>
                <a:lnTo>
                  <a:pt x="8070" y="106210"/>
                </a:lnTo>
                <a:lnTo>
                  <a:pt x="4718" y="111446"/>
                </a:lnTo>
                <a:lnTo>
                  <a:pt x="2482" y="116631"/>
                </a:lnTo>
                <a:lnTo>
                  <a:pt x="993" y="121780"/>
                </a:lnTo>
                <a:lnTo>
                  <a:pt x="0" y="126906"/>
                </a:lnTo>
                <a:lnTo>
                  <a:pt x="184" y="131170"/>
                </a:lnTo>
                <a:lnTo>
                  <a:pt x="1154" y="134860"/>
                </a:lnTo>
                <a:lnTo>
                  <a:pt x="2647" y="138167"/>
                </a:lnTo>
                <a:lnTo>
                  <a:pt x="5335" y="142064"/>
                </a:lnTo>
                <a:lnTo>
                  <a:pt x="8822" y="146356"/>
                </a:lnTo>
                <a:lnTo>
                  <a:pt x="12838" y="150910"/>
                </a:lnTo>
                <a:lnTo>
                  <a:pt x="17210" y="153947"/>
                </a:lnTo>
                <a:lnTo>
                  <a:pt x="21818" y="155970"/>
                </a:lnTo>
                <a:lnTo>
                  <a:pt x="26583" y="157320"/>
                </a:lnTo>
                <a:lnTo>
                  <a:pt x="32299" y="158220"/>
                </a:lnTo>
                <a:lnTo>
                  <a:pt x="38651" y="158819"/>
                </a:lnTo>
                <a:lnTo>
                  <a:pt x="45425" y="159219"/>
                </a:lnTo>
                <a:lnTo>
                  <a:pt x="52480" y="158639"/>
                </a:lnTo>
                <a:lnTo>
                  <a:pt x="59725" y="157406"/>
                </a:lnTo>
                <a:lnTo>
                  <a:pt x="67094" y="155737"/>
                </a:lnTo>
                <a:lnTo>
                  <a:pt x="73701" y="153778"/>
                </a:lnTo>
                <a:lnTo>
                  <a:pt x="79798" y="151625"/>
                </a:lnTo>
                <a:lnTo>
                  <a:pt x="85556" y="149343"/>
                </a:lnTo>
                <a:lnTo>
                  <a:pt x="91936" y="146128"/>
                </a:lnTo>
                <a:lnTo>
                  <a:pt x="98728" y="142292"/>
                </a:lnTo>
                <a:lnTo>
                  <a:pt x="105796" y="138041"/>
                </a:lnTo>
                <a:lnTo>
                  <a:pt x="111355" y="133514"/>
                </a:lnTo>
                <a:lnTo>
                  <a:pt x="115908" y="128802"/>
                </a:lnTo>
                <a:lnTo>
                  <a:pt x="119790" y="123968"/>
                </a:lnTo>
                <a:lnTo>
                  <a:pt x="123224" y="118205"/>
                </a:lnTo>
                <a:lnTo>
                  <a:pt x="126360" y="111822"/>
                </a:lnTo>
                <a:lnTo>
                  <a:pt x="129298" y="105028"/>
                </a:lnTo>
                <a:lnTo>
                  <a:pt x="132103" y="97958"/>
                </a:lnTo>
                <a:lnTo>
                  <a:pt x="137478" y="83330"/>
                </a:lnTo>
                <a:lnTo>
                  <a:pt x="139249" y="76720"/>
                </a:lnTo>
                <a:lnTo>
                  <a:pt x="140431" y="70619"/>
                </a:lnTo>
                <a:lnTo>
                  <a:pt x="141218" y="64859"/>
                </a:lnTo>
                <a:lnTo>
                  <a:pt x="141743" y="60172"/>
                </a:lnTo>
                <a:lnTo>
                  <a:pt x="142093" y="56201"/>
                </a:lnTo>
                <a:lnTo>
                  <a:pt x="142326" y="52707"/>
                </a:lnTo>
                <a:lnTo>
                  <a:pt x="141635" y="49531"/>
                </a:lnTo>
                <a:lnTo>
                  <a:pt x="140327" y="46567"/>
                </a:lnTo>
                <a:lnTo>
                  <a:pt x="138609" y="43745"/>
                </a:lnTo>
                <a:lnTo>
                  <a:pt x="136618" y="41016"/>
                </a:lnTo>
                <a:lnTo>
                  <a:pt x="134442" y="38351"/>
                </a:lnTo>
                <a:lnTo>
                  <a:pt x="132145" y="35727"/>
                </a:lnTo>
                <a:lnTo>
                  <a:pt x="129768" y="33978"/>
                </a:lnTo>
                <a:lnTo>
                  <a:pt x="127336" y="32811"/>
                </a:lnTo>
                <a:lnTo>
                  <a:pt x="121395" y="30940"/>
                </a:lnTo>
                <a:lnTo>
                  <a:pt x="120061" y="31633"/>
                </a:lnTo>
                <a:lnTo>
                  <a:pt x="118325" y="32942"/>
                </a:lnTo>
                <a:lnTo>
                  <a:pt x="112313" y="380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InkAnnotation204"/>
          <p:cNvSpPr/>
          <p:nvPr/>
        </p:nvSpPr>
        <p:spPr>
          <a:xfrm>
            <a:off x="7172280" y="3551400"/>
            <a:ext cx="225360" cy="125280"/>
          </a:xfrm>
          <a:custGeom>
            <a:avLst/>
            <a:gdLst>
              <a:gd name="textAreaLeft" fmla="*/ 0 w 225360"/>
              <a:gd name="textAreaRight" fmla="*/ 225720 w 2253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25259" h="124924">
                <a:moveTo>
                  <a:pt x="120255" y="7307"/>
                </a:moveTo>
                <a:lnTo>
                  <a:pt x="116210" y="7307"/>
                </a:lnTo>
                <a:lnTo>
                  <a:pt x="114172" y="6460"/>
                </a:lnTo>
                <a:lnTo>
                  <a:pt x="109650" y="3261"/>
                </a:lnTo>
                <a:lnTo>
                  <a:pt x="106388" y="745"/>
                </a:lnTo>
                <a:lnTo>
                  <a:pt x="103367" y="157"/>
                </a:lnTo>
                <a:lnTo>
                  <a:pt x="101376" y="0"/>
                </a:lnTo>
                <a:lnTo>
                  <a:pt x="94649" y="2084"/>
                </a:lnTo>
                <a:lnTo>
                  <a:pt x="90485" y="3825"/>
                </a:lnTo>
                <a:lnTo>
                  <a:pt x="86015" y="5832"/>
                </a:lnTo>
                <a:lnTo>
                  <a:pt x="76533" y="10320"/>
                </a:lnTo>
                <a:lnTo>
                  <a:pt x="71634" y="11855"/>
                </a:lnTo>
                <a:lnTo>
                  <a:pt x="66673" y="12879"/>
                </a:lnTo>
                <a:lnTo>
                  <a:pt x="61674" y="13562"/>
                </a:lnTo>
                <a:lnTo>
                  <a:pt x="55802" y="14863"/>
                </a:lnTo>
                <a:lnTo>
                  <a:pt x="49346" y="16577"/>
                </a:lnTo>
                <a:lnTo>
                  <a:pt x="42503" y="18567"/>
                </a:lnTo>
                <a:lnTo>
                  <a:pt x="36246" y="21587"/>
                </a:lnTo>
                <a:lnTo>
                  <a:pt x="30382" y="25293"/>
                </a:lnTo>
                <a:lnTo>
                  <a:pt x="24780" y="29458"/>
                </a:lnTo>
                <a:lnTo>
                  <a:pt x="20199" y="33927"/>
                </a:lnTo>
                <a:lnTo>
                  <a:pt x="16297" y="38600"/>
                </a:lnTo>
                <a:lnTo>
                  <a:pt x="12850" y="43409"/>
                </a:lnTo>
                <a:lnTo>
                  <a:pt x="9705" y="48308"/>
                </a:lnTo>
                <a:lnTo>
                  <a:pt x="6762" y="53267"/>
                </a:lnTo>
                <a:lnTo>
                  <a:pt x="3953" y="58267"/>
                </a:lnTo>
                <a:lnTo>
                  <a:pt x="2080" y="63293"/>
                </a:lnTo>
                <a:lnTo>
                  <a:pt x="832" y="68338"/>
                </a:lnTo>
                <a:lnTo>
                  <a:pt x="0" y="73394"/>
                </a:lnTo>
                <a:lnTo>
                  <a:pt x="291" y="77611"/>
                </a:lnTo>
                <a:lnTo>
                  <a:pt x="1332" y="81269"/>
                </a:lnTo>
                <a:lnTo>
                  <a:pt x="2874" y="84555"/>
                </a:lnTo>
                <a:lnTo>
                  <a:pt x="5595" y="88439"/>
                </a:lnTo>
                <a:lnTo>
                  <a:pt x="9101" y="92721"/>
                </a:lnTo>
                <a:lnTo>
                  <a:pt x="13132" y="97270"/>
                </a:lnTo>
                <a:lnTo>
                  <a:pt x="17513" y="101148"/>
                </a:lnTo>
                <a:lnTo>
                  <a:pt x="22127" y="104581"/>
                </a:lnTo>
                <a:lnTo>
                  <a:pt x="26897" y="107716"/>
                </a:lnTo>
                <a:lnTo>
                  <a:pt x="34310" y="110653"/>
                </a:lnTo>
                <a:lnTo>
                  <a:pt x="43485" y="113457"/>
                </a:lnTo>
                <a:lnTo>
                  <a:pt x="53835" y="116174"/>
                </a:lnTo>
                <a:lnTo>
                  <a:pt x="72108" y="121449"/>
                </a:lnTo>
                <a:lnTo>
                  <a:pt x="80537" y="124041"/>
                </a:lnTo>
                <a:lnTo>
                  <a:pt x="89544" y="124923"/>
                </a:lnTo>
                <a:lnTo>
                  <a:pt x="98934" y="124664"/>
                </a:lnTo>
                <a:lnTo>
                  <a:pt x="108581" y="123645"/>
                </a:lnTo>
                <a:lnTo>
                  <a:pt x="117552" y="122965"/>
                </a:lnTo>
                <a:lnTo>
                  <a:pt x="126073" y="122512"/>
                </a:lnTo>
                <a:lnTo>
                  <a:pt x="134295" y="122210"/>
                </a:lnTo>
                <a:lnTo>
                  <a:pt x="142314" y="120316"/>
                </a:lnTo>
                <a:lnTo>
                  <a:pt x="150201" y="117359"/>
                </a:lnTo>
                <a:lnTo>
                  <a:pt x="157999" y="113695"/>
                </a:lnTo>
                <a:lnTo>
                  <a:pt x="165738" y="109558"/>
                </a:lnTo>
                <a:lnTo>
                  <a:pt x="173437" y="105108"/>
                </a:lnTo>
                <a:lnTo>
                  <a:pt x="181110" y="100447"/>
                </a:lnTo>
                <a:lnTo>
                  <a:pt x="187918" y="95647"/>
                </a:lnTo>
                <a:lnTo>
                  <a:pt x="194151" y="90753"/>
                </a:lnTo>
                <a:lnTo>
                  <a:pt x="199999" y="85797"/>
                </a:lnTo>
                <a:lnTo>
                  <a:pt x="204743" y="80801"/>
                </a:lnTo>
                <a:lnTo>
                  <a:pt x="208754" y="75776"/>
                </a:lnTo>
                <a:lnTo>
                  <a:pt x="212274" y="70733"/>
                </a:lnTo>
                <a:lnTo>
                  <a:pt x="215468" y="65677"/>
                </a:lnTo>
                <a:lnTo>
                  <a:pt x="218444" y="60614"/>
                </a:lnTo>
                <a:lnTo>
                  <a:pt x="221274" y="55544"/>
                </a:lnTo>
                <a:lnTo>
                  <a:pt x="223161" y="50472"/>
                </a:lnTo>
                <a:lnTo>
                  <a:pt x="224419" y="45397"/>
                </a:lnTo>
                <a:lnTo>
                  <a:pt x="225258" y="40320"/>
                </a:lnTo>
                <a:lnTo>
                  <a:pt x="224970" y="36089"/>
                </a:lnTo>
                <a:lnTo>
                  <a:pt x="223933" y="32421"/>
                </a:lnTo>
                <a:lnTo>
                  <a:pt x="222393" y="29130"/>
                </a:lnTo>
                <a:lnTo>
                  <a:pt x="221367" y="26089"/>
                </a:lnTo>
                <a:lnTo>
                  <a:pt x="220683" y="23214"/>
                </a:lnTo>
                <a:lnTo>
                  <a:pt x="220227" y="20452"/>
                </a:lnTo>
                <a:lnTo>
                  <a:pt x="219077" y="17763"/>
                </a:lnTo>
                <a:lnTo>
                  <a:pt x="217463" y="15125"/>
                </a:lnTo>
                <a:lnTo>
                  <a:pt x="211695" y="73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InkAnnotation205"/>
          <p:cNvSpPr/>
          <p:nvPr/>
        </p:nvSpPr>
        <p:spPr>
          <a:xfrm>
            <a:off x="7459560" y="3314880"/>
            <a:ext cx="136800" cy="502920"/>
          </a:xfrm>
          <a:custGeom>
            <a:avLst/>
            <a:gdLst>
              <a:gd name="textAreaLeft" fmla="*/ 0 w 136800"/>
              <a:gd name="textAreaRight" fmla="*/ 137160 w 1368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135525" h="502921">
                <a:moveTo>
                  <a:pt x="38100" y="0"/>
                </a:moveTo>
                <a:lnTo>
                  <a:pt x="42146" y="0"/>
                </a:lnTo>
                <a:lnTo>
                  <a:pt x="43337" y="847"/>
                </a:lnTo>
                <a:lnTo>
                  <a:pt x="44132" y="2258"/>
                </a:lnTo>
                <a:lnTo>
                  <a:pt x="44662" y="4045"/>
                </a:lnTo>
                <a:lnTo>
                  <a:pt x="45860" y="5237"/>
                </a:lnTo>
                <a:lnTo>
                  <a:pt x="47507" y="6031"/>
                </a:lnTo>
                <a:lnTo>
                  <a:pt x="49451" y="6561"/>
                </a:lnTo>
                <a:lnTo>
                  <a:pt x="50748" y="7760"/>
                </a:lnTo>
                <a:lnTo>
                  <a:pt x="51612" y="9407"/>
                </a:lnTo>
                <a:lnTo>
                  <a:pt x="55085" y="18027"/>
                </a:lnTo>
                <a:lnTo>
                  <a:pt x="57044" y="22178"/>
                </a:lnTo>
                <a:lnTo>
                  <a:pt x="60043" y="27486"/>
                </a:lnTo>
                <a:lnTo>
                  <a:pt x="63735" y="33563"/>
                </a:lnTo>
                <a:lnTo>
                  <a:pt x="67890" y="40156"/>
                </a:lnTo>
                <a:lnTo>
                  <a:pt x="72353" y="47937"/>
                </a:lnTo>
                <a:lnTo>
                  <a:pt x="81828" y="65614"/>
                </a:lnTo>
                <a:lnTo>
                  <a:pt x="96683" y="94607"/>
                </a:lnTo>
                <a:lnTo>
                  <a:pt x="101708" y="105404"/>
                </a:lnTo>
                <a:lnTo>
                  <a:pt x="111808" y="128691"/>
                </a:lnTo>
                <a:lnTo>
                  <a:pt x="116026" y="140827"/>
                </a:lnTo>
                <a:lnTo>
                  <a:pt x="119684" y="153152"/>
                </a:lnTo>
                <a:lnTo>
                  <a:pt x="122970" y="165601"/>
                </a:lnTo>
                <a:lnTo>
                  <a:pt x="126007" y="179828"/>
                </a:lnTo>
                <a:lnTo>
                  <a:pt x="128878" y="195238"/>
                </a:lnTo>
                <a:lnTo>
                  <a:pt x="131639" y="211439"/>
                </a:lnTo>
                <a:lnTo>
                  <a:pt x="133480" y="227319"/>
                </a:lnTo>
                <a:lnTo>
                  <a:pt x="134706" y="242987"/>
                </a:lnTo>
                <a:lnTo>
                  <a:pt x="135524" y="258511"/>
                </a:lnTo>
                <a:lnTo>
                  <a:pt x="135222" y="273094"/>
                </a:lnTo>
                <a:lnTo>
                  <a:pt x="134175" y="287050"/>
                </a:lnTo>
                <a:lnTo>
                  <a:pt x="132630" y="300586"/>
                </a:lnTo>
                <a:lnTo>
                  <a:pt x="130753" y="313844"/>
                </a:lnTo>
                <a:lnTo>
                  <a:pt x="126410" y="339865"/>
                </a:lnTo>
                <a:lnTo>
                  <a:pt x="123221" y="352730"/>
                </a:lnTo>
                <a:lnTo>
                  <a:pt x="119400" y="365540"/>
                </a:lnTo>
                <a:lnTo>
                  <a:pt x="115160" y="378313"/>
                </a:lnTo>
                <a:lnTo>
                  <a:pt x="110640" y="390216"/>
                </a:lnTo>
                <a:lnTo>
                  <a:pt x="105933" y="401538"/>
                </a:lnTo>
                <a:lnTo>
                  <a:pt x="101103" y="412472"/>
                </a:lnTo>
                <a:lnTo>
                  <a:pt x="95341" y="422301"/>
                </a:lnTo>
                <a:lnTo>
                  <a:pt x="88962" y="431394"/>
                </a:lnTo>
                <a:lnTo>
                  <a:pt x="82167" y="439996"/>
                </a:lnTo>
                <a:lnTo>
                  <a:pt x="75099" y="447424"/>
                </a:lnTo>
                <a:lnTo>
                  <a:pt x="67847" y="454070"/>
                </a:lnTo>
                <a:lnTo>
                  <a:pt x="60471" y="460193"/>
                </a:lnTo>
                <a:lnTo>
                  <a:pt x="53013" y="465969"/>
                </a:lnTo>
                <a:lnTo>
                  <a:pt x="45502" y="471513"/>
                </a:lnTo>
                <a:lnTo>
                  <a:pt x="37955" y="476902"/>
                </a:lnTo>
                <a:lnTo>
                  <a:pt x="31230" y="481342"/>
                </a:lnTo>
                <a:lnTo>
                  <a:pt x="25054" y="485148"/>
                </a:lnTo>
                <a:lnTo>
                  <a:pt x="19243" y="488532"/>
                </a:lnTo>
                <a:lnTo>
                  <a:pt x="14522" y="491635"/>
                </a:lnTo>
                <a:lnTo>
                  <a:pt x="10528" y="494550"/>
                </a:lnTo>
                <a:lnTo>
                  <a:pt x="0" y="5029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InkAnnotation206"/>
          <p:cNvSpPr/>
          <p:nvPr/>
        </p:nvSpPr>
        <p:spPr>
          <a:xfrm>
            <a:off x="7826400" y="3368520"/>
            <a:ext cx="90360" cy="304920"/>
          </a:xfrm>
          <a:custGeom>
            <a:avLst/>
            <a:gdLst>
              <a:gd name="textAreaLeft" fmla="*/ 0 w 90360"/>
              <a:gd name="textAreaRight" fmla="*/ 90720 w 90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91297" h="304801">
                <a:moveTo>
                  <a:pt x="91296" y="0"/>
                </a:moveTo>
                <a:lnTo>
                  <a:pt x="83769" y="0"/>
                </a:lnTo>
                <a:lnTo>
                  <a:pt x="83704" y="8091"/>
                </a:lnTo>
                <a:lnTo>
                  <a:pt x="83684" y="21212"/>
                </a:lnTo>
                <a:lnTo>
                  <a:pt x="82836" y="26841"/>
                </a:lnTo>
                <a:lnTo>
                  <a:pt x="81422" y="33134"/>
                </a:lnTo>
                <a:lnTo>
                  <a:pt x="79633" y="39869"/>
                </a:lnTo>
                <a:lnTo>
                  <a:pt x="75388" y="54127"/>
                </a:lnTo>
                <a:lnTo>
                  <a:pt x="73071" y="61484"/>
                </a:lnTo>
                <a:lnTo>
                  <a:pt x="68239" y="78691"/>
                </a:lnTo>
                <a:lnTo>
                  <a:pt x="65765" y="88021"/>
                </a:lnTo>
                <a:lnTo>
                  <a:pt x="62421" y="97627"/>
                </a:lnTo>
                <a:lnTo>
                  <a:pt x="58500" y="107418"/>
                </a:lnTo>
                <a:lnTo>
                  <a:pt x="54192" y="117332"/>
                </a:lnTo>
                <a:lnTo>
                  <a:pt x="44890" y="137379"/>
                </a:lnTo>
                <a:lnTo>
                  <a:pt x="25121" y="177843"/>
                </a:lnTo>
                <a:lnTo>
                  <a:pt x="20932" y="187142"/>
                </a:lnTo>
                <a:lnTo>
                  <a:pt x="17294" y="195882"/>
                </a:lnTo>
                <a:lnTo>
                  <a:pt x="14021" y="204248"/>
                </a:lnTo>
                <a:lnTo>
                  <a:pt x="8127" y="220317"/>
                </a:lnTo>
                <a:lnTo>
                  <a:pt x="5371" y="228158"/>
                </a:lnTo>
                <a:lnTo>
                  <a:pt x="3532" y="235926"/>
                </a:lnTo>
                <a:lnTo>
                  <a:pt x="2307" y="243644"/>
                </a:lnTo>
                <a:lnTo>
                  <a:pt x="1489" y="251329"/>
                </a:lnTo>
                <a:lnTo>
                  <a:pt x="945" y="258146"/>
                </a:lnTo>
                <a:lnTo>
                  <a:pt x="582" y="264384"/>
                </a:lnTo>
                <a:lnTo>
                  <a:pt x="179" y="275831"/>
                </a:lnTo>
                <a:lnTo>
                  <a:pt x="0" y="286563"/>
                </a:lnTo>
                <a:lnTo>
                  <a:pt x="799" y="290101"/>
                </a:lnTo>
                <a:lnTo>
                  <a:pt x="2178" y="292461"/>
                </a:lnTo>
                <a:lnTo>
                  <a:pt x="3944" y="294034"/>
                </a:lnTo>
                <a:lnTo>
                  <a:pt x="5121" y="295929"/>
                </a:lnTo>
                <a:lnTo>
                  <a:pt x="7476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InkAnnotation207"/>
          <p:cNvSpPr/>
          <p:nvPr/>
        </p:nvSpPr>
        <p:spPr>
          <a:xfrm>
            <a:off x="7848720" y="3505320"/>
            <a:ext cx="144360" cy="15840"/>
          </a:xfrm>
          <a:custGeom>
            <a:avLst/>
            <a:gdLst>
              <a:gd name="textAreaLeft" fmla="*/ 0 w 144360"/>
              <a:gd name="textAreaRight" fmla="*/ 144720 w 1443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4781" h="15241">
                <a:moveTo>
                  <a:pt x="0" y="15240"/>
                </a:moveTo>
                <a:lnTo>
                  <a:pt x="0" y="7934"/>
                </a:lnTo>
                <a:lnTo>
                  <a:pt x="4045" y="7713"/>
                </a:lnTo>
                <a:lnTo>
                  <a:pt x="51442" y="7622"/>
                </a:lnTo>
                <a:lnTo>
                  <a:pt x="60541" y="6775"/>
                </a:lnTo>
                <a:lnTo>
                  <a:pt x="69994" y="5363"/>
                </a:lnTo>
                <a:lnTo>
                  <a:pt x="79683" y="3576"/>
                </a:lnTo>
                <a:lnTo>
                  <a:pt x="88682" y="2384"/>
                </a:lnTo>
                <a:lnTo>
                  <a:pt x="97221" y="1589"/>
                </a:lnTo>
                <a:lnTo>
                  <a:pt x="105454" y="1060"/>
                </a:lnTo>
                <a:lnTo>
                  <a:pt x="113482" y="707"/>
                </a:lnTo>
                <a:lnTo>
                  <a:pt x="1447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InkAnnotation208"/>
          <p:cNvSpPr/>
          <p:nvPr/>
        </p:nvSpPr>
        <p:spPr>
          <a:xfrm>
            <a:off x="8123400" y="3382920"/>
            <a:ext cx="158760" cy="247680"/>
          </a:xfrm>
          <a:custGeom>
            <a:avLst/>
            <a:gdLst>
              <a:gd name="textAreaLeft" fmla="*/ 0 w 158760"/>
              <a:gd name="textAreaRight" fmla="*/ 159120 w 1587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59092" h="247016">
                <a:moveTo>
                  <a:pt x="0" y="22737"/>
                </a:moveTo>
                <a:lnTo>
                  <a:pt x="11351" y="11386"/>
                </a:lnTo>
                <a:lnTo>
                  <a:pt x="14341" y="9243"/>
                </a:lnTo>
                <a:lnTo>
                  <a:pt x="18026" y="6968"/>
                </a:lnTo>
                <a:lnTo>
                  <a:pt x="22178" y="4604"/>
                </a:lnTo>
                <a:lnTo>
                  <a:pt x="26638" y="3029"/>
                </a:lnTo>
                <a:lnTo>
                  <a:pt x="31306" y="1978"/>
                </a:lnTo>
                <a:lnTo>
                  <a:pt x="36111" y="1278"/>
                </a:lnTo>
                <a:lnTo>
                  <a:pt x="41006" y="811"/>
                </a:lnTo>
                <a:lnTo>
                  <a:pt x="45964" y="500"/>
                </a:lnTo>
                <a:lnTo>
                  <a:pt x="50963" y="292"/>
                </a:lnTo>
                <a:lnTo>
                  <a:pt x="63290" y="62"/>
                </a:lnTo>
                <a:lnTo>
                  <a:pt x="70133" y="0"/>
                </a:lnTo>
                <a:lnTo>
                  <a:pt x="77235" y="806"/>
                </a:lnTo>
                <a:lnTo>
                  <a:pt x="84510" y="2190"/>
                </a:lnTo>
                <a:lnTo>
                  <a:pt x="91900" y="3959"/>
                </a:lnTo>
                <a:lnTo>
                  <a:pt x="99367" y="5985"/>
                </a:lnTo>
                <a:lnTo>
                  <a:pt x="114436" y="10494"/>
                </a:lnTo>
                <a:lnTo>
                  <a:pt x="121164" y="12882"/>
                </a:lnTo>
                <a:lnTo>
                  <a:pt x="127344" y="15320"/>
                </a:lnTo>
                <a:lnTo>
                  <a:pt x="133156" y="17792"/>
                </a:lnTo>
                <a:lnTo>
                  <a:pt x="138725" y="21134"/>
                </a:lnTo>
                <a:lnTo>
                  <a:pt x="144129" y="25055"/>
                </a:lnTo>
                <a:lnTo>
                  <a:pt x="149426" y="29363"/>
                </a:lnTo>
                <a:lnTo>
                  <a:pt x="152958" y="33081"/>
                </a:lnTo>
                <a:lnTo>
                  <a:pt x="156882" y="39470"/>
                </a:lnTo>
                <a:lnTo>
                  <a:pt x="157928" y="43206"/>
                </a:lnTo>
                <a:lnTo>
                  <a:pt x="158626" y="47390"/>
                </a:lnTo>
                <a:lnTo>
                  <a:pt x="159091" y="51872"/>
                </a:lnTo>
                <a:lnTo>
                  <a:pt x="157707" y="56554"/>
                </a:lnTo>
                <a:lnTo>
                  <a:pt x="155091" y="61368"/>
                </a:lnTo>
                <a:lnTo>
                  <a:pt x="151654" y="66271"/>
                </a:lnTo>
                <a:lnTo>
                  <a:pt x="147670" y="71233"/>
                </a:lnTo>
                <a:lnTo>
                  <a:pt x="143320" y="76234"/>
                </a:lnTo>
                <a:lnTo>
                  <a:pt x="138727" y="81262"/>
                </a:lnTo>
                <a:lnTo>
                  <a:pt x="132278" y="86307"/>
                </a:lnTo>
                <a:lnTo>
                  <a:pt x="124592" y="91364"/>
                </a:lnTo>
                <a:lnTo>
                  <a:pt x="116082" y="96428"/>
                </a:lnTo>
                <a:lnTo>
                  <a:pt x="99853" y="106571"/>
                </a:lnTo>
                <a:lnTo>
                  <a:pt x="91968" y="111646"/>
                </a:lnTo>
                <a:lnTo>
                  <a:pt x="84172" y="117570"/>
                </a:lnTo>
                <a:lnTo>
                  <a:pt x="76435" y="124059"/>
                </a:lnTo>
                <a:lnTo>
                  <a:pt x="68737" y="130925"/>
                </a:lnTo>
                <a:lnTo>
                  <a:pt x="53410" y="145327"/>
                </a:lnTo>
                <a:lnTo>
                  <a:pt x="26919" y="171224"/>
                </a:lnTo>
                <a:lnTo>
                  <a:pt x="22179" y="176762"/>
                </a:lnTo>
                <a:lnTo>
                  <a:pt x="18173" y="182147"/>
                </a:lnTo>
                <a:lnTo>
                  <a:pt x="14655" y="187430"/>
                </a:lnTo>
                <a:lnTo>
                  <a:pt x="12310" y="192646"/>
                </a:lnTo>
                <a:lnTo>
                  <a:pt x="10747" y="197816"/>
                </a:lnTo>
                <a:lnTo>
                  <a:pt x="9705" y="202957"/>
                </a:lnTo>
                <a:lnTo>
                  <a:pt x="9009" y="208077"/>
                </a:lnTo>
                <a:lnTo>
                  <a:pt x="8546" y="213184"/>
                </a:lnTo>
                <a:lnTo>
                  <a:pt x="8237" y="218281"/>
                </a:lnTo>
                <a:lnTo>
                  <a:pt x="8878" y="222527"/>
                </a:lnTo>
                <a:lnTo>
                  <a:pt x="11849" y="229501"/>
                </a:lnTo>
                <a:lnTo>
                  <a:pt x="15519" y="232546"/>
                </a:lnTo>
                <a:lnTo>
                  <a:pt x="20505" y="235423"/>
                </a:lnTo>
                <a:lnTo>
                  <a:pt x="26370" y="238188"/>
                </a:lnTo>
                <a:lnTo>
                  <a:pt x="32820" y="240878"/>
                </a:lnTo>
                <a:lnTo>
                  <a:pt x="39660" y="243517"/>
                </a:lnTo>
                <a:lnTo>
                  <a:pt x="46760" y="246124"/>
                </a:lnTo>
                <a:lnTo>
                  <a:pt x="54880" y="247015"/>
                </a:lnTo>
                <a:lnTo>
                  <a:pt x="63680" y="246762"/>
                </a:lnTo>
                <a:lnTo>
                  <a:pt x="72933" y="245747"/>
                </a:lnTo>
                <a:lnTo>
                  <a:pt x="83336" y="244224"/>
                </a:lnTo>
                <a:lnTo>
                  <a:pt x="106182" y="240273"/>
                </a:lnTo>
                <a:lnTo>
                  <a:pt x="116508" y="238881"/>
                </a:lnTo>
                <a:lnTo>
                  <a:pt x="125932" y="237953"/>
                </a:lnTo>
                <a:lnTo>
                  <a:pt x="152400" y="23609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InkAnnotation209"/>
          <p:cNvSpPr/>
          <p:nvPr/>
        </p:nvSpPr>
        <p:spPr>
          <a:xfrm>
            <a:off x="8373960" y="3413160"/>
            <a:ext cx="198720" cy="258840"/>
          </a:xfrm>
          <a:custGeom>
            <a:avLst/>
            <a:gdLst>
              <a:gd name="textAreaLeft" fmla="*/ 0 w 198720"/>
              <a:gd name="textAreaRight" fmla="*/ 199080 w 1987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97736" h="258586">
                <a:moveTo>
                  <a:pt x="144395" y="0"/>
                </a:moveTo>
                <a:lnTo>
                  <a:pt x="140350" y="0"/>
                </a:lnTo>
                <a:lnTo>
                  <a:pt x="140004" y="847"/>
                </a:lnTo>
                <a:lnTo>
                  <a:pt x="140621" y="2258"/>
                </a:lnTo>
                <a:lnTo>
                  <a:pt x="141879" y="4045"/>
                </a:lnTo>
                <a:lnTo>
                  <a:pt x="143277" y="8289"/>
                </a:lnTo>
                <a:lnTo>
                  <a:pt x="143650" y="10606"/>
                </a:lnTo>
                <a:lnTo>
                  <a:pt x="143052" y="12998"/>
                </a:lnTo>
                <a:lnTo>
                  <a:pt x="140129" y="17912"/>
                </a:lnTo>
                <a:lnTo>
                  <a:pt x="139011" y="22102"/>
                </a:lnTo>
                <a:lnTo>
                  <a:pt x="138267" y="27434"/>
                </a:lnTo>
                <a:lnTo>
                  <a:pt x="137769" y="33529"/>
                </a:lnTo>
                <a:lnTo>
                  <a:pt x="135744" y="39287"/>
                </a:lnTo>
                <a:lnTo>
                  <a:pt x="132701" y="44818"/>
                </a:lnTo>
                <a:lnTo>
                  <a:pt x="115650" y="69907"/>
                </a:lnTo>
                <a:lnTo>
                  <a:pt x="109992" y="77085"/>
                </a:lnTo>
                <a:lnTo>
                  <a:pt x="103680" y="84410"/>
                </a:lnTo>
                <a:lnTo>
                  <a:pt x="96932" y="91833"/>
                </a:lnTo>
                <a:lnTo>
                  <a:pt x="90740" y="100169"/>
                </a:lnTo>
                <a:lnTo>
                  <a:pt x="84918" y="109113"/>
                </a:lnTo>
                <a:lnTo>
                  <a:pt x="79343" y="118462"/>
                </a:lnTo>
                <a:lnTo>
                  <a:pt x="73087" y="127235"/>
                </a:lnTo>
                <a:lnTo>
                  <a:pt x="66376" y="135623"/>
                </a:lnTo>
                <a:lnTo>
                  <a:pt x="59363" y="143755"/>
                </a:lnTo>
                <a:lnTo>
                  <a:pt x="52993" y="152564"/>
                </a:lnTo>
                <a:lnTo>
                  <a:pt x="47054" y="161823"/>
                </a:lnTo>
                <a:lnTo>
                  <a:pt x="41401" y="171382"/>
                </a:lnTo>
                <a:lnTo>
                  <a:pt x="32862" y="186519"/>
                </a:lnTo>
                <a:lnTo>
                  <a:pt x="29400" y="192926"/>
                </a:lnTo>
                <a:lnTo>
                  <a:pt x="25398" y="199737"/>
                </a:lnTo>
                <a:lnTo>
                  <a:pt x="16436" y="214079"/>
                </a:lnTo>
                <a:lnTo>
                  <a:pt x="13370" y="220613"/>
                </a:lnTo>
                <a:lnTo>
                  <a:pt x="11324" y="226662"/>
                </a:lnTo>
                <a:lnTo>
                  <a:pt x="9961" y="232388"/>
                </a:lnTo>
                <a:lnTo>
                  <a:pt x="8206" y="237052"/>
                </a:lnTo>
                <a:lnTo>
                  <a:pt x="3998" y="244492"/>
                </a:lnTo>
                <a:lnTo>
                  <a:pt x="1562" y="250621"/>
                </a:lnTo>
                <a:lnTo>
                  <a:pt x="0" y="257409"/>
                </a:lnTo>
                <a:lnTo>
                  <a:pt x="718" y="257966"/>
                </a:lnTo>
                <a:lnTo>
                  <a:pt x="3774" y="258585"/>
                </a:lnTo>
                <a:lnTo>
                  <a:pt x="6621" y="257903"/>
                </a:lnTo>
                <a:lnTo>
                  <a:pt x="10212" y="256603"/>
                </a:lnTo>
                <a:lnTo>
                  <a:pt x="14300" y="254889"/>
                </a:lnTo>
                <a:lnTo>
                  <a:pt x="19565" y="252899"/>
                </a:lnTo>
                <a:lnTo>
                  <a:pt x="32189" y="248430"/>
                </a:lnTo>
                <a:lnTo>
                  <a:pt x="39958" y="246053"/>
                </a:lnTo>
                <a:lnTo>
                  <a:pt x="57621" y="241155"/>
                </a:lnTo>
                <a:lnTo>
                  <a:pt x="66225" y="237817"/>
                </a:lnTo>
                <a:lnTo>
                  <a:pt x="74501" y="233898"/>
                </a:lnTo>
                <a:lnTo>
                  <a:pt x="82560" y="229592"/>
                </a:lnTo>
                <a:lnTo>
                  <a:pt x="92165" y="225875"/>
                </a:lnTo>
                <a:lnTo>
                  <a:pt x="102801" y="222550"/>
                </a:lnTo>
                <a:lnTo>
                  <a:pt x="114126" y="219486"/>
                </a:lnTo>
                <a:lnTo>
                  <a:pt x="133482" y="213825"/>
                </a:lnTo>
                <a:lnTo>
                  <a:pt x="142200" y="211130"/>
                </a:lnTo>
                <a:lnTo>
                  <a:pt x="149705" y="209333"/>
                </a:lnTo>
                <a:lnTo>
                  <a:pt x="156402" y="208136"/>
                </a:lnTo>
                <a:lnTo>
                  <a:pt x="162560" y="207337"/>
                </a:lnTo>
                <a:lnTo>
                  <a:pt x="168358" y="206805"/>
                </a:lnTo>
                <a:lnTo>
                  <a:pt x="173918" y="206450"/>
                </a:lnTo>
                <a:lnTo>
                  <a:pt x="179318" y="206214"/>
                </a:lnTo>
                <a:lnTo>
                  <a:pt x="183764" y="205209"/>
                </a:lnTo>
                <a:lnTo>
                  <a:pt x="187574" y="203693"/>
                </a:lnTo>
                <a:lnTo>
                  <a:pt x="197735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InkAnnotation210"/>
          <p:cNvSpPr/>
          <p:nvPr/>
        </p:nvSpPr>
        <p:spPr>
          <a:xfrm>
            <a:off x="5334120" y="3132000"/>
            <a:ext cx="815760" cy="250920"/>
          </a:xfrm>
          <a:custGeom>
            <a:avLst/>
            <a:gdLst>
              <a:gd name="textAreaLeft" fmla="*/ 0 w 815760"/>
              <a:gd name="textAreaRight" fmla="*/ 816120 w 8157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815342" h="251099">
                <a:moveTo>
                  <a:pt x="0" y="182518"/>
                </a:moveTo>
                <a:lnTo>
                  <a:pt x="0" y="178473"/>
                </a:lnTo>
                <a:lnTo>
                  <a:pt x="846" y="177281"/>
                </a:lnTo>
                <a:lnTo>
                  <a:pt x="2258" y="176487"/>
                </a:lnTo>
                <a:lnTo>
                  <a:pt x="4045" y="175958"/>
                </a:lnTo>
                <a:lnTo>
                  <a:pt x="8289" y="173111"/>
                </a:lnTo>
                <a:lnTo>
                  <a:pt x="13844" y="169024"/>
                </a:lnTo>
                <a:lnTo>
                  <a:pt x="21958" y="164385"/>
                </a:lnTo>
                <a:lnTo>
                  <a:pt x="28950" y="157244"/>
                </a:lnTo>
                <a:lnTo>
                  <a:pt x="32000" y="152968"/>
                </a:lnTo>
                <a:lnTo>
                  <a:pt x="39905" y="145961"/>
                </a:lnTo>
                <a:lnTo>
                  <a:pt x="129588" y="85967"/>
                </a:lnTo>
                <a:lnTo>
                  <a:pt x="138885" y="80897"/>
                </a:lnTo>
                <a:lnTo>
                  <a:pt x="149317" y="75824"/>
                </a:lnTo>
                <a:lnTo>
                  <a:pt x="160505" y="70749"/>
                </a:lnTo>
                <a:lnTo>
                  <a:pt x="170504" y="66519"/>
                </a:lnTo>
                <a:lnTo>
                  <a:pt x="188386" y="59561"/>
                </a:lnTo>
                <a:lnTo>
                  <a:pt x="197558" y="55673"/>
                </a:lnTo>
                <a:lnTo>
                  <a:pt x="216779" y="46838"/>
                </a:lnTo>
                <a:lnTo>
                  <a:pt x="236611" y="39525"/>
                </a:lnTo>
                <a:lnTo>
                  <a:pt x="257561" y="32606"/>
                </a:lnTo>
                <a:lnTo>
                  <a:pt x="280982" y="23886"/>
                </a:lnTo>
                <a:lnTo>
                  <a:pt x="305504" y="16624"/>
                </a:lnTo>
                <a:lnTo>
                  <a:pt x="329666" y="11421"/>
                </a:lnTo>
                <a:lnTo>
                  <a:pt x="362310" y="7645"/>
                </a:lnTo>
                <a:lnTo>
                  <a:pt x="383136" y="3761"/>
                </a:lnTo>
                <a:lnTo>
                  <a:pt x="405938" y="1471"/>
                </a:lnTo>
                <a:lnTo>
                  <a:pt x="429337" y="453"/>
                </a:lnTo>
                <a:lnTo>
                  <a:pt x="451026" y="0"/>
                </a:lnTo>
                <a:lnTo>
                  <a:pt x="471954" y="2057"/>
                </a:lnTo>
                <a:lnTo>
                  <a:pt x="492544" y="5793"/>
                </a:lnTo>
                <a:lnTo>
                  <a:pt x="512984" y="10276"/>
                </a:lnTo>
                <a:lnTo>
                  <a:pt x="543532" y="17560"/>
                </a:lnTo>
                <a:lnTo>
                  <a:pt x="563868" y="24819"/>
                </a:lnTo>
                <a:lnTo>
                  <a:pt x="574032" y="29125"/>
                </a:lnTo>
                <a:lnTo>
                  <a:pt x="583348" y="33690"/>
                </a:lnTo>
                <a:lnTo>
                  <a:pt x="592099" y="38426"/>
                </a:lnTo>
                <a:lnTo>
                  <a:pt x="600473" y="43277"/>
                </a:lnTo>
                <a:lnTo>
                  <a:pt x="616550" y="53182"/>
                </a:lnTo>
                <a:lnTo>
                  <a:pt x="647569" y="73338"/>
                </a:lnTo>
                <a:lnTo>
                  <a:pt x="655232" y="80098"/>
                </a:lnTo>
                <a:lnTo>
                  <a:pt x="662882" y="87992"/>
                </a:lnTo>
                <a:lnTo>
                  <a:pt x="670521" y="96640"/>
                </a:lnTo>
                <a:lnTo>
                  <a:pt x="678154" y="104100"/>
                </a:lnTo>
                <a:lnTo>
                  <a:pt x="685783" y="110766"/>
                </a:lnTo>
                <a:lnTo>
                  <a:pt x="693409" y="116903"/>
                </a:lnTo>
                <a:lnTo>
                  <a:pt x="701032" y="123535"/>
                </a:lnTo>
                <a:lnTo>
                  <a:pt x="708655" y="130496"/>
                </a:lnTo>
                <a:lnTo>
                  <a:pt x="716278" y="137677"/>
                </a:lnTo>
                <a:lnTo>
                  <a:pt x="723052" y="145004"/>
                </a:lnTo>
                <a:lnTo>
                  <a:pt x="729261" y="152429"/>
                </a:lnTo>
                <a:lnTo>
                  <a:pt x="735095" y="159918"/>
                </a:lnTo>
                <a:lnTo>
                  <a:pt x="740676" y="166605"/>
                </a:lnTo>
                <a:lnTo>
                  <a:pt x="746092" y="172756"/>
                </a:lnTo>
                <a:lnTo>
                  <a:pt x="751395" y="178550"/>
                </a:lnTo>
                <a:lnTo>
                  <a:pt x="764060" y="191761"/>
                </a:lnTo>
                <a:lnTo>
                  <a:pt x="770994" y="198840"/>
                </a:lnTo>
                <a:lnTo>
                  <a:pt x="776462" y="205253"/>
                </a:lnTo>
                <a:lnTo>
                  <a:pt x="780956" y="211221"/>
                </a:lnTo>
                <a:lnTo>
                  <a:pt x="784797" y="216893"/>
                </a:lnTo>
                <a:lnTo>
                  <a:pt x="789051" y="222369"/>
                </a:lnTo>
                <a:lnTo>
                  <a:pt x="793581" y="227711"/>
                </a:lnTo>
                <a:lnTo>
                  <a:pt x="802284" y="237317"/>
                </a:lnTo>
                <a:lnTo>
                  <a:pt x="815341" y="25109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InkAnnotation211"/>
          <p:cNvSpPr/>
          <p:nvPr/>
        </p:nvSpPr>
        <p:spPr>
          <a:xfrm>
            <a:off x="5410080" y="3078000"/>
            <a:ext cx="1866960" cy="33516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866901" h="335244">
                <a:moveTo>
                  <a:pt x="0" y="281903"/>
                </a:moveTo>
                <a:lnTo>
                  <a:pt x="0" y="277858"/>
                </a:lnTo>
                <a:lnTo>
                  <a:pt x="846" y="275820"/>
                </a:lnTo>
                <a:lnTo>
                  <a:pt x="5237" y="268906"/>
                </a:lnTo>
                <a:lnTo>
                  <a:pt x="7760" y="261495"/>
                </a:lnTo>
                <a:lnTo>
                  <a:pt x="14341" y="253090"/>
                </a:lnTo>
                <a:lnTo>
                  <a:pt x="22178" y="244826"/>
                </a:lnTo>
                <a:lnTo>
                  <a:pt x="44403" y="222290"/>
                </a:lnTo>
                <a:lnTo>
                  <a:pt x="51626" y="212793"/>
                </a:lnTo>
                <a:lnTo>
                  <a:pt x="58505" y="202927"/>
                </a:lnTo>
                <a:lnTo>
                  <a:pt x="67207" y="192898"/>
                </a:lnTo>
                <a:lnTo>
                  <a:pt x="76719" y="185054"/>
                </a:lnTo>
                <a:lnTo>
                  <a:pt x="100668" y="169074"/>
                </a:lnTo>
                <a:lnTo>
                  <a:pt x="112757" y="159508"/>
                </a:lnTo>
                <a:lnTo>
                  <a:pt x="123775" y="149612"/>
                </a:lnTo>
                <a:lnTo>
                  <a:pt x="134315" y="139569"/>
                </a:lnTo>
                <a:lnTo>
                  <a:pt x="146903" y="129461"/>
                </a:lnTo>
                <a:lnTo>
                  <a:pt x="160963" y="120171"/>
                </a:lnTo>
                <a:lnTo>
                  <a:pt x="175679" y="113220"/>
                </a:lnTo>
                <a:lnTo>
                  <a:pt x="192944" y="105051"/>
                </a:lnTo>
                <a:lnTo>
                  <a:pt x="231623" y="86009"/>
                </a:lnTo>
                <a:lnTo>
                  <a:pt x="251675" y="78281"/>
                </a:lnTo>
                <a:lnTo>
                  <a:pt x="272723" y="71178"/>
                </a:lnTo>
                <a:lnTo>
                  <a:pt x="296187" y="62376"/>
                </a:lnTo>
                <a:lnTo>
                  <a:pt x="333199" y="51946"/>
                </a:lnTo>
                <a:lnTo>
                  <a:pt x="370976" y="43494"/>
                </a:lnTo>
                <a:lnTo>
                  <a:pt x="447052" y="27934"/>
                </a:lnTo>
                <a:lnTo>
                  <a:pt x="504773" y="18596"/>
                </a:lnTo>
                <a:lnTo>
                  <a:pt x="554175" y="15362"/>
                </a:lnTo>
                <a:lnTo>
                  <a:pt x="602209" y="9418"/>
                </a:lnTo>
                <a:lnTo>
                  <a:pt x="654447" y="3140"/>
                </a:lnTo>
                <a:lnTo>
                  <a:pt x="712446" y="905"/>
                </a:lnTo>
                <a:lnTo>
                  <a:pt x="827993" y="46"/>
                </a:lnTo>
                <a:lnTo>
                  <a:pt x="867248" y="0"/>
                </a:lnTo>
                <a:lnTo>
                  <a:pt x="907273" y="2237"/>
                </a:lnTo>
                <a:lnTo>
                  <a:pt x="947639" y="6054"/>
                </a:lnTo>
                <a:lnTo>
                  <a:pt x="1007599" y="12963"/>
                </a:lnTo>
                <a:lnTo>
                  <a:pt x="1103428" y="25403"/>
                </a:lnTo>
                <a:lnTo>
                  <a:pt x="1141217" y="32718"/>
                </a:lnTo>
                <a:lnTo>
                  <a:pt x="1277962" y="66136"/>
                </a:lnTo>
                <a:lnTo>
                  <a:pt x="1316155" y="73965"/>
                </a:lnTo>
                <a:lnTo>
                  <a:pt x="1352884" y="81959"/>
                </a:lnTo>
                <a:lnTo>
                  <a:pt x="1370976" y="87647"/>
                </a:lnTo>
                <a:lnTo>
                  <a:pt x="1388964" y="93979"/>
                </a:lnTo>
                <a:lnTo>
                  <a:pt x="1424755" y="105530"/>
                </a:lnTo>
                <a:lnTo>
                  <a:pt x="1496024" y="126743"/>
                </a:lnTo>
                <a:lnTo>
                  <a:pt x="1512970" y="132743"/>
                </a:lnTo>
                <a:lnTo>
                  <a:pt x="1529347" y="139283"/>
                </a:lnTo>
                <a:lnTo>
                  <a:pt x="1545344" y="146183"/>
                </a:lnTo>
                <a:lnTo>
                  <a:pt x="1576667" y="160623"/>
                </a:lnTo>
                <a:lnTo>
                  <a:pt x="1653452" y="198167"/>
                </a:lnTo>
                <a:lnTo>
                  <a:pt x="1683981" y="213361"/>
                </a:lnTo>
                <a:lnTo>
                  <a:pt x="1698388" y="220968"/>
                </a:lnTo>
                <a:lnTo>
                  <a:pt x="1725684" y="236194"/>
                </a:lnTo>
                <a:lnTo>
                  <a:pt x="1738042" y="243810"/>
                </a:lnTo>
                <a:lnTo>
                  <a:pt x="1749668" y="251428"/>
                </a:lnTo>
                <a:lnTo>
                  <a:pt x="1760806" y="259046"/>
                </a:lnTo>
                <a:lnTo>
                  <a:pt x="1784469" y="274285"/>
                </a:lnTo>
                <a:lnTo>
                  <a:pt x="1834154" y="304763"/>
                </a:lnTo>
                <a:lnTo>
                  <a:pt x="1843377" y="311537"/>
                </a:lnTo>
                <a:lnTo>
                  <a:pt x="1850371" y="317745"/>
                </a:lnTo>
                <a:lnTo>
                  <a:pt x="1866900" y="3352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InkAnnotation212"/>
          <p:cNvSpPr/>
          <p:nvPr/>
        </p:nvSpPr>
        <p:spPr>
          <a:xfrm>
            <a:off x="4106880" y="4060800"/>
            <a:ext cx="209520" cy="212760"/>
          </a:xfrm>
          <a:custGeom>
            <a:avLst/>
            <a:gdLst>
              <a:gd name="textAreaLeft" fmla="*/ 0 w 209520"/>
              <a:gd name="textAreaRight" fmla="*/ 209880 w 2095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8717" h="211584">
                <a:moveTo>
                  <a:pt x="0" y="30352"/>
                </a:moveTo>
                <a:lnTo>
                  <a:pt x="0" y="26306"/>
                </a:lnTo>
                <a:lnTo>
                  <a:pt x="846" y="25115"/>
                </a:lnTo>
                <a:lnTo>
                  <a:pt x="2258" y="24320"/>
                </a:lnTo>
                <a:lnTo>
                  <a:pt x="8608" y="22094"/>
                </a:lnTo>
                <a:lnTo>
                  <a:pt x="15397" y="18779"/>
                </a:lnTo>
                <a:lnTo>
                  <a:pt x="20425" y="16710"/>
                </a:lnTo>
                <a:lnTo>
                  <a:pt x="26316" y="14484"/>
                </a:lnTo>
                <a:lnTo>
                  <a:pt x="39636" y="9753"/>
                </a:lnTo>
                <a:lnTo>
                  <a:pt x="54023" y="4828"/>
                </a:lnTo>
                <a:lnTo>
                  <a:pt x="62262" y="3175"/>
                </a:lnTo>
                <a:lnTo>
                  <a:pt x="71141" y="2074"/>
                </a:lnTo>
                <a:lnTo>
                  <a:pt x="80448" y="1339"/>
                </a:lnTo>
                <a:lnTo>
                  <a:pt x="90038" y="850"/>
                </a:lnTo>
                <a:lnTo>
                  <a:pt x="109726" y="307"/>
                </a:lnTo>
                <a:lnTo>
                  <a:pt x="139851" y="0"/>
                </a:lnTo>
                <a:lnTo>
                  <a:pt x="149114" y="804"/>
                </a:lnTo>
                <a:lnTo>
                  <a:pt x="157829" y="2186"/>
                </a:lnTo>
                <a:lnTo>
                  <a:pt x="166180" y="3955"/>
                </a:lnTo>
                <a:lnTo>
                  <a:pt x="173440" y="5134"/>
                </a:lnTo>
                <a:lnTo>
                  <a:pt x="179973" y="5919"/>
                </a:lnTo>
                <a:lnTo>
                  <a:pt x="186023" y="6444"/>
                </a:lnTo>
                <a:lnTo>
                  <a:pt x="190902" y="7639"/>
                </a:lnTo>
                <a:lnTo>
                  <a:pt x="195002" y="9283"/>
                </a:lnTo>
                <a:lnTo>
                  <a:pt x="198581" y="11226"/>
                </a:lnTo>
                <a:lnTo>
                  <a:pt x="201814" y="14215"/>
                </a:lnTo>
                <a:lnTo>
                  <a:pt x="204816" y="17900"/>
                </a:lnTo>
                <a:lnTo>
                  <a:pt x="207664" y="22050"/>
                </a:lnTo>
                <a:lnTo>
                  <a:pt x="208716" y="25664"/>
                </a:lnTo>
                <a:lnTo>
                  <a:pt x="208571" y="28919"/>
                </a:lnTo>
                <a:lnTo>
                  <a:pt x="207627" y="31937"/>
                </a:lnTo>
                <a:lnTo>
                  <a:pt x="205305" y="35642"/>
                </a:lnTo>
                <a:lnTo>
                  <a:pt x="202064" y="39805"/>
                </a:lnTo>
                <a:lnTo>
                  <a:pt x="198209" y="44274"/>
                </a:lnTo>
                <a:lnTo>
                  <a:pt x="192253" y="48946"/>
                </a:lnTo>
                <a:lnTo>
                  <a:pt x="184895" y="53755"/>
                </a:lnTo>
                <a:lnTo>
                  <a:pt x="176604" y="58653"/>
                </a:lnTo>
                <a:lnTo>
                  <a:pt x="160618" y="68612"/>
                </a:lnTo>
                <a:lnTo>
                  <a:pt x="152799" y="73638"/>
                </a:lnTo>
                <a:lnTo>
                  <a:pt x="144199" y="79529"/>
                </a:lnTo>
                <a:lnTo>
                  <a:pt x="125613" y="92848"/>
                </a:lnTo>
                <a:lnTo>
                  <a:pt x="115916" y="99109"/>
                </a:lnTo>
                <a:lnTo>
                  <a:pt x="106064" y="104976"/>
                </a:lnTo>
                <a:lnTo>
                  <a:pt x="96109" y="110581"/>
                </a:lnTo>
                <a:lnTo>
                  <a:pt x="86933" y="116858"/>
                </a:lnTo>
                <a:lnTo>
                  <a:pt x="78276" y="123583"/>
                </a:lnTo>
                <a:lnTo>
                  <a:pt x="69964" y="130606"/>
                </a:lnTo>
                <a:lnTo>
                  <a:pt x="62729" y="137828"/>
                </a:lnTo>
                <a:lnTo>
                  <a:pt x="56213" y="145182"/>
                </a:lnTo>
                <a:lnTo>
                  <a:pt x="50175" y="152625"/>
                </a:lnTo>
                <a:lnTo>
                  <a:pt x="46150" y="159280"/>
                </a:lnTo>
                <a:lnTo>
                  <a:pt x="43467" y="165411"/>
                </a:lnTo>
                <a:lnTo>
                  <a:pt x="41678" y="171191"/>
                </a:lnTo>
                <a:lnTo>
                  <a:pt x="40485" y="176738"/>
                </a:lnTo>
                <a:lnTo>
                  <a:pt x="39691" y="182129"/>
                </a:lnTo>
                <a:lnTo>
                  <a:pt x="39160" y="187417"/>
                </a:lnTo>
                <a:lnTo>
                  <a:pt x="41347" y="191788"/>
                </a:lnTo>
                <a:lnTo>
                  <a:pt x="45345" y="195549"/>
                </a:lnTo>
                <a:lnTo>
                  <a:pt x="50550" y="198903"/>
                </a:lnTo>
                <a:lnTo>
                  <a:pt x="56560" y="201986"/>
                </a:lnTo>
                <a:lnTo>
                  <a:pt x="63107" y="204888"/>
                </a:lnTo>
                <a:lnTo>
                  <a:pt x="70011" y="207669"/>
                </a:lnTo>
                <a:lnTo>
                  <a:pt x="78001" y="209523"/>
                </a:lnTo>
                <a:lnTo>
                  <a:pt x="86714" y="210759"/>
                </a:lnTo>
                <a:lnTo>
                  <a:pt x="95909" y="211583"/>
                </a:lnTo>
                <a:lnTo>
                  <a:pt x="106273" y="211285"/>
                </a:lnTo>
                <a:lnTo>
                  <a:pt x="117416" y="210241"/>
                </a:lnTo>
                <a:lnTo>
                  <a:pt x="129077" y="208697"/>
                </a:lnTo>
                <a:lnTo>
                  <a:pt x="139391" y="207669"/>
                </a:lnTo>
                <a:lnTo>
                  <a:pt x="148808" y="206983"/>
                </a:lnTo>
                <a:lnTo>
                  <a:pt x="157625" y="206525"/>
                </a:lnTo>
                <a:lnTo>
                  <a:pt x="166044" y="205374"/>
                </a:lnTo>
                <a:lnTo>
                  <a:pt x="174196" y="203760"/>
                </a:lnTo>
                <a:lnTo>
                  <a:pt x="198121" y="1979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InkAnnotation213"/>
          <p:cNvSpPr/>
          <p:nvPr/>
        </p:nvSpPr>
        <p:spPr>
          <a:xfrm>
            <a:off x="4478400" y="3978360"/>
            <a:ext cx="176040" cy="156960"/>
          </a:xfrm>
          <a:custGeom>
            <a:avLst/>
            <a:gdLst>
              <a:gd name="textAreaLeft" fmla="*/ 0 w 176040"/>
              <a:gd name="textAreaRight" fmla="*/ 176400 w 17604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176686" h="157915">
                <a:moveTo>
                  <a:pt x="116694" y="22737"/>
                </a:moveTo>
                <a:lnTo>
                  <a:pt x="116694" y="4604"/>
                </a:lnTo>
                <a:lnTo>
                  <a:pt x="115847" y="3029"/>
                </a:lnTo>
                <a:lnTo>
                  <a:pt x="114437" y="1978"/>
                </a:lnTo>
                <a:lnTo>
                  <a:pt x="112650" y="1278"/>
                </a:lnTo>
                <a:lnTo>
                  <a:pt x="108405" y="500"/>
                </a:lnTo>
                <a:lnTo>
                  <a:pt x="106089" y="292"/>
                </a:lnTo>
                <a:lnTo>
                  <a:pt x="102850" y="154"/>
                </a:lnTo>
                <a:lnTo>
                  <a:pt x="94737" y="0"/>
                </a:lnTo>
                <a:lnTo>
                  <a:pt x="90202" y="806"/>
                </a:lnTo>
                <a:lnTo>
                  <a:pt x="85486" y="2189"/>
                </a:lnTo>
                <a:lnTo>
                  <a:pt x="80649" y="3959"/>
                </a:lnTo>
                <a:lnTo>
                  <a:pt x="75731" y="6832"/>
                </a:lnTo>
                <a:lnTo>
                  <a:pt x="70759" y="10440"/>
                </a:lnTo>
                <a:lnTo>
                  <a:pt x="65751" y="14539"/>
                </a:lnTo>
                <a:lnTo>
                  <a:pt x="59871" y="18965"/>
                </a:lnTo>
                <a:lnTo>
                  <a:pt x="46567" y="28398"/>
                </a:lnTo>
                <a:lnTo>
                  <a:pt x="40309" y="33285"/>
                </a:lnTo>
                <a:lnTo>
                  <a:pt x="34444" y="38236"/>
                </a:lnTo>
                <a:lnTo>
                  <a:pt x="28841" y="43230"/>
                </a:lnTo>
                <a:lnTo>
                  <a:pt x="23412" y="49945"/>
                </a:lnTo>
                <a:lnTo>
                  <a:pt x="18099" y="57809"/>
                </a:lnTo>
                <a:lnTo>
                  <a:pt x="12865" y="66439"/>
                </a:lnTo>
                <a:lnTo>
                  <a:pt x="8528" y="73885"/>
                </a:lnTo>
                <a:lnTo>
                  <a:pt x="1452" y="86674"/>
                </a:lnTo>
                <a:lnTo>
                  <a:pt x="72" y="93302"/>
                </a:lnTo>
                <a:lnTo>
                  <a:pt x="0" y="100260"/>
                </a:lnTo>
                <a:lnTo>
                  <a:pt x="798" y="107439"/>
                </a:lnTo>
                <a:lnTo>
                  <a:pt x="2177" y="113919"/>
                </a:lnTo>
                <a:lnTo>
                  <a:pt x="3943" y="119931"/>
                </a:lnTo>
                <a:lnTo>
                  <a:pt x="5966" y="125633"/>
                </a:lnTo>
                <a:lnTo>
                  <a:pt x="9856" y="131128"/>
                </a:lnTo>
                <a:lnTo>
                  <a:pt x="14988" y="136485"/>
                </a:lnTo>
                <a:lnTo>
                  <a:pt x="20950" y="141748"/>
                </a:lnTo>
                <a:lnTo>
                  <a:pt x="27465" y="146105"/>
                </a:lnTo>
                <a:lnTo>
                  <a:pt x="34348" y="149856"/>
                </a:lnTo>
                <a:lnTo>
                  <a:pt x="41477" y="153203"/>
                </a:lnTo>
                <a:lnTo>
                  <a:pt x="49616" y="155434"/>
                </a:lnTo>
                <a:lnTo>
                  <a:pt x="58429" y="156922"/>
                </a:lnTo>
                <a:lnTo>
                  <a:pt x="67691" y="157914"/>
                </a:lnTo>
                <a:lnTo>
                  <a:pt x="77252" y="157728"/>
                </a:lnTo>
                <a:lnTo>
                  <a:pt x="87012" y="156758"/>
                </a:lnTo>
                <a:lnTo>
                  <a:pt x="96906" y="155265"/>
                </a:lnTo>
                <a:lnTo>
                  <a:pt x="106889" y="153422"/>
                </a:lnTo>
                <a:lnTo>
                  <a:pt x="127011" y="149117"/>
                </a:lnTo>
                <a:lnTo>
                  <a:pt x="135426" y="145937"/>
                </a:lnTo>
                <a:lnTo>
                  <a:pt x="142729" y="142124"/>
                </a:lnTo>
                <a:lnTo>
                  <a:pt x="149291" y="137888"/>
                </a:lnTo>
                <a:lnTo>
                  <a:pt x="155359" y="132524"/>
                </a:lnTo>
                <a:lnTo>
                  <a:pt x="161097" y="126409"/>
                </a:lnTo>
                <a:lnTo>
                  <a:pt x="166616" y="119792"/>
                </a:lnTo>
                <a:lnTo>
                  <a:pt x="170295" y="112840"/>
                </a:lnTo>
                <a:lnTo>
                  <a:pt x="172748" y="105666"/>
                </a:lnTo>
                <a:lnTo>
                  <a:pt x="174383" y="98343"/>
                </a:lnTo>
                <a:lnTo>
                  <a:pt x="175474" y="90921"/>
                </a:lnTo>
                <a:lnTo>
                  <a:pt x="176201" y="83433"/>
                </a:lnTo>
                <a:lnTo>
                  <a:pt x="176685" y="75901"/>
                </a:lnTo>
                <a:lnTo>
                  <a:pt x="176162" y="69186"/>
                </a:lnTo>
                <a:lnTo>
                  <a:pt x="174966" y="63017"/>
                </a:lnTo>
                <a:lnTo>
                  <a:pt x="173322" y="57210"/>
                </a:lnTo>
                <a:lnTo>
                  <a:pt x="171379" y="51646"/>
                </a:lnTo>
                <a:lnTo>
                  <a:pt x="169238" y="46243"/>
                </a:lnTo>
                <a:lnTo>
                  <a:pt x="166963" y="40948"/>
                </a:lnTo>
                <a:lnTo>
                  <a:pt x="164600" y="36571"/>
                </a:lnTo>
                <a:lnTo>
                  <a:pt x="162178" y="32806"/>
                </a:lnTo>
                <a:lnTo>
                  <a:pt x="159716" y="29450"/>
                </a:lnTo>
                <a:lnTo>
                  <a:pt x="155536" y="26366"/>
                </a:lnTo>
                <a:lnTo>
                  <a:pt x="150208" y="23463"/>
                </a:lnTo>
                <a:lnTo>
                  <a:pt x="144117" y="20681"/>
                </a:lnTo>
                <a:lnTo>
                  <a:pt x="139210" y="19673"/>
                </a:lnTo>
                <a:lnTo>
                  <a:pt x="135092" y="19848"/>
                </a:lnTo>
                <a:lnTo>
                  <a:pt x="131499" y="20811"/>
                </a:lnTo>
                <a:lnTo>
                  <a:pt x="127411" y="21453"/>
                </a:lnTo>
                <a:lnTo>
                  <a:pt x="122991" y="21881"/>
                </a:lnTo>
                <a:lnTo>
                  <a:pt x="118353" y="22166"/>
                </a:lnTo>
                <a:lnTo>
                  <a:pt x="115260" y="23203"/>
                </a:lnTo>
                <a:lnTo>
                  <a:pt x="113198" y="24741"/>
                </a:lnTo>
                <a:lnTo>
                  <a:pt x="109075" y="303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InkAnnotation214"/>
          <p:cNvSpPr/>
          <p:nvPr/>
        </p:nvSpPr>
        <p:spPr>
          <a:xfrm>
            <a:off x="4459320" y="4152960"/>
            <a:ext cx="237960" cy="189000"/>
          </a:xfrm>
          <a:custGeom>
            <a:avLst/>
            <a:gdLst>
              <a:gd name="textAreaLeft" fmla="*/ 0 w 237960"/>
              <a:gd name="textAreaRight" fmla="*/ 238320 w 2379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38717" h="189600">
                <a:moveTo>
                  <a:pt x="135896" y="45720"/>
                </a:moveTo>
                <a:lnTo>
                  <a:pt x="98320" y="45720"/>
                </a:lnTo>
                <a:lnTo>
                  <a:pt x="91372" y="47413"/>
                </a:lnTo>
                <a:lnTo>
                  <a:pt x="85047" y="50236"/>
                </a:lnTo>
                <a:lnTo>
                  <a:pt x="79136" y="53811"/>
                </a:lnTo>
                <a:lnTo>
                  <a:pt x="71809" y="57041"/>
                </a:lnTo>
                <a:lnTo>
                  <a:pt x="63538" y="60041"/>
                </a:lnTo>
                <a:lnTo>
                  <a:pt x="54637" y="62887"/>
                </a:lnTo>
                <a:lnTo>
                  <a:pt x="47011" y="66478"/>
                </a:lnTo>
                <a:lnTo>
                  <a:pt x="40232" y="70565"/>
                </a:lnTo>
                <a:lnTo>
                  <a:pt x="34019" y="74984"/>
                </a:lnTo>
                <a:lnTo>
                  <a:pt x="27339" y="80470"/>
                </a:lnTo>
                <a:lnTo>
                  <a:pt x="20344" y="86666"/>
                </a:lnTo>
                <a:lnTo>
                  <a:pt x="13141" y="93337"/>
                </a:lnTo>
                <a:lnTo>
                  <a:pt x="8339" y="99478"/>
                </a:lnTo>
                <a:lnTo>
                  <a:pt x="5138" y="105266"/>
                </a:lnTo>
                <a:lnTo>
                  <a:pt x="3004" y="110817"/>
                </a:lnTo>
                <a:lnTo>
                  <a:pt x="1581" y="117058"/>
                </a:lnTo>
                <a:lnTo>
                  <a:pt x="633" y="123759"/>
                </a:lnTo>
                <a:lnTo>
                  <a:pt x="0" y="130766"/>
                </a:lnTo>
                <a:lnTo>
                  <a:pt x="2119" y="137130"/>
                </a:lnTo>
                <a:lnTo>
                  <a:pt x="6071" y="143067"/>
                </a:lnTo>
                <a:lnTo>
                  <a:pt x="11246" y="148718"/>
                </a:lnTo>
                <a:lnTo>
                  <a:pt x="17236" y="154179"/>
                </a:lnTo>
                <a:lnTo>
                  <a:pt x="23769" y="159512"/>
                </a:lnTo>
                <a:lnTo>
                  <a:pt x="30664" y="164762"/>
                </a:lnTo>
                <a:lnTo>
                  <a:pt x="39495" y="169954"/>
                </a:lnTo>
                <a:lnTo>
                  <a:pt x="49615" y="175109"/>
                </a:lnTo>
                <a:lnTo>
                  <a:pt x="60595" y="180240"/>
                </a:lnTo>
                <a:lnTo>
                  <a:pt x="72149" y="183660"/>
                </a:lnTo>
                <a:lnTo>
                  <a:pt x="84084" y="185940"/>
                </a:lnTo>
                <a:lnTo>
                  <a:pt x="96275" y="187460"/>
                </a:lnTo>
                <a:lnTo>
                  <a:pt x="107788" y="188473"/>
                </a:lnTo>
                <a:lnTo>
                  <a:pt x="118851" y="189149"/>
                </a:lnTo>
                <a:lnTo>
                  <a:pt x="129612" y="189599"/>
                </a:lnTo>
                <a:lnTo>
                  <a:pt x="140173" y="189053"/>
                </a:lnTo>
                <a:lnTo>
                  <a:pt x="150600" y="187842"/>
                </a:lnTo>
                <a:lnTo>
                  <a:pt x="160939" y="186188"/>
                </a:lnTo>
                <a:lnTo>
                  <a:pt x="170371" y="183392"/>
                </a:lnTo>
                <a:lnTo>
                  <a:pt x="179198" y="179835"/>
                </a:lnTo>
                <a:lnTo>
                  <a:pt x="187625" y="175770"/>
                </a:lnTo>
                <a:lnTo>
                  <a:pt x="194935" y="170520"/>
                </a:lnTo>
                <a:lnTo>
                  <a:pt x="201502" y="164480"/>
                </a:lnTo>
                <a:lnTo>
                  <a:pt x="207573" y="157913"/>
                </a:lnTo>
                <a:lnTo>
                  <a:pt x="213314" y="150995"/>
                </a:lnTo>
                <a:lnTo>
                  <a:pt x="218835" y="143844"/>
                </a:lnTo>
                <a:lnTo>
                  <a:pt x="224208" y="136536"/>
                </a:lnTo>
                <a:lnTo>
                  <a:pt x="227791" y="129124"/>
                </a:lnTo>
                <a:lnTo>
                  <a:pt x="230179" y="121643"/>
                </a:lnTo>
                <a:lnTo>
                  <a:pt x="231771" y="114115"/>
                </a:lnTo>
                <a:lnTo>
                  <a:pt x="233679" y="106557"/>
                </a:lnTo>
                <a:lnTo>
                  <a:pt x="235798" y="98978"/>
                </a:lnTo>
                <a:lnTo>
                  <a:pt x="238057" y="91385"/>
                </a:lnTo>
                <a:lnTo>
                  <a:pt x="238716" y="84630"/>
                </a:lnTo>
                <a:lnTo>
                  <a:pt x="238310" y="78434"/>
                </a:lnTo>
                <a:lnTo>
                  <a:pt x="237192" y="72610"/>
                </a:lnTo>
                <a:lnTo>
                  <a:pt x="236446" y="67033"/>
                </a:lnTo>
                <a:lnTo>
                  <a:pt x="235949" y="61622"/>
                </a:lnTo>
                <a:lnTo>
                  <a:pt x="235618" y="56321"/>
                </a:lnTo>
                <a:lnTo>
                  <a:pt x="234550" y="51095"/>
                </a:lnTo>
                <a:lnTo>
                  <a:pt x="232992" y="45916"/>
                </a:lnTo>
                <a:lnTo>
                  <a:pt x="231106" y="40771"/>
                </a:lnTo>
                <a:lnTo>
                  <a:pt x="229003" y="35647"/>
                </a:lnTo>
                <a:lnTo>
                  <a:pt x="226754" y="30538"/>
                </a:lnTo>
                <a:lnTo>
                  <a:pt x="224408" y="25438"/>
                </a:lnTo>
                <a:lnTo>
                  <a:pt x="222844" y="20346"/>
                </a:lnTo>
                <a:lnTo>
                  <a:pt x="221800" y="15257"/>
                </a:lnTo>
                <a:lnTo>
                  <a:pt x="21971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InkAnnotation215"/>
          <p:cNvSpPr/>
          <p:nvPr/>
        </p:nvSpPr>
        <p:spPr>
          <a:xfrm>
            <a:off x="4898880" y="4137120"/>
            <a:ext cx="228600" cy="7920"/>
          </a:xfrm>
          <a:custGeom>
            <a:avLst/>
            <a:gdLst>
              <a:gd name="textAreaLeft" fmla="*/ 0 w 228600"/>
              <a:gd name="textAreaRight" fmla="*/ 228960 w 228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8601" h="7620">
                <a:moveTo>
                  <a:pt x="0" y="7619"/>
                </a:moveTo>
                <a:lnTo>
                  <a:pt x="10606" y="7619"/>
                </a:lnTo>
                <a:lnTo>
                  <a:pt x="13844" y="6773"/>
                </a:lnTo>
                <a:lnTo>
                  <a:pt x="17696" y="5362"/>
                </a:lnTo>
                <a:lnTo>
                  <a:pt x="21957" y="3575"/>
                </a:lnTo>
                <a:lnTo>
                  <a:pt x="26491" y="2382"/>
                </a:lnTo>
                <a:lnTo>
                  <a:pt x="31207" y="1588"/>
                </a:lnTo>
                <a:lnTo>
                  <a:pt x="36045" y="1058"/>
                </a:lnTo>
                <a:lnTo>
                  <a:pt x="42657" y="705"/>
                </a:lnTo>
                <a:lnTo>
                  <a:pt x="59034" y="313"/>
                </a:lnTo>
                <a:lnTo>
                  <a:pt x="192825" y="0"/>
                </a:lnTo>
                <a:lnTo>
                  <a:pt x="198824" y="847"/>
                </a:lnTo>
                <a:lnTo>
                  <a:pt x="204516" y="2257"/>
                </a:lnTo>
                <a:lnTo>
                  <a:pt x="210004" y="4044"/>
                </a:lnTo>
                <a:lnTo>
                  <a:pt x="214509" y="5236"/>
                </a:lnTo>
                <a:lnTo>
                  <a:pt x="218359" y="6030"/>
                </a:lnTo>
                <a:lnTo>
                  <a:pt x="228600" y="76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InkAnnotation216"/>
          <p:cNvSpPr/>
          <p:nvPr/>
        </p:nvSpPr>
        <p:spPr>
          <a:xfrm>
            <a:off x="4944960" y="4206960"/>
            <a:ext cx="190440" cy="38160"/>
          </a:xfrm>
          <a:custGeom>
            <a:avLst/>
            <a:gdLst>
              <a:gd name="textAreaLeft" fmla="*/ 0 w 190440"/>
              <a:gd name="textAreaRight" fmla="*/ 190800 w 1904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0501" h="38074">
                <a:moveTo>
                  <a:pt x="0" y="30480"/>
                </a:moveTo>
                <a:lnTo>
                  <a:pt x="6561" y="37041"/>
                </a:lnTo>
                <a:lnTo>
                  <a:pt x="11665" y="37629"/>
                </a:lnTo>
                <a:lnTo>
                  <a:pt x="15396" y="37786"/>
                </a:lnTo>
                <a:lnTo>
                  <a:pt x="24059" y="37961"/>
                </a:lnTo>
                <a:lnTo>
                  <a:pt x="43417" y="38073"/>
                </a:lnTo>
                <a:lnTo>
                  <a:pt x="50111" y="37235"/>
                </a:lnTo>
                <a:lnTo>
                  <a:pt x="57961" y="35830"/>
                </a:lnTo>
                <a:lnTo>
                  <a:pt x="66581" y="34047"/>
                </a:lnTo>
                <a:lnTo>
                  <a:pt x="85190" y="29808"/>
                </a:lnTo>
                <a:lnTo>
                  <a:pt x="94893" y="27492"/>
                </a:lnTo>
                <a:lnTo>
                  <a:pt x="103902" y="25948"/>
                </a:lnTo>
                <a:lnTo>
                  <a:pt x="112448" y="24918"/>
                </a:lnTo>
                <a:lnTo>
                  <a:pt x="120685" y="24232"/>
                </a:lnTo>
                <a:lnTo>
                  <a:pt x="129564" y="22081"/>
                </a:lnTo>
                <a:lnTo>
                  <a:pt x="138869" y="18955"/>
                </a:lnTo>
                <a:lnTo>
                  <a:pt x="148459" y="15176"/>
                </a:lnTo>
                <a:lnTo>
                  <a:pt x="156547" y="12658"/>
                </a:lnTo>
                <a:lnTo>
                  <a:pt x="163631" y="10979"/>
                </a:lnTo>
                <a:lnTo>
                  <a:pt x="170047" y="9859"/>
                </a:lnTo>
                <a:lnTo>
                  <a:pt x="175171" y="8266"/>
                </a:lnTo>
                <a:lnTo>
                  <a:pt x="179434" y="6358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InkAnnotation217"/>
          <p:cNvSpPr/>
          <p:nvPr/>
        </p:nvSpPr>
        <p:spPr>
          <a:xfrm>
            <a:off x="5240160" y="3962520"/>
            <a:ext cx="262080" cy="334800"/>
          </a:xfrm>
          <a:custGeom>
            <a:avLst/>
            <a:gdLst>
              <a:gd name="textAreaLeft" fmla="*/ 0 w 262080"/>
              <a:gd name="textAreaRight" fmla="*/ 262440 w 26208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61406" h="335281">
                <a:moveTo>
                  <a:pt x="169964" y="0"/>
                </a:moveTo>
                <a:lnTo>
                  <a:pt x="165919" y="0"/>
                </a:lnTo>
                <a:lnTo>
                  <a:pt x="163881" y="1693"/>
                </a:lnTo>
                <a:lnTo>
                  <a:pt x="159359" y="8091"/>
                </a:lnTo>
                <a:lnTo>
                  <a:pt x="155273" y="11320"/>
                </a:lnTo>
                <a:lnTo>
                  <a:pt x="150011" y="14320"/>
                </a:lnTo>
                <a:lnTo>
                  <a:pt x="143962" y="17167"/>
                </a:lnTo>
                <a:lnTo>
                  <a:pt x="138236" y="21605"/>
                </a:lnTo>
                <a:lnTo>
                  <a:pt x="132726" y="27103"/>
                </a:lnTo>
                <a:lnTo>
                  <a:pt x="127359" y="33309"/>
                </a:lnTo>
                <a:lnTo>
                  <a:pt x="121240" y="39986"/>
                </a:lnTo>
                <a:lnTo>
                  <a:pt x="107669" y="54178"/>
                </a:lnTo>
                <a:lnTo>
                  <a:pt x="99647" y="61519"/>
                </a:lnTo>
                <a:lnTo>
                  <a:pt x="90913" y="68953"/>
                </a:lnTo>
                <a:lnTo>
                  <a:pt x="81704" y="76448"/>
                </a:lnTo>
                <a:lnTo>
                  <a:pt x="72177" y="84832"/>
                </a:lnTo>
                <a:lnTo>
                  <a:pt x="62439" y="93808"/>
                </a:lnTo>
                <a:lnTo>
                  <a:pt x="52561" y="103179"/>
                </a:lnTo>
                <a:lnTo>
                  <a:pt x="44282" y="111966"/>
                </a:lnTo>
                <a:lnTo>
                  <a:pt x="37070" y="120364"/>
                </a:lnTo>
                <a:lnTo>
                  <a:pt x="30568" y="128503"/>
                </a:lnTo>
                <a:lnTo>
                  <a:pt x="24540" y="137315"/>
                </a:lnTo>
                <a:lnTo>
                  <a:pt x="18828" y="146577"/>
                </a:lnTo>
                <a:lnTo>
                  <a:pt x="13327" y="156138"/>
                </a:lnTo>
                <a:lnTo>
                  <a:pt x="8813" y="165899"/>
                </a:lnTo>
                <a:lnTo>
                  <a:pt x="4957" y="175793"/>
                </a:lnTo>
                <a:lnTo>
                  <a:pt x="1539" y="185775"/>
                </a:lnTo>
                <a:lnTo>
                  <a:pt x="107" y="194970"/>
                </a:lnTo>
                <a:lnTo>
                  <a:pt x="0" y="203640"/>
                </a:lnTo>
                <a:lnTo>
                  <a:pt x="774" y="211960"/>
                </a:lnTo>
                <a:lnTo>
                  <a:pt x="2984" y="220047"/>
                </a:lnTo>
                <a:lnTo>
                  <a:pt x="6151" y="227978"/>
                </a:lnTo>
                <a:lnTo>
                  <a:pt x="9955" y="235805"/>
                </a:lnTo>
                <a:lnTo>
                  <a:pt x="15032" y="242717"/>
                </a:lnTo>
                <a:lnTo>
                  <a:pt x="20956" y="249018"/>
                </a:lnTo>
                <a:lnTo>
                  <a:pt x="27445" y="254912"/>
                </a:lnTo>
                <a:lnTo>
                  <a:pt x="34312" y="260535"/>
                </a:lnTo>
                <a:lnTo>
                  <a:pt x="41429" y="265976"/>
                </a:lnTo>
                <a:lnTo>
                  <a:pt x="48714" y="271298"/>
                </a:lnTo>
                <a:lnTo>
                  <a:pt x="56958" y="275692"/>
                </a:lnTo>
                <a:lnTo>
                  <a:pt x="65840" y="279467"/>
                </a:lnTo>
                <a:lnTo>
                  <a:pt x="75148" y="282832"/>
                </a:lnTo>
                <a:lnTo>
                  <a:pt x="85587" y="285075"/>
                </a:lnTo>
                <a:lnTo>
                  <a:pt x="96779" y="286570"/>
                </a:lnTo>
                <a:lnTo>
                  <a:pt x="108474" y="287567"/>
                </a:lnTo>
                <a:lnTo>
                  <a:pt x="118811" y="287384"/>
                </a:lnTo>
                <a:lnTo>
                  <a:pt x="128243" y="286417"/>
                </a:lnTo>
                <a:lnTo>
                  <a:pt x="137070" y="284924"/>
                </a:lnTo>
                <a:lnTo>
                  <a:pt x="146341" y="283083"/>
                </a:lnTo>
                <a:lnTo>
                  <a:pt x="165674" y="278779"/>
                </a:lnTo>
                <a:lnTo>
                  <a:pt x="174724" y="274753"/>
                </a:lnTo>
                <a:lnTo>
                  <a:pt x="183298" y="269529"/>
                </a:lnTo>
                <a:lnTo>
                  <a:pt x="191553" y="263506"/>
                </a:lnTo>
                <a:lnTo>
                  <a:pt x="197903" y="257797"/>
                </a:lnTo>
                <a:lnTo>
                  <a:pt x="202984" y="252298"/>
                </a:lnTo>
                <a:lnTo>
                  <a:pt x="207218" y="246939"/>
                </a:lnTo>
                <a:lnTo>
                  <a:pt x="214180" y="236469"/>
                </a:lnTo>
                <a:lnTo>
                  <a:pt x="217221" y="231306"/>
                </a:lnTo>
                <a:lnTo>
                  <a:pt x="220601" y="221054"/>
                </a:lnTo>
                <a:lnTo>
                  <a:pt x="221502" y="215949"/>
                </a:lnTo>
                <a:lnTo>
                  <a:pt x="221256" y="211699"/>
                </a:lnTo>
                <a:lnTo>
                  <a:pt x="220245" y="208019"/>
                </a:lnTo>
                <a:lnTo>
                  <a:pt x="218725" y="204720"/>
                </a:lnTo>
                <a:lnTo>
                  <a:pt x="212520" y="196537"/>
                </a:lnTo>
                <a:lnTo>
                  <a:pt x="208495" y="191985"/>
                </a:lnTo>
                <a:lnTo>
                  <a:pt x="204118" y="188950"/>
                </a:lnTo>
                <a:lnTo>
                  <a:pt x="199506" y="186926"/>
                </a:lnTo>
                <a:lnTo>
                  <a:pt x="194739" y="185577"/>
                </a:lnTo>
                <a:lnTo>
                  <a:pt x="189021" y="184679"/>
                </a:lnTo>
                <a:lnTo>
                  <a:pt x="182669" y="184079"/>
                </a:lnTo>
                <a:lnTo>
                  <a:pt x="175894" y="183679"/>
                </a:lnTo>
                <a:lnTo>
                  <a:pt x="163851" y="183235"/>
                </a:lnTo>
                <a:lnTo>
                  <a:pt x="158269" y="183117"/>
                </a:lnTo>
                <a:lnTo>
                  <a:pt x="152007" y="184731"/>
                </a:lnTo>
                <a:lnTo>
                  <a:pt x="145293" y="187501"/>
                </a:lnTo>
                <a:lnTo>
                  <a:pt x="138276" y="191041"/>
                </a:lnTo>
                <a:lnTo>
                  <a:pt x="132752" y="195094"/>
                </a:lnTo>
                <a:lnTo>
                  <a:pt x="128223" y="199489"/>
                </a:lnTo>
                <a:lnTo>
                  <a:pt x="124357" y="204113"/>
                </a:lnTo>
                <a:lnTo>
                  <a:pt x="121780" y="208889"/>
                </a:lnTo>
                <a:lnTo>
                  <a:pt x="118916" y="218710"/>
                </a:lnTo>
                <a:lnTo>
                  <a:pt x="118999" y="224547"/>
                </a:lnTo>
                <a:lnTo>
                  <a:pt x="119900" y="230978"/>
                </a:lnTo>
                <a:lnTo>
                  <a:pt x="121348" y="237806"/>
                </a:lnTo>
                <a:lnTo>
                  <a:pt x="123160" y="244897"/>
                </a:lnTo>
                <a:lnTo>
                  <a:pt x="125215" y="252165"/>
                </a:lnTo>
                <a:lnTo>
                  <a:pt x="127432" y="259550"/>
                </a:lnTo>
                <a:lnTo>
                  <a:pt x="131449" y="267013"/>
                </a:lnTo>
                <a:lnTo>
                  <a:pt x="136667" y="274529"/>
                </a:lnTo>
                <a:lnTo>
                  <a:pt x="142687" y="282079"/>
                </a:lnTo>
                <a:lnTo>
                  <a:pt x="150086" y="288806"/>
                </a:lnTo>
                <a:lnTo>
                  <a:pt x="158405" y="294984"/>
                </a:lnTo>
                <a:lnTo>
                  <a:pt x="167339" y="300796"/>
                </a:lnTo>
                <a:lnTo>
                  <a:pt x="177527" y="306364"/>
                </a:lnTo>
                <a:lnTo>
                  <a:pt x="188553" y="311769"/>
                </a:lnTo>
                <a:lnTo>
                  <a:pt x="217524" y="325210"/>
                </a:lnTo>
                <a:lnTo>
                  <a:pt x="224530" y="328566"/>
                </a:lnTo>
                <a:lnTo>
                  <a:pt x="231742" y="330804"/>
                </a:lnTo>
                <a:lnTo>
                  <a:pt x="239090" y="332296"/>
                </a:lnTo>
                <a:lnTo>
                  <a:pt x="261405" y="3352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InkAnnotation218"/>
          <p:cNvSpPr/>
          <p:nvPr/>
        </p:nvSpPr>
        <p:spPr>
          <a:xfrm>
            <a:off x="5554800" y="3970440"/>
            <a:ext cx="228600" cy="266760"/>
          </a:xfrm>
          <a:custGeom>
            <a:avLst/>
            <a:gdLst>
              <a:gd name="textAreaLeft" fmla="*/ 0 w 228600"/>
              <a:gd name="textAreaRight" fmla="*/ 228960 w 2286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28153" h="266556">
                <a:moveTo>
                  <a:pt x="106232" y="0"/>
                </a:moveTo>
                <a:lnTo>
                  <a:pt x="102187" y="0"/>
                </a:lnTo>
                <a:lnTo>
                  <a:pt x="100148" y="847"/>
                </a:lnTo>
                <a:lnTo>
                  <a:pt x="93235" y="6083"/>
                </a:lnTo>
                <a:lnTo>
                  <a:pt x="88320" y="10606"/>
                </a:lnTo>
                <a:lnTo>
                  <a:pt x="83314" y="17697"/>
                </a:lnTo>
                <a:lnTo>
                  <a:pt x="80793" y="21957"/>
                </a:lnTo>
                <a:lnTo>
                  <a:pt x="79113" y="26491"/>
                </a:lnTo>
                <a:lnTo>
                  <a:pt x="77992" y="31207"/>
                </a:lnTo>
                <a:lnTo>
                  <a:pt x="77246" y="36046"/>
                </a:lnTo>
                <a:lnTo>
                  <a:pt x="75054" y="41810"/>
                </a:lnTo>
                <a:lnTo>
                  <a:pt x="71901" y="48194"/>
                </a:lnTo>
                <a:lnTo>
                  <a:pt x="68104" y="54989"/>
                </a:lnTo>
                <a:lnTo>
                  <a:pt x="64727" y="62059"/>
                </a:lnTo>
                <a:lnTo>
                  <a:pt x="61629" y="69313"/>
                </a:lnTo>
                <a:lnTo>
                  <a:pt x="58717" y="76689"/>
                </a:lnTo>
                <a:lnTo>
                  <a:pt x="55928" y="84993"/>
                </a:lnTo>
                <a:lnTo>
                  <a:pt x="53223" y="93915"/>
                </a:lnTo>
                <a:lnTo>
                  <a:pt x="50573" y="103250"/>
                </a:lnTo>
                <a:lnTo>
                  <a:pt x="47113" y="112013"/>
                </a:lnTo>
                <a:lnTo>
                  <a:pt x="43112" y="120396"/>
                </a:lnTo>
                <a:lnTo>
                  <a:pt x="38752" y="128524"/>
                </a:lnTo>
                <a:lnTo>
                  <a:pt x="34999" y="136483"/>
                </a:lnTo>
                <a:lnTo>
                  <a:pt x="31650" y="144329"/>
                </a:lnTo>
                <a:lnTo>
                  <a:pt x="28570" y="152099"/>
                </a:lnTo>
                <a:lnTo>
                  <a:pt x="25671" y="160666"/>
                </a:lnTo>
                <a:lnTo>
                  <a:pt x="22892" y="169765"/>
                </a:lnTo>
                <a:lnTo>
                  <a:pt x="17545" y="188058"/>
                </a:lnTo>
                <a:lnTo>
                  <a:pt x="12346" y="204655"/>
                </a:lnTo>
                <a:lnTo>
                  <a:pt x="9775" y="211790"/>
                </a:lnTo>
                <a:lnTo>
                  <a:pt x="7215" y="218240"/>
                </a:lnTo>
                <a:lnTo>
                  <a:pt x="4660" y="224233"/>
                </a:lnTo>
                <a:lnTo>
                  <a:pt x="2958" y="229922"/>
                </a:lnTo>
                <a:lnTo>
                  <a:pt x="1823" y="235408"/>
                </a:lnTo>
                <a:lnTo>
                  <a:pt x="1066" y="240759"/>
                </a:lnTo>
                <a:lnTo>
                  <a:pt x="224" y="248962"/>
                </a:lnTo>
                <a:lnTo>
                  <a:pt x="0" y="252335"/>
                </a:lnTo>
                <a:lnTo>
                  <a:pt x="698" y="255430"/>
                </a:lnTo>
                <a:lnTo>
                  <a:pt x="4877" y="262984"/>
                </a:lnTo>
                <a:lnTo>
                  <a:pt x="6152" y="265049"/>
                </a:lnTo>
                <a:lnTo>
                  <a:pt x="7339" y="265599"/>
                </a:lnTo>
                <a:lnTo>
                  <a:pt x="10916" y="266211"/>
                </a:lnTo>
                <a:lnTo>
                  <a:pt x="17585" y="266483"/>
                </a:lnTo>
                <a:lnTo>
                  <a:pt x="21734" y="266555"/>
                </a:lnTo>
                <a:lnTo>
                  <a:pt x="27040" y="265757"/>
                </a:lnTo>
                <a:lnTo>
                  <a:pt x="33117" y="264378"/>
                </a:lnTo>
                <a:lnTo>
                  <a:pt x="39709" y="262612"/>
                </a:lnTo>
                <a:lnTo>
                  <a:pt x="53806" y="258392"/>
                </a:lnTo>
                <a:lnTo>
                  <a:pt x="61122" y="256082"/>
                </a:lnTo>
                <a:lnTo>
                  <a:pt x="78280" y="251256"/>
                </a:lnTo>
                <a:lnTo>
                  <a:pt x="116892" y="241260"/>
                </a:lnTo>
                <a:lnTo>
                  <a:pt x="126885" y="239580"/>
                </a:lnTo>
                <a:lnTo>
                  <a:pt x="136934" y="238460"/>
                </a:lnTo>
                <a:lnTo>
                  <a:pt x="147020" y="237714"/>
                </a:lnTo>
                <a:lnTo>
                  <a:pt x="162742" y="236884"/>
                </a:lnTo>
                <a:lnTo>
                  <a:pt x="175375" y="236515"/>
                </a:lnTo>
                <a:lnTo>
                  <a:pt x="206812" y="236247"/>
                </a:lnTo>
                <a:lnTo>
                  <a:pt x="228152" y="236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InkAnnotation219"/>
          <p:cNvSpPr/>
          <p:nvPr/>
        </p:nvSpPr>
        <p:spPr>
          <a:xfrm>
            <a:off x="5867280" y="4084560"/>
            <a:ext cx="174600" cy="360"/>
          </a:xfrm>
          <a:custGeom>
            <a:avLst/>
            <a:gdLst>
              <a:gd name="textAreaLeft" fmla="*/ 0 w 174600"/>
              <a:gd name="textAreaRight" fmla="*/ 174960 w 1746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75261" h="1">
                <a:moveTo>
                  <a:pt x="0" y="0"/>
                </a:move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ARTInkAnnotation220"/>
          <p:cNvSpPr/>
          <p:nvPr/>
        </p:nvSpPr>
        <p:spPr>
          <a:xfrm>
            <a:off x="6164280" y="3932280"/>
            <a:ext cx="272880" cy="243000"/>
          </a:xfrm>
          <a:custGeom>
            <a:avLst/>
            <a:gdLst>
              <a:gd name="textAreaLeft" fmla="*/ 0 w 272880"/>
              <a:gd name="textAreaRight" fmla="*/ 273240 w 2728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73222" h="243708">
                <a:moveTo>
                  <a:pt x="22860" y="30443"/>
                </a:moveTo>
                <a:lnTo>
                  <a:pt x="22860" y="23137"/>
                </a:lnTo>
                <a:lnTo>
                  <a:pt x="26905" y="18871"/>
                </a:lnTo>
                <a:lnTo>
                  <a:pt x="29790" y="17648"/>
                </a:lnTo>
                <a:lnTo>
                  <a:pt x="37512" y="16290"/>
                </a:lnTo>
                <a:lnTo>
                  <a:pt x="41941" y="15081"/>
                </a:lnTo>
                <a:lnTo>
                  <a:pt x="46587" y="13429"/>
                </a:lnTo>
                <a:lnTo>
                  <a:pt x="51378" y="11480"/>
                </a:lnTo>
                <a:lnTo>
                  <a:pt x="58806" y="9334"/>
                </a:lnTo>
                <a:lnTo>
                  <a:pt x="67991" y="7057"/>
                </a:lnTo>
                <a:lnTo>
                  <a:pt x="78347" y="4693"/>
                </a:lnTo>
                <a:lnTo>
                  <a:pt x="88638" y="3116"/>
                </a:lnTo>
                <a:lnTo>
                  <a:pt x="98886" y="2065"/>
                </a:lnTo>
                <a:lnTo>
                  <a:pt x="109104" y="1365"/>
                </a:lnTo>
                <a:lnTo>
                  <a:pt x="119302" y="897"/>
                </a:lnTo>
                <a:lnTo>
                  <a:pt x="139665" y="378"/>
                </a:lnTo>
                <a:lnTo>
                  <a:pt x="211264" y="0"/>
                </a:lnTo>
                <a:lnTo>
                  <a:pt x="222123" y="834"/>
                </a:lnTo>
                <a:lnTo>
                  <a:pt x="231902" y="2237"/>
                </a:lnTo>
                <a:lnTo>
                  <a:pt x="240962" y="4019"/>
                </a:lnTo>
                <a:lnTo>
                  <a:pt x="248694" y="6054"/>
                </a:lnTo>
                <a:lnTo>
                  <a:pt x="255543" y="8257"/>
                </a:lnTo>
                <a:lnTo>
                  <a:pt x="270611" y="13831"/>
                </a:lnTo>
                <a:lnTo>
                  <a:pt x="271847" y="15135"/>
                </a:lnTo>
                <a:lnTo>
                  <a:pt x="272672" y="16851"/>
                </a:lnTo>
                <a:lnTo>
                  <a:pt x="273221" y="18841"/>
                </a:lnTo>
                <a:lnTo>
                  <a:pt x="272741" y="21015"/>
                </a:lnTo>
                <a:lnTo>
                  <a:pt x="269950" y="25689"/>
                </a:lnTo>
                <a:lnTo>
                  <a:pt x="266326" y="27273"/>
                </a:lnTo>
                <a:lnTo>
                  <a:pt x="261372" y="28330"/>
                </a:lnTo>
                <a:lnTo>
                  <a:pt x="255527" y="29035"/>
                </a:lnTo>
                <a:lnTo>
                  <a:pt x="249092" y="31198"/>
                </a:lnTo>
                <a:lnTo>
                  <a:pt x="242261" y="34333"/>
                </a:lnTo>
                <a:lnTo>
                  <a:pt x="235167" y="38116"/>
                </a:lnTo>
                <a:lnTo>
                  <a:pt x="227051" y="41485"/>
                </a:lnTo>
                <a:lnTo>
                  <a:pt x="218254" y="44577"/>
                </a:lnTo>
                <a:lnTo>
                  <a:pt x="209003" y="47486"/>
                </a:lnTo>
                <a:lnTo>
                  <a:pt x="189692" y="52976"/>
                </a:lnTo>
                <a:lnTo>
                  <a:pt x="179802" y="55625"/>
                </a:lnTo>
                <a:lnTo>
                  <a:pt x="169821" y="59084"/>
                </a:lnTo>
                <a:lnTo>
                  <a:pt x="159781" y="63084"/>
                </a:lnTo>
                <a:lnTo>
                  <a:pt x="141287" y="71197"/>
                </a:lnTo>
                <a:lnTo>
                  <a:pt x="127424" y="77625"/>
                </a:lnTo>
                <a:lnTo>
                  <a:pt x="121355" y="81371"/>
                </a:lnTo>
                <a:lnTo>
                  <a:pt x="115618" y="85562"/>
                </a:lnTo>
                <a:lnTo>
                  <a:pt x="110098" y="90049"/>
                </a:lnTo>
                <a:lnTo>
                  <a:pt x="103966" y="97292"/>
                </a:lnTo>
                <a:lnTo>
                  <a:pt x="102331" y="100409"/>
                </a:lnTo>
                <a:lnTo>
                  <a:pt x="102087" y="105027"/>
                </a:lnTo>
                <a:lnTo>
                  <a:pt x="102772" y="110645"/>
                </a:lnTo>
                <a:lnTo>
                  <a:pt x="104075" y="116931"/>
                </a:lnTo>
                <a:lnTo>
                  <a:pt x="107483" y="122816"/>
                </a:lnTo>
                <a:lnTo>
                  <a:pt x="112295" y="128431"/>
                </a:lnTo>
                <a:lnTo>
                  <a:pt x="123569" y="139187"/>
                </a:lnTo>
                <a:lnTo>
                  <a:pt x="134224" y="149612"/>
                </a:lnTo>
                <a:lnTo>
                  <a:pt x="140282" y="153915"/>
                </a:lnTo>
                <a:lnTo>
                  <a:pt x="146862" y="157631"/>
                </a:lnTo>
                <a:lnTo>
                  <a:pt x="153788" y="160955"/>
                </a:lnTo>
                <a:lnTo>
                  <a:pt x="160946" y="164865"/>
                </a:lnTo>
                <a:lnTo>
                  <a:pt x="168257" y="169164"/>
                </a:lnTo>
                <a:lnTo>
                  <a:pt x="175671" y="173724"/>
                </a:lnTo>
                <a:lnTo>
                  <a:pt x="182308" y="178457"/>
                </a:lnTo>
                <a:lnTo>
                  <a:pt x="188425" y="183306"/>
                </a:lnTo>
                <a:lnTo>
                  <a:pt x="194197" y="188231"/>
                </a:lnTo>
                <a:lnTo>
                  <a:pt x="199738" y="192362"/>
                </a:lnTo>
                <a:lnTo>
                  <a:pt x="205125" y="195962"/>
                </a:lnTo>
                <a:lnTo>
                  <a:pt x="210410" y="199209"/>
                </a:lnTo>
                <a:lnTo>
                  <a:pt x="213934" y="202220"/>
                </a:lnTo>
                <a:lnTo>
                  <a:pt x="216282" y="205075"/>
                </a:lnTo>
                <a:lnTo>
                  <a:pt x="218892" y="210504"/>
                </a:lnTo>
                <a:lnTo>
                  <a:pt x="220052" y="215739"/>
                </a:lnTo>
                <a:lnTo>
                  <a:pt x="219515" y="218320"/>
                </a:lnTo>
                <a:lnTo>
                  <a:pt x="216660" y="223447"/>
                </a:lnTo>
                <a:lnTo>
                  <a:pt x="213867" y="225152"/>
                </a:lnTo>
                <a:lnTo>
                  <a:pt x="206247" y="227047"/>
                </a:lnTo>
                <a:lnTo>
                  <a:pt x="200999" y="228399"/>
                </a:lnTo>
                <a:lnTo>
                  <a:pt x="194960" y="230147"/>
                </a:lnTo>
                <a:lnTo>
                  <a:pt x="188393" y="232159"/>
                </a:lnTo>
                <a:lnTo>
                  <a:pt x="180629" y="233500"/>
                </a:lnTo>
                <a:lnTo>
                  <a:pt x="172066" y="234395"/>
                </a:lnTo>
                <a:lnTo>
                  <a:pt x="162971" y="234991"/>
                </a:lnTo>
                <a:lnTo>
                  <a:pt x="152674" y="235388"/>
                </a:lnTo>
                <a:lnTo>
                  <a:pt x="129944" y="235830"/>
                </a:lnTo>
                <a:lnTo>
                  <a:pt x="118803" y="236794"/>
                </a:lnTo>
                <a:lnTo>
                  <a:pt x="107989" y="238283"/>
                </a:lnTo>
                <a:lnTo>
                  <a:pt x="97393" y="240123"/>
                </a:lnTo>
                <a:lnTo>
                  <a:pt x="86095" y="241350"/>
                </a:lnTo>
                <a:lnTo>
                  <a:pt x="74330" y="242168"/>
                </a:lnTo>
                <a:lnTo>
                  <a:pt x="51662" y="243076"/>
                </a:lnTo>
                <a:lnTo>
                  <a:pt x="20930" y="243660"/>
                </a:lnTo>
                <a:lnTo>
                  <a:pt x="16493" y="243707"/>
                </a:lnTo>
                <a:lnTo>
                  <a:pt x="12688" y="242892"/>
                </a:lnTo>
                <a:lnTo>
                  <a:pt x="6204" y="239729"/>
                </a:lnTo>
                <a:lnTo>
                  <a:pt x="4136" y="237701"/>
                </a:lnTo>
                <a:lnTo>
                  <a:pt x="2758" y="235501"/>
                </a:lnTo>
                <a:lnTo>
                  <a:pt x="0" y="2285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ARTInkAnnotation221"/>
          <p:cNvSpPr/>
          <p:nvPr/>
        </p:nvSpPr>
        <p:spPr>
          <a:xfrm>
            <a:off x="6516720" y="3916440"/>
            <a:ext cx="181080" cy="266760"/>
          </a:xfrm>
          <a:custGeom>
            <a:avLst/>
            <a:gdLst>
              <a:gd name="textAreaLeft" fmla="*/ 0 w 181080"/>
              <a:gd name="textAreaRight" fmla="*/ 181440 w 1810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80831" h="266701">
                <a:moveTo>
                  <a:pt x="112250" y="0"/>
                </a:moveTo>
                <a:lnTo>
                  <a:pt x="112250" y="4045"/>
                </a:lnTo>
                <a:lnTo>
                  <a:pt x="111404" y="5237"/>
                </a:lnTo>
                <a:lnTo>
                  <a:pt x="109992" y="6031"/>
                </a:lnTo>
                <a:lnTo>
                  <a:pt x="108205" y="6561"/>
                </a:lnTo>
                <a:lnTo>
                  <a:pt x="107013" y="7760"/>
                </a:lnTo>
                <a:lnTo>
                  <a:pt x="106219" y="9407"/>
                </a:lnTo>
                <a:lnTo>
                  <a:pt x="105689" y="11352"/>
                </a:lnTo>
                <a:lnTo>
                  <a:pt x="100585" y="18027"/>
                </a:lnTo>
                <a:lnTo>
                  <a:pt x="96853" y="22178"/>
                </a:lnTo>
                <a:lnTo>
                  <a:pt x="93519" y="26639"/>
                </a:lnTo>
                <a:lnTo>
                  <a:pt x="90449" y="31306"/>
                </a:lnTo>
                <a:lnTo>
                  <a:pt x="87556" y="36111"/>
                </a:lnTo>
                <a:lnTo>
                  <a:pt x="83088" y="41854"/>
                </a:lnTo>
                <a:lnTo>
                  <a:pt x="77568" y="48222"/>
                </a:lnTo>
                <a:lnTo>
                  <a:pt x="71349" y="55008"/>
                </a:lnTo>
                <a:lnTo>
                  <a:pt x="65509" y="62919"/>
                </a:lnTo>
                <a:lnTo>
                  <a:pt x="59923" y="71579"/>
                </a:lnTo>
                <a:lnTo>
                  <a:pt x="54505" y="80740"/>
                </a:lnTo>
                <a:lnTo>
                  <a:pt x="48354" y="90233"/>
                </a:lnTo>
                <a:lnTo>
                  <a:pt x="41712" y="99949"/>
                </a:lnTo>
                <a:lnTo>
                  <a:pt x="34745" y="109812"/>
                </a:lnTo>
                <a:lnTo>
                  <a:pt x="28407" y="119775"/>
                </a:lnTo>
                <a:lnTo>
                  <a:pt x="22487" y="129803"/>
                </a:lnTo>
                <a:lnTo>
                  <a:pt x="16849" y="139875"/>
                </a:lnTo>
                <a:lnTo>
                  <a:pt x="12242" y="149130"/>
                </a:lnTo>
                <a:lnTo>
                  <a:pt x="8325" y="157840"/>
                </a:lnTo>
                <a:lnTo>
                  <a:pt x="4867" y="166187"/>
                </a:lnTo>
                <a:lnTo>
                  <a:pt x="2561" y="174291"/>
                </a:lnTo>
                <a:lnTo>
                  <a:pt x="1024" y="182235"/>
                </a:lnTo>
                <a:lnTo>
                  <a:pt x="0" y="190069"/>
                </a:lnTo>
                <a:lnTo>
                  <a:pt x="163" y="197833"/>
                </a:lnTo>
                <a:lnTo>
                  <a:pt x="1118" y="205548"/>
                </a:lnTo>
                <a:lnTo>
                  <a:pt x="2602" y="213233"/>
                </a:lnTo>
                <a:lnTo>
                  <a:pt x="5285" y="220049"/>
                </a:lnTo>
                <a:lnTo>
                  <a:pt x="8767" y="226285"/>
                </a:lnTo>
                <a:lnTo>
                  <a:pt x="12781" y="232137"/>
                </a:lnTo>
                <a:lnTo>
                  <a:pt x="17151" y="237731"/>
                </a:lnTo>
                <a:lnTo>
                  <a:pt x="21757" y="243154"/>
                </a:lnTo>
                <a:lnTo>
                  <a:pt x="26521" y="248463"/>
                </a:lnTo>
                <a:lnTo>
                  <a:pt x="31391" y="252848"/>
                </a:lnTo>
                <a:lnTo>
                  <a:pt x="36331" y="256619"/>
                </a:lnTo>
                <a:lnTo>
                  <a:pt x="41317" y="259979"/>
                </a:lnTo>
                <a:lnTo>
                  <a:pt x="48028" y="262219"/>
                </a:lnTo>
                <a:lnTo>
                  <a:pt x="55889" y="263713"/>
                </a:lnTo>
                <a:lnTo>
                  <a:pt x="64516" y="264709"/>
                </a:lnTo>
                <a:lnTo>
                  <a:pt x="72807" y="264526"/>
                </a:lnTo>
                <a:lnTo>
                  <a:pt x="80874" y="263557"/>
                </a:lnTo>
                <a:lnTo>
                  <a:pt x="88793" y="262065"/>
                </a:lnTo>
                <a:lnTo>
                  <a:pt x="96612" y="259377"/>
                </a:lnTo>
                <a:lnTo>
                  <a:pt x="104364" y="255891"/>
                </a:lnTo>
                <a:lnTo>
                  <a:pt x="112073" y="251874"/>
                </a:lnTo>
                <a:lnTo>
                  <a:pt x="118905" y="246656"/>
                </a:lnTo>
                <a:lnTo>
                  <a:pt x="125154" y="240638"/>
                </a:lnTo>
                <a:lnTo>
                  <a:pt x="131012" y="234085"/>
                </a:lnTo>
                <a:lnTo>
                  <a:pt x="135765" y="227176"/>
                </a:lnTo>
                <a:lnTo>
                  <a:pt x="139780" y="220031"/>
                </a:lnTo>
                <a:lnTo>
                  <a:pt x="143303" y="212728"/>
                </a:lnTo>
                <a:lnTo>
                  <a:pt x="146499" y="205318"/>
                </a:lnTo>
                <a:lnTo>
                  <a:pt x="149476" y="197839"/>
                </a:lnTo>
                <a:lnTo>
                  <a:pt x="152307" y="190313"/>
                </a:lnTo>
                <a:lnTo>
                  <a:pt x="154196" y="183602"/>
                </a:lnTo>
                <a:lnTo>
                  <a:pt x="155453" y="177435"/>
                </a:lnTo>
                <a:lnTo>
                  <a:pt x="156292" y="171629"/>
                </a:lnTo>
                <a:lnTo>
                  <a:pt x="156005" y="166067"/>
                </a:lnTo>
                <a:lnTo>
                  <a:pt x="154966" y="160665"/>
                </a:lnTo>
                <a:lnTo>
                  <a:pt x="153428" y="155370"/>
                </a:lnTo>
                <a:lnTo>
                  <a:pt x="151717" y="147229"/>
                </a:lnTo>
                <a:lnTo>
                  <a:pt x="151262" y="143873"/>
                </a:lnTo>
                <a:lnTo>
                  <a:pt x="150111" y="140788"/>
                </a:lnTo>
                <a:lnTo>
                  <a:pt x="145294" y="133249"/>
                </a:lnTo>
                <a:lnTo>
                  <a:pt x="143870" y="131188"/>
                </a:lnTo>
                <a:lnTo>
                  <a:pt x="142643" y="131485"/>
                </a:lnTo>
                <a:lnTo>
                  <a:pt x="139023" y="134074"/>
                </a:lnTo>
                <a:lnTo>
                  <a:pt x="134591" y="140303"/>
                </a:lnTo>
                <a:lnTo>
                  <a:pt x="132224" y="144336"/>
                </a:lnTo>
                <a:lnTo>
                  <a:pt x="130647" y="148717"/>
                </a:lnTo>
                <a:lnTo>
                  <a:pt x="129594" y="153332"/>
                </a:lnTo>
                <a:lnTo>
                  <a:pt x="128893" y="158101"/>
                </a:lnTo>
                <a:lnTo>
                  <a:pt x="128425" y="162974"/>
                </a:lnTo>
                <a:lnTo>
                  <a:pt x="128113" y="167916"/>
                </a:lnTo>
                <a:lnTo>
                  <a:pt x="127768" y="177923"/>
                </a:lnTo>
                <a:lnTo>
                  <a:pt x="127544" y="198144"/>
                </a:lnTo>
                <a:lnTo>
                  <a:pt x="127527" y="203217"/>
                </a:lnTo>
                <a:lnTo>
                  <a:pt x="128361" y="209138"/>
                </a:lnTo>
                <a:lnTo>
                  <a:pt x="129764" y="215625"/>
                </a:lnTo>
                <a:lnTo>
                  <a:pt x="131546" y="222490"/>
                </a:lnTo>
                <a:lnTo>
                  <a:pt x="134428" y="228760"/>
                </a:lnTo>
                <a:lnTo>
                  <a:pt x="138041" y="234633"/>
                </a:lnTo>
                <a:lnTo>
                  <a:pt x="142144" y="240242"/>
                </a:lnTo>
                <a:lnTo>
                  <a:pt x="146573" y="245675"/>
                </a:lnTo>
                <a:lnTo>
                  <a:pt x="151219" y="250990"/>
                </a:lnTo>
                <a:lnTo>
                  <a:pt x="156009" y="256227"/>
                </a:lnTo>
                <a:lnTo>
                  <a:pt x="160896" y="259718"/>
                </a:lnTo>
                <a:lnTo>
                  <a:pt x="165848" y="262045"/>
                </a:lnTo>
                <a:lnTo>
                  <a:pt x="180830" y="2667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ARTInkAnnotation222"/>
          <p:cNvSpPr/>
          <p:nvPr/>
        </p:nvSpPr>
        <p:spPr>
          <a:xfrm>
            <a:off x="6958080" y="3916440"/>
            <a:ext cx="82440" cy="290520"/>
          </a:xfrm>
          <a:custGeom>
            <a:avLst/>
            <a:gdLst>
              <a:gd name="textAreaLeft" fmla="*/ 0 w 82440"/>
              <a:gd name="textAreaRight" fmla="*/ 82440 w 824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83347" h="289561">
                <a:moveTo>
                  <a:pt x="83346" y="0"/>
                </a:moveTo>
                <a:lnTo>
                  <a:pt x="79301" y="0"/>
                </a:lnTo>
                <a:lnTo>
                  <a:pt x="78109" y="846"/>
                </a:lnTo>
                <a:lnTo>
                  <a:pt x="77315" y="2258"/>
                </a:lnTo>
                <a:lnTo>
                  <a:pt x="76785" y="4045"/>
                </a:lnTo>
                <a:lnTo>
                  <a:pt x="75586" y="6083"/>
                </a:lnTo>
                <a:lnTo>
                  <a:pt x="73939" y="8289"/>
                </a:lnTo>
                <a:lnTo>
                  <a:pt x="71995" y="10606"/>
                </a:lnTo>
                <a:lnTo>
                  <a:pt x="69852" y="13844"/>
                </a:lnTo>
                <a:lnTo>
                  <a:pt x="67577" y="17696"/>
                </a:lnTo>
                <a:lnTo>
                  <a:pt x="65213" y="21957"/>
                </a:lnTo>
                <a:lnTo>
                  <a:pt x="61945" y="26491"/>
                </a:lnTo>
                <a:lnTo>
                  <a:pt x="58071" y="31207"/>
                </a:lnTo>
                <a:lnTo>
                  <a:pt x="53796" y="36045"/>
                </a:lnTo>
                <a:lnTo>
                  <a:pt x="50100" y="41810"/>
                </a:lnTo>
                <a:lnTo>
                  <a:pt x="46788" y="48193"/>
                </a:lnTo>
                <a:lnTo>
                  <a:pt x="43735" y="54989"/>
                </a:lnTo>
                <a:lnTo>
                  <a:pt x="40851" y="62906"/>
                </a:lnTo>
                <a:lnTo>
                  <a:pt x="38084" y="71570"/>
                </a:lnTo>
                <a:lnTo>
                  <a:pt x="35391" y="80734"/>
                </a:lnTo>
                <a:lnTo>
                  <a:pt x="31903" y="89382"/>
                </a:lnTo>
                <a:lnTo>
                  <a:pt x="27884" y="97689"/>
                </a:lnTo>
                <a:lnTo>
                  <a:pt x="23510" y="105766"/>
                </a:lnTo>
                <a:lnTo>
                  <a:pt x="19749" y="115384"/>
                </a:lnTo>
                <a:lnTo>
                  <a:pt x="16395" y="126029"/>
                </a:lnTo>
                <a:lnTo>
                  <a:pt x="13312" y="137360"/>
                </a:lnTo>
                <a:lnTo>
                  <a:pt x="7628" y="156722"/>
                </a:lnTo>
                <a:lnTo>
                  <a:pt x="4928" y="165442"/>
                </a:lnTo>
                <a:lnTo>
                  <a:pt x="3128" y="174641"/>
                </a:lnTo>
                <a:lnTo>
                  <a:pt x="1926" y="184161"/>
                </a:lnTo>
                <a:lnTo>
                  <a:pt x="1127" y="193894"/>
                </a:lnTo>
                <a:lnTo>
                  <a:pt x="593" y="203770"/>
                </a:lnTo>
                <a:lnTo>
                  <a:pt x="0" y="223773"/>
                </a:lnTo>
                <a:lnTo>
                  <a:pt x="1535" y="233002"/>
                </a:lnTo>
                <a:lnTo>
                  <a:pt x="4252" y="241695"/>
                </a:lnTo>
                <a:lnTo>
                  <a:pt x="7757" y="250030"/>
                </a:lnTo>
                <a:lnTo>
                  <a:pt x="13909" y="263807"/>
                </a:lnTo>
                <a:lnTo>
                  <a:pt x="16734" y="269851"/>
                </a:lnTo>
                <a:lnTo>
                  <a:pt x="18618" y="274727"/>
                </a:lnTo>
                <a:lnTo>
                  <a:pt x="19874" y="278825"/>
                </a:lnTo>
                <a:lnTo>
                  <a:pt x="22386" y="2895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ARTInkAnnotation223"/>
          <p:cNvSpPr/>
          <p:nvPr/>
        </p:nvSpPr>
        <p:spPr>
          <a:xfrm>
            <a:off x="6896160" y="4076640"/>
            <a:ext cx="152280" cy="7920"/>
          </a:xfrm>
          <a:custGeom>
            <a:avLst/>
            <a:gdLst>
              <a:gd name="textAreaLeft" fmla="*/ 0 w 152280"/>
              <a:gd name="textAreaRight" fmla="*/ 152640 w 152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01" h="7621">
                <a:moveTo>
                  <a:pt x="0" y="0"/>
                </a:moveTo>
                <a:lnTo>
                  <a:pt x="26224" y="0"/>
                </a:lnTo>
                <a:lnTo>
                  <a:pt x="31876" y="846"/>
                </a:lnTo>
                <a:lnTo>
                  <a:pt x="37337" y="2258"/>
                </a:lnTo>
                <a:lnTo>
                  <a:pt x="42671" y="4045"/>
                </a:lnTo>
                <a:lnTo>
                  <a:pt x="49614" y="5237"/>
                </a:lnTo>
                <a:lnTo>
                  <a:pt x="57630" y="6032"/>
                </a:lnTo>
                <a:lnTo>
                  <a:pt x="66360" y="6561"/>
                </a:lnTo>
                <a:lnTo>
                  <a:pt x="85091" y="7150"/>
                </a:lnTo>
                <a:lnTo>
                  <a:pt x="15240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InkAnnotation224"/>
          <p:cNvSpPr/>
          <p:nvPr/>
        </p:nvSpPr>
        <p:spPr>
          <a:xfrm>
            <a:off x="7178760" y="3902040"/>
            <a:ext cx="212760" cy="246240"/>
          </a:xfrm>
          <a:custGeom>
            <a:avLst/>
            <a:gdLst>
              <a:gd name="textAreaLeft" fmla="*/ 0 w 212760"/>
              <a:gd name="textAreaRight" fmla="*/ 213120 w 21276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213361" h="245960">
                <a:moveTo>
                  <a:pt x="0" y="29319"/>
                </a:moveTo>
                <a:lnTo>
                  <a:pt x="0" y="22758"/>
                </a:lnTo>
                <a:lnTo>
                  <a:pt x="4046" y="17968"/>
                </a:lnTo>
                <a:lnTo>
                  <a:pt x="6084" y="16671"/>
                </a:lnTo>
                <a:lnTo>
                  <a:pt x="10606" y="15231"/>
                </a:lnTo>
                <a:lnTo>
                  <a:pt x="12151" y="14001"/>
                </a:lnTo>
                <a:lnTo>
                  <a:pt x="13181" y="12333"/>
                </a:lnTo>
                <a:lnTo>
                  <a:pt x="13868" y="10375"/>
                </a:lnTo>
                <a:lnTo>
                  <a:pt x="16018" y="9070"/>
                </a:lnTo>
                <a:lnTo>
                  <a:pt x="19145" y="8199"/>
                </a:lnTo>
                <a:lnTo>
                  <a:pt x="22924" y="7620"/>
                </a:lnTo>
                <a:lnTo>
                  <a:pt x="27983" y="6386"/>
                </a:lnTo>
                <a:lnTo>
                  <a:pt x="33896" y="4717"/>
                </a:lnTo>
                <a:lnTo>
                  <a:pt x="40377" y="2758"/>
                </a:lnTo>
                <a:lnTo>
                  <a:pt x="46391" y="1451"/>
                </a:lnTo>
                <a:lnTo>
                  <a:pt x="52095" y="581"/>
                </a:lnTo>
                <a:lnTo>
                  <a:pt x="57590" y="0"/>
                </a:lnTo>
                <a:lnTo>
                  <a:pt x="64640" y="460"/>
                </a:lnTo>
                <a:lnTo>
                  <a:pt x="72727" y="1613"/>
                </a:lnTo>
                <a:lnTo>
                  <a:pt x="81505" y="3228"/>
                </a:lnTo>
                <a:lnTo>
                  <a:pt x="89896" y="4305"/>
                </a:lnTo>
                <a:lnTo>
                  <a:pt x="98031" y="5023"/>
                </a:lnTo>
                <a:lnTo>
                  <a:pt x="105994" y="5502"/>
                </a:lnTo>
                <a:lnTo>
                  <a:pt x="114689" y="6667"/>
                </a:lnTo>
                <a:lnTo>
                  <a:pt x="123874" y="8292"/>
                </a:lnTo>
                <a:lnTo>
                  <a:pt x="133382" y="10221"/>
                </a:lnTo>
                <a:lnTo>
                  <a:pt x="141415" y="12353"/>
                </a:lnTo>
                <a:lnTo>
                  <a:pt x="148464" y="14622"/>
                </a:lnTo>
                <a:lnTo>
                  <a:pt x="154856" y="16981"/>
                </a:lnTo>
                <a:lnTo>
                  <a:pt x="160810" y="19400"/>
                </a:lnTo>
                <a:lnTo>
                  <a:pt x="166474" y="21860"/>
                </a:lnTo>
                <a:lnTo>
                  <a:pt x="171942" y="24347"/>
                </a:lnTo>
                <a:lnTo>
                  <a:pt x="175589" y="26850"/>
                </a:lnTo>
                <a:lnTo>
                  <a:pt x="178019" y="29366"/>
                </a:lnTo>
                <a:lnTo>
                  <a:pt x="179640" y="31891"/>
                </a:lnTo>
                <a:lnTo>
                  <a:pt x="181440" y="36953"/>
                </a:lnTo>
                <a:lnTo>
                  <a:pt x="181920" y="39488"/>
                </a:lnTo>
                <a:lnTo>
                  <a:pt x="181394" y="42025"/>
                </a:lnTo>
                <a:lnTo>
                  <a:pt x="178550" y="47102"/>
                </a:lnTo>
                <a:lnTo>
                  <a:pt x="172207" y="52180"/>
                </a:lnTo>
                <a:lnTo>
                  <a:pt x="168144" y="54720"/>
                </a:lnTo>
                <a:lnTo>
                  <a:pt x="163743" y="58106"/>
                </a:lnTo>
                <a:lnTo>
                  <a:pt x="159116" y="62057"/>
                </a:lnTo>
                <a:lnTo>
                  <a:pt x="154337" y="66384"/>
                </a:lnTo>
                <a:lnTo>
                  <a:pt x="147766" y="70963"/>
                </a:lnTo>
                <a:lnTo>
                  <a:pt x="139997" y="75708"/>
                </a:lnTo>
                <a:lnTo>
                  <a:pt x="131432" y="80565"/>
                </a:lnTo>
                <a:lnTo>
                  <a:pt x="123181" y="85497"/>
                </a:lnTo>
                <a:lnTo>
                  <a:pt x="107241" y="95491"/>
                </a:lnTo>
                <a:lnTo>
                  <a:pt x="61010" y="125851"/>
                </a:lnTo>
                <a:lnTo>
                  <a:pt x="54219" y="131773"/>
                </a:lnTo>
                <a:lnTo>
                  <a:pt x="48000" y="138262"/>
                </a:lnTo>
                <a:lnTo>
                  <a:pt x="42160" y="145128"/>
                </a:lnTo>
                <a:lnTo>
                  <a:pt x="37421" y="151398"/>
                </a:lnTo>
                <a:lnTo>
                  <a:pt x="33414" y="157272"/>
                </a:lnTo>
                <a:lnTo>
                  <a:pt x="29896" y="162881"/>
                </a:lnTo>
                <a:lnTo>
                  <a:pt x="27552" y="168314"/>
                </a:lnTo>
                <a:lnTo>
                  <a:pt x="25988" y="173629"/>
                </a:lnTo>
                <a:lnTo>
                  <a:pt x="24945" y="178866"/>
                </a:lnTo>
                <a:lnTo>
                  <a:pt x="25096" y="184897"/>
                </a:lnTo>
                <a:lnTo>
                  <a:pt x="26045" y="191458"/>
                </a:lnTo>
                <a:lnTo>
                  <a:pt x="27524" y="198371"/>
                </a:lnTo>
                <a:lnTo>
                  <a:pt x="30203" y="204674"/>
                </a:lnTo>
                <a:lnTo>
                  <a:pt x="33682" y="210569"/>
                </a:lnTo>
                <a:lnTo>
                  <a:pt x="37696" y="216192"/>
                </a:lnTo>
                <a:lnTo>
                  <a:pt x="42910" y="220788"/>
                </a:lnTo>
                <a:lnTo>
                  <a:pt x="48927" y="224698"/>
                </a:lnTo>
                <a:lnTo>
                  <a:pt x="55478" y="228152"/>
                </a:lnTo>
                <a:lnTo>
                  <a:pt x="64078" y="231301"/>
                </a:lnTo>
                <a:lnTo>
                  <a:pt x="74046" y="234247"/>
                </a:lnTo>
                <a:lnTo>
                  <a:pt x="84924" y="237058"/>
                </a:lnTo>
                <a:lnTo>
                  <a:pt x="108300" y="242439"/>
                </a:lnTo>
                <a:lnTo>
                  <a:pt x="120460" y="245059"/>
                </a:lnTo>
                <a:lnTo>
                  <a:pt x="131953" y="245959"/>
                </a:lnTo>
                <a:lnTo>
                  <a:pt x="143003" y="245712"/>
                </a:lnTo>
                <a:lnTo>
                  <a:pt x="153756" y="244701"/>
                </a:lnTo>
                <a:lnTo>
                  <a:pt x="163464" y="244027"/>
                </a:lnTo>
                <a:lnTo>
                  <a:pt x="172475" y="243578"/>
                </a:lnTo>
                <a:lnTo>
                  <a:pt x="181023" y="243278"/>
                </a:lnTo>
                <a:lnTo>
                  <a:pt x="188416" y="242232"/>
                </a:lnTo>
                <a:lnTo>
                  <a:pt x="195036" y="240688"/>
                </a:lnTo>
                <a:lnTo>
                  <a:pt x="213360" y="2350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InkAnnotation225"/>
          <p:cNvSpPr/>
          <p:nvPr/>
        </p:nvSpPr>
        <p:spPr>
          <a:xfrm>
            <a:off x="7437600" y="3863880"/>
            <a:ext cx="258480" cy="297000"/>
          </a:xfrm>
          <a:custGeom>
            <a:avLst/>
            <a:gdLst>
              <a:gd name="textAreaLeft" fmla="*/ 0 w 258480"/>
              <a:gd name="textAreaRight" fmla="*/ 258840 w 258480"/>
              <a:gd name="textAreaTop" fmla="*/ 0 h 297000"/>
              <a:gd name="textAreaBottom" fmla="*/ 297000 h 297000"/>
            </a:gdLst>
            <a:ahLst/>
            <a:rect l="textAreaLeft" t="textAreaTop" r="textAreaRight" b="textAreaBottom"/>
            <a:pathLst>
              <a:path w="258522" h="297158">
                <a:moveTo>
                  <a:pt x="189941" y="0"/>
                </a:moveTo>
                <a:lnTo>
                  <a:pt x="185896" y="0"/>
                </a:lnTo>
                <a:lnTo>
                  <a:pt x="184705" y="847"/>
                </a:lnTo>
                <a:lnTo>
                  <a:pt x="183910" y="2258"/>
                </a:lnTo>
                <a:lnTo>
                  <a:pt x="182181" y="7777"/>
                </a:lnTo>
                <a:lnTo>
                  <a:pt x="178590" y="18696"/>
                </a:lnTo>
                <a:lnTo>
                  <a:pt x="176447" y="24318"/>
                </a:lnTo>
                <a:lnTo>
                  <a:pt x="174172" y="29759"/>
                </a:lnTo>
                <a:lnTo>
                  <a:pt x="171808" y="35079"/>
                </a:lnTo>
                <a:lnTo>
                  <a:pt x="168540" y="41166"/>
                </a:lnTo>
                <a:lnTo>
                  <a:pt x="164666" y="47764"/>
                </a:lnTo>
                <a:lnTo>
                  <a:pt x="155848" y="61868"/>
                </a:lnTo>
                <a:lnTo>
                  <a:pt x="146284" y="76604"/>
                </a:lnTo>
                <a:lnTo>
                  <a:pt x="140517" y="84936"/>
                </a:lnTo>
                <a:lnTo>
                  <a:pt x="120264" y="112843"/>
                </a:lnTo>
                <a:lnTo>
                  <a:pt x="105633" y="132562"/>
                </a:lnTo>
                <a:lnTo>
                  <a:pt x="98176" y="141714"/>
                </a:lnTo>
                <a:lnTo>
                  <a:pt x="90665" y="150356"/>
                </a:lnTo>
                <a:lnTo>
                  <a:pt x="83117" y="158658"/>
                </a:lnTo>
                <a:lnTo>
                  <a:pt x="76392" y="167578"/>
                </a:lnTo>
                <a:lnTo>
                  <a:pt x="70215" y="176912"/>
                </a:lnTo>
                <a:lnTo>
                  <a:pt x="64403" y="186521"/>
                </a:lnTo>
                <a:lnTo>
                  <a:pt x="57989" y="195468"/>
                </a:lnTo>
                <a:lnTo>
                  <a:pt x="51173" y="203972"/>
                </a:lnTo>
                <a:lnTo>
                  <a:pt x="44088" y="212181"/>
                </a:lnTo>
                <a:lnTo>
                  <a:pt x="38520" y="220194"/>
                </a:lnTo>
                <a:lnTo>
                  <a:pt x="33960" y="228077"/>
                </a:lnTo>
                <a:lnTo>
                  <a:pt x="30074" y="235871"/>
                </a:lnTo>
                <a:lnTo>
                  <a:pt x="25789" y="242761"/>
                </a:lnTo>
                <a:lnTo>
                  <a:pt x="21241" y="249047"/>
                </a:lnTo>
                <a:lnTo>
                  <a:pt x="16513" y="254932"/>
                </a:lnTo>
                <a:lnTo>
                  <a:pt x="12517" y="260548"/>
                </a:lnTo>
                <a:lnTo>
                  <a:pt x="9005" y="265985"/>
                </a:lnTo>
                <a:lnTo>
                  <a:pt x="5818" y="271304"/>
                </a:lnTo>
                <a:lnTo>
                  <a:pt x="3692" y="276542"/>
                </a:lnTo>
                <a:lnTo>
                  <a:pt x="2275" y="281729"/>
                </a:lnTo>
                <a:lnTo>
                  <a:pt x="0" y="294128"/>
                </a:lnTo>
                <a:lnTo>
                  <a:pt x="661" y="295146"/>
                </a:lnTo>
                <a:lnTo>
                  <a:pt x="1947" y="295824"/>
                </a:lnTo>
                <a:lnTo>
                  <a:pt x="5635" y="296578"/>
                </a:lnTo>
                <a:lnTo>
                  <a:pt x="10097" y="296913"/>
                </a:lnTo>
                <a:lnTo>
                  <a:pt x="19417" y="297061"/>
                </a:lnTo>
                <a:lnTo>
                  <a:pt x="46097" y="297157"/>
                </a:lnTo>
                <a:lnTo>
                  <a:pt x="54252" y="296318"/>
                </a:lnTo>
                <a:lnTo>
                  <a:pt x="63075" y="294912"/>
                </a:lnTo>
                <a:lnTo>
                  <a:pt x="105614" y="286572"/>
                </a:lnTo>
                <a:lnTo>
                  <a:pt x="127627" y="281741"/>
                </a:lnTo>
                <a:lnTo>
                  <a:pt x="169354" y="271741"/>
                </a:lnTo>
                <a:lnTo>
                  <a:pt x="179603" y="270061"/>
                </a:lnTo>
                <a:lnTo>
                  <a:pt x="189822" y="268940"/>
                </a:lnTo>
                <a:lnTo>
                  <a:pt x="200021" y="268194"/>
                </a:lnTo>
                <a:lnTo>
                  <a:pt x="215871" y="267364"/>
                </a:lnTo>
                <a:lnTo>
                  <a:pt x="222467" y="267143"/>
                </a:lnTo>
                <a:lnTo>
                  <a:pt x="229405" y="266149"/>
                </a:lnTo>
                <a:lnTo>
                  <a:pt x="236571" y="264639"/>
                </a:lnTo>
                <a:lnTo>
                  <a:pt x="258521" y="2590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InkAnnotation226"/>
          <p:cNvSpPr/>
          <p:nvPr/>
        </p:nvSpPr>
        <p:spPr>
          <a:xfrm>
            <a:off x="4145040" y="455616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66701" h="266079">
                <a:moveTo>
                  <a:pt x="0" y="137024"/>
                </a:moveTo>
                <a:lnTo>
                  <a:pt x="0" y="118146"/>
                </a:lnTo>
                <a:lnTo>
                  <a:pt x="2258" y="111419"/>
                </a:lnTo>
                <a:lnTo>
                  <a:pt x="4045" y="107254"/>
                </a:lnTo>
                <a:lnTo>
                  <a:pt x="8289" y="98111"/>
                </a:lnTo>
                <a:lnTo>
                  <a:pt x="10606" y="93302"/>
                </a:lnTo>
                <a:lnTo>
                  <a:pt x="13844" y="88403"/>
                </a:lnTo>
                <a:lnTo>
                  <a:pt x="17696" y="83444"/>
                </a:lnTo>
                <a:lnTo>
                  <a:pt x="21957" y="78444"/>
                </a:lnTo>
                <a:lnTo>
                  <a:pt x="26491" y="73417"/>
                </a:lnTo>
                <a:lnTo>
                  <a:pt x="36045" y="63317"/>
                </a:lnTo>
                <a:lnTo>
                  <a:pt x="66082" y="32880"/>
                </a:lnTo>
                <a:lnTo>
                  <a:pt x="71995" y="28648"/>
                </a:lnTo>
                <a:lnTo>
                  <a:pt x="78477" y="24980"/>
                </a:lnTo>
                <a:lnTo>
                  <a:pt x="113831" y="7682"/>
                </a:lnTo>
                <a:lnTo>
                  <a:pt x="119067" y="5077"/>
                </a:lnTo>
                <a:lnTo>
                  <a:pt x="124252" y="3339"/>
                </a:lnTo>
                <a:lnTo>
                  <a:pt x="129401" y="2180"/>
                </a:lnTo>
                <a:lnTo>
                  <a:pt x="134527" y="1408"/>
                </a:lnTo>
                <a:lnTo>
                  <a:pt x="142481" y="551"/>
                </a:lnTo>
                <a:lnTo>
                  <a:pt x="148838" y="170"/>
                </a:lnTo>
                <a:lnTo>
                  <a:pt x="154485" y="0"/>
                </a:lnTo>
                <a:lnTo>
                  <a:pt x="156331" y="801"/>
                </a:lnTo>
                <a:lnTo>
                  <a:pt x="157560" y="2182"/>
                </a:lnTo>
                <a:lnTo>
                  <a:pt x="158381" y="3950"/>
                </a:lnTo>
                <a:lnTo>
                  <a:pt x="159291" y="8171"/>
                </a:lnTo>
                <a:lnTo>
                  <a:pt x="159534" y="10482"/>
                </a:lnTo>
                <a:lnTo>
                  <a:pt x="157546" y="17565"/>
                </a:lnTo>
                <a:lnTo>
                  <a:pt x="155831" y="21825"/>
                </a:lnTo>
                <a:lnTo>
                  <a:pt x="152994" y="26358"/>
                </a:lnTo>
                <a:lnTo>
                  <a:pt x="149409" y="31074"/>
                </a:lnTo>
                <a:lnTo>
                  <a:pt x="145327" y="35910"/>
                </a:lnTo>
                <a:lnTo>
                  <a:pt x="140911" y="41675"/>
                </a:lnTo>
                <a:lnTo>
                  <a:pt x="136274" y="48058"/>
                </a:lnTo>
                <a:lnTo>
                  <a:pt x="126606" y="61924"/>
                </a:lnTo>
                <a:lnTo>
                  <a:pt x="116665" y="76553"/>
                </a:lnTo>
                <a:lnTo>
                  <a:pt x="110797" y="84010"/>
                </a:lnTo>
                <a:lnTo>
                  <a:pt x="104345" y="91521"/>
                </a:lnTo>
                <a:lnTo>
                  <a:pt x="97503" y="99069"/>
                </a:lnTo>
                <a:lnTo>
                  <a:pt x="91249" y="106640"/>
                </a:lnTo>
                <a:lnTo>
                  <a:pt x="85386" y="114229"/>
                </a:lnTo>
                <a:lnTo>
                  <a:pt x="79784" y="121827"/>
                </a:lnTo>
                <a:lnTo>
                  <a:pt x="69044" y="137043"/>
                </a:lnTo>
                <a:lnTo>
                  <a:pt x="48351" y="167508"/>
                </a:lnTo>
                <a:lnTo>
                  <a:pt x="44935" y="175127"/>
                </a:lnTo>
                <a:lnTo>
                  <a:pt x="42656" y="182746"/>
                </a:lnTo>
                <a:lnTo>
                  <a:pt x="41138" y="190365"/>
                </a:lnTo>
                <a:lnTo>
                  <a:pt x="39279" y="197138"/>
                </a:lnTo>
                <a:lnTo>
                  <a:pt x="37193" y="203347"/>
                </a:lnTo>
                <a:lnTo>
                  <a:pt x="34955" y="209179"/>
                </a:lnTo>
                <a:lnTo>
                  <a:pt x="34310" y="214761"/>
                </a:lnTo>
                <a:lnTo>
                  <a:pt x="34727" y="220175"/>
                </a:lnTo>
                <a:lnTo>
                  <a:pt x="35851" y="225478"/>
                </a:lnTo>
                <a:lnTo>
                  <a:pt x="37448" y="230707"/>
                </a:lnTo>
                <a:lnTo>
                  <a:pt x="39358" y="235886"/>
                </a:lnTo>
                <a:lnTo>
                  <a:pt x="41478" y="241032"/>
                </a:lnTo>
                <a:lnTo>
                  <a:pt x="44586" y="245310"/>
                </a:lnTo>
                <a:lnTo>
                  <a:pt x="52554" y="252320"/>
                </a:lnTo>
                <a:lnTo>
                  <a:pt x="57896" y="255375"/>
                </a:lnTo>
                <a:lnTo>
                  <a:pt x="63998" y="258258"/>
                </a:lnTo>
                <a:lnTo>
                  <a:pt x="70605" y="261027"/>
                </a:lnTo>
                <a:lnTo>
                  <a:pt x="77550" y="262873"/>
                </a:lnTo>
                <a:lnTo>
                  <a:pt x="84720" y="264103"/>
                </a:lnTo>
                <a:lnTo>
                  <a:pt x="92040" y="264924"/>
                </a:lnTo>
                <a:lnTo>
                  <a:pt x="101153" y="265470"/>
                </a:lnTo>
                <a:lnTo>
                  <a:pt x="122569" y="266078"/>
                </a:lnTo>
                <a:lnTo>
                  <a:pt x="134205" y="265393"/>
                </a:lnTo>
                <a:lnTo>
                  <a:pt x="146197" y="264090"/>
                </a:lnTo>
                <a:lnTo>
                  <a:pt x="158425" y="262375"/>
                </a:lnTo>
                <a:lnTo>
                  <a:pt x="183300" y="258211"/>
                </a:lnTo>
                <a:lnTo>
                  <a:pt x="195860" y="255916"/>
                </a:lnTo>
                <a:lnTo>
                  <a:pt x="206773" y="254385"/>
                </a:lnTo>
                <a:lnTo>
                  <a:pt x="216589" y="253365"/>
                </a:lnTo>
                <a:lnTo>
                  <a:pt x="225672" y="252685"/>
                </a:lnTo>
                <a:lnTo>
                  <a:pt x="234269" y="250538"/>
                </a:lnTo>
                <a:lnTo>
                  <a:pt x="242539" y="247413"/>
                </a:lnTo>
                <a:lnTo>
                  <a:pt x="266700" y="23608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InkAnnotation227"/>
          <p:cNvSpPr/>
          <p:nvPr/>
        </p:nvSpPr>
        <p:spPr>
          <a:xfrm>
            <a:off x="4497480" y="4489560"/>
            <a:ext cx="201600" cy="203040"/>
          </a:xfrm>
          <a:custGeom>
            <a:avLst/>
            <a:gdLst>
              <a:gd name="textAreaLeft" fmla="*/ 0 w 201600"/>
              <a:gd name="textAreaRight" fmla="*/ 201960 w 2016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01760" h="204092">
                <a:moveTo>
                  <a:pt x="157910" y="14088"/>
                </a:moveTo>
                <a:lnTo>
                  <a:pt x="151349" y="7527"/>
                </a:lnTo>
                <a:lnTo>
                  <a:pt x="150761" y="4681"/>
                </a:lnTo>
                <a:lnTo>
                  <a:pt x="150383" y="0"/>
                </a:lnTo>
                <a:lnTo>
                  <a:pt x="149506" y="463"/>
                </a:lnTo>
                <a:lnTo>
                  <a:pt x="146272" y="3235"/>
                </a:lnTo>
                <a:lnTo>
                  <a:pt x="144225" y="4312"/>
                </a:lnTo>
                <a:lnTo>
                  <a:pt x="139693" y="5510"/>
                </a:lnTo>
                <a:lnTo>
                  <a:pt x="136452" y="7523"/>
                </a:lnTo>
                <a:lnTo>
                  <a:pt x="132598" y="10558"/>
                </a:lnTo>
                <a:lnTo>
                  <a:pt x="128336" y="14275"/>
                </a:lnTo>
                <a:lnTo>
                  <a:pt x="122954" y="18446"/>
                </a:lnTo>
                <a:lnTo>
                  <a:pt x="116826" y="22920"/>
                </a:lnTo>
                <a:lnTo>
                  <a:pt x="103244" y="32406"/>
                </a:lnTo>
                <a:lnTo>
                  <a:pt x="88740" y="42267"/>
                </a:lnTo>
                <a:lnTo>
                  <a:pt x="80471" y="48961"/>
                </a:lnTo>
                <a:lnTo>
                  <a:pt x="71570" y="56810"/>
                </a:lnTo>
                <a:lnTo>
                  <a:pt x="53497" y="73715"/>
                </a:lnTo>
                <a:lnTo>
                  <a:pt x="36997" y="89696"/>
                </a:lnTo>
                <a:lnTo>
                  <a:pt x="29888" y="97513"/>
                </a:lnTo>
                <a:lnTo>
                  <a:pt x="23455" y="105265"/>
                </a:lnTo>
                <a:lnTo>
                  <a:pt x="17474" y="112973"/>
                </a:lnTo>
                <a:lnTo>
                  <a:pt x="12639" y="120651"/>
                </a:lnTo>
                <a:lnTo>
                  <a:pt x="8569" y="128310"/>
                </a:lnTo>
                <a:lnTo>
                  <a:pt x="5009" y="135956"/>
                </a:lnTo>
                <a:lnTo>
                  <a:pt x="2636" y="143593"/>
                </a:lnTo>
                <a:lnTo>
                  <a:pt x="1055" y="151225"/>
                </a:lnTo>
                <a:lnTo>
                  <a:pt x="0" y="158852"/>
                </a:lnTo>
                <a:lnTo>
                  <a:pt x="143" y="165631"/>
                </a:lnTo>
                <a:lnTo>
                  <a:pt x="1085" y="171844"/>
                </a:lnTo>
                <a:lnTo>
                  <a:pt x="2560" y="177678"/>
                </a:lnTo>
                <a:lnTo>
                  <a:pt x="6084" y="182415"/>
                </a:lnTo>
                <a:lnTo>
                  <a:pt x="10973" y="186419"/>
                </a:lnTo>
                <a:lnTo>
                  <a:pt x="16771" y="189935"/>
                </a:lnTo>
                <a:lnTo>
                  <a:pt x="23178" y="193126"/>
                </a:lnTo>
                <a:lnTo>
                  <a:pt x="29988" y="196100"/>
                </a:lnTo>
                <a:lnTo>
                  <a:pt x="37069" y="198929"/>
                </a:lnTo>
                <a:lnTo>
                  <a:pt x="45176" y="200816"/>
                </a:lnTo>
                <a:lnTo>
                  <a:pt x="53967" y="202073"/>
                </a:lnTo>
                <a:lnTo>
                  <a:pt x="63215" y="202911"/>
                </a:lnTo>
                <a:lnTo>
                  <a:pt x="71920" y="203470"/>
                </a:lnTo>
                <a:lnTo>
                  <a:pt x="88366" y="204091"/>
                </a:lnTo>
                <a:lnTo>
                  <a:pt x="97154" y="202563"/>
                </a:lnTo>
                <a:lnTo>
                  <a:pt x="106399" y="199852"/>
                </a:lnTo>
                <a:lnTo>
                  <a:pt x="115949" y="196350"/>
                </a:lnTo>
                <a:lnTo>
                  <a:pt x="124857" y="191476"/>
                </a:lnTo>
                <a:lnTo>
                  <a:pt x="133334" y="185687"/>
                </a:lnTo>
                <a:lnTo>
                  <a:pt x="141526" y="179287"/>
                </a:lnTo>
                <a:lnTo>
                  <a:pt x="150374" y="173328"/>
                </a:lnTo>
                <a:lnTo>
                  <a:pt x="159660" y="167661"/>
                </a:lnTo>
                <a:lnTo>
                  <a:pt x="169237" y="162190"/>
                </a:lnTo>
                <a:lnTo>
                  <a:pt x="176468" y="156003"/>
                </a:lnTo>
                <a:lnTo>
                  <a:pt x="182135" y="149338"/>
                </a:lnTo>
                <a:lnTo>
                  <a:pt x="186760" y="142355"/>
                </a:lnTo>
                <a:lnTo>
                  <a:pt x="190690" y="135159"/>
                </a:lnTo>
                <a:lnTo>
                  <a:pt x="194157" y="127822"/>
                </a:lnTo>
                <a:lnTo>
                  <a:pt x="197315" y="120391"/>
                </a:lnTo>
                <a:lnTo>
                  <a:pt x="199420" y="113743"/>
                </a:lnTo>
                <a:lnTo>
                  <a:pt x="200823" y="107618"/>
                </a:lnTo>
                <a:lnTo>
                  <a:pt x="201759" y="101841"/>
                </a:lnTo>
                <a:lnTo>
                  <a:pt x="201536" y="97144"/>
                </a:lnTo>
                <a:lnTo>
                  <a:pt x="200541" y="93165"/>
                </a:lnTo>
                <a:lnTo>
                  <a:pt x="199031" y="89666"/>
                </a:lnTo>
                <a:lnTo>
                  <a:pt x="196331" y="85640"/>
                </a:lnTo>
                <a:lnTo>
                  <a:pt x="192837" y="81263"/>
                </a:lnTo>
                <a:lnTo>
                  <a:pt x="188815" y="76651"/>
                </a:lnTo>
                <a:lnTo>
                  <a:pt x="182088" y="69269"/>
                </a:lnTo>
                <a:lnTo>
                  <a:pt x="179108" y="66116"/>
                </a:lnTo>
                <a:lnTo>
                  <a:pt x="176276" y="64013"/>
                </a:lnTo>
                <a:lnTo>
                  <a:pt x="173541" y="62611"/>
                </a:lnTo>
                <a:lnTo>
                  <a:pt x="165531" y="598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InkAnnotation228"/>
          <p:cNvSpPr/>
          <p:nvPr/>
        </p:nvSpPr>
        <p:spPr>
          <a:xfrm>
            <a:off x="4494240" y="4670280"/>
            <a:ext cx="204840" cy="158760"/>
          </a:xfrm>
          <a:custGeom>
            <a:avLst/>
            <a:gdLst>
              <a:gd name="textAreaLeft" fmla="*/ 0 w 204840"/>
              <a:gd name="textAreaRight" fmla="*/ 205200 w 2048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06114" h="158354">
                <a:moveTo>
                  <a:pt x="116544" y="0"/>
                </a:moveTo>
                <a:lnTo>
                  <a:pt x="116544" y="7306"/>
                </a:lnTo>
                <a:lnTo>
                  <a:pt x="112499" y="7527"/>
                </a:lnTo>
                <a:lnTo>
                  <a:pt x="110461" y="8405"/>
                </a:lnTo>
                <a:lnTo>
                  <a:pt x="102701" y="13685"/>
                </a:lnTo>
                <a:lnTo>
                  <a:pt x="98848" y="15897"/>
                </a:lnTo>
                <a:lnTo>
                  <a:pt x="94587" y="18218"/>
                </a:lnTo>
                <a:lnTo>
                  <a:pt x="89206" y="21458"/>
                </a:lnTo>
                <a:lnTo>
                  <a:pt x="76453" y="29575"/>
                </a:lnTo>
                <a:lnTo>
                  <a:pt x="32549" y="58564"/>
                </a:lnTo>
                <a:lnTo>
                  <a:pt x="25834" y="64443"/>
                </a:lnTo>
                <a:lnTo>
                  <a:pt x="19664" y="70902"/>
                </a:lnTo>
                <a:lnTo>
                  <a:pt x="13857" y="77748"/>
                </a:lnTo>
                <a:lnTo>
                  <a:pt x="9139" y="84006"/>
                </a:lnTo>
                <a:lnTo>
                  <a:pt x="5148" y="89870"/>
                </a:lnTo>
                <a:lnTo>
                  <a:pt x="1639" y="95474"/>
                </a:lnTo>
                <a:lnTo>
                  <a:pt x="148" y="101749"/>
                </a:lnTo>
                <a:lnTo>
                  <a:pt x="0" y="108473"/>
                </a:lnTo>
                <a:lnTo>
                  <a:pt x="748" y="115495"/>
                </a:lnTo>
                <a:lnTo>
                  <a:pt x="2093" y="121871"/>
                </a:lnTo>
                <a:lnTo>
                  <a:pt x="3837" y="127813"/>
                </a:lnTo>
                <a:lnTo>
                  <a:pt x="5846" y="133469"/>
                </a:lnTo>
                <a:lnTo>
                  <a:pt x="8878" y="138086"/>
                </a:lnTo>
                <a:lnTo>
                  <a:pt x="12594" y="142011"/>
                </a:lnTo>
                <a:lnTo>
                  <a:pt x="16764" y="145474"/>
                </a:lnTo>
                <a:lnTo>
                  <a:pt x="22931" y="148630"/>
                </a:lnTo>
                <a:lnTo>
                  <a:pt x="30428" y="151580"/>
                </a:lnTo>
                <a:lnTo>
                  <a:pt x="38813" y="154393"/>
                </a:lnTo>
                <a:lnTo>
                  <a:pt x="47790" y="156269"/>
                </a:lnTo>
                <a:lnTo>
                  <a:pt x="57162" y="157520"/>
                </a:lnTo>
                <a:lnTo>
                  <a:pt x="66796" y="158353"/>
                </a:lnTo>
                <a:lnTo>
                  <a:pt x="75759" y="158062"/>
                </a:lnTo>
                <a:lnTo>
                  <a:pt x="84274" y="157022"/>
                </a:lnTo>
                <a:lnTo>
                  <a:pt x="92490" y="155481"/>
                </a:lnTo>
                <a:lnTo>
                  <a:pt x="110651" y="151512"/>
                </a:lnTo>
                <a:lnTo>
                  <a:pt x="120236" y="149268"/>
                </a:lnTo>
                <a:lnTo>
                  <a:pt x="129165" y="145232"/>
                </a:lnTo>
                <a:lnTo>
                  <a:pt x="137659" y="140002"/>
                </a:lnTo>
                <a:lnTo>
                  <a:pt x="145860" y="133975"/>
                </a:lnTo>
                <a:lnTo>
                  <a:pt x="154715" y="128263"/>
                </a:lnTo>
                <a:lnTo>
                  <a:pt x="164004" y="122762"/>
                </a:lnTo>
                <a:lnTo>
                  <a:pt x="173585" y="117401"/>
                </a:lnTo>
                <a:lnTo>
                  <a:pt x="180818" y="111288"/>
                </a:lnTo>
                <a:lnTo>
                  <a:pt x="186487" y="104672"/>
                </a:lnTo>
                <a:lnTo>
                  <a:pt x="191112" y="97721"/>
                </a:lnTo>
                <a:lnTo>
                  <a:pt x="195043" y="90548"/>
                </a:lnTo>
                <a:lnTo>
                  <a:pt x="198510" y="83225"/>
                </a:lnTo>
                <a:lnTo>
                  <a:pt x="201669" y="75804"/>
                </a:lnTo>
                <a:lnTo>
                  <a:pt x="203774" y="69162"/>
                </a:lnTo>
                <a:lnTo>
                  <a:pt x="205177" y="63042"/>
                </a:lnTo>
                <a:lnTo>
                  <a:pt x="206113" y="57268"/>
                </a:lnTo>
                <a:lnTo>
                  <a:pt x="205890" y="52572"/>
                </a:lnTo>
                <a:lnTo>
                  <a:pt x="204895" y="48595"/>
                </a:lnTo>
                <a:lnTo>
                  <a:pt x="203385" y="45096"/>
                </a:lnTo>
                <a:lnTo>
                  <a:pt x="199449" y="36695"/>
                </a:lnTo>
                <a:lnTo>
                  <a:pt x="197214" y="32083"/>
                </a:lnTo>
                <a:lnTo>
                  <a:pt x="194030" y="29009"/>
                </a:lnTo>
                <a:lnTo>
                  <a:pt x="190215" y="26959"/>
                </a:lnTo>
                <a:lnTo>
                  <a:pt x="185979" y="25593"/>
                </a:lnTo>
                <a:lnTo>
                  <a:pt x="181461" y="24682"/>
                </a:lnTo>
                <a:lnTo>
                  <a:pt x="176755" y="24075"/>
                </a:lnTo>
                <a:lnTo>
                  <a:pt x="171925" y="23670"/>
                </a:lnTo>
                <a:lnTo>
                  <a:pt x="167858" y="22554"/>
                </a:lnTo>
                <a:lnTo>
                  <a:pt x="164300" y="20962"/>
                </a:lnTo>
                <a:lnTo>
                  <a:pt x="161082" y="19055"/>
                </a:lnTo>
                <a:lnTo>
                  <a:pt x="158089" y="18630"/>
                </a:lnTo>
                <a:lnTo>
                  <a:pt x="155247" y="19193"/>
                </a:lnTo>
                <a:lnTo>
                  <a:pt x="147024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InkAnnotation229"/>
          <p:cNvSpPr/>
          <p:nvPr/>
        </p:nvSpPr>
        <p:spPr>
          <a:xfrm>
            <a:off x="4830840" y="4678200"/>
            <a:ext cx="168120" cy="8280"/>
          </a:xfrm>
          <a:custGeom>
            <a:avLst/>
            <a:gdLst>
              <a:gd name="textAreaLeft" fmla="*/ 0 w 168120"/>
              <a:gd name="textAreaRight" fmla="*/ 168480 w 168120"/>
              <a:gd name="textAreaTop" fmla="*/ 0 h 8280"/>
              <a:gd name="textAreaBottom" fmla="*/ 8640 h 8280"/>
            </a:gdLst>
            <a:ahLst/>
            <a:rect l="textAreaLeft" t="textAreaTop" r="textAreaRight" b="textAreaBottom"/>
            <a:pathLst>
              <a:path w="167641" h="7621">
                <a:moveTo>
                  <a:pt x="0" y="7620"/>
                </a:moveTo>
                <a:lnTo>
                  <a:pt x="54023" y="7620"/>
                </a:lnTo>
                <a:lnTo>
                  <a:pt x="61416" y="6774"/>
                </a:lnTo>
                <a:lnTo>
                  <a:pt x="68884" y="5362"/>
                </a:lnTo>
                <a:lnTo>
                  <a:pt x="76403" y="3575"/>
                </a:lnTo>
                <a:lnTo>
                  <a:pt x="83955" y="2383"/>
                </a:lnTo>
                <a:lnTo>
                  <a:pt x="91530" y="1589"/>
                </a:lnTo>
                <a:lnTo>
                  <a:pt x="99120" y="1059"/>
                </a:lnTo>
                <a:lnTo>
                  <a:pt x="107567" y="706"/>
                </a:lnTo>
                <a:lnTo>
                  <a:pt x="133942" y="209"/>
                </a:lnTo>
                <a:lnTo>
                  <a:pt x="1676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InkAnnotation230"/>
          <p:cNvSpPr/>
          <p:nvPr/>
        </p:nvSpPr>
        <p:spPr>
          <a:xfrm>
            <a:off x="4876920" y="4770360"/>
            <a:ext cx="122040" cy="14400"/>
          </a:xfrm>
          <a:custGeom>
            <a:avLst/>
            <a:gdLst>
              <a:gd name="textAreaLeft" fmla="*/ 0 w 122040"/>
              <a:gd name="textAreaRight" fmla="*/ 122400 w 122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21921" h="15241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8" y="6031"/>
                </a:lnTo>
                <a:lnTo>
                  <a:pt x="6561" y="7307"/>
                </a:lnTo>
                <a:lnTo>
                  <a:pt x="7760" y="8257"/>
                </a:lnTo>
                <a:lnTo>
                  <a:pt x="9408" y="9739"/>
                </a:lnTo>
                <a:lnTo>
                  <a:pt x="11352" y="11573"/>
                </a:lnTo>
                <a:lnTo>
                  <a:pt x="14341" y="12795"/>
                </a:lnTo>
                <a:lnTo>
                  <a:pt x="18028" y="13610"/>
                </a:lnTo>
                <a:lnTo>
                  <a:pt x="22178" y="14153"/>
                </a:lnTo>
                <a:lnTo>
                  <a:pt x="27486" y="14516"/>
                </a:lnTo>
                <a:lnTo>
                  <a:pt x="33563" y="14758"/>
                </a:lnTo>
                <a:lnTo>
                  <a:pt x="47091" y="15026"/>
                </a:lnTo>
                <a:lnTo>
                  <a:pt x="12192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InkAnnotation231"/>
          <p:cNvSpPr/>
          <p:nvPr/>
        </p:nvSpPr>
        <p:spPr>
          <a:xfrm>
            <a:off x="5118120" y="4479840"/>
            <a:ext cx="266760" cy="122400"/>
          </a:xfrm>
          <a:custGeom>
            <a:avLst/>
            <a:gdLst>
              <a:gd name="textAreaLeft" fmla="*/ 0 w 266760"/>
              <a:gd name="textAreaRight" fmla="*/ 267120 w 2667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66926" h="121436">
                <a:moveTo>
                  <a:pt x="238235" y="22860"/>
                </a:moveTo>
                <a:lnTo>
                  <a:pt x="238235" y="16299"/>
                </a:lnTo>
                <a:lnTo>
                  <a:pt x="237388" y="15946"/>
                </a:lnTo>
                <a:lnTo>
                  <a:pt x="234190" y="15554"/>
                </a:lnTo>
                <a:lnTo>
                  <a:pt x="232151" y="14603"/>
                </a:lnTo>
                <a:lnTo>
                  <a:pt x="227629" y="11288"/>
                </a:lnTo>
                <a:lnTo>
                  <a:pt x="224391" y="10065"/>
                </a:lnTo>
                <a:lnTo>
                  <a:pt x="216277" y="8707"/>
                </a:lnTo>
                <a:lnTo>
                  <a:pt x="210896" y="8345"/>
                </a:lnTo>
                <a:lnTo>
                  <a:pt x="204769" y="8103"/>
                </a:lnTo>
                <a:lnTo>
                  <a:pt x="190341" y="7835"/>
                </a:lnTo>
                <a:lnTo>
                  <a:pt x="143634" y="7649"/>
                </a:lnTo>
                <a:lnTo>
                  <a:pt x="131987" y="8486"/>
                </a:lnTo>
                <a:lnTo>
                  <a:pt x="119144" y="9891"/>
                </a:lnTo>
                <a:lnTo>
                  <a:pt x="105501" y="11674"/>
                </a:lnTo>
                <a:lnTo>
                  <a:pt x="93019" y="13709"/>
                </a:lnTo>
                <a:lnTo>
                  <a:pt x="81311" y="15913"/>
                </a:lnTo>
                <a:lnTo>
                  <a:pt x="59271" y="20619"/>
                </a:lnTo>
                <a:lnTo>
                  <a:pt x="38187" y="25533"/>
                </a:lnTo>
                <a:lnTo>
                  <a:pt x="29516" y="28876"/>
                </a:lnTo>
                <a:lnTo>
                  <a:pt x="22042" y="32797"/>
                </a:lnTo>
                <a:lnTo>
                  <a:pt x="15367" y="37105"/>
                </a:lnTo>
                <a:lnTo>
                  <a:pt x="10069" y="41670"/>
                </a:lnTo>
                <a:lnTo>
                  <a:pt x="5691" y="46407"/>
                </a:lnTo>
                <a:lnTo>
                  <a:pt x="1926" y="51258"/>
                </a:lnTo>
                <a:lnTo>
                  <a:pt x="262" y="56185"/>
                </a:lnTo>
                <a:lnTo>
                  <a:pt x="0" y="61163"/>
                </a:lnTo>
                <a:lnTo>
                  <a:pt x="671" y="66176"/>
                </a:lnTo>
                <a:lnTo>
                  <a:pt x="1966" y="71211"/>
                </a:lnTo>
                <a:lnTo>
                  <a:pt x="3676" y="76261"/>
                </a:lnTo>
                <a:lnTo>
                  <a:pt x="5662" y="81320"/>
                </a:lnTo>
                <a:lnTo>
                  <a:pt x="9527" y="86387"/>
                </a:lnTo>
                <a:lnTo>
                  <a:pt x="14643" y="91458"/>
                </a:lnTo>
                <a:lnTo>
                  <a:pt x="20593" y="96532"/>
                </a:lnTo>
                <a:lnTo>
                  <a:pt x="27947" y="100762"/>
                </a:lnTo>
                <a:lnTo>
                  <a:pt x="36236" y="104427"/>
                </a:lnTo>
                <a:lnTo>
                  <a:pt x="45149" y="107718"/>
                </a:lnTo>
                <a:lnTo>
                  <a:pt x="55324" y="110759"/>
                </a:lnTo>
                <a:lnTo>
                  <a:pt x="66341" y="113632"/>
                </a:lnTo>
                <a:lnTo>
                  <a:pt x="77919" y="116395"/>
                </a:lnTo>
                <a:lnTo>
                  <a:pt x="89871" y="118236"/>
                </a:lnTo>
                <a:lnTo>
                  <a:pt x="102073" y="119464"/>
                </a:lnTo>
                <a:lnTo>
                  <a:pt x="114440" y="120283"/>
                </a:lnTo>
                <a:lnTo>
                  <a:pt x="126072" y="120829"/>
                </a:lnTo>
                <a:lnTo>
                  <a:pt x="148027" y="121435"/>
                </a:lnTo>
                <a:lnTo>
                  <a:pt x="159469" y="120750"/>
                </a:lnTo>
                <a:lnTo>
                  <a:pt x="171331" y="119447"/>
                </a:lnTo>
                <a:lnTo>
                  <a:pt x="183473" y="117731"/>
                </a:lnTo>
                <a:lnTo>
                  <a:pt x="194107" y="115741"/>
                </a:lnTo>
                <a:lnTo>
                  <a:pt x="203736" y="113567"/>
                </a:lnTo>
                <a:lnTo>
                  <a:pt x="212696" y="111271"/>
                </a:lnTo>
                <a:lnTo>
                  <a:pt x="221209" y="107201"/>
                </a:lnTo>
                <a:lnTo>
                  <a:pt x="229424" y="101947"/>
                </a:lnTo>
                <a:lnTo>
                  <a:pt x="237441" y="95905"/>
                </a:lnTo>
                <a:lnTo>
                  <a:pt x="243633" y="90183"/>
                </a:lnTo>
                <a:lnTo>
                  <a:pt x="248606" y="84675"/>
                </a:lnTo>
                <a:lnTo>
                  <a:pt x="252770" y="79311"/>
                </a:lnTo>
                <a:lnTo>
                  <a:pt x="256391" y="74040"/>
                </a:lnTo>
                <a:lnTo>
                  <a:pt x="259653" y="68834"/>
                </a:lnTo>
                <a:lnTo>
                  <a:pt x="262673" y="63670"/>
                </a:lnTo>
                <a:lnTo>
                  <a:pt x="264687" y="58533"/>
                </a:lnTo>
                <a:lnTo>
                  <a:pt x="266030" y="53416"/>
                </a:lnTo>
                <a:lnTo>
                  <a:pt x="266925" y="48310"/>
                </a:lnTo>
                <a:lnTo>
                  <a:pt x="266675" y="43214"/>
                </a:lnTo>
                <a:lnTo>
                  <a:pt x="265662" y="38122"/>
                </a:lnTo>
                <a:lnTo>
                  <a:pt x="264139" y="33035"/>
                </a:lnTo>
                <a:lnTo>
                  <a:pt x="261431" y="28797"/>
                </a:lnTo>
                <a:lnTo>
                  <a:pt x="257932" y="25124"/>
                </a:lnTo>
                <a:lnTo>
                  <a:pt x="253906" y="21830"/>
                </a:lnTo>
                <a:lnTo>
                  <a:pt x="248683" y="18786"/>
                </a:lnTo>
                <a:lnTo>
                  <a:pt x="242661" y="15911"/>
                </a:lnTo>
                <a:lnTo>
                  <a:pt x="236105" y="13147"/>
                </a:lnTo>
                <a:lnTo>
                  <a:pt x="231735" y="10459"/>
                </a:lnTo>
                <a:lnTo>
                  <a:pt x="228821" y="7820"/>
                </a:lnTo>
                <a:lnTo>
                  <a:pt x="226879" y="5213"/>
                </a:lnTo>
                <a:lnTo>
                  <a:pt x="223891" y="3476"/>
                </a:lnTo>
                <a:lnTo>
                  <a:pt x="220206" y="2317"/>
                </a:lnTo>
                <a:lnTo>
                  <a:pt x="20775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InkAnnotation232"/>
          <p:cNvSpPr/>
          <p:nvPr/>
        </p:nvSpPr>
        <p:spPr>
          <a:xfrm>
            <a:off x="5126040" y="4656240"/>
            <a:ext cx="230040" cy="155520"/>
          </a:xfrm>
          <a:custGeom>
            <a:avLst/>
            <a:gdLst>
              <a:gd name="textAreaLeft" fmla="*/ 0 w 230040"/>
              <a:gd name="textAreaRight" fmla="*/ 230400 w 23004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30844" h="155636">
                <a:moveTo>
                  <a:pt x="139403" y="15240"/>
                </a:moveTo>
                <a:lnTo>
                  <a:pt x="139403" y="7934"/>
                </a:lnTo>
                <a:lnTo>
                  <a:pt x="132842" y="7648"/>
                </a:lnTo>
                <a:lnTo>
                  <a:pt x="110664" y="7623"/>
                </a:lnTo>
                <a:lnTo>
                  <a:pt x="105850" y="8469"/>
                </a:lnTo>
                <a:lnTo>
                  <a:pt x="100948" y="9879"/>
                </a:lnTo>
                <a:lnTo>
                  <a:pt x="95986" y="11666"/>
                </a:lnTo>
                <a:lnTo>
                  <a:pt x="90139" y="14551"/>
                </a:lnTo>
                <a:lnTo>
                  <a:pt x="83700" y="18167"/>
                </a:lnTo>
                <a:lnTo>
                  <a:pt x="76868" y="22271"/>
                </a:lnTo>
                <a:lnTo>
                  <a:pt x="62502" y="31347"/>
                </a:lnTo>
                <a:lnTo>
                  <a:pt x="32585" y="50972"/>
                </a:lnTo>
                <a:lnTo>
                  <a:pt x="25857" y="56841"/>
                </a:lnTo>
                <a:lnTo>
                  <a:pt x="19680" y="63294"/>
                </a:lnTo>
                <a:lnTo>
                  <a:pt x="13867" y="70136"/>
                </a:lnTo>
                <a:lnTo>
                  <a:pt x="9146" y="76391"/>
                </a:lnTo>
                <a:lnTo>
                  <a:pt x="5152" y="82254"/>
                </a:lnTo>
                <a:lnTo>
                  <a:pt x="1642" y="87856"/>
                </a:lnTo>
                <a:lnTo>
                  <a:pt x="149" y="93284"/>
                </a:lnTo>
                <a:lnTo>
                  <a:pt x="0" y="98597"/>
                </a:lnTo>
                <a:lnTo>
                  <a:pt x="748" y="103831"/>
                </a:lnTo>
                <a:lnTo>
                  <a:pt x="2940" y="109861"/>
                </a:lnTo>
                <a:lnTo>
                  <a:pt x="6094" y="116420"/>
                </a:lnTo>
                <a:lnTo>
                  <a:pt x="9890" y="123334"/>
                </a:lnTo>
                <a:lnTo>
                  <a:pt x="14115" y="128789"/>
                </a:lnTo>
                <a:lnTo>
                  <a:pt x="18624" y="133273"/>
                </a:lnTo>
                <a:lnTo>
                  <a:pt x="23324" y="137108"/>
                </a:lnTo>
                <a:lnTo>
                  <a:pt x="28997" y="140513"/>
                </a:lnTo>
                <a:lnTo>
                  <a:pt x="35319" y="143629"/>
                </a:lnTo>
                <a:lnTo>
                  <a:pt x="42074" y="146552"/>
                </a:lnTo>
                <a:lnTo>
                  <a:pt x="49964" y="149348"/>
                </a:lnTo>
                <a:lnTo>
                  <a:pt x="58610" y="152059"/>
                </a:lnTo>
                <a:lnTo>
                  <a:pt x="67761" y="154712"/>
                </a:lnTo>
                <a:lnTo>
                  <a:pt x="77248" y="155635"/>
                </a:lnTo>
                <a:lnTo>
                  <a:pt x="86960" y="155404"/>
                </a:lnTo>
                <a:lnTo>
                  <a:pt x="96821" y="154403"/>
                </a:lnTo>
                <a:lnTo>
                  <a:pt x="106782" y="152889"/>
                </a:lnTo>
                <a:lnTo>
                  <a:pt x="116809" y="151032"/>
                </a:lnTo>
                <a:lnTo>
                  <a:pt x="126880" y="148948"/>
                </a:lnTo>
                <a:lnTo>
                  <a:pt x="136134" y="145019"/>
                </a:lnTo>
                <a:lnTo>
                  <a:pt x="144844" y="139859"/>
                </a:lnTo>
                <a:lnTo>
                  <a:pt x="153190" y="133880"/>
                </a:lnTo>
                <a:lnTo>
                  <a:pt x="161295" y="127353"/>
                </a:lnTo>
                <a:lnTo>
                  <a:pt x="169237" y="120462"/>
                </a:lnTo>
                <a:lnTo>
                  <a:pt x="177072" y="113328"/>
                </a:lnTo>
                <a:lnTo>
                  <a:pt x="183989" y="106032"/>
                </a:lnTo>
                <a:lnTo>
                  <a:pt x="190294" y="98628"/>
                </a:lnTo>
                <a:lnTo>
                  <a:pt x="196190" y="91152"/>
                </a:lnTo>
                <a:lnTo>
                  <a:pt x="200968" y="83628"/>
                </a:lnTo>
                <a:lnTo>
                  <a:pt x="204999" y="76072"/>
                </a:lnTo>
                <a:lnTo>
                  <a:pt x="208534" y="68495"/>
                </a:lnTo>
                <a:lnTo>
                  <a:pt x="211737" y="60904"/>
                </a:lnTo>
                <a:lnTo>
                  <a:pt x="214719" y="53302"/>
                </a:lnTo>
                <a:lnTo>
                  <a:pt x="220290" y="38084"/>
                </a:lnTo>
                <a:lnTo>
                  <a:pt x="225588" y="22853"/>
                </a:lnTo>
                <a:lnTo>
                  <a:pt x="227340" y="16929"/>
                </a:lnTo>
                <a:lnTo>
                  <a:pt x="228507" y="12132"/>
                </a:lnTo>
                <a:lnTo>
                  <a:pt x="23084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InkAnnotation233"/>
          <p:cNvSpPr/>
          <p:nvPr/>
        </p:nvSpPr>
        <p:spPr>
          <a:xfrm>
            <a:off x="5388120" y="4495680"/>
            <a:ext cx="220680" cy="266760"/>
          </a:xfrm>
          <a:custGeom>
            <a:avLst/>
            <a:gdLst>
              <a:gd name="textAreaLeft" fmla="*/ 0 w 220680"/>
              <a:gd name="textAreaRight" fmla="*/ 221040 w 2206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20496" h="266701">
                <a:moveTo>
                  <a:pt x="151916" y="0"/>
                </a:moveTo>
                <a:lnTo>
                  <a:pt x="144609" y="0"/>
                </a:lnTo>
                <a:lnTo>
                  <a:pt x="140343" y="4045"/>
                </a:lnTo>
                <a:lnTo>
                  <a:pt x="139120" y="6930"/>
                </a:lnTo>
                <a:lnTo>
                  <a:pt x="136553" y="19927"/>
                </a:lnTo>
                <a:lnTo>
                  <a:pt x="134901" y="25985"/>
                </a:lnTo>
                <a:lnTo>
                  <a:pt x="132952" y="32563"/>
                </a:lnTo>
                <a:lnTo>
                  <a:pt x="129960" y="38642"/>
                </a:lnTo>
                <a:lnTo>
                  <a:pt x="126272" y="44388"/>
                </a:lnTo>
                <a:lnTo>
                  <a:pt x="122119" y="49912"/>
                </a:lnTo>
                <a:lnTo>
                  <a:pt x="112990" y="62823"/>
                </a:lnTo>
                <a:lnTo>
                  <a:pt x="108185" y="69822"/>
                </a:lnTo>
                <a:lnTo>
                  <a:pt x="102442" y="77028"/>
                </a:lnTo>
                <a:lnTo>
                  <a:pt x="96073" y="84372"/>
                </a:lnTo>
                <a:lnTo>
                  <a:pt x="89287" y="91808"/>
                </a:lnTo>
                <a:lnTo>
                  <a:pt x="83070" y="100152"/>
                </a:lnTo>
                <a:lnTo>
                  <a:pt x="77231" y="109101"/>
                </a:lnTo>
                <a:lnTo>
                  <a:pt x="71646" y="118454"/>
                </a:lnTo>
                <a:lnTo>
                  <a:pt x="60924" y="135620"/>
                </a:lnTo>
                <a:lnTo>
                  <a:pt x="35134" y="175057"/>
                </a:lnTo>
                <a:lnTo>
                  <a:pt x="24941" y="190410"/>
                </a:lnTo>
                <a:lnTo>
                  <a:pt x="20700" y="197214"/>
                </a:lnTo>
                <a:lnTo>
                  <a:pt x="17024" y="203443"/>
                </a:lnTo>
                <a:lnTo>
                  <a:pt x="13728" y="209288"/>
                </a:lnTo>
                <a:lnTo>
                  <a:pt x="10683" y="214032"/>
                </a:lnTo>
                <a:lnTo>
                  <a:pt x="5043" y="221561"/>
                </a:lnTo>
                <a:lnTo>
                  <a:pt x="3200" y="225601"/>
                </a:lnTo>
                <a:lnTo>
                  <a:pt x="1972" y="229987"/>
                </a:lnTo>
                <a:lnTo>
                  <a:pt x="1153" y="234605"/>
                </a:lnTo>
                <a:lnTo>
                  <a:pt x="243" y="241993"/>
                </a:lnTo>
                <a:lnTo>
                  <a:pt x="0" y="245149"/>
                </a:lnTo>
                <a:lnTo>
                  <a:pt x="685" y="248099"/>
                </a:lnTo>
                <a:lnTo>
                  <a:pt x="3704" y="253636"/>
                </a:lnTo>
                <a:lnTo>
                  <a:pt x="5694" y="255450"/>
                </a:lnTo>
                <a:lnTo>
                  <a:pt x="7868" y="256660"/>
                </a:lnTo>
                <a:lnTo>
                  <a:pt x="10163" y="257467"/>
                </a:lnTo>
                <a:lnTo>
                  <a:pt x="13388" y="258004"/>
                </a:lnTo>
                <a:lnTo>
                  <a:pt x="17230" y="258363"/>
                </a:lnTo>
                <a:lnTo>
                  <a:pt x="21486" y="258602"/>
                </a:lnTo>
                <a:lnTo>
                  <a:pt x="30728" y="258868"/>
                </a:lnTo>
                <a:lnTo>
                  <a:pt x="82765" y="259068"/>
                </a:lnTo>
                <a:lnTo>
                  <a:pt x="92268" y="259919"/>
                </a:lnTo>
                <a:lnTo>
                  <a:pt x="102838" y="261333"/>
                </a:lnTo>
                <a:lnTo>
                  <a:pt x="114116" y="263122"/>
                </a:lnTo>
                <a:lnTo>
                  <a:pt x="125023" y="264314"/>
                </a:lnTo>
                <a:lnTo>
                  <a:pt x="135680" y="265109"/>
                </a:lnTo>
                <a:lnTo>
                  <a:pt x="155706" y="265993"/>
                </a:lnTo>
                <a:lnTo>
                  <a:pt x="180414" y="266491"/>
                </a:lnTo>
                <a:lnTo>
                  <a:pt x="220495" y="2667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InkAnnotation234"/>
          <p:cNvSpPr/>
          <p:nvPr/>
        </p:nvSpPr>
        <p:spPr>
          <a:xfrm>
            <a:off x="5715000" y="4618080"/>
            <a:ext cx="206280" cy="7920"/>
          </a:xfrm>
          <a:custGeom>
            <a:avLst/>
            <a:gdLst>
              <a:gd name="textAreaLeft" fmla="*/ 0 w 206280"/>
              <a:gd name="textAreaRight" fmla="*/ 206640 w 206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5742" h="7621">
                <a:moveTo>
                  <a:pt x="0" y="0"/>
                </a:moveTo>
                <a:lnTo>
                  <a:pt x="101162" y="0"/>
                </a:lnTo>
                <a:lnTo>
                  <a:pt x="111468" y="847"/>
                </a:lnTo>
                <a:lnTo>
                  <a:pt x="121726" y="2258"/>
                </a:lnTo>
                <a:lnTo>
                  <a:pt x="131950" y="4045"/>
                </a:lnTo>
                <a:lnTo>
                  <a:pt x="143001" y="5237"/>
                </a:lnTo>
                <a:lnTo>
                  <a:pt x="154601" y="6031"/>
                </a:lnTo>
                <a:lnTo>
                  <a:pt x="176238" y="6914"/>
                </a:lnTo>
                <a:lnTo>
                  <a:pt x="205741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InkAnnotation235"/>
          <p:cNvSpPr/>
          <p:nvPr/>
        </p:nvSpPr>
        <p:spPr>
          <a:xfrm>
            <a:off x="5965920" y="4503600"/>
            <a:ext cx="311040" cy="257400"/>
          </a:xfrm>
          <a:custGeom>
            <a:avLst/>
            <a:gdLst>
              <a:gd name="textAreaLeft" fmla="*/ 0 w 311040"/>
              <a:gd name="textAreaRight" fmla="*/ 311400 w 31104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310397" h="257850">
                <a:moveTo>
                  <a:pt x="0" y="30350"/>
                </a:moveTo>
                <a:lnTo>
                  <a:pt x="6561" y="23789"/>
                </a:lnTo>
                <a:lnTo>
                  <a:pt x="15397" y="18999"/>
                </a:lnTo>
                <a:lnTo>
                  <a:pt x="20425" y="16855"/>
                </a:lnTo>
                <a:lnTo>
                  <a:pt x="26316" y="14580"/>
                </a:lnTo>
                <a:lnTo>
                  <a:pt x="32784" y="12217"/>
                </a:lnTo>
                <a:lnTo>
                  <a:pt x="40483" y="9795"/>
                </a:lnTo>
                <a:lnTo>
                  <a:pt x="58068" y="4845"/>
                </a:lnTo>
                <a:lnTo>
                  <a:pt x="67499" y="3187"/>
                </a:lnTo>
                <a:lnTo>
                  <a:pt x="77173" y="2082"/>
                </a:lnTo>
                <a:lnTo>
                  <a:pt x="87008" y="1344"/>
                </a:lnTo>
                <a:lnTo>
                  <a:pt x="97799" y="853"/>
                </a:lnTo>
                <a:lnTo>
                  <a:pt x="121078" y="307"/>
                </a:lnTo>
                <a:lnTo>
                  <a:pt x="157983" y="0"/>
                </a:lnTo>
                <a:lnTo>
                  <a:pt x="169668" y="803"/>
                </a:lnTo>
                <a:lnTo>
                  <a:pt x="180846" y="2186"/>
                </a:lnTo>
                <a:lnTo>
                  <a:pt x="191684" y="3954"/>
                </a:lnTo>
                <a:lnTo>
                  <a:pt x="201450" y="5133"/>
                </a:lnTo>
                <a:lnTo>
                  <a:pt x="210499" y="5918"/>
                </a:lnTo>
                <a:lnTo>
                  <a:pt x="219073" y="6442"/>
                </a:lnTo>
                <a:lnTo>
                  <a:pt x="226482" y="7638"/>
                </a:lnTo>
                <a:lnTo>
                  <a:pt x="233115" y="9282"/>
                </a:lnTo>
                <a:lnTo>
                  <a:pt x="239230" y="11225"/>
                </a:lnTo>
                <a:lnTo>
                  <a:pt x="248282" y="13383"/>
                </a:lnTo>
                <a:lnTo>
                  <a:pt x="255127" y="14343"/>
                </a:lnTo>
                <a:lnTo>
                  <a:pt x="260992" y="14769"/>
                </a:lnTo>
                <a:lnTo>
                  <a:pt x="262895" y="15729"/>
                </a:lnTo>
                <a:lnTo>
                  <a:pt x="264163" y="17216"/>
                </a:lnTo>
                <a:lnTo>
                  <a:pt x="265009" y="19055"/>
                </a:lnTo>
                <a:lnTo>
                  <a:pt x="264726" y="21127"/>
                </a:lnTo>
                <a:lnTo>
                  <a:pt x="263691" y="23354"/>
                </a:lnTo>
                <a:lnTo>
                  <a:pt x="262154" y="25686"/>
                </a:lnTo>
                <a:lnTo>
                  <a:pt x="255930" y="30535"/>
                </a:lnTo>
                <a:lnTo>
                  <a:pt x="247520" y="35512"/>
                </a:lnTo>
                <a:lnTo>
                  <a:pt x="238138" y="40547"/>
                </a:lnTo>
                <a:lnTo>
                  <a:pt x="231572" y="43074"/>
                </a:lnTo>
                <a:lnTo>
                  <a:pt x="223808" y="45606"/>
                </a:lnTo>
                <a:lnTo>
                  <a:pt x="215245" y="48141"/>
                </a:lnTo>
                <a:lnTo>
                  <a:pt x="207844" y="50677"/>
                </a:lnTo>
                <a:lnTo>
                  <a:pt x="201215" y="53215"/>
                </a:lnTo>
                <a:lnTo>
                  <a:pt x="195104" y="55753"/>
                </a:lnTo>
                <a:lnTo>
                  <a:pt x="189336" y="59139"/>
                </a:lnTo>
                <a:lnTo>
                  <a:pt x="183798" y="63089"/>
                </a:lnTo>
                <a:lnTo>
                  <a:pt x="178412" y="67416"/>
                </a:lnTo>
                <a:lnTo>
                  <a:pt x="173128" y="71148"/>
                </a:lnTo>
                <a:lnTo>
                  <a:pt x="167912" y="74482"/>
                </a:lnTo>
                <a:lnTo>
                  <a:pt x="162741" y="77551"/>
                </a:lnTo>
                <a:lnTo>
                  <a:pt x="159294" y="81291"/>
                </a:lnTo>
                <a:lnTo>
                  <a:pt x="156996" y="85477"/>
                </a:lnTo>
                <a:lnTo>
                  <a:pt x="155464" y="89961"/>
                </a:lnTo>
                <a:lnTo>
                  <a:pt x="155290" y="93798"/>
                </a:lnTo>
                <a:lnTo>
                  <a:pt x="156020" y="97202"/>
                </a:lnTo>
                <a:lnTo>
                  <a:pt x="157353" y="100318"/>
                </a:lnTo>
                <a:lnTo>
                  <a:pt x="163351" y="108296"/>
                </a:lnTo>
                <a:lnTo>
                  <a:pt x="167321" y="112794"/>
                </a:lnTo>
                <a:lnTo>
                  <a:pt x="176246" y="122307"/>
                </a:lnTo>
                <a:lnTo>
                  <a:pt x="180998" y="127215"/>
                </a:lnTo>
                <a:lnTo>
                  <a:pt x="186705" y="132180"/>
                </a:lnTo>
                <a:lnTo>
                  <a:pt x="193050" y="137183"/>
                </a:lnTo>
                <a:lnTo>
                  <a:pt x="199820" y="142213"/>
                </a:lnTo>
                <a:lnTo>
                  <a:pt x="207720" y="147258"/>
                </a:lnTo>
                <a:lnTo>
                  <a:pt x="216373" y="152316"/>
                </a:lnTo>
                <a:lnTo>
                  <a:pt x="225528" y="157381"/>
                </a:lnTo>
                <a:lnTo>
                  <a:pt x="244733" y="167523"/>
                </a:lnTo>
                <a:lnTo>
                  <a:pt x="254595" y="172599"/>
                </a:lnTo>
                <a:lnTo>
                  <a:pt x="262864" y="177676"/>
                </a:lnTo>
                <a:lnTo>
                  <a:pt x="270069" y="182754"/>
                </a:lnTo>
                <a:lnTo>
                  <a:pt x="276566" y="187833"/>
                </a:lnTo>
                <a:lnTo>
                  <a:pt x="282591" y="192912"/>
                </a:lnTo>
                <a:lnTo>
                  <a:pt x="288300" y="197991"/>
                </a:lnTo>
                <a:lnTo>
                  <a:pt x="298314" y="207304"/>
                </a:lnTo>
                <a:lnTo>
                  <a:pt x="305586" y="214266"/>
                </a:lnTo>
                <a:lnTo>
                  <a:pt x="307864" y="218154"/>
                </a:lnTo>
                <a:lnTo>
                  <a:pt x="309383" y="222439"/>
                </a:lnTo>
                <a:lnTo>
                  <a:pt x="310396" y="226990"/>
                </a:lnTo>
                <a:lnTo>
                  <a:pt x="310224" y="230870"/>
                </a:lnTo>
                <a:lnTo>
                  <a:pt x="309263" y="234303"/>
                </a:lnTo>
                <a:lnTo>
                  <a:pt x="307775" y="237439"/>
                </a:lnTo>
                <a:lnTo>
                  <a:pt x="305090" y="240376"/>
                </a:lnTo>
                <a:lnTo>
                  <a:pt x="297591" y="245897"/>
                </a:lnTo>
                <a:lnTo>
                  <a:pt x="292374" y="247708"/>
                </a:lnTo>
                <a:lnTo>
                  <a:pt x="286356" y="248915"/>
                </a:lnTo>
                <a:lnTo>
                  <a:pt x="279804" y="249720"/>
                </a:lnTo>
                <a:lnTo>
                  <a:pt x="272050" y="250257"/>
                </a:lnTo>
                <a:lnTo>
                  <a:pt x="263493" y="250614"/>
                </a:lnTo>
                <a:lnTo>
                  <a:pt x="254402" y="250853"/>
                </a:lnTo>
                <a:lnTo>
                  <a:pt x="244954" y="251859"/>
                </a:lnTo>
                <a:lnTo>
                  <a:pt x="235270" y="253376"/>
                </a:lnTo>
                <a:lnTo>
                  <a:pt x="225427" y="255234"/>
                </a:lnTo>
                <a:lnTo>
                  <a:pt x="214631" y="256473"/>
                </a:lnTo>
                <a:lnTo>
                  <a:pt x="203201" y="257299"/>
                </a:lnTo>
                <a:lnTo>
                  <a:pt x="191348" y="257849"/>
                </a:lnTo>
                <a:lnTo>
                  <a:pt x="180058" y="257369"/>
                </a:lnTo>
                <a:lnTo>
                  <a:pt x="169146" y="256203"/>
                </a:lnTo>
                <a:lnTo>
                  <a:pt x="158484" y="254579"/>
                </a:lnTo>
                <a:lnTo>
                  <a:pt x="147989" y="253496"/>
                </a:lnTo>
                <a:lnTo>
                  <a:pt x="137607" y="252774"/>
                </a:lnTo>
                <a:lnTo>
                  <a:pt x="117885" y="251972"/>
                </a:lnTo>
                <a:lnTo>
                  <a:pt x="100654" y="251615"/>
                </a:lnTo>
                <a:lnTo>
                  <a:pt x="94196" y="249827"/>
                </a:lnTo>
                <a:lnTo>
                  <a:pt x="89044" y="246941"/>
                </a:lnTo>
                <a:lnTo>
                  <a:pt x="81062" y="240913"/>
                </a:lnTo>
                <a:lnTo>
                  <a:pt x="74692" y="238234"/>
                </a:lnTo>
                <a:lnTo>
                  <a:pt x="73501" y="235826"/>
                </a:lnTo>
                <a:lnTo>
                  <a:pt x="73554" y="232528"/>
                </a:lnTo>
                <a:lnTo>
                  <a:pt x="75677" y="223156"/>
                </a:lnTo>
                <a:lnTo>
                  <a:pt x="78226" y="219617"/>
                </a:lnTo>
                <a:lnTo>
                  <a:pt x="83820" y="2132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InkAnnotation236"/>
          <p:cNvSpPr/>
          <p:nvPr/>
        </p:nvSpPr>
        <p:spPr>
          <a:xfrm>
            <a:off x="6319800" y="4503600"/>
            <a:ext cx="217440" cy="319320"/>
          </a:xfrm>
          <a:custGeom>
            <a:avLst/>
            <a:gdLst>
              <a:gd name="textAreaLeft" fmla="*/ 0 w 217440"/>
              <a:gd name="textAreaRight" fmla="*/ 217800 w 2174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17836" h="320041">
                <a:moveTo>
                  <a:pt x="142387" y="0"/>
                </a:moveTo>
                <a:lnTo>
                  <a:pt x="138342" y="4045"/>
                </a:lnTo>
                <a:lnTo>
                  <a:pt x="134099" y="10546"/>
                </a:lnTo>
                <a:lnTo>
                  <a:pt x="128543" y="19081"/>
                </a:lnTo>
                <a:lnTo>
                  <a:pt x="124692" y="23727"/>
                </a:lnTo>
                <a:lnTo>
                  <a:pt x="120430" y="28518"/>
                </a:lnTo>
                <a:lnTo>
                  <a:pt x="115895" y="34252"/>
                </a:lnTo>
                <a:lnTo>
                  <a:pt x="111179" y="40615"/>
                </a:lnTo>
                <a:lnTo>
                  <a:pt x="106342" y="47397"/>
                </a:lnTo>
                <a:lnTo>
                  <a:pt x="100577" y="54458"/>
                </a:lnTo>
                <a:lnTo>
                  <a:pt x="94194" y="61705"/>
                </a:lnTo>
                <a:lnTo>
                  <a:pt x="87398" y="69077"/>
                </a:lnTo>
                <a:lnTo>
                  <a:pt x="80328" y="77378"/>
                </a:lnTo>
                <a:lnTo>
                  <a:pt x="65699" y="95632"/>
                </a:lnTo>
                <a:lnTo>
                  <a:pt x="58241" y="104395"/>
                </a:lnTo>
                <a:lnTo>
                  <a:pt x="50729" y="112777"/>
                </a:lnTo>
                <a:lnTo>
                  <a:pt x="43182" y="120905"/>
                </a:lnTo>
                <a:lnTo>
                  <a:pt x="35610" y="129710"/>
                </a:lnTo>
                <a:lnTo>
                  <a:pt x="28023" y="138966"/>
                </a:lnTo>
                <a:lnTo>
                  <a:pt x="20424" y="148524"/>
                </a:lnTo>
                <a:lnTo>
                  <a:pt x="14512" y="158283"/>
                </a:lnTo>
                <a:lnTo>
                  <a:pt x="9723" y="168175"/>
                </a:lnTo>
                <a:lnTo>
                  <a:pt x="5684" y="178157"/>
                </a:lnTo>
                <a:lnTo>
                  <a:pt x="2991" y="187351"/>
                </a:lnTo>
                <a:lnTo>
                  <a:pt x="1197" y="196021"/>
                </a:lnTo>
                <a:lnTo>
                  <a:pt x="0" y="204341"/>
                </a:lnTo>
                <a:lnTo>
                  <a:pt x="49" y="213273"/>
                </a:lnTo>
                <a:lnTo>
                  <a:pt x="928" y="222616"/>
                </a:lnTo>
                <a:lnTo>
                  <a:pt x="2361" y="232230"/>
                </a:lnTo>
                <a:lnTo>
                  <a:pt x="5856" y="240334"/>
                </a:lnTo>
                <a:lnTo>
                  <a:pt x="10727" y="247429"/>
                </a:lnTo>
                <a:lnTo>
                  <a:pt x="16514" y="253853"/>
                </a:lnTo>
                <a:lnTo>
                  <a:pt x="22911" y="259828"/>
                </a:lnTo>
                <a:lnTo>
                  <a:pt x="29717" y="265506"/>
                </a:lnTo>
                <a:lnTo>
                  <a:pt x="36793" y="270984"/>
                </a:lnTo>
                <a:lnTo>
                  <a:pt x="45744" y="275483"/>
                </a:lnTo>
                <a:lnTo>
                  <a:pt x="55945" y="279328"/>
                </a:lnTo>
                <a:lnTo>
                  <a:pt x="66979" y="282739"/>
                </a:lnTo>
                <a:lnTo>
                  <a:pt x="78569" y="285859"/>
                </a:lnTo>
                <a:lnTo>
                  <a:pt x="90528" y="288786"/>
                </a:lnTo>
                <a:lnTo>
                  <a:pt x="102734" y="291584"/>
                </a:lnTo>
                <a:lnTo>
                  <a:pt x="114258" y="292602"/>
                </a:lnTo>
                <a:lnTo>
                  <a:pt x="125328" y="292435"/>
                </a:lnTo>
                <a:lnTo>
                  <a:pt x="136094" y="291476"/>
                </a:lnTo>
                <a:lnTo>
                  <a:pt x="146658" y="289145"/>
                </a:lnTo>
                <a:lnTo>
                  <a:pt x="157088" y="285897"/>
                </a:lnTo>
                <a:lnTo>
                  <a:pt x="176861" y="278618"/>
                </a:lnTo>
                <a:lnTo>
                  <a:pt x="194116" y="272561"/>
                </a:lnTo>
                <a:lnTo>
                  <a:pt x="200579" y="268068"/>
                </a:lnTo>
                <a:lnTo>
                  <a:pt x="205735" y="262532"/>
                </a:lnTo>
                <a:lnTo>
                  <a:pt x="210018" y="256301"/>
                </a:lnTo>
                <a:lnTo>
                  <a:pt x="214779" y="247120"/>
                </a:lnTo>
                <a:lnTo>
                  <a:pt x="216895" y="239372"/>
                </a:lnTo>
                <a:lnTo>
                  <a:pt x="217835" y="230283"/>
                </a:lnTo>
                <a:lnTo>
                  <a:pt x="216392" y="226335"/>
                </a:lnTo>
                <a:lnTo>
                  <a:pt x="213738" y="222857"/>
                </a:lnTo>
                <a:lnTo>
                  <a:pt x="210274" y="219691"/>
                </a:lnTo>
                <a:lnTo>
                  <a:pt x="204168" y="216174"/>
                </a:lnTo>
                <a:lnTo>
                  <a:pt x="201355" y="215236"/>
                </a:lnTo>
                <a:lnTo>
                  <a:pt x="197786" y="214611"/>
                </a:lnTo>
                <a:lnTo>
                  <a:pt x="193712" y="214194"/>
                </a:lnTo>
                <a:lnTo>
                  <a:pt x="189304" y="213916"/>
                </a:lnTo>
                <a:lnTo>
                  <a:pt x="184672" y="214577"/>
                </a:lnTo>
                <a:lnTo>
                  <a:pt x="179890" y="215865"/>
                </a:lnTo>
                <a:lnTo>
                  <a:pt x="175010" y="217570"/>
                </a:lnTo>
                <a:lnTo>
                  <a:pt x="170909" y="220400"/>
                </a:lnTo>
                <a:lnTo>
                  <a:pt x="167328" y="223980"/>
                </a:lnTo>
                <a:lnTo>
                  <a:pt x="164094" y="228060"/>
                </a:lnTo>
                <a:lnTo>
                  <a:pt x="161092" y="233320"/>
                </a:lnTo>
                <a:lnTo>
                  <a:pt x="158244" y="239367"/>
                </a:lnTo>
                <a:lnTo>
                  <a:pt x="155498" y="245938"/>
                </a:lnTo>
                <a:lnTo>
                  <a:pt x="153668" y="253706"/>
                </a:lnTo>
                <a:lnTo>
                  <a:pt x="152448" y="262271"/>
                </a:lnTo>
                <a:lnTo>
                  <a:pt x="151635" y="271367"/>
                </a:lnTo>
                <a:lnTo>
                  <a:pt x="151092" y="279125"/>
                </a:lnTo>
                <a:lnTo>
                  <a:pt x="150489" y="292260"/>
                </a:lnTo>
                <a:lnTo>
                  <a:pt x="150221" y="303742"/>
                </a:lnTo>
                <a:lnTo>
                  <a:pt x="150007" y="3200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InkAnnotation237"/>
          <p:cNvSpPr/>
          <p:nvPr/>
        </p:nvSpPr>
        <p:spPr>
          <a:xfrm>
            <a:off x="5616720" y="4822920"/>
            <a:ext cx="158760" cy="336600"/>
          </a:xfrm>
          <a:custGeom>
            <a:avLst/>
            <a:gdLst>
              <a:gd name="textAreaLeft" fmla="*/ 0 w 158760"/>
              <a:gd name="textAreaRight" fmla="*/ 159120 w 15876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160020" h="335281">
                <a:moveTo>
                  <a:pt x="160019" y="0"/>
                </a:moveTo>
                <a:lnTo>
                  <a:pt x="155974" y="4045"/>
                </a:lnTo>
                <a:lnTo>
                  <a:pt x="154782" y="6083"/>
                </a:lnTo>
                <a:lnTo>
                  <a:pt x="152258" y="13844"/>
                </a:lnTo>
                <a:lnTo>
                  <a:pt x="148668" y="21957"/>
                </a:lnTo>
                <a:lnTo>
                  <a:pt x="146525" y="28185"/>
                </a:lnTo>
                <a:lnTo>
                  <a:pt x="144249" y="35723"/>
                </a:lnTo>
                <a:lnTo>
                  <a:pt x="141887" y="44136"/>
                </a:lnTo>
                <a:lnTo>
                  <a:pt x="138617" y="52284"/>
                </a:lnTo>
                <a:lnTo>
                  <a:pt x="134745" y="60256"/>
                </a:lnTo>
                <a:lnTo>
                  <a:pt x="130469" y="68111"/>
                </a:lnTo>
                <a:lnTo>
                  <a:pt x="125926" y="77580"/>
                </a:lnTo>
                <a:lnTo>
                  <a:pt x="121203" y="88127"/>
                </a:lnTo>
                <a:lnTo>
                  <a:pt x="116363" y="99391"/>
                </a:lnTo>
                <a:lnTo>
                  <a:pt x="106467" y="120938"/>
                </a:lnTo>
                <a:lnTo>
                  <a:pt x="101458" y="131426"/>
                </a:lnTo>
                <a:lnTo>
                  <a:pt x="95578" y="142650"/>
                </a:lnTo>
                <a:lnTo>
                  <a:pt x="82272" y="166411"/>
                </a:lnTo>
                <a:lnTo>
                  <a:pt x="76015" y="178674"/>
                </a:lnTo>
                <a:lnTo>
                  <a:pt x="70149" y="191083"/>
                </a:lnTo>
                <a:lnTo>
                  <a:pt x="59117" y="215312"/>
                </a:lnTo>
                <a:lnTo>
                  <a:pt x="48569" y="237370"/>
                </a:lnTo>
                <a:lnTo>
                  <a:pt x="42540" y="248840"/>
                </a:lnTo>
                <a:lnTo>
                  <a:pt x="29066" y="272873"/>
                </a:lnTo>
                <a:lnTo>
                  <a:pt x="23611" y="283516"/>
                </a:lnTo>
                <a:lnTo>
                  <a:pt x="19127" y="293151"/>
                </a:lnTo>
                <a:lnTo>
                  <a:pt x="11887" y="309782"/>
                </a:lnTo>
                <a:lnTo>
                  <a:pt x="0" y="3352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InkAnnotation238"/>
          <p:cNvSpPr/>
          <p:nvPr/>
        </p:nvSpPr>
        <p:spPr>
          <a:xfrm>
            <a:off x="5600880" y="5021280"/>
            <a:ext cx="144360" cy="7920"/>
          </a:xfrm>
          <a:custGeom>
            <a:avLst/>
            <a:gdLst>
              <a:gd name="textAreaLeft" fmla="*/ 0 w 144360"/>
              <a:gd name="textAreaRight" fmla="*/ 144720 w 144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44781" h="7621">
                <a:moveTo>
                  <a:pt x="0" y="0"/>
                </a:moveTo>
                <a:lnTo>
                  <a:pt x="28518" y="0"/>
                </a:lnTo>
                <a:lnTo>
                  <a:pt x="34252" y="846"/>
                </a:lnTo>
                <a:lnTo>
                  <a:pt x="40615" y="2258"/>
                </a:lnTo>
                <a:lnTo>
                  <a:pt x="47397" y="4045"/>
                </a:lnTo>
                <a:lnTo>
                  <a:pt x="54458" y="5237"/>
                </a:lnTo>
                <a:lnTo>
                  <a:pt x="61706" y="6032"/>
                </a:lnTo>
                <a:lnTo>
                  <a:pt x="69077" y="6561"/>
                </a:lnTo>
                <a:lnTo>
                  <a:pt x="77377" y="6914"/>
                </a:lnTo>
                <a:lnTo>
                  <a:pt x="103548" y="7411"/>
                </a:lnTo>
                <a:lnTo>
                  <a:pt x="14478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InkAnnotation239"/>
          <p:cNvSpPr/>
          <p:nvPr/>
        </p:nvSpPr>
        <p:spPr>
          <a:xfrm>
            <a:off x="5904000" y="4876920"/>
            <a:ext cx="217440" cy="182520"/>
          </a:xfrm>
          <a:custGeom>
            <a:avLst/>
            <a:gdLst>
              <a:gd name="textAreaLeft" fmla="*/ 0 w 217440"/>
              <a:gd name="textAreaRight" fmla="*/ 217800 w 2174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7581" h="182528">
                <a:moveTo>
                  <a:pt x="32519" y="7620"/>
                </a:moveTo>
                <a:lnTo>
                  <a:pt x="25212" y="7620"/>
                </a:lnTo>
                <a:lnTo>
                  <a:pt x="20946" y="3575"/>
                </a:lnTo>
                <a:lnTo>
                  <a:pt x="20571" y="2384"/>
                </a:lnTo>
                <a:lnTo>
                  <a:pt x="21166" y="1589"/>
                </a:lnTo>
                <a:lnTo>
                  <a:pt x="24161" y="314"/>
                </a:lnTo>
                <a:lnTo>
                  <a:pt x="29087" y="140"/>
                </a:lnTo>
                <a:lnTo>
                  <a:pt x="152458" y="0"/>
                </a:lnTo>
                <a:lnTo>
                  <a:pt x="153119" y="846"/>
                </a:lnTo>
                <a:lnTo>
                  <a:pt x="153852" y="4045"/>
                </a:lnTo>
                <a:lnTo>
                  <a:pt x="152354" y="6083"/>
                </a:lnTo>
                <a:lnTo>
                  <a:pt x="146175" y="10606"/>
                </a:lnTo>
                <a:lnTo>
                  <a:pt x="142156" y="12997"/>
                </a:lnTo>
                <a:lnTo>
                  <a:pt x="137783" y="15439"/>
                </a:lnTo>
                <a:lnTo>
                  <a:pt x="133176" y="17912"/>
                </a:lnTo>
                <a:lnTo>
                  <a:pt x="127564" y="20408"/>
                </a:lnTo>
                <a:lnTo>
                  <a:pt x="121282" y="22919"/>
                </a:lnTo>
                <a:lnTo>
                  <a:pt x="107529" y="27966"/>
                </a:lnTo>
                <a:lnTo>
                  <a:pt x="92950" y="33032"/>
                </a:lnTo>
                <a:lnTo>
                  <a:pt x="85506" y="36414"/>
                </a:lnTo>
                <a:lnTo>
                  <a:pt x="78003" y="40363"/>
                </a:lnTo>
                <a:lnTo>
                  <a:pt x="63741" y="48419"/>
                </a:lnTo>
                <a:lnTo>
                  <a:pt x="51758" y="54822"/>
                </a:lnTo>
                <a:lnTo>
                  <a:pt x="47038" y="57715"/>
                </a:lnTo>
                <a:lnTo>
                  <a:pt x="43045" y="60490"/>
                </a:lnTo>
                <a:lnTo>
                  <a:pt x="34598" y="66982"/>
                </a:lnTo>
                <a:lnTo>
                  <a:pt x="35598" y="69208"/>
                </a:lnTo>
                <a:lnTo>
                  <a:pt x="37959" y="72386"/>
                </a:lnTo>
                <a:lnTo>
                  <a:pt x="41225" y="76197"/>
                </a:lnTo>
                <a:lnTo>
                  <a:pt x="45097" y="78738"/>
                </a:lnTo>
                <a:lnTo>
                  <a:pt x="49371" y="80432"/>
                </a:lnTo>
                <a:lnTo>
                  <a:pt x="53914" y="81562"/>
                </a:lnTo>
                <a:lnTo>
                  <a:pt x="59482" y="83161"/>
                </a:lnTo>
                <a:lnTo>
                  <a:pt x="72443" y="87196"/>
                </a:lnTo>
                <a:lnTo>
                  <a:pt x="88927" y="91812"/>
                </a:lnTo>
                <a:lnTo>
                  <a:pt x="166413" y="111775"/>
                </a:lnTo>
                <a:lnTo>
                  <a:pt x="183467" y="116846"/>
                </a:lnTo>
                <a:lnTo>
                  <a:pt x="190725" y="119385"/>
                </a:lnTo>
                <a:lnTo>
                  <a:pt x="197256" y="121923"/>
                </a:lnTo>
                <a:lnTo>
                  <a:pt x="203303" y="124462"/>
                </a:lnTo>
                <a:lnTo>
                  <a:pt x="208182" y="127002"/>
                </a:lnTo>
                <a:lnTo>
                  <a:pt x="212282" y="129541"/>
                </a:lnTo>
                <a:lnTo>
                  <a:pt x="215861" y="132081"/>
                </a:lnTo>
                <a:lnTo>
                  <a:pt x="217400" y="134620"/>
                </a:lnTo>
                <a:lnTo>
                  <a:pt x="217580" y="137161"/>
                </a:lnTo>
                <a:lnTo>
                  <a:pt x="216853" y="139701"/>
                </a:lnTo>
                <a:lnTo>
                  <a:pt x="214675" y="141394"/>
                </a:lnTo>
                <a:lnTo>
                  <a:pt x="211529" y="142523"/>
                </a:lnTo>
                <a:lnTo>
                  <a:pt x="207740" y="143275"/>
                </a:lnTo>
                <a:lnTo>
                  <a:pt x="194497" y="146369"/>
                </a:lnTo>
                <a:lnTo>
                  <a:pt x="98461" y="170208"/>
                </a:lnTo>
                <a:lnTo>
                  <a:pt x="88334" y="171892"/>
                </a:lnTo>
                <a:lnTo>
                  <a:pt x="78196" y="173015"/>
                </a:lnTo>
                <a:lnTo>
                  <a:pt x="68050" y="173763"/>
                </a:lnTo>
                <a:lnTo>
                  <a:pt x="57900" y="175109"/>
                </a:lnTo>
                <a:lnTo>
                  <a:pt x="47746" y="176853"/>
                </a:lnTo>
                <a:lnTo>
                  <a:pt x="37591" y="178862"/>
                </a:lnTo>
                <a:lnTo>
                  <a:pt x="29126" y="180201"/>
                </a:lnTo>
                <a:lnTo>
                  <a:pt x="21790" y="181094"/>
                </a:lnTo>
                <a:lnTo>
                  <a:pt x="15206" y="181690"/>
                </a:lnTo>
                <a:lnTo>
                  <a:pt x="9970" y="182087"/>
                </a:lnTo>
                <a:lnTo>
                  <a:pt x="1895" y="182527"/>
                </a:lnTo>
                <a:lnTo>
                  <a:pt x="250" y="181798"/>
                </a:lnTo>
                <a:lnTo>
                  <a:pt x="0" y="180466"/>
                </a:lnTo>
                <a:lnTo>
                  <a:pt x="679" y="178730"/>
                </a:lnTo>
                <a:lnTo>
                  <a:pt x="5951" y="174544"/>
                </a:lnTo>
                <a:lnTo>
                  <a:pt x="9727" y="172243"/>
                </a:lnTo>
                <a:lnTo>
                  <a:pt x="15630" y="169015"/>
                </a:lnTo>
                <a:lnTo>
                  <a:pt x="31221" y="160913"/>
                </a:lnTo>
                <a:lnTo>
                  <a:pt x="38428" y="156383"/>
                </a:lnTo>
                <a:lnTo>
                  <a:pt x="44925" y="151669"/>
                </a:lnTo>
                <a:lnTo>
                  <a:pt x="62999" y="137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InkAnnotation240"/>
          <p:cNvSpPr/>
          <p:nvPr/>
        </p:nvSpPr>
        <p:spPr>
          <a:xfrm>
            <a:off x="6199200" y="4838760"/>
            <a:ext cx="260280" cy="299880"/>
          </a:xfrm>
          <a:custGeom>
            <a:avLst/>
            <a:gdLst>
              <a:gd name="textAreaLeft" fmla="*/ 0 w 260280"/>
              <a:gd name="textAreaRight" fmla="*/ 260640 w 2602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59285" h="300128">
                <a:moveTo>
                  <a:pt x="185647" y="7592"/>
                </a:moveTo>
                <a:lnTo>
                  <a:pt x="185647" y="286"/>
                </a:lnTo>
                <a:lnTo>
                  <a:pt x="192208" y="0"/>
                </a:lnTo>
                <a:lnTo>
                  <a:pt x="191715" y="837"/>
                </a:lnTo>
                <a:lnTo>
                  <a:pt x="186128" y="6907"/>
                </a:lnTo>
                <a:lnTo>
                  <a:pt x="160676" y="32536"/>
                </a:lnTo>
                <a:lnTo>
                  <a:pt x="152914" y="39461"/>
                </a:lnTo>
                <a:lnTo>
                  <a:pt x="144352" y="46618"/>
                </a:lnTo>
                <a:lnTo>
                  <a:pt x="135257" y="53929"/>
                </a:lnTo>
                <a:lnTo>
                  <a:pt x="125807" y="62190"/>
                </a:lnTo>
                <a:lnTo>
                  <a:pt x="116120" y="71084"/>
                </a:lnTo>
                <a:lnTo>
                  <a:pt x="96327" y="89997"/>
                </a:lnTo>
                <a:lnTo>
                  <a:pt x="76240" y="109692"/>
                </a:lnTo>
                <a:lnTo>
                  <a:pt x="66989" y="119686"/>
                </a:lnTo>
                <a:lnTo>
                  <a:pt x="58282" y="129734"/>
                </a:lnTo>
                <a:lnTo>
                  <a:pt x="49937" y="139820"/>
                </a:lnTo>
                <a:lnTo>
                  <a:pt x="33891" y="160058"/>
                </a:lnTo>
                <a:lnTo>
                  <a:pt x="26057" y="170196"/>
                </a:lnTo>
                <a:lnTo>
                  <a:pt x="19987" y="180341"/>
                </a:lnTo>
                <a:lnTo>
                  <a:pt x="15093" y="190491"/>
                </a:lnTo>
                <a:lnTo>
                  <a:pt x="10985" y="200645"/>
                </a:lnTo>
                <a:lnTo>
                  <a:pt x="7399" y="210801"/>
                </a:lnTo>
                <a:lnTo>
                  <a:pt x="4162" y="220958"/>
                </a:lnTo>
                <a:lnTo>
                  <a:pt x="1157" y="231116"/>
                </a:lnTo>
                <a:lnTo>
                  <a:pt x="0" y="240428"/>
                </a:lnTo>
                <a:lnTo>
                  <a:pt x="76" y="249176"/>
                </a:lnTo>
                <a:lnTo>
                  <a:pt x="973" y="257548"/>
                </a:lnTo>
                <a:lnTo>
                  <a:pt x="3265" y="264823"/>
                </a:lnTo>
                <a:lnTo>
                  <a:pt x="6486" y="271366"/>
                </a:lnTo>
                <a:lnTo>
                  <a:pt x="10326" y="277421"/>
                </a:lnTo>
                <a:lnTo>
                  <a:pt x="16273" y="282305"/>
                </a:lnTo>
                <a:lnTo>
                  <a:pt x="23624" y="286407"/>
                </a:lnTo>
                <a:lnTo>
                  <a:pt x="31912" y="289989"/>
                </a:lnTo>
                <a:lnTo>
                  <a:pt x="40824" y="293223"/>
                </a:lnTo>
                <a:lnTo>
                  <a:pt x="50152" y="296226"/>
                </a:lnTo>
                <a:lnTo>
                  <a:pt x="59757" y="299075"/>
                </a:lnTo>
                <a:lnTo>
                  <a:pt x="70393" y="300127"/>
                </a:lnTo>
                <a:lnTo>
                  <a:pt x="81718" y="299982"/>
                </a:lnTo>
                <a:lnTo>
                  <a:pt x="93501" y="299039"/>
                </a:lnTo>
                <a:lnTo>
                  <a:pt x="106437" y="296717"/>
                </a:lnTo>
                <a:lnTo>
                  <a:pt x="120139" y="293475"/>
                </a:lnTo>
                <a:lnTo>
                  <a:pt x="134356" y="289621"/>
                </a:lnTo>
                <a:lnTo>
                  <a:pt x="148067" y="284512"/>
                </a:lnTo>
                <a:lnTo>
                  <a:pt x="161439" y="278565"/>
                </a:lnTo>
                <a:lnTo>
                  <a:pt x="174589" y="272060"/>
                </a:lnTo>
                <a:lnTo>
                  <a:pt x="186742" y="265184"/>
                </a:lnTo>
                <a:lnTo>
                  <a:pt x="198229" y="258061"/>
                </a:lnTo>
                <a:lnTo>
                  <a:pt x="209275" y="250771"/>
                </a:lnTo>
                <a:lnTo>
                  <a:pt x="219180" y="243371"/>
                </a:lnTo>
                <a:lnTo>
                  <a:pt x="228322" y="235898"/>
                </a:lnTo>
                <a:lnTo>
                  <a:pt x="236957" y="228376"/>
                </a:lnTo>
                <a:lnTo>
                  <a:pt x="243560" y="220821"/>
                </a:lnTo>
                <a:lnTo>
                  <a:pt x="248809" y="213245"/>
                </a:lnTo>
                <a:lnTo>
                  <a:pt x="253155" y="205654"/>
                </a:lnTo>
                <a:lnTo>
                  <a:pt x="256053" y="199747"/>
                </a:lnTo>
                <a:lnTo>
                  <a:pt x="259272" y="190925"/>
                </a:lnTo>
                <a:lnTo>
                  <a:pt x="259284" y="187388"/>
                </a:lnTo>
                <a:lnTo>
                  <a:pt x="258444" y="184182"/>
                </a:lnTo>
                <a:lnTo>
                  <a:pt x="255255" y="178363"/>
                </a:lnTo>
                <a:lnTo>
                  <a:pt x="251015" y="172954"/>
                </a:lnTo>
                <a:lnTo>
                  <a:pt x="248699" y="171174"/>
                </a:lnTo>
                <a:lnTo>
                  <a:pt x="243868" y="169195"/>
                </a:lnTo>
                <a:lnTo>
                  <a:pt x="240548" y="169514"/>
                </a:lnTo>
                <a:lnTo>
                  <a:pt x="236641" y="170573"/>
                </a:lnTo>
                <a:lnTo>
                  <a:pt x="232343" y="172126"/>
                </a:lnTo>
                <a:lnTo>
                  <a:pt x="227784" y="174855"/>
                </a:lnTo>
                <a:lnTo>
                  <a:pt x="223052" y="178367"/>
                </a:lnTo>
                <a:lnTo>
                  <a:pt x="218204" y="182402"/>
                </a:lnTo>
                <a:lnTo>
                  <a:pt x="214125" y="187632"/>
                </a:lnTo>
                <a:lnTo>
                  <a:pt x="210559" y="193659"/>
                </a:lnTo>
                <a:lnTo>
                  <a:pt x="207335" y="200216"/>
                </a:lnTo>
                <a:lnTo>
                  <a:pt x="204339" y="207128"/>
                </a:lnTo>
                <a:lnTo>
                  <a:pt x="201495" y="214276"/>
                </a:lnTo>
                <a:lnTo>
                  <a:pt x="198753" y="221581"/>
                </a:lnTo>
                <a:lnTo>
                  <a:pt x="196924" y="229839"/>
                </a:lnTo>
                <a:lnTo>
                  <a:pt x="195705" y="238730"/>
                </a:lnTo>
                <a:lnTo>
                  <a:pt x="194892" y="248044"/>
                </a:lnTo>
                <a:lnTo>
                  <a:pt x="195197" y="255100"/>
                </a:lnTo>
                <a:lnTo>
                  <a:pt x="196247" y="260651"/>
                </a:lnTo>
                <a:lnTo>
                  <a:pt x="198825" y="269923"/>
                </a:lnTo>
                <a:lnTo>
                  <a:pt x="199513" y="274766"/>
                </a:lnTo>
                <a:lnTo>
                  <a:pt x="200887" y="2895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InkAnnotation241"/>
          <p:cNvSpPr/>
          <p:nvPr/>
        </p:nvSpPr>
        <p:spPr>
          <a:xfrm>
            <a:off x="3908520" y="4892760"/>
            <a:ext cx="54000" cy="272880"/>
          </a:xfrm>
          <a:custGeom>
            <a:avLst/>
            <a:gdLst>
              <a:gd name="textAreaLeft" fmla="*/ 0 w 54000"/>
              <a:gd name="textAreaRight" fmla="*/ 54360 w 540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3341" h="274321">
                <a:moveTo>
                  <a:pt x="53340" y="0"/>
                </a:moveTo>
                <a:lnTo>
                  <a:pt x="53340" y="43657"/>
                </a:lnTo>
                <a:lnTo>
                  <a:pt x="52494" y="50272"/>
                </a:lnTo>
                <a:lnTo>
                  <a:pt x="51082" y="58068"/>
                </a:lnTo>
                <a:lnTo>
                  <a:pt x="49295" y="66652"/>
                </a:lnTo>
                <a:lnTo>
                  <a:pt x="47257" y="74915"/>
                </a:lnTo>
                <a:lnTo>
                  <a:pt x="45052" y="82963"/>
                </a:lnTo>
                <a:lnTo>
                  <a:pt x="42734" y="90869"/>
                </a:lnTo>
                <a:lnTo>
                  <a:pt x="37902" y="108683"/>
                </a:lnTo>
                <a:lnTo>
                  <a:pt x="12697" y="208315"/>
                </a:lnTo>
                <a:lnTo>
                  <a:pt x="11005" y="216770"/>
                </a:lnTo>
                <a:lnTo>
                  <a:pt x="9876" y="224100"/>
                </a:lnTo>
                <a:lnTo>
                  <a:pt x="9124" y="230680"/>
                </a:lnTo>
                <a:lnTo>
                  <a:pt x="7776" y="236760"/>
                </a:lnTo>
                <a:lnTo>
                  <a:pt x="6031" y="242507"/>
                </a:lnTo>
                <a:lnTo>
                  <a:pt x="4021" y="248031"/>
                </a:lnTo>
                <a:lnTo>
                  <a:pt x="2680" y="253407"/>
                </a:lnTo>
                <a:lnTo>
                  <a:pt x="1787" y="258685"/>
                </a:lnTo>
                <a:lnTo>
                  <a:pt x="0" y="2743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InkAnnotation242"/>
          <p:cNvSpPr/>
          <p:nvPr/>
        </p:nvSpPr>
        <p:spPr>
          <a:xfrm>
            <a:off x="3870360" y="5013360"/>
            <a:ext cx="176040" cy="38160"/>
          </a:xfrm>
          <a:custGeom>
            <a:avLst/>
            <a:gdLst>
              <a:gd name="textAreaLeft" fmla="*/ 0 w 176040"/>
              <a:gd name="textAreaRight" fmla="*/ 176400 w 1760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75261" h="38101">
                <a:moveTo>
                  <a:pt x="0" y="0"/>
                </a:moveTo>
                <a:lnTo>
                  <a:pt x="6561" y="0"/>
                </a:lnTo>
                <a:lnTo>
                  <a:pt x="8607" y="846"/>
                </a:lnTo>
                <a:lnTo>
                  <a:pt x="11665" y="2257"/>
                </a:lnTo>
                <a:lnTo>
                  <a:pt x="15397" y="4045"/>
                </a:lnTo>
                <a:lnTo>
                  <a:pt x="20425" y="6083"/>
                </a:lnTo>
                <a:lnTo>
                  <a:pt x="26316" y="8289"/>
                </a:lnTo>
                <a:lnTo>
                  <a:pt x="32784" y="10606"/>
                </a:lnTo>
                <a:lnTo>
                  <a:pt x="40482" y="12997"/>
                </a:lnTo>
                <a:lnTo>
                  <a:pt x="66652" y="20408"/>
                </a:lnTo>
                <a:lnTo>
                  <a:pt x="82963" y="25439"/>
                </a:lnTo>
                <a:lnTo>
                  <a:pt x="91715" y="27119"/>
                </a:lnTo>
                <a:lnTo>
                  <a:pt x="100937" y="28240"/>
                </a:lnTo>
                <a:lnTo>
                  <a:pt x="110471" y="28986"/>
                </a:lnTo>
                <a:lnTo>
                  <a:pt x="120215" y="30331"/>
                </a:lnTo>
                <a:lnTo>
                  <a:pt x="130096" y="32074"/>
                </a:lnTo>
                <a:lnTo>
                  <a:pt x="140070" y="34083"/>
                </a:lnTo>
                <a:lnTo>
                  <a:pt x="148414" y="35422"/>
                </a:lnTo>
                <a:lnTo>
                  <a:pt x="155669" y="36314"/>
                </a:lnTo>
                <a:lnTo>
                  <a:pt x="175260" y="381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InkAnnotation243"/>
          <p:cNvSpPr/>
          <p:nvPr/>
        </p:nvSpPr>
        <p:spPr>
          <a:xfrm>
            <a:off x="4178160" y="4930920"/>
            <a:ext cx="190800" cy="242640"/>
          </a:xfrm>
          <a:custGeom>
            <a:avLst/>
            <a:gdLst>
              <a:gd name="textAreaLeft" fmla="*/ 0 w 190800"/>
              <a:gd name="textAreaRight" fmla="*/ 191160 w 190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91108" h="243391">
                <a:moveTo>
                  <a:pt x="28710" y="0"/>
                </a:moveTo>
                <a:lnTo>
                  <a:pt x="21092" y="0"/>
                </a:lnTo>
                <a:lnTo>
                  <a:pt x="120362" y="0"/>
                </a:lnTo>
                <a:lnTo>
                  <a:pt x="127911" y="847"/>
                </a:lnTo>
                <a:lnTo>
                  <a:pt x="135484" y="2258"/>
                </a:lnTo>
                <a:lnTo>
                  <a:pt x="143072" y="4045"/>
                </a:lnTo>
                <a:lnTo>
                  <a:pt x="149825" y="5237"/>
                </a:lnTo>
                <a:lnTo>
                  <a:pt x="156019" y="6031"/>
                </a:lnTo>
                <a:lnTo>
                  <a:pt x="161843" y="6561"/>
                </a:lnTo>
                <a:lnTo>
                  <a:pt x="167418" y="7761"/>
                </a:lnTo>
                <a:lnTo>
                  <a:pt x="172829" y="9407"/>
                </a:lnTo>
                <a:lnTo>
                  <a:pt x="178129" y="11351"/>
                </a:lnTo>
                <a:lnTo>
                  <a:pt x="182509" y="13495"/>
                </a:lnTo>
                <a:lnTo>
                  <a:pt x="186275" y="15770"/>
                </a:lnTo>
                <a:lnTo>
                  <a:pt x="189633" y="18133"/>
                </a:lnTo>
                <a:lnTo>
                  <a:pt x="191025" y="19709"/>
                </a:lnTo>
                <a:lnTo>
                  <a:pt x="191107" y="20759"/>
                </a:lnTo>
                <a:lnTo>
                  <a:pt x="190314" y="21459"/>
                </a:lnTo>
                <a:lnTo>
                  <a:pt x="189786" y="22773"/>
                </a:lnTo>
                <a:lnTo>
                  <a:pt x="189199" y="26490"/>
                </a:lnTo>
                <a:lnTo>
                  <a:pt x="187349" y="28667"/>
                </a:lnTo>
                <a:lnTo>
                  <a:pt x="184423" y="30965"/>
                </a:lnTo>
                <a:lnTo>
                  <a:pt x="180778" y="33343"/>
                </a:lnTo>
                <a:lnTo>
                  <a:pt x="175808" y="34929"/>
                </a:lnTo>
                <a:lnTo>
                  <a:pt x="169955" y="35986"/>
                </a:lnTo>
                <a:lnTo>
                  <a:pt x="163514" y="36691"/>
                </a:lnTo>
                <a:lnTo>
                  <a:pt x="156679" y="38007"/>
                </a:lnTo>
                <a:lnTo>
                  <a:pt x="149582" y="39731"/>
                </a:lnTo>
                <a:lnTo>
                  <a:pt x="134077" y="43905"/>
                </a:lnTo>
                <a:lnTo>
                  <a:pt x="115898" y="48582"/>
                </a:lnTo>
                <a:lnTo>
                  <a:pt x="107155" y="51014"/>
                </a:lnTo>
                <a:lnTo>
                  <a:pt x="90668" y="55975"/>
                </a:lnTo>
                <a:lnTo>
                  <a:pt x="82715" y="57637"/>
                </a:lnTo>
                <a:lnTo>
                  <a:pt x="74873" y="58744"/>
                </a:lnTo>
                <a:lnTo>
                  <a:pt x="61080" y="59976"/>
                </a:lnTo>
                <a:lnTo>
                  <a:pt x="52128" y="60522"/>
                </a:lnTo>
                <a:lnTo>
                  <a:pt x="48555" y="61515"/>
                </a:lnTo>
                <a:lnTo>
                  <a:pt x="45326" y="63023"/>
                </a:lnTo>
                <a:lnTo>
                  <a:pt x="42328" y="64876"/>
                </a:lnTo>
                <a:lnTo>
                  <a:pt x="41175" y="66957"/>
                </a:lnTo>
                <a:lnTo>
                  <a:pt x="41253" y="69192"/>
                </a:lnTo>
                <a:lnTo>
                  <a:pt x="43598" y="74778"/>
                </a:lnTo>
                <a:lnTo>
                  <a:pt x="47462" y="82906"/>
                </a:lnTo>
                <a:lnTo>
                  <a:pt x="50525" y="86598"/>
                </a:lnTo>
                <a:lnTo>
                  <a:pt x="54260" y="89905"/>
                </a:lnTo>
                <a:lnTo>
                  <a:pt x="58443" y="92956"/>
                </a:lnTo>
                <a:lnTo>
                  <a:pt x="63772" y="97531"/>
                </a:lnTo>
                <a:lnTo>
                  <a:pt x="69864" y="103121"/>
                </a:lnTo>
                <a:lnTo>
                  <a:pt x="76466" y="109387"/>
                </a:lnTo>
                <a:lnTo>
                  <a:pt x="83407" y="115258"/>
                </a:lnTo>
                <a:lnTo>
                  <a:pt x="90575" y="120865"/>
                </a:lnTo>
                <a:lnTo>
                  <a:pt x="97893" y="126297"/>
                </a:lnTo>
                <a:lnTo>
                  <a:pt x="104465" y="131612"/>
                </a:lnTo>
                <a:lnTo>
                  <a:pt x="110540" y="136848"/>
                </a:lnTo>
                <a:lnTo>
                  <a:pt x="116283" y="142032"/>
                </a:lnTo>
                <a:lnTo>
                  <a:pt x="127180" y="152308"/>
                </a:lnTo>
                <a:lnTo>
                  <a:pt x="132457" y="157418"/>
                </a:lnTo>
                <a:lnTo>
                  <a:pt x="136821" y="162519"/>
                </a:lnTo>
                <a:lnTo>
                  <a:pt x="140577" y="167612"/>
                </a:lnTo>
                <a:lnTo>
                  <a:pt x="143928" y="172702"/>
                </a:lnTo>
                <a:lnTo>
                  <a:pt x="146162" y="177788"/>
                </a:lnTo>
                <a:lnTo>
                  <a:pt x="147651" y="182872"/>
                </a:lnTo>
                <a:lnTo>
                  <a:pt x="148644" y="187955"/>
                </a:lnTo>
                <a:lnTo>
                  <a:pt x="148459" y="193036"/>
                </a:lnTo>
                <a:lnTo>
                  <a:pt x="147489" y="198118"/>
                </a:lnTo>
                <a:lnTo>
                  <a:pt x="145996" y="203198"/>
                </a:lnTo>
                <a:lnTo>
                  <a:pt x="143307" y="207432"/>
                </a:lnTo>
                <a:lnTo>
                  <a:pt x="139821" y="211102"/>
                </a:lnTo>
                <a:lnTo>
                  <a:pt x="135804" y="214394"/>
                </a:lnTo>
                <a:lnTo>
                  <a:pt x="131433" y="217436"/>
                </a:lnTo>
                <a:lnTo>
                  <a:pt x="126825" y="220311"/>
                </a:lnTo>
                <a:lnTo>
                  <a:pt x="122059" y="223074"/>
                </a:lnTo>
                <a:lnTo>
                  <a:pt x="115496" y="225762"/>
                </a:lnTo>
                <a:lnTo>
                  <a:pt x="107734" y="228401"/>
                </a:lnTo>
                <a:lnTo>
                  <a:pt x="82886" y="236161"/>
                </a:lnTo>
                <a:lnTo>
                  <a:pt x="74987" y="238721"/>
                </a:lnTo>
                <a:lnTo>
                  <a:pt x="67182" y="240427"/>
                </a:lnTo>
                <a:lnTo>
                  <a:pt x="59437" y="241565"/>
                </a:lnTo>
                <a:lnTo>
                  <a:pt x="51735" y="242323"/>
                </a:lnTo>
                <a:lnTo>
                  <a:pt x="44060" y="242829"/>
                </a:lnTo>
                <a:lnTo>
                  <a:pt x="36403" y="243166"/>
                </a:lnTo>
                <a:lnTo>
                  <a:pt x="28759" y="243390"/>
                </a:lnTo>
                <a:lnTo>
                  <a:pt x="22815" y="242693"/>
                </a:lnTo>
                <a:lnTo>
                  <a:pt x="18007" y="241382"/>
                </a:lnTo>
                <a:lnTo>
                  <a:pt x="13954" y="239661"/>
                </a:lnTo>
                <a:lnTo>
                  <a:pt x="10406" y="237668"/>
                </a:lnTo>
                <a:lnTo>
                  <a:pt x="7195" y="235492"/>
                </a:lnTo>
                <a:lnTo>
                  <a:pt x="4206" y="233194"/>
                </a:lnTo>
                <a:lnTo>
                  <a:pt x="2214" y="230817"/>
                </a:lnTo>
                <a:lnTo>
                  <a:pt x="886" y="228384"/>
                </a:lnTo>
                <a:lnTo>
                  <a:pt x="0" y="225916"/>
                </a:lnTo>
                <a:lnTo>
                  <a:pt x="257" y="223424"/>
                </a:lnTo>
                <a:lnTo>
                  <a:pt x="1274" y="220916"/>
                </a:lnTo>
                <a:lnTo>
                  <a:pt x="5850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InkAnnotation244"/>
          <p:cNvSpPr/>
          <p:nvPr/>
        </p:nvSpPr>
        <p:spPr>
          <a:xfrm>
            <a:off x="4422600" y="4923000"/>
            <a:ext cx="223920" cy="326880"/>
          </a:xfrm>
          <a:custGeom>
            <a:avLst/>
            <a:gdLst>
              <a:gd name="textAreaLeft" fmla="*/ 0 w 223920"/>
              <a:gd name="textAreaRight" fmla="*/ 224280 w 22392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224410" h="327661">
                <a:moveTo>
                  <a:pt x="156867" y="0"/>
                </a:moveTo>
                <a:lnTo>
                  <a:pt x="152822" y="0"/>
                </a:lnTo>
                <a:lnTo>
                  <a:pt x="150784" y="847"/>
                </a:lnTo>
                <a:lnTo>
                  <a:pt x="146261" y="4045"/>
                </a:lnTo>
                <a:lnTo>
                  <a:pt x="143024" y="6930"/>
                </a:lnTo>
                <a:lnTo>
                  <a:pt x="134910" y="14652"/>
                </a:lnTo>
                <a:lnTo>
                  <a:pt x="130376" y="19927"/>
                </a:lnTo>
                <a:lnTo>
                  <a:pt x="125660" y="25985"/>
                </a:lnTo>
                <a:lnTo>
                  <a:pt x="120822" y="32564"/>
                </a:lnTo>
                <a:lnTo>
                  <a:pt x="114210" y="39489"/>
                </a:lnTo>
                <a:lnTo>
                  <a:pt x="106416" y="46646"/>
                </a:lnTo>
                <a:lnTo>
                  <a:pt x="97833" y="53958"/>
                </a:lnTo>
                <a:lnTo>
                  <a:pt x="89571" y="62218"/>
                </a:lnTo>
                <a:lnTo>
                  <a:pt x="81523" y="71112"/>
                </a:lnTo>
                <a:lnTo>
                  <a:pt x="73618" y="80428"/>
                </a:lnTo>
                <a:lnTo>
                  <a:pt x="58061" y="99811"/>
                </a:lnTo>
                <a:lnTo>
                  <a:pt x="27377" y="139848"/>
                </a:lnTo>
                <a:lnTo>
                  <a:pt x="20587" y="149959"/>
                </a:lnTo>
                <a:lnTo>
                  <a:pt x="14366" y="160086"/>
                </a:lnTo>
                <a:lnTo>
                  <a:pt x="8526" y="170224"/>
                </a:lnTo>
                <a:lnTo>
                  <a:pt x="4633" y="180369"/>
                </a:lnTo>
                <a:lnTo>
                  <a:pt x="2038" y="190519"/>
                </a:lnTo>
                <a:lnTo>
                  <a:pt x="307" y="200673"/>
                </a:lnTo>
                <a:lnTo>
                  <a:pt x="0" y="209982"/>
                </a:lnTo>
                <a:lnTo>
                  <a:pt x="643" y="218728"/>
                </a:lnTo>
                <a:lnTo>
                  <a:pt x="1917" y="227099"/>
                </a:lnTo>
                <a:lnTo>
                  <a:pt x="4460" y="234373"/>
                </a:lnTo>
                <a:lnTo>
                  <a:pt x="7849" y="240915"/>
                </a:lnTo>
                <a:lnTo>
                  <a:pt x="11802" y="246970"/>
                </a:lnTo>
                <a:lnTo>
                  <a:pt x="16130" y="251854"/>
                </a:lnTo>
                <a:lnTo>
                  <a:pt x="20709" y="255956"/>
                </a:lnTo>
                <a:lnTo>
                  <a:pt x="25455" y="259537"/>
                </a:lnTo>
                <a:lnTo>
                  <a:pt x="32006" y="261924"/>
                </a:lnTo>
                <a:lnTo>
                  <a:pt x="39759" y="263517"/>
                </a:lnTo>
                <a:lnTo>
                  <a:pt x="48315" y="264577"/>
                </a:lnTo>
                <a:lnTo>
                  <a:pt x="57406" y="263592"/>
                </a:lnTo>
                <a:lnTo>
                  <a:pt x="66853" y="261241"/>
                </a:lnTo>
                <a:lnTo>
                  <a:pt x="76537" y="257981"/>
                </a:lnTo>
                <a:lnTo>
                  <a:pt x="98587" y="249843"/>
                </a:lnTo>
                <a:lnTo>
                  <a:pt x="110394" y="245302"/>
                </a:lnTo>
                <a:lnTo>
                  <a:pt x="121651" y="240581"/>
                </a:lnTo>
                <a:lnTo>
                  <a:pt x="132543" y="235741"/>
                </a:lnTo>
                <a:lnTo>
                  <a:pt x="143192" y="230821"/>
                </a:lnTo>
                <a:lnTo>
                  <a:pt x="152831" y="225000"/>
                </a:lnTo>
                <a:lnTo>
                  <a:pt x="161796" y="218580"/>
                </a:lnTo>
                <a:lnTo>
                  <a:pt x="170313" y="211760"/>
                </a:lnTo>
                <a:lnTo>
                  <a:pt x="178531" y="204674"/>
                </a:lnTo>
                <a:lnTo>
                  <a:pt x="186550" y="197409"/>
                </a:lnTo>
                <a:lnTo>
                  <a:pt x="201386" y="183411"/>
                </a:lnTo>
                <a:lnTo>
                  <a:pt x="213624" y="171545"/>
                </a:lnTo>
                <a:lnTo>
                  <a:pt x="220193" y="162885"/>
                </a:lnTo>
                <a:lnTo>
                  <a:pt x="223112" y="156213"/>
                </a:lnTo>
                <a:lnTo>
                  <a:pt x="224409" y="150426"/>
                </a:lnTo>
                <a:lnTo>
                  <a:pt x="223909" y="148544"/>
                </a:lnTo>
                <a:lnTo>
                  <a:pt x="222729" y="147290"/>
                </a:lnTo>
                <a:lnTo>
                  <a:pt x="221095" y="146453"/>
                </a:lnTo>
                <a:lnTo>
                  <a:pt x="217022" y="145524"/>
                </a:lnTo>
                <a:lnTo>
                  <a:pt x="214750" y="145276"/>
                </a:lnTo>
                <a:lnTo>
                  <a:pt x="212389" y="146804"/>
                </a:lnTo>
                <a:lnTo>
                  <a:pt x="207509" y="153017"/>
                </a:lnTo>
                <a:lnTo>
                  <a:pt x="204175" y="157045"/>
                </a:lnTo>
                <a:lnTo>
                  <a:pt x="200259" y="161423"/>
                </a:lnTo>
                <a:lnTo>
                  <a:pt x="195955" y="166036"/>
                </a:lnTo>
                <a:lnTo>
                  <a:pt x="191393" y="171650"/>
                </a:lnTo>
                <a:lnTo>
                  <a:pt x="186657" y="177934"/>
                </a:lnTo>
                <a:lnTo>
                  <a:pt x="181807" y="184662"/>
                </a:lnTo>
                <a:lnTo>
                  <a:pt x="177727" y="191689"/>
                </a:lnTo>
                <a:lnTo>
                  <a:pt x="174161" y="198912"/>
                </a:lnTo>
                <a:lnTo>
                  <a:pt x="170936" y="206268"/>
                </a:lnTo>
                <a:lnTo>
                  <a:pt x="168787" y="214559"/>
                </a:lnTo>
                <a:lnTo>
                  <a:pt x="167354" y="223472"/>
                </a:lnTo>
                <a:lnTo>
                  <a:pt x="166398" y="232802"/>
                </a:lnTo>
                <a:lnTo>
                  <a:pt x="165761" y="242408"/>
                </a:lnTo>
                <a:lnTo>
                  <a:pt x="165337" y="252199"/>
                </a:lnTo>
                <a:lnTo>
                  <a:pt x="164864" y="272108"/>
                </a:lnTo>
                <a:lnTo>
                  <a:pt x="164655" y="292246"/>
                </a:lnTo>
                <a:lnTo>
                  <a:pt x="165446" y="300664"/>
                </a:lnTo>
                <a:lnTo>
                  <a:pt x="166820" y="307969"/>
                </a:lnTo>
                <a:lnTo>
                  <a:pt x="172108" y="3276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InkAnnotation245"/>
          <p:cNvSpPr/>
          <p:nvPr/>
        </p:nvSpPr>
        <p:spPr>
          <a:xfrm>
            <a:off x="4975200" y="5562720"/>
            <a:ext cx="184320" cy="38160"/>
          </a:xfrm>
          <a:custGeom>
            <a:avLst/>
            <a:gdLst>
              <a:gd name="textAreaLeft" fmla="*/ 0 w 184320"/>
              <a:gd name="textAreaRight" fmla="*/ 184680 w 1843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82882" h="38101">
                <a:moveTo>
                  <a:pt x="0" y="0"/>
                </a:moveTo>
                <a:lnTo>
                  <a:pt x="0" y="7306"/>
                </a:lnTo>
                <a:lnTo>
                  <a:pt x="4045" y="7527"/>
                </a:lnTo>
                <a:lnTo>
                  <a:pt x="14651" y="7593"/>
                </a:lnTo>
                <a:lnTo>
                  <a:pt x="20774" y="8449"/>
                </a:lnTo>
                <a:lnTo>
                  <a:pt x="28243" y="9865"/>
                </a:lnTo>
                <a:lnTo>
                  <a:pt x="36608" y="11657"/>
                </a:lnTo>
                <a:lnTo>
                  <a:pt x="44725" y="12851"/>
                </a:lnTo>
                <a:lnTo>
                  <a:pt x="52677" y="13648"/>
                </a:lnTo>
                <a:lnTo>
                  <a:pt x="60518" y="14179"/>
                </a:lnTo>
                <a:lnTo>
                  <a:pt x="69979" y="15379"/>
                </a:lnTo>
                <a:lnTo>
                  <a:pt x="80519" y="17026"/>
                </a:lnTo>
                <a:lnTo>
                  <a:pt x="91779" y="18971"/>
                </a:lnTo>
                <a:lnTo>
                  <a:pt x="102673" y="21114"/>
                </a:lnTo>
                <a:lnTo>
                  <a:pt x="123808" y="25753"/>
                </a:lnTo>
                <a:lnTo>
                  <a:pt x="134186" y="27329"/>
                </a:lnTo>
                <a:lnTo>
                  <a:pt x="144491" y="28379"/>
                </a:lnTo>
                <a:lnTo>
                  <a:pt x="154747" y="29080"/>
                </a:lnTo>
                <a:lnTo>
                  <a:pt x="162431" y="30393"/>
                </a:lnTo>
                <a:lnTo>
                  <a:pt x="168402" y="32115"/>
                </a:lnTo>
                <a:lnTo>
                  <a:pt x="182881" y="381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InkAnnotation246"/>
          <p:cNvSpPr/>
          <p:nvPr/>
        </p:nvSpPr>
        <p:spPr>
          <a:xfrm>
            <a:off x="4898880" y="5668920"/>
            <a:ext cx="184320" cy="23760"/>
          </a:xfrm>
          <a:custGeom>
            <a:avLst/>
            <a:gdLst>
              <a:gd name="textAreaLeft" fmla="*/ 0 w 184320"/>
              <a:gd name="textAreaRight" fmla="*/ 184680 w 1843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82882" h="22831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7" y="6032"/>
                </a:lnTo>
                <a:lnTo>
                  <a:pt x="4045" y="6561"/>
                </a:lnTo>
                <a:lnTo>
                  <a:pt x="5237" y="7760"/>
                </a:lnTo>
                <a:lnTo>
                  <a:pt x="6031" y="9407"/>
                </a:lnTo>
                <a:lnTo>
                  <a:pt x="6561" y="11352"/>
                </a:lnTo>
                <a:lnTo>
                  <a:pt x="7760" y="12648"/>
                </a:lnTo>
                <a:lnTo>
                  <a:pt x="9407" y="13512"/>
                </a:lnTo>
                <a:lnTo>
                  <a:pt x="11351" y="14088"/>
                </a:lnTo>
                <a:lnTo>
                  <a:pt x="13495" y="15319"/>
                </a:lnTo>
                <a:lnTo>
                  <a:pt x="15770" y="16986"/>
                </a:lnTo>
                <a:lnTo>
                  <a:pt x="18133" y="18944"/>
                </a:lnTo>
                <a:lnTo>
                  <a:pt x="22249" y="20249"/>
                </a:lnTo>
                <a:lnTo>
                  <a:pt x="27532" y="21120"/>
                </a:lnTo>
                <a:lnTo>
                  <a:pt x="33595" y="21700"/>
                </a:lnTo>
                <a:lnTo>
                  <a:pt x="41023" y="22087"/>
                </a:lnTo>
                <a:lnTo>
                  <a:pt x="58308" y="22516"/>
                </a:lnTo>
                <a:lnTo>
                  <a:pt x="110493" y="22830"/>
                </a:lnTo>
                <a:lnTo>
                  <a:pt x="120229" y="21994"/>
                </a:lnTo>
                <a:lnTo>
                  <a:pt x="130105" y="20589"/>
                </a:lnTo>
                <a:lnTo>
                  <a:pt x="140077" y="18806"/>
                </a:lnTo>
                <a:lnTo>
                  <a:pt x="149265" y="17617"/>
                </a:lnTo>
                <a:lnTo>
                  <a:pt x="157931" y="16825"/>
                </a:lnTo>
                <a:lnTo>
                  <a:pt x="182881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MARTInkAnnotation247"/>
          <p:cNvSpPr/>
          <p:nvPr/>
        </p:nvSpPr>
        <p:spPr>
          <a:xfrm>
            <a:off x="2698920" y="3616200"/>
            <a:ext cx="941040" cy="962280"/>
          </a:xfrm>
          <a:custGeom>
            <a:avLst/>
            <a:gdLst>
              <a:gd name="textAreaLeft" fmla="*/ 0 w 941040"/>
              <a:gd name="textAreaRight" fmla="*/ 941400 w 94104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941413" h="962226">
                <a:moveTo>
                  <a:pt x="28455" y="414785"/>
                </a:moveTo>
                <a:lnTo>
                  <a:pt x="28455" y="467193"/>
                </a:lnTo>
                <a:lnTo>
                  <a:pt x="32500" y="490709"/>
                </a:lnTo>
                <a:lnTo>
                  <a:pt x="35016" y="517808"/>
                </a:lnTo>
                <a:lnTo>
                  <a:pt x="40120" y="537338"/>
                </a:lnTo>
                <a:lnTo>
                  <a:pt x="50256" y="565115"/>
                </a:lnTo>
                <a:lnTo>
                  <a:pt x="60879" y="589432"/>
                </a:lnTo>
                <a:lnTo>
                  <a:pt x="74751" y="614981"/>
                </a:lnTo>
                <a:lnTo>
                  <a:pt x="85438" y="633301"/>
                </a:lnTo>
                <a:lnTo>
                  <a:pt x="105734" y="658742"/>
                </a:lnTo>
                <a:lnTo>
                  <a:pt x="127835" y="686506"/>
                </a:lnTo>
                <a:lnTo>
                  <a:pt x="150470" y="711195"/>
                </a:lnTo>
                <a:lnTo>
                  <a:pt x="180874" y="742293"/>
                </a:lnTo>
                <a:lnTo>
                  <a:pt x="211339" y="772895"/>
                </a:lnTo>
                <a:lnTo>
                  <a:pt x="238241" y="795776"/>
                </a:lnTo>
                <a:lnTo>
                  <a:pt x="272436" y="826263"/>
                </a:lnTo>
                <a:lnTo>
                  <a:pt x="300183" y="848277"/>
                </a:lnTo>
                <a:lnTo>
                  <a:pt x="325714" y="865902"/>
                </a:lnTo>
                <a:lnTo>
                  <a:pt x="354351" y="881847"/>
                </a:lnTo>
                <a:lnTo>
                  <a:pt x="394369" y="902406"/>
                </a:lnTo>
                <a:lnTo>
                  <a:pt x="422483" y="915430"/>
                </a:lnTo>
                <a:lnTo>
                  <a:pt x="449157" y="926909"/>
                </a:lnTo>
                <a:lnTo>
                  <a:pt x="478510" y="938777"/>
                </a:lnTo>
                <a:lnTo>
                  <a:pt x="498566" y="944850"/>
                </a:lnTo>
                <a:lnTo>
                  <a:pt x="518769" y="950372"/>
                </a:lnTo>
                <a:lnTo>
                  <a:pt x="539037" y="953390"/>
                </a:lnTo>
                <a:lnTo>
                  <a:pt x="559334" y="955579"/>
                </a:lnTo>
                <a:lnTo>
                  <a:pt x="579643" y="959373"/>
                </a:lnTo>
                <a:lnTo>
                  <a:pt x="606072" y="962225"/>
                </a:lnTo>
                <a:lnTo>
                  <a:pt x="626663" y="960633"/>
                </a:lnTo>
                <a:lnTo>
                  <a:pt x="648232" y="957105"/>
                </a:lnTo>
                <a:lnTo>
                  <a:pt x="675502" y="950358"/>
                </a:lnTo>
                <a:lnTo>
                  <a:pt x="703808" y="942150"/>
                </a:lnTo>
                <a:lnTo>
                  <a:pt x="728657" y="930216"/>
                </a:lnTo>
                <a:lnTo>
                  <a:pt x="752954" y="919248"/>
                </a:lnTo>
                <a:lnTo>
                  <a:pt x="780379" y="901511"/>
                </a:lnTo>
                <a:lnTo>
                  <a:pt x="804968" y="884309"/>
                </a:lnTo>
                <a:lnTo>
                  <a:pt x="828340" y="863501"/>
                </a:lnTo>
                <a:lnTo>
                  <a:pt x="850505" y="840402"/>
                </a:lnTo>
                <a:lnTo>
                  <a:pt x="868173" y="812486"/>
                </a:lnTo>
                <a:lnTo>
                  <a:pt x="878901" y="792766"/>
                </a:lnTo>
                <a:lnTo>
                  <a:pt x="889313" y="770454"/>
                </a:lnTo>
                <a:lnTo>
                  <a:pt x="898739" y="747274"/>
                </a:lnTo>
                <a:lnTo>
                  <a:pt x="909651" y="714336"/>
                </a:lnTo>
                <a:lnTo>
                  <a:pt x="918503" y="690441"/>
                </a:lnTo>
                <a:lnTo>
                  <a:pt x="923565" y="665710"/>
                </a:lnTo>
                <a:lnTo>
                  <a:pt x="926662" y="639761"/>
                </a:lnTo>
                <a:lnTo>
                  <a:pt x="930861" y="611294"/>
                </a:lnTo>
                <a:lnTo>
                  <a:pt x="935549" y="583967"/>
                </a:lnTo>
                <a:lnTo>
                  <a:pt x="939608" y="557710"/>
                </a:lnTo>
                <a:lnTo>
                  <a:pt x="941412" y="531929"/>
                </a:lnTo>
                <a:lnTo>
                  <a:pt x="939956" y="504102"/>
                </a:lnTo>
                <a:lnTo>
                  <a:pt x="936487" y="474802"/>
                </a:lnTo>
                <a:lnTo>
                  <a:pt x="932123" y="444846"/>
                </a:lnTo>
                <a:lnTo>
                  <a:pt x="925103" y="416857"/>
                </a:lnTo>
                <a:lnTo>
                  <a:pt x="917185" y="389459"/>
                </a:lnTo>
                <a:lnTo>
                  <a:pt x="910844" y="360349"/>
                </a:lnTo>
                <a:lnTo>
                  <a:pt x="902946" y="330478"/>
                </a:lnTo>
                <a:lnTo>
                  <a:pt x="892944" y="301962"/>
                </a:lnTo>
                <a:lnTo>
                  <a:pt x="880033" y="277999"/>
                </a:lnTo>
                <a:lnTo>
                  <a:pt x="868085" y="251544"/>
                </a:lnTo>
                <a:lnTo>
                  <a:pt x="855437" y="224547"/>
                </a:lnTo>
                <a:lnTo>
                  <a:pt x="838527" y="201260"/>
                </a:lnTo>
                <a:lnTo>
                  <a:pt x="814012" y="169108"/>
                </a:lnTo>
                <a:lnTo>
                  <a:pt x="793869" y="148398"/>
                </a:lnTo>
                <a:lnTo>
                  <a:pt x="770806" y="127904"/>
                </a:lnTo>
                <a:lnTo>
                  <a:pt x="746444" y="107507"/>
                </a:lnTo>
                <a:lnTo>
                  <a:pt x="719249" y="91668"/>
                </a:lnTo>
                <a:lnTo>
                  <a:pt x="691074" y="77291"/>
                </a:lnTo>
                <a:lnTo>
                  <a:pt x="664442" y="59612"/>
                </a:lnTo>
                <a:lnTo>
                  <a:pt x="638493" y="47239"/>
                </a:lnTo>
                <a:lnTo>
                  <a:pt x="583297" y="28352"/>
                </a:lnTo>
                <a:lnTo>
                  <a:pt x="567683" y="24236"/>
                </a:lnTo>
                <a:lnTo>
                  <a:pt x="551347" y="20646"/>
                </a:lnTo>
                <a:lnTo>
                  <a:pt x="502297" y="11548"/>
                </a:lnTo>
                <a:lnTo>
                  <a:pt x="440212" y="888"/>
                </a:lnTo>
                <a:lnTo>
                  <a:pt x="424033" y="0"/>
                </a:lnTo>
                <a:lnTo>
                  <a:pt x="407320" y="255"/>
                </a:lnTo>
                <a:lnTo>
                  <a:pt x="390252" y="1272"/>
                </a:lnTo>
                <a:lnTo>
                  <a:pt x="373793" y="2796"/>
                </a:lnTo>
                <a:lnTo>
                  <a:pt x="357740" y="4659"/>
                </a:lnTo>
                <a:lnTo>
                  <a:pt x="291431" y="13732"/>
                </a:lnTo>
                <a:lnTo>
                  <a:pt x="274892" y="17030"/>
                </a:lnTo>
                <a:lnTo>
                  <a:pt x="258787" y="20922"/>
                </a:lnTo>
                <a:lnTo>
                  <a:pt x="242970" y="25209"/>
                </a:lnTo>
                <a:lnTo>
                  <a:pt x="227345" y="30608"/>
                </a:lnTo>
                <a:lnTo>
                  <a:pt x="211848" y="36747"/>
                </a:lnTo>
                <a:lnTo>
                  <a:pt x="168025" y="55265"/>
                </a:lnTo>
                <a:lnTo>
                  <a:pt x="141286" y="67885"/>
                </a:lnTo>
                <a:lnTo>
                  <a:pt x="115291" y="84783"/>
                </a:lnTo>
                <a:lnTo>
                  <a:pt x="94142" y="101324"/>
                </a:lnTo>
                <a:lnTo>
                  <a:pt x="65698" y="124917"/>
                </a:lnTo>
                <a:lnTo>
                  <a:pt x="47548" y="141174"/>
                </a:lnTo>
                <a:lnTo>
                  <a:pt x="27809" y="169368"/>
                </a:lnTo>
                <a:lnTo>
                  <a:pt x="16597" y="189153"/>
                </a:lnTo>
                <a:lnTo>
                  <a:pt x="8227" y="211493"/>
                </a:lnTo>
                <a:lnTo>
                  <a:pt x="2531" y="234686"/>
                </a:lnTo>
                <a:lnTo>
                  <a:pt x="0" y="256283"/>
                </a:lnTo>
                <a:lnTo>
                  <a:pt x="1133" y="279428"/>
                </a:lnTo>
                <a:lnTo>
                  <a:pt x="4459" y="304673"/>
                </a:lnTo>
                <a:lnTo>
                  <a:pt x="8759" y="332826"/>
                </a:lnTo>
                <a:lnTo>
                  <a:pt x="18008" y="360014"/>
                </a:lnTo>
                <a:lnTo>
                  <a:pt x="28045" y="384516"/>
                </a:lnTo>
                <a:lnTo>
                  <a:pt x="35389" y="412590"/>
                </a:lnTo>
                <a:lnTo>
                  <a:pt x="39005" y="420942"/>
                </a:lnTo>
                <a:lnTo>
                  <a:pt x="51315" y="44526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MARTInkAnnotation248"/>
          <p:cNvSpPr/>
          <p:nvPr/>
        </p:nvSpPr>
        <p:spPr>
          <a:xfrm>
            <a:off x="3889440" y="5318280"/>
            <a:ext cx="250920" cy="312480"/>
          </a:xfrm>
          <a:custGeom>
            <a:avLst/>
            <a:gdLst>
              <a:gd name="textAreaLeft" fmla="*/ 0 w 250920"/>
              <a:gd name="textAreaRight" fmla="*/ 251280 w 25092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251163" h="312421">
                <a:moveTo>
                  <a:pt x="157592" y="0"/>
                </a:moveTo>
                <a:lnTo>
                  <a:pt x="149501" y="8090"/>
                </a:lnTo>
                <a:lnTo>
                  <a:pt x="144579" y="12167"/>
                </a:lnTo>
                <a:lnTo>
                  <a:pt x="138756" y="16578"/>
                </a:lnTo>
                <a:lnTo>
                  <a:pt x="132335" y="21212"/>
                </a:lnTo>
                <a:lnTo>
                  <a:pt x="127207" y="24301"/>
                </a:lnTo>
                <a:lnTo>
                  <a:pt x="122942" y="26361"/>
                </a:lnTo>
                <a:lnTo>
                  <a:pt x="119252" y="27733"/>
                </a:lnTo>
                <a:lnTo>
                  <a:pt x="113406" y="31189"/>
                </a:lnTo>
                <a:lnTo>
                  <a:pt x="106121" y="36033"/>
                </a:lnTo>
                <a:lnTo>
                  <a:pt x="97878" y="41802"/>
                </a:lnTo>
                <a:lnTo>
                  <a:pt x="88996" y="49034"/>
                </a:lnTo>
                <a:lnTo>
                  <a:pt x="79688" y="57243"/>
                </a:lnTo>
                <a:lnTo>
                  <a:pt x="61161" y="74548"/>
                </a:lnTo>
                <a:lnTo>
                  <a:pt x="44461" y="90706"/>
                </a:lnTo>
                <a:lnTo>
                  <a:pt x="36451" y="99417"/>
                </a:lnTo>
                <a:lnTo>
                  <a:pt x="28571" y="108611"/>
                </a:lnTo>
                <a:lnTo>
                  <a:pt x="20778" y="118128"/>
                </a:lnTo>
                <a:lnTo>
                  <a:pt x="14736" y="127011"/>
                </a:lnTo>
                <a:lnTo>
                  <a:pt x="9862" y="135475"/>
                </a:lnTo>
                <a:lnTo>
                  <a:pt x="5765" y="143656"/>
                </a:lnTo>
                <a:lnTo>
                  <a:pt x="3034" y="151650"/>
                </a:lnTo>
                <a:lnTo>
                  <a:pt x="1213" y="159520"/>
                </a:lnTo>
                <a:lnTo>
                  <a:pt x="0" y="167307"/>
                </a:lnTo>
                <a:lnTo>
                  <a:pt x="884" y="175038"/>
                </a:lnTo>
                <a:lnTo>
                  <a:pt x="3167" y="182732"/>
                </a:lnTo>
                <a:lnTo>
                  <a:pt x="6382" y="190401"/>
                </a:lnTo>
                <a:lnTo>
                  <a:pt x="11065" y="197208"/>
                </a:lnTo>
                <a:lnTo>
                  <a:pt x="16728" y="203439"/>
                </a:lnTo>
                <a:lnTo>
                  <a:pt x="23042" y="209286"/>
                </a:lnTo>
                <a:lnTo>
                  <a:pt x="30639" y="214877"/>
                </a:lnTo>
                <a:lnTo>
                  <a:pt x="39090" y="220298"/>
                </a:lnTo>
                <a:lnTo>
                  <a:pt x="48110" y="225605"/>
                </a:lnTo>
                <a:lnTo>
                  <a:pt x="57511" y="229990"/>
                </a:lnTo>
                <a:lnTo>
                  <a:pt x="67165" y="233760"/>
                </a:lnTo>
                <a:lnTo>
                  <a:pt x="76987" y="237119"/>
                </a:lnTo>
                <a:lnTo>
                  <a:pt x="88615" y="239360"/>
                </a:lnTo>
                <a:lnTo>
                  <a:pt x="101448" y="240854"/>
                </a:lnTo>
                <a:lnTo>
                  <a:pt x="115083" y="241849"/>
                </a:lnTo>
                <a:lnTo>
                  <a:pt x="127559" y="241666"/>
                </a:lnTo>
                <a:lnTo>
                  <a:pt x="139263" y="240698"/>
                </a:lnTo>
                <a:lnTo>
                  <a:pt x="150453" y="239205"/>
                </a:lnTo>
                <a:lnTo>
                  <a:pt x="162146" y="236517"/>
                </a:lnTo>
                <a:lnTo>
                  <a:pt x="174175" y="233031"/>
                </a:lnTo>
                <a:lnTo>
                  <a:pt x="186427" y="229014"/>
                </a:lnTo>
                <a:lnTo>
                  <a:pt x="197135" y="224643"/>
                </a:lnTo>
                <a:lnTo>
                  <a:pt x="206815" y="220035"/>
                </a:lnTo>
                <a:lnTo>
                  <a:pt x="215807" y="215270"/>
                </a:lnTo>
                <a:lnTo>
                  <a:pt x="223495" y="209553"/>
                </a:lnTo>
                <a:lnTo>
                  <a:pt x="230315" y="203202"/>
                </a:lnTo>
                <a:lnTo>
                  <a:pt x="236554" y="196428"/>
                </a:lnTo>
                <a:lnTo>
                  <a:pt x="241560" y="190219"/>
                </a:lnTo>
                <a:lnTo>
                  <a:pt x="245744" y="184385"/>
                </a:lnTo>
                <a:lnTo>
                  <a:pt x="249380" y="178804"/>
                </a:lnTo>
                <a:lnTo>
                  <a:pt x="250957" y="172542"/>
                </a:lnTo>
                <a:lnTo>
                  <a:pt x="251162" y="165828"/>
                </a:lnTo>
                <a:lnTo>
                  <a:pt x="250452" y="158812"/>
                </a:lnTo>
                <a:lnTo>
                  <a:pt x="249131" y="153288"/>
                </a:lnTo>
                <a:lnTo>
                  <a:pt x="245408" y="144893"/>
                </a:lnTo>
                <a:lnTo>
                  <a:pt x="238672" y="136081"/>
                </a:lnTo>
                <a:lnTo>
                  <a:pt x="234505" y="131361"/>
                </a:lnTo>
                <a:lnTo>
                  <a:pt x="230035" y="128213"/>
                </a:lnTo>
                <a:lnTo>
                  <a:pt x="225360" y="126116"/>
                </a:lnTo>
                <a:lnTo>
                  <a:pt x="220551" y="124717"/>
                </a:lnTo>
                <a:lnTo>
                  <a:pt x="215651" y="124631"/>
                </a:lnTo>
                <a:lnTo>
                  <a:pt x="210692" y="125421"/>
                </a:lnTo>
                <a:lnTo>
                  <a:pt x="205691" y="126794"/>
                </a:lnTo>
                <a:lnTo>
                  <a:pt x="193363" y="130577"/>
                </a:lnTo>
                <a:lnTo>
                  <a:pt x="186519" y="132771"/>
                </a:lnTo>
                <a:lnTo>
                  <a:pt x="179417" y="136774"/>
                </a:lnTo>
                <a:lnTo>
                  <a:pt x="172142" y="141983"/>
                </a:lnTo>
                <a:lnTo>
                  <a:pt x="164752" y="147995"/>
                </a:lnTo>
                <a:lnTo>
                  <a:pt x="158979" y="153697"/>
                </a:lnTo>
                <a:lnTo>
                  <a:pt x="154283" y="159192"/>
                </a:lnTo>
                <a:lnTo>
                  <a:pt x="150306" y="164547"/>
                </a:lnTo>
                <a:lnTo>
                  <a:pt x="146808" y="171505"/>
                </a:lnTo>
                <a:lnTo>
                  <a:pt x="143630" y="179530"/>
                </a:lnTo>
                <a:lnTo>
                  <a:pt x="140664" y="188267"/>
                </a:lnTo>
                <a:lnTo>
                  <a:pt x="139533" y="196631"/>
                </a:lnTo>
                <a:lnTo>
                  <a:pt x="139626" y="204747"/>
                </a:lnTo>
                <a:lnTo>
                  <a:pt x="140534" y="212698"/>
                </a:lnTo>
                <a:lnTo>
                  <a:pt x="141986" y="220539"/>
                </a:lnTo>
                <a:lnTo>
                  <a:pt x="143802" y="228306"/>
                </a:lnTo>
                <a:lnTo>
                  <a:pt x="145859" y="236024"/>
                </a:lnTo>
                <a:lnTo>
                  <a:pt x="149769" y="243709"/>
                </a:lnTo>
                <a:lnTo>
                  <a:pt x="154917" y="251372"/>
                </a:lnTo>
                <a:lnTo>
                  <a:pt x="160889" y="259022"/>
                </a:lnTo>
                <a:lnTo>
                  <a:pt x="166563" y="267508"/>
                </a:lnTo>
                <a:lnTo>
                  <a:pt x="172039" y="276552"/>
                </a:lnTo>
                <a:lnTo>
                  <a:pt x="177384" y="285968"/>
                </a:lnTo>
                <a:lnTo>
                  <a:pt x="182640" y="293092"/>
                </a:lnTo>
                <a:lnTo>
                  <a:pt x="187837" y="298689"/>
                </a:lnTo>
                <a:lnTo>
                  <a:pt x="203312" y="3124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MARTInkAnnotation249"/>
          <p:cNvSpPr/>
          <p:nvPr/>
        </p:nvSpPr>
        <p:spPr>
          <a:xfrm>
            <a:off x="4238640" y="5326200"/>
            <a:ext cx="235080" cy="114120"/>
          </a:xfrm>
          <a:custGeom>
            <a:avLst/>
            <a:gdLst>
              <a:gd name="textAreaLeft" fmla="*/ 0 w 235080"/>
              <a:gd name="textAreaRight" fmla="*/ 235440 w 2350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34547" h="113956">
                <a:moveTo>
                  <a:pt x="143105" y="7306"/>
                </a:moveTo>
                <a:lnTo>
                  <a:pt x="149666" y="7306"/>
                </a:lnTo>
                <a:lnTo>
                  <a:pt x="152513" y="5049"/>
                </a:lnTo>
                <a:lnTo>
                  <a:pt x="158004" y="0"/>
                </a:lnTo>
                <a:lnTo>
                  <a:pt x="151754" y="6275"/>
                </a:lnTo>
                <a:lnTo>
                  <a:pt x="148872" y="7465"/>
                </a:lnTo>
                <a:lnTo>
                  <a:pt x="138895" y="11046"/>
                </a:lnTo>
                <a:lnTo>
                  <a:pt x="133525" y="12339"/>
                </a:lnTo>
                <a:lnTo>
                  <a:pt x="128252" y="13202"/>
                </a:lnTo>
                <a:lnTo>
                  <a:pt x="123043" y="13777"/>
                </a:lnTo>
                <a:lnTo>
                  <a:pt x="117877" y="15853"/>
                </a:lnTo>
                <a:lnTo>
                  <a:pt x="112739" y="18931"/>
                </a:lnTo>
                <a:lnTo>
                  <a:pt x="107622" y="22676"/>
                </a:lnTo>
                <a:lnTo>
                  <a:pt x="101670" y="26020"/>
                </a:lnTo>
                <a:lnTo>
                  <a:pt x="95162" y="29095"/>
                </a:lnTo>
                <a:lnTo>
                  <a:pt x="88283" y="31992"/>
                </a:lnTo>
                <a:lnTo>
                  <a:pt x="81157" y="34770"/>
                </a:lnTo>
                <a:lnTo>
                  <a:pt x="66465" y="40114"/>
                </a:lnTo>
                <a:lnTo>
                  <a:pt x="43915" y="47883"/>
                </a:lnTo>
                <a:lnTo>
                  <a:pt x="37185" y="50445"/>
                </a:lnTo>
                <a:lnTo>
                  <a:pt x="31005" y="52999"/>
                </a:lnTo>
                <a:lnTo>
                  <a:pt x="25192" y="55547"/>
                </a:lnTo>
                <a:lnTo>
                  <a:pt x="20469" y="58940"/>
                </a:lnTo>
                <a:lnTo>
                  <a:pt x="16474" y="62896"/>
                </a:lnTo>
                <a:lnTo>
                  <a:pt x="12965" y="67226"/>
                </a:lnTo>
                <a:lnTo>
                  <a:pt x="9778" y="70113"/>
                </a:lnTo>
                <a:lnTo>
                  <a:pt x="6807" y="72037"/>
                </a:lnTo>
                <a:lnTo>
                  <a:pt x="3979" y="73320"/>
                </a:lnTo>
                <a:lnTo>
                  <a:pt x="2095" y="75868"/>
                </a:lnTo>
                <a:lnTo>
                  <a:pt x="838" y="79261"/>
                </a:lnTo>
                <a:lnTo>
                  <a:pt x="0" y="83216"/>
                </a:lnTo>
                <a:lnTo>
                  <a:pt x="289" y="85853"/>
                </a:lnTo>
                <a:lnTo>
                  <a:pt x="1328" y="87610"/>
                </a:lnTo>
                <a:lnTo>
                  <a:pt x="5586" y="90410"/>
                </a:lnTo>
                <a:lnTo>
                  <a:pt x="9092" y="92343"/>
                </a:lnTo>
                <a:lnTo>
                  <a:pt x="13123" y="94477"/>
                </a:lnTo>
                <a:lnTo>
                  <a:pt x="18351" y="96747"/>
                </a:lnTo>
                <a:lnTo>
                  <a:pt x="24375" y="99107"/>
                </a:lnTo>
                <a:lnTo>
                  <a:pt x="30932" y="101526"/>
                </a:lnTo>
                <a:lnTo>
                  <a:pt x="37843" y="103140"/>
                </a:lnTo>
                <a:lnTo>
                  <a:pt x="44991" y="104215"/>
                </a:lnTo>
                <a:lnTo>
                  <a:pt x="52295" y="104932"/>
                </a:lnTo>
                <a:lnTo>
                  <a:pt x="59705" y="106257"/>
                </a:lnTo>
                <a:lnTo>
                  <a:pt x="67186" y="107986"/>
                </a:lnTo>
                <a:lnTo>
                  <a:pt x="74712" y="109986"/>
                </a:lnTo>
                <a:lnTo>
                  <a:pt x="83116" y="111320"/>
                </a:lnTo>
                <a:lnTo>
                  <a:pt x="92106" y="112209"/>
                </a:lnTo>
                <a:lnTo>
                  <a:pt x="101486" y="112801"/>
                </a:lnTo>
                <a:lnTo>
                  <a:pt x="120939" y="113460"/>
                </a:lnTo>
                <a:lnTo>
                  <a:pt x="165053" y="113917"/>
                </a:lnTo>
                <a:lnTo>
                  <a:pt x="180800" y="113955"/>
                </a:lnTo>
                <a:lnTo>
                  <a:pt x="187708" y="113119"/>
                </a:lnTo>
                <a:lnTo>
                  <a:pt x="194007" y="111714"/>
                </a:lnTo>
                <a:lnTo>
                  <a:pt x="199900" y="109932"/>
                </a:lnTo>
                <a:lnTo>
                  <a:pt x="204675" y="108743"/>
                </a:lnTo>
                <a:lnTo>
                  <a:pt x="208705" y="107951"/>
                </a:lnTo>
                <a:lnTo>
                  <a:pt x="212238" y="107422"/>
                </a:lnTo>
                <a:lnTo>
                  <a:pt x="218422" y="104578"/>
                </a:lnTo>
                <a:lnTo>
                  <a:pt x="221257" y="102634"/>
                </a:lnTo>
                <a:lnTo>
                  <a:pt x="226663" y="100475"/>
                </a:lnTo>
                <a:lnTo>
                  <a:pt x="234546" y="987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MARTInkAnnotation250"/>
          <p:cNvSpPr/>
          <p:nvPr/>
        </p:nvSpPr>
        <p:spPr>
          <a:xfrm>
            <a:off x="4473720" y="5326200"/>
            <a:ext cx="106200" cy="342720"/>
          </a:xfrm>
          <a:custGeom>
            <a:avLst/>
            <a:gdLst>
              <a:gd name="textAreaLeft" fmla="*/ 0 w 106200"/>
              <a:gd name="textAreaRight" fmla="*/ 106560 w 10620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06680" h="342901">
                <a:moveTo>
                  <a:pt x="106679" y="0"/>
                </a:moveTo>
                <a:lnTo>
                  <a:pt x="100118" y="13122"/>
                </a:lnTo>
                <a:lnTo>
                  <a:pt x="98072" y="15521"/>
                </a:lnTo>
                <a:lnTo>
                  <a:pt x="95014" y="18814"/>
                </a:lnTo>
                <a:lnTo>
                  <a:pt x="91283" y="22703"/>
                </a:lnTo>
                <a:lnTo>
                  <a:pt x="87948" y="27835"/>
                </a:lnTo>
                <a:lnTo>
                  <a:pt x="84878" y="33797"/>
                </a:lnTo>
                <a:lnTo>
                  <a:pt x="81986" y="40311"/>
                </a:lnTo>
                <a:lnTo>
                  <a:pt x="74255" y="56581"/>
                </a:lnTo>
                <a:lnTo>
                  <a:pt x="55496" y="94620"/>
                </a:lnTo>
                <a:lnTo>
                  <a:pt x="51390" y="105414"/>
                </a:lnTo>
                <a:lnTo>
                  <a:pt x="47806" y="116843"/>
                </a:lnTo>
                <a:lnTo>
                  <a:pt x="44571" y="128695"/>
                </a:lnTo>
                <a:lnTo>
                  <a:pt x="41567" y="141677"/>
                </a:lnTo>
                <a:lnTo>
                  <a:pt x="35972" y="169647"/>
                </a:lnTo>
                <a:lnTo>
                  <a:pt x="34141" y="183372"/>
                </a:lnTo>
                <a:lnTo>
                  <a:pt x="32921" y="196755"/>
                </a:lnTo>
                <a:lnTo>
                  <a:pt x="32106" y="209910"/>
                </a:lnTo>
                <a:lnTo>
                  <a:pt x="30718" y="222913"/>
                </a:lnTo>
                <a:lnTo>
                  <a:pt x="28945" y="235815"/>
                </a:lnTo>
                <a:lnTo>
                  <a:pt x="20016" y="290985"/>
                </a:lnTo>
                <a:lnTo>
                  <a:pt x="16731" y="303210"/>
                </a:lnTo>
                <a:lnTo>
                  <a:pt x="12847" y="313900"/>
                </a:lnTo>
                <a:lnTo>
                  <a:pt x="0" y="3429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MARTInkAnnotation251"/>
          <p:cNvSpPr/>
          <p:nvPr/>
        </p:nvSpPr>
        <p:spPr>
          <a:xfrm>
            <a:off x="5357880" y="5351400"/>
            <a:ext cx="217440" cy="185760"/>
          </a:xfrm>
          <a:custGeom>
            <a:avLst/>
            <a:gdLst>
              <a:gd name="textAreaLeft" fmla="*/ 0 w 217440"/>
              <a:gd name="textAreaRight" fmla="*/ 217800 w 2174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16991" h="185574">
                <a:moveTo>
                  <a:pt x="181920" y="28479"/>
                </a:moveTo>
                <a:lnTo>
                  <a:pt x="174392" y="20952"/>
                </a:lnTo>
                <a:lnTo>
                  <a:pt x="168234" y="20878"/>
                </a:lnTo>
                <a:lnTo>
                  <a:pt x="148300" y="20861"/>
                </a:lnTo>
                <a:lnTo>
                  <a:pt x="141726" y="21708"/>
                </a:lnTo>
                <a:lnTo>
                  <a:pt x="134803" y="23118"/>
                </a:lnTo>
                <a:lnTo>
                  <a:pt x="101398" y="31465"/>
                </a:lnTo>
                <a:lnTo>
                  <a:pt x="92678" y="33856"/>
                </a:lnTo>
                <a:lnTo>
                  <a:pt x="76216" y="38772"/>
                </a:lnTo>
                <a:lnTo>
                  <a:pt x="67424" y="42114"/>
                </a:lnTo>
                <a:lnTo>
                  <a:pt x="58176" y="46036"/>
                </a:lnTo>
                <a:lnTo>
                  <a:pt x="48623" y="50344"/>
                </a:lnTo>
                <a:lnTo>
                  <a:pt x="40562" y="54908"/>
                </a:lnTo>
                <a:lnTo>
                  <a:pt x="33494" y="59645"/>
                </a:lnTo>
                <a:lnTo>
                  <a:pt x="27089" y="64496"/>
                </a:lnTo>
                <a:lnTo>
                  <a:pt x="21126" y="69424"/>
                </a:lnTo>
                <a:lnTo>
                  <a:pt x="15456" y="74402"/>
                </a:lnTo>
                <a:lnTo>
                  <a:pt x="9984" y="79414"/>
                </a:lnTo>
                <a:lnTo>
                  <a:pt x="6335" y="86143"/>
                </a:lnTo>
                <a:lnTo>
                  <a:pt x="3904" y="94015"/>
                </a:lnTo>
                <a:lnTo>
                  <a:pt x="2282" y="102649"/>
                </a:lnTo>
                <a:lnTo>
                  <a:pt x="1201" y="110099"/>
                </a:lnTo>
                <a:lnTo>
                  <a:pt x="481" y="116759"/>
                </a:lnTo>
                <a:lnTo>
                  <a:pt x="0" y="122892"/>
                </a:lnTo>
                <a:lnTo>
                  <a:pt x="1372" y="129521"/>
                </a:lnTo>
                <a:lnTo>
                  <a:pt x="3982" y="136481"/>
                </a:lnTo>
                <a:lnTo>
                  <a:pt x="7414" y="143660"/>
                </a:lnTo>
                <a:lnTo>
                  <a:pt x="12242" y="150140"/>
                </a:lnTo>
                <a:lnTo>
                  <a:pt x="18001" y="156153"/>
                </a:lnTo>
                <a:lnTo>
                  <a:pt x="24380" y="161855"/>
                </a:lnTo>
                <a:lnTo>
                  <a:pt x="32020" y="167350"/>
                </a:lnTo>
                <a:lnTo>
                  <a:pt x="40499" y="172706"/>
                </a:lnTo>
                <a:lnTo>
                  <a:pt x="49540" y="177970"/>
                </a:lnTo>
                <a:lnTo>
                  <a:pt x="58952" y="181480"/>
                </a:lnTo>
                <a:lnTo>
                  <a:pt x="68615" y="183820"/>
                </a:lnTo>
                <a:lnTo>
                  <a:pt x="78443" y="185379"/>
                </a:lnTo>
                <a:lnTo>
                  <a:pt x="88381" y="185573"/>
                </a:lnTo>
                <a:lnTo>
                  <a:pt x="98394" y="184854"/>
                </a:lnTo>
                <a:lnTo>
                  <a:pt x="108455" y="183530"/>
                </a:lnTo>
                <a:lnTo>
                  <a:pt x="118551" y="180952"/>
                </a:lnTo>
                <a:lnTo>
                  <a:pt x="128666" y="177541"/>
                </a:lnTo>
                <a:lnTo>
                  <a:pt x="138798" y="173574"/>
                </a:lnTo>
                <a:lnTo>
                  <a:pt x="148938" y="168389"/>
                </a:lnTo>
                <a:lnTo>
                  <a:pt x="159085" y="162393"/>
                </a:lnTo>
                <a:lnTo>
                  <a:pt x="169237" y="155854"/>
                </a:lnTo>
                <a:lnTo>
                  <a:pt x="177698" y="148956"/>
                </a:lnTo>
                <a:lnTo>
                  <a:pt x="185031" y="141817"/>
                </a:lnTo>
                <a:lnTo>
                  <a:pt x="191614" y="134518"/>
                </a:lnTo>
                <a:lnTo>
                  <a:pt x="197696" y="126265"/>
                </a:lnTo>
                <a:lnTo>
                  <a:pt x="203444" y="117376"/>
                </a:lnTo>
                <a:lnTo>
                  <a:pt x="208969" y="108064"/>
                </a:lnTo>
                <a:lnTo>
                  <a:pt x="212653" y="98469"/>
                </a:lnTo>
                <a:lnTo>
                  <a:pt x="215108" y="88685"/>
                </a:lnTo>
                <a:lnTo>
                  <a:pt x="216745" y="78776"/>
                </a:lnTo>
                <a:lnTo>
                  <a:pt x="216990" y="69631"/>
                </a:lnTo>
                <a:lnTo>
                  <a:pt x="216307" y="60993"/>
                </a:lnTo>
                <a:lnTo>
                  <a:pt x="215004" y="52695"/>
                </a:lnTo>
                <a:lnTo>
                  <a:pt x="213289" y="45470"/>
                </a:lnTo>
                <a:lnTo>
                  <a:pt x="211299" y="38959"/>
                </a:lnTo>
                <a:lnTo>
                  <a:pt x="209126" y="32926"/>
                </a:lnTo>
                <a:lnTo>
                  <a:pt x="205984" y="27210"/>
                </a:lnTo>
                <a:lnTo>
                  <a:pt x="202195" y="21707"/>
                </a:lnTo>
                <a:lnTo>
                  <a:pt x="197977" y="16344"/>
                </a:lnTo>
                <a:lnTo>
                  <a:pt x="193471" y="11922"/>
                </a:lnTo>
                <a:lnTo>
                  <a:pt x="188773" y="8128"/>
                </a:lnTo>
                <a:lnTo>
                  <a:pt x="183948" y="4752"/>
                </a:lnTo>
                <a:lnTo>
                  <a:pt x="179039" y="2501"/>
                </a:lnTo>
                <a:lnTo>
                  <a:pt x="174072" y="1000"/>
                </a:lnTo>
                <a:lnTo>
                  <a:pt x="169068" y="0"/>
                </a:lnTo>
                <a:lnTo>
                  <a:pt x="163192" y="1026"/>
                </a:lnTo>
                <a:lnTo>
                  <a:pt x="156734" y="3404"/>
                </a:lnTo>
                <a:lnTo>
                  <a:pt x="149889" y="6682"/>
                </a:lnTo>
                <a:lnTo>
                  <a:pt x="142785" y="10561"/>
                </a:lnTo>
                <a:lnTo>
                  <a:pt x="135510" y="14841"/>
                </a:lnTo>
                <a:lnTo>
                  <a:pt x="128120" y="19387"/>
                </a:lnTo>
                <a:lnTo>
                  <a:pt x="121499" y="23264"/>
                </a:lnTo>
                <a:lnTo>
                  <a:pt x="109628" y="29831"/>
                </a:lnTo>
                <a:lnTo>
                  <a:pt x="104939" y="33613"/>
                </a:lnTo>
                <a:lnTo>
                  <a:pt x="100966" y="37828"/>
                </a:lnTo>
                <a:lnTo>
                  <a:pt x="90479" y="513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MARTInkAnnotation252"/>
          <p:cNvSpPr/>
          <p:nvPr/>
        </p:nvSpPr>
        <p:spPr>
          <a:xfrm>
            <a:off x="5278320" y="5540400"/>
            <a:ext cx="344520" cy="187200"/>
          </a:xfrm>
          <a:custGeom>
            <a:avLst/>
            <a:gdLst>
              <a:gd name="textAreaLeft" fmla="*/ 0 w 344520"/>
              <a:gd name="textAreaRight" fmla="*/ 344520 w 3445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45592" h="187219">
                <a:moveTo>
                  <a:pt x="261771" y="30135"/>
                </a:moveTo>
                <a:lnTo>
                  <a:pt x="265816" y="26090"/>
                </a:lnTo>
                <a:lnTo>
                  <a:pt x="267008" y="24052"/>
                </a:lnTo>
                <a:lnTo>
                  <a:pt x="268332" y="19529"/>
                </a:lnTo>
                <a:lnTo>
                  <a:pt x="269077" y="16268"/>
                </a:lnTo>
                <a:lnTo>
                  <a:pt x="273343" y="11257"/>
                </a:lnTo>
                <a:lnTo>
                  <a:pt x="273719" y="9929"/>
                </a:lnTo>
                <a:lnTo>
                  <a:pt x="273124" y="9045"/>
                </a:lnTo>
                <a:lnTo>
                  <a:pt x="265981" y="5542"/>
                </a:lnTo>
                <a:lnTo>
                  <a:pt x="262038" y="3579"/>
                </a:lnTo>
                <a:lnTo>
                  <a:pt x="253141" y="1399"/>
                </a:lnTo>
                <a:lnTo>
                  <a:pt x="248398" y="817"/>
                </a:lnTo>
                <a:lnTo>
                  <a:pt x="241848" y="430"/>
                </a:lnTo>
                <a:lnTo>
                  <a:pt x="225541" y="0"/>
                </a:lnTo>
                <a:lnTo>
                  <a:pt x="216451" y="731"/>
                </a:lnTo>
                <a:lnTo>
                  <a:pt x="207004" y="2066"/>
                </a:lnTo>
                <a:lnTo>
                  <a:pt x="175270" y="7989"/>
                </a:lnTo>
                <a:lnTo>
                  <a:pt x="163464" y="10291"/>
                </a:lnTo>
                <a:lnTo>
                  <a:pt x="150513" y="14365"/>
                </a:lnTo>
                <a:lnTo>
                  <a:pt x="136799" y="19622"/>
                </a:lnTo>
                <a:lnTo>
                  <a:pt x="122577" y="25666"/>
                </a:lnTo>
                <a:lnTo>
                  <a:pt x="97742" y="36898"/>
                </a:lnTo>
                <a:lnTo>
                  <a:pt x="64721" y="52741"/>
                </a:lnTo>
                <a:lnTo>
                  <a:pt x="54205" y="57906"/>
                </a:lnTo>
                <a:lnTo>
                  <a:pt x="44654" y="64736"/>
                </a:lnTo>
                <a:lnTo>
                  <a:pt x="35746" y="72676"/>
                </a:lnTo>
                <a:lnTo>
                  <a:pt x="27268" y="81356"/>
                </a:lnTo>
                <a:lnTo>
                  <a:pt x="20769" y="88835"/>
                </a:lnTo>
                <a:lnTo>
                  <a:pt x="15590" y="95515"/>
                </a:lnTo>
                <a:lnTo>
                  <a:pt x="11290" y="101662"/>
                </a:lnTo>
                <a:lnTo>
                  <a:pt x="7577" y="108299"/>
                </a:lnTo>
                <a:lnTo>
                  <a:pt x="4255" y="115265"/>
                </a:lnTo>
                <a:lnTo>
                  <a:pt x="1194" y="122448"/>
                </a:lnTo>
                <a:lnTo>
                  <a:pt x="0" y="129777"/>
                </a:lnTo>
                <a:lnTo>
                  <a:pt x="51" y="137203"/>
                </a:lnTo>
                <a:lnTo>
                  <a:pt x="931" y="144694"/>
                </a:lnTo>
                <a:lnTo>
                  <a:pt x="4057" y="151381"/>
                </a:lnTo>
                <a:lnTo>
                  <a:pt x="8683" y="157532"/>
                </a:lnTo>
                <a:lnTo>
                  <a:pt x="14306" y="163327"/>
                </a:lnTo>
                <a:lnTo>
                  <a:pt x="20594" y="168883"/>
                </a:lnTo>
                <a:lnTo>
                  <a:pt x="27327" y="174280"/>
                </a:lnTo>
                <a:lnTo>
                  <a:pt x="34356" y="179571"/>
                </a:lnTo>
                <a:lnTo>
                  <a:pt x="43274" y="183099"/>
                </a:lnTo>
                <a:lnTo>
                  <a:pt x="53453" y="185452"/>
                </a:lnTo>
                <a:lnTo>
                  <a:pt x="64472" y="187019"/>
                </a:lnTo>
                <a:lnTo>
                  <a:pt x="76899" y="187218"/>
                </a:lnTo>
                <a:lnTo>
                  <a:pt x="90263" y="186503"/>
                </a:lnTo>
                <a:lnTo>
                  <a:pt x="104253" y="185180"/>
                </a:lnTo>
                <a:lnTo>
                  <a:pt x="117812" y="183452"/>
                </a:lnTo>
                <a:lnTo>
                  <a:pt x="131085" y="181453"/>
                </a:lnTo>
                <a:lnTo>
                  <a:pt x="144167" y="179274"/>
                </a:lnTo>
                <a:lnTo>
                  <a:pt x="157969" y="175281"/>
                </a:lnTo>
                <a:lnTo>
                  <a:pt x="172249" y="170079"/>
                </a:lnTo>
                <a:lnTo>
                  <a:pt x="186851" y="164071"/>
                </a:lnTo>
                <a:lnTo>
                  <a:pt x="201664" y="156679"/>
                </a:lnTo>
                <a:lnTo>
                  <a:pt x="216619" y="148365"/>
                </a:lnTo>
                <a:lnTo>
                  <a:pt x="273078" y="114731"/>
                </a:lnTo>
                <a:lnTo>
                  <a:pt x="294736" y="101318"/>
                </a:lnTo>
                <a:lnTo>
                  <a:pt x="345591" y="682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MARTInkAnnotation253"/>
          <p:cNvSpPr/>
          <p:nvPr/>
        </p:nvSpPr>
        <p:spPr>
          <a:xfrm>
            <a:off x="5608800" y="5364000"/>
            <a:ext cx="280800" cy="290520"/>
          </a:xfrm>
          <a:custGeom>
            <a:avLst/>
            <a:gdLst>
              <a:gd name="textAreaLeft" fmla="*/ 0 w 280800"/>
              <a:gd name="textAreaRight" fmla="*/ 281160 w 2808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81703" h="289521">
                <a:moveTo>
                  <a:pt x="213122" y="0"/>
                </a:moveTo>
                <a:lnTo>
                  <a:pt x="209077" y="0"/>
                </a:lnTo>
                <a:lnTo>
                  <a:pt x="207885" y="846"/>
                </a:lnTo>
                <a:lnTo>
                  <a:pt x="207091" y="2258"/>
                </a:lnTo>
                <a:lnTo>
                  <a:pt x="206561" y="4045"/>
                </a:lnTo>
                <a:lnTo>
                  <a:pt x="203715" y="8289"/>
                </a:lnTo>
                <a:lnTo>
                  <a:pt x="198781" y="13844"/>
                </a:lnTo>
                <a:lnTo>
                  <a:pt x="190944" y="21957"/>
                </a:lnTo>
                <a:lnTo>
                  <a:pt x="186483" y="27338"/>
                </a:lnTo>
                <a:lnTo>
                  <a:pt x="181816" y="33466"/>
                </a:lnTo>
                <a:lnTo>
                  <a:pt x="177011" y="40090"/>
                </a:lnTo>
                <a:lnTo>
                  <a:pt x="172115" y="46201"/>
                </a:lnTo>
                <a:lnTo>
                  <a:pt x="167157" y="51967"/>
                </a:lnTo>
                <a:lnTo>
                  <a:pt x="162159" y="57505"/>
                </a:lnTo>
                <a:lnTo>
                  <a:pt x="149832" y="70431"/>
                </a:lnTo>
                <a:lnTo>
                  <a:pt x="68615" y="152118"/>
                </a:lnTo>
                <a:lnTo>
                  <a:pt x="61751" y="159832"/>
                </a:lnTo>
                <a:lnTo>
                  <a:pt x="55481" y="167515"/>
                </a:lnTo>
                <a:lnTo>
                  <a:pt x="49608" y="175177"/>
                </a:lnTo>
                <a:lnTo>
                  <a:pt x="43999" y="183671"/>
                </a:lnTo>
                <a:lnTo>
                  <a:pt x="38567" y="192721"/>
                </a:lnTo>
                <a:lnTo>
                  <a:pt x="28862" y="210114"/>
                </a:lnTo>
                <a:lnTo>
                  <a:pt x="21726" y="223489"/>
                </a:lnTo>
                <a:lnTo>
                  <a:pt x="17792" y="229426"/>
                </a:lnTo>
                <a:lnTo>
                  <a:pt x="13475" y="235077"/>
                </a:lnTo>
                <a:lnTo>
                  <a:pt x="8904" y="240538"/>
                </a:lnTo>
                <a:lnTo>
                  <a:pt x="5857" y="245872"/>
                </a:lnTo>
                <a:lnTo>
                  <a:pt x="3825" y="251121"/>
                </a:lnTo>
                <a:lnTo>
                  <a:pt x="2470" y="256315"/>
                </a:lnTo>
                <a:lnTo>
                  <a:pt x="965" y="264342"/>
                </a:lnTo>
                <a:lnTo>
                  <a:pt x="297" y="270732"/>
                </a:lnTo>
                <a:lnTo>
                  <a:pt x="0" y="276394"/>
                </a:lnTo>
                <a:lnTo>
                  <a:pt x="767" y="279090"/>
                </a:lnTo>
                <a:lnTo>
                  <a:pt x="3878" y="284342"/>
                </a:lnTo>
                <a:lnTo>
                  <a:pt x="6739" y="286082"/>
                </a:lnTo>
                <a:lnTo>
                  <a:pt x="14434" y="288015"/>
                </a:lnTo>
                <a:lnTo>
                  <a:pt x="19703" y="288530"/>
                </a:lnTo>
                <a:lnTo>
                  <a:pt x="25756" y="288873"/>
                </a:lnTo>
                <a:lnTo>
                  <a:pt x="39255" y="289255"/>
                </a:lnTo>
                <a:lnTo>
                  <a:pt x="84236" y="289520"/>
                </a:lnTo>
                <a:lnTo>
                  <a:pt x="95871" y="288687"/>
                </a:lnTo>
                <a:lnTo>
                  <a:pt x="107861" y="287285"/>
                </a:lnTo>
                <a:lnTo>
                  <a:pt x="120088" y="285503"/>
                </a:lnTo>
                <a:lnTo>
                  <a:pt x="144962" y="281266"/>
                </a:lnTo>
                <a:lnTo>
                  <a:pt x="157522" y="278950"/>
                </a:lnTo>
                <a:lnTo>
                  <a:pt x="168435" y="277407"/>
                </a:lnTo>
                <a:lnTo>
                  <a:pt x="178251" y="276378"/>
                </a:lnTo>
                <a:lnTo>
                  <a:pt x="187335" y="275692"/>
                </a:lnTo>
                <a:lnTo>
                  <a:pt x="195930" y="274388"/>
                </a:lnTo>
                <a:lnTo>
                  <a:pt x="204201" y="272672"/>
                </a:lnTo>
                <a:lnTo>
                  <a:pt x="212255" y="270682"/>
                </a:lnTo>
                <a:lnTo>
                  <a:pt x="220163" y="269354"/>
                </a:lnTo>
                <a:lnTo>
                  <a:pt x="227977" y="268469"/>
                </a:lnTo>
                <a:lnTo>
                  <a:pt x="235725" y="267880"/>
                </a:lnTo>
                <a:lnTo>
                  <a:pt x="242584" y="266639"/>
                </a:lnTo>
                <a:lnTo>
                  <a:pt x="248850" y="264967"/>
                </a:lnTo>
                <a:lnTo>
                  <a:pt x="254721" y="263004"/>
                </a:lnTo>
                <a:lnTo>
                  <a:pt x="263502" y="260825"/>
                </a:lnTo>
                <a:lnTo>
                  <a:pt x="270226" y="259856"/>
                </a:lnTo>
                <a:lnTo>
                  <a:pt x="277925" y="259310"/>
                </a:lnTo>
                <a:lnTo>
                  <a:pt x="281702" y="2590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InkAnnotation254"/>
          <p:cNvSpPr/>
          <p:nvPr/>
        </p:nvSpPr>
        <p:spPr>
          <a:xfrm>
            <a:off x="5227560" y="5745240"/>
            <a:ext cx="776520" cy="100080"/>
          </a:xfrm>
          <a:custGeom>
            <a:avLst/>
            <a:gdLst>
              <a:gd name="textAreaLeft" fmla="*/ 0 w 776520"/>
              <a:gd name="textAreaRight" fmla="*/ 776880 w 77652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777241" h="99061">
                <a:moveTo>
                  <a:pt x="0" y="99060"/>
                </a:moveTo>
                <a:lnTo>
                  <a:pt x="14651" y="99060"/>
                </a:lnTo>
                <a:lnTo>
                  <a:pt x="18234" y="98213"/>
                </a:lnTo>
                <a:lnTo>
                  <a:pt x="21469" y="96802"/>
                </a:lnTo>
                <a:lnTo>
                  <a:pt x="24473" y="95015"/>
                </a:lnTo>
                <a:lnTo>
                  <a:pt x="36841" y="93029"/>
                </a:lnTo>
                <a:lnTo>
                  <a:pt x="54474" y="91299"/>
                </a:lnTo>
                <a:lnTo>
                  <a:pt x="65103" y="89653"/>
                </a:lnTo>
                <a:lnTo>
                  <a:pt x="160709" y="73555"/>
                </a:lnTo>
                <a:lnTo>
                  <a:pt x="176566" y="71897"/>
                </a:lnTo>
                <a:lnTo>
                  <a:pt x="193063" y="70792"/>
                </a:lnTo>
                <a:lnTo>
                  <a:pt x="209990" y="70054"/>
                </a:lnTo>
                <a:lnTo>
                  <a:pt x="226353" y="68716"/>
                </a:lnTo>
                <a:lnTo>
                  <a:pt x="242342" y="66978"/>
                </a:lnTo>
                <a:lnTo>
                  <a:pt x="595522" y="20319"/>
                </a:lnTo>
                <a:lnTo>
                  <a:pt x="613761" y="18626"/>
                </a:lnTo>
                <a:lnTo>
                  <a:pt x="631848" y="17497"/>
                </a:lnTo>
                <a:lnTo>
                  <a:pt x="649832" y="16745"/>
                </a:lnTo>
                <a:lnTo>
                  <a:pt x="667748" y="15397"/>
                </a:lnTo>
                <a:lnTo>
                  <a:pt x="685619" y="13651"/>
                </a:lnTo>
                <a:lnTo>
                  <a:pt x="717045" y="10300"/>
                </a:lnTo>
                <a:lnTo>
                  <a:pt x="736658" y="8811"/>
                </a:lnTo>
                <a:lnTo>
                  <a:pt x="753277" y="5892"/>
                </a:lnTo>
                <a:lnTo>
                  <a:pt x="7772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InkAnnotation255"/>
          <p:cNvSpPr/>
          <p:nvPr/>
        </p:nvSpPr>
        <p:spPr>
          <a:xfrm>
            <a:off x="3924360" y="5722920"/>
            <a:ext cx="792000" cy="38160"/>
          </a:xfrm>
          <a:custGeom>
            <a:avLst/>
            <a:gdLst>
              <a:gd name="textAreaLeft" fmla="*/ 0 w 792000"/>
              <a:gd name="textAreaRight" fmla="*/ 792360 w 7920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92481" h="38101">
                <a:moveTo>
                  <a:pt x="0" y="38100"/>
                </a:moveTo>
                <a:lnTo>
                  <a:pt x="429722" y="38100"/>
                </a:lnTo>
                <a:lnTo>
                  <a:pt x="451581" y="37254"/>
                </a:lnTo>
                <a:lnTo>
                  <a:pt x="473775" y="35843"/>
                </a:lnTo>
                <a:lnTo>
                  <a:pt x="496190" y="34055"/>
                </a:lnTo>
                <a:lnTo>
                  <a:pt x="518753" y="32864"/>
                </a:lnTo>
                <a:lnTo>
                  <a:pt x="564144" y="31539"/>
                </a:lnTo>
                <a:lnTo>
                  <a:pt x="586069" y="30340"/>
                </a:lnTo>
                <a:lnTo>
                  <a:pt x="607459" y="28693"/>
                </a:lnTo>
                <a:lnTo>
                  <a:pt x="628493" y="26749"/>
                </a:lnTo>
                <a:lnTo>
                  <a:pt x="667668" y="22330"/>
                </a:lnTo>
                <a:lnTo>
                  <a:pt x="703988" y="17545"/>
                </a:lnTo>
                <a:lnTo>
                  <a:pt x="737064" y="12595"/>
                </a:lnTo>
                <a:lnTo>
                  <a:pt x="750455" y="10091"/>
                </a:lnTo>
                <a:lnTo>
                  <a:pt x="761924" y="7574"/>
                </a:lnTo>
                <a:lnTo>
                  <a:pt x="7924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InkAnnotation256"/>
          <p:cNvSpPr/>
          <p:nvPr/>
        </p:nvSpPr>
        <p:spPr>
          <a:xfrm>
            <a:off x="4284720" y="5853240"/>
            <a:ext cx="187200" cy="153720"/>
          </a:xfrm>
          <a:custGeom>
            <a:avLst/>
            <a:gdLst>
              <a:gd name="textAreaLeft" fmla="*/ 0 w 187200"/>
              <a:gd name="textAreaRight" fmla="*/ 187560 w 187200"/>
              <a:gd name="textAreaTop" fmla="*/ 0 h 153720"/>
              <a:gd name="textAreaBottom" fmla="*/ 153720 h 153720"/>
            </a:gdLst>
            <a:ahLst/>
            <a:rect l="textAreaLeft" t="textAreaTop" r="textAreaRight" b="textAreaBottom"/>
            <a:pathLst>
              <a:path w="186824" h="154395">
                <a:moveTo>
                  <a:pt x="119929" y="21770"/>
                </a:moveTo>
                <a:lnTo>
                  <a:pt x="126489" y="15209"/>
                </a:lnTo>
                <a:lnTo>
                  <a:pt x="131593" y="12363"/>
                </a:lnTo>
                <a:lnTo>
                  <a:pt x="135325" y="10419"/>
                </a:lnTo>
                <a:lnTo>
                  <a:pt x="138659" y="9123"/>
                </a:lnTo>
                <a:lnTo>
                  <a:pt x="141729" y="8259"/>
                </a:lnTo>
                <a:lnTo>
                  <a:pt x="148694" y="6872"/>
                </a:lnTo>
                <a:lnTo>
                  <a:pt x="153945" y="2586"/>
                </a:lnTo>
                <a:lnTo>
                  <a:pt x="156819" y="0"/>
                </a:lnTo>
                <a:lnTo>
                  <a:pt x="153625" y="3278"/>
                </a:lnTo>
                <a:lnTo>
                  <a:pt x="151706" y="4362"/>
                </a:lnTo>
                <a:lnTo>
                  <a:pt x="147316" y="5567"/>
                </a:lnTo>
                <a:lnTo>
                  <a:pt x="144113" y="5888"/>
                </a:lnTo>
                <a:lnTo>
                  <a:pt x="140286" y="6102"/>
                </a:lnTo>
                <a:lnTo>
                  <a:pt x="136039" y="6245"/>
                </a:lnTo>
                <a:lnTo>
                  <a:pt x="131516" y="7186"/>
                </a:lnTo>
                <a:lnTo>
                  <a:pt x="126806" y="8661"/>
                </a:lnTo>
                <a:lnTo>
                  <a:pt x="121973" y="10491"/>
                </a:lnTo>
                <a:lnTo>
                  <a:pt x="115365" y="12557"/>
                </a:lnTo>
                <a:lnTo>
                  <a:pt x="98992" y="17111"/>
                </a:lnTo>
                <a:lnTo>
                  <a:pt x="90730" y="20357"/>
                </a:lnTo>
                <a:lnTo>
                  <a:pt x="82683" y="24215"/>
                </a:lnTo>
                <a:lnTo>
                  <a:pt x="74778" y="28480"/>
                </a:lnTo>
                <a:lnTo>
                  <a:pt x="66968" y="32170"/>
                </a:lnTo>
                <a:lnTo>
                  <a:pt x="59222" y="35477"/>
                </a:lnTo>
                <a:lnTo>
                  <a:pt x="51517" y="38528"/>
                </a:lnTo>
                <a:lnTo>
                  <a:pt x="44688" y="42256"/>
                </a:lnTo>
                <a:lnTo>
                  <a:pt x="38441" y="46433"/>
                </a:lnTo>
                <a:lnTo>
                  <a:pt x="32583" y="50913"/>
                </a:lnTo>
                <a:lnTo>
                  <a:pt x="26985" y="55592"/>
                </a:lnTo>
                <a:lnTo>
                  <a:pt x="21559" y="60404"/>
                </a:lnTo>
                <a:lnTo>
                  <a:pt x="16249" y="65306"/>
                </a:lnTo>
                <a:lnTo>
                  <a:pt x="11862" y="71114"/>
                </a:lnTo>
                <a:lnTo>
                  <a:pt x="8091" y="77526"/>
                </a:lnTo>
                <a:lnTo>
                  <a:pt x="4730" y="84341"/>
                </a:lnTo>
                <a:lnTo>
                  <a:pt x="2489" y="90578"/>
                </a:lnTo>
                <a:lnTo>
                  <a:pt x="996" y="96428"/>
                </a:lnTo>
                <a:lnTo>
                  <a:pt x="0" y="102022"/>
                </a:lnTo>
                <a:lnTo>
                  <a:pt x="182" y="107445"/>
                </a:lnTo>
                <a:lnTo>
                  <a:pt x="1151" y="112754"/>
                </a:lnTo>
                <a:lnTo>
                  <a:pt x="2644" y="117986"/>
                </a:lnTo>
                <a:lnTo>
                  <a:pt x="6179" y="123167"/>
                </a:lnTo>
                <a:lnTo>
                  <a:pt x="11075" y="128315"/>
                </a:lnTo>
                <a:lnTo>
                  <a:pt x="16879" y="133440"/>
                </a:lnTo>
                <a:lnTo>
                  <a:pt x="23289" y="137703"/>
                </a:lnTo>
                <a:lnTo>
                  <a:pt x="30102" y="141393"/>
                </a:lnTo>
                <a:lnTo>
                  <a:pt x="37184" y="144698"/>
                </a:lnTo>
                <a:lnTo>
                  <a:pt x="45292" y="147749"/>
                </a:lnTo>
                <a:lnTo>
                  <a:pt x="54084" y="150630"/>
                </a:lnTo>
                <a:lnTo>
                  <a:pt x="63332" y="153396"/>
                </a:lnTo>
                <a:lnTo>
                  <a:pt x="72038" y="154394"/>
                </a:lnTo>
                <a:lnTo>
                  <a:pt x="80381" y="154213"/>
                </a:lnTo>
                <a:lnTo>
                  <a:pt x="88484" y="153245"/>
                </a:lnTo>
                <a:lnTo>
                  <a:pt x="97272" y="151753"/>
                </a:lnTo>
                <a:lnTo>
                  <a:pt x="106517" y="149913"/>
                </a:lnTo>
                <a:lnTo>
                  <a:pt x="116068" y="147838"/>
                </a:lnTo>
                <a:lnTo>
                  <a:pt x="124975" y="144762"/>
                </a:lnTo>
                <a:lnTo>
                  <a:pt x="133452" y="141018"/>
                </a:lnTo>
                <a:lnTo>
                  <a:pt x="141644" y="136829"/>
                </a:lnTo>
                <a:lnTo>
                  <a:pt x="148799" y="131496"/>
                </a:lnTo>
                <a:lnTo>
                  <a:pt x="155262" y="125401"/>
                </a:lnTo>
                <a:lnTo>
                  <a:pt x="161264" y="118797"/>
                </a:lnTo>
                <a:lnTo>
                  <a:pt x="166113" y="111855"/>
                </a:lnTo>
                <a:lnTo>
                  <a:pt x="170191" y="104687"/>
                </a:lnTo>
                <a:lnTo>
                  <a:pt x="182821" y="78977"/>
                </a:lnTo>
                <a:lnTo>
                  <a:pt x="184717" y="72608"/>
                </a:lnTo>
                <a:lnTo>
                  <a:pt x="185980" y="65822"/>
                </a:lnTo>
                <a:lnTo>
                  <a:pt x="186823" y="58758"/>
                </a:lnTo>
                <a:lnTo>
                  <a:pt x="186539" y="52355"/>
                </a:lnTo>
                <a:lnTo>
                  <a:pt x="185501" y="46394"/>
                </a:lnTo>
                <a:lnTo>
                  <a:pt x="183964" y="40726"/>
                </a:lnTo>
                <a:lnTo>
                  <a:pt x="181246" y="36100"/>
                </a:lnTo>
                <a:lnTo>
                  <a:pt x="177740" y="32170"/>
                </a:lnTo>
                <a:lnTo>
                  <a:pt x="173709" y="28704"/>
                </a:lnTo>
                <a:lnTo>
                  <a:pt x="169329" y="26393"/>
                </a:lnTo>
                <a:lnTo>
                  <a:pt x="164715" y="24852"/>
                </a:lnTo>
                <a:lnTo>
                  <a:pt x="159946" y="23825"/>
                </a:lnTo>
                <a:lnTo>
                  <a:pt x="154227" y="23140"/>
                </a:lnTo>
                <a:lnTo>
                  <a:pt x="147874" y="22684"/>
                </a:lnTo>
                <a:lnTo>
                  <a:pt x="141099" y="22379"/>
                </a:lnTo>
                <a:lnTo>
                  <a:pt x="134042" y="23023"/>
                </a:lnTo>
                <a:lnTo>
                  <a:pt x="126798" y="24299"/>
                </a:lnTo>
                <a:lnTo>
                  <a:pt x="119427" y="25996"/>
                </a:lnTo>
                <a:lnTo>
                  <a:pt x="111975" y="28820"/>
                </a:lnTo>
                <a:lnTo>
                  <a:pt x="104466" y="32397"/>
                </a:lnTo>
                <a:lnTo>
                  <a:pt x="96920" y="36475"/>
                </a:lnTo>
                <a:lnTo>
                  <a:pt x="90196" y="41733"/>
                </a:lnTo>
                <a:lnTo>
                  <a:pt x="84020" y="47779"/>
                </a:lnTo>
                <a:lnTo>
                  <a:pt x="78209" y="54349"/>
                </a:lnTo>
                <a:lnTo>
                  <a:pt x="72642" y="61270"/>
                </a:lnTo>
                <a:lnTo>
                  <a:pt x="67237" y="68423"/>
                </a:lnTo>
                <a:lnTo>
                  <a:pt x="61941" y="75732"/>
                </a:lnTo>
                <a:lnTo>
                  <a:pt x="57563" y="81452"/>
                </a:lnTo>
                <a:lnTo>
                  <a:pt x="53799" y="86111"/>
                </a:lnTo>
                <a:lnTo>
                  <a:pt x="50442" y="90064"/>
                </a:lnTo>
                <a:lnTo>
                  <a:pt x="48204" y="94392"/>
                </a:lnTo>
                <a:lnTo>
                  <a:pt x="46712" y="98972"/>
                </a:lnTo>
                <a:lnTo>
                  <a:pt x="43728" y="1132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InkAnnotation257"/>
          <p:cNvSpPr/>
          <p:nvPr/>
        </p:nvSpPr>
        <p:spPr>
          <a:xfrm>
            <a:off x="4290840" y="6012000"/>
            <a:ext cx="204840" cy="177840"/>
          </a:xfrm>
          <a:custGeom>
            <a:avLst/>
            <a:gdLst>
              <a:gd name="textAreaLeft" fmla="*/ 0 w 204840"/>
              <a:gd name="textAreaRight" fmla="*/ 205200 w 20484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204539" h="178254">
                <a:moveTo>
                  <a:pt x="128953" y="7611"/>
                </a:moveTo>
                <a:lnTo>
                  <a:pt x="124908" y="3566"/>
                </a:lnTo>
                <a:lnTo>
                  <a:pt x="122870" y="2374"/>
                </a:lnTo>
                <a:lnTo>
                  <a:pt x="118347" y="1050"/>
                </a:lnTo>
                <a:lnTo>
                  <a:pt x="113515" y="462"/>
                </a:lnTo>
                <a:lnTo>
                  <a:pt x="108545" y="200"/>
                </a:lnTo>
                <a:lnTo>
                  <a:pt x="103514" y="84"/>
                </a:lnTo>
                <a:lnTo>
                  <a:pt x="71143" y="0"/>
                </a:lnTo>
                <a:lnTo>
                  <a:pt x="65013" y="844"/>
                </a:lnTo>
                <a:lnTo>
                  <a:pt x="58386" y="2253"/>
                </a:lnTo>
                <a:lnTo>
                  <a:pt x="51428" y="4039"/>
                </a:lnTo>
                <a:lnTo>
                  <a:pt x="45097" y="6923"/>
                </a:lnTo>
                <a:lnTo>
                  <a:pt x="39182" y="10539"/>
                </a:lnTo>
                <a:lnTo>
                  <a:pt x="33546" y="14643"/>
                </a:lnTo>
                <a:lnTo>
                  <a:pt x="28095" y="19072"/>
                </a:lnTo>
                <a:lnTo>
                  <a:pt x="22768" y="23719"/>
                </a:lnTo>
                <a:lnTo>
                  <a:pt x="17523" y="28510"/>
                </a:lnTo>
                <a:lnTo>
                  <a:pt x="13180" y="34243"/>
                </a:lnTo>
                <a:lnTo>
                  <a:pt x="9437" y="40606"/>
                </a:lnTo>
                <a:lnTo>
                  <a:pt x="6096" y="47388"/>
                </a:lnTo>
                <a:lnTo>
                  <a:pt x="3868" y="54449"/>
                </a:lnTo>
                <a:lnTo>
                  <a:pt x="2384" y="61696"/>
                </a:lnTo>
                <a:lnTo>
                  <a:pt x="1393" y="69068"/>
                </a:lnTo>
                <a:lnTo>
                  <a:pt x="734" y="76523"/>
                </a:lnTo>
                <a:lnTo>
                  <a:pt x="293" y="84032"/>
                </a:lnTo>
                <a:lnTo>
                  <a:pt x="0" y="91578"/>
                </a:lnTo>
                <a:lnTo>
                  <a:pt x="1498" y="99149"/>
                </a:lnTo>
                <a:lnTo>
                  <a:pt x="4189" y="106736"/>
                </a:lnTo>
                <a:lnTo>
                  <a:pt x="7677" y="114335"/>
                </a:lnTo>
                <a:lnTo>
                  <a:pt x="11696" y="121940"/>
                </a:lnTo>
                <a:lnTo>
                  <a:pt x="16068" y="129550"/>
                </a:lnTo>
                <a:lnTo>
                  <a:pt x="20677" y="137164"/>
                </a:lnTo>
                <a:lnTo>
                  <a:pt x="26289" y="143933"/>
                </a:lnTo>
                <a:lnTo>
                  <a:pt x="32571" y="150140"/>
                </a:lnTo>
                <a:lnTo>
                  <a:pt x="39298" y="155970"/>
                </a:lnTo>
                <a:lnTo>
                  <a:pt x="46323" y="160704"/>
                </a:lnTo>
                <a:lnTo>
                  <a:pt x="53546" y="164706"/>
                </a:lnTo>
                <a:lnTo>
                  <a:pt x="60902" y="168221"/>
                </a:lnTo>
                <a:lnTo>
                  <a:pt x="68345" y="171411"/>
                </a:lnTo>
                <a:lnTo>
                  <a:pt x="75848" y="174385"/>
                </a:lnTo>
                <a:lnTo>
                  <a:pt x="83390" y="177213"/>
                </a:lnTo>
                <a:lnTo>
                  <a:pt x="90958" y="178253"/>
                </a:lnTo>
                <a:lnTo>
                  <a:pt x="98543" y="178099"/>
                </a:lnTo>
                <a:lnTo>
                  <a:pt x="106139" y="177150"/>
                </a:lnTo>
                <a:lnTo>
                  <a:pt x="112897" y="175670"/>
                </a:lnTo>
                <a:lnTo>
                  <a:pt x="119096" y="173837"/>
                </a:lnTo>
                <a:lnTo>
                  <a:pt x="138168" y="167212"/>
                </a:lnTo>
                <a:lnTo>
                  <a:pt x="145256" y="164811"/>
                </a:lnTo>
                <a:lnTo>
                  <a:pt x="152522" y="160672"/>
                </a:lnTo>
                <a:lnTo>
                  <a:pt x="159905" y="155371"/>
                </a:lnTo>
                <a:lnTo>
                  <a:pt x="167367" y="149298"/>
                </a:lnTo>
                <a:lnTo>
                  <a:pt x="174036" y="142709"/>
                </a:lnTo>
                <a:lnTo>
                  <a:pt x="180175" y="135776"/>
                </a:lnTo>
                <a:lnTo>
                  <a:pt x="185961" y="128615"/>
                </a:lnTo>
                <a:lnTo>
                  <a:pt x="190665" y="122147"/>
                </a:lnTo>
                <a:lnTo>
                  <a:pt x="194647" y="116142"/>
                </a:lnTo>
                <a:lnTo>
                  <a:pt x="198150" y="110445"/>
                </a:lnTo>
                <a:lnTo>
                  <a:pt x="200484" y="103260"/>
                </a:lnTo>
                <a:lnTo>
                  <a:pt x="202040" y="95084"/>
                </a:lnTo>
                <a:lnTo>
                  <a:pt x="203078" y="86246"/>
                </a:lnTo>
                <a:lnTo>
                  <a:pt x="203770" y="78661"/>
                </a:lnTo>
                <a:lnTo>
                  <a:pt x="204230" y="71911"/>
                </a:lnTo>
                <a:lnTo>
                  <a:pt x="204538" y="65718"/>
                </a:lnTo>
                <a:lnTo>
                  <a:pt x="203896" y="59896"/>
                </a:lnTo>
                <a:lnTo>
                  <a:pt x="202622" y="54321"/>
                </a:lnTo>
                <a:lnTo>
                  <a:pt x="200925" y="48911"/>
                </a:lnTo>
                <a:lnTo>
                  <a:pt x="198948" y="43611"/>
                </a:lnTo>
                <a:lnTo>
                  <a:pt x="196783" y="38384"/>
                </a:lnTo>
                <a:lnTo>
                  <a:pt x="194493" y="33206"/>
                </a:lnTo>
                <a:lnTo>
                  <a:pt x="191273" y="28908"/>
                </a:lnTo>
                <a:lnTo>
                  <a:pt x="187433" y="25196"/>
                </a:lnTo>
                <a:lnTo>
                  <a:pt x="183179" y="21874"/>
                </a:lnTo>
                <a:lnTo>
                  <a:pt x="178650" y="18813"/>
                </a:lnTo>
                <a:lnTo>
                  <a:pt x="173938" y="15926"/>
                </a:lnTo>
                <a:lnTo>
                  <a:pt x="169103" y="13154"/>
                </a:lnTo>
                <a:lnTo>
                  <a:pt x="164186" y="11307"/>
                </a:lnTo>
                <a:lnTo>
                  <a:pt x="159215" y="10075"/>
                </a:lnTo>
                <a:lnTo>
                  <a:pt x="144193" y="76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InkAnnotation258"/>
          <p:cNvSpPr/>
          <p:nvPr/>
        </p:nvSpPr>
        <p:spPr>
          <a:xfrm>
            <a:off x="5597640" y="5853240"/>
            <a:ext cx="185760" cy="160200"/>
          </a:xfrm>
          <a:custGeom>
            <a:avLst/>
            <a:gdLst>
              <a:gd name="textAreaLeft" fmla="*/ 0 w 185760"/>
              <a:gd name="textAreaRight" fmla="*/ 186120 w 1857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85041" h="160870">
                <a:moveTo>
                  <a:pt x="170429" y="6561"/>
                </a:moveTo>
                <a:lnTo>
                  <a:pt x="166383" y="6561"/>
                </a:lnTo>
                <a:lnTo>
                  <a:pt x="165192" y="5714"/>
                </a:lnTo>
                <a:lnTo>
                  <a:pt x="164397" y="4303"/>
                </a:lnTo>
                <a:lnTo>
                  <a:pt x="163867" y="2516"/>
                </a:lnTo>
                <a:lnTo>
                  <a:pt x="161821" y="1324"/>
                </a:lnTo>
                <a:lnTo>
                  <a:pt x="158763" y="530"/>
                </a:lnTo>
                <a:lnTo>
                  <a:pt x="155031" y="0"/>
                </a:lnTo>
                <a:lnTo>
                  <a:pt x="150004" y="494"/>
                </a:lnTo>
                <a:lnTo>
                  <a:pt x="144112" y="1670"/>
                </a:lnTo>
                <a:lnTo>
                  <a:pt x="137644" y="3299"/>
                </a:lnTo>
                <a:lnTo>
                  <a:pt x="131639" y="4387"/>
                </a:lnTo>
                <a:lnTo>
                  <a:pt x="125941" y="5112"/>
                </a:lnTo>
                <a:lnTo>
                  <a:pt x="120451" y="5594"/>
                </a:lnTo>
                <a:lnTo>
                  <a:pt x="113403" y="6763"/>
                </a:lnTo>
                <a:lnTo>
                  <a:pt x="105318" y="8389"/>
                </a:lnTo>
                <a:lnTo>
                  <a:pt x="96542" y="10320"/>
                </a:lnTo>
                <a:lnTo>
                  <a:pt x="88150" y="12454"/>
                </a:lnTo>
                <a:lnTo>
                  <a:pt x="80017" y="14723"/>
                </a:lnTo>
                <a:lnTo>
                  <a:pt x="72054" y="17082"/>
                </a:lnTo>
                <a:lnTo>
                  <a:pt x="64206" y="20348"/>
                </a:lnTo>
                <a:lnTo>
                  <a:pt x="56433" y="24219"/>
                </a:lnTo>
                <a:lnTo>
                  <a:pt x="48712" y="28493"/>
                </a:lnTo>
                <a:lnTo>
                  <a:pt x="41024" y="33036"/>
                </a:lnTo>
                <a:lnTo>
                  <a:pt x="25708" y="42599"/>
                </a:lnTo>
                <a:lnTo>
                  <a:pt x="19762" y="48366"/>
                </a:lnTo>
                <a:lnTo>
                  <a:pt x="14950" y="54751"/>
                </a:lnTo>
                <a:lnTo>
                  <a:pt x="10896" y="61548"/>
                </a:lnTo>
                <a:lnTo>
                  <a:pt x="7347" y="68618"/>
                </a:lnTo>
                <a:lnTo>
                  <a:pt x="4134" y="75873"/>
                </a:lnTo>
                <a:lnTo>
                  <a:pt x="1146" y="83249"/>
                </a:lnTo>
                <a:lnTo>
                  <a:pt x="0" y="90706"/>
                </a:lnTo>
                <a:lnTo>
                  <a:pt x="83" y="98218"/>
                </a:lnTo>
                <a:lnTo>
                  <a:pt x="984" y="105766"/>
                </a:lnTo>
                <a:lnTo>
                  <a:pt x="4126" y="112491"/>
                </a:lnTo>
                <a:lnTo>
                  <a:pt x="8760" y="118667"/>
                </a:lnTo>
                <a:lnTo>
                  <a:pt x="34448" y="144793"/>
                </a:lnTo>
                <a:lnTo>
                  <a:pt x="42521" y="150362"/>
                </a:lnTo>
                <a:lnTo>
                  <a:pt x="51290" y="154922"/>
                </a:lnTo>
                <a:lnTo>
                  <a:pt x="60523" y="158808"/>
                </a:lnTo>
                <a:lnTo>
                  <a:pt x="70065" y="160552"/>
                </a:lnTo>
                <a:lnTo>
                  <a:pt x="79813" y="160869"/>
                </a:lnTo>
                <a:lnTo>
                  <a:pt x="89698" y="160233"/>
                </a:lnTo>
                <a:lnTo>
                  <a:pt x="99675" y="158962"/>
                </a:lnTo>
                <a:lnTo>
                  <a:pt x="109712" y="157268"/>
                </a:lnTo>
                <a:lnTo>
                  <a:pt x="119792" y="155293"/>
                </a:lnTo>
                <a:lnTo>
                  <a:pt x="129050" y="152282"/>
                </a:lnTo>
                <a:lnTo>
                  <a:pt x="137763" y="148582"/>
                </a:lnTo>
                <a:lnTo>
                  <a:pt x="146112" y="144421"/>
                </a:lnTo>
                <a:lnTo>
                  <a:pt x="153370" y="139954"/>
                </a:lnTo>
                <a:lnTo>
                  <a:pt x="159903" y="135283"/>
                </a:lnTo>
                <a:lnTo>
                  <a:pt x="165952" y="130476"/>
                </a:lnTo>
                <a:lnTo>
                  <a:pt x="170830" y="124730"/>
                </a:lnTo>
                <a:lnTo>
                  <a:pt x="174929" y="118361"/>
                </a:lnTo>
                <a:lnTo>
                  <a:pt x="178509" y="111575"/>
                </a:lnTo>
                <a:lnTo>
                  <a:pt x="180896" y="104510"/>
                </a:lnTo>
                <a:lnTo>
                  <a:pt x="182486" y="97260"/>
                </a:lnTo>
                <a:lnTo>
                  <a:pt x="183547" y="89887"/>
                </a:lnTo>
                <a:lnTo>
                  <a:pt x="184254" y="82431"/>
                </a:lnTo>
                <a:lnTo>
                  <a:pt x="184725" y="74922"/>
                </a:lnTo>
                <a:lnTo>
                  <a:pt x="185040" y="67375"/>
                </a:lnTo>
                <a:lnTo>
                  <a:pt x="184402" y="59803"/>
                </a:lnTo>
                <a:lnTo>
                  <a:pt x="183131" y="52216"/>
                </a:lnTo>
                <a:lnTo>
                  <a:pt x="181437" y="44618"/>
                </a:lnTo>
                <a:lnTo>
                  <a:pt x="178614" y="38705"/>
                </a:lnTo>
                <a:lnTo>
                  <a:pt x="175039" y="33917"/>
                </a:lnTo>
                <a:lnTo>
                  <a:pt x="170962" y="29878"/>
                </a:lnTo>
                <a:lnTo>
                  <a:pt x="165704" y="26339"/>
                </a:lnTo>
                <a:lnTo>
                  <a:pt x="159659" y="23134"/>
                </a:lnTo>
                <a:lnTo>
                  <a:pt x="153089" y="20150"/>
                </a:lnTo>
                <a:lnTo>
                  <a:pt x="146168" y="18160"/>
                </a:lnTo>
                <a:lnTo>
                  <a:pt x="139015" y="16834"/>
                </a:lnTo>
                <a:lnTo>
                  <a:pt x="131706" y="15949"/>
                </a:lnTo>
                <a:lnTo>
                  <a:pt x="124294" y="16206"/>
                </a:lnTo>
                <a:lnTo>
                  <a:pt x="116812" y="17224"/>
                </a:lnTo>
                <a:lnTo>
                  <a:pt x="109284" y="18750"/>
                </a:lnTo>
                <a:lnTo>
                  <a:pt x="101726" y="20614"/>
                </a:lnTo>
                <a:lnTo>
                  <a:pt x="94147" y="22703"/>
                </a:lnTo>
                <a:lnTo>
                  <a:pt x="86554" y="24942"/>
                </a:lnTo>
                <a:lnTo>
                  <a:pt x="79799" y="28975"/>
                </a:lnTo>
                <a:lnTo>
                  <a:pt x="73602" y="34204"/>
                </a:lnTo>
                <a:lnTo>
                  <a:pt x="47445" y="60846"/>
                </a:lnTo>
                <a:lnTo>
                  <a:pt x="42719" y="67304"/>
                </a:lnTo>
                <a:lnTo>
                  <a:pt x="39569" y="73303"/>
                </a:lnTo>
                <a:lnTo>
                  <a:pt x="33268" y="903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MARTInkAnnotation259"/>
          <p:cNvSpPr/>
          <p:nvPr/>
        </p:nvSpPr>
        <p:spPr>
          <a:xfrm>
            <a:off x="5580000" y="6019920"/>
            <a:ext cx="177840" cy="177840"/>
          </a:xfrm>
          <a:custGeom>
            <a:avLst/>
            <a:gdLst>
              <a:gd name="textAreaLeft" fmla="*/ 0 w 177840"/>
              <a:gd name="textAreaRight" fmla="*/ 178200 w 17784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78365" h="177416">
                <a:moveTo>
                  <a:pt x="150290" y="0"/>
                </a:moveTo>
                <a:lnTo>
                  <a:pt x="129079" y="0"/>
                </a:lnTo>
                <a:lnTo>
                  <a:pt x="123449" y="847"/>
                </a:lnTo>
                <a:lnTo>
                  <a:pt x="117156" y="2258"/>
                </a:lnTo>
                <a:lnTo>
                  <a:pt x="110421" y="4045"/>
                </a:lnTo>
                <a:lnTo>
                  <a:pt x="96164" y="8289"/>
                </a:lnTo>
                <a:lnTo>
                  <a:pt x="88806" y="10606"/>
                </a:lnTo>
                <a:lnTo>
                  <a:pt x="80514" y="13844"/>
                </a:lnTo>
                <a:lnTo>
                  <a:pt x="71599" y="17696"/>
                </a:lnTo>
                <a:lnTo>
                  <a:pt x="62269" y="21958"/>
                </a:lnTo>
                <a:lnTo>
                  <a:pt x="53510" y="26492"/>
                </a:lnTo>
                <a:lnTo>
                  <a:pt x="45130" y="31208"/>
                </a:lnTo>
                <a:lnTo>
                  <a:pt x="37003" y="36045"/>
                </a:lnTo>
                <a:lnTo>
                  <a:pt x="29892" y="40964"/>
                </a:lnTo>
                <a:lnTo>
                  <a:pt x="23458" y="45936"/>
                </a:lnTo>
                <a:lnTo>
                  <a:pt x="17475" y="50943"/>
                </a:lnTo>
                <a:lnTo>
                  <a:pt x="12640" y="56823"/>
                </a:lnTo>
                <a:lnTo>
                  <a:pt x="8571" y="63282"/>
                </a:lnTo>
                <a:lnTo>
                  <a:pt x="5010" y="70128"/>
                </a:lnTo>
                <a:lnTo>
                  <a:pt x="2637" y="77232"/>
                </a:lnTo>
                <a:lnTo>
                  <a:pt x="1055" y="84508"/>
                </a:lnTo>
                <a:lnTo>
                  <a:pt x="0" y="91899"/>
                </a:lnTo>
                <a:lnTo>
                  <a:pt x="144" y="99366"/>
                </a:lnTo>
                <a:lnTo>
                  <a:pt x="1086" y="106884"/>
                </a:lnTo>
                <a:lnTo>
                  <a:pt x="2560" y="114436"/>
                </a:lnTo>
                <a:lnTo>
                  <a:pt x="6084" y="122011"/>
                </a:lnTo>
                <a:lnTo>
                  <a:pt x="10973" y="129600"/>
                </a:lnTo>
                <a:lnTo>
                  <a:pt x="16772" y="137201"/>
                </a:lnTo>
                <a:lnTo>
                  <a:pt x="23178" y="143960"/>
                </a:lnTo>
                <a:lnTo>
                  <a:pt x="29989" y="150161"/>
                </a:lnTo>
                <a:lnTo>
                  <a:pt x="37070" y="155987"/>
                </a:lnTo>
                <a:lnTo>
                  <a:pt x="44330" y="160718"/>
                </a:lnTo>
                <a:lnTo>
                  <a:pt x="51710" y="164718"/>
                </a:lnTo>
                <a:lnTo>
                  <a:pt x="59170" y="168232"/>
                </a:lnTo>
                <a:lnTo>
                  <a:pt x="67530" y="171422"/>
                </a:lnTo>
                <a:lnTo>
                  <a:pt x="76490" y="174395"/>
                </a:lnTo>
                <a:lnTo>
                  <a:pt x="85850" y="177223"/>
                </a:lnTo>
                <a:lnTo>
                  <a:pt x="94630" y="177415"/>
                </a:lnTo>
                <a:lnTo>
                  <a:pt x="103024" y="175850"/>
                </a:lnTo>
                <a:lnTo>
                  <a:pt x="134745" y="165217"/>
                </a:lnTo>
                <a:lnTo>
                  <a:pt x="142466" y="161791"/>
                </a:lnTo>
                <a:lnTo>
                  <a:pt x="150154" y="157814"/>
                </a:lnTo>
                <a:lnTo>
                  <a:pt x="157820" y="153469"/>
                </a:lnTo>
                <a:lnTo>
                  <a:pt x="163777" y="148033"/>
                </a:lnTo>
                <a:lnTo>
                  <a:pt x="168594" y="141868"/>
                </a:lnTo>
                <a:lnTo>
                  <a:pt x="172653" y="135219"/>
                </a:lnTo>
                <a:lnTo>
                  <a:pt x="175359" y="128246"/>
                </a:lnTo>
                <a:lnTo>
                  <a:pt x="177162" y="121057"/>
                </a:lnTo>
                <a:lnTo>
                  <a:pt x="178364" y="113725"/>
                </a:lnTo>
                <a:lnTo>
                  <a:pt x="178320" y="107143"/>
                </a:lnTo>
                <a:lnTo>
                  <a:pt x="177443" y="101062"/>
                </a:lnTo>
                <a:lnTo>
                  <a:pt x="176012" y="95315"/>
                </a:lnTo>
                <a:lnTo>
                  <a:pt x="174211" y="88944"/>
                </a:lnTo>
                <a:lnTo>
                  <a:pt x="169953" y="75091"/>
                </a:lnTo>
                <a:lnTo>
                  <a:pt x="165939" y="69533"/>
                </a:lnTo>
                <a:lnTo>
                  <a:pt x="160722" y="64983"/>
                </a:lnTo>
                <a:lnTo>
                  <a:pt x="154705" y="61102"/>
                </a:lnTo>
                <a:lnTo>
                  <a:pt x="149000" y="58515"/>
                </a:lnTo>
                <a:lnTo>
                  <a:pt x="143503" y="56790"/>
                </a:lnTo>
                <a:lnTo>
                  <a:pt x="138146" y="55640"/>
                </a:lnTo>
                <a:lnTo>
                  <a:pt x="133727" y="54027"/>
                </a:lnTo>
                <a:lnTo>
                  <a:pt x="129935" y="52105"/>
                </a:lnTo>
                <a:lnTo>
                  <a:pt x="126560" y="49976"/>
                </a:lnTo>
                <a:lnTo>
                  <a:pt x="121770" y="49404"/>
                </a:lnTo>
                <a:lnTo>
                  <a:pt x="116037" y="49869"/>
                </a:lnTo>
                <a:lnTo>
                  <a:pt x="96950" y="533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MARTInkAnnotation260"/>
          <p:cNvSpPr/>
          <p:nvPr/>
        </p:nvSpPr>
        <p:spPr>
          <a:xfrm>
            <a:off x="6599160" y="5402160"/>
            <a:ext cx="351000" cy="274680"/>
          </a:xfrm>
          <a:custGeom>
            <a:avLst/>
            <a:gdLst>
              <a:gd name="textAreaLeft" fmla="*/ 0 w 351000"/>
              <a:gd name="textAreaRight" fmla="*/ 351360 w 3510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50472" h="274251">
                <a:moveTo>
                  <a:pt x="236171" y="0"/>
                </a:moveTo>
                <a:lnTo>
                  <a:pt x="232126" y="4045"/>
                </a:lnTo>
                <a:lnTo>
                  <a:pt x="230934" y="6083"/>
                </a:lnTo>
                <a:lnTo>
                  <a:pt x="228410" y="13844"/>
                </a:lnTo>
                <a:lnTo>
                  <a:pt x="224820" y="21957"/>
                </a:lnTo>
                <a:lnTo>
                  <a:pt x="220402" y="28950"/>
                </a:lnTo>
                <a:lnTo>
                  <a:pt x="215617" y="35727"/>
                </a:lnTo>
                <a:lnTo>
                  <a:pt x="213154" y="39904"/>
                </a:lnTo>
                <a:lnTo>
                  <a:pt x="210666" y="44383"/>
                </a:lnTo>
                <a:lnTo>
                  <a:pt x="207315" y="49909"/>
                </a:lnTo>
                <a:lnTo>
                  <a:pt x="199075" y="62822"/>
                </a:lnTo>
                <a:lnTo>
                  <a:pt x="194508" y="68974"/>
                </a:lnTo>
                <a:lnTo>
                  <a:pt x="189769" y="74769"/>
                </a:lnTo>
                <a:lnTo>
                  <a:pt x="184915" y="80327"/>
                </a:lnTo>
                <a:lnTo>
                  <a:pt x="179988" y="86571"/>
                </a:lnTo>
                <a:lnTo>
                  <a:pt x="175008" y="93274"/>
                </a:lnTo>
                <a:lnTo>
                  <a:pt x="169996" y="100283"/>
                </a:lnTo>
                <a:lnTo>
                  <a:pt x="164115" y="107495"/>
                </a:lnTo>
                <a:lnTo>
                  <a:pt x="157654" y="114844"/>
                </a:lnTo>
                <a:lnTo>
                  <a:pt x="150806" y="122282"/>
                </a:lnTo>
                <a:lnTo>
                  <a:pt x="143701" y="128935"/>
                </a:lnTo>
                <a:lnTo>
                  <a:pt x="136424" y="135063"/>
                </a:lnTo>
                <a:lnTo>
                  <a:pt x="129034" y="140842"/>
                </a:lnTo>
                <a:lnTo>
                  <a:pt x="121566" y="147235"/>
                </a:lnTo>
                <a:lnTo>
                  <a:pt x="114048" y="154037"/>
                </a:lnTo>
                <a:lnTo>
                  <a:pt x="98921" y="168368"/>
                </a:lnTo>
                <a:lnTo>
                  <a:pt x="83731" y="183203"/>
                </a:lnTo>
                <a:lnTo>
                  <a:pt x="76972" y="190716"/>
                </a:lnTo>
                <a:lnTo>
                  <a:pt x="70771" y="198264"/>
                </a:lnTo>
                <a:lnTo>
                  <a:pt x="64944" y="205836"/>
                </a:lnTo>
                <a:lnTo>
                  <a:pt x="58520" y="212578"/>
                </a:lnTo>
                <a:lnTo>
                  <a:pt x="51697" y="218765"/>
                </a:lnTo>
                <a:lnTo>
                  <a:pt x="44608" y="224584"/>
                </a:lnTo>
                <a:lnTo>
                  <a:pt x="39036" y="230156"/>
                </a:lnTo>
                <a:lnTo>
                  <a:pt x="34474" y="235564"/>
                </a:lnTo>
                <a:lnTo>
                  <a:pt x="30587" y="240863"/>
                </a:lnTo>
                <a:lnTo>
                  <a:pt x="21752" y="249008"/>
                </a:lnTo>
                <a:lnTo>
                  <a:pt x="17025" y="252366"/>
                </a:lnTo>
                <a:lnTo>
                  <a:pt x="9515" y="260612"/>
                </a:lnTo>
                <a:lnTo>
                  <a:pt x="0" y="274250"/>
                </a:lnTo>
                <a:lnTo>
                  <a:pt x="4011" y="270254"/>
                </a:lnTo>
                <a:lnTo>
                  <a:pt x="14607" y="263708"/>
                </a:lnTo>
                <a:lnTo>
                  <a:pt x="19882" y="261319"/>
                </a:lnTo>
                <a:lnTo>
                  <a:pt x="25938" y="258879"/>
                </a:lnTo>
                <a:lnTo>
                  <a:pt x="39441" y="253911"/>
                </a:lnTo>
                <a:lnTo>
                  <a:pt x="53909" y="248880"/>
                </a:lnTo>
                <a:lnTo>
                  <a:pt x="62169" y="246354"/>
                </a:lnTo>
                <a:lnTo>
                  <a:pt x="80380" y="241288"/>
                </a:lnTo>
                <a:lnTo>
                  <a:pt x="90823" y="237906"/>
                </a:lnTo>
                <a:lnTo>
                  <a:pt x="102020" y="233957"/>
                </a:lnTo>
                <a:lnTo>
                  <a:pt x="113717" y="229631"/>
                </a:lnTo>
                <a:lnTo>
                  <a:pt x="124901" y="226748"/>
                </a:lnTo>
                <a:lnTo>
                  <a:pt x="135745" y="224825"/>
                </a:lnTo>
                <a:lnTo>
                  <a:pt x="146360" y="223544"/>
                </a:lnTo>
                <a:lnTo>
                  <a:pt x="155977" y="221842"/>
                </a:lnTo>
                <a:lnTo>
                  <a:pt x="164929" y="219862"/>
                </a:lnTo>
                <a:lnTo>
                  <a:pt x="173436" y="217695"/>
                </a:lnTo>
                <a:lnTo>
                  <a:pt x="182495" y="216250"/>
                </a:lnTo>
                <a:lnTo>
                  <a:pt x="191920" y="215286"/>
                </a:lnTo>
                <a:lnTo>
                  <a:pt x="201591" y="214645"/>
                </a:lnTo>
                <a:lnTo>
                  <a:pt x="210577" y="214217"/>
                </a:lnTo>
                <a:lnTo>
                  <a:pt x="227337" y="213740"/>
                </a:lnTo>
                <a:lnTo>
                  <a:pt x="251052" y="213473"/>
                </a:lnTo>
                <a:lnTo>
                  <a:pt x="259638" y="214282"/>
                </a:lnTo>
                <a:lnTo>
                  <a:pt x="268749" y="215669"/>
                </a:lnTo>
                <a:lnTo>
                  <a:pt x="278210" y="217439"/>
                </a:lnTo>
                <a:lnTo>
                  <a:pt x="286210" y="218619"/>
                </a:lnTo>
                <a:lnTo>
                  <a:pt x="293237" y="219407"/>
                </a:lnTo>
                <a:lnTo>
                  <a:pt x="299615" y="219931"/>
                </a:lnTo>
                <a:lnTo>
                  <a:pt x="306407" y="221128"/>
                </a:lnTo>
                <a:lnTo>
                  <a:pt x="313476" y="222772"/>
                </a:lnTo>
                <a:lnTo>
                  <a:pt x="320727" y="224715"/>
                </a:lnTo>
                <a:lnTo>
                  <a:pt x="331043" y="226873"/>
                </a:lnTo>
                <a:lnTo>
                  <a:pt x="334979" y="227449"/>
                </a:lnTo>
                <a:lnTo>
                  <a:pt x="341611" y="230347"/>
                </a:lnTo>
                <a:lnTo>
                  <a:pt x="350471" y="236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MARTInkAnnotation261"/>
          <p:cNvSpPr/>
          <p:nvPr/>
        </p:nvSpPr>
        <p:spPr>
          <a:xfrm>
            <a:off x="7086600" y="5470560"/>
            <a:ext cx="236520" cy="31680"/>
          </a:xfrm>
          <a:custGeom>
            <a:avLst/>
            <a:gdLst>
              <a:gd name="textAreaLeft" fmla="*/ 0 w 236520"/>
              <a:gd name="textAreaRight" fmla="*/ 236880 w 2365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36221" h="30482">
                <a:moveTo>
                  <a:pt x="0" y="0"/>
                </a:moveTo>
                <a:lnTo>
                  <a:pt x="62315" y="0"/>
                </a:lnTo>
                <a:lnTo>
                  <a:pt x="69483" y="846"/>
                </a:lnTo>
                <a:lnTo>
                  <a:pt x="76802" y="2257"/>
                </a:lnTo>
                <a:lnTo>
                  <a:pt x="110844" y="10606"/>
                </a:lnTo>
                <a:lnTo>
                  <a:pt x="119616" y="12151"/>
                </a:lnTo>
                <a:lnTo>
                  <a:pt x="128004" y="13180"/>
                </a:lnTo>
                <a:lnTo>
                  <a:pt x="136136" y="13868"/>
                </a:lnTo>
                <a:lnTo>
                  <a:pt x="144097" y="15171"/>
                </a:lnTo>
                <a:lnTo>
                  <a:pt x="151944" y="16887"/>
                </a:lnTo>
                <a:lnTo>
                  <a:pt x="159716" y="18879"/>
                </a:lnTo>
                <a:lnTo>
                  <a:pt x="167438" y="21052"/>
                </a:lnTo>
                <a:lnTo>
                  <a:pt x="182790" y="25726"/>
                </a:lnTo>
                <a:lnTo>
                  <a:pt x="189593" y="27311"/>
                </a:lnTo>
                <a:lnTo>
                  <a:pt x="195823" y="28367"/>
                </a:lnTo>
                <a:lnTo>
                  <a:pt x="201669" y="29072"/>
                </a:lnTo>
                <a:lnTo>
                  <a:pt x="207259" y="29541"/>
                </a:lnTo>
                <a:lnTo>
                  <a:pt x="212679" y="29855"/>
                </a:lnTo>
                <a:lnTo>
                  <a:pt x="222371" y="30202"/>
                </a:lnTo>
                <a:lnTo>
                  <a:pt x="236220" y="304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InkAnnotation262"/>
          <p:cNvSpPr/>
          <p:nvPr/>
        </p:nvSpPr>
        <p:spPr>
          <a:xfrm>
            <a:off x="7048440" y="5584680"/>
            <a:ext cx="228600" cy="32040"/>
          </a:xfrm>
          <a:custGeom>
            <a:avLst/>
            <a:gdLst>
              <a:gd name="textAreaLeft" fmla="*/ 0 w 228600"/>
              <a:gd name="textAreaRight" fmla="*/ 228960 w 2286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28601" h="30451">
                <a:moveTo>
                  <a:pt x="0" y="30450"/>
                </a:moveTo>
                <a:lnTo>
                  <a:pt x="4045" y="30450"/>
                </a:lnTo>
                <a:lnTo>
                  <a:pt x="5237" y="29603"/>
                </a:lnTo>
                <a:lnTo>
                  <a:pt x="6031" y="28192"/>
                </a:lnTo>
                <a:lnTo>
                  <a:pt x="7307" y="23889"/>
                </a:lnTo>
                <a:lnTo>
                  <a:pt x="9105" y="22689"/>
                </a:lnTo>
                <a:lnTo>
                  <a:pt x="11997" y="21042"/>
                </a:lnTo>
                <a:lnTo>
                  <a:pt x="15618" y="19098"/>
                </a:lnTo>
                <a:lnTo>
                  <a:pt x="20572" y="16956"/>
                </a:lnTo>
                <a:lnTo>
                  <a:pt x="26415" y="14680"/>
                </a:lnTo>
                <a:lnTo>
                  <a:pt x="32850" y="12317"/>
                </a:lnTo>
                <a:lnTo>
                  <a:pt x="40527" y="10741"/>
                </a:lnTo>
                <a:lnTo>
                  <a:pt x="49030" y="9691"/>
                </a:lnTo>
                <a:lnTo>
                  <a:pt x="58087" y="8991"/>
                </a:lnTo>
                <a:lnTo>
                  <a:pt x="67511" y="7677"/>
                </a:lnTo>
                <a:lnTo>
                  <a:pt x="77181" y="5954"/>
                </a:lnTo>
                <a:lnTo>
                  <a:pt x="87013" y="3959"/>
                </a:lnTo>
                <a:lnTo>
                  <a:pt x="96956" y="2629"/>
                </a:lnTo>
                <a:lnTo>
                  <a:pt x="106970" y="1743"/>
                </a:lnTo>
                <a:lnTo>
                  <a:pt x="117034" y="1152"/>
                </a:lnTo>
                <a:lnTo>
                  <a:pt x="134988" y="495"/>
                </a:lnTo>
                <a:lnTo>
                  <a:pt x="163166" y="74"/>
                </a:lnTo>
                <a:lnTo>
                  <a:pt x="183812" y="0"/>
                </a:lnTo>
                <a:lnTo>
                  <a:pt x="190275" y="837"/>
                </a:lnTo>
                <a:lnTo>
                  <a:pt x="196276" y="2241"/>
                </a:lnTo>
                <a:lnTo>
                  <a:pt x="201971" y="4024"/>
                </a:lnTo>
                <a:lnTo>
                  <a:pt x="207461" y="5213"/>
                </a:lnTo>
                <a:lnTo>
                  <a:pt x="212813" y="6006"/>
                </a:lnTo>
                <a:lnTo>
                  <a:pt x="228600" y="75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MARTInkAnnotation263"/>
          <p:cNvSpPr/>
          <p:nvPr/>
        </p:nvSpPr>
        <p:spPr>
          <a:xfrm>
            <a:off x="7454880" y="5121360"/>
            <a:ext cx="236520" cy="255600"/>
          </a:xfrm>
          <a:custGeom>
            <a:avLst/>
            <a:gdLst>
              <a:gd name="textAreaLeft" fmla="*/ 0 w 236520"/>
              <a:gd name="textAreaRight" fmla="*/ 236880 w 2365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36303" h="256643">
                <a:moveTo>
                  <a:pt x="211266" y="7306"/>
                </a:moveTo>
                <a:lnTo>
                  <a:pt x="207221" y="7306"/>
                </a:lnTo>
                <a:lnTo>
                  <a:pt x="205183" y="6460"/>
                </a:lnTo>
                <a:lnTo>
                  <a:pt x="198269" y="2069"/>
                </a:lnTo>
                <a:lnTo>
                  <a:pt x="193354" y="745"/>
                </a:lnTo>
                <a:lnTo>
                  <a:pt x="186089" y="157"/>
                </a:lnTo>
                <a:lnTo>
                  <a:pt x="181781" y="0"/>
                </a:lnTo>
                <a:lnTo>
                  <a:pt x="177217" y="742"/>
                </a:lnTo>
                <a:lnTo>
                  <a:pt x="172480" y="2084"/>
                </a:lnTo>
                <a:lnTo>
                  <a:pt x="167629" y="3824"/>
                </a:lnTo>
                <a:lnTo>
                  <a:pt x="161008" y="4985"/>
                </a:lnTo>
                <a:lnTo>
                  <a:pt x="153207" y="5759"/>
                </a:lnTo>
                <a:lnTo>
                  <a:pt x="144620" y="6275"/>
                </a:lnTo>
                <a:lnTo>
                  <a:pt x="135509" y="8312"/>
                </a:lnTo>
                <a:lnTo>
                  <a:pt x="126048" y="11363"/>
                </a:lnTo>
                <a:lnTo>
                  <a:pt x="116354" y="15091"/>
                </a:lnTo>
                <a:lnTo>
                  <a:pt x="106505" y="19269"/>
                </a:lnTo>
                <a:lnTo>
                  <a:pt x="86530" y="28427"/>
                </a:lnTo>
                <a:lnTo>
                  <a:pt x="77309" y="34087"/>
                </a:lnTo>
                <a:lnTo>
                  <a:pt x="68621" y="40400"/>
                </a:lnTo>
                <a:lnTo>
                  <a:pt x="60290" y="47149"/>
                </a:lnTo>
                <a:lnTo>
                  <a:pt x="52195" y="55034"/>
                </a:lnTo>
                <a:lnTo>
                  <a:pt x="44259" y="63678"/>
                </a:lnTo>
                <a:lnTo>
                  <a:pt x="36428" y="72828"/>
                </a:lnTo>
                <a:lnTo>
                  <a:pt x="29514" y="81467"/>
                </a:lnTo>
                <a:lnTo>
                  <a:pt x="23211" y="89767"/>
                </a:lnTo>
                <a:lnTo>
                  <a:pt x="17316" y="97840"/>
                </a:lnTo>
                <a:lnTo>
                  <a:pt x="12540" y="107455"/>
                </a:lnTo>
                <a:lnTo>
                  <a:pt x="8508" y="118099"/>
                </a:lnTo>
                <a:lnTo>
                  <a:pt x="4974" y="129428"/>
                </a:lnTo>
                <a:lnTo>
                  <a:pt x="2619" y="140367"/>
                </a:lnTo>
                <a:lnTo>
                  <a:pt x="1048" y="151047"/>
                </a:lnTo>
                <a:lnTo>
                  <a:pt x="0" y="161554"/>
                </a:lnTo>
                <a:lnTo>
                  <a:pt x="996" y="171944"/>
                </a:lnTo>
                <a:lnTo>
                  <a:pt x="3353" y="182258"/>
                </a:lnTo>
                <a:lnTo>
                  <a:pt x="6618" y="192521"/>
                </a:lnTo>
                <a:lnTo>
                  <a:pt x="11334" y="201902"/>
                </a:lnTo>
                <a:lnTo>
                  <a:pt x="17018" y="210697"/>
                </a:lnTo>
                <a:lnTo>
                  <a:pt x="23348" y="219100"/>
                </a:lnTo>
                <a:lnTo>
                  <a:pt x="30953" y="226396"/>
                </a:lnTo>
                <a:lnTo>
                  <a:pt x="39411" y="232953"/>
                </a:lnTo>
                <a:lnTo>
                  <a:pt x="48436" y="239017"/>
                </a:lnTo>
                <a:lnTo>
                  <a:pt x="57839" y="243907"/>
                </a:lnTo>
                <a:lnTo>
                  <a:pt x="67495" y="248014"/>
                </a:lnTo>
                <a:lnTo>
                  <a:pt x="77319" y="251598"/>
                </a:lnTo>
                <a:lnTo>
                  <a:pt x="88102" y="253987"/>
                </a:lnTo>
                <a:lnTo>
                  <a:pt x="99522" y="255580"/>
                </a:lnTo>
                <a:lnTo>
                  <a:pt x="111371" y="256642"/>
                </a:lnTo>
                <a:lnTo>
                  <a:pt x="122656" y="255657"/>
                </a:lnTo>
                <a:lnTo>
                  <a:pt x="133566" y="253306"/>
                </a:lnTo>
                <a:lnTo>
                  <a:pt x="144226" y="250047"/>
                </a:lnTo>
                <a:lnTo>
                  <a:pt x="154719" y="244487"/>
                </a:lnTo>
                <a:lnTo>
                  <a:pt x="165102" y="237393"/>
                </a:lnTo>
                <a:lnTo>
                  <a:pt x="175410" y="229278"/>
                </a:lnTo>
                <a:lnTo>
                  <a:pt x="184822" y="220480"/>
                </a:lnTo>
                <a:lnTo>
                  <a:pt x="193637" y="211229"/>
                </a:lnTo>
                <a:lnTo>
                  <a:pt x="202053" y="201675"/>
                </a:lnTo>
                <a:lnTo>
                  <a:pt x="209357" y="191072"/>
                </a:lnTo>
                <a:lnTo>
                  <a:pt x="215921" y="179770"/>
                </a:lnTo>
                <a:lnTo>
                  <a:pt x="221989" y="168002"/>
                </a:lnTo>
                <a:lnTo>
                  <a:pt x="226881" y="156770"/>
                </a:lnTo>
                <a:lnTo>
                  <a:pt x="230990" y="145895"/>
                </a:lnTo>
                <a:lnTo>
                  <a:pt x="234576" y="135259"/>
                </a:lnTo>
                <a:lnTo>
                  <a:pt x="236118" y="123935"/>
                </a:lnTo>
                <a:lnTo>
                  <a:pt x="236302" y="112152"/>
                </a:lnTo>
                <a:lnTo>
                  <a:pt x="235577" y="100063"/>
                </a:lnTo>
                <a:lnTo>
                  <a:pt x="234246" y="89464"/>
                </a:lnTo>
                <a:lnTo>
                  <a:pt x="232513" y="79858"/>
                </a:lnTo>
                <a:lnTo>
                  <a:pt x="230511" y="70914"/>
                </a:lnTo>
                <a:lnTo>
                  <a:pt x="227483" y="62411"/>
                </a:lnTo>
                <a:lnTo>
                  <a:pt x="223770" y="54203"/>
                </a:lnTo>
                <a:lnTo>
                  <a:pt x="219602" y="46191"/>
                </a:lnTo>
                <a:lnTo>
                  <a:pt x="215131" y="40003"/>
                </a:lnTo>
                <a:lnTo>
                  <a:pt x="210456" y="35031"/>
                </a:lnTo>
                <a:lnTo>
                  <a:pt x="205646" y="30869"/>
                </a:lnTo>
                <a:lnTo>
                  <a:pt x="199900" y="28941"/>
                </a:lnTo>
                <a:lnTo>
                  <a:pt x="193529" y="28503"/>
                </a:lnTo>
                <a:lnTo>
                  <a:pt x="186742" y="29057"/>
                </a:lnTo>
                <a:lnTo>
                  <a:pt x="180523" y="30273"/>
                </a:lnTo>
                <a:lnTo>
                  <a:pt x="174684" y="31931"/>
                </a:lnTo>
                <a:lnTo>
                  <a:pt x="169098" y="33883"/>
                </a:lnTo>
                <a:lnTo>
                  <a:pt x="162834" y="37724"/>
                </a:lnTo>
                <a:lnTo>
                  <a:pt x="156118" y="42825"/>
                </a:lnTo>
                <a:lnTo>
                  <a:pt x="149100" y="48765"/>
                </a:lnTo>
                <a:lnTo>
                  <a:pt x="141882" y="55265"/>
                </a:lnTo>
                <a:lnTo>
                  <a:pt x="127089" y="69262"/>
                </a:lnTo>
                <a:lnTo>
                  <a:pt x="121281" y="76550"/>
                </a:lnTo>
                <a:lnTo>
                  <a:pt x="116563" y="83948"/>
                </a:lnTo>
                <a:lnTo>
                  <a:pt x="105878" y="104240"/>
                </a:lnTo>
                <a:lnTo>
                  <a:pt x="96966" y="12160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MARTInkAnnotation264"/>
          <p:cNvSpPr/>
          <p:nvPr/>
        </p:nvSpPr>
        <p:spPr>
          <a:xfrm>
            <a:off x="7440480" y="5303880"/>
            <a:ext cx="209520" cy="210960"/>
          </a:xfrm>
          <a:custGeom>
            <a:avLst/>
            <a:gdLst>
              <a:gd name="textAreaLeft" fmla="*/ 0 w 209520"/>
              <a:gd name="textAreaRight" fmla="*/ 209880 w 20952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09858" h="211275">
                <a:moveTo>
                  <a:pt x="194803" y="0"/>
                </a:moveTo>
                <a:lnTo>
                  <a:pt x="190758" y="0"/>
                </a:lnTo>
                <a:lnTo>
                  <a:pt x="188720" y="847"/>
                </a:lnTo>
                <a:lnTo>
                  <a:pt x="180959" y="6084"/>
                </a:lnTo>
                <a:lnTo>
                  <a:pt x="177107" y="8289"/>
                </a:lnTo>
                <a:lnTo>
                  <a:pt x="172846" y="10606"/>
                </a:lnTo>
                <a:lnTo>
                  <a:pt x="167465" y="13844"/>
                </a:lnTo>
                <a:lnTo>
                  <a:pt x="154713" y="21957"/>
                </a:lnTo>
                <a:lnTo>
                  <a:pt x="146909" y="26492"/>
                </a:lnTo>
                <a:lnTo>
                  <a:pt x="118900" y="41810"/>
                </a:lnTo>
                <a:lnTo>
                  <a:pt x="71938" y="69313"/>
                </a:lnTo>
                <a:lnTo>
                  <a:pt x="59552" y="76689"/>
                </a:lnTo>
                <a:lnTo>
                  <a:pt x="48756" y="84993"/>
                </a:lnTo>
                <a:lnTo>
                  <a:pt x="39020" y="93915"/>
                </a:lnTo>
                <a:lnTo>
                  <a:pt x="29988" y="103250"/>
                </a:lnTo>
                <a:lnTo>
                  <a:pt x="22273" y="112013"/>
                </a:lnTo>
                <a:lnTo>
                  <a:pt x="15437" y="120396"/>
                </a:lnTo>
                <a:lnTo>
                  <a:pt x="9186" y="128524"/>
                </a:lnTo>
                <a:lnTo>
                  <a:pt x="5018" y="136482"/>
                </a:lnTo>
                <a:lnTo>
                  <a:pt x="2239" y="144328"/>
                </a:lnTo>
                <a:lnTo>
                  <a:pt x="387" y="152099"/>
                </a:lnTo>
                <a:lnTo>
                  <a:pt x="0" y="159820"/>
                </a:lnTo>
                <a:lnTo>
                  <a:pt x="587" y="167507"/>
                </a:lnTo>
                <a:lnTo>
                  <a:pt x="1827" y="175170"/>
                </a:lnTo>
                <a:lnTo>
                  <a:pt x="4345" y="181974"/>
                </a:lnTo>
                <a:lnTo>
                  <a:pt x="7718" y="188202"/>
                </a:lnTo>
                <a:lnTo>
                  <a:pt x="11660" y="194048"/>
                </a:lnTo>
                <a:lnTo>
                  <a:pt x="16827" y="198792"/>
                </a:lnTo>
                <a:lnTo>
                  <a:pt x="22813" y="202801"/>
                </a:lnTo>
                <a:lnTo>
                  <a:pt x="29343" y="206320"/>
                </a:lnTo>
                <a:lnTo>
                  <a:pt x="37083" y="208667"/>
                </a:lnTo>
                <a:lnTo>
                  <a:pt x="45629" y="210232"/>
                </a:lnTo>
                <a:lnTo>
                  <a:pt x="54714" y="211274"/>
                </a:lnTo>
                <a:lnTo>
                  <a:pt x="64157" y="211123"/>
                </a:lnTo>
                <a:lnTo>
                  <a:pt x="73839" y="210176"/>
                </a:lnTo>
                <a:lnTo>
                  <a:pt x="83680" y="208697"/>
                </a:lnTo>
                <a:lnTo>
                  <a:pt x="93628" y="206018"/>
                </a:lnTo>
                <a:lnTo>
                  <a:pt x="103647" y="202538"/>
                </a:lnTo>
                <a:lnTo>
                  <a:pt x="113712" y="198526"/>
                </a:lnTo>
                <a:lnTo>
                  <a:pt x="123809" y="194157"/>
                </a:lnTo>
                <a:lnTo>
                  <a:pt x="144059" y="184787"/>
                </a:lnTo>
                <a:lnTo>
                  <a:pt x="153354" y="179072"/>
                </a:lnTo>
                <a:lnTo>
                  <a:pt x="162090" y="172721"/>
                </a:lnTo>
                <a:lnTo>
                  <a:pt x="170455" y="165948"/>
                </a:lnTo>
                <a:lnTo>
                  <a:pt x="177724" y="159738"/>
                </a:lnTo>
                <a:lnTo>
                  <a:pt x="184263" y="153905"/>
                </a:lnTo>
                <a:lnTo>
                  <a:pt x="190317" y="148324"/>
                </a:lnTo>
                <a:lnTo>
                  <a:pt x="195198" y="142909"/>
                </a:lnTo>
                <a:lnTo>
                  <a:pt x="199301" y="137606"/>
                </a:lnTo>
                <a:lnTo>
                  <a:pt x="202881" y="132378"/>
                </a:lnTo>
                <a:lnTo>
                  <a:pt x="205268" y="128045"/>
                </a:lnTo>
                <a:lnTo>
                  <a:pt x="206860" y="124310"/>
                </a:lnTo>
                <a:lnTo>
                  <a:pt x="208629" y="117902"/>
                </a:lnTo>
                <a:lnTo>
                  <a:pt x="209415" y="112232"/>
                </a:lnTo>
                <a:lnTo>
                  <a:pt x="209624" y="111228"/>
                </a:lnTo>
                <a:lnTo>
                  <a:pt x="209764" y="111405"/>
                </a:lnTo>
                <a:lnTo>
                  <a:pt x="209857" y="112370"/>
                </a:lnTo>
                <a:lnTo>
                  <a:pt x="209072" y="113014"/>
                </a:lnTo>
                <a:lnTo>
                  <a:pt x="205943" y="113728"/>
                </a:lnTo>
                <a:lnTo>
                  <a:pt x="204769" y="114766"/>
                </a:lnTo>
                <a:lnTo>
                  <a:pt x="203988" y="116304"/>
                </a:lnTo>
                <a:lnTo>
                  <a:pt x="202423" y="1219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MARTInkAnnotation265"/>
          <p:cNvSpPr/>
          <p:nvPr/>
        </p:nvSpPr>
        <p:spPr>
          <a:xfrm>
            <a:off x="7264440" y="4952880"/>
            <a:ext cx="887400" cy="890640"/>
          </a:xfrm>
          <a:custGeom>
            <a:avLst/>
            <a:gdLst>
              <a:gd name="textAreaLeft" fmla="*/ 0 w 887400"/>
              <a:gd name="textAreaRight" fmla="*/ 887760 w 88740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887698" h="890393">
                <a:moveTo>
                  <a:pt x="20594" y="152129"/>
                </a:moveTo>
                <a:lnTo>
                  <a:pt x="20594" y="156174"/>
                </a:lnTo>
                <a:lnTo>
                  <a:pt x="19748" y="158212"/>
                </a:lnTo>
                <a:lnTo>
                  <a:pt x="14033" y="165996"/>
                </a:lnTo>
                <a:lnTo>
                  <a:pt x="13114" y="183766"/>
                </a:lnTo>
                <a:lnTo>
                  <a:pt x="13067" y="188460"/>
                </a:lnTo>
                <a:lnTo>
                  <a:pt x="15274" y="198192"/>
                </a:lnTo>
                <a:lnTo>
                  <a:pt x="18229" y="208161"/>
                </a:lnTo>
                <a:lnTo>
                  <a:pt x="22385" y="230617"/>
                </a:lnTo>
                <a:lnTo>
                  <a:pt x="25624" y="244586"/>
                </a:lnTo>
                <a:lnTo>
                  <a:pt x="28293" y="266730"/>
                </a:lnTo>
                <a:lnTo>
                  <a:pt x="33223" y="288532"/>
                </a:lnTo>
                <a:lnTo>
                  <a:pt x="37576" y="313755"/>
                </a:lnTo>
                <a:lnTo>
                  <a:pt x="43971" y="337743"/>
                </a:lnTo>
                <a:lnTo>
                  <a:pt x="51227" y="364041"/>
                </a:lnTo>
                <a:lnTo>
                  <a:pt x="55375" y="380932"/>
                </a:lnTo>
                <a:lnTo>
                  <a:pt x="58557" y="408635"/>
                </a:lnTo>
                <a:lnTo>
                  <a:pt x="64486" y="434153"/>
                </a:lnTo>
                <a:lnTo>
                  <a:pt x="69171" y="453015"/>
                </a:lnTo>
                <a:lnTo>
                  <a:pt x="76333" y="472688"/>
                </a:lnTo>
                <a:lnTo>
                  <a:pt x="84314" y="492719"/>
                </a:lnTo>
                <a:lnTo>
                  <a:pt x="94413" y="523884"/>
                </a:lnTo>
                <a:lnTo>
                  <a:pt x="103074" y="547365"/>
                </a:lnTo>
                <a:lnTo>
                  <a:pt x="112567" y="569654"/>
                </a:lnTo>
                <a:lnTo>
                  <a:pt x="123278" y="590849"/>
                </a:lnTo>
                <a:lnTo>
                  <a:pt x="136505" y="611558"/>
                </a:lnTo>
                <a:lnTo>
                  <a:pt x="150850" y="632050"/>
                </a:lnTo>
                <a:lnTo>
                  <a:pt x="164846" y="653294"/>
                </a:lnTo>
                <a:lnTo>
                  <a:pt x="176711" y="676847"/>
                </a:lnTo>
                <a:lnTo>
                  <a:pt x="189886" y="696910"/>
                </a:lnTo>
                <a:lnTo>
                  <a:pt x="213842" y="724743"/>
                </a:lnTo>
                <a:lnTo>
                  <a:pt x="232635" y="744444"/>
                </a:lnTo>
                <a:lnTo>
                  <a:pt x="252276" y="764489"/>
                </a:lnTo>
                <a:lnTo>
                  <a:pt x="272296" y="782429"/>
                </a:lnTo>
                <a:lnTo>
                  <a:pt x="292482" y="799715"/>
                </a:lnTo>
                <a:lnTo>
                  <a:pt x="312742" y="818687"/>
                </a:lnTo>
                <a:lnTo>
                  <a:pt x="335293" y="833893"/>
                </a:lnTo>
                <a:lnTo>
                  <a:pt x="359426" y="846295"/>
                </a:lnTo>
                <a:lnTo>
                  <a:pt x="384264" y="857451"/>
                </a:lnTo>
                <a:lnTo>
                  <a:pt x="422047" y="873253"/>
                </a:lnTo>
                <a:lnTo>
                  <a:pt x="447374" y="881286"/>
                </a:lnTo>
                <a:lnTo>
                  <a:pt x="472741" y="886832"/>
                </a:lnTo>
                <a:lnTo>
                  <a:pt x="498126" y="889297"/>
                </a:lnTo>
                <a:lnTo>
                  <a:pt x="523519" y="890392"/>
                </a:lnTo>
                <a:lnTo>
                  <a:pt x="548916" y="890033"/>
                </a:lnTo>
                <a:lnTo>
                  <a:pt x="574316" y="887050"/>
                </a:lnTo>
                <a:lnTo>
                  <a:pt x="601973" y="880645"/>
                </a:lnTo>
                <a:lnTo>
                  <a:pt x="629504" y="871307"/>
                </a:lnTo>
                <a:lnTo>
                  <a:pt x="653030" y="858691"/>
                </a:lnTo>
                <a:lnTo>
                  <a:pt x="689360" y="837307"/>
                </a:lnTo>
                <a:lnTo>
                  <a:pt x="712088" y="820155"/>
                </a:lnTo>
                <a:lnTo>
                  <a:pt x="733478" y="800396"/>
                </a:lnTo>
                <a:lnTo>
                  <a:pt x="754274" y="777503"/>
                </a:lnTo>
                <a:lnTo>
                  <a:pt x="774806" y="750959"/>
                </a:lnTo>
                <a:lnTo>
                  <a:pt x="785022" y="736769"/>
                </a:lnTo>
                <a:lnTo>
                  <a:pt x="803147" y="709714"/>
                </a:lnTo>
                <a:lnTo>
                  <a:pt x="818822" y="682731"/>
                </a:lnTo>
                <a:lnTo>
                  <a:pt x="825372" y="668423"/>
                </a:lnTo>
                <a:lnTo>
                  <a:pt x="852098" y="604915"/>
                </a:lnTo>
                <a:lnTo>
                  <a:pt x="857717" y="588606"/>
                </a:lnTo>
                <a:lnTo>
                  <a:pt x="862309" y="572654"/>
                </a:lnTo>
                <a:lnTo>
                  <a:pt x="866217" y="556939"/>
                </a:lnTo>
                <a:lnTo>
                  <a:pt x="869671" y="541382"/>
                </a:lnTo>
                <a:lnTo>
                  <a:pt x="875763" y="510551"/>
                </a:lnTo>
                <a:lnTo>
                  <a:pt x="881293" y="477656"/>
                </a:lnTo>
                <a:lnTo>
                  <a:pt x="883953" y="460587"/>
                </a:lnTo>
                <a:lnTo>
                  <a:pt x="885728" y="444128"/>
                </a:lnTo>
                <a:lnTo>
                  <a:pt x="886910" y="428075"/>
                </a:lnTo>
                <a:lnTo>
                  <a:pt x="887697" y="412293"/>
                </a:lnTo>
                <a:lnTo>
                  <a:pt x="887376" y="396692"/>
                </a:lnTo>
                <a:lnTo>
                  <a:pt x="886316" y="381211"/>
                </a:lnTo>
                <a:lnTo>
                  <a:pt x="884763" y="365810"/>
                </a:lnTo>
                <a:lnTo>
                  <a:pt x="882879" y="350463"/>
                </a:lnTo>
                <a:lnTo>
                  <a:pt x="878530" y="319864"/>
                </a:lnTo>
                <a:lnTo>
                  <a:pt x="873775" y="291589"/>
                </a:lnTo>
                <a:lnTo>
                  <a:pt x="867145" y="264064"/>
                </a:lnTo>
                <a:lnTo>
                  <a:pt x="861822" y="249613"/>
                </a:lnTo>
                <a:lnTo>
                  <a:pt x="855733" y="234898"/>
                </a:lnTo>
                <a:lnTo>
                  <a:pt x="839936" y="207260"/>
                </a:lnTo>
                <a:lnTo>
                  <a:pt x="821626" y="180865"/>
                </a:lnTo>
                <a:lnTo>
                  <a:pt x="802199" y="155023"/>
                </a:lnTo>
                <a:lnTo>
                  <a:pt x="782277" y="131684"/>
                </a:lnTo>
                <a:lnTo>
                  <a:pt x="760440" y="110869"/>
                </a:lnTo>
                <a:lnTo>
                  <a:pt x="733801" y="93151"/>
                </a:lnTo>
                <a:lnTo>
                  <a:pt x="707286" y="74552"/>
                </a:lnTo>
                <a:lnTo>
                  <a:pt x="680543" y="56691"/>
                </a:lnTo>
                <a:lnTo>
                  <a:pt x="666301" y="49557"/>
                </a:lnTo>
                <a:lnTo>
                  <a:pt x="651725" y="43107"/>
                </a:lnTo>
                <a:lnTo>
                  <a:pt x="636081" y="37115"/>
                </a:lnTo>
                <a:lnTo>
                  <a:pt x="619726" y="31426"/>
                </a:lnTo>
                <a:lnTo>
                  <a:pt x="585748" y="20590"/>
                </a:lnTo>
                <a:lnTo>
                  <a:pt x="550891" y="10129"/>
                </a:lnTo>
                <a:lnTo>
                  <a:pt x="533299" y="6662"/>
                </a:lnTo>
                <a:lnTo>
                  <a:pt x="515644" y="4352"/>
                </a:lnTo>
                <a:lnTo>
                  <a:pt x="497947" y="2811"/>
                </a:lnTo>
                <a:lnTo>
                  <a:pt x="479377" y="1783"/>
                </a:lnTo>
                <a:lnTo>
                  <a:pt x="440680" y="642"/>
                </a:lnTo>
                <a:lnTo>
                  <a:pt x="384858" y="0"/>
                </a:lnTo>
                <a:lnTo>
                  <a:pt x="365883" y="756"/>
                </a:lnTo>
                <a:lnTo>
                  <a:pt x="346461" y="2107"/>
                </a:lnTo>
                <a:lnTo>
                  <a:pt x="326739" y="3854"/>
                </a:lnTo>
                <a:lnTo>
                  <a:pt x="308510" y="6713"/>
                </a:lnTo>
                <a:lnTo>
                  <a:pt x="291279" y="10312"/>
                </a:lnTo>
                <a:lnTo>
                  <a:pt x="257739" y="18826"/>
                </a:lnTo>
                <a:lnTo>
                  <a:pt x="223076" y="28254"/>
                </a:lnTo>
                <a:lnTo>
                  <a:pt x="207228" y="33985"/>
                </a:lnTo>
                <a:lnTo>
                  <a:pt x="192430" y="40346"/>
                </a:lnTo>
                <a:lnTo>
                  <a:pt x="134218" y="68806"/>
                </a:lnTo>
                <a:lnTo>
                  <a:pt x="108629" y="86028"/>
                </a:lnTo>
                <a:lnTo>
                  <a:pt x="85968" y="104124"/>
                </a:lnTo>
                <a:lnTo>
                  <a:pt x="64607" y="120633"/>
                </a:lnTo>
                <a:lnTo>
                  <a:pt x="37586" y="148253"/>
                </a:lnTo>
                <a:lnTo>
                  <a:pt x="23630" y="167904"/>
                </a:lnTo>
                <a:lnTo>
                  <a:pt x="12630" y="188774"/>
                </a:lnTo>
                <a:lnTo>
                  <a:pt x="4919" y="212160"/>
                </a:lnTo>
                <a:lnTo>
                  <a:pt x="927" y="234407"/>
                </a:lnTo>
                <a:lnTo>
                  <a:pt x="0" y="255584"/>
                </a:lnTo>
                <a:lnTo>
                  <a:pt x="2410" y="276285"/>
                </a:lnTo>
                <a:lnTo>
                  <a:pt x="8561" y="296774"/>
                </a:lnTo>
                <a:lnTo>
                  <a:pt x="26307" y="341567"/>
                </a:lnTo>
                <a:lnTo>
                  <a:pt x="40631" y="363888"/>
                </a:lnTo>
                <a:lnTo>
                  <a:pt x="60962" y="390979"/>
                </a:lnTo>
                <a:lnTo>
                  <a:pt x="74607" y="409730"/>
                </a:lnTo>
                <a:lnTo>
                  <a:pt x="89174" y="4264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8473"/>
          <p:cNvSpPr/>
          <p:nvPr/>
        </p:nvSpPr>
        <p:spPr>
          <a:xfrm>
            <a:off x="2743200" y="303228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InkAnnotation267"/>
          <p:cNvSpPr/>
          <p:nvPr/>
        </p:nvSpPr>
        <p:spPr>
          <a:xfrm>
            <a:off x="1128600" y="4898880"/>
            <a:ext cx="385920" cy="198720"/>
          </a:xfrm>
          <a:custGeom>
            <a:avLst/>
            <a:gdLst>
              <a:gd name="textAreaLeft" fmla="*/ 0 w 385920"/>
              <a:gd name="textAreaRight" fmla="*/ 386280 w 38592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386899" h="197542">
                <a:moveTo>
                  <a:pt x="30285" y="60960"/>
                </a:moveTo>
                <a:lnTo>
                  <a:pt x="30285" y="65005"/>
                </a:lnTo>
                <a:lnTo>
                  <a:pt x="29439" y="67043"/>
                </a:lnTo>
                <a:lnTo>
                  <a:pt x="26240" y="71566"/>
                </a:lnTo>
                <a:lnTo>
                  <a:pt x="25048" y="73957"/>
                </a:lnTo>
                <a:lnTo>
                  <a:pt x="23725" y="78872"/>
                </a:lnTo>
                <a:lnTo>
                  <a:pt x="20878" y="83878"/>
                </a:lnTo>
                <a:lnTo>
                  <a:pt x="18934" y="86399"/>
                </a:lnTo>
                <a:lnTo>
                  <a:pt x="17638" y="89773"/>
                </a:lnTo>
                <a:lnTo>
                  <a:pt x="16773" y="93715"/>
                </a:lnTo>
                <a:lnTo>
                  <a:pt x="16197" y="98037"/>
                </a:lnTo>
                <a:lnTo>
                  <a:pt x="14120" y="102611"/>
                </a:lnTo>
                <a:lnTo>
                  <a:pt x="11042" y="107354"/>
                </a:lnTo>
                <a:lnTo>
                  <a:pt x="7296" y="112209"/>
                </a:lnTo>
                <a:lnTo>
                  <a:pt x="4800" y="117140"/>
                </a:lnTo>
                <a:lnTo>
                  <a:pt x="3134" y="122120"/>
                </a:lnTo>
                <a:lnTo>
                  <a:pt x="2025" y="127133"/>
                </a:lnTo>
                <a:lnTo>
                  <a:pt x="1285" y="132169"/>
                </a:lnTo>
                <a:lnTo>
                  <a:pt x="792" y="137219"/>
                </a:lnTo>
                <a:lnTo>
                  <a:pt x="463" y="142279"/>
                </a:lnTo>
                <a:lnTo>
                  <a:pt x="244" y="147346"/>
                </a:lnTo>
                <a:lnTo>
                  <a:pt x="0" y="157492"/>
                </a:lnTo>
                <a:lnTo>
                  <a:pt x="782" y="161721"/>
                </a:lnTo>
                <a:lnTo>
                  <a:pt x="2150" y="165387"/>
                </a:lnTo>
                <a:lnTo>
                  <a:pt x="3908" y="168678"/>
                </a:lnTo>
                <a:lnTo>
                  <a:pt x="8120" y="174592"/>
                </a:lnTo>
                <a:lnTo>
                  <a:pt x="10428" y="177355"/>
                </a:lnTo>
                <a:lnTo>
                  <a:pt x="17509" y="182682"/>
                </a:lnTo>
                <a:lnTo>
                  <a:pt x="26300" y="187872"/>
                </a:lnTo>
                <a:lnTo>
                  <a:pt x="35852" y="193001"/>
                </a:lnTo>
                <a:lnTo>
                  <a:pt x="40770" y="193860"/>
                </a:lnTo>
                <a:lnTo>
                  <a:pt x="45742" y="193587"/>
                </a:lnTo>
                <a:lnTo>
                  <a:pt x="55781" y="191872"/>
                </a:lnTo>
                <a:lnTo>
                  <a:pt x="65888" y="191109"/>
                </a:lnTo>
                <a:lnTo>
                  <a:pt x="76024" y="188513"/>
                </a:lnTo>
                <a:lnTo>
                  <a:pt x="81098" y="186635"/>
                </a:lnTo>
                <a:lnTo>
                  <a:pt x="85327" y="183690"/>
                </a:lnTo>
                <a:lnTo>
                  <a:pt x="88993" y="180033"/>
                </a:lnTo>
                <a:lnTo>
                  <a:pt x="92284" y="175902"/>
                </a:lnTo>
                <a:lnTo>
                  <a:pt x="96171" y="172301"/>
                </a:lnTo>
                <a:lnTo>
                  <a:pt x="100456" y="169054"/>
                </a:lnTo>
                <a:lnTo>
                  <a:pt x="105006" y="166043"/>
                </a:lnTo>
                <a:lnTo>
                  <a:pt x="108885" y="161495"/>
                </a:lnTo>
                <a:lnTo>
                  <a:pt x="112319" y="155923"/>
                </a:lnTo>
                <a:lnTo>
                  <a:pt x="131781" y="117046"/>
                </a:lnTo>
                <a:lnTo>
                  <a:pt x="134355" y="112744"/>
                </a:lnTo>
                <a:lnTo>
                  <a:pt x="136919" y="109030"/>
                </a:lnTo>
                <a:lnTo>
                  <a:pt x="139474" y="105706"/>
                </a:lnTo>
                <a:lnTo>
                  <a:pt x="142314" y="99756"/>
                </a:lnTo>
                <a:lnTo>
                  <a:pt x="144546" y="91584"/>
                </a:lnTo>
                <a:lnTo>
                  <a:pt x="148619" y="95528"/>
                </a:lnTo>
                <a:lnTo>
                  <a:pt x="149814" y="97552"/>
                </a:lnTo>
                <a:lnTo>
                  <a:pt x="151143" y="102058"/>
                </a:lnTo>
                <a:lnTo>
                  <a:pt x="154037" y="106139"/>
                </a:lnTo>
                <a:lnTo>
                  <a:pt x="158506" y="111400"/>
                </a:lnTo>
                <a:lnTo>
                  <a:pt x="169399" y="123171"/>
                </a:lnTo>
                <a:lnTo>
                  <a:pt x="179884" y="134047"/>
                </a:lnTo>
                <a:lnTo>
                  <a:pt x="185898" y="139318"/>
                </a:lnTo>
                <a:lnTo>
                  <a:pt x="192447" y="144525"/>
                </a:lnTo>
                <a:lnTo>
                  <a:pt x="199353" y="149690"/>
                </a:lnTo>
                <a:lnTo>
                  <a:pt x="213800" y="159944"/>
                </a:lnTo>
                <a:lnTo>
                  <a:pt x="221208" y="165049"/>
                </a:lnTo>
                <a:lnTo>
                  <a:pt x="229534" y="170146"/>
                </a:lnTo>
                <a:lnTo>
                  <a:pt x="238471" y="175238"/>
                </a:lnTo>
                <a:lnTo>
                  <a:pt x="247816" y="180325"/>
                </a:lnTo>
                <a:lnTo>
                  <a:pt x="256585" y="184563"/>
                </a:lnTo>
                <a:lnTo>
                  <a:pt x="264972" y="188236"/>
                </a:lnTo>
                <a:lnTo>
                  <a:pt x="273103" y="191530"/>
                </a:lnTo>
                <a:lnTo>
                  <a:pt x="281910" y="193727"/>
                </a:lnTo>
                <a:lnTo>
                  <a:pt x="291169" y="195191"/>
                </a:lnTo>
                <a:lnTo>
                  <a:pt x="300727" y="196167"/>
                </a:lnTo>
                <a:lnTo>
                  <a:pt x="308793" y="196818"/>
                </a:lnTo>
                <a:lnTo>
                  <a:pt x="315864" y="197252"/>
                </a:lnTo>
                <a:lnTo>
                  <a:pt x="322271" y="197541"/>
                </a:lnTo>
                <a:lnTo>
                  <a:pt x="329082" y="196887"/>
                </a:lnTo>
                <a:lnTo>
                  <a:pt x="336163" y="195605"/>
                </a:lnTo>
                <a:lnTo>
                  <a:pt x="343424" y="193904"/>
                </a:lnTo>
                <a:lnTo>
                  <a:pt x="349111" y="191076"/>
                </a:lnTo>
                <a:lnTo>
                  <a:pt x="353749" y="187497"/>
                </a:lnTo>
                <a:lnTo>
                  <a:pt x="357688" y="183418"/>
                </a:lnTo>
                <a:lnTo>
                  <a:pt x="361160" y="179005"/>
                </a:lnTo>
                <a:lnTo>
                  <a:pt x="364322" y="174370"/>
                </a:lnTo>
                <a:lnTo>
                  <a:pt x="367276" y="169587"/>
                </a:lnTo>
                <a:lnTo>
                  <a:pt x="370093" y="163858"/>
                </a:lnTo>
                <a:lnTo>
                  <a:pt x="372817" y="157499"/>
                </a:lnTo>
                <a:lnTo>
                  <a:pt x="375479" y="150719"/>
                </a:lnTo>
                <a:lnTo>
                  <a:pt x="378101" y="142812"/>
                </a:lnTo>
                <a:lnTo>
                  <a:pt x="380696" y="134156"/>
                </a:lnTo>
                <a:lnTo>
                  <a:pt x="383272" y="124997"/>
                </a:lnTo>
                <a:lnTo>
                  <a:pt x="384990" y="116351"/>
                </a:lnTo>
                <a:lnTo>
                  <a:pt x="386135" y="108047"/>
                </a:lnTo>
                <a:lnTo>
                  <a:pt x="386898" y="99972"/>
                </a:lnTo>
                <a:lnTo>
                  <a:pt x="386561" y="92048"/>
                </a:lnTo>
                <a:lnTo>
                  <a:pt x="385489" y="84225"/>
                </a:lnTo>
                <a:lnTo>
                  <a:pt x="383928" y="76470"/>
                </a:lnTo>
                <a:lnTo>
                  <a:pt x="382887" y="68760"/>
                </a:lnTo>
                <a:lnTo>
                  <a:pt x="382193" y="61080"/>
                </a:lnTo>
                <a:lnTo>
                  <a:pt x="381730" y="53420"/>
                </a:lnTo>
                <a:lnTo>
                  <a:pt x="381216" y="40393"/>
                </a:lnTo>
                <a:lnTo>
                  <a:pt x="381079" y="34549"/>
                </a:lnTo>
                <a:lnTo>
                  <a:pt x="380141" y="28959"/>
                </a:lnTo>
                <a:lnTo>
                  <a:pt x="378669" y="23539"/>
                </a:lnTo>
                <a:lnTo>
                  <a:pt x="374268" y="10764"/>
                </a:lnTo>
                <a:lnTo>
                  <a:pt x="374754" y="8869"/>
                </a:lnTo>
                <a:lnTo>
                  <a:pt x="378636" y="3004"/>
                </a:lnTo>
                <a:lnTo>
                  <a:pt x="38080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InkAnnotation268"/>
          <p:cNvSpPr/>
          <p:nvPr/>
        </p:nvSpPr>
        <p:spPr>
          <a:xfrm>
            <a:off x="1616040" y="4923000"/>
            <a:ext cx="228600" cy="29880"/>
          </a:xfrm>
          <a:custGeom>
            <a:avLst/>
            <a:gdLst>
              <a:gd name="textAreaLeft" fmla="*/ 0 w 228600"/>
              <a:gd name="textAreaRight" fmla="*/ 228960 w 2286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228601" h="30450">
                <a:moveTo>
                  <a:pt x="0" y="30449"/>
                </a:moveTo>
                <a:lnTo>
                  <a:pt x="4045" y="26404"/>
                </a:lnTo>
                <a:lnTo>
                  <a:pt x="6084" y="25212"/>
                </a:lnTo>
                <a:lnTo>
                  <a:pt x="8289" y="24418"/>
                </a:lnTo>
                <a:lnTo>
                  <a:pt x="10606" y="23888"/>
                </a:lnTo>
                <a:lnTo>
                  <a:pt x="14691" y="22689"/>
                </a:lnTo>
                <a:lnTo>
                  <a:pt x="32575" y="16954"/>
                </a:lnTo>
                <a:lnTo>
                  <a:pt x="46651" y="12316"/>
                </a:lnTo>
                <a:lnTo>
                  <a:pt x="54807" y="10741"/>
                </a:lnTo>
                <a:lnTo>
                  <a:pt x="63632" y="9690"/>
                </a:lnTo>
                <a:lnTo>
                  <a:pt x="72901" y="8990"/>
                </a:lnTo>
                <a:lnTo>
                  <a:pt x="82468" y="7676"/>
                </a:lnTo>
                <a:lnTo>
                  <a:pt x="92232" y="5954"/>
                </a:lnTo>
                <a:lnTo>
                  <a:pt x="102128" y="3959"/>
                </a:lnTo>
                <a:lnTo>
                  <a:pt x="112112" y="2629"/>
                </a:lnTo>
                <a:lnTo>
                  <a:pt x="122155" y="1742"/>
                </a:lnTo>
                <a:lnTo>
                  <a:pt x="132236" y="1151"/>
                </a:lnTo>
                <a:lnTo>
                  <a:pt x="152470" y="495"/>
                </a:lnTo>
                <a:lnTo>
                  <a:pt x="196789" y="16"/>
                </a:lnTo>
                <a:lnTo>
                  <a:pt x="202312" y="0"/>
                </a:lnTo>
                <a:lnTo>
                  <a:pt x="206842" y="837"/>
                </a:lnTo>
                <a:lnTo>
                  <a:pt x="210708" y="2241"/>
                </a:lnTo>
                <a:lnTo>
                  <a:pt x="214132" y="4024"/>
                </a:lnTo>
                <a:lnTo>
                  <a:pt x="217262" y="5212"/>
                </a:lnTo>
                <a:lnTo>
                  <a:pt x="220194" y="6004"/>
                </a:lnTo>
                <a:lnTo>
                  <a:pt x="228600" y="758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InkAnnotation269"/>
          <p:cNvSpPr/>
          <p:nvPr/>
        </p:nvSpPr>
        <p:spPr>
          <a:xfrm>
            <a:off x="1646280" y="4991040"/>
            <a:ext cx="228600" cy="3816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28601" h="38073">
                <a:moveTo>
                  <a:pt x="0" y="22860"/>
                </a:moveTo>
                <a:lnTo>
                  <a:pt x="0" y="29421"/>
                </a:lnTo>
                <a:lnTo>
                  <a:pt x="847" y="29774"/>
                </a:lnTo>
                <a:lnTo>
                  <a:pt x="4045" y="30166"/>
                </a:lnTo>
                <a:lnTo>
                  <a:pt x="6930" y="31117"/>
                </a:lnTo>
                <a:lnTo>
                  <a:pt x="10547" y="32598"/>
                </a:lnTo>
                <a:lnTo>
                  <a:pt x="14652" y="34432"/>
                </a:lnTo>
                <a:lnTo>
                  <a:pt x="19081" y="35655"/>
                </a:lnTo>
                <a:lnTo>
                  <a:pt x="23727" y="36470"/>
                </a:lnTo>
                <a:lnTo>
                  <a:pt x="28518" y="37013"/>
                </a:lnTo>
                <a:lnTo>
                  <a:pt x="34252" y="37375"/>
                </a:lnTo>
                <a:lnTo>
                  <a:pt x="40615" y="37617"/>
                </a:lnTo>
                <a:lnTo>
                  <a:pt x="55304" y="37886"/>
                </a:lnTo>
                <a:lnTo>
                  <a:pt x="98148" y="38072"/>
                </a:lnTo>
                <a:lnTo>
                  <a:pt x="106919" y="37235"/>
                </a:lnTo>
                <a:lnTo>
                  <a:pt x="116152" y="35830"/>
                </a:lnTo>
                <a:lnTo>
                  <a:pt x="125695" y="34046"/>
                </a:lnTo>
                <a:lnTo>
                  <a:pt x="134597" y="32011"/>
                </a:lnTo>
                <a:lnTo>
                  <a:pt x="143072" y="29807"/>
                </a:lnTo>
                <a:lnTo>
                  <a:pt x="151261" y="27492"/>
                </a:lnTo>
                <a:lnTo>
                  <a:pt x="167134" y="22661"/>
                </a:lnTo>
                <a:lnTo>
                  <a:pt x="198020" y="12661"/>
                </a:lnTo>
                <a:lnTo>
                  <a:pt x="204827" y="10134"/>
                </a:lnTo>
                <a:lnTo>
                  <a:pt x="211058" y="7603"/>
                </a:lnTo>
                <a:lnTo>
                  <a:pt x="2286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InkAnnotation270"/>
          <p:cNvSpPr/>
          <p:nvPr/>
        </p:nvSpPr>
        <p:spPr>
          <a:xfrm>
            <a:off x="1967040" y="4770360"/>
            <a:ext cx="234720" cy="266760"/>
          </a:xfrm>
          <a:custGeom>
            <a:avLst/>
            <a:gdLst>
              <a:gd name="textAreaLeft" fmla="*/ 0 w 234720"/>
              <a:gd name="textAreaRight" fmla="*/ 235080 w 234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35669" h="266317">
                <a:moveTo>
                  <a:pt x="14899" y="60929"/>
                </a:moveTo>
                <a:lnTo>
                  <a:pt x="811" y="46841"/>
                </a:lnTo>
                <a:lnTo>
                  <a:pt x="427" y="45610"/>
                </a:lnTo>
                <a:lnTo>
                  <a:pt x="0" y="41985"/>
                </a:lnTo>
                <a:lnTo>
                  <a:pt x="733" y="39833"/>
                </a:lnTo>
                <a:lnTo>
                  <a:pt x="3805" y="35184"/>
                </a:lnTo>
                <a:lnTo>
                  <a:pt x="10295" y="27807"/>
                </a:lnTo>
                <a:lnTo>
                  <a:pt x="17368" y="22784"/>
                </a:lnTo>
                <a:lnTo>
                  <a:pt x="21625" y="20259"/>
                </a:lnTo>
                <a:lnTo>
                  <a:pt x="27003" y="17729"/>
                </a:lnTo>
                <a:lnTo>
                  <a:pt x="33128" y="15196"/>
                </a:lnTo>
                <a:lnTo>
                  <a:pt x="39752" y="12660"/>
                </a:lnTo>
                <a:lnTo>
                  <a:pt x="45861" y="10970"/>
                </a:lnTo>
                <a:lnTo>
                  <a:pt x="51627" y="9843"/>
                </a:lnTo>
                <a:lnTo>
                  <a:pt x="57164" y="9092"/>
                </a:lnTo>
                <a:lnTo>
                  <a:pt x="64242" y="7744"/>
                </a:lnTo>
                <a:lnTo>
                  <a:pt x="81139" y="3989"/>
                </a:lnTo>
                <a:lnTo>
                  <a:pt x="90385" y="2649"/>
                </a:lnTo>
                <a:lnTo>
                  <a:pt x="99937" y="1756"/>
                </a:lnTo>
                <a:lnTo>
                  <a:pt x="109691" y="1160"/>
                </a:lnTo>
                <a:lnTo>
                  <a:pt x="129559" y="499"/>
                </a:lnTo>
                <a:lnTo>
                  <a:pt x="173963" y="39"/>
                </a:lnTo>
                <a:lnTo>
                  <a:pt x="189734" y="0"/>
                </a:lnTo>
                <a:lnTo>
                  <a:pt x="197496" y="836"/>
                </a:lnTo>
                <a:lnTo>
                  <a:pt x="205210" y="2241"/>
                </a:lnTo>
                <a:lnTo>
                  <a:pt x="212893" y="4023"/>
                </a:lnTo>
                <a:lnTo>
                  <a:pt x="218862" y="5212"/>
                </a:lnTo>
                <a:lnTo>
                  <a:pt x="223687" y="6004"/>
                </a:lnTo>
                <a:lnTo>
                  <a:pt x="227752" y="6533"/>
                </a:lnTo>
                <a:lnTo>
                  <a:pt x="230461" y="7731"/>
                </a:lnTo>
                <a:lnTo>
                  <a:pt x="232267" y="9377"/>
                </a:lnTo>
                <a:lnTo>
                  <a:pt x="235166" y="14057"/>
                </a:lnTo>
                <a:lnTo>
                  <a:pt x="235668" y="18913"/>
                </a:lnTo>
                <a:lnTo>
                  <a:pt x="234045" y="21065"/>
                </a:lnTo>
                <a:lnTo>
                  <a:pt x="227726" y="25714"/>
                </a:lnTo>
                <a:lnTo>
                  <a:pt x="222824" y="28139"/>
                </a:lnTo>
                <a:lnTo>
                  <a:pt x="217016" y="30602"/>
                </a:lnTo>
                <a:lnTo>
                  <a:pt x="210603" y="33091"/>
                </a:lnTo>
                <a:lnTo>
                  <a:pt x="202942" y="36444"/>
                </a:lnTo>
                <a:lnTo>
                  <a:pt x="185398" y="44685"/>
                </a:lnTo>
                <a:lnTo>
                  <a:pt x="176825" y="48406"/>
                </a:lnTo>
                <a:lnTo>
                  <a:pt x="168570" y="51733"/>
                </a:lnTo>
                <a:lnTo>
                  <a:pt x="152624" y="57689"/>
                </a:lnTo>
                <a:lnTo>
                  <a:pt x="121691" y="68411"/>
                </a:lnTo>
                <a:lnTo>
                  <a:pt x="114034" y="70997"/>
                </a:lnTo>
                <a:lnTo>
                  <a:pt x="107235" y="73567"/>
                </a:lnTo>
                <a:lnTo>
                  <a:pt x="101010" y="76128"/>
                </a:lnTo>
                <a:lnTo>
                  <a:pt x="95166" y="78682"/>
                </a:lnTo>
                <a:lnTo>
                  <a:pt x="91271" y="81231"/>
                </a:lnTo>
                <a:lnTo>
                  <a:pt x="88673" y="83777"/>
                </a:lnTo>
                <a:lnTo>
                  <a:pt x="86942" y="86321"/>
                </a:lnTo>
                <a:lnTo>
                  <a:pt x="85018" y="91405"/>
                </a:lnTo>
                <a:lnTo>
                  <a:pt x="83935" y="99028"/>
                </a:lnTo>
                <a:lnTo>
                  <a:pt x="83783" y="101568"/>
                </a:lnTo>
                <a:lnTo>
                  <a:pt x="85375" y="104955"/>
                </a:lnTo>
                <a:lnTo>
                  <a:pt x="91659" y="113234"/>
                </a:lnTo>
                <a:lnTo>
                  <a:pt x="96553" y="116966"/>
                </a:lnTo>
                <a:lnTo>
                  <a:pt x="102355" y="120300"/>
                </a:lnTo>
                <a:lnTo>
                  <a:pt x="108763" y="123369"/>
                </a:lnTo>
                <a:lnTo>
                  <a:pt x="115575" y="127109"/>
                </a:lnTo>
                <a:lnTo>
                  <a:pt x="122656" y="131296"/>
                </a:lnTo>
                <a:lnTo>
                  <a:pt x="129917" y="135780"/>
                </a:lnTo>
                <a:lnTo>
                  <a:pt x="138144" y="140463"/>
                </a:lnTo>
                <a:lnTo>
                  <a:pt x="156317" y="150182"/>
                </a:lnTo>
                <a:lnTo>
                  <a:pt x="185588" y="165174"/>
                </a:lnTo>
                <a:lnTo>
                  <a:pt x="193885" y="170219"/>
                </a:lnTo>
                <a:lnTo>
                  <a:pt x="201110" y="175275"/>
                </a:lnTo>
                <a:lnTo>
                  <a:pt x="207619" y="180341"/>
                </a:lnTo>
                <a:lnTo>
                  <a:pt x="213653" y="184564"/>
                </a:lnTo>
                <a:lnTo>
                  <a:pt x="219368" y="188225"/>
                </a:lnTo>
                <a:lnTo>
                  <a:pt x="224872" y="191514"/>
                </a:lnTo>
                <a:lnTo>
                  <a:pt x="228541" y="195399"/>
                </a:lnTo>
                <a:lnTo>
                  <a:pt x="230987" y="199682"/>
                </a:lnTo>
                <a:lnTo>
                  <a:pt x="232618" y="204231"/>
                </a:lnTo>
                <a:lnTo>
                  <a:pt x="233705" y="208957"/>
                </a:lnTo>
                <a:lnTo>
                  <a:pt x="234430" y="213801"/>
                </a:lnTo>
                <a:lnTo>
                  <a:pt x="234913" y="218724"/>
                </a:lnTo>
                <a:lnTo>
                  <a:pt x="233541" y="222852"/>
                </a:lnTo>
                <a:lnTo>
                  <a:pt x="230934" y="226451"/>
                </a:lnTo>
                <a:lnTo>
                  <a:pt x="227502" y="229697"/>
                </a:lnTo>
                <a:lnTo>
                  <a:pt x="223521" y="232708"/>
                </a:lnTo>
                <a:lnTo>
                  <a:pt x="219174" y="235562"/>
                </a:lnTo>
                <a:lnTo>
                  <a:pt x="214582" y="238311"/>
                </a:lnTo>
                <a:lnTo>
                  <a:pt x="208134" y="240990"/>
                </a:lnTo>
                <a:lnTo>
                  <a:pt x="200449" y="243623"/>
                </a:lnTo>
                <a:lnTo>
                  <a:pt x="191939" y="246225"/>
                </a:lnTo>
                <a:lnTo>
                  <a:pt x="173453" y="251375"/>
                </a:lnTo>
                <a:lnTo>
                  <a:pt x="163781" y="253933"/>
                </a:lnTo>
                <a:lnTo>
                  <a:pt x="153947" y="255638"/>
                </a:lnTo>
                <a:lnTo>
                  <a:pt x="144004" y="256775"/>
                </a:lnTo>
                <a:lnTo>
                  <a:pt x="133989" y="257533"/>
                </a:lnTo>
                <a:lnTo>
                  <a:pt x="124773" y="258885"/>
                </a:lnTo>
                <a:lnTo>
                  <a:pt x="116088" y="260633"/>
                </a:lnTo>
                <a:lnTo>
                  <a:pt x="107758" y="262645"/>
                </a:lnTo>
                <a:lnTo>
                  <a:pt x="99665" y="263987"/>
                </a:lnTo>
                <a:lnTo>
                  <a:pt x="91730" y="264881"/>
                </a:lnTo>
                <a:lnTo>
                  <a:pt x="83899" y="265477"/>
                </a:lnTo>
                <a:lnTo>
                  <a:pt x="76986" y="265874"/>
                </a:lnTo>
                <a:lnTo>
                  <a:pt x="64789" y="266316"/>
                </a:lnTo>
                <a:lnTo>
                  <a:pt x="59165" y="265587"/>
                </a:lnTo>
                <a:lnTo>
                  <a:pt x="53723" y="264254"/>
                </a:lnTo>
                <a:lnTo>
                  <a:pt x="48402" y="262519"/>
                </a:lnTo>
                <a:lnTo>
                  <a:pt x="44007" y="261363"/>
                </a:lnTo>
                <a:lnTo>
                  <a:pt x="40231" y="260592"/>
                </a:lnTo>
                <a:lnTo>
                  <a:pt x="30139" y="2590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MARTInkAnnotation271"/>
          <p:cNvSpPr/>
          <p:nvPr/>
        </p:nvSpPr>
        <p:spPr>
          <a:xfrm>
            <a:off x="2347920" y="4732200"/>
            <a:ext cx="209520" cy="114480"/>
          </a:xfrm>
          <a:custGeom>
            <a:avLst/>
            <a:gdLst>
              <a:gd name="textAreaLeft" fmla="*/ 0 w 209520"/>
              <a:gd name="textAreaRight" fmla="*/ 209880 w 20952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09922" h="114110">
                <a:moveTo>
                  <a:pt x="113299" y="7592"/>
                </a:moveTo>
                <a:lnTo>
                  <a:pt x="113299" y="286"/>
                </a:lnTo>
                <a:lnTo>
                  <a:pt x="119330" y="14"/>
                </a:lnTo>
                <a:lnTo>
                  <a:pt x="119860" y="0"/>
                </a:lnTo>
                <a:lnTo>
                  <a:pt x="119366" y="837"/>
                </a:lnTo>
                <a:lnTo>
                  <a:pt x="116560" y="4025"/>
                </a:lnTo>
                <a:lnTo>
                  <a:pt x="113780" y="6061"/>
                </a:lnTo>
                <a:lnTo>
                  <a:pt x="110233" y="8265"/>
                </a:lnTo>
                <a:lnTo>
                  <a:pt x="106175" y="10580"/>
                </a:lnTo>
                <a:lnTo>
                  <a:pt x="97151" y="15411"/>
                </a:lnTo>
                <a:lnTo>
                  <a:pt x="69469" y="29457"/>
                </a:lnTo>
                <a:lnTo>
                  <a:pt x="62066" y="34022"/>
                </a:lnTo>
                <a:lnTo>
                  <a:pt x="55437" y="38758"/>
                </a:lnTo>
                <a:lnTo>
                  <a:pt x="49324" y="43609"/>
                </a:lnTo>
                <a:lnTo>
                  <a:pt x="42709" y="48537"/>
                </a:lnTo>
                <a:lnTo>
                  <a:pt x="28586" y="58527"/>
                </a:lnTo>
                <a:lnTo>
                  <a:pt x="22110" y="63563"/>
                </a:lnTo>
                <a:lnTo>
                  <a:pt x="16100" y="68612"/>
                </a:lnTo>
                <a:lnTo>
                  <a:pt x="10400" y="73672"/>
                </a:lnTo>
                <a:lnTo>
                  <a:pt x="6599" y="77893"/>
                </a:lnTo>
                <a:lnTo>
                  <a:pt x="4066" y="81552"/>
                </a:lnTo>
                <a:lnTo>
                  <a:pt x="2377" y="84839"/>
                </a:lnTo>
                <a:lnTo>
                  <a:pt x="1251" y="88723"/>
                </a:lnTo>
                <a:lnTo>
                  <a:pt x="500" y="93006"/>
                </a:lnTo>
                <a:lnTo>
                  <a:pt x="0" y="97555"/>
                </a:lnTo>
                <a:lnTo>
                  <a:pt x="1360" y="101434"/>
                </a:lnTo>
                <a:lnTo>
                  <a:pt x="3960" y="104866"/>
                </a:lnTo>
                <a:lnTo>
                  <a:pt x="7386" y="108002"/>
                </a:lnTo>
                <a:lnTo>
                  <a:pt x="12211" y="110092"/>
                </a:lnTo>
                <a:lnTo>
                  <a:pt x="17967" y="111485"/>
                </a:lnTo>
                <a:lnTo>
                  <a:pt x="24344" y="112414"/>
                </a:lnTo>
                <a:lnTo>
                  <a:pt x="31136" y="113033"/>
                </a:lnTo>
                <a:lnTo>
                  <a:pt x="38203" y="113447"/>
                </a:lnTo>
                <a:lnTo>
                  <a:pt x="45456" y="113722"/>
                </a:lnTo>
                <a:lnTo>
                  <a:pt x="75888" y="114109"/>
                </a:lnTo>
                <a:lnTo>
                  <a:pt x="86665" y="113317"/>
                </a:lnTo>
                <a:lnTo>
                  <a:pt x="97236" y="111942"/>
                </a:lnTo>
                <a:lnTo>
                  <a:pt x="107671" y="110179"/>
                </a:lnTo>
                <a:lnTo>
                  <a:pt x="118013" y="107310"/>
                </a:lnTo>
                <a:lnTo>
                  <a:pt x="128295" y="103703"/>
                </a:lnTo>
                <a:lnTo>
                  <a:pt x="138536" y="99606"/>
                </a:lnTo>
                <a:lnTo>
                  <a:pt x="147904" y="95182"/>
                </a:lnTo>
                <a:lnTo>
                  <a:pt x="156689" y="90539"/>
                </a:lnTo>
                <a:lnTo>
                  <a:pt x="165086" y="85750"/>
                </a:lnTo>
                <a:lnTo>
                  <a:pt x="173223" y="80017"/>
                </a:lnTo>
                <a:lnTo>
                  <a:pt x="181189" y="73656"/>
                </a:lnTo>
                <a:lnTo>
                  <a:pt x="189039" y="66875"/>
                </a:lnTo>
                <a:lnTo>
                  <a:pt x="195119" y="60661"/>
                </a:lnTo>
                <a:lnTo>
                  <a:pt x="200019" y="54825"/>
                </a:lnTo>
                <a:lnTo>
                  <a:pt x="204132" y="49240"/>
                </a:lnTo>
                <a:lnTo>
                  <a:pt x="206875" y="43824"/>
                </a:lnTo>
                <a:lnTo>
                  <a:pt x="208703" y="38520"/>
                </a:lnTo>
                <a:lnTo>
                  <a:pt x="209921" y="33291"/>
                </a:lnTo>
                <a:lnTo>
                  <a:pt x="209887" y="28111"/>
                </a:lnTo>
                <a:lnTo>
                  <a:pt x="209018" y="22964"/>
                </a:lnTo>
                <a:lnTo>
                  <a:pt x="207592" y="17841"/>
                </a:lnTo>
                <a:lnTo>
                  <a:pt x="205794" y="13578"/>
                </a:lnTo>
                <a:lnTo>
                  <a:pt x="203749" y="9889"/>
                </a:lnTo>
                <a:lnTo>
                  <a:pt x="201539" y="6583"/>
                </a:lnTo>
                <a:lnTo>
                  <a:pt x="198372" y="4380"/>
                </a:lnTo>
                <a:lnTo>
                  <a:pt x="194568" y="2911"/>
                </a:lnTo>
                <a:lnTo>
                  <a:pt x="190338" y="1931"/>
                </a:lnTo>
                <a:lnTo>
                  <a:pt x="184979" y="1278"/>
                </a:lnTo>
                <a:lnTo>
                  <a:pt x="178865" y="843"/>
                </a:lnTo>
                <a:lnTo>
                  <a:pt x="172250" y="553"/>
                </a:lnTo>
                <a:lnTo>
                  <a:pt x="166146" y="1205"/>
                </a:lnTo>
                <a:lnTo>
                  <a:pt x="160384" y="2488"/>
                </a:lnTo>
                <a:lnTo>
                  <a:pt x="154849" y="4189"/>
                </a:lnTo>
                <a:lnTo>
                  <a:pt x="149466" y="5323"/>
                </a:lnTo>
                <a:lnTo>
                  <a:pt x="144183" y="6079"/>
                </a:lnTo>
                <a:lnTo>
                  <a:pt x="138969" y="6584"/>
                </a:lnTo>
                <a:lnTo>
                  <a:pt x="134645" y="7767"/>
                </a:lnTo>
                <a:lnTo>
                  <a:pt x="130917" y="9402"/>
                </a:lnTo>
                <a:lnTo>
                  <a:pt x="120919" y="152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MARTInkAnnotation272"/>
          <p:cNvSpPr/>
          <p:nvPr/>
        </p:nvSpPr>
        <p:spPr>
          <a:xfrm>
            <a:off x="2367000" y="4861080"/>
            <a:ext cx="177840" cy="177480"/>
          </a:xfrm>
          <a:custGeom>
            <a:avLst/>
            <a:gdLst>
              <a:gd name="textAreaLeft" fmla="*/ 0 w 177840"/>
              <a:gd name="textAreaRight" fmla="*/ 178200 w 17784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77031" h="177652">
                <a:moveTo>
                  <a:pt x="139399" y="7592"/>
                </a:moveTo>
                <a:lnTo>
                  <a:pt x="139399" y="3548"/>
                </a:lnTo>
                <a:lnTo>
                  <a:pt x="138552" y="2355"/>
                </a:lnTo>
                <a:lnTo>
                  <a:pt x="137141" y="1561"/>
                </a:lnTo>
                <a:lnTo>
                  <a:pt x="133316" y="678"/>
                </a:lnTo>
                <a:lnTo>
                  <a:pt x="128793" y="286"/>
                </a:lnTo>
                <a:lnTo>
                  <a:pt x="125555" y="182"/>
                </a:lnTo>
                <a:lnTo>
                  <a:pt x="112061" y="34"/>
                </a:lnTo>
                <a:lnTo>
                  <a:pt x="99309" y="0"/>
                </a:lnTo>
                <a:lnTo>
                  <a:pt x="92352" y="1684"/>
                </a:lnTo>
                <a:lnTo>
                  <a:pt x="85175" y="4500"/>
                </a:lnTo>
                <a:lnTo>
                  <a:pt x="77850" y="8071"/>
                </a:lnTo>
                <a:lnTo>
                  <a:pt x="70426" y="12145"/>
                </a:lnTo>
                <a:lnTo>
                  <a:pt x="62937" y="16554"/>
                </a:lnTo>
                <a:lnTo>
                  <a:pt x="47843" y="25968"/>
                </a:lnTo>
                <a:lnTo>
                  <a:pt x="32668" y="35797"/>
                </a:lnTo>
                <a:lnTo>
                  <a:pt x="25911" y="40789"/>
                </a:lnTo>
                <a:lnTo>
                  <a:pt x="19714" y="45810"/>
                </a:lnTo>
                <a:lnTo>
                  <a:pt x="13889" y="50851"/>
                </a:lnTo>
                <a:lnTo>
                  <a:pt x="9159" y="56751"/>
                </a:lnTo>
                <a:lnTo>
                  <a:pt x="5159" y="63225"/>
                </a:lnTo>
                <a:lnTo>
                  <a:pt x="1646" y="70081"/>
                </a:lnTo>
                <a:lnTo>
                  <a:pt x="150" y="77192"/>
                </a:lnTo>
                <a:lnTo>
                  <a:pt x="0" y="84471"/>
                </a:lnTo>
                <a:lnTo>
                  <a:pt x="746" y="91865"/>
                </a:lnTo>
                <a:lnTo>
                  <a:pt x="2091" y="99334"/>
                </a:lnTo>
                <a:lnTo>
                  <a:pt x="3834" y="106854"/>
                </a:lnTo>
                <a:lnTo>
                  <a:pt x="5842" y="114407"/>
                </a:lnTo>
                <a:lnTo>
                  <a:pt x="9721" y="121135"/>
                </a:lnTo>
                <a:lnTo>
                  <a:pt x="14847" y="127314"/>
                </a:lnTo>
                <a:lnTo>
                  <a:pt x="20805" y="133127"/>
                </a:lnTo>
                <a:lnTo>
                  <a:pt x="28163" y="138695"/>
                </a:lnTo>
                <a:lnTo>
                  <a:pt x="36455" y="144101"/>
                </a:lnTo>
                <a:lnTo>
                  <a:pt x="45370" y="149398"/>
                </a:lnTo>
                <a:lnTo>
                  <a:pt x="62049" y="159799"/>
                </a:lnTo>
                <a:lnTo>
                  <a:pt x="70052" y="164944"/>
                </a:lnTo>
                <a:lnTo>
                  <a:pt x="77928" y="169220"/>
                </a:lnTo>
                <a:lnTo>
                  <a:pt x="85718" y="172917"/>
                </a:lnTo>
                <a:lnTo>
                  <a:pt x="93452" y="176229"/>
                </a:lnTo>
                <a:lnTo>
                  <a:pt x="101147" y="177590"/>
                </a:lnTo>
                <a:lnTo>
                  <a:pt x="108818" y="177651"/>
                </a:lnTo>
                <a:lnTo>
                  <a:pt x="116472" y="176845"/>
                </a:lnTo>
                <a:lnTo>
                  <a:pt x="124114" y="175460"/>
                </a:lnTo>
                <a:lnTo>
                  <a:pt x="131749" y="173691"/>
                </a:lnTo>
                <a:lnTo>
                  <a:pt x="139379" y="171665"/>
                </a:lnTo>
                <a:lnTo>
                  <a:pt x="145313" y="168621"/>
                </a:lnTo>
                <a:lnTo>
                  <a:pt x="150115" y="164898"/>
                </a:lnTo>
                <a:lnTo>
                  <a:pt x="154163" y="160722"/>
                </a:lnTo>
                <a:lnTo>
                  <a:pt x="157708" y="156246"/>
                </a:lnTo>
                <a:lnTo>
                  <a:pt x="160919" y="151568"/>
                </a:lnTo>
                <a:lnTo>
                  <a:pt x="163905" y="146756"/>
                </a:lnTo>
                <a:lnTo>
                  <a:pt x="166743" y="141855"/>
                </a:lnTo>
                <a:lnTo>
                  <a:pt x="172154" y="131893"/>
                </a:lnTo>
                <a:lnTo>
                  <a:pt x="173936" y="126020"/>
                </a:lnTo>
                <a:lnTo>
                  <a:pt x="175124" y="119564"/>
                </a:lnTo>
                <a:lnTo>
                  <a:pt x="175916" y="112720"/>
                </a:lnTo>
                <a:lnTo>
                  <a:pt x="176444" y="106464"/>
                </a:lnTo>
                <a:lnTo>
                  <a:pt x="176795" y="100601"/>
                </a:lnTo>
                <a:lnTo>
                  <a:pt x="177030" y="94998"/>
                </a:lnTo>
                <a:lnTo>
                  <a:pt x="176339" y="89569"/>
                </a:lnTo>
                <a:lnTo>
                  <a:pt x="175033" y="84257"/>
                </a:lnTo>
                <a:lnTo>
                  <a:pt x="173315" y="79022"/>
                </a:lnTo>
                <a:lnTo>
                  <a:pt x="170476" y="74686"/>
                </a:lnTo>
                <a:lnTo>
                  <a:pt x="166891" y="70948"/>
                </a:lnTo>
                <a:lnTo>
                  <a:pt x="162807" y="67609"/>
                </a:lnTo>
                <a:lnTo>
                  <a:pt x="160084" y="64537"/>
                </a:lnTo>
                <a:lnTo>
                  <a:pt x="158269" y="61642"/>
                </a:lnTo>
                <a:lnTo>
                  <a:pt x="154639" y="533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MARTInkAnnotation273"/>
          <p:cNvSpPr/>
          <p:nvPr/>
        </p:nvSpPr>
        <p:spPr>
          <a:xfrm>
            <a:off x="2620800" y="4648320"/>
            <a:ext cx="98640" cy="457200"/>
          </a:xfrm>
          <a:custGeom>
            <a:avLst/>
            <a:gdLst>
              <a:gd name="textAreaLeft" fmla="*/ 0 w 98640"/>
              <a:gd name="textAreaRight" fmla="*/ 99000 w 986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97808" h="457201">
                <a:moveTo>
                  <a:pt x="68580" y="0"/>
                </a:moveTo>
                <a:lnTo>
                  <a:pt x="68580" y="17912"/>
                </a:lnTo>
                <a:lnTo>
                  <a:pt x="70837" y="25176"/>
                </a:lnTo>
                <a:lnTo>
                  <a:pt x="72625" y="29484"/>
                </a:lnTo>
                <a:lnTo>
                  <a:pt x="74611" y="43302"/>
                </a:lnTo>
                <a:lnTo>
                  <a:pt x="75141" y="51728"/>
                </a:lnTo>
                <a:lnTo>
                  <a:pt x="77187" y="60732"/>
                </a:lnTo>
                <a:lnTo>
                  <a:pt x="80245" y="70121"/>
                </a:lnTo>
                <a:lnTo>
                  <a:pt x="83977" y="79768"/>
                </a:lnTo>
                <a:lnTo>
                  <a:pt x="86464" y="90432"/>
                </a:lnTo>
                <a:lnTo>
                  <a:pt x="88123" y="101774"/>
                </a:lnTo>
                <a:lnTo>
                  <a:pt x="89228" y="113570"/>
                </a:lnTo>
                <a:lnTo>
                  <a:pt x="90812" y="126513"/>
                </a:lnTo>
                <a:lnTo>
                  <a:pt x="94830" y="154442"/>
                </a:lnTo>
                <a:lnTo>
                  <a:pt x="96240" y="169001"/>
                </a:lnTo>
                <a:lnTo>
                  <a:pt x="97180" y="183788"/>
                </a:lnTo>
                <a:lnTo>
                  <a:pt x="97807" y="198725"/>
                </a:lnTo>
                <a:lnTo>
                  <a:pt x="97378" y="213764"/>
                </a:lnTo>
                <a:lnTo>
                  <a:pt x="96245" y="228869"/>
                </a:lnTo>
                <a:lnTo>
                  <a:pt x="94643" y="244019"/>
                </a:lnTo>
                <a:lnTo>
                  <a:pt x="93576" y="258353"/>
                </a:lnTo>
                <a:lnTo>
                  <a:pt x="92864" y="272142"/>
                </a:lnTo>
                <a:lnTo>
                  <a:pt x="92389" y="285568"/>
                </a:lnTo>
                <a:lnTo>
                  <a:pt x="90379" y="299598"/>
                </a:lnTo>
                <a:lnTo>
                  <a:pt x="87347" y="314032"/>
                </a:lnTo>
                <a:lnTo>
                  <a:pt x="83631" y="328735"/>
                </a:lnTo>
                <a:lnTo>
                  <a:pt x="78614" y="341923"/>
                </a:lnTo>
                <a:lnTo>
                  <a:pt x="72729" y="354102"/>
                </a:lnTo>
                <a:lnTo>
                  <a:pt x="66266" y="365608"/>
                </a:lnTo>
                <a:lnTo>
                  <a:pt x="54569" y="387424"/>
                </a:lnTo>
                <a:lnTo>
                  <a:pt x="49080" y="397983"/>
                </a:lnTo>
                <a:lnTo>
                  <a:pt x="43727" y="406715"/>
                </a:lnTo>
                <a:lnTo>
                  <a:pt x="38464" y="414231"/>
                </a:lnTo>
                <a:lnTo>
                  <a:pt x="33263" y="420934"/>
                </a:lnTo>
                <a:lnTo>
                  <a:pt x="28102" y="427096"/>
                </a:lnTo>
                <a:lnTo>
                  <a:pt x="22968" y="432897"/>
                </a:lnTo>
                <a:lnTo>
                  <a:pt x="13594" y="443012"/>
                </a:lnTo>
                <a:lnTo>
                  <a:pt x="0" y="4572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MARTInkAnnotation274"/>
          <p:cNvSpPr/>
          <p:nvPr/>
        </p:nvSpPr>
        <p:spPr>
          <a:xfrm>
            <a:off x="2287440" y="4640400"/>
            <a:ext cx="142920" cy="503280"/>
          </a:xfrm>
          <a:custGeom>
            <a:avLst/>
            <a:gdLst>
              <a:gd name="textAreaLeft" fmla="*/ 0 w 142920"/>
              <a:gd name="textAreaRight" fmla="*/ 143280 w 14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43257" h="502921">
                <a:moveTo>
                  <a:pt x="51816" y="0"/>
                </a:moveTo>
                <a:lnTo>
                  <a:pt x="47771" y="0"/>
                </a:lnTo>
                <a:lnTo>
                  <a:pt x="45732" y="1693"/>
                </a:lnTo>
                <a:lnTo>
                  <a:pt x="43527" y="4516"/>
                </a:lnTo>
                <a:lnTo>
                  <a:pt x="39665" y="11320"/>
                </a:lnTo>
                <a:lnTo>
                  <a:pt x="37949" y="17167"/>
                </a:lnTo>
                <a:lnTo>
                  <a:pt x="35798" y="20758"/>
                </a:lnTo>
                <a:lnTo>
                  <a:pt x="32671" y="24845"/>
                </a:lnTo>
                <a:lnTo>
                  <a:pt x="28893" y="29263"/>
                </a:lnTo>
                <a:lnTo>
                  <a:pt x="25527" y="35595"/>
                </a:lnTo>
                <a:lnTo>
                  <a:pt x="22436" y="43203"/>
                </a:lnTo>
                <a:lnTo>
                  <a:pt x="19530" y="51662"/>
                </a:lnTo>
                <a:lnTo>
                  <a:pt x="16745" y="60688"/>
                </a:lnTo>
                <a:lnTo>
                  <a:pt x="11393" y="79748"/>
                </a:lnTo>
                <a:lnTo>
                  <a:pt x="8781" y="90419"/>
                </a:lnTo>
                <a:lnTo>
                  <a:pt x="3621" y="113564"/>
                </a:lnTo>
                <a:lnTo>
                  <a:pt x="1905" y="126509"/>
                </a:lnTo>
                <a:lnTo>
                  <a:pt x="762" y="140220"/>
                </a:lnTo>
                <a:lnTo>
                  <a:pt x="0" y="154440"/>
                </a:lnTo>
                <a:lnTo>
                  <a:pt x="339" y="168153"/>
                </a:lnTo>
                <a:lnTo>
                  <a:pt x="1411" y="181529"/>
                </a:lnTo>
                <a:lnTo>
                  <a:pt x="2972" y="194680"/>
                </a:lnTo>
                <a:lnTo>
                  <a:pt x="6966" y="222837"/>
                </a:lnTo>
                <a:lnTo>
                  <a:pt x="9216" y="237459"/>
                </a:lnTo>
                <a:lnTo>
                  <a:pt x="12409" y="253132"/>
                </a:lnTo>
                <a:lnTo>
                  <a:pt x="16232" y="269508"/>
                </a:lnTo>
                <a:lnTo>
                  <a:pt x="20473" y="286352"/>
                </a:lnTo>
                <a:lnTo>
                  <a:pt x="24994" y="302662"/>
                </a:lnTo>
                <a:lnTo>
                  <a:pt x="34533" y="334330"/>
                </a:lnTo>
                <a:lnTo>
                  <a:pt x="40294" y="349886"/>
                </a:lnTo>
                <a:lnTo>
                  <a:pt x="46674" y="365338"/>
                </a:lnTo>
                <a:lnTo>
                  <a:pt x="53468" y="380718"/>
                </a:lnTo>
                <a:lnTo>
                  <a:pt x="61384" y="395206"/>
                </a:lnTo>
                <a:lnTo>
                  <a:pt x="70048" y="409097"/>
                </a:lnTo>
                <a:lnTo>
                  <a:pt x="79211" y="422592"/>
                </a:lnTo>
                <a:lnTo>
                  <a:pt x="96165" y="448874"/>
                </a:lnTo>
                <a:lnTo>
                  <a:pt x="104242" y="461810"/>
                </a:lnTo>
                <a:lnTo>
                  <a:pt x="112167" y="472127"/>
                </a:lnTo>
                <a:lnTo>
                  <a:pt x="119990" y="480698"/>
                </a:lnTo>
                <a:lnTo>
                  <a:pt x="143256" y="5029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MARTInkAnnotation275"/>
          <p:cNvSpPr/>
          <p:nvPr/>
        </p:nvSpPr>
        <p:spPr>
          <a:xfrm>
            <a:off x="2857680" y="4884840"/>
            <a:ext cx="144360" cy="14040"/>
          </a:xfrm>
          <a:custGeom>
            <a:avLst/>
            <a:gdLst>
              <a:gd name="textAreaLeft" fmla="*/ 0 w 144360"/>
              <a:gd name="textAreaRight" fmla="*/ 144720 w 1443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44781" h="15241">
                <a:moveTo>
                  <a:pt x="0" y="15240"/>
                </a:moveTo>
                <a:lnTo>
                  <a:pt x="41141" y="15240"/>
                </a:lnTo>
                <a:lnTo>
                  <a:pt x="46901" y="14394"/>
                </a:lnTo>
                <a:lnTo>
                  <a:pt x="52434" y="12983"/>
                </a:lnTo>
                <a:lnTo>
                  <a:pt x="57816" y="11195"/>
                </a:lnTo>
                <a:lnTo>
                  <a:pt x="63097" y="10003"/>
                </a:lnTo>
                <a:lnTo>
                  <a:pt x="68312" y="9209"/>
                </a:lnTo>
                <a:lnTo>
                  <a:pt x="73481" y="8679"/>
                </a:lnTo>
                <a:lnTo>
                  <a:pt x="80314" y="8326"/>
                </a:lnTo>
                <a:lnTo>
                  <a:pt x="96937" y="7934"/>
                </a:lnTo>
                <a:lnTo>
                  <a:pt x="117246" y="7713"/>
                </a:lnTo>
                <a:lnTo>
                  <a:pt x="123037" y="6836"/>
                </a:lnTo>
                <a:lnTo>
                  <a:pt x="128592" y="5404"/>
                </a:lnTo>
                <a:lnTo>
                  <a:pt x="1447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MARTInkAnnotation276"/>
          <p:cNvSpPr/>
          <p:nvPr/>
        </p:nvSpPr>
        <p:spPr>
          <a:xfrm>
            <a:off x="3102120" y="4724280"/>
            <a:ext cx="75960" cy="282600"/>
          </a:xfrm>
          <a:custGeom>
            <a:avLst/>
            <a:gdLst>
              <a:gd name="textAreaLeft" fmla="*/ 0 w 75960"/>
              <a:gd name="textAreaRight" fmla="*/ 76320 w 759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75774" h="281941">
                <a:moveTo>
                  <a:pt x="75773" y="0"/>
                </a:moveTo>
                <a:lnTo>
                  <a:pt x="68180" y="0"/>
                </a:lnTo>
                <a:lnTo>
                  <a:pt x="68154" y="24473"/>
                </a:lnTo>
                <a:lnTo>
                  <a:pt x="65896" y="32326"/>
                </a:lnTo>
                <a:lnTo>
                  <a:pt x="64108" y="36791"/>
                </a:lnTo>
                <a:lnTo>
                  <a:pt x="59864" y="48525"/>
                </a:lnTo>
                <a:lnTo>
                  <a:pt x="35122" y="121969"/>
                </a:lnTo>
                <a:lnTo>
                  <a:pt x="31738" y="129573"/>
                </a:lnTo>
                <a:lnTo>
                  <a:pt x="27790" y="137182"/>
                </a:lnTo>
                <a:lnTo>
                  <a:pt x="23464" y="144795"/>
                </a:lnTo>
                <a:lnTo>
                  <a:pt x="20581" y="152410"/>
                </a:lnTo>
                <a:lnTo>
                  <a:pt x="18659" y="160026"/>
                </a:lnTo>
                <a:lnTo>
                  <a:pt x="17377" y="167644"/>
                </a:lnTo>
                <a:lnTo>
                  <a:pt x="15675" y="175263"/>
                </a:lnTo>
                <a:lnTo>
                  <a:pt x="13695" y="182882"/>
                </a:lnTo>
                <a:lnTo>
                  <a:pt x="11528" y="190501"/>
                </a:lnTo>
                <a:lnTo>
                  <a:pt x="6862" y="205741"/>
                </a:lnTo>
                <a:lnTo>
                  <a:pt x="4432" y="213361"/>
                </a:lnTo>
                <a:lnTo>
                  <a:pt x="2812" y="220133"/>
                </a:lnTo>
                <a:lnTo>
                  <a:pt x="1733" y="226342"/>
                </a:lnTo>
                <a:lnTo>
                  <a:pt x="1013" y="232175"/>
                </a:lnTo>
                <a:lnTo>
                  <a:pt x="533" y="237757"/>
                </a:lnTo>
                <a:lnTo>
                  <a:pt x="213" y="243171"/>
                </a:lnTo>
                <a:lnTo>
                  <a:pt x="0" y="248474"/>
                </a:lnTo>
                <a:lnTo>
                  <a:pt x="704" y="252856"/>
                </a:lnTo>
                <a:lnTo>
                  <a:pt x="2020" y="256624"/>
                </a:lnTo>
                <a:lnTo>
                  <a:pt x="3745" y="259983"/>
                </a:lnTo>
                <a:lnTo>
                  <a:pt x="5661" y="265973"/>
                </a:lnTo>
                <a:lnTo>
                  <a:pt x="6739" y="274105"/>
                </a:lnTo>
                <a:lnTo>
                  <a:pt x="7193" y="2819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MARTInkAnnotation277"/>
          <p:cNvSpPr/>
          <p:nvPr/>
        </p:nvSpPr>
        <p:spPr>
          <a:xfrm>
            <a:off x="3278160" y="4716360"/>
            <a:ext cx="150840" cy="150840"/>
          </a:xfrm>
          <a:custGeom>
            <a:avLst/>
            <a:gdLst>
              <a:gd name="textAreaLeft" fmla="*/ 0 w 150840"/>
              <a:gd name="textAreaRight" fmla="*/ 151200 w 1508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51032" h="150782">
                <a:moveTo>
                  <a:pt x="128631" y="7611"/>
                </a:moveTo>
                <a:lnTo>
                  <a:pt x="128631" y="305"/>
                </a:lnTo>
                <a:lnTo>
                  <a:pt x="133021" y="53"/>
                </a:lnTo>
                <a:lnTo>
                  <a:pt x="129461" y="10"/>
                </a:lnTo>
                <a:lnTo>
                  <a:pt x="125331" y="0"/>
                </a:lnTo>
                <a:lnTo>
                  <a:pt x="123044" y="844"/>
                </a:lnTo>
                <a:lnTo>
                  <a:pt x="120674" y="2253"/>
                </a:lnTo>
                <a:lnTo>
                  <a:pt x="118246" y="4039"/>
                </a:lnTo>
                <a:lnTo>
                  <a:pt x="114088" y="6076"/>
                </a:lnTo>
                <a:lnTo>
                  <a:pt x="108775" y="8282"/>
                </a:lnTo>
                <a:lnTo>
                  <a:pt x="102694" y="10598"/>
                </a:lnTo>
                <a:lnTo>
                  <a:pt x="96947" y="13836"/>
                </a:lnTo>
                <a:lnTo>
                  <a:pt x="91421" y="17688"/>
                </a:lnTo>
                <a:lnTo>
                  <a:pt x="86045" y="21949"/>
                </a:lnTo>
                <a:lnTo>
                  <a:pt x="79073" y="26483"/>
                </a:lnTo>
                <a:lnTo>
                  <a:pt x="71039" y="31199"/>
                </a:lnTo>
                <a:lnTo>
                  <a:pt x="62296" y="36036"/>
                </a:lnTo>
                <a:lnTo>
                  <a:pt x="54775" y="40955"/>
                </a:lnTo>
                <a:lnTo>
                  <a:pt x="48067" y="45927"/>
                </a:lnTo>
                <a:lnTo>
                  <a:pt x="41902" y="50935"/>
                </a:lnTo>
                <a:lnTo>
                  <a:pt x="36098" y="56814"/>
                </a:lnTo>
                <a:lnTo>
                  <a:pt x="30536" y="63273"/>
                </a:lnTo>
                <a:lnTo>
                  <a:pt x="25134" y="70119"/>
                </a:lnTo>
                <a:lnTo>
                  <a:pt x="19840" y="76377"/>
                </a:lnTo>
                <a:lnTo>
                  <a:pt x="14617" y="82241"/>
                </a:lnTo>
                <a:lnTo>
                  <a:pt x="9442" y="87845"/>
                </a:lnTo>
                <a:lnTo>
                  <a:pt x="5992" y="93273"/>
                </a:lnTo>
                <a:lnTo>
                  <a:pt x="3691" y="98586"/>
                </a:lnTo>
                <a:lnTo>
                  <a:pt x="2158" y="103821"/>
                </a:lnTo>
                <a:lnTo>
                  <a:pt x="1136" y="108158"/>
                </a:lnTo>
                <a:lnTo>
                  <a:pt x="454" y="111895"/>
                </a:lnTo>
                <a:lnTo>
                  <a:pt x="0" y="115234"/>
                </a:lnTo>
                <a:lnTo>
                  <a:pt x="1390" y="119153"/>
                </a:lnTo>
                <a:lnTo>
                  <a:pt x="4011" y="123459"/>
                </a:lnTo>
                <a:lnTo>
                  <a:pt x="7451" y="128023"/>
                </a:lnTo>
                <a:lnTo>
                  <a:pt x="11438" y="131912"/>
                </a:lnTo>
                <a:lnTo>
                  <a:pt x="15789" y="135352"/>
                </a:lnTo>
                <a:lnTo>
                  <a:pt x="20383" y="138491"/>
                </a:lnTo>
                <a:lnTo>
                  <a:pt x="25139" y="141431"/>
                </a:lnTo>
                <a:lnTo>
                  <a:pt x="30003" y="144238"/>
                </a:lnTo>
                <a:lnTo>
                  <a:pt x="34940" y="146956"/>
                </a:lnTo>
                <a:lnTo>
                  <a:pt x="41616" y="148768"/>
                </a:lnTo>
                <a:lnTo>
                  <a:pt x="49455" y="149976"/>
                </a:lnTo>
                <a:lnTo>
                  <a:pt x="58066" y="150781"/>
                </a:lnTo>
                <a:lnTo>
                  <a:pt x="65502" y="150471"/>
                </a:lnTo>
                <a:lnTo>
                  <a:pt x="72151" y="149417"/>
                </a:lnTo>
                <a:lnTo>
                  <a:pt x="78278" y="147869"/>
                </a:lnTo>
                <a:lnTo>
                  <a:pt x="84902" y="145990"/>
                </a:lnTo>
                <a:lnTo>
                  <a:pt x="99036" y="141644"/>
                </a:lnTo>
                <a:lnTo>
                  <a:pt x="105514" y="138453"/>
                </a:lnTo>
                <a:lnTo>
                  <a:pt x="111527" y="134632"/>
                </a:lnTo>
                <a:lnTo>
                  <a:pt x="117228" y="130392"/>
                </a:lnTo>
                <a:lnTo>
                  <a:pt x="121876" y="125872"/>
                </a:lnTo>
                <a:lnTo>
                  <a:pt x="125820" y="121165"/>
                </a:lnTo>
                <a:lnTo>
                  <a:pt x="129297" y="116334"/>
                </a:lnTo>
                <a:lnTo>
                  <a:pt x="132462" y="111420"/>
                </a:lnTo>
                <a:lnTo>
                  <a:pt x="135419" y="106450"/>
                </a:lnTo>
                <a:lnTo>
                  <a:pt x="138236" y="101444"/>
                </a:lnTo>
                <a:lnTo>
                  <a:pt x="143624" y="91366"/>
                </a:lnTo>
                <a:lnTo>
                  <a:pt x="146247" y="86307"/>
                </a:lnTo>
                <a:lnTo>
                  <a:pt x="147995" y="81242"/>
                </a:lnTo>
                <a:lnTo>
                  <a:pt x="149160" y="76172"/>
                </a:lnTo>
                <a:lnTo>
                  <a:pt x="149937" y="71098"/>
                </a:lnTo>
                <a:lnTo>
                  <a:pt x="150455" y="66023"/>
                </a:lnTo>
                <a:lnTo>
                  <a:pt x="150800" y="60946"/>
                </a:lnTo>
                <a:lnTo>
                  <a:pt x="151031" y="55867"/>
                </a:lnTo>
                <a:lnTo>
                  <a:pt x="150337" y="51635"/>
                </a:lnTo>
                <a:lnTo>
                  <a:pt x="149029" y="47967"/>
                </a:lnTo>
                <a:lnTo>
                  <a:pt x="143871" y="380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MARTInkAnnotation278"/>
          <p:cNvSpPr/>
          <p:nvPr/>
        </p:nvSpPr>
        <p:spPr>
          <a:xfrm>
            <a:off x="3290760" y="4876920"/>
            <a:ext cx="144720" cy="142920"/>
          </a:xfrm>
          <a:custGeom>
            <a:avLst/>
            <a:gdLst>
              <a:gd name="textAreaLeft" fmla="*/ 0 w 144720"/>
              <a:gd name="textAreaRight" fmla="*/ 144720 w 144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4505" h="142895">
                <a:moveTo>
                  <a:pt x="115577" y="0"/>
                </a:moveTo>
                <a:lnTo>
                  <a:pt x="104226" y="0"/>
                </a:lnTo>
                <a:lnTo>
                  <a:pt x="101236" y="846"/>
                </a:lnTo>
                <a:lnTo>
                  <a:pt x="97550" y="2258"/>
                </a:lnTo>
                <a:lnTo>
                  <a:pt x="93399" y="4045"/>
                </a:lnTo>
                <a:lnTo>
                  <a:pt x="88938" y="5237"/>
                </a:lnTo>
                <a:lnTo>
                  <a:pt x="84271" y="6031"/>
                </a:lnTo>
                <a:lnTo>
                  <a:pt x="79466" y="6561"/>
                </a:lnTo>
                <a:lnTo>
                  <a:pt x="74570" y="7760"/>
                </a:lnTo>
                <a:lnTo>
                  <a:pt x="69613" y="9408"/>
                </a:lnTo>
                <a:lnTo>
                  <a:pt x="64614" y="11352"/>
                </a:lnTo>
                <a:lnTo>
                  <a:pt x="58741" y="14341"/>
                </a:lnTo>
                <a:lnTo>
                  <a:pt x="52286" y="18027"/>
                </a:lnTo>
                <a:lnTo>
                  <a:pt x="45444" y="22178"/>
                </a:lnTo>
                <a:lnTo>
                  <a:pt x="39188" y="25792"/>
                </a:lnTo>
                <a:lnTo>
                  <a:pt x="27722" y="32065"/>
                </a:lnTo>
                <a:lnTo>
                  <a:pt x="23141" y="36617"/>
                </a:lnTo>
                <a:lnTo>
                  <a:pt x="19239" y="42191"/>
                </a:lnTo>
                <a:lnTo>
                  <a:pt x="15792" y="48447"/>
                </a:lnTo>
                <a:lnTo>
                  <a:pt x="11800" y="54312"/>
                </a:lnTo>
                <a:lnTo>
                  <a:pt x="7446" y="59915"/>
                </a:lnTo>
                <a:lnTo>
                  <a:pt x="2850" y="65343"/>
                </a:lnTo>
                <a:lnTo>
                  <a:pt x="632" y="70655"/>
                </a:lnTo>
                <a:lnTo>
                  <a:pt x="0" y="75891"/>
                </a:lnTo>
                <a:lnTo>
                  <a:pt x="426" y="81074"/>
                </a:lnTo>
                <a:lnTo>
                  <a:pt x="2403" y="87069"/>
                </a:lnTo>
                <a:lnTo>
                  <a:pt x="5414" y="93606"/>
                </a:lnTo>
                <a:lnTo>
                  <a:pt x="9115" y="100504"/>
                </a:lnTo>
                <a:lnTo>
                  <a:pt x="12430" y="105949"/>
                </a:lnTo>
                <a:lnTo>
                  <a:pt x="15485" y="110426"/>
                </a:lnTo>
                <a:lnTo>
                  <a:pt x="18369" y="114258"/>
                </a:lnTo>
                <a:lnTo>
                  <a:pt x="22832" y="118505"/>
                </a:lnTo>
                <a:lnTo>
                  <a:pt x="28347" y="123030"/>
                </a:lnTo>
                <a:lnTo>
                  <a:pt x="34563" y="127740"/>
                </a:lnTo>
                <a:lnTo>
                  <a:pt x="41248" y="131727"/>
                </a:lnTo>
                <a:lnTo>
                  <a:pt x="48244" y="135231"/>
                </a:lnTo>
                <a:lnTo>
                  <a:pt x="55449" y="138414"/>
                </a:lnTo>
                <a:lnTo>
                  <a:pt x="61944" y="140536"/>
                </a:lnTo>
                <a:lnTo>
                  <a:pt x="67969" y="141951"/>
                </a:lnTo>
                <a:lnTo>
                  <a:pt x="73678" y="142894"/>
                </a:lnTo>
                <a:lnTo>
                  <a:pt x="80025" y="142676"/>
                </a:lnTo>
                <a:lnTo>
                  <a:pt x="86796" y="141684"/>
                </a:lnTo>
                <a:lnTo>
                  <a:pt x="93849" y="140176"/>
                </a:lnTo>
                <a:lnTo>
                  <a:pt x="100245" y="137478"/>
                </a:lnTo>
                <a:lnTo>
                  <a:pt x="106203" y="133985"/>
                </a:lnTo>
                <a:lnTo>
                  <a:pt x="111868" y="129963"/>
                </a:lnTo>
                <a:lnTo>
                  <a:pt x="116491" y="126436"/>
                </a:lnTo>
                <a:lnTo>
                  <a:pt x="120419" y="123237"/>
                </a:lnTo>
                <a:lnTo>
                  <a:pt x="123886" y="120258"/>
                </a:lnTo>
                <a:lnTo>
                  <a:pt x="127042" y="115732"/>
                </a:lnTo>
                <a:lnTo>
                  <a:pt x="129994" y="110175"/>
                </a:lnTo>
                <a:lnTo>
                  <a:pt x="132808" y="103930"/>
                </a:lnTo>
                <a:lnTo>
                  <a:pt x="135531" y="97227"/>
                </a:lnTo>
                <a:lnTo>
                  <a:pt x="138194" y="90218"/>
                </a:lnTo>
                <a:lnTo>
                  <a:pt x="140815" y="83005"/>
                </a:lnTo>
                <a:lnTo>
                  <a:pt x="142562" y="76503"/>
                </a:lnTo>
                <a:lnTo>
                  <a:pt x="143727" y="70476"/>
                </a:lnTo>
                <a:lnTo>
                  <a:pt x="144504" y="64763"/>
                </a:lnTo>
                <a:lnTo>
                  <a:pt x="144175" y="58416"/>
                </a:lnTo>
                <a:lnTo>
                  <a:pt x="143109" y="51644"/>
                </a:lnTo>
                <a:lnTo>
                  <a:pt x="141552" y="44590"/>
                </a:lnTo>
                <a:lnTo>
                  <a:pt x="139667" y="39039"/>
                </a:lnTo>
                <a:lnTo>
                  <a:pt x="137564" y="34493"/>
                </a:lnTo>
                <a:lnTo>
                  <a:pt x="135315" y="30616"/>
                </a:lnTo>
                <a:lnTo>
                  <a:pt x="133816" y="27184"/>
                </a:lnTo>
                <a:lnTo>
                  <a:pt x="132816" y="24049"/>
                </a:lnTo>
                <a:lnTo>
                  <a:pt x="132150" y="21113"/>
                </a:lnTo>
                <a:lnTo>
                  <a:pt x="130859" y="18309"/>
                </a:lnTo>
                <a:lnTo>
                  <a:pt x="129152" y="15592"/>
                </a:lnTo>
                <a:lnTo>
                  <a:pt x="123197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MARTInkAnnotation279"/>
          <p:cNvSpPr/>
          <p:nvPr/>
        </p:nvSpPr>
        <p:spPr>
          <a:xfrm>
            <a:off x="1158840" y="5478480"/>
            <a:ext cx="609480" cy="272880"/>
          </a:xfrm>
          <a:custGeom>
            <a:avLst/>
            <a:gdLst>
              <a:gd name="textAreaLeft" fmla="*/ 0 w 609480"/>
              <a:gd name="textAreaRight" fmla="*/ 609840 w 60948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609044" h="272681">
                <a:moveTo>
                  <a:pt x="22451" y="68580"/>
                </a:moveTo>
                <a:lnTo>
                  <a:pt x="22451" y="72625"/>
                </a:lnTo>
                <a:lnTo>
                  <a:pt x="21604" y="74663"/>
                </a:lnTo>
                <a:lnTo>
                  <a:pt x="15890" y="82447"/>
                </a:lnTo>
                <a:lnTo>
                  <a:pt x="15302" y="87726"/>
                </a:lnTo>
                <a:lnTo>
                  <a:pt x="15145" y="91504"/>
                </a:lnTo>
                <a:lnTo>
                  <a:pt x="14194" y="95716"/>
                </a:lnTo>
                <a:lnTo>
                  <a:pt x="12713" y="100217"/>
                </a:lnTo>
                <a:lnTo>
                  <a:pt x="10879" y="104911"/>
                </a:lnTo>
                <a:lnTo>
                  <a:pt x="8809" y="109734"/>
                </a:lnTo>
                <a:lnTo>
                  <a:pt x="4252" y="119609"/>
                </a:lnTo>
                <a:lnTo>
                  <a:pt x="2699" y="125459"/>
                </a:lnTo>
                <a:lnTo>
                  <a:pt x="1663" y="131900"/>
                </a:lnTo>
                <a:lnTo>
                  <a:pt x="972" y="138733"/>
                </a:lnTo>
                <a:lnTo>
                  <a:pt x="512" y="144982"/>
                </a:lnTo>
                <a:lnTo>
                  <a:pt x="205" y="150841"/>
                </a:lnTo>
                <a:lnTo>
                  <a:pt x="0" y="156441"/>
                </a:lnTo>
                <a:lnTo>
                  <a:pt x="1557" y="162714"/>
                </a:lnTo>
                <a:lnTo>
                  <a:pt x="4288" y="169436"/>
                </a:lnTo>
                <a:lnTo>
                  <a:pt x="7802" y="176457"/>
                </a:lnTo>
                <a:lnTo>
                  <a:pt x="10992" y="183678"/>
                </a:lnTo>
                <a:lnTo>
                  <a:pt x="13965" y="191032"/>
                </a:lnTo>
                <a:lnTo>
                  <a:pt x="16794" y="198475"/>
                </a:lnTo>
                <a:lnTo>
                  <a:pt x="20373" y="205130"/>
                </a:lnTo>
                <a:lnTo>
                  <a:pt x="24452" y="211260"/>
                </a:lnTo>
                <a:lnTo>
                  <a:pt x="28865" y="217040"/>
                </a:lnTo>
                <a:lnTo>
                  <a:pt x="34347" y="222586"/>
                </a:lnTo>
                <a:lnTo>
                  <a:pt x="40542" y="227977"/>
                </a:lnTo>
                <a:lnTo>
                  <a:pt x="47211" y="233266"/>
                </a:lnTo>
                <a:lnTo>
                  <a:pt x="54198" y="238484"/>
                </a:lnTo>
                <a:lnTo>
                  <a:pt x="68734" y="248797"/>
                </a:lnTo>
                <a:lnTo>
                  <a:pt x="85919" y="256768"/>
                </a:lnTo>
                <a:lnTo>
                  <a:pt x="95243" y="260079"/>
                </a:lnTo>
                <a:lnTo>
                  <a:pt x="105692" y="263132"/>
                </a:lnTo>
                <a:lnTo>
                  <a:pt x="116892" y="266015"/>
                </a:lnTo>
                <a:lnTo>
                  <a:pt x="128592" y="268783"/>
                </a:lnTo>
                <a:lnTo>
                  <a:pt x="139778" y="270630"/>
                </a:lnTo>
                <a:lnTo>
                  <a:pt x="150623" y="271859"/>
                </a:lnTo>
                <a:lnTo>
                  <a:pt x="161239" y="272680"/>
                </a:lnTo>
                <a:lnTo>
                  <a:pt x="171703" y="272380"/>
                </a:lnTo>
                <a:lnTo>
                  <a:pt x="182066" y="271333"/>
                </a:lnTo>
                <a:lnTo>
                  <a:pt x="192361" y="269789"/>
                </a:lnTo>
                <a:lnTo>
                  <a:pt x="210573" y="263557"/>
                </a:lnTo>
                <a:lnTo>
                  <a:pt x="218986" y="259525"/>
                </a:lnTo>
                <a:lnTo>
                  <a:pt x="227134" y="254297"/>
                </a:lnTo>
                <a:lnTo>
                  <a:pt x="235107" y="248271"/>
                </a:lnTo>
                <a:lnTo>
                  <a:pt x="242961" y="241714"/>
                </a:lnTo>
                <a:lnTo>
                  <a:pt x="250738" y="234802"/>
                </a:lnTo>
                <a:lnTo>
                  <a:pt x="266152" y="220350"/>
                </a:lnTo>
                <a:lnTo>
                  <a:pt x="272125" y="212940"/>
                </a:lnTo>
                <a:lnTo>
                  <a:pt x="276954" y="205460"/>
                </a:lnTo>
                <a:lnTo>
                  <a:pt x="281019" y="197934"/>
                </a:lnTo>
                <a:lnTo>
                  <a:pt x="284577" y="189529"/>
                </a:lnTo>
                <a:lnTo>
                  <a:pt x="287795" y="180539"/>
                </a:lnTo>
                <a:lnTo>
                  <a:pt x="299043" y="145823"/>
                </a:lnTo>
                <a:lnTo>
                  <a:pt x="300826" y="138702"/>
                </a:lnTo>
                <a:lnTo>
                  <a:pt x="302014" y="132262"/>
                </a:lnTo>
                <a:lnTo>
                  <a:pt x="302806" y="126274"/>
                </a:lnTo>
                <a:lnTo>
                  <a:pt x="302488" y="120589"/>
                </a:lnTo>
                <a:lnTo>
                  <a:pt x="301429" y="115106"/>
                </a:lnTo>
                <a:lnTo>
                  <a:pt x="299876" y="109758"/>
                </a:lnTo>
                <a:lnTo>
                  <a:pt x="298151" y="101557"/>
                </a:lnTo>
                <a:lnTo>
                  <a:pt x="297691" y="98184"/>
                </a:lnTo>
                <a:lnTo>
                  <a:pt x="296538" y="95090"/>
                </a:lnTo>
                <a:lnTo>
                  <a:pt x="291716" y="87536"/>
                </a:lnTo>
                <a:lnTo>
                  <a:pt x="290291" y="85471"/>
                </a:lnTo>
                <a:lnTo>
                  <a:pt x="290758" y="85768"/>
                </a:lnTo>
                <a:lnTo>
                  <a:pt x="297590" y="92326"/>
                </a:lnTo>
                <a:lnTo>
                  <a:pt x="325205" y="119878"/>
                </a:lnTo>
                <a:lnTo>
                  <a:pt x="331814" y="125639"/>
                </a:lnTo>
                <a:lnTo>
                  <a:pt x="339606" y="132019"/>
                </a:lnTo>
                <a:lnTo>
                  <a:pt x="357295" y="145882"/>
                </a:lnTo>
                <a:lnTo>
                  <a:pt x="406268" y="183026"/>
                </a:lnTo>
                <a:lnTo>
                  <a:pt x="417182" y="189751"/>
                </a:lnTo>
                <a:lnTo>
                  <a:pt x="428692" y="195927"/>
                </a:lnTo>
                <a:lnTo>
                  <a:pt x="473536" y="218007"/>
                </a:lnTo>
                <a:lnTo>
                  <a:pt x="484888" y="222384"/>
                </a:lnTo>
                <a:lnTo>
                  <a:pt x="496689" y="226150"/>
                </a:lnTo>
                <a:lnTo>
                  <a:pt x="508790" y="229506"/>
                </a:lnTo>
                <a:lnTo>
                  <a:pt x="519397" y="231745"/>
                </a:lnTo>
                <a:lnTo>
                  <a:pt x="537956" y="234231"/>
                </a:lnTo>
                <a:lnTo>
                  <a:pt x="554671" y="233078"/>
                </a:lnTo>
                <a:lnTo>
                  <a:pt x="562684" y="231585"/>
                </a:lnTo>
                <a:lnTo>
                  <a:pt x="576104" y="225412"/>
                </a:lnTo>
                <a:lnTo>
                  <a:pt x="582053" y="221395"/>
                </a:lnTo>
                <a:lnTo>
                  <a:pt x="586865" y="216176"/>
                </a:lnTo>
                <a:lnTo>
                  <a:pt x="590921" y="210157"/>
                </a:lnTo>
                <a:lnTo>
                  <a:pt x="594471" y="203605"/>
                </a:lnTo>
                <a:lnTo>
                  <a:pt x="597684" y="196696"/>
                </a:lnTo>
                <a:lnTo>
                  <a:pt x="600673" y="189551"/>
                </a:lnTo>
                <a:lnTo>
                  <a:pt x="603513" y="182247"/>
                </a:lnTo>
                <a:lnTo>
                  <a:pt x="605406" y="173992"/>
                </a:lnTo>
                <a:lnTo>
                  <a:pt x="606667" y="165101"/>
                </a:lnTo>
                <a:lnTo>
                  <a:pt x="607508" y="155788"/>
                </a:lnTo>
                <a:lnTo>
                  <a:pt x="608070" y="146192"/>
                </a:lnTo>
                <a:lnTo>
                  <a:pt x="608693" y="126499"/>
                </a:lnTo>
                <a:lnTo>
                  <a:pt x="609043" y="96372"/>
                </a:lnTo>
                <a:lnTo>
                  <a:pt x="608246" y="87108"/>
                </a:lnTo>
                <a:lnTo>
                  <a:pt x="606868" y="78392"/>
                </a:lnTo>
                <a:lnTo>
                  <a:pt x="605102" y="70042"/>
                </a:lnTo>
                <a:lnTo>
                  <a:pt x="603925" y="61935"/>
                </a:lnTo>
                <a:lnTo>
                  <a:pt x="603141" y="53989"/>
                </a:lnTo>
                <a:lnTo>
                  <a:pt x="602617" y="46153"/>
                </a:lnTo>
                <a:lnTo>
                  <a:pt x="601422" y="39236"/>
                </a:lnTo>
                <a:lnTo>
                  <a:pt x="599779" y="32930"/>
                </a:lnTo>
                <a:lnTo>
                  <a:pt x="597836" y="27034"/>
                </a:lnTo>
                <a:lnTo>
                  <a:pt x="596541" y="22256"/>
                </a:lnTo>
                <a:lnTo>
                  <a:pt x="595102" y="14689"/>
                </a:lnTo>
                <a:lnTo>
                  <a:pt x="594463" y="8504"/>
                </a:lnTo>
                <a:lnTo>
                  <a:pt x="59395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MARTInkAnnotation280"/>
          <p:cNvSpPr/>
          <p:nvPr/>
        </p:nvSpPr>
        <p:spPr>
          <a:xfrm>
            <a:off x="1920960" y="5562720"/>
            <a:ext cx="234720" cy="21960"/>
          </a:xfrm>
          <a:custGeom>
            <a:avLst/>
            <a:gdLst>
              <a:gd name="textAreaLeft" fmla="*/ 0 w 234720"/>
              <a:gd name="textAreaRight" fmla="*/ 235080 w 234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36221" h="22861">
                <a:moveTo>
                  <a:pt x="0" y="22860"/>
                </a:moveTo>
                <a:lnTo>
                  <a:pt x="4046" y="22860"/>
                </a:lnTo>
                <a:lnTo>
                  <a:pt x="6931" y="22013"/>
                </a:lnTo>
                <a:lnTo>
                  <a:pt x="10547" y="20602"/>
                </a:lnTo>
                <a:lnTo>
                  <a:pt x="14652" y="18815"/>
                </a:lnTo>
                <a:lnTo>
                  <a:pt x="19928" y="16776"/>
                </a:lnTo>
                <a:lnTo>
                  <a:pt x="32564" y="12255"/>
                </a:lnTo>
                <a:lnTo>
                  <a:pt x="39489" y="10710"/>
                </a:lnTo>
                <a:lnTo>
                  <a:pt x="46646" y="9679"/>
                </a:lnTo>
                <a:lnTo>
                  <a:pt x="53958" y="8993"/>
                </a:lnTo>
                <a:lnTo>
                  <a:pt x="62218" y="7689"/>
                </a:lnTo>
                <a:lnTo>
                  <a:pt x="71113" y="5973"/>
                </a:lnTo>
                <a:lnTo>
                  <a:pt x="80428" y="3982"/>
                </a:lnTo>
                <a:lnTo>
                  <a:pt x="90026" y="2654"/>
                </a:lnTo>
                <a:lnTo>
                  <a:pt x="99811" y="1770"/>
                </a:lnTo>
                <a:lnTo>
                  <a:pt x="109721" y="1180"/>
                </a:lnTo>
                <a:lnTo>
                  <a:pt x="127505" y="524"/>
                </a:lnTo>
                <a:lnTo>
                  <a:pt x="154055" y="156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MARTInkAnnotation281"/>
          <p:cNvSpPr/>
          <p:nvPr/>
        </p:nvSpPr>
        <p:spPr>
          <a:xfrm>
            <a:off x="1946160" y="5578560"/>
            <a:ext cx="279360" cy="38160"/>
          </a:xfrm>
          <a:custGeom>
            <a:avLst/>
            <a:gdLst>
              <a:gd name="textAreaLeft" fmla="*/ 0 w 279360"/>
              <a:gd name="textAreaRight" fmla="*/ 279720 w 2793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78711" h="38064">
                <a:moveTo>
                  <a:pt x="4390" y="15239"/>
                </a:moveTo>
                <a:lnTo>
                  <a:pt x="345" y="15239"/>
                </a:lnTo>
                <a:lnTo>
                  <a:pt x="0" y="16085"/>
                </a:lnTo>
                <a:lnTo>
                  <a:pt x="616" y="17497"/>
                </a:lnTo>
                <a:lnTo>
                  <a:pt x="3645" y="21800"/>
                </a:lnTo>
                <a:lnTo>
                  <a:pt x="4740" y="23000"/>
                </a:lnTo>
                <a:lnTo>
                  <a:pt x="8214" y="26591"/>
                </a:lnTo>
                <a:lnTo>
                  <a:pt x="11173" y="28734"/>
                </a:lnTo>
                <a:lnTo>
                  <a:pt x="14839" y="31009"/>
                </a:lnTo>
                <a:lnTo>
                  <a:pt x="18976" y="33372"/>
                </a:lnTo>
                <a:lnTo>
                  <a:pt x="24274" y="34947"/>
                </a:lnTo>
                <a:lnTo>
                  <a:pt x="30346" y="35999"/>
                </a:lnTo>
                <a:lnTo>
                  <a:pt x="36934" y="36698"/>
                </a:lnTo>
                <a:lnTo>
                  <a:pt x="43866" y="37165"/>
                </a:lnTo>
                <a:lnTo>
                  <a:pt x="51028" y="37476"/>
                </a:lnTo>
                <a:lnTo>
                  <a:pt x="66604" y="37822"/>
                </a:lnTo>
                <a:lnTo>
                  <a:pt x="118155" y="38063"/>
                </a:lnTo>
                <a:lnTo>
                  <a:pt x="130186" y="37228"/>
                </a:lnTo>
                <a:lnTo>
                  <a:pt x="142441" y="35825"/>
                </a:lnTo>
                <a:lnTo>
                  <a:pt x="154844" y="34043"/>
                </a:lnTo>
                <a:lnTo>
                  <a:pt x="168193" y="31162"/>
                </a:lnTo>
                <a:lnTo>
                  <a:pt x="182172" y="27548"/>
                </a:lnTo>
                <a:lnTo>
                  <a:pt x="209558" y="19863"/>
                </a:lnTo>
                <a:lnTo>
                  <a:pt x="243169" y="10777"/>
                </a:lnTo>
                <a:lnTo>
                  <a:pt x="27871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MARTInkAnnotation282"/>
          <p:cNvSpPr/>
          <p:nvPr/>
        </p:nvSpPr>
        <p:spPr>
          <a:xfrm>
            <a:off x="2293920" y="5357880"/>
            <a:ext cx="291960" cy="318960"/>
          </a:xfrm>
          <a:custGeom>
            <a:avLst/>
            <a:gdLst>
              <a:gd name="textAreaLeft" fmla="*/ 0 w 291960"/>
              <a:gd name="textAreaRight" fmla="*/ 292320 w 2919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90720" h="319553">
                <a:moveTo>
                  <a:pt x="75196" y="129052"/>
                </a:moveTo>
                <a:lnTo>
                  <a:pt x="75196" y="120962"/>
                </a:lnTo>
                <a:lnTo>
                  <a:pt x="76889" y="116038"/>
                </a:lnTo>
                <a:lnTo>
                  <a:pt x="79711" y="110216"/>
                </a:lnTo>
                <a:lnTo>
                  <a:pt x="88318" y="94758"/>
                </a:lnTo>
                <a:lnTo>
                  <a:pt x="91752" y="85870"/>
                </a:lnTo>
                <a:lnTo>
                  <a:pt x="93853" y="79944"/>
                </a:lnTo>
                <a:lnTo>
                  <a:pt x="96948" y="73453"/>
                </a:lnTo>
                <a:lnTo>
                  <a:pt x="100704" y="66587"/>
                </a:lnTo>
                <a:lnTo>
                  <a:pt x="104901" y="59469"/>
                </a:lnTo>
                <a:lnTo>
                  <a:pt x="109393" y="53030"/>
                </a:lnTo>
                <a:lnTo>
                  <a:pt x="114080" y="47044"/>
                </a:lnTo>
                <a:lnTo>
                  <a:pt x="118899" y="41360"/>
                </a:lnTo>
                <a:lnTo>
                  <a:pt x="122958" y="35877"/>
                </a:lnTo>
                <a:lnTo>
                  <a:pt x="126511" y="30529"/>
                </a:lnTo>
                <a:lnTo>
                  <a:pt x="131869" y="20918"/>
                </a:lnTo>
                <a:lnTo>
                  <a:pt x="134251" y="13824"/>
                </a:lnTo>
                <a:lnTo>
                  <a:pt x="137567" y="7849"/>
                </a:lnTo>
                <a:lnTo>
                  <a:pt x="139637" y="5070"/>
                </a:lnTo>
                <a:lnTo>
                  <a:pt x="141863" y="3217"/>
                </a:lnTo>
                <a:lnTo>
                  <a:pt x="144194" y="1983"/>
                </a:lnTo>
                <a:lnTo>
                  <a:pt x="149973" y="0"/>
                </a:lnTo>
                <a:lnTo>
                  <a:pt x="150448" y="684"/>
                </a:lnTo>
                <a:lnTo>
                  <a:pt x="150974" y="3702"/>
                </a:lnTo>
                <a:lnTo>
                  <a:pt x="149422" y="4846"/>
                </a:lnTo>
                <a:lnTo>
                  <a:pt x="143181" y="6116"/>
                </a:lnTo>
                <a:lnTo>
                  <a:pt x="139993" y="8148"/>
                </a:lnTo>
                <a:lnTo>
                  <a:pt x="134192" y="14922"/>
                </a:lnTo>
                <a:lnTo>
                  <a:pt x="129767" y="19945"/>
                </a:lnTo>
                <a:lnTo>
                  <a:pt x="118076" y="32300"/>
                </a:lnTo>
                <a:lnTo>
                  <a:pt x="97215" y="53536"/>
                </a:lnTo>
                <a:lnTo>
                  <a:pt x="89028" y="60928"/>
                </a:lnTo>
                <a:lnTo>
                  <a:pt x="80184" y="68396"/>
                </a:lnTo>
                <a:lnTo>
                  <a:pt x="70901" y="75915"/>
                </a:lnTo>
                <a:lnTo>
                  <a:pt x="63020" y="84314"/>
                </a:lnTo>
                <a:lnTo>
                  <a:pt x="56072" y="93300"/>
                </a:lnTo>
                <a:lnTo>
                  <a:pt x="49747" y="102678"/>
                </a:lnTo>
                <a:lnTo>
                  <a:pt x="42990" y="111469"/>
                </a:lnTo>
                <a:lnTo>
                  <a:pt x="35945" y="119870"/>
                </a:lnTo>
                <a:lnTo>
                  <a:pt x="28709" y="128011"/>
                </a:lnTo>
                <a:lnTo>
                  <a:pt x="22191" y="137672"/>
                </a:lnTo>
                <a:lnTo>
                  <a:pt x="16153" y="148345"/>
                </a:lnTo>
                <a:lnTo>
                  <a:pt x="10434" y="159694"/>
                </a:lnTo>
                <a:lnTo>
                  <a:pt x="6621" y="169800"/>
                </a:lnTo>
                <a:lnTo>
                  <a:pt x="4079" y="179078"/>
                </a:lnTo>
                <a:lnTo>
                  <a:pt x="2385" y="187803"/>
                </a:lnTo>
                <a:lnTo>
                  <a:pt x="1256" y="197006"/>
                </a:lnTo>
                <a:lnTo>
                  <a:pt x="502" y="206528"/>
                </a:lnTo>
                <a:lnTo>
                  <a:pt x="0" y="216263"/>
                </a:lnTo>
                <a:lnTo>
                  <a:pt x="512" y="225292"/>
                </a:lnTo>
                <a:lnTo>
                  <a:pt x="1700" y="233853"/>
                </a:lnTo>
                <a:lnTo>
                  <a:pt x="3339" y="242099"/>
                </a:lnTo>
                <a:lnTo>
                  <a:pt x="6124" y="250137"/>
                </a:lnTo>
                <a:lnTo>
                  <a:pt x="9675" y="258036"/>
                </a:lnTo>
                <a:lnTo>
                  <a:pt x="13735" y="265841"/>
                </a:lnTo>
                <a:lnTo>
                  <a:pt x="18982" y="272738"/>
                </a:lnTo>
                <a:lnTo>
                  <a:pt x="25020" y="279030"/>
                </a:lnTo>
                <a:lnTo>
                  <a:pt x="31585" y="284917"/>
                </a:lnTo>
                <a:lnTo>
                  <a:pt x="39349" y="289689"/>
                </a:lnTo>
                <a:lnTo>
                  <a:pt x="47911" y="293716"/>
                </a:lnTo>
                <a:lnTo>
                  <a:pt x="57006" y="297249"/>
                </a:lnTo>
                <a:lnTo>
                  <a:pt x="67303" y="300450"/>
                </a:lnTo>
                <a:lnTo>
                  <a:pt x="78400" y="303430"/>
                </a:lnTo>
                <a:lnTo>
                  <a:pt x="90032" y="306264"/>
                </a:lnTo>
                <a:lnTo>
                  <a:pt x="101173" y="307307"/>
                </a:lnTo>
                <a:lnTo>
                  <a:pt x="111988" y="307155"/>
                </a:lnTo>
                <a:lnTo>
                  <a:pt x="122584" y="306207"/>
                </a:lnTo>
                <a:lnTo>
                  <a:pt x="133881" y="304729"/>
                </a:lnTo>
                <a:lnTo>
                  <a:pt x="145646" y="302897"/>
                </a:lnTo>
                <a:lnTo>
                  <a:pt x="157723" y="300828"/>
                </a:lnTo>
                <a:lnTo>
                  <a:pt x="170007" y="297756"/>
                </a:lnTo>
                <a:lnTo>
                  <a:pt x="182430" y="294015"/>
                </a:lnTo>
                <a:lnTo>
                  <a:pt x="194945" y="289828"/>
                </a:lnTo>
                <a:lnTo>
                  <a:pt x="206676" y="285342"/>
                </a:lnTo>
                <a:lnTo>
                  <a:pt x="217883" y="280659"/>
                </a:lnTo>
                <a:lnTo>
                  <a:pt x="228740" y="275843"/>
                </a:lnTo>
                <a:lnTo>
                  <a:pt x="238519" y="270093"/>
                </a:lnTo>
                <a:lnTo>
                  <a:pt x="247578" y="263719"/>
                </a:lnTo>
                <a:lnTo>
                  <a:pt x="256157" y="256931"/>
                </a:lnTo>
                <a:lnTo>
                  <a:pt x="263570" y="249864"/>
                </a:lnTo>
                <a:lnTo>
                  <a:pt x="270205" y="242613"/>
                </a:lnTo>
                <a:lnTo>
                  <a:pt x="276322" y="235240"/>
                </a:lnTo>
                <a:lnTo>
                  <a:pt x="281247" y="228630"/>
                </a:lnTo>
                <a:lnTo>
                  <a:pt x="285376" y="222531"/>
                </a:lnTo>
                <a:lnTo>
                  <a:pt x="288976" y="216772"/>
                </a:lnTo>
                <a:lnTo>
                  <a:pt x="290530" y="210392"/>
                </a:lnTo>
                <a:lnTo>
                  <a:pt x="290719" y="203599"/>
                </a:lnTo>
                <a:lnTo>
                  <a:pt x="289998" y="196530"/>
                </a:lnTo>
                <a:lnTo>
                  <a:pt x="288670" y="190971"/>
                </a:lnTo>
                <a:lnTo>
                  <a:pt x="284938" y="182536"/>
                </a:lnTo>
                <a:lnTo>
                  <a:pt x="278077" y="173028"/>
                </a:lnTo>
                <a:lnTo>
                  <a:pt x="274796" y="171070"/>
                </a:lnTo>
                <a:lnTo>
                  <a:pt x="266636" y="168893"/>
                </a:lnTo>
                <a:lnTo>
                  <a:pt x="261243" y="168313"/>
                </a:lnTo>
                <a:lnTo>
                  <a:pt x="255107" y="167926"/>
                </a:lnTo>
                <a:lnTo>
                  <a:pt x="248477" y="167668"/>
                </a:lnTo>
                <a:lnTo>
                  <a:pt x="242363" y="169189"/>
                </a:lnTo>
                <a:lnTo>
                  <a:pt x="236594" y="171897"/>
                </a:lnTo>
                <a:lnTo>
                  <a:pt x="231054" y="175396"/>
                </a:lnTo>
                <a:lnTo>
                  <a:pt x="222642" y="183798"/>
                </a:lnTo>
                <a:lnTo>
                  <a:pt x="219213" y="188409"/>
                </a:lnTo>
                <a:lnTo>
                  <a:pt x="210888" y="200306"/>
                </a:lnTo>
                <a:lnTo>
                  <a:pt x="206298" y="207035"/>
                </a:lnTo>
                <a:lnTo>
                  <a:pt x="203237" y="214061"/>
                </a:lnTo>
                <a:lnTo>
                  <a:pt x="201197" y="221284"/>
                </a:lnTo>
                <a:lnTo>
                  <a:pt x="199836" y="228641"/>
                </a:lnTo>
                <a:lnTo>
                  <a:pt x="199776" y="236931"/>
                </a:lnTo>
                <a:lnTo>
                  <a:pt x="200583" y="245844"/>
                </a:lnTo>
                <a:lnTo>
                  <a:pt x="201967" y="255174"/>
                </a:lnTo>
                <a:lnTo>
                  <a:pt x="203737" y="263933"/>
                </a:lnTo>
                <a:lnTo>
                  <a:pt x="205763" y="272313"/>
                </a:lnTo>
                <a:lnTo>
                  <a:pt x="207960" y="280439"/>
                </a:lnTo>
                <a:lnTo>
                  <a:pt x="210272" y="287550"/>
                </a:lnTo>
                <a:lnTo>
                  <a:pt x="212660" y="293984"/>
                </a:lnTo>
                <a:lnTo>
                  <a:pt x="215099" y="299967"/>
                </a:lnTo>
                <a:lnTo>
                  <a:pt x="220066" y="308872"/>
                </a:lnTo>
                <a:lnTo>
                  <a:pt x="227596" y="3195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MARTInkAnnotation283"/>
          <p:cNvSpPr/>
          <p:nvPr/>
        </p:nvSpPr>
        <p:spPr>
          <a:xfrm>
            <a:off x="2827440" y="5402160"/>
            <a:ext cx="114120" cy="176400"/>
          </a:xfrm>
          <a:custGeom>
            <a:avLst/>
            <a:gdLst>
              <a:gd name="textAreaLeft" fmla="*/ 0 w 114120"/>
              <a:gd name="textAreaRight" fmla="*/ 114480 w 1141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14301" h="175262">
                <a:moveTo>
                  <a:pt x="0" y="0"/>
                </a:moveTo>
                <a:lnTo>
                  <a:pt x="4045" y="4045"/>
                </a:lnTo>
                <a:lnTo>
                  <a:pt x="5237" y="6083"/>
                </a:lnTo>
                <a:lnTo>
                  <a:pt x="7760" y="13844"/>
                </a:lnTo>
                <a:lnTo>
                  <a:pt x="9407" y="17696"/>
                </a:lnTo>
                <a:lnTo>
                  <a:pt x="13494" y="26491"/>
                </a:lnTo>
                <a:lnTo>
                  <a:pt x="25505" y="50944"/>
                </a:lnTo>
                <a:lnTo>
                  <a:pt x="28857" y="56822"/>
                </a:lnTo>
                <a:lnTo>
                  <a:pt x="32785" y="63282"/>
                </a:lnTo>
                <a:lnTo>
                  <a:pt x="37097" y="70128"/>
                </a:lnTo>
                <a:lnTo>
                  <a:pt x="40818" y="76386"/>
                </a:lnTo>
                <a:lnTo>
                  <a:pt x="44145" y="82251"/>
                </a:lnTo>
                <a:lnTo>
                  <a:pt x="50100" y="93283"/>
                </a:lnTo>
                <a:lnTo>
                  <a:pt x="55569" y="103830"/>
                </a:lnTo>
                <a:lnTo>
                  <a:pt x="58213" y="109860"/>
                </a:lnTo>
                <a:lnTo>
                  <a:pt x="60822" y="116420"/>
                </a:lnTo>
                <a:lnTo>
                  <a:pt x="63408" y="123334"/>
                </a:lnTo>
                <a:lnTo>
                  <a:pt x="66825" y="129636"/>
                </a:lnTo>
                <a:lnTo>
                  <a:pt x="70797" y="135531"/>
                </a:lnTo>
                <a:lnTo>
                  <a:pt x="75138" y="141154"/>
                </a:lnTo>
                <a:lnTo>
                  <a:pt x="79725" y="145750"/>
                </a:lnTo>
                <a:lnTo>
                  <a:pt x="84477" y="149660"/>
                </a:lnTo>
                <a:lnTo>
                  <a:pt x="89338" y="153113"/>
                </a:lnTo>
                <a:lnTo>
                  <a:pt x="93425" y="156262"/>
                </a:lnTo>
                <a:lnTo>
                  <a:pt x="96997" y="159208"/>
                </a:lnTo>
                <a:lnTo>
                  <a:pt x="100225" y="162019"/>
                </a:lnTo>
                <a:lnTo>
                  <a:pt x="103223" y="164739"/>
                </a:lnTo>
                <a:lnTo>
                  <a:pt x="114300" y="1752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MARTInkAnnotation284"/>
          <p:cNvSpPr/>
          <p:nvPr/>
        </p:nvSpPr>
        <p:spPr>
          <a:xfrm>
            <a:off x="2859120" y="5418000"/>
            <a:ext cx="210960" cy="365400"/>
          </a:xfrm>
          <a:custGeom>
            <a:avLst/>
            <a:gdLst>
              <a:gd name="textAreaLeft" fmla="*/ 0 w 210960"/>
              <a:gd name="textAreaRight" fmla="*/ 211320 w 21096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11341" h="365761">
                <a:moveTo>
                  <a:pt x="196441" y="0"/>
                </a:moveTo>
                <a:lnTo>
                  <a:pt x="203002" y="6561"/>
                </a:lnTo>
                <a:lnTo>
                  <a:pt x="205849" y="7149"/>
                </a:lnTo>
                <a:lnTo>
                  <a:pt x="207793" y="7306"/>
                </a:lnTo>
                <a:lnTo>
                  <a:pt x="209089" y="8258"/>
                </a:lnTo>
                <a:lnTo>
                  <a:pt x="209953" y="9739"/>
                </a:lnTo>
                <a:lnTo>
                  <a:pt x="210529" y="11572"/>
                </a:lnTo>
                <a:lnTo>
                  <a:pt x="211340" y="22244"/>
                </a:lnTo>
                <a:lnTo>
                  <a:pt x="209272" y="31335"/>
                </a:lnTo>
                <a:lnTo>
                  <a:pt x="207535" y="36130"/>
                </a:lnTo>
                <a:lnTo>
                  <a:pt x="201090" y="45974"/>
                </a:lnTo>
                <a:lnTo>
                  <a:pt x="197000" y="50969"/>
                </a:lnTo>
                <a:lnTo>
                  <a:pt x="192581" y="57686"/>
                </a:lnTo>
                <a:lnTo>
                  <a:pt x="187941" y="65550"/>
                </a:lnTo>
                <a:lnTo>
                  <a:pt x="183154" y="74180"/>
                </a:lnTo>
                <a:lnTo>
                  <a:pt x="178270" y="82474"/>
                </a:lnTo>
                <a:lnTo>
                  <a:pt x="168327" y="98462"/>
                </a:lnTo>
                <a:lnTo>
                  <a:pt x="161612" y="107128"/>
                </a:lnTo>
                <a:lnTo>
                  <a:pt x="153748" y="116292"/>
                </a:lnTo>
                <a:lnTo>
                  <a:pt x="145119" y="125788"/>
                </a:lnTo>
                <a:lnTo>
                  <a:pt x="136827" y="135506"/>
                </a:lnTo>
                <a:lnTo>
                  <a:pt x="93513" y="189582"/>
                </a:lnTo>
                <a:lnTo>
                  <a:pt x="68013" y="222496"/>
                </a:lnTo>
                <a:lnTo>
                  <a:pt x="44371" y="253697"/>
                </a:lnTo>
                <a:lnTo>
                  <a:pt x="37487" y="263958"/>
                </a:lnTo>
                <a:lnTo>
                  <a:pt x="31205" y="274185"/>
                </a:lnTo>
                <a:lnTo>
                  <a:pt x="25324" y="284390"/>
                </a:lnTo>
                <a:lnTo>
                  <a:pt x="20556" y="293733"/>
                </a:lnTo>
                <a:lnTo>
                  <a:pt x="16531" y="302503"/>
                </a:lnTo>
                <a:lnTo>
                  <a:pt x="13001" y="310888"/>
                </a:lnTo>
                <a:lnTo>
                  <a:pt x="9801" y="319019"/>
                </a:lnTo>
                <a:lnTo>
                  <a:pt x="3988" y="334827"/>
                </a:lnTo>
                <a:lnTo>
                  <a:pt x="2099" y="341751"/>
                </a:lnTo>
                <a:lnTo>
                  <a:pt x="840" y="348061"/>
                </a:lnTo>
                <a:lnTo>
                  <a:pt x="0" y="353960"/>
                </a:lnTo>
                <a:lnTo>
                  <a:pt x="287" y="357893"/>
                </a:lnTo>
                <a:lnTo>
                  <a:pt x="1325" y="360516"/>
                </a:lnTo>
                <a:lnTo>
                  <a:pt x="5941" y="3657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MARTInkAnnotation285"/>
          <p:cNvSpPr/>
          <p:nvPr/>
        </p:nvSpPr>
        <p:spPr>
          <a:xfrm>
            <a:off x="3170160" y="5181480"/>
            <a:ext cx="160560" cy="370080"/>
          </a:xfrm>
          <a:custGeom>
            <a:avLst/>
            <a:gdLst>
              <a:gd name="textAreaLeft" fmla="*/ 0 w 160560"/>
              <a:gd name="textAreaRight" fmla="*/ 160920 w 1605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59813" h="370416">
                <a:moveTo>
                  <a:pt x="152219" y="0"/>
                </a:moveTo>
                <a:lnTo>
                  <a:pt x="156264" y="4045"/>
                </a:lnTo>
                <a:lnTo>
                  <a:pt x="157456" y="6930"/>
                </a:lnTo>
                <a:lnTo>
                  <a:pt x="158780" y="14651"/>
                </a:lnTo>
                <a:lnTo>
                  <a:pt x="159368" y="25985"/>
                </a:lnTo>
                <a:lnTo>
                  <a:pt x="159700" y="46646"/>
                </a:lnTo>
                <a:lnTo>
                  <a:pt x="159812" y="80428"/>
                </a:lnTo>
                <a:lnTo>
                  <a:pt x="158974" y="89179"/>
                </a:lnTo>
                <a:lnTo>
                  <a:pt x="157569" y="97552"/>
                </a:lnTo>
                <a:lnTo>
                  <a:pt x="151547" y="125989"/>
                </a:lnTo>
                <a:lnTo>
                  <a:pt x="149231" y="137333"/>
                </a:lnTo>
                <a:lnTo>
                  <a:pt x="147687" y="148282"/>
                </a:lnTo>
                <a:lnTo>
                  <a:pt x="146657" y="158968"/>
                </a:lnTo>
                <a:lnTo>
                  <a:pt x="145971" y="169478"/>
                </a:lnTo>
                <a:lnTo>
                  <a:pt x="145514" y="179873"/>
                </a:lnTo>
                <a:lnTo>
                  <a:pt x="145006" y="200453"/>
                </a:lnTo>
                <a:lnTo>
                  <a:pt x="144600" y="320496"/>
                </a:lnTo>
                <a:lnTo>
                  <a:pt x="145447" y="322884"/>
                </a:lnTo>
                <a:lnTo>
                  <a:pt x="146857" y="324476"/>
                </a:lnTo>
                <a:lnTo>
                  <a:pt x="151160" y="327031"/>
                </a:lnTo>
                <a:lnTo>
                  <a:pt x="147860" y="323429"/>
                </a:lnTo>
                <a:lnTo>
                  <a:pt x="146048" y="314773"/>
                </a:lnTo>
                <a:lnTo>
                  <a:pt x="145566" y="308909"/>
                </a:lnTo>
                <a:lnTo>
                  <a:pt x="144397" y="302459"/>
                </a:lnTo>
                <a:lnTo>
                  <a:pt x="142770" y="295619"/>
                </a:lnTo>
                <a:lnTo>
                  <a:pt x="140840" y="288520"/>
                </a:lnTo>
                <a:lnTo>
                  <a:pt x="136437" y="273857"/>
                </a:lnTo>
                <a:lnTo>
                  <a:pt x="134078" y="266392"/>
                </a:lnTo>
                <a:lnTo>
                  <a:pt x="130811" y="258875"/>
                </a:lnTo>
                <a:lnTo>
                  <a:pt x="126941" y="251323"/>
                </a:lnTo>
                <a:lnTo>
                  <a:pt x="122667" y="243749"/>
                </a:lnTo>
                <a:lnTo>
                  <a:pt x="118124" y="237006"/>
                </a:lnTo>
                <a:lnTo>
                  <a:pt x="113403" y="230817"/>
                </a:lnTo>
                <a:lnTo>
                  <a:pt x="108561" y="224998"/>
                </a:lnTo>
                <a:lnTo>
                  <a:pt x="103641" y="218579"/>
                </a:lnTo>
                <a:lnTo>
                  <a:pt x="98667" y="211759"/>
                </a:lnTo>
                <a:lnTo>
                  <a:pt x="93658" y="204673"/>
                </a:lnTo>
                <a:lnTo>
                  <a:pt x="87778" y="199102"/>
                </a:lnTo>
                <a:lnTo>
                  <a:pt x="81319" y="194542"/>
                </a:lnTo>
                <a:lnTo>
                  <a:pt x="74472" y="190654"/>
                </a:lnTo>
                <a:lnTo>
                  <a:pt x="68214" y="188063"/>
                </a:lnTo>
                <a:lnTo>
                  <a:pt x="62349" y="186335"/>
                </a:lnTo>
                <a:lnTo>
                  <a:pt x="56746" y="185184"/>
                </a:lnTo>
                <a:lnTo>
                  <a:pt x="50470" y="185262"/>
                </a:lnTo>
                <a:lnTo>
                  <a:pt x="43747" y="186162"/>
                </a:lnTo>
                <a:lnTo>
                  <a:pt x="36724" y="187608"/>
                </a:lnTo>
                <a:lnTo>
                  <a:pt x="30349" y="189419"/>
                </a:lnTo>
                <a:lnTo>
                  <a:pt x="24406" y="191472"/>
                </a:lnTo>
                <a:lnTo>
                  <a:pt x="18751" y="193688"/>
                </a:lnTo>
                <a:lnTo>
                  <a:pt x="14133" y="196859"/>
                </a:lnTo>
                <a:lnTo>
                  <a:pt x="10209" y="200666"/>
                </a:lnTo>
                <a:lnTo>
                  <a:pt x="6745" y="204897"/>
                </a:lnTo>
                <a:lnTo>
                  <a:pt x="4437" y="210258"/>
                </a:lnTo>
                <a:lnTo>
                  <a:pt x="2897" y="216372"/>
                </a:lnTo>
                <a:lnTo>
                  <a:pt x="1871" y="222989"/>
                </a:lnTo>
                <a:lnTo>
                  <a:pt x="1188" y="229939"/>
                </a:lnTo>
                <a:lnTo>
                  <a:pt x="731" y="237113"/>
                </a:lnTo>
                <a:lnTo>
                  <a:pt x="427" y="244435"/>
                </a:lnTo>
                <a:lnTo>
                  <a:pt x="89" y="261602"/>
                </a:lnTo>
                <a:lnTo>
                  <a:pt x="0" y="270922"/>
                </a:lnTo>
                <a:lnTo>
                  <a:pt x="1632" y="280521"/>
                </a:lnTo>
                <a:lnTo>
                  <a:pt x="4415" y="290307"/>
                </a:lnTo>
                <a:lnTo>
                  <a:pt x="14163" y="318003"/>
                </a:lnTo>
                <a:lnTo>
                  <a:pt x="17002" y="326303"/>
                </a:lnTo>
                <a:lnTo>
                  <a:pt x="20588" y="333528"/>
                </a:lnTo>
                <a:lnTo>
                  <a:pt x="24672" y="340039"/>
                </a:lnTo>
                <a:lnTo>
                  <a:pt x="29087" y="346073"/>
                </a:lnTo>
                <a:lnTo>
                  <a:pt x="33725" y="351789"/>
                </a:lnTo>
                <a:lnTo>
                  <a:pt x="38509" y="357293"/>
                </a:lnTo>
                <a:lnTo>
                  <a:pt x="43393" y="362655"/>
                </a:lnTo>
                <a:lnTo>
                  <a:pt x="48341" y="366230"/>
                </a:lnTo>
                <a:lnTo>
                  <a:pt x="53334" y="368614"/>
                </a:lnTo>
                <a:lnTo>
                  <a:pt x="58356" y="370202"/>
                </a:lnTo>
                <a:lnTo>
                  <a:pt x="63397" y="370415"/>
                </a:lnTo>
                <a:lnTo>
                  <a:pt x="68451" y="369710"/>
                </a:lnTo>
                <a:lnTo>
                  <a:pt x="73514" y="368394"/>
                </a:lnTo>
                <a:lnTo>
                  <a:pt x="77735" y="367515"/>
                </a:lnTo>
                <a:lnTo>
                  <a:pt x="81397" y="366931"/>
                </a:lnTo>
                <a:lnTo>
                  <a:pt x="84684" y="366540"/>
                </a:lnTo>
                <a:lnTo>
                  <a:pt x="87723" y="365434"/>
                </a:lnTo>
                <a:lnTo>
                  <a:pt x="90595" y="363849"/>
                </a:lnTo>
                <a:lnTo>
                  <a:pt x="98879" y="3581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MARTInkAnnotation286"/>
          <p:cNvSpPr/>
          <p:nvPr/>
        </p:nvSpPr>
        <p:spPr>
          <a:xfrm>
            <a:off x="7910640" y="5288040"/>
            <a:ext cx="60120" cy="228600"/>
          </a:xfrm>
          <a:custGeom>
            <a:avLst/>
            <a:gdLst>
              <a:gd name="textAreaLeft" fmla="*/ 0 w 60120"/>
              <a:gd name="textAreaRight" fmla="*/ 60480 w 60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9902" h="228601">
                <a:moveTo>
                  <a:pt x="6561" y="0"/>
                </a:moveTo>
                <a:lnTo>
                  <a:pt x="6561" y="58556"/>
                </a:lnTo>
                <a:lnTo>
                  <a:pt x="5715" y="64437"/>
                </a:lnTo>
                <a:lnTo>
                  <a:pt x="4303" y="70898"/>
                </a:lnTo>
                <a:lnTo>
                  <a:pt x="2516" y="77746"/>
                </a:lnTo>
                <a:lnTo>
                  <a:pt x="1325" y="84850"/>
                </a:lnTo>
                <a:lnTo>
                  <a:pt x="530" y="92126"/>
                </a:lnTo>
                <a:lnTo>
                  <a:pt x="0" y="99517"/>
                </a:lnTo>
                <a:lnTo>
                  <a:pt x="493" y="106985"/>
                </a:lnTo>
                <a:lnTo>
                  <a:pt x="1669" y="114503"/>
                </a:lnTo>
                <a:lnTo>
                  <a:pt x="3300" y="122056"/>
                </a:lnTo>
                <a:lnTo>
                  <a:pt x="4388" y="129630"/>
                </a:lnTo>
                <a:lnTo>
                  <a:pt x="5112" y="137220"/>
                </a:lnTo>
                <a:lnTo>
                  <a:pt x="5595" y="144821"/>
                </a:lnTo>
                <a:lnTo>
                  <a:pt x="7611" y="152427"/>
                </a:lnTo>
                <a:lnTo>
                  <a:pt x="10648" y="160037"/>
                </a:lnTo>
                <a:lnTo>
                  <a:pt x="14365" y="167652"/>
                </a:lnTo>
                <a:lnTo>
                  <a:pt x="18537" y="174421"/>
                </a:lnTo>
                <a:lnTo>
                  <a:pt x="23011" y="180627"/>
                </a:lnTo>
                <a:lnTo>
                  <a:pt x="27688" y="186458"/>
                </a:lnTo>
                <a:lnTo>
                  <a:pt x="31653" y="192039"/>
                </a:lnTo>
                <a:lnTo>
                  <a:pt x="35142" y="197453"/>
                </a:lnTo>
                <a:lnTo>
                  <a:pt x="38314" y="202755"/>
                </a:lnTo>
                <a:lnTo>
                  <a:pt x="41277" y="207137"/>
                </a:lnTo>
                <a:lnTo>
                  <a:pt x="44099" y="210904"/>
                </a:lnTo>
                <a:lnTo>
                  <a:pt x="46825" y="214263"/>
                </a:lnTo>
                <a:lnTo>
                  <a:pt x="49490" y="217349"/>
                </a:lnTo>
                <a:lnTo>
                  <a:pt x="52113" y="220252"/>
                </a:lnTo>
                <a:lnTo>
                  <a:pt x="59901" y="2286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MARTInkAnnotation287"/>
          <p:cNvSpPr/>
          <p:nvPr/>
        </p:nvSpPr>
        <p:spPr>
          <a:xfrm>
            <a:off x="7848720" y="5311800"/>
            <a:ext cx="320400" cy="425520"/>
          </a:xfrm>
          <a:custGeom>
            <a:avLst/>
            <a:gdLst>
              <a:gd name="textAreaLeft" fmla="*/ 0 w 320400"/>
              <a:gd name="textAreaRight" fmla="*/ 320760 w 32040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320041" h="426721">
                <a:moveTo>
                  <a:pt x="320040" y="0"/>
                </a:moveTo>
                <a:lnTo>
                  <a:pt x="320040" y="10606"/>
                </a:lnTo>
                <a:lnTo>
                  <a:pt x="318347" y="13844"/>
                </a:lnTo>
                <a:lnTo>
                  <a:pt x="308720" y="26492"/>
                </a:lnTo>
                <a:lnTo>
                  <a:pt x="290777" y="54989"/>
                </a:lnTo>
                <a:lnTo>
                  <a:pt x="285291" y="62060"/>
                </a:lnTo>
                <a:lnTo>
                  <a:pt x="279094" y="69313"/>
                </a:lnTo>
                <a:lnTo>
                  <a:pt x="272422" y="76689"/>
                </a:lnTo>
                <a:lnTo>
                  <a:pt x="266281" y="84993"/>
                </a:lnTo>
                <a:lnTo>
                  <a:pt x="260495" y="93915"/>
                </a:lnTo>
                <a:lnTo>
                  <a:pt x="254943" y="103250"/>
                </a:lnTo>
                <a:lnTo>
                  <a:pt x="248702" y="112860"/>
                </a:lnTo>
                <a:lnTo>
                  <a:pt x="242002" y="122654"/>
                </a:lnTo>
                <a:lnTo>
                  <a:pt x="234994" y="132569"/>
                </a:lnTo>
                <a:lnTo>
                  <a:pt x="226089" y="143413"/>
                </a:lnTo>
                <a:lnTo>
                  <a:pt x="215920" y="154875"/>
                </a:lnTo>
                <a:lnTo>
                  <a:pt x="194178" y="178053"/>
                </a:lnTo>
                <a:lnTo>
                  <a:pt x="173226" y="199643"/>
                </a:lnTo>
                <a:lnTo>
                  <a:pt x="162897" y="210990"/>
                </a:lnTo>
                <a:lnTo>
                  <a:pt x="152626" y="222786"/>
                </a:lnTo>
                <a:lnTo>
                  <a:pt x="142391" y="234884"/>
                </a:lnTo>
                <a:lnTo>
                  <a:pt x="132180" y="246336"/>
                </a:lnTo>
                <a:lnTo>
                  <a:pt x="111805" y="268092"/>
                </a:lnTo>
                <a:lnTo>
                  <a:pt x="101630" y="279481"/>
                </a:lnTo>
                <a:lnTo>
                  <a:pt x="71975" y="314043"/>
                </a:lnTo>
                <a:lnTo>
                  <a:pt x="54850" y="332615"/>
                </a:lnTo>
                <a:lnTo>
                  <a:pt x="47573" y="341970"/>
                </a:lnTo>
                <a:lnTo>
                  <a:pt x="41029" y="351593"/>
                </a:lnTo>
                <a:lnTo>
                  <a:pt x="29242" y="370470"/>
                </a:lnTo>
                <a:lnTo>
                  <a:pt x="18358" y="387327"/>
                </a:lnTo>
                <a:lnTo>
                  <a:pt x="13932" y="394531"/>
                </a:lnTo>
                <a:lnTo>
                  <a:pt x="6756" y="407051"/>
                </a:lnTo>
                <a:lnTo>
                  <a:pt x="3003" y="416002"/>
                </a:lnTo>
                <a:lnTo>
                  <a:pt x="0" y="4267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MARTInkAnnotation288"/>
          <p:cNvSpPr/>
          <p:nvPr/>
        </p:nvSpPr>
        <p:spPr>
          <a:xfrm>
            <a:off x="8285040" y="5121360"/>
            <a:ext cx="173160" cy="374400"/>
          </a:xfrm>
          <a:custGeom>
            <a:avLst/>
            <a:gdLst>
              <a:gd name="textAreaLeft" fmla="*/ 0 w 173160"/>
              <a:gd name="textAreaRight" fmla="*/ 173520 w 1731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73615" h="375587">
                <a:moveTo>
                  <a:pt x="173614" y="0"/>
                </a:moveTo>
                <a:lnTo>
                  <a:pt x="173614" y="17912"/>
                </a:lnTo>
                <a:lnTo>
                  <a:pt x="171355" y="27435"/>
                </a:lnTo>
                <a:lnTo>
                  <a:pt x="169569" y="33530"/>
                </a:lnTo>
                <a:lnTo>
                  <a:pt x="168377" y="40133"/>
                </a:lnTo>
                <a:lnTo>
                  <a:pt x="167583" y="47076"/>
                </a:lnTo>
                <a:lnTo>
                  <a:pt x="167052" y="54244"/>
                </a:lnTo>
                <a:lnTo>
                  <a:pt x="165853" y="62409"/>
                </a:lnTo>
                <a:lnTo>
                  <a:pt x="164207" y="71240"/>
                </a:lnTo>
                <a:lnTo>
                  <a:pt x="162263" y="80513"/>
                </a:lnTo>
                <a:lnTo>
                  <a:pt x="160966" y="90082"/>
                </a:lnTo>
                <a:lnTo>
                  <a:pt x="160102" y="99848"/>
                </a:lnTo>
                <a:lnTo>
                  <a:pt x="159526" y="109745"/>
                </a:lnTo>
                <a:lnTo>
                  <a:pt x="158295" y="120577"/>
                </a:lnTo>
                <a:lnTo>
                  <a:pt x="156629" y="132031"/>
                </a:lnTo>
                <a:lnTo>
                  <a:pt x="152518" y="156047"/>
                </a:lnTo>
                <a:lnTo>
                  <a:pt x="147870" y="180832"/>
                </a:lnTo>
                <a:lnTo>
                  <a:pt x="146291" y="193368"/>
                </a:lnTo>
                <a:lnTo>
                  <a:pt x="145238" y="205959"/>
                </a:lnTo>
                <a:lnTo>
                  <a:pt x="144537" y="218586"/>
                </a:lnTo>
                <a:lnTo>
                  <a:pt x="143222" y="230391"/>
                </a:lnTo>
                <a:lnTo>
                  <a:pt x="141500" y="241647"/>
                </a:lnTo>
                <a:lnTo>
                  <a:pt x="139504" y="252538"/>
                </a:lnTo>
                <a:lnTo>
                  <a:pt x="138174" y="264032"/>
                </a:lnTo>
                <a:lnTo>
                  <a:pt x="137288" y="275928"/>
                </a:lnTo>
                <a:lnTo>
                  <a:pt x="136302" y="298742"/>
                </a:lnTo>
                <a:lnTo>
                  <a:pt x="135747" y="325865"/>
                </a:lnTo>
                <a:lnTo>
                  <a:pt x="135518" y="375586"/>
                </a:lnTo>
                <a:lnTo>
                  <a:pt x="135517" y="374851"/>
                </a:lnTo>
                <a:lnTo>
                  <a:pt x="133258" y="371776"/>
                </a:lnTo>
                <a:lnTo>
                  <a:pt x="131469" y="369771"/>
                </a:lnTo>
                <a:lnTo>
                  <a:pt x="130278" y="366741"/>
                </a:lnTo>
                <a:lnTo>
                  <a:pt x="127753" y="353539"/>
                </a:lnTo>
                <a:lnTo>
                  <a:pt x="126107" y="347452"/>
                </a:lnTo>
                <a:lnTo>
                  <a:pt x="122020" y="333917"/>
                </a:lnTo>
                <a:lnTo>
                  <a:pt x="117381" y="319434"/>
                </a:lnTo>
                <a:lnTo>
                  <a:pt x="114112" y="311170"/>
                </a:lnTo>
                <a:lnTo>
                  <a:pt x="110240" y="302273"/>
                </a:lnTo>
                <a:lnTo>
                  <a:pt x="105964" y="292955"/>
                </a:lnTo>
                <a:lnTo>
                  <a:pt x="101422" y="284204"/>
                </a:lnTo>
                <a:lnTo>
                  <a:pt x="96699" y="275829"/>
                </a:lnTo>
                <a:lnTo>
                  <a:pt x="91857" y="267706"/>
                </a:lnTo>
                <a:lnTo>
                  <a:pt x="81962" y="251907"/>
                </a:lnTo>
                <a:lnTo>
                  <a:pt x="76953" y="244138"/>
                </a:lnTo>
                <a:lnTo>
                  <a:pt x="71073" y="236419"/>
                </a:lnTo>
                <a:lnTo>
                  <a:pt x="64613" y="228732"/>
                </a:lnTo>
                <a:lnTo>
                  <a:pt x="57767" y="221069"/>
                </a:lnTo>
                <a:lnTo>
                  <a:pt x="51509" y="215112"/>
                </a:lnTo>
                <a:lnTo>
                  <a:pt x="45644" y="210295"/>
                </a:lnTo>
                <a:lnTo>
                  <a:pt x="40041" y="206236"/>
                </a:lnTo>
                <a:lnTo>
                  <a:pt x="34612" y="203531"/>
                </a:lnTo>
                <a:lnTo>
                  <a:pt x="29300" y="201727"/>
                </a:lnTo>
                <a:lnTo>
                  <a:pt x="24064" y="200525"/>
                </a:lnTo>
                <a:lnTo>
                  <a:pt x="19728" y="199724"/>
                </a:lnTo>
                <a:lnTo>
                  <a:pt x="15990" y="199189"/>
                </a:lnTo>
                <a:lnTo>
                  <a:pt x="12651" y="198833"/>
                </a:lnTo>
                <a:lnTo>
                  <a:pt x="9578" y="200289"/>
                </a:lnTo>
                <a:lnTo>
                  <a:pt x="6684" y="202952"/>
                </a:lnTo>
                <a:lnTo>
                  <a:pt x="3907" y="206421"/>
                </a:lnTo>
                <a:lnTo>
                  <a:pt x="2056" y="210428"/>
                </a:lnTo>
                <a:lnTo>
                  <a:pt x="0" y="219395"/>
                </a:lnTo>
                <a:lnTo>
                  <a:pt x="297" y="225003"/>
                </a:lnTo>
                <a:lnTo>
                  <a:pt x="1343" y="231282"/>
                </a:lnTo>
                <a:lnTo>
                  <a:pt x="2887" y="238008"/>
                </a:lnTo>
                <a:lnTo>
                  <a:pt x="4762" y="245032"/>
                </a:lnTo>
                <a:lnTo>
                  <a:pt x="11447" y="267900"/>
                </a:lnTo>
                <a:lnTo>
                  <a:pt x="16310" y="286142"/>
                </a:lnTo>
                <a:lnTo>
                  <a:pt x="19637" y="294902"/>
                </a:lnTo>
                <a:lnTo>
                  <a:pt x="23550" y="303281"/>
                </a:lnTo>
                <a:lnTo>
                  <a:pt x="27851" y="311408"/>
                </a:lnTo>
                <a:lnTo>
                  <a:pt x="33259" y="319366"/>
                </a:lnTo>
                <a:lnTo>
                  <a:pt x="39404" y="327210"/>
                </a:lnTo>
                <a:lnTo>
                  <a:pt x="46040" y="334980"/>
                </a:lnTo>
                <a:lnTo>
                  <a:pt x="51311" y="341853"/>
                </a:lnTo>
                <a:lnTo>
                  <a:pt x="55672" y="348129"/>
                </a:lnTo>
                <a:lnTo>
                  <a:pt x="59426" y="354006"/>
                </a:lnTo>
                <a:lnTo>
                  <a:pt x="63622" y="358771"/>
                </a:lnTo>
                <a:lnTo>
                  <a:pt x="68113" y="362794"/>
                </a:lnTo>
                <a:lnTo>
                  <a:pt x="72800" y="366322"/>
                </a:lnTo>
                <a:lnTo>
                  <a:pt x="76772" y="368676"/>
                </a:lnTo>
                <a:lnTo>
                  <a:pt x="80265" y="370243"/>
                </a:lnTo>
                <a:lnTo>
                  <a:pt x="83442" y="371290"/>
                </a:lnTo>
                <a:lnTo>
                  <a:pt x="86406" y="371139"/>
                </a:lnTo>
                <a:lnTo>
                  <a:pt x="89228" y="370193"/>
                </a:lnTo>
                <a:lnTo>
                  <a:pt x="91957" y="368716"/>
                </a:lnTo>
                <a:lnTo>
                  <a:pt x="95469" y="367730"/>
                </a:lnTo>
                <a:lnTo>
                  <a:pt x="99504" y="367074"/>
                </a:lnTo>
                <a:lnTo>
                  <a:pt x="103887" y="366636"/>
                </a:lnTo>
                <a:lnTo>
                  <a:pt x="106810" y="364651"/>
                </a:lnTo>
                <a:lnTo>
                  <a:pt x="108758" y="361634"/>
                </a:lnTo>
                <a:lnTo>
                  <a:pt x="112654" y="3505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MARTInkAnnotation289"/>
          <p:cNvSpPr/>
          <p:nvPr/>
        </p:nvSpPr>
        <p:spPr>
          <a:xfrm>
            <a:off x="106200" y="1774800"/>
            <a:ext cx="3329280" cy="450720"/>
          </a:xfrm>
          <a:custGeom>
            <a:avLst/>
            <a:gdLst>
              <a:gd name="textAreaLeft" fmla="*/ 0 w 3329280"/>
              <a:gd name="textAreaRight" fmla="*/ 3329640 w 332928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3328391" h="449539">
                <a:moveTo>
                  <a:pt x="167286" y="434298"/>
                </a:moveTo>
                <a:lnTo>
                  <a:pt x="206971" y="434298"/>
                </a:lnTo>
                <a:lnTo>
                  <a:pt x="209829" y="435145"/>
                </a:lnTo>
                <a:lnTo>
                  <a:pt x="218744" y="439535"/>
                </a:lnTo>
                <a:lnTo>
                  <a:pt x="236498" y="441447"/>
                </a:lnTo>
                <a:lnTo>
                  <a:pt x="264902" y="441890"/>
                </a:lnTo>
                <a:lnTo>
                  <a:pt x="361468" y="434326"/>
                </a:lnTo>
                <a:lnTo>
                  <a:pt x="483446" y="434298"/>
                </a:lnTo>
                <a:lnTo>
                  <a:pt x="580508" y="426817"/>
                </a:lnTo>
                <a:lnTo>
                  <a:pt x="718382" y="426679"/>
                </a:lnTo>
                <a:lnTo>
                  <a:pt x="820065" y="419267"/>
                </a:lnTo>
                <a:lnTo>
                  <a:pt x="1006939" y="419058"/>
                </a:lnTo>
                <a:lnTo>
                  <a:pt x="1105998" y="426364"/>
                </a:lnTo>
                <a:lnTo>
                  <a:pt x="1194355" y="428924"/>
                </a:lnTo>
                <a:lnTo>
                  <a:pt x="1262834" y="433826"/>
                </a:lnTo>
                <a:lnTo>
                  <a:pt x="1365368" y="434286"/>
                </a:lnTo>
                <a:lnTo>
                  <a:pt x="1460057" y="435144"/>
                </a:lnTo>
                <a:lnTo>
                  <a:pt x="1555257" y="441604"/>
                </a:lnTo>
                <a:lnTo>
                  <a:pt x="2568878" y="441918"/>
                </a:lnTo>
                <a:lnTo>
                  <a:pt x="2626793" y="438144"/>
                </a:lnTo>
                <a:lnTo>
                  <a:pt x="2730116" y="441853"/>
                </a:lnTo>
                <a:lnTo>
                  <a:pt x="3028677" y="441918"/>
                </a:lnTo>
                <a:lnTo>
                  <a:pt x="3115710" y="432081"/>
                </a:lnTo>
                <a:lnTo>
                  <a:pt x="3126157" y="429080"/>
                </a:lnTo>
                <a:lnTo>
                  <a:pt x="3167964" y="424561"/>
                </a:lnTo>
                <a:lnTo>
                  <a:pt x="3179014" y="421504"/>
                </a:lnTo>
                <a:lnTo>
                  <a:pt x="3209078" y="415335"/>
                </a:lnTo>
                <a:lnTo>
                  <a:pt x="3237663" y="405920"/>
                </a:lnTo>
                <a:lnTo>
                  <a:pt x="3248091" y="403905"/>
                </a:lnTo>
                <a:lnTo>
                  <a:pt x="3258371" y="400188"/>
                </a:lnTo>
                <a:lnTo>
                  <a:pt x="3266326" y="395713"/>
                </a:lnTo>
                <a:lnTo>
                  <a:pt x="3269633" y="393335"/>
                </a:lnTo>
                <a:lnTo>
                  <a:pt x="3280080" y="390692"/>
                </a:lnTo>
                <a:lnTo>
                  <a:pt x="3291497" y="388671"/>
                </a:lnTo>
                <a:lnTo>
                  <a:pt x="3299393" y="384951"/>
                </a:lnTo>
                <a:lnTo>
                  <a:pt x="3311361" y="375663"/>
                </a:lnTo>
                <a:lnTo>
                  <a:pt x="3316688" y="370703"/>
                </a:lnTo>
                <a:lnTo>
                  <a:pt x="3318448" y="368194"/>
                </a:lnTo>
                <a:lnTo>
                  <a:pt x="3321770" y="360619"/>
                </a:lnTo>
                <a:lnTo>
                  <a:pt x="3326894" y="353012"/>
                </a:lnTo>
                <a:lnTo>
                  <a:pt x="3328390" y="347936"/>
                </a:lnTo>
                <a:lnTo>
                  <a:pt x="3327942" y="345396"/>
                </a:lnTo>
                <a:lnTo>
                  <a:pt x="3324113" y="336931"/>
                </a:lnTo>
                <a:lnTo>
                  <a:pt x="3321756" y="324921"/>
                </a:lnTo>
                <a:lnTo>
                  <a:pt x="3316071" y="314777"/>
                </a:lnTo>
                <a:lnTo>
                  <a:pt x="3311444" y="306107"/>
                </a:lnTo>
                <a:lnTo>
                  <a:pt x="3304307" y="298866"/>
                </a:lnTo>
                <a:lnTo>
                  <a:pt x="3285928" y="287319"/>
                </a:lnTo>
                <a:lnTo>
                  <a:pt x="3278292" y="279792"/>
                </a:lnTo>
                <a:lnTo>
                  <a:pt x="3275070" y="275414"/>
                </a:lnTo>
                <a:lnTo>
                  <a:pt x="3266975" y="268292"/>
                </a:lnTo>
                <a:lnTo>
                  <a:pt x="3247980" y="256821"/>
                </a:lnTo>
                <a:lnTo>
                  <a:pt x="3232969" y="244928"/>
                </a:lnTo>
                <a:lnTo>
                  <a:pt x="3212727" y="230976"/>
                </a:lnTo>
                <a:lnTo>
                  <a:pt x="3197500" y="218456"/>
                </a:lnTo>
                <a:lnTo>
                  <a:pt x="3182264" y="208161"/>
                </a:lnTo>
                <a:lnTo>
                  <a:pt x="3167872" y="195609"/>
                </a:lnTo>
                <a:lnTo>
                  <a:pt x="3156176" y="185305"/>
                </a:lnTo>
                <a:lnTo>
                  <a:pt x="3139070" y="172751"/>
                </a:lnTo>
                <a:lnTo>
                  <a:pt x="3122589" y="160494"/>
                </a:lnTo>
                <a:lnTo>
                  <a:pt x="3097434" y="146499"/>
                </a:lnTo>
                <a:lnTo>
                  <a:pt x="3077921" y="134441"/>
                </a:lnTo>
                <a:lnTo>
                  <a:pt x="3053470" y="122353"/>
                </a:lnTo>
                <a:lnTo>
                  <a:pt x="3021320" y="109241"/>
                </a:lnTo>
                <a:lnTo>
                  <a:pt x="2975735" y="96486"/>
                </a:lnTo>
                <a:lnTo>
                  <a:pt x="2923365" y="83779"/>
                </a:lnTo>
                <a:lnTo>
                  <a:pt x="2824865" y="70372"/>
                </a:lnTo>
                <a:lnTo>
                  <a:pt x="2735068" y="61013"/>
                </a:lnTo>
                <a:lnTo>
                  <a:pt x="2609255" y="49603"/>
                </a:lnTo>
                <a:lnTo>
                  <a:pt x="2521667" y="43937"/>
                </a:lnTo>
                <a:lnTo>
                  <a:pt x="2426856" y="38832"/>
                </a:lnTo>
                <a:lnTo>
                  <a:pt x="2326150" y="38160"/>
                </a:lnTo>
                <a:lnTo>
                  <a:pt x="2230699" y="32040"/>
                </a:lnTo>
                <a:lnTo>
                  <a:pt x="2146663" y="30755"/>
                </a:lnTo>
                <a:lnTo>
                  <a:pt x="2062770" y="29654"/>
                </a:lnTo>
                <a:lnTo>
                  <a:pt x="1960611" y="23886"/>
                </a:lnTo>
                <a:lnTo>
                  <a:pt x="1858937" y="22959"/>
                </a:lnTo>
                <a:lnTo>
                  <a:pt x="1655726" y="22821"/>
                </a:lnTo>
                <a:lnTo>
                  <a:pt x="1560157" y="16787"/>
                </a:lnTo>
                <a:lnTo>
                  <a:pt x="1466020" y="15407"/>
                </a:lnTo>
                <a:lnTo>
                  <a:pt x="1323017" y="15206"/>
                </a:lnTo>
                <a:lnTo>
                  <a:pt x="1220354" y="8638"/>
                </a:lnTo>
                <a:lnTo>
                  <a:pt x="1120977" y="7671"/>
                </a:lnTo>
                <a:lnTo>
                  <a:pt x="986702" y="7580"/>
                </a:lnTo>
                <a:lnTo>
                  <a:pt x="884205" y="664"/>
                </a:lnTo>
                <a:lnTo>
                  <a:pt x="790054" y="0"/>
                </a:lnTo>
                <a:lnTo>
                  <a:pt x="695931" y="4006"/>
                </a:lnTo>
                <a:lnTo>
                  <a:pt x="601168" y="7439"/>
                </a:lnTo>
                <a:lnTo>
                  <a:pt x="506092" y="14486"/>
                </a:lnTo>
                <a:lnTo>
                  <a:pt x="412015" y="22940"/>
                </a:lnTo>
                <a:lnTo>
                  <a:pt x="322183" y="36293"/>
                </a:lnTo>
                <a:lnTo>
                  <a:pt x="279511" y="48320"/>
                </a:lnTo>
                <a:lnTo>
                  <a:pt x="239439" y="60932"/>
                </a:lnTo>
                <a:lnTo>
                  <a:pt x="204853" y="73620"/>
                </a:lnTo>
                <a:lnTo>
                  <a:pt x="167216" y="86318"/>
                </a:lnTo>
                <a:lnTo>
                  <a:pt x="148450" y="93938"/>
                </a:lnTo>
                <a:lnTo>
                  <a:pt x="132166" y="105603"/>
                </a:lnTo>
                <a:lnTo>
                  <a:pt x="121761" y="114927"/>
                </a:lnTo>
                <a:lnTo>
                  <a:pt x="111493" y="124715"/>
                </a:lnTo>
                <a:lnTo>
                  <a:pt x="70769" y="165070"/>
                </a:lnTo>
                <a:lnTo>
                  <a:pt x="55527" y="176256"/>
                </a:lnTo>
                <a:lnTo>
                  <a:pt x="40286" y="188978"/>
                </a:lnTo>
                <a:lnTo>
                  <a:pt x="32384" y="198549"/>
                </a:lnTo>
                <a:lnTo>
                  <a:pt x="26049" y="209294"/>
                </a:lnTo>
                <a:lnTo>
                  <a:pt x="15084" y="234631"/>
                </a:lnTo>
                <a:lnTo>
                  <a:pt x="10741" y="245650"/>
                </a:lnTo>
                <a:lnTo>
                  <a:pt x="7449" y="262221"/>
                </a:lnTo>
                <a:lnTo>
                  <a:pt x="3678" y="275693"/>
                </a:lnTo>
                <a:lnTo>
                  <a:pt x="1438" y="287889"/>
                </a:lnTo>
                <a:lnTo>
                  <a:pt x="442" y="298954"/>
                </a:lnTo>
                <a:lnTo>
                  <a:pt x="0" y="309516"/>
                </a:lnTo>
                <a:lnTo>
                  <a:pt x="2061" y="319855"/>
                </a:lnTo>
                <a:lnTo>
                  <a:pt x="5724" y="332938"/>
                </a:lnTo>
                <a:lnTo>
                  <a:pt x="6238" y="336244"/>
                </a:lnTo>
                <a:lnTo>
                  <a:pt x="11325" y="344434"/>
                </a:lnTo>
                <a:lnTo>
                  <a:pt x="18383" y="353719"/>
                </a:lnTo>
                <a:lnTo>
                  <a:pt x="24343" y="363489"/>
                </a:lnTo>
                <a:lnTo>
                  <a:pt x="32071" y="371219"/>
                </a:lnTo>
                <a:lnTo>
                  <a:pt x="41997" y="377476"/>
                </a:lnTo>
                <a:lnTo>
                  <a:pt x="69066" y="390650"/>
                </a:lnTo>
                <a:lnTo>
                  <a:pt x="91335" y="402174"/>
                </a:lnTo>
                <a:lnTo>
                  <a:pt x="121615" y="413654"/>
                </a:lnTo>
                <a:lnTo>
                  <a:pt x="219411" y="429523"/>
                </a:lnTo>
                <a:lnTo>
                  <a:pt x="336466" y="438219"/>
                </a:lnTo>
                <a:lnTo>
                  <a:pt x="449757" y="444032"/>
                </a:lnTo>
                <a:lnTo>
                  <a:pt x="549376" y="449216"/>
                </a:lnTo>
                <a:lnTo>
                  <a:pt x="616866" y="4495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3" descr="http://www.irtc.org/ftp/pub/stills/1999-02-28/integers.jpg"/>
          <p:cNvPicPr/>
          <p:nvPr/>
        </p:nvPicPr>
        <p:blipFill>
          <a:blip r:embed="rId1"/>
          <a:stretch/>
        </p:blipFill>
        <p:spPr>
          <a:xfrm>
            <a:off x="6176880" y="838080"/>
            <a:ext cx="2967120" cy="2225880"/>
          </a:xfrm>
          <a:prstGeom prst="rect">
            <a:avLst/>
          </a:prstGeom>
          <a:ln w="0">
            <a:noFill/>
          </a:ln>
        </p:spPr>
      </p:pic>
      <p:sp>
        <p:nvSpPr>
          <p:cNvPr id="78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6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 and Problem Solving – Consecutiv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7"/>
          <p:cNvSpPr/>
          <p:nvPr/>
        </p:nvSpPr>
        <p:spPr>
          <a:xfrm>
            <a:off x="0" y="838080"/>
            <a:ext cx="62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3) The sum of three consecutive integers is 72.  Find the integer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th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n equation relating th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he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9488"/>
          <p:cNvGrpSpPr/>
          <p:nvPr/>
        </p:nvGrpSpPr>
        <p:grpSpPr>
          <a:xfrm>
            <a:off x="152280" y="2658960"/>
            <a:ext cx="8853480" cy="3284640"/>
            <a:chOff x="152280" y="2658960"/>
            <a:chExt cx="8853480" cy="3284640"/>
          </a:xfrm>
        </p:grpSpPr>
        <p:sp>
          <p:nvSpPr>
            <p:cNvPr id="788" name="SMARTInkAnnotation77"/>
            <p:cNvSpPr/>
            <p:nvPr/>
          </p:nvSpPr>
          <p:spPr>
            <a:xfrm>
              <a:off x="700200" y="2927160"/>
              <a:ext cx="320040" cy="24984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320038" h="249913">
                  <a:moveTo>
                    <a:pt x="38097" y="82272"/>
                  </a:moveTo>
                  <a:lnTo>
                    <a:pt x="44658" y="82272"/>
                  </a:lnTo>
                  <a:lnTo>
                    <a:pt x="44165" y="83119"/>
                  </a:lnTo>
                  <a:lnTo>
                    <a:pt x="41358" y="86317"/>
                  </a:lnTo>
                  <a:lnTo>
                    <a:pt x="40271" y="88356"/>
                  </a:lnTo>
                  <a:lnTo>
                    <a:pt x="39064" y="92878"/>
                  </a:lnTo>
                  <a:lnTo>
                    <a:pt x="38527" y="99968"/>
                  </a:lnTo>
                  <a:lnTo>
                    <a:pt x="38383" y="104229"/>
                  </a:lnTo>
                  <a:lnTo>
                    <a:pt x="37442" y="108764"/>
                  </a:lnTo>
                  <a:lnTo>
                    <a:pt x="35967" y="113480"/>
                  </a:lnTo>
                  <a:lnTo>
                    <a:pt x="34137" y="118317"/>
                  </a:lnTo>
                  <a:lnTo>
                    <a:pt x="32917" y="124082"/>
                  </a:lnTo>
                  <a:lnTo>
                    <a:pt x="32104" y="130466"/>
                  </a:lnTo>
                  <a:lnTo>
                    <a:pt x="31562" y="137261"/>
                  </a:lnTo>
                  <a:lnTo>
                    <a:pt x="30353" y="143485"/>
                  </a:lnTo>
                  <a:lnTo>
                    <a:pt x="28701" y="149327"/>
                  </a:lnTo>
                  <a:lnTo>
                    <a:pt x="26753" y="154915"/>
                  </a:lnTo>
                  <a:lnTo>
                    <a:pt x="25455" y="160334"/>
                  </a:lnTo>
                  <a:lnTo>
                    <a:pt x="24589" y="165640"/>
                  </a:lnTo>
                  <a:lnTo>
                    <a:pt x="24012" y="170871"/>
                  </a:lnTo>
                  <a:lnTo>
                    <a:pt x="22780" y="176898"/>
                  </a:lnTo>
                  <a:lnTo>
                    <a:pt x="21113" y="183456"/>
                  </a:lnTo>
                  <a:lnTo>
                    <a:pt x="19154" y="190368"/>
                  </a:lnTo>
                  <a:lnTo>
                    <a:pt x="17002" y="196669"/>
                  </a:lnTo>
                  <a:lnTo>
                    <a:pt x="14720" y="202563"/>
                  </a:lnTo>
                  <a:lnTo>
                    <a:pt x="12353" y="208186"/>
                  </a:lnTo>
                  <a:lnTo>
                    <a:pt x="10774" y="212781"/>
                  </a:lnTo>
                  <a:lnTo>
                    <a:pt x="9020" y="220145"/>
                  </a:lnTo>
                  <a:lnTo>
                    <a:pt x="5983" y="226240"/>
                  </a:lnTo>
                  <a:lnTo>
                    <a:pt x="101" y="234526"/>
                  </a:lnTo>
                  <a:lnTo>
                    <a:pt x="18" y="228560"/>
                  </a:lnTo>
                  <a:lnTo>
                    <a:pt x="0" y="212711"/>
                  </a:lnTo>
                  <a:lnTo>
                    <a:pt x="846" y="207331"/>
                  </a:lnTo>
                  <a:lnTo>
                    <a:pt x="2256" y="201205"/>
                  </a:lnTo>
                  <a:lnTo>
                    <a:pt x="4043" y="194580"/>
                  </a:lnTo>
                  <a:lnTo>
                    <a:pt x="5235" y="186778"/>
                  </a:lnTo>
                  <a:lnTo>
                    <a:pt x="6029" y="178189"/>
                  </a:lnTo>
                  <a:lnTo>
                    <a:pt x="6558" y="169077"/>
                  </a:lnTo>
                  <a:lnTo>
                    <a:pt x="7758" y="160462"/>
                  </a:lnTo>
                  <a:lnTo>
                    <a:pt x="9405" y="152179"/>
                  </a:lnTo>
                  <a:lnTo>
                    <a:pt x="11349" y="144116"/>
                  </a:lnTo>
                  <a:lnTo>
                    <a:pt x="14338" y="135355"/>
                  </a:lnTo>
                  <a:lnTo>
                    <a:pt x="18025" y="126127"/>
                  </a:lnTo>
                  <a:lnTo>
                    <a:pt x="22176" y="116589"/>
                  </a:lnTo>
                  <a:lnTo>
                    <a:pt x="25789" y="107690"/>
                  </a:lnTo>
                  <a:lnTo>
                    <a:pt x="32063" y="91029"/>
                  </a:lnTo>
                  <a:lnTo>
                    <a:pt x="36614" y="83030"/>
                  </a:lnTo>
                  <a:lnTo>
                    <a:pt x="42189" y="75157"/>
                  </a:lnTo>
                  <a:lnTo>
                    <a:pt x="48445" y="67369"/>
                  </a:lnTo>
                  <a:lnTo>
                    <a:pt x="54309" y="60483"/>
                  </a:lnTo>
                  <a:lnTo>
                    <a:pt x="59912" y="54199"/>
                  </a:lnTo>
                  <a:lnTo>
                    <a:pt x="65340" y="48317"/>
                  </a:lnTo>
                  <a:lnTo>
                    <a:pt x="71499" y="42702"/>
                  </a:lnTo>
                  <a:lnTo>
                    <a:pt x="78145" y="37266"/>
                  </a:lnTo>
                  <a:lnTo>
                    <a:pt x="85116" y="31948"/>
                  </a:lnTo>
                  <a:lnTo>
                    <a:pt x="91456" y="27556"/>
                  </a:lnTo>
                  <a:lnTo>
                    <a:pt x="97377" y="23781"/>
                  </a:lnTo>
                  <a:lnTo>
                    <a:pt x="103017" y="20418"/>
                  </a:lnTo>
                  <a:lnTo>
                    <a:pt x="109317" y="17330"/>
                  </a:lnTo>
                  <a:lnTo>
                    <a:pt x="116057" y="14424"/>
                  </a:lnTo>
                  <a:lnTo>
                    <a:pt x="123090" y="11640"/>
                  </a:lnTo>
                  <a:lnTo>
                    <a:pt x="137679" y="6289"/>
                  </a:lnTo>
                  <a:lnTo>
                    <a:pt x="145125" y="3677"/>
                  </a:lnTo>
                  <a:lnTo>
                    <a:pt x="151782" y="1935"/>
                  </a:lnTo>
                  <a:lnTo>
                    <a:pt x="157914" y="774"/>
                  </a:lnTo>
                  <a:lnTo>
                    <a:pt x="163695" y="0"/>
                  </a:lnTo>
                  <a:lnTo>
                    <a:pt x="170089" y="331"/>
                  </a:lnTo>
                  <a:lnTo>
                    <a:pt x="176892" y="1398"/>
                  </a:lnTo>
                  <a:lnTo>
                    <a:pt x="183967" y="2956"/>
                  </a:lnTo>
                  <a:lnTo>
                    <a:pt x="191224" y="4841"/>
                  </a:lnTo>
                  <a:lnTo>
                    <a:pt x="198601" y="6945"/>
                  </a:lnTo>
                  <a:lnTo>
                    <a:pt x="206060" y="9194"/>
                  </a:lnTo>
                  <a:lnTo>
                    <a:pt x="212726" y="12387"/>
                  </a:lnTo>
                  <a:lnTo>
                    <a:pt x="218863" y="16208"/>
                  </a:lnTo>
                  <a:lnTo>
                    <a:pt x="224648" y="20450"/>
                  </a:lnTo>
                  <a:lnTo>
                    <a:pt x="230198" y="24970"/>
                  </a:lnTo>
                  <a:lnTo>
                    <a:pt x="235591" y="29678"/>
                  </a:lnTo>
                  <a:lnTo>
                    <a:pt x="240880" y="34509"/>
                  </a:lnTo>
                  <a:lnTo>
                    <a:pt x="246099" y="40270"/>
                  </a:lnTo>
                  <a:lnTo>
                    <a:pt x="251272" y="46651"/>
                  </a:lnTo>
                  <a:lnTo>
                    <a:pt x="256414" y="53445"/>
                  </a:lnTo>
                  <a:lnTo>
                    <a:pt x="260688" y="60514"/>
                  </a:lnTo>
                  <a:lnTo>
                    <a:pt x="264385" y="67766"/>
                  </a:lnTo>
                  <a:lnTo>
                    <a:pt x="267695" y="75142"/>
                  </a:lnTo>
                  <a:lnTo>
                    <a:pt x="270749" y="82599"/>
                  </a:lnTo>
                  <a:lnTo>
                    <a:pt x="273632" y="90110"/>
                  </a:lnTo>
                  <a:lnTo>
                    <a:pt x="276400" y="97657"/>
                  </a:lnTo>
                  <a:lnTo>
                    <a:pt x="279939" y="105229"/>
                  </a:lnTo>
                  <a:lnTo>
                    <a:pt x="283992" y="112816"/>
                  </a:lnTo>
                  <a:lnTo>
                    <a:pt x="288387" y="120415"/>
                  </a:lnTo>
                  <a:lnTo>
                    <a:pt x="291317" y="128021"/>
                  </a:lnTo>
                  <a:lnTo>
                    <a:pt x="293270" y="135631"/>
                  </a:lnTo>
                  <a:lnTo>
                    <a:pt x="294573" y="143245"/>
                  </a:lnTo>
                  <a:lnTo>
                    <a:pt x="295441" y="150860"/>
                  </a:lnTo>
                  <a:lnTo>
                    <a:pt x="296020" y="158478"/>
                  </a:lnTo>
                  <a:lnTo>
                    <a:pt x="296405" y="166096"/>
                  </a:lnTo>
                  <a:lnTo>
                    <a:pt x="297509" y="172868"/>
                  </a:lnTo>
                  <a:lnTo>
                    <a:pt x="299092" y="179076"/>
                  </a:lnTo>
                  <a:lnTo>
                    <a:pt x="300994" y="184908"/>
                  </a:lnTo>
                  <a:lnTo>
                    <a:pt x="302262" y="190489"/>
                  </a:lnTo>
                  <a:lnTo>
                    <a:pt x="303107" y="195903"/>
                  </a:lnTo>
                  <a:lnTo>
                    <a:pt x="303670" y="201206"/>
                  </a:lnTo>
                  <a:lnTo>
                    <a:pt x="304046" y="206435"/>
                  </a:lnTo>
                  <a:lnTo>
                    <a:pt x="304296" y="211614"/>
                  </a:lnTo>
                  <a:lnTo>
                    <a:pt x="304463" y="216760"/>
                  </a:lnTo>
                  <a:lnTo>
                    <a:pt x="305421" y="221037"/>
                  </a:lnTo>
                  <a:lnTo>
                    <a:pt x="309968" y="231103"/>
                  </a:lnTo>
                  <a:lnTo>
                    <a:pt x="311329" y="236754"/>
                  </a:lnTo>
                  <a:lnTo>
                    <a:pt x="314191" y="242089"/>
                  </a:lnTo>
                  <a:lnTo>
                    <a:pt x="320037" y="2499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SMARTInkAnnotation78"/>
            <p:cNvSpPr/>
            <p:nvPr/>
          </p:nvSpPr>
          <p:spPr>
            <a:xfrm>
              <a:off x="1279440" y="2979000"/>
              <a:ext cx="228600" cy="15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8601" h="15241">
                  <a:moveTo>
                    <a:pt x="0" y="15240"/>
                  </a:moveTo>
                  <a:lnTo>
                    <a:pt x="69162" y="15240"/>
                  </a:lnTo>
                  <a:lnTo>
                    <a:pt x="76588" y="14393"/>
                  </a:lnTo>
                  <a:lnTo>
                    <a:pt x="84078" y="12982"/>
                  </a:lnTo>
                  <a:lnTo>
                    <a:pt x="91612" y="11195"/>
                  </a:lnTo>
                  <a:lnTo>
                    <a:pt x="99175" y="10003"/>
                  </a:lnTo>
                  <a:lnTo>
                    <a:pt x="106757" y="9209"/>
                  </a:lnTo>
                  <a:lnTo>
                    <a:pt x="114351" y="8679"/>
                  </a:lnTo>
                  <a:lnTo>
                    <a:pt x="121954" y="7480"/>
                  </a:lnTo>
                  <a:lnTo>
                    <a:pt x="129563" y="5833"/>
                  </a:lnTo>
                  <a:lnTo>
                    <a:pt x="137175" y="3889"/>
                  </a:lnTo>
                  <a:lnTo>
                    <a:pt x="144790" y="2593"/>
                  </a:lnTo>
                  <a:lnTo>
                    <a:pt x="152407" y="1728"/>
                  </a:lnTo>
                  <a:lnTo>
                    <a:pt x="160025" y="1152"/>
                  </a:lnTo>
                  <a:lnTo>
                    <a:pt x="167643" y="768"/>
                  </a:lnTo>
                  <a:lnTo>
                    <a:pt x="182882" y="342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SMARTInkAnnotation79"/>
            <p:cNvSpPr/>
            <p:nvPr/>
          </p:nvSpPr>
          <p:spPr>
            <a:xfrm>
              <a:off x="1271880" y="3078000"/>
              <a:ext cx="213120" cy="15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13361" h="15214">
                  <a:moveTo>
                    <a:pt x="0" y="7620"/>
                  </a:moveTo>
                  <a:lnTo>
                    <a:pt x="6561" y="14181"/>
                  </a:lnTo>
                  <a:lnTo>
                    <a:pt x="8607" y="14534"/>
                  </a:lnTo>
                  <a:lnTo>
                    <a:pt x="11665" y="14770"/>
                  </a:lnTo>
                  <a:lnTo>
                    <a:pt x="15396" y="14927"/>
                  </a:lnTo>
                  <a:lnTo>
                    <a:pt x="24059" y="15101"/>
                  </a:lnTo>
                  <a:lnTo>
                    <a:pt x="43417" y="15213"/>
                  </a:lnTo>
                  <a:lnTo>
                    <a:pt x="49264" y="14375"/>
                  </a:lnTo>
                  <a:lnTo>
                    <a:pt x="55703" y="12970"/>
                  </a:lnTo>
                  <a:lnTo>
                    <a:pt x="62535" y="11187"/>
                  </a:lnTo>
                  <a:lnTo>
                    <a:pt x="69630" y="9998"/>
                  </a:lnTo>
                  <a:lnTo>
                    <a:pt x="76900" y="9205"/>
                  </a:lnTo>
                  <a:lnTo>
                    <a:pt x="84287" y="8677"/>
                  </a:lnTo>
                  <a:lnTo>
                    <a:pt x="91751" y="8325"/>
                  </a:lnTo>
                  <a:lnTo>
                    <a:pt x="106818" y="7933"/>
                  </a:lnTo>
                  <a:lnTo>
                    <a:pt x="114392" y="6982"/>
                  </a:lnTo>
                  <a:lnTo>
                    <a:pt x="121982" y="5502"/>
                  </a:lnTo>
                  <a:lnTo>
                    <a:pt x="129581" y="3668"/>
                  </a:lnTo>
                  <a:lnTo>
                    <a:pt x="136340" y="2445"/>
                  </a:lnTo>
                  <a:lnTo>
                    <a:pt x="142540" y="1630"/>
                  </a:lnTo>
                  <a:lnTo>
                    <a:pt x="148367" y="1087"/>
                  </a:lnTo>
                  <a:lnTo>
                    <a:pt x="154791" y="724"/>
                  </a:lnTo>
                  <a:lnTo>
                    <a:pt x="168703" y="322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SMARTInkAnnotation80"/>
            <p:cNvSpPr/>
            <p:nvPr/>
          </p:nvSpPr>
          <p:spPr>
            <a:xfrm>
              <a:off x="1854360" y="2841840"/>
              <a:ext cx="95400" cy="3276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95470" h="327661">
                  <a:moveTo>
                    <a:pt x="95469" y="0"/>
                  </a:moveTo>
                  <a:lnTo>
                    <a:pt x="91424" y="0"/>
                  </a:lnTo>
                  <a:lnTo>
                    <a:pt x="90232" y="847"/>
                  </a:lnTo>
                  <a:lnTo>
                    <a:pt x="89438" y="2258"/>
                  </a:lnTo>
                  <a:lnTo>
                    <a:pt x="88555" y="6084"/>
                  </a:lnTo>
                  <a:lnTo>
                    <a:pt x="88163" y="10606"/>
                  </a:lnTo>
                  <a:lnTo>
                    <a:pt x="85731" y="17696"/>
                  </a:lnTo>
                  <a:lnTo>
                    <a:pt x="83897" y="21957"/>
                  </a:lnTo>
                  <a:lnTo>
                    <a:pt x="81828" y="27338"/>
                  </a:lnTo>
                  <a:lnTo>
                    <a:pt x="77271" y="40090"/>
                  </a:lnTo>
                  <a:lnTo>
                    <a:pt x="74871" y="46200"/>
                  </a:lnTo>
                  <a:lnTo>
                    <a:pt x="72423" y="51967"/>
                  </a:lnTo>
                  <a:lnTo>
                    <a:pt x="69945" y="57505"/>
                  </a:lnTo>
                  <a:lnTo>
                    <a:pt x="67447" y="64583"/>
                  </a:lnTo>
                  <a:lnTo>
                    <a:pt x="64934" y="72689"/>
                  </a:lnTo>
                  <a:lnTo>
                    <a:pt x="62412" y="81479"/>
                  </a:lnTo>
                  <a:lnTo>
                    <a:pt x="59038" y="89880"/>
                  </a:lnTo>
                  <a:lnTo>
                    <a:pt x="55095" y="98020"/>
                  </a:lnTo>
                  <a:lnTo>
                    <a:pt x="50773" y="105986"/>
                  </a:lnTo>
                  <a:lnTo>
                    <a:pt x="47045" y="114685"/>
                  </a:lnTo>
                  <a:lnTo>
                    <a:pt x="43713" y="123870"/>
                  </a:lnTo>
                  <a:lnTo>
                    <a:pt x="32282" y="158900"/>
                  </a:lnTo>
                  <a:lnTo>
                    <a:pt x="28791" y="167740"/>
                  </a:lnTo>
                  <a:lnTo>
                    <a:pt x="24770" y="177020"/>
                  </a:lnTo>
                  <a:lnTo>
                    <a:pt x="20397" y="186593"/>
                  </a:lnTo>
                  <a:lnTo>
                    <a:pt x="16634" y="195516"/>
                  </a:lnTo>
                  <a:lnTo>
                    <a:pt x="13280" y="204004"/>
                  </a:lnTo>
                  <a:lnTo>
                    <a:pt x="10196" y="212203"/>
                  </a:lnTo>
                  <a:lnTo>
                    <a:pt x="8140" y="221055"/>
                  </a:lnTo>
                  <a:lnTo>
                    <a:pt x="6770" y="230344"/>
                  </a:lnTo>
                  <a:lnTo>
                    <a:pt x="5856" y="239922"/>
                  </a:lnTo>
                  <a:lnTo>
                    <a:pt x="4401" y="248002"/>
                  </a:lnTo>
                  <a:lnTo>
                    <a:pt x="2583" y="255081"/>
                  </a:lnTo>
                  <a:lnTo>
                    <a:pt x="525" y="261494"/>
                  </a:lnTo>
                  <a:lnTo>
                    <a:pt x="0" y="267463"/>
                  </a:lnTo>
                  <a:lnTo>
                    <a:pt x="497" y="273135"/>
                  </a:lnTo>
                  <a:lnTo>
                    <a:pt x="1674" y="278610"/>
                  </a:lnTo>
                  <a:lnTo>
                    <a:pt x="2459" y="283954"/>
                  </a:lnTo>
                  <a:lnTo>
                    <a:pt x="2982" y="289210"/>
                  </a:lnTo>
                  <a:lnTo>
                    <a:pt x="3331" y="294406"/>
                  </a:lnTo>
                  <a:lnTo>
                    <a:pt x="3564" y="299564"/>
                  </a:lnTo>
                  <a:lnTo>
                    <a:pt x="3891" y="314067"/>
                  </a:lnTo>
                  <a:lnTo>
                    <a:pt x="4029" y="3276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MARTInkAnnotation81"/>
            <p:cNvSpPr/>
            <p:nvPr/>
          </p:nvSpPr>
          <p:spPr>
            <a:xfrm>
              <a:off x="2034000" y="2719800"/>
              <a:ext cx="195480" cy="1969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95717" h="196930">
                  <a:moveTo>
                    <a:pt x="167640" y="0"/>
                  </a:moveTo>
                  <a:lnTo>
                    <a:pt x="145462" y="0"/>
                  </a:lnTo>
                  <a:lnTo>
                    <a:pt x="140155" y="847"/>
                  </a:lnTo>
                  <a:lnTo>
                    <a:pt x="134076" y="2258"/>
                  </a:lnTo>
                  <a:lnTo>
                    <a:pt x="127485" y="4045"/>
                  </a:lnTo>
                  <a:lnTo>
                    <a:pt x="113386" y="8289"/>
                  </a:lnTo>
                  <a:lnTo>
                    <a:pt x="106071" y="10606"/>
                  </a:lnTo>
                  <a:lnTo>
                    <a:pt x="99501" y="12997"/>
                  </a:lnTo>
                  <a:lnTo>
                    <a:pt x="93427" y="15438"/>
                  </a:lnTo>
                  <a:lnTo>
                    <a:pt x="87685" y="17912"/>
                  </a:lnTo>
                  <a:lnTo>
                    <a:pt x="76789" y="22919"/>
                  </a:lnTo>
                  <a:lnTo>
                    <a:pt x="55997" y="33031"/>
                  </a:lnTo>
                  <a:lnTo>
                    <a:pt x="51725" y="36414"/>
                  </a:lnTo>
                  <a:lnTo>
                    <a:pt x="48030" y="40363"/>
                  </a:lnTo>
                  <a:lnTo>
                    <a:pt x="44720" y="44689"/>
                  </a:lnTo>
                  <a:lnTo>
                    <a:pt x="41667" y="48419"/>
                  </a:lnTo>
                  <a:lnTo>
                    <a:pt x="38785" y="51753"/>
                  </a:lnTo>
                  <a:lnTo>
                    <a:pt x="36016" y="54822"/>
                  </a:lnTo>
                  <a:lnTo>
                    <a:pt x="35018" y="57715"/>
                  </a:lnTo>
                  <a:lnTo>
                    <a:pt x="35199" y="60490"/>
                  </a:lnTo>
                  <a:lnTo>
                    <a:pt x="36166" y="63187"/>
                  </a:lnTo>
                  <a:lnTo>
                    <a:pt x="38504" y="65831"/>
                  </a:lnTo>
                  <a:lnTo>
                    <a:pt x="41756" y="68441"/>
                  </a:lnTo>
                  <a:lnTo>
                    <a:pt x="45618" y="71027"/>
                  </a:lnTo>
                  <a:lnTo>
                    <a:pt x="49885" y="73598"/>
                  </a:lnTo>
                  <a:lnTo>
                    <a:pt x="54424" y="76158"/>
                  </a:lnTo>
                  <a:lnTo>
                    <a:pt x="59143" y="78712"/>
                  </a:lnTo>
                  <a:lnTo>
                    <a:pt x="64828" y="82108"/>
                  </a:lnTo>
                  <a:lnTo>
                    <a:pt x="77919" y="90397"/>
                  </a:lnTo>
                  <a:lnTo>
                    <a:pt x="85813" y="94131"/>
                  </a:lnTo>
                  <a:lnTo>
                    <a:pt x="94462" y="97467"/>
                  </a:lnTo>
                  <a:lnTo>
                    <a:pt x="128632" y="108905"/>
                  </a:lnTo>
                  <a:lnTo>
                    <a:pt x="136554" y="112397"/>
                  </a:lnTo>
                  <a:lnTo>
                    <a:pt x="144376" y="116418"/>
                  </a:lnTo>
                  <a:lnTo>
                    <a:pt x="152131" y="120792"/>
                  </a:lnTo>
                  <a:lnTo>
                    <a:pt x="159840" y="124555"/>
                  </a:lnTo>
                  <a:lnTo>
                    <a:pt x="167520" y="127910"/>
                  </a:lnTo>
                  <a:lnTo>
                    <a:pt x="175180" y="130993"/>
                  </a:lnTo>
                  <a:lnTo>
                    <a:pt x="181133" y="134742"/>
                  </a:lnTo>
                  <a:lnTo>
                    <a:pt x="185949" y="138935"/>
                  </a:lnTo>
                  <a:lnTo>
                    <a:pt x="190006" y="143423"/>
                  </a:lnTo>
                  <a:lnTo>
                    <a:pt x="192710" y="147262"/>
                  </a:lnTo>
                  <a:lnTo>
                    <a:pt x="194514" y="150668"/>
                  </a:lnTo>
                  <a:lnTo>
                    <a:pt x="195716" y="153785"/>
                  </a:lnTo>
                  <a:lnTo>
                    <a:pt x="195671" y="156710"/>
                  </a:lnTo>
                  <a:lnTo>
                    <a:pt x="194794" y="159507"/>
                  </a:lnTo>
                  <a:lnTo>
                    <a:pt x="193362" y="162218"/>
                  </a:lnTo>
                  <a:lnTo>
                    <a:pt x="187256" y="167488"/>
                  </a:lnTo>
                  <a:lnTo>
                    <a:pt x="183258" y="170079"/>
                  </a:lnTo>
                  <a:lnTo>
                    <a:pt x="178898" y="172653"/>
                  </a:lnTo>
                  <a:lnTo>
                    <a:pt x="174299" y="175215"/>
                  </a:lnTo>
                  <a:lnTo>
                    <a:pt x="169539" y="177770"/>
                  </a:lnTo>
                  <a:lnTo>
                    <a:pt x="163826" y="180320"/>
                  </a:lnTo>
                  <a:lnTo>
                    <a:pt x="157478" y="182867"/>
                  </a:lnTo>
                  <a:lnTo>
                    <a:pt x="150705" y="185411"/>
                  </a:lnTo>
                  <a:lnTo>
                    <a:pt x="142804" y="187108"/>
                  </a:lnTo>
                  <a:lnTo>
                    <a:pt x="134149" y="188238"/>
                  </a:lnTo>
                  <a:lnTo>
                    <a:pt x="124993" y="188992"/>
                  </a:lnTo>
                  <a:lnTo>
                    <a:pt x="115502" y="190342"/>
                  </a:lnTo>
                  <a:lnTo>
                    <a:pt x="105788" y="192088"/>
                  </a:lnTo>
                  <a:lnTo>
                    <a:pt x="95925" y="194099"/>
                  </a:lnTo>
                  <a:lnTo>
                    <a:pt x="86810" y="195439"/>
                  </a:lnTo>
                  <a:lnTo>
                    <a:pt x="78194" y="196333"/>
                  </a:lnTo>
                  <a:lnTo>
                    <a:pt x="69909" y="196929"/>
                  </a:lnTo>
                  <a:lnTo>
                    <a:pt x="61846" y="196479"/>
                  </a:lnTo>
                  <a:lnTo>
                    <a:pt x="53931" y="195333"/>
                  </a:lnTo>
                  <a:lnTo>
                    <a:pt x="46114" y="193722"/>
                  </a:lnTo>
                  <a:lnTo>
                    <a:pt x="39210" y="191801"/>
                  </a:lnTo>
                  <a:lnTo>
                    <a:pt x="32913" y="189674"/>
                  </a:lnTo>
                  <a:lnTo>
                    <a:pt x="27022" y="187409"/>
                  </a:lnTo>
                  <a:lnTo>
                    <a:pt x="22248" y="185900"/>
                  </a:lnTo>
                  <a:lnTo>
                    <a:pt x="18219" y="184893"/>
                  </a:lnTo>
                  <a:lnTo>
                    <a:pt x="14686" y="184222"/>
                  </a:lnTo>
                  <a:lnTo>
                    <a:pt x="11484" y="183775"/>
                  </a:lnTo>
                  <a:lnTo>
                    <a:pt x="8503" y="183477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SMARTInkAnnotation82"/>
            <p:cNvSpPr/>
            <p:nvPr/>
          </p:nvSpPr>
          <p:spPr>
            <a:xfrm>
              <a:off x="2384280" y="2658960"/>
              <a:ext cx="37800" cy="266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101" h="266701">
                  <a:moveTo>
                    <a:pt x="38100" y="0"/>
                  </a:moveTo>
                  <a:lnTo>
                    <a:pt x="38100" y="4045"/>
                  </a:lnTo>
                  <a:lnTo>
                    <a:pt x="37253" y="6084"/>
                  </a:lnTo>
                  <a:lnTo>
                    <a:pt x="35842" y="8289"/>
                  </a:lnTo>
                  <a:lnTo>
                    <a:pt x="34055" y="10606"/>
                  </a:lnTo>
                  <a:lnTo>
                    <a:pt x="32863" y="12997"/>
                  </a:lnTo>
                  <a:lnTo>
                    <a:pt x="32069" y="15438"/>
                  </a:lnTo>
                  <a:lnTo>
                    <a:pt x="31539" y="17912"/>
                  </a:lnTo>
                  <a:lnTo>
                    <a:pt x="30339" y="21255"/>
                  </a:lnTo>
                  <a:lnTo>
                    <a:pt x="28693" y="25176"/>
                  </a:lnTo>
                  <a:lnTo>
                    <a:pt x="26749" y="29485"/>
                  </a:lnTo>
                  <a:lnTo>
                    <a:pt x="22331" y="38786"/>
                  </a:lnTo>
                  <a:lnTo>
                    <a:pt x="19967" y="43638"/>
                  </a:lnTo>
                  <a:lnTo>
                    <a:pt x="18391" y="49412"/>
                  </a:lnTo>
                  <a:lnTo>
                    <a:pt x="17341" y="55801"/>
                  </a:lnTo>
                  <a:lnTo>
                    <a:pt x="16641" y="62601"/>
                  </a:lnTo>
                  <a:lnTo>
                    <a:pt x="15327" y="69674"/>
                  </a:lnTo>
                  <a:lnTo>
                    <a:pt x="13605" y="76929"/>
                  </a:lnTo>
                  <a:lnTo>
                    <a:pt x="11610" y="84306"/>
                  </a:lnTo>
                  <a:lnTo>
                    <a:pt x="10280" y="91764"/>
                  </a:lnTo>
                  <a:lnTo>
                    <a:pt x="9394" y="99276"/>
                  </a:lnTo>
                  <a:lnTo>
                    <a:pt x="8802" y="106824"/>
                  </a:lnTo>
                  <a:lnTo>
                    <a:pt x="7561" y="114396"/>
                  </a:lnTo>
                  <a:lnTo>
                    <a:pt x="5888" y="121984"/>
                  </a:lnTo>
                  <a:lnTo>
                    <a:pt x="3925" y="129583"/>
                  </a:lnTo>
                  <a:lnTo>
                    <a:pt x="2617" y="138035"/>
                  </a:lnTo>
                  <a:lnTo>
                    <a:pt x="1745" y="147057"/>
                  </a:lnTo>
                  <a:lnTo>
                    <a:pt x="1163" y="156458"/>
                  </a:lnTo>
                  <a:lnTo>
                    <a:pt x="517" y="173677"/>
                  </a:lnTo>
                  <a:lnTo>
                    <a:pt x="153" y="197651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SMARTInkAnnotation83"/>
            <p:cNvSpPr/>
            <p:nvPr/>
          </p:nvSpPr>
          <p:spPr>
            <a:xfrm>
              <a:off x="2369160" y="2788200"/>
              <a:ext cx="167400" cy="302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7641" h="30481">
                  <a:moveTo>
                    <a:pt x="0" y="30480"/>
                  </a:moveTo>
                  <a:lnTo>
                    <a:pt x="4046" y="26435"/>
                  </a:lnTo>
                  <a:lnTo>
                    <a:pt x="6930" y="25243"/>
                  </a:lnTo>
                  <a:lnTo>
                    <a:pt x="10547" y="24449"/>
                  </a:lnTo>
                  <a:lnTo>
                    <a:pt x="14652" y="23919"/>
                  </a:lnTo>
                  <a:lnTo>
                    <a:pt x="18234" y="23566"/>
                  </a:lnTo>
                  <a:lnTo>
                    <a:pt x="21470" y="23331"/>
                  </a:lnTo>
                  <a:lnTo>
                    <a:pt x="24473" y="23174"/>
                  </a:lnTo>
                  <a:lnTo>
                    <a:pt x="29016" y="22223"/>
                  </a:lnTo>
                  <a:lnTo>
                    <a:pt x="34584" y="20742"/>
                  </a:lnTo>
                  <a:lnTo>
                    <a:pt x="40836" y="18908"/>
                  </a:lnTo>
                  <a:lnTo>
                    <a:pt x="48391" y="17685"/>
                  </a:lnTo>
                  <a:lnTo>
                    <a:pt x="56814" y="16870"/>
                  </a:lnTo>
                  <a:lnTo>
                    <a:pt x="65816" y="16327"/>
                  </a:lnTo>
                  <a:lnTo>
                    <a:pt x="74357" y="15118"/>
                  </a:lnTo>
                  <a:lnTo>
                    <a:pt x="82592" y="13466"/>
                  </a:lnTo>
                  <a:lnTo>
                    <a:pt x="90621" y="11517"/>
                  </a:lnTo>
                  <a:lnTo>
                    <a:pt x="98514" y="10218"/>
                  </a:lnTo>
                  <a:lnTo>
                    <a:pt x="106316" y="9352"/>
                  </a:lnTo>
                  <a:lnTo>
                    <a:pt x="114057" y="8775"/>
                  </a:lnTo>
                  <a:lnTo>
                    <a:pt x="122605" y="7543"/>
                  </a:lnTo>
                  <a:lnTo>
                    <a:pt x="131690" y="5876"/>
                  </a:lnTo>
                  <a:lnTo>
                    <a:pt x="141134" y="3917"/>
                  </a:lnTo>
                  <a:lnTo>
                    <a:pt x="148276" y="2611"/>
                  </a:lnTo>
                  <a:lnTo>
                    <a:pt x="153884" y="1741"/>
                  </a:ln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SMARTInkAnnotation84"/>
            <p:cNvSpPr/>
            <p:nvPr/>
          </p:nvSpPr>
          <p:spPr>
            <a:xfrm>
              <a:off x="2719800" y="2788200"/>
              <a:ext cx="144720" cy="3582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144781" h="358141">
                  <a:moveTo>
                    <a:pt x="144780" y="0"/>
                  </a:moveTo>
                  <a:lnTo>
                    <a:pt x="144780" y="13122"/>
                  </a:lnTo>
                  <a:lnTo>
                    <a:pt x="140735" y="22703"/>
                  </a:lnTo>
                  <a:lnTo>
                    <a:pt x="137850" y="26989"/>
                  </a:lnTo>
                  <a:lnTo>
                    <a:pt x="134234" y="31539"/>
                  </a:lnTo>
                  <a:lnTo>
                    <a:pt x="130129" y="36266"/>
                  </a:lnTo>
                  <a:lnTo>
                    <a:pt x="126547" y="41957"/>
                  </a:lnTo>
                  <a:lnTo>
                    <a:pt x="123311" y="48292"/>
                  </a:lnTo>
                  <a:lnTo>
                    <a:pt x="120307" y="55055"/>
                  </a:lnTo>
                  <a:lnTo>
                    <a:pt x="116612" y="62103"/>
                  </a:lnTo>
                  <a:lnTo>
                    <a:pt x="112454" y="69342"/>
                  </a:lnTo>
                  <a:lnTo>
                    <a:pt x="107990" y="76708"/>
                  </a:lnTo>
                  <a:lnTo>
                    <a:pt x="104166" y="84159"/>
                  </a:lnTo>
                  <a:lnTo>
                    <a:pt x="100771" y="91666"/>
                  </a:lnTo>
                  <a:lnTo>
                    <a:pt x="97661" y="99211"/>
                  </a:lnTo>
                  <a:lnTo>
                    <a:pt x="93894" y="107627"/>
                  </a:lnTo>
                  <a:lnTo>
                    <a:pt x="85193" y="126010"/>
                  </a:lnTo>
                  <a:lnTo>
                    <a:pt x="70775" y="155399"/>
                  </a:lnTo>
                  <a:lnTo>
                    <a:pt x="66656" y="165406"/>
                  </a:lnTo>
                  <a:lnTo>
                    <a:pt x="63064" y="175464"/>
                  </a:lnTo>
                  <a:lnTo>
                    <a:pt x="59823" y="185556"/>
                  </a:lnTo>
                  <a:lnTo>
                    <a:pt x="55969" y="194824"/>
                  </a:lnTo>
                  <a:lnTo>
                    <a:pt x="51706" y="203543"/>
                  </a:lnTo>
                  <a:lnTo>
                    <a:pt x="47171" y="211895"/>
                  </a:lnTo>
                  <a:lnTo>
                    <a:pt x="43301" y="220850"/>
                  </a:lnTo>
                  <a:lnTo>
                    <a:pt x="39874" y="230207"/>
                  </a:lnTo>
                  <a:lnTo>
                    <a:pt x="36743" y="239831"/>
                  </a:lnTo>
                  <a:lnTo>
                    <a:pt x="32962" y="249634"/>
                  </a:lnTo>
                  <a:lnTo>
                    <a:pt x="28748" y="259556"/>
                  </a:lnTo>
                  <a:lnTo>
                    <a:pt x="24246" y="269557"/>
                  </a:lnTo>
                  <a:lnTo>
                    <a:pt x="20397" y="278765"/>
                  </a:lnTo>
                  <a:lnTo>
                    <a:pt x="16985" y="287444"/>
                  </a:lnTo>
                  <a:lnTo>
                    <a:pt x="10936" y="303859"/>
                  </a:lnTo>
                  <a:lnTo>
                    <a:pt x="5425" y="319622"/>
                  </a:lnTo>
                  <a:lnTo>
                    <a:pt x="2411" y="330579"/>
                  </a:lnTo>
                  <a:lnTo>
                    <a:pt x="715" y="341507"/>
                  </a:lnTo>
                  <a:lnTo>
                    <a:pt x="212" y="350107"/>
                  </a:lnTo>
                  <a:lnTo>
                    <a:pt x="0" y="3581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SMARTInkAnnotation85"/>
            <p:cNvSpPr/>
            <p:nvPr/>
          </p:nvSpPr>
          <p:spPr>
            <a:xfrm>
              <a:off x="2902680" y="2719800"/>
              <a:ext cx="167400" cy="4496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67641" h="449581">
                  <a:moveTo>
                    <a:pt x="167640" y="0"/>
                  </a:moveTo>
                  <a:lnTo>
                    <a:pt x="163595" y="4045"/>
                  </a:lnTo>
                  <a:lnTo>
                    <a:pt x="162403" y="6084"/>
                  </a:lnTo>
                  <a:lnTo>
                    <a:pt x="158233" y="17696"/>
                  </a:lnTo>
                  <a:lnTo>
                    <a:pt x="153299" y="27338"/>
                  </a:lnTo>
                  <a:lnTo>
                    <a:pt x="149613" y="33465"/>
                  </a:lnTo>
                  <a:lnTo>
                    <a:pt x="145462" y="40090"/>
                  </a:lnTo>
                  <a:lnTo>
                    <a:pt x="141848" y="47047"/>
                  </a:lnTo>
                  <a:lnTo>
                    <a:pt x="138592" y="54225"/>
                  </a:lnTo>
                  <a:lnTo>
                    <a:pt x="135575" y="61550"/>
                  </a:lnTo>
                  <a:lnTo>
                    <a:pt x="131870" y="69820"/>
                  </a:lnTo>
                  <a:lnTo>
                    <a:pt x="123238" y="88040"/>
                  </a:lnTo>
                  <a:lnTo>
                    <a:pt x="119412" y="97640"/>
                  </a:lnTo>
                  <a:lnTo>
                    <a:pt x="116015" y="107427"/>
                  </a:lnTo>
                  <a:lnTo>
                    <a:pt x="112903" y="117338"/>
                  </a:lnTo>
                  <a:lnTo>
                    <a:pt x="108289" y="127332"/>
                  </a:lnTo>
                  <a:lnTo>
                    <a:pt x="102672" y="137381"/>
                  </a:lnTo>
                  <a:lnTo>
                    <a:pt x="96388" y="147468"/>
                  </a:lnTo>
                  <a:lnTo>
                    <a:pt x="91352" y="158425"/>
                  </a:lnTo>
                  <a:lnTo>
                    <a:pt x="87148" y="169963"/>
                  </a:lnTo>
                  <a:lnTo>
                    <a:pt x="83499" y="181889"/>
                  </a:lnTo>
                  <a:lnTo>
                    <a:pt x="79373" y="194073"/>
                  </a:lnTo>
                  <a:lnTo>
                    <a:pt x="70272" y="218899"/>
                  </a:lnTo>
                  <a:lnTo>
                    <a:pt x="65475" y="230599"/>
                  </a:lnTo>
                  <a:lnTo>
                    <a:pt x="60584" y="241786"/>
                  </a:lnTo>
                  <a:lnTo>
                    <a:pt x="55629" y="252631"/>
                  </a:lnTo>
                  <a:lnTo>
                    <a:pt x="51479" y="264094"/>
                  </a:lnTo>
                  <a:lnTo>
                    <a:pt x="47866" y="275969"/>
                  </a:lnTo>
                  <a:lnTo>
                    <a:pt x="44611" y="288120"/>
                  </a:lnTo>
                  <a:lnTo>
                    <a:pt x="40747" y="299607"/>
                  </a:lnTo>
                  <a:lnTo>
                    <a:pt x="36478" y="310651"/>
                  </a:lnTo>
                  <a:lnTo>
                    <a:pt x="31939" y="321401"/>
                  </a:lnTo>
                  <a:lnTo>
                    <a:pt x="28066" y="331954"/>
                  </a:lnTo>
                  <a:lnTo>
                    <a:pt x="24638" y="342376"/>
                  </a:lnTo>
                  <a:lnTo>
                    <a:pt x="21505" y="352711"/>
                  </a:lnTo>
                  <a:lnTo>
                    <a:pt x="19417" y="362141"/>
                  </a:lnTo>
                  <a:lnTo>
                    <a:pt x="18024" y="370967"/>
                  </a:lnTo>
                  <a:lnTo>
                    <a:pt x="17097" y="379392"/>
                  </a:lnTo>
                  <a:lnTo>
                    <a:pt x="13807" y="393267"/>
                  </a:lnTo>
                  <a:lnTo>
                    <a:pt x="10370" y="405079"/>
                  </a:lnTo>
                  <a:lnTo>
                    <a:pt x="8842" y="415973"/>
                  </a:lnTo>
                  <a:lnTo>
                    <a:pt x="5906" y="426459"/>
                  </a:lnTo>
                  <a:lnTo>
                    <a:pt x="1167" y="438899"/>
                  </a:lnTo>
                  <a:lnTo>
                    <a:pt x="0" y="4495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SMARTInkAnnotation86"/>
            <p:cNvSpPr/>
            <p:nvPr/>
          </p:nvSpPr>
          <p:spPr>
            <a:xfrm>
              <a:off x="2742480" y="2925720"/>
              <a:ext cx="457200" cy="75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57201" h="7621">
                  <a:moveTo>
                    <a:pt x="0" y="7620"/>
                  </a:moveTo>
                  <a:lnTo>
                    <a:pt x="4045" y="3575"/>
                  </a:lnTo>
                  <a:lnTo>
                    <a:pt x="6083" y="2383"/>
                  </a:lnTo>
                  <a:lnTo>
                    <a:pt x="8289" y="1589"/>
                  </a:lnTo>
                  <a:lnTo>
                    <a:pt x="10606" y="1059"/>
                  </a:lnTo>
                  <a:lnTo>
                    <a:pt x="13844" y="706"/>
                  </a:lnTo>
                  <a:lnTo>
                    <a:pt x="17696" y="471"/>
                  </a:lnTo>
                  <a:lnTo>
                    <a:pt x="21958" y="314"/>
                  </a:lnTo>
                  <a:lnTo>
                    <a:pt x="53130" y="62"/>
                  </a:lnTo>
                  <a:lnTo>
                    <a:pt x="296147" y="0"/>
                  </a:lnTo>
                  <a:lnTo>
                    <a:pt x="312578" y="847"/>
                  </a:lnTo>
                  <a:lnTo>
                    <a:pt x="329459" y="2258"/>
                  </a:lnTo>
                  <a:lnTo>
                    <a:pt x="346639" y="4045"/>
                  </a:lnTo>
                  <a:lnTo>
                    <a:pt x="362326" y="5237"/>
                  </a:lnTo>
                  <a:lnTo>
                    <a:pt x="377017" y="6032"/>
                  </a:lnTo>
                  <a:lnTo>
                    <a:pt x="411147" y="7149"/>
                  </a:lnTo>
                  <a:lnTo>
                    <a:pt x="434241" y="7481"/>
                  </a:lnTo>
                  <a:lnTo>
                    <a:pt x="457200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SMARTInkAnnotation87"/>
            <p:cNvSpPr/>
            <p:nvPr/>
          </p:nvSpPr>
          <p:spPr>
            <a:xfrm>
              <a:off x="2689200" y="3047400"/>
              <a:ext cx="487440" cy="151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87681" h="15213">
                  <a:moveTo>
                    <a:pt x="0" y="15212"/>
                  </a:moveTo>
                  <a:lnTo>
                    <a:pt x="10606" y="15212"/>
                  </a:lnTo>
                  <a:lnTo>
                    <a:pt x="14691" y="14366"/>
                  </a:lnTo>
                  <a:lnTo>
                    <a:pt x="19954" y="12954"/>
                  </a:lnTo>
                  <a:lnTo>
                    <a:pt x="26003" y="11167"/>
                  </a:lnTo>
                  <a:lnTo>
                    <a:pt x="33422" y="9975"/>
                  </a:lnTo>
                  <a:lnTo>
                    <a:pt x="41755" y="9181"/>
                  </a:lnTo>
                  <a:lnTo>
                    <a:pt x="50697" y="8651"/>
                  </a:lnTo>
                  <a:lnTo>
                    <a:pt x="74179" y="8063"/>
                  </a:lnTo>
                  <a:lnTo>
                    <a:pt x="130646" y="7685"/>
                  </a:lnTo>
                  <a:lnTo>
                    <a:pt x="146364" y="6808"/>
                  </a:lnTo>
                  <a:lnTo>
                    <a:pt x="162769" y="5375"/>
                  </a:lnTo>
                  <a:lnTo>
                    <a:pt x="179633" y="3574"/>
                  </a:lnTo>
                  <a:lnTo>
                    <a:pt x="196802" y="2374"/>
                  </a:lnTo>
                  <a:lnTo>
                    <a:pt x="214175" y="1573"/>
                  </a:lnTo>
                  <a:lnTo>
                    <a:pt x="250129" y="684"/>
                  </a:lnTo>
                  <a:lnTo>
                    <a:pt x="387874" y="0"/>
                  </a:lnTo>
                  <a:lnTo>
                    <a:pt x="403363" y="837"/>
                  </a:lnTo>
                  <a:lnTo>
                    <a:pt x="418769" y="2242"/>
                  </a:lnTo>
                  <a:lnTo>
                    <a:pt x="434119" y="4025"/>
                  </a:lnTo>
                  <a:lnTo>
                    <a:pt x="446893" y="5214"/>
                  </a:lnTo>
                  <a:lnTo>
                    <a:pt x="457949" y="6007"/>
                  </a:lnTo>
                  <a:lnTo>
                    <a:pt x="487680" y="75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SMARTInkAnnotation88"/>
            <p:cNvSpPr/>
            <p:nvPr/>
          </p:nvSpPr>
          <p:spPr>
            <a:xfrm>
              <a:off x="768960" y="3559320"/>
              <a:ext cx="296640" cy="3628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296836" h="362976">
                  <a:moveTo>
                    <a:pt x="37755" y="74970"/>
                  </a:moveTo>
                  <a:lnTo>
                    <a:pt x="37755" y="111981"/>
                  </a:lnTo>
                  <a:lnTo>
                    <a:pt x="36908" y="117423"/>
                  </a:lnTo>
                  <a:lnTo>
                    <a:pt x="35497" y="123592"/>
                  </a:lnTo>
                  <a:lnTo>
                    <a:pt x="33710" y="130244"/>
                  </a:lnTo>
                  <a:lnTo>
                    <a:pt x="32518" y="137219"/>
                  </a:lnTo>
                  <a:lnTo>
                    <a:pt x="31724" y="144409"/>
                  </a:lnTo>
                  <a:lnTo>
                    <a:pt x="31194" y="151743"/>
                  </a:lnTo>
                  <a:lnTo>
                    <a:pt x="29995" y="159171"/>
                  </a:lnTo>
                  <a:lnTo>
                    <a:pt x="28348" y="166664"/>
                  </a:lnTo>
                  <a:lnTo>
                    <a:pt x="26404" y="174199"/>
                  </a:lnTo>
                  <a:lnTo>
                    <a:pt x="24261" y="181763"/>
                  </a:lnTo>
                  <a:lnTo>
                    <a:pt x="19622" y="196940"/>
                  </a:lnTo>
                  <a:lnTo>
                    <a:pt x="18046" y="204543"/>
                  </a:lnTo>
                  <a:lnTo>
                    <a:pt x="16996" y="212152"/>
                  </a:lnTo>
                  <a:lnTo>
                    <a:pt x="16296" y="219764"/>
                  </a:lnTo>
                  <a:lnTo>
                    <a:pt x="14982" y="228226"/>
                  </a:lnTo>
                  <a:lnTo>
                    <a:pt x="13260" y="237253"/>
                  </a:lnTo>
                  <a:lnTo>
                    <a:pt x="11265" y="246659"/>
                  </a:lnTo>
                  <a:lnTo>
                    <a:pt x="9935" y="255469"/>
                  </a:lnTo>
                  <a:lnTo>
                    <a:pt x="9048" y="263882"/>
                  </a:lnTo>
                  <a:lnTo>
                    <a:pt x="8457" y="272031"/>
                  </a:lnTo>
                  <a:lnTo>
                    <a:pt x="7216" y="279157"/>
                  </a:lnTo>
                  <a:lnTo>
                    <a:pt x="5543" y="285601"/>
                  </a:lnTo>
                  <a:lnTo>
                    <a:pt x="3580" y="291590"/>
                  </a:lnTo>
                  <a:lnTo>
                    <a:pt x="2272" y="298123"/>
                  </a:lnTo>
                  <a:lnTo>
                    <a:pt x="1400" y="305019"/>
                  </a:lnTo>
                  <a:lnTo>
                    <a:pt x="818" y="312155"/>
                  </a:lnTo>
                  <a:lnTo>
                    <a:pt x="430" y="318607"/>
                  </a:lnTo>
                  <a:lnTo>
                    <a:pt x="0" y="330290"/>
                  </a:lnTo>
                  <a:lnTo>
                    <a:pt x="731" y="334930"/>
                  </a:lnTo>
                  <a:lnTo>
                    <a:pt x="4960" y="345505"/>
                  </a:lnTo>
                  <a:lnTo>
                    <a:pt x="6589" y="354001"/>
                  </a:lnTo>
                  <a:lnTo>
                    <a:pt x="7185" y="362975"/>
                  </a:lnTo>
                  <a:lnTo>
                    <a:pt x="7267" y="353787"/>
                  </a:lnTo>
                  <a:lnTo>
                    <a:pt x="7274" y="317866"/>
                  </a:lnTo>
                  <a:lnTo>
                    <a:pt x="8121" y="310560"/>
                  </a:lnTo>
                  <a:lnTo>
                    <a:pt x="9532" y="303150"/>
                  </a:lnTo>
                  <a:lnTo>
                    <a:pt x="11320" y="295670"/>
                  </a:lnTo>
                  <a:lnTo>
                    <a:pt x="12512" y="288143"/>
                  </a:lnTo>
                  <a:lnTo>
                    <a:pt x="13306" y="280585"/>
                  </a:lnTo>
                  <a:lnTo>
                    <a:pt x="13836" y="273006"/>
                  </a:lnTo>
                  <a:lnTo>
                    <a:pt x="14189" y="264567"/>
                  </a:lnTo>
                  <a:lnTo>
                    <a:pt x="14581" y="246159"/>
                  </a:lnTo>
                  <a:lnTo>
                    <a:pt x="15532" y="237356"/>
                  </a:lnTo>
                  <a:lnTo>
                    <a:pt x="17013" y="228947"/>
                  </a:lnTo>
                  <a:lnTo>
                    <a:pt x="20916" y="211984"/>
                  </a:lnTo>
                  <a:lnTo>
                    <a:pt x="25474" y="193156"/>
                  </a:lnTo>
                  <a:lnTo>
                    <a:pt x="27874" y="184240"/>
                  </a:lnTo>
                  <a:lnTo>
                    <a:pt x="35298" y="158710"/>
                  </a:lnTo>
                  <a:lnTo>
                    <a:pt x="42860" y="130920"/>
                  </a:lnTo>
                  <a:lnTo>
                    <a:pt x="47926" y="114230"/>
                  </a:lnTo>
                  <a:lnTo>
                    <a:pt x="50462" y="107070"/>
                  </a:lnTo>
                  <a:lnTo>
                    <a:pt x="53000" y="100603"/>
                  </a:lnTo>
                  <a:lnTo>
                    <a:pt x="55538" y="94599"/>
                  </a:lnTo>
                  <a:lnTo>
                    <a:pt x="58924" y="88055"/>
                  </a:lnTo>
                  <a:lnTo>
                    <a:pt x="62874" y="81153"/>
                  </a:lnTo>
                  <a:lnTo>
                    <a:pt x="67201" y="74012"/>
                  </a:lnTo>
                  <a:lnTo>
                    <a:pt x="71779" y="67558"/>
                  </a:lnTo>
                  <a:lnTo>
                    <a:pt x="76524" y="61561"/>
                  </a:lnTo>
                  <a:lnTo>
                    <a:pt x="85466" y="50383"/>
                  </a:lnTo>
                  <a:lnTo>
                    <a:pt x="92262" y="39771"/>
                  </a:lnTo>
                  <a:lnTo>
                    <a:pt x="100363" y="29410"/>
                  </a:lnTo>
                  <a:lnTo>
                    <a:pt x="109607" y="20008"/>
                  </a:lnTo>
                  <a:lnTo>
                    <a:pt x="114443" y="16315"/>
                  </a:lnTo>
                  <a:lnTo>
                    <a:pt x="119360" y="13006"/>
                  </a:lnTo>
                  <a:lnTo>
                    <a:pt x="124332" y="10801"/>
                  </a:lnTo>
                  <a:lnTo>
                    <a:pt x="129340" y="9330"/>
                  </a:lnTo>
                  <a:lnTo>
                    <a:pt x="134372" y="8350"/>
                  </a:lnTo>
                  <a:lnTo>
                    <a:pt x="142220" y="5003"/>
                  </a:lnTo>
                  <a:lnTo>
                    <a:pt x="145498" y="2925"/>
                  </a:lnTo>
                  <a:lnTo>
                    <a:pt x="153656" y="616"/>
                  </a:lnTo>
                  <a:lnTo>
                    <a:pt x="158203" y="0"/>
                  </a:lnTo>
                  <a:lnTo>
                    <a:pt x="162927" y="437"/>
                  </a:lnTo>
                  <a:lnTo>
                    <a:pt x="167770" y="1574"/>
                  </a:lnTo>
                  <a:lnTo>
                    <a:pt x="172691" y="3179"/>
                  </a:lnTo>
                  <a:lnTo>
                    <a:pt x="177666" y="5096"/>
                  </a:lnTo>
                  <a:lnTo>
                    <a:pt x="182676" y="7220"/>
                  </a:lnTo>
                  <a:lnTo>
                    <a:pt x="191911" y="11839"/>
                  </a:lnTo>
                  <a:lnTo>
                    <a:pt x="198838" y="16713"/>
                  </a:lnTo>
                  <a:lnTo>
                    <a:pt x="204738" y="23960"/>
                  </a:lnTo>
                  <a:lnTo>
                    <a:pt x="215078" y="39818"/>
                  </a:lnTo>
                  <a:lnTo>
                    <a:pt x="219470" y="46455"/>
                  </a:lnTo>
                  <a:lnTo>
                    <a:pt x="223245" y="52573"/>
                  </a:lnTo>
                  <a:lnTo>
                    <a:pt x="229697" y="63886"/>
                  </a:lnTo>
                  <a:lnTo>
                    <a:pt x="231757" y="70121"/>
                  </a:lnTo>
                  <a:lnTo>
                    <a:pt x="233129" y="76817"/>
                  </a:lnTo>
                  <a:lnTo>
                    <a:pt x="234045" y="83821"/>
                  </a:lnTo>
                  <a:lnTo>
                    <a:pt x="235502" y="91877"/>
                  </a:lnTo>
                  <a:lnTo>
                    <a:pt x="237319" y="100634"/>
                  </a:lnTo>
                  <a:lnTo>
                    <a:pt x="239378" y="109859"/>
                  </a:lnTo>
                  <a:lnTo>
                    <a:pt x="241597" y="118549"/>
                  </a:lnTo>
                  <a:lnTo>
                    <a:pt x="243923" y="126883"/>
                  </a:lnTo>
                  <a:lnTo>
                    <a:pt x="248765" y="142915"/>
                  </a:lnTo>
                  <a:lnTo>
                    <a:pt x="266366" y="196852"/>
                  </a:lnTo>
                  <a:lnTo>
                    <a:pt x="268902" y="204485"/>
                  </a:lnTo>
                  <a:lnTo>
                    <a:pt x="270593" y="212113"/>
                  </a:lnTo>
                  <a:lnTo>
                    <a:pt x="271721" y="219738"/>
                  </a:lnTo>
                  <a:lnTo>
                    <a:pt x="272472" y="227362"/>
                  </a:lnTo>
                  <a:lnTo>
                    <a:pt x="273820" y="234138"/>
                  </a:lnTo>
                  <a:lnTo>
                    <a:pt x="275565" y="240348"/>
                  </a:lnTo>
                  <a:lnTo>
                    <a:pt x="277575" y="246182"/>
                  </a:lnTo>
                  <a:lnTo>
                    <a:pt x="279808" y="257179"/>
                  </a:lnTo>
                  <a:lnTo>
                    <a:pt x="280404" y="262483"/>
                  </a:lnTo>
                  <a:lnTo>
                    <a:pt x="283323" y="270633"/>
                  </a:lnTo>
                  <a:lnTo>
                    <a:pt x="286596" y="277078"/>
                  </a:lnTo>
                  <a:lnTo>
                    <a:pt x="288052" y="282764"/>
                  </a:lnTo>
                  <a:lnTo>
                    <a:pt x="289286" y="284620"/>
                  </a:lnTo>
                  <a:lnTo>
                    <a:pt x="290955" y="285856"/>
                  </a:lnTo>
                  <a:lnTo>
                    <a:pt x="296835" y="28832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SMARTInkAnnotation89"/>
            <p:cNvSpPr/>
            <p:nvPr/>
          </p:nvSpPr>
          <p:spPr>
            <a:xfrm>
              <a:off x="1256400" y="3573360"/>
              <a:ext cx="22680" cy="25884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861" h="259081">
                  <a:moveTo>
                    <a:pt x="0" y="0"/>
                  </a:moveTo>
                  <a:lnTo>
                    <a:pt x="6561" y="0"/>
                  </a:lnTo>
                  <a:lnTo>
                    <a:pt x="6914" y="847"/>
                  </a:lnTo>
                  <a:lnTo>
                    <a:pt x="7306" y="4045"/>
                  </a:lnTo>
                  <a:lnTo>
                    <a:pt x="8257" y="5236"/>
                  </a:lnTo>
                  <a:lnTo>
                    <a:pt x="9738" y="6031"/>
                  </a:lnTo>
                  <a:lnTo>
                    <a:pt x="11572" y="6561"/>
                  </a:lnTo>
                  <a:lnTo>
                    <a:pt x="12795" y="8607"/>
                  </a:lnTo>
                  <a:lnTo>
                    <a:pt x="13610" y="11665"/>
                  </a:lnTo>
                  <a:lnTo>
                    <a:pt x="14153" y="15396"/>
                  </a:lnTo>
                  <a:lnTo>
                    <a:pt x="14516" y="19577"/>
                  </a:lnTo>
                  <a:lnTo>
                    <a:pt x="14757" y="24059"/>
                  </a:lnTo>
                  <a:lnTo>
                    <a:pt x="15025" y="33553"/>
                  </a:lnTo>
                  <a:lnTo>
                    <a:pt x="15232" y="84287"/>
                  </a:lnTo>
                  <a:lnTo>
                    <a:pt x="15239" y="136142"/>
                  </a:lnTo>
                  <a:lnTo>
                    <a:pt x="16086" y="144101"/>
                  </a:lnTo>
                  <a:lnTo>
                    <a:pt x="17498" y="151947"/>
                  </a:lnTo>
                  <a:lnTo>
                    <a:pt x="19285" y="159718"/>
                  </a:lnTo>
                  <a:lnTo>
                    <a:pt x="20477" y="167439"/>
                  </a:lnTo>
                  <a:lnTo>
                    <a:pt x="21271" y="175126"/>
                  </a:lnTo>
                  <a:lnTo>
                    <a:pt x="21801" y="182791"/>
                  </a:lnTo>
                  <a:lnTo>
                    <a:pt x="22389" y="195823"/>
                  </a:lnTo>
                  <a:lnTo>
                    <a:pt x="22721" y="212679"/>
                  </a:lnTo>
                  <a:lnTo>
                    <a:pt x="22833" y="233545"/>
                  </a:lnTo>
                  <a:lnTo>
                    <a:pt x="21995" y="237824"/>
                  </a:lnTo>
                  <a:lnTo>
                    <a:pt x="20590" y="241523"/>
                  </a:lnTo>
                  <a:lnTo>
                    <a:pt x="18807" y="244835"/>
                  </a:lnTo>
                  <a:lnTo>
                    <a:pt x="18465" y="247043"/>
                  </a:lnTo>
                  <a:lnTo>
                    <a:pt x="19083" y="248516"/>
                  </a:lnTo>
                  <a:lnTo>
                    <a:pt x="20342" y="249497"/>
                  </a:lnTo>
                  <a:lnTo>
                    <a:pt x="21181" y="250998"/>
                  </a:lnTo>
                  <a:lnTo>
                    <a:pt x="21741" y="252845"/>
                  </a:lnTo>
                  <a:lnTo>
                    <a:pt x="22860" y="2590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SMARTInkAnnotation90"/>
            <p:cNvSpPr/>
            <p:nvPr/>
          </p:nvSpPr>
          <p:spPr>
            <a:xfrm>
              <a:off x="1164960" y="368784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41">
                  <a:moveTo>
                    <a:pt x="0" y="15240"/>
                  </a:moveTo>
                  <a:lnTo>
                    <a:pt x="76714" y="15240"/>
                  </a:lnTo>
                  <a:lnTo>
                    <a:pt x="84163" y="14394"/>
                  </a:lnTo>
                  <a:lnTo>
                    <a:pt x="91669" y="12982"/>
                  </a:lnTo>
                  <a:lnTo>
                    <a:pt x="99212" y="11195"/>
                  </a:lnTo>
                  <a:lnTo>
                    <a:pt x="107628" y="10003"/>
                  </a:lnTo>
                  <a:lnTo>
                    <a:pt x="116626" y="9209"/>
                  </a:lnTo>
                  <a:lnTo>
                    <a:pt x="126010" y="8679"/>
                  </a:lnTo>
                  <a:lnTo>
                    <a:pt x="133960" y="7480"/>
                  </a:lnTo>
                  <a:lnTo>
                    <a:pt x="140954" y="5833"/>
                  </a:lnTo>
                  <a:lnTo>
                    <a:pt x="147309" y="3888"/>
                  </a:lnTo>
                  <a:lnTo>
                    <a:pt x="153239" y="2592"/>
                  </a:lnTo>
                  <a:lnTo>
                    <a:pt x="158886" y="1728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SMARTInkAnnotation91"/>
            <p:cNvSpPr/>
            <p:nvPr/>
          </p:nvSpPr>
          <p:spPr>
            <a:xfrm>
              <a:off x="1485000" y="3550680"/>
              <a:ext cx="99000" cy="2588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99061" h="259081">
                  <a:moveTo>
                    <a:pt x="0" y="0"/>
                  </a:moveTo>
                  <a:lnTo>
                    <a:pt x="4045" y="0"/>
                  </a:lnTo>
                  <a:lnTo>
                    <a:pt x="6084" y="1693"/>
                  </a:lnTo>
                  <a:lnTo>
                    <a:pt x="8289" y="4516"/>
                  </a:lnTo>
                  <a:lnTo>
                    <a:pt x="10606" y="8091"/>
                  </a:lnTo>
                  <a:lnTo>
                    <a:pt x="13180" y="14320"/>
                  </a:lnTo>
                  <a:lnTo>
                    <a:pt x="15171" y="20758"/>
                  </a:lnTo>
                  <a:lnTo>
                    <a:pt x="16887" y="24845"/>
                  </a:lnTo>
                  <a:lnTo>
                    <a:pt x="18878" y="29264"/>
                  </a:lnTo>
                  <a:lnTo>
                    <a:pt x="20205" y="34749"/>
                  </a:lnTo>
                  <a:lnTo>
                    <a:pt x="21090" y="40946"/>
                  </a:lnTo>
                  <a:lnTo>
                    <a:pt x="21680" y="47618"/>
                  </a:lnTo>
                  <a:lnTo>
                    <a:pt x="22920" y="54605"/>
                  </a:lnTo>
                  <a:lnTo>
                    <a:pt x="24594" y="61804"/>
                  </a:lnTo>
                  <a:lnTo>
                    <a:pt x="26556" y="69142"/>
                  </a:lnTo>
                  <a:lnTo>
                    <a:pt x="27864" y="76575"/>
                  </a:lnTo>
                  <a:lnTo>
                    <a:pt x="28736" y="84070"/>
                  </a:lnTo>
                  <a:lnTo>
                    <a:pt x="29317" y="91607"/>
                  </a:lnTo>
                  <a:lnTo>
                    <a:pt x="30551" y="99171"/>
                  </a:lnTo>
                  <a:lnTo>
                    <a:pt x="32221" y="106754"/>
                  </a:lnTo>
                  <a:lnTo>
                    <a:pt x="34181" y="114349"/>
                  </a:lnTo>
                  <a:lnTo>
                    <a:pt x="37180" y="121953"/>
                  </a:lnTo>
                  <a:lnTo>
                    <a:pt x="40874" y="129562"/>
                  </a:lnTo>
                  <a:lnTo>
                    <a:pt x="45029" y="137175"/>
                  </a:lnTo>
                  <a:lnTo>
                    <a:pt x="48646" y="144790"/>
                  </a:lnTo>
                  <a:lnTo>
                    <a:pt x="51904" y="152407"/>
                  </a:lnTo>
                  <a:lnTo>
                    <a:pt x="54923" y="160025"/>
                  </a:lnTo>
                  <a:lnTo>
                    <a:pt x="57782" y="168490"/>
                  </a:lnTo>
                  <a:lnTo>
                    <a:pt x="60535" y="177519"/>
                  </a:lnTo>
                  <a:lnTo>
                    <a:pt x="63216" y="186927"/>
                  </a:lnTo>
                  <a:lnTo>
                    <a:pt x="65851" y="194891"/>
                  </a:lnTo>
                  <a:lnTo>
                    <a:pt x="68454" y="201894"/>
                  </a:lnTo>
                  <a:lnTo>
                    <a:pt x="71036" y="208256"/>
                  </a:lnTo>
                  <a:lnTo>
                    <a:pt x="73604" y="214191"/>
                  </a:lnTo>
                  <a:lnTo>
                    <a:pt x="78715" y="225300"/>
                  </a:lnTo>
                  <a:lnTo>
                    <a:pt x="80417" y="229787"/>
                  </a:lnTo>
                  <a:lnTo>
                    <a:pt x="82308" y="237030"/>
                  </a:lnTo>
                  <a:lnTo>
                    <a:pt x="84505" y="240993"/>
                  </a:lnTo>
                  <a:lnTo>
                    <a:pt x="87663" y="245329"/>
                  </a:lnTo>
                  <a:lnTo>
                    <a:pt x="99060" y="2590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SMARTInkAnnotation92"/>
            <p:cNvSpPr/>
            <p:nvPr/>
          </p:nvSpPr>
          <p:spPr>
            <a:xfrm>
              <a:off x="1835640" y="3634200"/>
              <a:ext cx="213120" cy="15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13361" h="15241">
                  <a:moveTo>
                    <a:pt x="0" y="15240"/>
                  </a:moveTo>
                  <a:lnTo>
                    <a:pt x="76754" y="15240"/>
                  </a:lnTo>
                  <a:lnTo>
                    <a:pt x="84189" y="14393"/>
                  </a:lnTo>
                  <a:lnTo>
                    <a:pt x="91686" y="12983"/>
                  </a:lnTo>
                  <a:lnTo>
                    <a:pt x="99224" y="11195"/>
                  </a:lnTo>
                  <a:lnTo>
                    <a:pt x="106790" y="10003"/>
                  </a:lnTo>
                  <a:lnTo>
                    <a:pt x="114373" y="9209"/>
                  </a:lnTo>
                  <a:lnTo>
                    <a:pt x="121968" y="8679"/>
                  </a:lnTo>
                  <a:lnTo>
                    <a:pt x="129572" y="8326"/>
                  </a:lnTo>
                  <a:lnTo>
                    <a:pt x="144794" y="7934"/>
                  </a:lnTo>
                  <a:lnTo>
                    <a:pt x="152410" y="6983"/>
                  </a:lnTo>
                  <a:lnTo>
                    <a:pt x="160027" y="5502"/>
                  </a:lnTo>
                  <a:lnTo>
                    <a:pt x="167644" y="3668"/>
                  </a:lnTo>
                  <a:lnTo>
                    <a:pt x="175263" y="2445"/>
                  </a:lnTo>
                  <a:lnTo>
                    <a:pt x="182882" y="1630"/>
                  </a:lnTo>
                  <a:lnTo>
                    <a:pt x="196427" y="725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SMARTInkAnnotation93"/>
            <p:cNvSpPr/>
            <p:nvPr/>
          </p:nvSpPr>
          <p:spPr>
            <a:xfrm>
              <a:off x="1866240" y="3726000"/>
              <a:ext cx="258840" cy="378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59081" h="38101">
                  <a:moveTo>
                    <a:pt x="0" y="38100"/>
                  </a:moveTo>
                  <a:lnTo>
                    <a:pt x="83334" y="38100"/>
                  </a:lnTo>
                  <a:lnTo>
                    <a:pt x="91116" y="37253"/>
                  </a:lnTo>
                  <a:lnTo>
                    <a:pt x="98844" y="35843"/>
                  </a:lnTo>
                  <a:lnTo>
                    <a:pt x="106536" y="34055"/>
                  </a:lnTo>
                  <a:lnTo>
                    <a:pt x="114204" y="32017"/>
                  </a:lnTo>
                  <a:lnTo>
                    <a:pt x="129498" y="27494"/>
                  </a:lnTo>
                  <a:lnTo>
                    <a:pt x="137978" y="25950"/>
                  </a:lnTo>
                  <a:lnTo>
                    <a:pt x="147019" y="24920"/>
                  </a:lnTo>
                  <a:lnTo>
                    <a:pt x="156432" y="24233"/>
                  </a:lnTo>
                  <a:lnTo>
                    <a:pt x="165248" y="22929"/>
                  </a:lnTo>
                  <a:lnTo>
                    <a:pt x="173666" y="21213"/>
                  </a:lnTo>
                  <a:lnTo>
                    <a:pt x="181817" y="19222"/>
                  </a:lnTo>
                  <a:lnTo>
                    <a:pt x="190638" y="17895"/>
                  </a:lnTo>
                  <a:lnTo>
                    <a:pt x="199905" y="17010"/>
                  </a:lnTo>
                  <a:lnTo>
                    <a:pt x="209470" y="16420"/>
                  </a:lnTo>
                  <a:lnTo>
                    <a:pt x="218387" y="15180"/>
                  </a:lnTo>
                  <a:lnTo>
                    <a:pt x="226871" y="13507"/>
                  </a:lnTo>
                  <a:lnTo>
                    <a:pt x="235067" y="11545"/>
                  </a:lnTo>
                  <a:lnTo>
                    <a:pt x="241378" y="9390"/>
                  </a:lnTo>
                  <a:lnTo>
                    <a:pt x="246432" y="7106"/>
                  </a:lnTo>
                  <a:lnTo>
                    <a:pt x="2590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SMARTInkAnnotation94"/>
            <p:cNvSpPr/>
            <p:nvPr/>
          </p:nvSpPr>
          <p:spPr>
            <a:xfrm>
              <a:off x="2384280" y="3447360"/>
              <a:ext cx="266400" cy="3312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266701" h="331267">
                  <a:moveTo>
                    <a:pt x="0" y="72671"/>
                  </a:moveTo>
                  <a:lnTo>
                    <a:pt x="0" y="62065"/>
                  </a:lnTo>
                  <a:lnTo>
                    <a:pt x="847" y="60521"/>
                  </a:lnTo>
                  <a:lnTo>
                    <a:pt x="2258" y="59491"/>
                  </a:lnTo>
                  <a:lnTo>
                    <a:pt x="4045" y="58805"/>
                  </a:lnTo>
                  <a:lnTo>
                    <a:pt x="5237" y="57500"/>
                  </a:lnTo>
                  <a:lnTo>
                    <a:pt x="6031" y="55784"/>
                  </a:lnTo>
                  <a:lnTo>
                    <a:pt x="7760" y="50772"/>
                  </a:lnTo>
                  <a:lnTo>
                    <a:pt x="11352" y="42901"/>
                  </a:lnTo>
                  <a:lnTo>
                    <a:pt x="14341" y="39277"/>
                  </a:lnTo>
                  <a:lnTo>
                    <a:pt x="22178" y="32994"/>
                  </a:lnTo>
                  <a:lnTo>
                    <a:pt x="26639" y="30133"/>
                  </a:lnTo>
                  <a:lnTo>
                    <a:pt x="31306" y="27379"/>
                  </a:lnTo>
                  <a:lnTo>
                    <a:pt x="36111" y="24696"/>
                  </a:lnTo>
                  <a:lnTo>
                    <a:pt x="45965" y="19458"/>
                  </a:lnTo>
                  <a:lnTo>
                    <a:pt x="66088" y="9196"/>
                  </a:lnTo>
                  <a:lnTo>
                    <a:pt x="71152" y="7494"/>
                  </a:lnTo>
                  <a:lnTo>
                    <a:pt x="76221" y="6360"/>
                  </a:lnTo>
                  <a:lnTo>
                    <a:pt x="81294" y="5604"/>
                  </a:lnTo>
                  <a:lnTo>
                    <a:pt x="87216" y="4253"/>
                  </a:lnTo>
                  <a:lnTo>
                    <a:pt x="93704" y="2506"/>
                  </a:lnTo>
                  <a:lnTo>
                    <a:pt x="100570" y="494"/>
                  </a:lnTo>
                  <a:lnTo>
                    <a:pt x="106840" y="0"/>
                  </a:lnTo>
                  <a:lnTo>
                    <a:pt x="112713" y="517"/>
                  </a:lnTo>
                  <a:lnTo>
                    <a:pt x="118322" y="1708"/>
                  </a:lnTo>
                  <a:lnTo>
                    <a:pt x="124602" y="2503"/>
                  </a:lnTo>
                  <a:lnTo>
                    <a:pt x="131328" y="3032"/>
                  </a:lnTo>
                  <a:lnTo>
                    <a:pt x="138352" y="3385"/>
                  </a:lnTo>
                  <a:lnTo>
                    <a:pt x="143881" y="4467"/>
                  </a:lnTo>
                  <a:lnTo>
                    <a:pt x="148414" y="6035"/>
                  </a:lnTo>
                  <a:lnTo>
                    <a:pt x="155709" y="10035"/>
                  </a:lnTo>
                  <a:lnTo>
                    <a:pt x="161773" y="14635"/>
                  </a:lnTo>
                  <a:lnTo>
                    <a:pt x="169947" y="21985"/>
                  </a:lnTo>
                  <a:lnTo>
                    <a:pt x="171718" y="25334"/>
                  </a:lnTo>
                  <a:lnTo>
                    <a:pt x="173686" y="33570"/>
                  </a:lnTo>
                  <a:lnTo>
                    <a:pt x="174211" y="38984"/>
                  </a:lnTo>
                  <a:lnTo>
                    <a:pt x="174561" y="45133"/>
                  </a:lnTo>
                  <a:lnTo>
                    <a:pt x="174794" y="51772"/>
                  </a:lnTo>
                  <a:lnTo>
                    <a:pt x="173256" y="58739"/>
                  </a:lnTo>
                  <a:lnTo>
                    <a:pt x="170537" y="65923"/>
                  </a:lnTo>
                  <a:lnTo>
                    <a:pt x="154475" y="98876"/>
                  </a:lnTo>
                  <a:lnTo>
                    <a:pt x="145985" y="115927"/>
                  </a:lnTo>
                  <a:lnTo>
                    <a:pt x="140503" y="124368"/>
                  </a:lnTo>
                  <a:lnTo>
                    <a:pt x="134309" y="132535"/>
                  </a:lnTo>
                  <a:lnTo>
                    <a:pt x="127639" y="140521"/>
                  </a:lnTo>
                  <a:lnTo>
                    <a:pt x="122346" y="148384"/>
                  </a:lnTo>
                  <a:lnTo>
                    <a:pt x="117971" y="156166"/>
                  </a:lnTo>
                  <a:lnTo>
                    <a:pt x="114207" y="163895"/>
                  </a:lnTo>
                  <a:lnTo>
                    <a:pt x="109158" y="172434"/>
                  </a:lnTo>
                  <a:lnTo>
                    <a:pt x="103252" y="181513"/>
                  </a:lnTo>
                  <a:lnTo>
                    <a:pt x="96775" y="190952"/>
                  </a:lnTo>
                  <a:lnTo>
                    <a:pt x="91610" y="199785"/>
                  </a:lnTo>
                  <a:lnTo>
                    <a:pt x="87320" y="208214"/>
                  </a:lnTo>
                  <a:lnTo>
                    <a:pt x="83613" y="216373"/>
                  </a:lnTo>
                  <a:lnTo>
                    <a:pt x="79449" y="224353"/>
                  </a:lnTo>
                  <a:lnTo>
                    <a:pt x="74979" y="232212"/>
                  </a:lnTo>
                  <a:lnTo>
                    <a:pt x="70306" y="239992"/>
                  </a:lnTo>
                  <a:lnTo>
                    <a:pt x="66344" y="246871"/>
                  </a:lnTo>
                  <a:lnTo>
                    <a:pt x="59684" y="259031"/>
                  </a:lnTo>
                  <a:lnTo>
                    <a:pt x="57569" y="264645"/>
                  </a:lnTo>
                  <a:lnTo>
                    <a:pt x="56160" y="270080"/>
                  </a:lnTo>
                  <a:lnTo>
                    <a:pt x="55220" y="275397"/>
                  </a:lnTo>
                  <a:lnTo>
                    <a:pt x="55440" y="280635"/>
                  </a:lnTo>
                  <a:lnTo>
                    <a:pt x="57942" y="290971"/>
                  </a:lnTo>
                  <a:lnTo>
                    <a:pt x="61876" y="301209"/>
                  </a:lnTo>
                  <a:lnTo>
                    <a:pt x="64111" y="306310"/>
                  </a:lnTo>
                  <a:lnTo>
                    <a:pt x="67294" y="310557"/>
                  </a:lnTo>
                  <a:lnTo>
                    <a:pt x="75346" y="317534"/>
                  </a:lnTo>
                  <a:lnTo>
                    <a:pt x="80711" y="320580"/>
                  </a:lnTo>
                  <a:lnTo>
                    <a:pt x="86827" y="323457"/>
                  </a:lnTo>
                  <a:lnTo>
                    <a:pt x="93445" y="326222"/>
                  </a:lnTo>
                  <a:lnTo>
                    <a:pt x="101243" y="328065"/>
                  </a:lnTo>
                  <a:lnTo>
                    <a:pt x="109829" y="329293"/>
                  </a:lnTo>
                  <a:lnTo>
                    <a:pt x="118939" y="330113"/>
                  </a:lnTo>
                  <a:lnTo>
                    <a:pt x="128400" y="330659"/>
                  </a:lnTo>
                  <a:lnTo>
                    <a:pt x="147942" y="331266"/>
                  </a:lnTo>
                  <a:lnTo>
                    <a:pt x="158741" y="330581"/>
                  </a:lnTo>
                  <a:lnTo>
                    <a:pt x="170175" y="329278"/>
                  </a:lnTo>
                  <a:lnTo>
                    <a:pt x="182030" y="327562"/>
                  </a:lnTo>
                  <a:lnTo>
                    <a:pt x="206491" y="323398"/>
                  </a:lnTo>
                  <a:lnTo>
                    <a:pt x="218941" y="321103"/>
                  </a:lnTo>
                  <a:lnTo>
                    <a:pt x="229780" y="318726"/>
                  </a:lnTo>
                  <a:lnTo>
                    <a:pt x="239547" y="316294"/>
                  </a:lnTo>
                  <a:lnTo>
                    <a:pt x="266700" y="30889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SMARTInkAnnotation95"/>
            <p:cNvSpPr/>
            <p:nvPr/>
          </p:nvSpPr>
          <p:spPr>
            <a:xfrm>
              <a:off x="2727360" y="3367800"/>
              <a:ext cx="251280" cy="1594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1458" h="159741">
                  <a:moveTo>
                    <a:pt x="30477" y="15104"/>
                  </a:moveTo>
                  <a:lnTo>
                    <a:pt x="30477" y="25710"/>
                  </a:lnTo>
                  <a:lnTo>
                    <a:pt x="29630" y="28948"/>
                  </a:lnTo>
                  <a:lnTo>
                    <a:pt x="28219" y="32800"/>
                  </a:lnTo>
                  <a:lnTo>
                    <a:pt x="26432" y="37061"/>
                  </a:lnTo>
                  <a:lnTo>
                    <a:pt x="25240" y="41596"/>
                  </a:lnTo>
                  <a:lnTo>
                    <a:pt x="24446" y="46312"/>
                  </a:lnTo>
                  <a:lnTo>
                    <a:pt x="23916" y="51149"/>
                  </a:lnTo>
                  <a:lnTo>
                    <a:pt x="22716" y="56068"/>
                  </a:lnTo>
                  <a:lnTo>
                    <a:pt x="21070" y="61040"/>
                  </a:lnTo>
                  <a:lnTo>
                    <a:pt x="19126" y="66048"/>
                  </a:lnTo>
                  <a:lnTo>
                    <a:pt x="17829" y="71927"/>
                  </a:lnTo>
                  <a:lnTo>
                    <a:pt x="16965" y="78386"/>
                  </a:lnTo>
                  <a:lnTo>
                    <a:pt x="16389" y="85232"/>
                  </a:lnTo>
                  <a:lnTo>
                    <a:pt x="15158" y="91489"/>
                  </a:lnTo>
                  <a:lnTo>
                    <a:pt x="13491" y="97354"/>
                  </a:lnTo>
                  <a:lnTo>
                    <a:pt x="11533" y="102958"/>
                  </a:lnTo>
                  <a:lnTo>
                    <a:pt x="9381" y="108386"/>
                  </a:lnTo>
                  <a:lnTo>
                    <a:pt x="7100" y="113699"/>
                  </a:lnTo>
                  <a:lnTo>
                    <a:pt x="4732" y="118934"/>
                  </a:lnTo>
                  <a:lnTo>
                    <a:pt x="3154" y="124117"/>
                  </a:lnTo>
                  <a:lnTo>
                    <a:pt x="2102" y="129266"/>
                  </a:lnTo>
                  <a:lnTo>
                    <a:pt x="1400" y="134393"/>
                  </a:lnTo>
                  <a:lnTo>
                    <a:pt x="932" y="138656"/>
                  </a:lnTo>
                  <a:lnTo>
                    <a:pt x="620" y="142346"/>
                  </a:lnTo>
                  <a:lnTo>
                    <a:pt x="412" y="145652"/>
                  </a:lnTo>
                  <a:lnTo>
                    <a:pt x="182" y="151583"/>
                  </a:lnTo>
                  <a:lnTo>
                    <a:pt x="0" y="159740"/>
                  </a:lnTo>
                  <a:lnTo>
                    <a:pt x="4043" y="155796"/>
                  </a:lnTo>
                  <a:lnTo>
                    <a:pt x="5234" y="152925"/>
                  </a:lnTo>
                  <a:lnTo>
                    <a:pt x="6029" y="149319"/>
                  </a:lnTo>
                  <a:lnTo>
                    <a:pt x="6558" y="145221"/>
                  </a:lnTo>
                  <a:lnTo>
                    <a:pt x="8604" y="139949"/>
                  </a:lnTo>
                  <a:lnTo>
                    <a:pt x="11662" y="133894"/>
                  </a:lnTo>
                  <a:lnTo>
                    <a:pt x="15394" y="127317"/>
                  </a:lnTo>
                  <a:lnTo>
                    <a:pt x="19575" y="121240"/>
                  </a:lnTo>
                  <a:lnTo>
                    <a:pt x="24055" y="115495"/>
                  </a:lnTo>
                  <a:lnTo>
                    <a:pt x="28736" y="109971"/>
                  </a:lnTo>
                  <a:lnTo>
                    <a:pt x="33550" y="103749"/>
                  </a:lnTo>
                  <a:lnTo>
                    <a:pt x="38452" y="97061"/>
                  </a:lnTo>
                  <a:lnTo>
                    <a:pt x="48415" y="82856"/>
                  </a:lnTo>
                  <a:lnTo>
                    <a:pt x="58487" y="68076"/>
                  </a:lnTo>
                  <a:lnTo>
                    <a:pt x="63544" y="61426"/>
                  </a:lnTo>
                  <a:lnTo>
                    <a:pt x="68608" y="55298"/>
                  </a:lnTo>
                  <a:lnTo>
                    <a:pt x="73678" y="49520"/>
                  </a:lnTo>
                  <a:lnTo>
                    <a:pt x="78751" y="43975"/>
                  </a:lnTo>
                  <a:lnTo>
                    <a:pt x="88903" y="33298"/>
                  </a:lnTo>
                  <a:lnTo>
                    <a:pt x="93981" y="28926"/>
                  </a:lnTo>
                  <a:lnTo>
                    <a:pt x="99060" y="25166"/>
                  </a:lnTo>
                  <a:lnTo>
                    <a:pt x="104139" y="21812"/>
                  </a:lnTo>
                  <a:lnTo>
                    <a:pt x="109218" y="18729"/>
                  </a:lnTo>
                  <a:lnTo>
                    <a:pt x="114298" y="15828"/>
                  </a:lnTo>
                  <a:lnTo>
                    <a:pt x="119378" y="13046"/>
                  </a:lnTo>
                  <a:lnTo>
                    <a:pt x="123611" y="10345"/>
                  </a:lnTo>
                  <a:lnTo>
                    <a:pt x="127279" y="7699"/>
                  </a:lnTo>
                  <a:lnTo>
                    <a:pt x="130572" y="5087"/>
                  </a:lnTo>
                  <a:lnTo>
                    <a:pt x="134460" y="3346"/>
                  </a:lnTo>
                  <a:lnTo>
                    <a:pt x="138746" y="2185"/>
                  </a:lnTo>
                  <a:lnTo>
                    <a:pt x="143296" y="1412"/>
                  </a:lnTo>
                  <a:lnTo>
                    <a:pt x="150610" y="552"/>
                  </a:lnTo>
                  <a:lnTo>
                    <a:pt x="156683" y="170"/>
                  </a:lnTo>
                  <a:lnTo>
                    <a:pt x="162204" y="0"/>
                  </a:lnTo>
                  <a:lnTo>
                    <a:pt x="164015" y="801"/>
                  </a:lnTo>
                  <a:lnTo>
                    <a:pt x="165222" y="2183"/>
                  </a:lnTo>
                  <a:lnTo>
                    <a:pt x="166027" y="3950"/>
                  </a:lnTo>
                  <a:lnTo>
                    <a:pt x="169180" y="8171"/>
                  </a:lnTo>
                  <a:lnTo>
                    <a:pt x="171206" y="10482"/>
                  </a:lnTo>
                  <a:lnTo>
                    <a:pt x="177972" y="17565"/>
                  </a:lnTo>
                  <a:lnTo>
                    <a:pt x="182147" y="21825"/>
                  </a:lnTo>
                  <a:lnTo>
                    <a:pt x="184930" y="26358"/>
                  </a:lnTo>
                  <a:lnTo>
                    <a:pt x="186786" y="31073"/>
                  </a:lnTo>
                  <a:lnTo>
                    <a:pt x="188023" y="35910"/>
                  </a:lnTo>
                  <a:lnTo>
                    <a:pt x="188848" y="40828"/>
                  </a:lnTo>
                  <a:lnTo>
                    <a:pt x="189397" y="45800"/>
                  </a:lnTo>
                  <a:lnTo>
                    <a:pt x="189764" y="50808"/>
                  </a:lnTo>
                  <a:lnTo>
                    <a:pt x="190855" y="56687"/>
                  </a:lnTo>
                  <a:lnTo>
                    <a:pt x="192429" y="63146"/>
                  </a:lnTo>
                  <a:lnTo>
                    <a:pt x="194325" y="69992"/>
                  </a:lnTo>
                  <a:lnTo>
                    <a:pt x="195589" y="76249"/>
                  </a:lnTo>
                  <a:lnTo>
                    <a:pt x="196432" y="82114"/>
                  </a:lnTo>
                  <a:lnTo>
                    <a:pt x="196994" y="87718"/>
                  </a:lnTo>
                  <a:lnTo>
                    <a:pt x="198215" y="93146"/>
                  </a:lnTo>
                  <a:lnTo>
                    <a:pt x="199875" y="98459"/>
                  </a:lnTo>
                  <a:lnTo>
                    <a:pt x="201829" y="103694"/>
                  </a:lnTo>
                  <a:lnTo>
                    <a:pt x="203979" y="108031"/>
                  </a:lnTo>
                  <a:lnTo>
                    <a:pt x="206258" y="111769"/>
                  </a:lnTo>
                  <a:lnTo>
                    <a:pt x="208624" y="115107"/>
                  </a:lnTo>
                  <a:lnTo>
                    <a:pt x="211896" y="118179"/>
                  </a:lnTo>
                  <a:lnTo>
                    <a:pt x="215769" y="121075"/>
                  </a:lnTo>
                  <a:lnTo>
                    <a:pt x="220046" y="123851"/>
                  </a:lnTo>
                  <a:lnTo>
                    <a:pt x="227054" y="126936"/>
                  </a:lnTo>
                  <a:lnTo>
                    <a:pt x="230109" y="127759"/>
                  </a:lnTo>
                  <a:lnTo>
                    <a:pt x="235760" y="130931"/>
                  </a:lnTo>
                  <a:lnTo>
                    <a:pt x="238452" y="132961"/>
                  </a:lnTo>
                  <a:lnTo>
                    <a:pt x="241094" y="133470"/>
                  </a:lnTo>
                  <a:lnTo>
                    <a:pt x="243702" y="132961"/>
                  </a:lnTo>
                  <a:lnTo>
                    <a:pt x="251457" y="1294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SMARTInkAnnotation96"/>
            <p:cNvSpPr/>
            <p:nvPr/>
          </p:nvSpPr>
          <p:spPr>
            <a:xfrm>
              <a:off x="3025080" y="3238200"/>
              <a:ext cx="189720" cy="2815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189977" h="281560">
                  <a:moveTo>
                    <a:pt x="182356" y="0"/>
                  </a:moveTo>
                  <a:lnTo>
                    <a:pt x="182356" y="130634"/>
                  </a:lnTo>
                  <a:lnTo>
                    <a:pt x="183202" y="137889"/>
                  </a:lnTo>
                  <a:lnTo>
                    <a:pt x="184613" y="145266"/>
                  </a:lnTo>
                  <a:lnTo>
                    <a:pt x="186401" y="152724"/>
                  </a:lnTo>
                  <a:lnTo>
                    <a:pt x="187593" y="159389"/>
                  </a:lnTo>
                  <a:lnTo>
                    <a:pt x="188387" y="165526"/>
                  </a:lnTo>
                  <a:lnTo>
                    <a:pt x="188917" y="171311"/>
                  </a:lnTo>
                  <a:lnTo>
                    <a:pt x="189505" y="179996"/>
                  </a:lnTo>
                  <a:lnTo>
                    <a:pt x="189767" y="187525"/>
                  </a:lnTo>
                  <a:lnTo>
                    <a:pt x="189974" y="212806"/>
                  </a:lnTo>
                  <a:lnTo>
                    <a:pt x="187717" y="213114"/>
                  </a:lnTo>
                  <a:lnTo>
                    <a:pt x="183045" y="213251"/>
                  </a:lnTo>
                  <a:lnTo>
                    <a:pt x="140064" y="213356"/>
                  </a:lnTo>
                  <a:lnTo>
                    <a:pt x="133841" y="212511"/>
                  </a:lnTo>
                  <a:lnTo>
                    <a:pt x="127153" y="211101"/>
                  </a:lnTo>
                  <a:lnTo>
                    <a:pt x="120154" y="209314"/>
                  </a:lnTo>
                  <a:lnTo>
                    <a:pt x="112948" y="208122"/>
                  </a:lnTo>
                  <a:lnTo>
                    <a:pt x="105604" y="207328"/>
                  </a:lnTo>
                  <a:lnTo>
                    <a:pt x="98168" y="206799"/>
                  </a:lnTo>
                  <a:lnTo>
                    <a:pt x="90671" y="207293"/>
                  </a:lnTo>
                  <a:lnTo>
                    <a:pt x="83132" y="208468"/>
                  </a:lnTo>
                  <a:lnTo>
                    <a:pt x="75567" y="210099"/>
                  </a:lnTo>
                  <a:lnTo>
                    <a:pt x="67983" y="211186"/>
                  </a:lnTo>
                  <a:lnTo>
                    <a:pt x="60388" y="211911"/>
                  </a:lnTo>
                  <a:lnTo>
                    <a:pt x="52784" y="212394"/>
                  </a:lnTo>
                  <a:lnTo>
                    <a:pt x="45175" y="213563"/>
                  </a:lnTo>
                  <a:lnTo>
                    <a:pt x="37562" y="215188"/>
                  </a:lnTo>
                  <a:lnTo>
                    <a:pt x="29946" y="217119"/>
                  </a:lnTo>
                  <a:lnTo>
                    <a:pt x="24023" y="219253"/>
                  </a:lnTo>
                  <a:lnTo>
                    <a:pt x="19227" y="221522"/>
                  </a:lnTo>
                  <a:lnTo>
                    <a:pt x="15183" y="223881"/>
                  </a:lnTo>
                  <a:lnTo>
                    <a:pt x="11641" y="226301"/>
                  </a:lnTo>
                  <a:lnTo>
                    <a:pt x="8433" y="228760"/>
                  </a:lnTo>
                  <a:lnTo>
                    <a:pt x="5447" y="231247"/>
                  </a:lnTo>
                  <a:lnTo>
                    <a:pt x="3457" y="233751"/>
                  </a:lnTo>
                  <a:lnTo>
                    <a:pt x="2130" y="236267"/>
                  </a:lnTo>
                  <a:lnTo>
                    <a:pt x="656" y="241321"/>
                  </a:lnTo>
                  <a:lnTo>
                    <a:pt x="0" y="246389"/>
                  </a:lnTo>
                  <a:lnTo>
                    <a:pt x="1519" y="248926"/>
                  </a:lnTo>
                  <a:lnTo>
                    <a:pt x="4225" y="251464"/>
                  </a:lnTo>
                  <a:lnTo>
                    <a:pt x="7722" y="254003"/>
                  </a:lnTo>
                  <a:lnTo>
                    <a:pt x="24779" y="265666"/>
                  </a:lnTo>
                  <a:lnTo>
                    <a:pt x="31585" y="268551"/>
                  </a:lnTo>
                  <a:lnTo>
                    <a:pt x="38662" y="270474"/>
                  </a:lnTo>
                  <a:lnTo>
                    <a:pt x="45920" y="271756"/>
                  </a:lnTo>
                  <a:lnTo>
                    <a:pt x="53299" y="273457"/>
                  </a:lnTo>
                  <a:lnTo>
                    <a:pt x="60758" y="275439"/>
                  </a:lnTo>
                  <a:lnTo>
                    <a:pt x="68271" y="277606"/>
                  </a:lnTo>
                  <a:lnTo>
                    <a:pt x="75819" y="279050"/>
                  </a:lnTo>
                  <a:lnTo>
                    <a:pt x="83392" y="280014"/>
                  </a:lnTo>
                  <a:lnTo>
                    <a:pt x="90980" y="280656"/>
                  </a:lnTo>
                  <a:lnTo>
                    <a:pt x="99425" y="281084"/>
                  </a:lnTo>
                  <a:lnTo>
                    <a:pt x="117840" y="281559"/>
                  </a:lnTo>
                  <a:lnTo>
                    <a:pt x="125798" y="280839"/>
                  </a:lnTo>
                  <a:lnTo>
                    <a:pt x="132798" y="279513"/>
                  </a:lnTo>
                  <a:lnTo>
                    <a:pt x="139157" y="277782"/>
                  </a:lnTo>
                  <a:lnTo>
                    <a:pt x="152997" y="273601"/>
                  </a:lnTo>
                  <a:lnTo>
                    <a:pt x="160243" y="271300"/>
                  </a:lnTo>
                  <a:lnTo>
                    <a:pt x="165921" y="268920"/>
                  </a:lnTo>
                  <a:lnTo>
                    <a:pt x="170553" y="266487"/>
                  </a:lnTo>
                  <a:lnTo>
                    <a:pt x="174487" y="264018"/>
                  </a:lnTo>
                  <a:lnTo>
                    <a:pt x="177957" y="261526"/>
                  </a:lnTo>
                  <a:lnTo>
                    <a:pt x="181116" y="259017"/>
                  </a:lnTo>
                  <a:lnTo>
                    <a:pt x="184070" y="256498"/>
                  </a:lnTo>
                  <a:lnTo>
                    <a:pt x="186039" y="253972"/>
                  </a:lnTo>
                  <a:lnTo>
                    <a:pt x="188226" y="248908"/>
                  </a:lnTo>
                  <a:lnTo>
                    <a:pt x="189198" y="243835"/>
                  </a:lnTo>
                  <a:lnTo>
                    <a:pt x="189976" y="2362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SMARTInkAnnotation97"/>
            <p:cNvSpPr/>
            <p:nvPr/>
          </p:nvSpPr>
          <p:spPr>
            <a:xfrm>
              <a:off x="738360" y="4062600"/>
              <a:ext cx="342720" cy="3567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342900" h="356897">
                  <a:moveTo>
                    <a:pt x="53339" y="97828"/>
                  </a:moveTo>
                  <a:lnTo>
                    <a:pt x="46778" y="97828"/>
                  </a:lnTo>
                  <a:lnTo>
                    <a:pt x="46425" y="98675"/>
                  </a:lnTo>
                  <a:lnTo>
                    <a:pt x="45722" y="105421"/>
                  </a:lnTo>
                  <a:lnTo>
                    <a:pt x="45719" y="134454"/>
                  </a:lnTo>
                  <a:lnTo>
                    <a:pt x="41674" y="143581"/>
                  </a:lnTo>
                  <a:lnTo>
                    <a:pt x="39688" y="150054"/>
                  </a:lnTo>
                  <a:lnTo>
                    <a:pt x="38570" y="160716"/>
                  </a:lnTo>
                  <a:lnTo>
                    <a:pt x="38413" y="165153"/>
                  </a:lnTo>
                  <a:lnTo>
                    <a:pt x="35981" y="174599"/>
                  </a:lnTo>
                  <a:lnTo>
                    <a:pt x="32078" y="184442"/>
                  </a:lnTo>
                  <a:lnTo>
                    <a:pt x="27521" y="194461"/>
                  </a:lnTo>
                  <a:lnTo>
                    <a:pt x="24931" y="204558"/>
                  </a:lnTo>
                  <a:lnTo>
                    <a:pt x="23780" y="215538"/>
                  </a:lnTo>
                  <a:lnTo>
                    <a:pt x="23473" y="222021"/>
                  </a:lnTo>
                  <a:lnTo>
                    <a:pt x="23268" y="228883"/>
                  </a:lnTo>
                  <a:lnTo>
                    <a:pt x="22285" y="235151"/>
                  </a:lnTo>
                  <a:lnTo>
                    <a:pt x="20783" y="241024"/>
                  </a:lnTo>
                  <a:lnTo>
                    <a:pt x="17703" y="252064"/>
                  </a:lnTo>
                  <a:lnTo>
                    <a:pt x="16334" y="262615"/>
                  </a:lnTo>
                  <a:lnTo>
                    <a:pt x="15969" y="268646"/>
                  </a:lnTo>
                  <a:lnTo>
                    <a:pt x="15564" y="282121"/>
                  </a:lnTo>
                  <a:lnTo>
                    <a:pt x="15335" y="299941"/>
                  </a:lnTo>
                  <a:lnTo>
                    <a:pt x="13024" y="310705"/>
                  </a:lnTo>
                  <a:lnTo>
                    <a:pt x="10021" y="321133"/>
                  </a:lnTo>
                  <a:lnTo>
                    <a:pt x="8687" y="331413"/>
                  </a:lnTo>
                  <a:lnTo>
                    <a:pt x="5836" y="339368"/>
                  </a:lnTo>
                  <a:lnTo>
                    <a:pt x="2593" y="345726"/>
                  </a:lnTo>
                  <a:lnTo>
                    <a:pt x="8" y="356865"/>
                  </a:lnTo>
                  <a:lnTo>
                    <a:pt x="2" y="356896"/>
                  </a:lnTo>
                  <a:lnTo>
                    <a:pt x="0" y="348814"/>
                  </a:lnTo>
                  <a:lnTo>
                    <a:pt x="846" y="345585"/>
                  </a:lnTo>
                  <a:lnTo>
                    <a:pt x="4045" y="339740"/>
                  </a:lnTo>
                  <a:lnTo>
                    <a:pt x="6030" y="329805"/>
                  </a:lnTo>
                  <a:lnTo>
                    <a:pt x="6560" y="323599"/>
                  </a:lnTo>
                  <a:lnTo>
                    <a:pt x="7760" y="317769"/>
                  </a:lnTo>
                  <a:lnTo>
                    <a:pt x="11351" y="306775"/>
                  </a:lnTo>
                  <a:lnTo>
                    <a:pt x="12647" y="300626"/>
                  </a:lnTo>
                  <a:lnTo>
                    <a:pt x="13511" y="293987"/>
                  </a:lnTo>
                  <a:lnTo>
                    <a:pt x="14087" y="287021"/>
                  </a:lnTo>
                  <a:lnTo>
                    <a:pt x="14471" y="279836"/>
                  </a:lnTo>
                  <a:lnTo>
                    <a:pt x="14898" y="265081"/>
                  </a:lnTo>
                  <a:lnTo>
                    <a:pt x="15858" y="256743"/>
                  </a:lnTo>
                  <a:lnTo>
                    <a:pt x="17345" y="247798"/>
                  </a:lnTo>
                  <a:lnTo>
                    <a:pt x="19183" y="238448"/>
                  </a:lnTo>
                  <a:lnTo>
                    <a:pt x="21255" y="229675"/>
                  </a:lnTo>
                  <a:lnTo>
                    <a:pt x="23483" y="221286"/>
                  </a:lnTo>
                  <a:lnTo>
                    <a:pt x="28217" y="205192"/>
                  </a:lnTo>
                  <a:lnTo>
                    <a:pt x="33142" y="189572"/>
                  </a:lnTo>
                  <a:lnTo>
                    <a:pt x="36488" y="181850"/>
                  </a:lnTo>
                  <a:lnTo>
                    <a:pt x="40412" y="174163"/>
                  </a:lnTo>
                  <a:lnTo>
                    <a:pt x="44721" y="166499"/>
                  </a:lnTo>
                  <a:lnTo>
                    <a:pt x="49287" y="158848"/>
                  </a:lnTo>
                  <a:lnTo>
                    <a:pt x="58876" y="143575"/>
                  </a:lnTo>
                  <a:lnTo>
                    <a:pt x="62957" y="135946"/>
                  </a:lnTo>
                  <a:lnTo>
                    <a:pt x="66524" y="128320"/>
                  </a:lnTo>
                  <a:lnTo>
                    <a:pt x="69749" y="120696"/>
                  </a:lnTo>
                  <a:lnTo>
                    <a:pt x="72746" y="113073"/>
                  </a:lnTo>
                  <a:lnTo>
                    <a:pt x="78333" y="97831"/>
                  </a:lnTo>
                  <a:lnTo>
                    <a:pt x="81855" y="90210"/>
                  </a:lnTo>
                  <a:lnTo>
                    <a:pt x="85897" y="82590"/>
                  </a:lnTo>
                  <a:lnTo>
                    <a:pt x="90284" y="74969"/>
                  </a:lnTo>
                  <a:lnTo>
                    <a:pt x="94902" y="68195"/>
                  </a:lnTo>
                  <a:lnTo>
                    <a:pt x="99675" y="61986"/>
                  </a:lnTo>
                  <a:lnTo>
                    <a:pt x="104549" y="56153"/>
                  </a:lnTo>
                  <a:lnTo>
                    <a:pt x="114481" y="45157"/>
                  </a:lnTo>
                  <a:lnTo>
                    <a:pt x="123693" y="34625"/>
                  </a:lnTo>
                  <a:lnTo>
                    <a:pt x="130610" y="24300"/>
                  </a:lnTo>
                  <a:lnTo>
                    <a:pt x="138764" y="16324"/>
                  </a:lnTo>
                  <a:lnTo>
                    <a:pt x="143309" y="13013"/>
                  </a:lnTo>
                  <a:lnTo>
                    <a:pt x="152874" y="9332"/>
                  </a:lnTo>
                  <a:lnTo>
                    <a:pt x="157796" y="8351"/>
                  </a:lnTo>
                  <a:lnTo>
                    <a:pt x="165522" y="5003"/>
                  </a:lnTo>
                  <a:lnTo>
                    <a:pt x="168768" y="2925"/>
                  </a:lnTo>
                  <a:lnTo>
                    <a:pt x="176890" y="615"/>
                  </a:lnTo>
                  <a:lnTo>
                    <a:pt x="181426" y="0"/>
                  </a:lnTo>
                  <a:lnTo>
                    <a:pt x="185297" y="436"/>
                  </a:lnTo>
                  <a:lnTo>
                    <a:pt x="188725" y="1573"/>
                  </a:lnTo>
                  <a:lnTo>
                    <a:pt x="194790" y="5095"/>
                  </a:lnTo>
                  <a:lnTo>
                    <a:pt x="203812" y="11838"/>
                  </a:lnTo>
                  <a:lnTo>
                    <a:pt x="212220" y="16712"/>
                  </a:lnTo>
                  <a:lnTo>
                    <a:pt x="219344" y="23959"/>
                  </a:lnTo>
                  <a:lnTo>
                    <a:pt x="225332" y="32824"/>
                  </a:lnTo>
                  <a:lnTo>
                    <a:pt x="230816" y="42409"/>
                  </a:lnTo>
                  <a:lnTo>
                    <a:pt x="233464" y="48182"/>
                  </a:lnTo>
                  <a:lnTo>
                    <a:pt x="236075" y="54571"/>
                  </a:lnTo>
                  <a:lnTo>
                    <a:pt x="238663" y="61369"/>
                  </a:lnTo>
                  <a:lnTo>
                    <a:pt x="241235" y="67596"/>
                  </a:lnTo>
                  <a:lnTo>
                    <a:pt x="243796" y="73440"/>
                  </a:lnTo>
                  <a:lnTo>
                    <a:pt x="246351" y="79030"/>
                  </a:lnTo>
                  <a:lnTo>
                    <a:pt x="248900" y="85296"/>
                  </a:lnTo>
                  <a:lnTo>
                    <a:pt x="251446" y="92013"/>
                  </a:lnTo>
                  <a:lnTo>
                    <a:pt x="256533" y="106250"/>
                  </a:lnTo>
                  <a:lnTo>
                    <a:pt x="261617" y="121045"/>
                  </a:lnTo>
                  <a:lnTo>
                    <a:pt x="265004" y="129393"/>
                  </a:lnTo>
                  <a:lnTo>
                    <a:pt x="268956" y="138345"/>
                  </a:lnTo>
                  <a:lnTo>
                    <a:pt x="273283" y="147699"/>
                  </a:lnTo>
                  <a:lnTo>
                    <a:pt x="276168" y="156475"/>
                  </a:lnTo>
                  <a:lnTo>
                    <a:pt x="278092" y="164866"/>
                  </a:lnTo>
                  <a:lnTo>
                    <a:pt x="279374" y="173001"/>
                  </a:lnTo>
                  <a:lnTo>
                    <a:pt x="281923" y="180963"/>
                  </a:lnTo>
                  <a:lnTo>
                    <a:pt x="285315" y="188811"/>
                  </a:lnTo>
                  <a:lnTo>
                    <a:pt x="289269" y="196583"/>
                  </a:lnTo>
                  <a:lnTo>
                    <a:pt x="293599" y="204305"/>
                  </a:lnTo>
                  <a:lnTo>
                    <a:pt x="298179" y="211993"/>
                  </a:lnTo>
                  <a:lnTo>
                    <a:pt x="302926" y="219658"/>
                  </a:lnTo>
                  <a:lnTo>
                    <a:pt x="306090" y="227308"/>
                  </a:lnTo>
                  <a:lnTo>
                    <a:pt x="308200" y="234948"/>
                  </a:lnTo>
                  <a:lnTo>
                    <a:pt x="309606" y="242582"/>
                  </a:lnTo>
                  <a:lnTo>
                    <a:pt x="311391" y="250210"/>
                  </a:lnTo>
                  <a:lnTo>
                    <a:pt x="313427" y="257836"/>
                  </a:lnTo>
                  <a:lnTo>
                    <a:pt x="317947" y="273083"/>
                  </a:lnTo>
                  <a:lnTo>
                    <a:pt x="322778" y="288326"/>
                  </a:lnTo>
                  <a:lnTo>
                    <a:pt x="325490" y="299051"/>
                  </a:lnTo>
                  <a:lnTo>
                    <a:pt x="327541" y="307487"/>
                  </a:lnTo>
                  <a:lnTo>
                    <a:pt x="331276" y="316881"/>
                  </a:lnTo>
                  <a:lnTo>
                    <a:pt x="334093" y="327645"/>
                  </a:lnTo>
                  <a:lnTo>
                    <a:pt x="334927" y="332151"/>
                  </a:lnTo>
                  <a:lnTo>
                    <a:pt x="337380" y="335463"/>
                  </a:lnTo>
                  <a:lnTo>
                    <a:pt x="342899" y="3416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SMARTInkAnnotation98"/>
            <p:cNvSpPr/>
            <p:nvPr/>
          </p:nvSpPr>
          <p:spPr>
            <a:xfrm>
              <a:off x="1279440" y="4068720"/>
              <a:ext cx="53280" cy="312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53341" h="31242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5237" y="8608"/>
                  </a:lnTo>
                  <a:lnTo>
                    <a:pt x="6561" y="15397"/>
                  </a:lnTo>
                  <a:lnTo>
                    <a:pt x="7306" y="24694"/>
                  </a:lnTo>
                  <a:lnTo>
                    <a:pt x="7481" y="34682"/>
                  </a:lnTo>
                  <a:lnTo>
                    <a:pt x="7619" y="122035"/>
                  </a:lnTo>
                  <a:lnTo>
                    <a:pt x="8466" y="130463"/>
                  </a:lnTo>
                  <a:lnTo>
                    <a:pt x="9878" y="139469"/>
                  </a:lnTo>
                  <a:lnTo>
                    <a:pt x="11665" y="148859"/>
                  </a:lnTo>
                  <a:lnTo>
                    <a:pt x="12857" y="157660"/>
                  </a:lnTo>
                  <a:lnTo>
                    <a:pt x="13651" y="166066"/>
                  </a:lnTo>
                  <a:lnTo>
                    <a:pt x="14181" y="174211"/>
                  </a:lnTo>
                  <a:lnTo>
                    <a:pt x="15381" y="182181"/>
                  </a:lnTo>
                  <a:lnTo>
                    <a:pt x="17027" y="190034"/>
                  </a:lnTo>
                  <a:lnTo>
                    <a:pt x="18971" y="197810"/>
                  </a:lnTo>
                  <a:lnTo>
                    <a:pt x="20268" y="205533"/>
                  </a:lnTo>
                  <a:lnTo>
                    <a:pt x="21132" y="213222"/>
                  </a:lnTo>
                  <a:lnTo>
                    <a:pt x="21708" y="220888"/>
                  </a:lnTo>
                  <a:lnTo>
                    <a:pt x="22939" y="228539"/>
                  </a:lnTo>
                  <a:lnTo>
                    <a:pt x="24606" y="236179"/>
                  </a:lnTo>
                  <a:lnTo>
                    <a:pt x="26564" y="243813"/>
                  </a:lnTo>
                  <a:lnTo>
                    <a:pt x="28716" y="250595"/>
                  </a:lnTo>
                  <a:lnTo>
                    <a:pt x="30997" y="256810"/>
                  </a:lnTo>
                  <a:lnTo>
                    <a:pt x="33365" y="262647"/>
                  </a:lnTo>
                  <a:lnTo>
                    <a:pt x="35790" y="268231"/>
                  </a:lnTo>
                  <a:lnTo>
                    <a:pt x="40742" y="278952"/>
                  </a:lnTo>
                  <a:lnTo>
                    <a:pt x="42402" y="283335"/>
                  </a:lnTo>
                  <a:lnTo>
                    <a:pt x="43508" y="287103"/>
                  </a:lnTo>
                  <a:lnTo>
                    <a:pt x="45064" y="296452"/>
                  </a:lnTo>
                  <a:lnTo>
                    <a:pt x="45283" y="299235"/>
                  </a:lnTo>
                  <a:lnTo>
                    <a:pt x="46275" y="301090"/>
                  </a:lnTo>
                  <a:lnTo>
                    <a:pt x="47784" y="302327"/>
                  </a:lnTo>
                  <a:lnTo>
                    <a:pt x="49636" y="303151"/>
                  </a:lnTo>
                  <a:lnTo>
                    <a:pt x="50870" y="304548"/>
                  </a:lnTo>
                  <a:lnTo>
                    <a:pt x="51694" y="306325"/>
                  </a:lnTo>
                  <a:lnTo>
                    <a:pt x="53340" y="3124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SMARTInkAnnotation99"/>
            <p:cNvSpPr/>
            <p:nvPr/>
          </p:nvSpPr>
          <p:spPr>
            <a:xfrm>
              <a:off x="1241280" y="4198320"/>
              <a:ext cx="228600" cy="15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8601" h="15241">
                  <a:moveTo>
                    <a:pt x="0" y="15240"/>
                  </a:moveTo>
                  <a:lnTo>
                    <a:pt x="0" y="8679"/>
                  </a:lnTo>
                  <a:lnTo>
                    <a:pt x="847" y="8326"/>
                  </a:lnTo>
                  <a:lnTo>
                    <a:pt x="4045" y="7934"/>
                  </a:lnTo>
                  <a:lnTo>
                    <a:pt x="10606" y="7713"/>
                  </a:lnTo>
                  <a:lnTo>
                    <a:pt x="12997" y="6836"/>
                  </a:lnTo>
                  <a:lnTo>
                    <a:pt x="15438" y="5404"/>
                  </a:lnTo>
                  <a:lnTo>
                    <a:pt x="17912" y="3603"/>
                  </a:lnTo>
                  <a:lnTo>
                    <a:pt x="22101" y="2402"/>
                  </a:lnTo>
                  <a:lnTo>
                    <a:pt x="27434" y="1602"/>
                  </a:lnTo>
                  <a:lnTo>
                    <a:pt x="33529" y="1068"/>
                  </a:lnTo>
                  <a:lnTo>
                    <a:pt x="39286" y="1559"/>
                  </a:lnTo>
                  <a:lnTo>
                    <a:pt x="44818" y="2733"/>
                  </a:lnTo>
                  <a:lnTo>
                    <a:pt x="50198" y="4362"/>
                  </a:lnTo>
                  <a:lnTo>
                    <a:pt x="57172" y="5448"/>
                  </a:lnTo>
                  <a:lnTo>
                    <a:pt x="65208" y="6172"/>
                  </a:lnTo>
                  <a:lnTo>
                    <a:pt x="73952" y="6655"/>
                  </a:lnTo>
                  <a:lnTo>
                    <a:pt x="90441" y="7191"/>
                  </a:lnTo>
                  <a:lnTo>
                    <a:pt x="125768" y="7535"/>
                  </a:lnTo>
                  <a:lnTo>
                    <a:pt x="178974" y="7613"/>
                  </a:lnTo>
                  <a:lnTo>
                    <a:pt x="187896" y="6769"/>
                  </a:lnTo>
                  <a:lnTo>
                    <a:pt x="196384" y="5359"/>
                  </a:lnTo>
                  <a:lnTo>
                    <a:pt x="204583" y="3573"/>
                  </a:lnTo>
                  <a:lnTo>
                    <a:pt x="210895" y="2382"/>
                  </a:lnTo>
                  <a:lnTo>
                    <a:pt x="215950" y="1588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SMARTInkAnnotation100"/>
            <p:cNvSpPr/>
            <p:nvPr/>
          </p:nvSpPr>
          <p:spPr>
            <a:xfrm>
              <a:off x="1584360" y="4031280"/>
              <a:ext cx="319680" cy="28908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319948" h="289131">
                  <a:moveTo>
                    <a:pt x="7527" y="75781"/>
                  </a:moveTo>
                  <a:lnTo>
                    <a:pt x="221" y="75781"/>
                  </a:lnTo>
                  <a:lnTo>
                    <a:pt x="0" y="71736"/>
                  </a:lnTo>
                  <a:lnTo>
                    <a:pt x="816" y="69698"/>
                  </a:lnTo>
                  <a:lnTo>
                    <a:pt x="6009" y="62784"/>
                  </a:lnTo>
                  <a:lnTo>
                    <a:pt x="12910" y="55373"/>
                  </a:lnTo>
                  <a:lnTo>
                    <a:pt x="17822" y="50342"/>
                  </a:lnTo>
                  <a:lnTo>
                    <a:pt x="25085" y="45284"/>
                  </a:lnTo>
                  <a:lnTo>
                    <a:pt x="33957" y="40213"/>
                  </a:lnTo>
                  <a:lnTo>
                    <a:pt x="43545" y="35138"/>
                  </a:lnTo>
                  <a:lnTo>
                    <a:pt x="73607" y="19901"/>
                  </a:lnTo>
                  <a:lnTo>
                    <a:pt x="78674" y="18207"/>
                  </a:lnTo>
                  <a:lnTo>
                    <a:pt x="83745" y="17079"/>
                  </a:lnTo>
                  <a:lnTo>
                    <a:pt x="88819" y="16326"/>
                  </a:lnTo>
                  <a:lnTo>
                    <a:pt x="93895" y="14978"/>
                  </a:lnTo>
                  <a:lnTo>
                    <a:pt x="98973" y="13232"/>
                  </a:lnTo>
                  <a:lnTo>
                    <a:pt x="104051" y="11222"/>
                  </a:lnTo>
                  <a:lnTo>
                    <a:pt x="109129" y="9035"/>
                  </a:lnTo>
                  <a:lnTo>
                    <a:pt x="119288" y="4347"/>
                  </a:lnTo>
                  <a:lnTo>
                    <a:pt x="124368" y="2759"/>
                  </a:lnTo>
                  <a:lnTo>
                    <a:pt x="129448" y="1699"/>
                  </a:lnTo>
                  <a:lnTo>
                    <a:pt x="134528" y="993"/>
                  </a:lnTo>
                  <a:lnTo>
                    <a:pt x="139607" y="522"/>
                  </a:lnTo>
                  <a:lnTo>
                    <a:pt x="144687" y="208"/>
                  </a:lnTo>
                  <a:lnTo>
                    <a:pt x="149767" y="0"/>
                  </a:lnTo>
                  <a:lnTo>
                    <a:pt x="154000" y="706"/>
                  </a:lnTo>
                  <a:lnTo>
                    <a:pt x="160962" y="3750"/>
                  </a:lnTo>
                  <a:lnTo>
                    <a:pt x="169641" y="10224"/>
                  </a:lnTo>
                  <a:lnTo>
                    <a:pt x="171483" y="12603"/>
                  </a:lnTo>
                  <a:lnTo>
                    <a:pt x="172711" y="15035"/>
                  </a:lnTo>
                  <a:lnTo>
                    <a:pt x="173530" y="17504"/>
                  </a:lnTo>
                  <a:lnTo>
                    <a:pt x="176697" y="22505"/>
                  </a:lnTo>
                  <a:lnTo>
                    <a:pt x="178727" y="25024"/>
                  </a:lnTo>
                  <a:lnTo>
                    <a:pt x="180081" y="27549"/>
                  </a:lnTo>
                  <a:lnTo>
                    <a:pt x="181584" y="32614"/>
                  </a:lnTo>
                  <a:lnTo>
                    <a:pt x="181139" y="35996"/>
                  </a:lnTo>
                  <a:lnTo>
                    <a:pt x="178386" y="44270"/>
                  </a:lnTo>
                  <a:lnTo>
                    <a:pt x="177313" y="48847"/>
                  </a:lnTo>
                  <a:lnTo>
                    <a:pt x="176597" y="53592"/>
                  </a:lnTo>
                  <a:lnTo>
                    <a:pt x="176121" y="58448"/>
                  </a:lnTo>
                  <a:lnTo>
                    <a:pt x="174956" y="63379"/>
                  </a:lnTo>
                  <a:lnTo>
                    <a:pt x="173333" y="68360"/>
                  </a:lnTo>
                  <a:lnTo>
                    <a:pt x="171405" y="73374"/>
                  </a:lnTo>
                  <a:lnTo>
                    <a:pt x="169272" y="78409"/>
                  </a:lnTo>
                  <a:lnTo>
                    <a:pt x="164645" y="88520"/>
                  </a:lnTo>
                  <a:lnTo>
                    <a:pt x="161379" y="94434"/>
                  </a:lnTo>
                  <a:lnTo>
                    <a:pt x="157508" y="100916"/>
                  </a:lnTo>
                  <a:lnTo>
                    <a:pt x="148692" y="114892"/>
                  </a:lnTo>
                  <a:lnTo>
                    <a:pt x="124225" y="152114"/>
                  </a:lnTo>
                  <a:lnTo>
                    <a:pt x="119193" y="158843"/>
                  </a:lnTo>
                  <a:lnTo>
                    <a:pt x="114144" y="165023"/>
                  </a:lnTo>
                  <a:lnTo>
                    <a:pt x="109085" y="170835"/>
                  </a:lnTo>
                  <a:lnTo>
                    <a:pt x="104019" y="177251"/>
                  </a:lnTo>
                  <a:lnTo>
                    <a:pt x="98949" y="184067"/>
                  </a:lnTo>
                  <a:lnTo>
                    <a:pt x="93875" y="191152"/>
                  </a:lnTo>
                  <a:lnTo>
                    <a:pt x="88799" y="197568"/>
                  </a:lnTo>
                  <a:lnTo>
                    <a:pt x="83722" y="203539"/>
                  </a:lnTo>
                  <a:lnTo>
                    <a:pt x="78644" y="209213"/>
                  </a:lnTo>
                  <a:lnTo>
                    <a:pt x="74412" y="214689"/>
                  </a:lnTo>
                  <a:lnTo>
                    <a:pt x="70743" y="220033"/>
                  </a:lnTo>
                  <a:lnTo>
                    <a:pt x="67451" y="225289"/>
                  </a:lnTo>
                  <a:lnTo>
                    <a:pt x="64410" y="230487"/>
                  </a:lnTo>
                  <a:lnTo>
                    <a:pt x="61536" y="235645"/>
                  </a:lnTo>
                  <a:lnTo>
                    <a:pt x="56084" y="245891"/>
                  </a:lnTo>
                  <a:lnTo>
                    <a:pt x="50839" y="256090"/>
                  </a:lnTo>
                  <a:lnTo>
                    <a:pt x="47944" y="264010"/>
                  </a:lnTo>
                  <a:lnTo>
                    <a:pt x="46657" y="270352"/>
                  </a:lnTo>
                  <a:lnTo>
                    <a:pt x="45932" y="278682"/>
                  </a:lnTo>
                  <a:lnTo>
                    <a:pt x="45763" y="283928"/>
                  </a:lnTo>
                  <a:lnTo>
                    <a:pt x="46564" y="285666"/>
                  </a:lnTo>
                  <a:lnTo>
                    <a:pt x="47945" y="286825"/>
                  </a:lnTo>
                  <a:lnTo>
                    <a:pt x="52200" y="288683"/>
                  </a:lnTo>
                  <a:lnTo>
                    <a:pt x="61027" y="289005"/>
                  </a:lnTo>
                  <a:lnTo>
                    <a:pt x="93090" y="289130"/>
                  </a:lnTo>
                  <a:lnTo>
                    <a:pt x="99282" y="288287"/>
                  </a:lnTo>
                  <a:lnTo>
                    <a:pt x="105103" y="286878"/>
                  </a:lnTo>
                  <a:lnTo>
                    <a:pt x="110678" y="285093"/>
                  </a:lnTo>
                  <a:lnTo>
                    <a:pt x="117781" y="283902"/>
                  </a:lnTo>
                  <a:lnTo>
                    <a:pt x="125903" y="283108"/>
                  </a:lnTo>
                  <a:lnTo>
                    <a:pt x="134705" y="282579"/>
                  </a:lnTo>
                  <a:lnTo>
                    <a:pt x="143959" y="281380"/>
                  </a:lnTo>
                  <a:lnTo>
                    <a:pt x="153515" y="279733"/>
                  </a:lnTo>
                  <a:lnTo>
                    <a:pt x="163272" y="277789"/>
                  </a:lnTo>
                  <a:lnTo>
                    <a:pt x="173164" y="274800"/>
                  </a:lnTo>
                  <a:lnTo>
                    <a:pt x="183145" y="271113"/>
                  </a:lnTo>
                  <a:lnTo>
                    <a:pt x="193185" y="266962"/>
                  </a:lnTo>
                  <a:lnTo>
                    <a:pt x="203266" y="263349"/>
                  </a:lnTo>
                  <a:lnTo>
                    <a:pt x="213373" y="260093"/>
                  </a:lnTo>
                  <a:lnTo>
                    <a:pt x="223498" y="257076"/>
                  </a:lnTo>
                  <a:lnTo>
                    <a:pt x="234481" y="253371"/>
                  </a:lnTo>
                  <a:lnTo>
                    <a:pt x="257973" y="244739"/>
                  </a:lnTo>
                  <a:lnTo>
                    <a:pt x="269318" y="240913"/>
                  </a:lnTo>
                  <a:lnTo>
                    <a:pt x="280268" y="237515"/>
                  </a:lnTo>
                  <a:lnTo>
                    <a:pt x="290954" y="234404"/>
                  </a:lnTo>
                  <a:lnTo>
                    <a:pt x="298925" y="231483"/>
                  </a:lnTo>
                  <a:lnTo>
                    <a:pt x="305086" y="228689"/>
                  </a:lnTo>
                  <a:lnTo>
                    <a:pt x="319947" y="22056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SMARTInkAnnotation101"/>
            <p:cNvSpPr/>
            <p:nvPr/>
          </p:nvSpPr>
          <p:spPr>
            <a:xfrm>
              <a:off x="2056680" y="412992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1" h="7621">
                  <a:moveTo>
                    <a:pt x="0" y="7620"/>
                  </a:moveTo>
                  <a:lnTo>
                    <a:pt x="4045" y="7620"/>
                  </a:lnTo>
                  <a:lnTo>
                    <a:pt x="6930" y="6774"/>
                  </a:lnTo>
                  <a:lnTo>
                    <a:pt x="10547" y="5363"/>
                  </a:lnTo>
                  <a:lnTo>
                    <a:pt x="14651" y="3575"/>
                  </a:lnTo>
                  <a:lnTo>
                    <a:pt x="19081" y="2383"/>
                  </a:lnTo>
                  <a:lnTo>
                    <a:pt x="23727" y="1589"/>
                  </a:lnTo>
                  <a:lnTo>
                    <a:pt x="28518" y="1059"/>
                  </a:lnTo>
                  <a:lnTo>
                    <a:pt x="34252" y="706"/>
                  </a:lnTo>
                  <a:lnTo>
                    <a:pt x="47397" y="314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SMARTInkAnnotation102"/>
            <p:cNvSpPr/>
            <p:nvPr/>
          </p:nvSpPr>
          <p:spPr>
            <a:xfrm>
              <a:off x="2079720" y="4244040"/>
              <a:ext cx="236160" cy="223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36221" h="22452">
                  <a:moveTo>
                    <a:pt x="0" y="0"/>
                  </a:moveTo>
                  <a:lnTo>
                    <a:pt x="0" y="6561"/>
                  </a:lnTo>
                  <a:lnTo>
                    <a:pt x="847" y="6914"/>
                  </a:lnTo>
                  <a:lnTo>
                    <a:pt x="4045" y="7306"/>
                  </a:lnTo>
                  <a:lnTo>
                    <a:pt x="5237" y="8257"/>
                  </a:lnTo>
                  <a:lnTo>
                    <a:pt x="6031" y="9739"/>
                  </a:lnTo>
                  <a:lnTo>
                    <a:pt x="6561" y="11572"/>
                  </a:lnTo>
                  <a:lnTo>
                    <a:pt x="8607" y="13642"/>
                  </a:lnTo>
                  <a:lnTo>
                    <a:pt x="11665" y="15867"/>
                  </a:lnTo>
                  <a:lnTo>
                    <a:pt x="15397" y="18199"/>
                  </a:lnTo>
                  <a:lnTo>
                    <a:pt x="20425" y="19752"/>
                  </a:lnTo>
                  <a:lnTo>
                    <a:pt x="26316" y="20788"/>
                  </a:lnTo>
                  <a:lnTo>
                    <a:pt x="32784" y="21479"/>
                  </a:lnTo>
                  <a:lnTo>
                    <a:pt x="39636" y="21939"/>
                  </a:lnTo>
                  <a:lnTo>
                    <a:pt x="46744" y="22246"/>
                  </a:lnTo>
                  <a:lnTo>
                    <a:pt x="54023" y="22451"/>
                  </a:lnTo>
                  <a:lnTo>
                    <a:pt x="62262" y="21741"/>
                  </a:lnTo>
                  <a:lnTo>
                    <a:pt x="71141" y="20421"/>
                  </a:lnTo>
                  <a:lnTo>
                    <a:pt x="80447" y="18694"/>
                  </a:lnTo>
                  <a:lnTo>
                    <a:pt x="90039" y="17543"/>
                  </a:lnTo>
                  <a:lnTo>
                    <a:pt x="99819" y="16775"/>
                  </a:lnTo>
                  <a:lnTo>
                    <a:pt x="109726" y="16263"/>
                  </a:lnTo>
                  <a:lnTo>
                    <a:pt x="119717" y="15076"/>
                  </a:lnTo>
                  <a:lnTo>
                    <a:pt x="129765" y="13437"/>
                  </a:lnTo>
                  <a:lnTo>
                    <a:pt x="139850" y="11498"/>
                  </a:lnTo>
                  <a:lnTo>
                    <a:pt x="150807" y="10205"/>
                  </a:lnTo>
                  <a:lnTo>
                    <a:pt x="162344" y="9344"/>
                  </a:lnTo>
                  <a:lnTo>
                    <a:pt x="174270" y="8769"/>
                  </a:lnTo>
                  <a:lnTo>
                    <a:pt x="184760" y="7540"/>
                  </a:lnTo>
                  <a:lnTo>
                    <a:pt x="194293" y="5873"/>
                  </a:lnTo>
                  <a:lnTo>
                    <a:pt x="203189" y="3915"/>
                  </a:lnTo>
                  <a:lnTo>
                    <a:pt x="210813" y="2610"/>
                  </a:lnTo>
                  <a:lnTo>
                    <a:pt x="217588" y="1740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SMARTInkAnnotation103"/>
            <p:cNvSpPr/>
            <p:nvPr/>
          </p:nvSpPr>
          <p:spPr>
            <a:xfrm>
              <a:off x="2453040" y="3932640"/>
              <a:ext cx="302400" cy="31860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302462" h="318734">
                  <a:moveTo>
                    <a:pt x="22860" y="75009"/>
                  </a:moveTo>
                  <a:lnTo>
                    <a:pt x="22860" y="68448"/>
                  </a:lnTo>
                  <a:lnTo>
                    <a:pt x="28944" y="61515"/>
                  </a:lnTo>
                  <a:lnTo>
                    <a:pt x="40773" y="49504"/>
                  </a:lnTo>
                  <a:lnTo>
                    <a:pt x="44962" y="46999"/>
                  </a:lnTo>
                  <a:lnTo>
                    <a:pt x="50295" y="44483"/>
                  </a:lnTo>
                  <a:lnTo>
                    <a:pt x="56390" y="41958"/>
                  </a:lnTo>
                  <a:lnTo>
                    <a:pt x="62147" y="39428"/>
                  </a:lnTo>
                  <a:lnTo>
                    <a:pt x="73059" y="34360"/>
                  </a:lnTo>
                  <a:lnTo>
                    <a:pt x="79186" y="31823"/>
                  </a:lnTo>
                  <a:lnTo>
                    <a:pt x="85811" y="29285"/>
                  </a:lnTo>
                  <a:lnTo>
                    <a:pt x="99945" y="24207"/>
                  </a:lnTo>
                  <a:lnTo>
                    <a:pt x="114694" y="19128"/>
                  </a:lnTo>
                  <a:lnTo>
                    <a:pt x="123029" y="16588"/>
                  </a:lnTo>
                  <a:lnTo>
                    <a:pt x="141322" y="11509"/>
                  </a:lnTo>
                  <a:lnTo>
                    <a:pt x="150095" y="9815"/>
                  </a:lnTo>
                  <a:lnTo>
                    <a:pt x="158483" y="8686"/>
                  </a:lnTo>
                  <a:lnTo>
                    <a:pt x="166615" y="7934"/>
                  </a:lnTo>
                  <a:lnTo>
                    <a:pt x="174577" y="6586"/>
                  </a:lnTo>
                  <a:lnTo>
                    <a:pt x="182425" y="4840"/>
                  </a:lnTo>
                  <a:lnTo>
                    <a:pt x="190197" y="2830"/>
                  </a:lnTo>
                  <a:lnTo>
                    <a:pt x="197918" y="1490"/>
                  </a:lnTo>
                  <a:lnTo>
                    <a:pt x="205605" y="596"/>
                  </a:lnTo>
                  <a:lnTo>
                    <a:pt x="213270" y="0"/>
                  </a:lnTo>
                  <a:lnTo>
                    <a:pt x="220074" y="450"/>
                  </a:lnTo>
                  <a:lnTo>
                    <a:pt x="226302" y="1596"/>
                  </a:lnTo>
                  <a:lnTo>
                    <a:pt x="232149" y="3207"/>
                  </a:lnTo>
                  <a:lnTo>
                    <a:pt x="237739" y="4281"/>
                  </a:lnTo>
                  <a:lnTo>
                    <a:pt x="243160" y="4997"/>
                  </a:lnTo>
                  <a:lnTo>
                    <a:pt x="258149" y="6345"/>
                  </a:lnTo>
                  <a:lnTo>
                    <a:pt x="258459" y="7220"/>
                  </a:lnTo>
                  <a:lnTo>
                    <a:pt x="258804" y="10449"/>
                  </a:lnTo>
                  <a:lnTo>
                    <a:pt x="257203" y="12496"/>
                  </a:lnTo>
                  <a:lnTo>
                    <a:pt x="250908" y="17027"/>
                  </a:lnTo>
                  <a:lnTo>
                    <a:pt x="242466" y="21864"/>
                  </a:lnTo>
                  <a:lnTo>
                    <a:pt x="237844" y="24339"/>
                  </a:lnTo>
                  <a:lnTo>
                    <a:pt x="232223" y="26836"/>
                  </a:lnTo>
                  <a:lnTo>
                    <a:pt x="225935" y="29347"/>
                  </a:lnTo>
                  <a:lnTo>
                    <a:pt x="219204" y="31868"/>
                  </a:lnTo>
                  <a:lnTo>
                    <a:pt x="212176" y="35241"/>
                  </a:lnTo>
                  <a:lnTo>
                    <a:pt x="204951" y="39184"/>
                  </a:lnTo>
                  <a:lnTo>
                    <a:pt x="197594" y="43506"/>
                  </a:lnTo>
                  <a:lnTo>
                    <a:pt x="190150" y="47234"/>
                  </a:lnTo>
                  <a:lnTo>
                    <a:pt x="182646" y="50565"/>
                  </a:lnTo>
                  <a:lnTo>
                    <a:pt x="175104" y="53633"/>
                  </a:lnTo>
                  <a:lnTo>
                    <a:pt x="167536" y="56525"/>
                  </a:lnTo>
                  <a:lnTo>
                    <a:pt x="152354" y="61996"/>
                  </a:lnTo>
                  <a:lnTo>
                    <a:pt x="146443" y="64640"/>
                  </a:lnTo>
                  <a:lnTo>
                    <a:pt x="137617" y="69836"/>
                  </a:lnTo>
                  <a:lnTo>
                    <a:pt x="130872" y="77226"/>
                  </a:lnTo>
                  <a:lnTo>
                    <a:pt x="125899" y="85307"/>
                  </a:lnTo>
                  <a:lnTo>
                    <a:pt x="123689" y="91722"/>
                  </a:lnTo>
                  <a:lnTo>
                    <a:pt x="123946" y="94618"/>
                  </a:lnTo>
                  <a:lnTo>
                    <a:pt x="124964" y="97395"/>
                  </a:lnTo>
                  <a:lnTo>
                    <a:pt x="128353" y="103585"/>
                  </a:lnTo>
                  <a:lnTo>
                    <a:pt x="132682" y="111980"/>
                  </a:lnTo>
                  <a:lnTo>
                    <a:pt x="139685" y="119098"/>
                  </a:lnTo>
                  <a:lnTo>
                    <a:pt x="143924" y="122182"/>
                  </a:lnTo>
                  <a:lnTo>
                    <a:pt x="162024" y="134612"/>
                  </a:lnTo>
                  <a:lnTo>
                    <a:pt x="183474" y="149019"/>
                  </a:lnTo>
                  <a:lnTo>
                    <a:pt x="191743" y="153983"/>
                  </a:lnTo>
                  <a:lnTo>
                    <a:pt x="200642" y="158985"/>
                  </a:lnTo>
                  <a:lnTo>
                    <a:pt x="219561" y="169058"/>
                  </a:lnTo>
                  <a:lnTo>
                    <a:pt x="239258" y="179180"/>
                  </a:lnTo>
                  <a:lnTo>
                    <a:pt x="247559" y="185096"/>
                  </a:lnTo>
                  <a:lnTo>
                    <a:pt x="254786" y="191581"/>
                  </a:lnTo>
                  <a:lnTo>
                    <a:pt x="261298" y="198443"/>
                  </a:lnTo>
                  <a:lnTo>
                    <a:pt x="268179" y="204712"/>
                  </a:lnTo>
                  <a:lnTo>
                    <a:pt x="275306" y="210585"/>
                  </a:lnTo>
                  <a:lnTo>
                    <a:pt x="282597" y="216193"/>
                  </a:lnTo>
                  <a:lnTo>
                    <a:pt x="288305" y="221625"/>
                  </a:lnTo>
                  <a:lnTo>
                    <a:pt x="292957" y="226939"/>
                  </a:lnTo>
                  <a:lnTo>
                    <a:pt x="296905" y="232176"/>
                  </a:lnTo>
                  <a:lnTo>
                    <a:pt x="299537" y="237360"/>
                  </a:lnTo>
                  <a:lnTo>
                    <a:pt x="301291" y="242510"/>
                  </a:lnTo>
                  <a:lnTo>
                    <a:pt x="302461" y="247636"/>
                  </a:lnTo>
                  <a:lnTo>
                    <a:pt x="302394" y="251901"/>
                  </a:lnTo>
                  <a:lnTo>
                    <a:pt x="301503" y="255590"/>
                  </a:lnTo>
                  <a:lnTo>
                    <a:pt x="298255" y="262794"/>
                  </a:lnTo>
                  <a:lnTo>
                    <a:pt x="293989" y="271640"/>
                  </a:lnTo>
                  <a:lnTo>
                    <a:pt x="284755" y="281216"/>
                  </a:lnTo>
                  <a:lnTo>
                    <a:pt x="278737" y="286140"/>
                  </a:lnTo>
                  <a:lnTo>
                    <a:pt x="272185" y="291117"/>
                  </a:lnTo>
                  <a:lnTo>
                    <a:pt x="258131" y="301161"/>
                  </a:lnTo>
                  <a:lnTo>
                    <a:pt x="249981" y="304518"/>
                  </a:lnTo>
                  <a:lnTo>
                    <a:pt x="241160" y="306755"/>
                  </a:lnTo>
                  <a:lnTo>
                    <a:pt x="231894" y="308246"/>
                  </a:lnTo>
                  <a:lnTo>
                    <a:pt x="222329" y="310087"/>
                  </a:lnTo>
                  <a:lnTo>
                    <a:pt x="202671" y="314391"/>
                  </a:lnTo>
                  <a:lnTo>
                    <a:pt x="192688" y="315877"/>
                  </a:lnTo>
                  <a:lnTo>
                    <a:pt x="182645" y="316868"/>
                  </a:lnTo>
                  <a:lnTo>
                    <a:pt x="172564" y="317528"/>
                  </a:lnTo>
                  <a:lnTo>
                    <a:pt x="162456" y="317968"/>
                  </a:lnTo>
                  <a:lnTo>
                    <a:pt x="142194" y="318458"/>
                  </a:lnTo>
                  <a:lnTo>
                    <a:pt x="111747" y="318733"/>
                  </a:lnTo>
                  <a:lnTo>
                    <a:pt x="102438" y="317925"/>
                  </a:lnTo>
                  <a:lnTo>
                    <a:pt x="93692" y="316540"/>
                  </a:lnTo>
                  <a:lnTo>
                    <a:pt x="85321" y="314769"/>
                  </a:lnTo>
                  <a:lnTo>
                    <a:pt x="77201" y="312743"/>
                  </a:lnTo>
                  <a:lnTo>
                    <a:pt x="69248" y="310545"/>
                  </a:lnTo>
                  <a:lnTo>
                    <a:pt x="61405" y="308233"/>
                  </a:lnTo>
                  <a:lnTo>
                    <a:pt x="53637" y="304998"/>
                  </a:lnTo>
                  <a:lnTo>
                    <a:pt x="45918" y="301148"/>
                  </a:lnTo>
                  <a:lnTo>
                    <a:pt x="38232" y="296889"/>
                  </a:lnTo>
                  <a:lnTo>
                    <a:pt x="31415" y="292356"/>
                  </a:lnTo>
                  <a:lnTo>
                    <a:pt x="25177" y="287640"/>
                  </a:lnTo>
                  <a:lnTo>
                    <a:pt x="19324" y="282803"/>
                  </a:lnTo>
                  <a:lnTo>
                    <a:pt x="10564" y="275171"/>
                  </a:lnTo>
                  <a:lnTo>
                    <a:pt x="7043" y="271950"/>
                  </a:lnTo>
                  <a:lnTo>
                    <a:pt x="4695" y="268957"/>
                  </a:lnTo>
                  <a:lnTo>
                    <a:pt x="3130" y="266114"/>
                  </a:lnTo>
                  <a:lnTo>
                    <a:pt x="0" y="25788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SMARTInkAnnotation104"/>
            <p:cNvSpPr/>
            <p:nvPr/>
          </p:nvSpPr>
          <p:spPr>
            <a:xfrm>
              <a:off x="2910240" y="3801960"/>
              <a:ext cx="114120" cy="159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14301" h="159885">
                  <a:moveTo>
                    <a:pt x="0" y="38100"/>
                  </a:moveTo>
                  <a:lnTo>
                    <a:pt x="4045" y="38100"/>
                  </a:lnTo>
                  <a:lnTo>
                    <a:pt x="5237" y="38947"/>
                  </a:lnTo>
                  <a:lnTo>
                    <a:pt x="6032" y="40358"/>
                  </a:lnTo>
                  <a:lnTo>
                    <a:pt x="7306" y="44661"/>
                  </a:lnTo>
                  <a:lnTo>
                    <a:pt x="7527" y="49452"/>
                  </a:lnTo>
                  <a:lnTo>
                    <a:pt x="7593" y="56233"/>
                  </a:lnTo>
                  <a:lnTo>
                    <a:pt x="8449" y="58655"/>
                  </a:lnTo>
                  <a:lnTo>
                    <a:pt x="11657" y="63605"/>
                  </a:lnTo>
                  <a:lnTo>
                    <a:pt x="12852" y="66110"/>
                  </a:lnTo>
                  <a:lnTo>
                    <a:pt x="13648" y="68627"/>
                  </a:lnTo>
                  <a:lnTo>
                    <a:pt x="14179" y="71151"/>
                  </a:lnTo>
                  <a:lnTo>
                    <a:pt x="15379" y="74528"/>
                  </a:lnTo>
                  <a:lnTo>
                    <a:pt x="17026" y="78471"/>
                  </a:lnTo>
                  <a:lnTo>
                    <a:pt x="18971" y="82794"/>
                  </a:lnTo>
                  <a:lnTo>
                    <a:pt x="20268" y="87369"/>
                  </a:lnTo>
                  <a:lnTo>
                    <a:pt x="21132" y="92113"/>
                  </a:lnTo>
                  <a:lnTo>
                    <a:pt x="21708" y="96969"/>
                  </a:lnTo>
                  <a:lnTo>
                    <a:pt x="22092" y="101899"/>
                  </a:lnTo>
                  <a:lnTo>
                    <a:pt x="22348" y="106879"/>
                  </a:lnTo>
                  <a:lnTo>
                    <a:pt x="22633" y="116929"/>
                  </a:lnTo>
                  <a:lnTo>
                    <a:pt x="22851" y="146878"/>
                  </a:lnTo>
                  <a:lnTo>
                    <a:pt x="23701" y="149565"/>
                  </a:lnTo>
                  <a:lnTo>
                    <a:pt x="25114" y="152203"/>
                  </a:lnTo>
                  <a:lnTo>
                    <a:pt x="30387" y="159884"/>
                  </a:lnTo>
                  <a:lnTo>
                    <a:pt x="30453" y="155935"/>
                  </a:lnTo>
                  <a:lnTo>
                    <a:pt x="29615" y="153063"/>
                  </a:lnTo>
                  <a:lnTo>
                    <a:pt x="28210" y="149455"/>
                  </a:lnTo>
                  <a:lnTo>
                    <a:pt x="26427" y="145357"/>
                  </a:lnTo>
                  <a:lnTo>
                    <a:pt x="25238" y="140932"/>
                  </a:lnTo>
                  <a:lnTo>
                    <a:pt x="24445" y="136288"/>
                  </a:lnTo>
                  <a:lnTo>
                    <a:pt x="23917" y="131498"/>
                  </a:lnTo>
                  <a:lnTo>
                    <a:pt x="23565" y="126612"/>
                  </a:lnTo>
                  <a:lnTo>
                    <a:pt x="23330" y="121661"/>
                  </a:lnTo>
                  <a:lnTo>
                    <a:pt x="23069" y="110799"/>
                  </a:lnTo>
                  <a:lnTo>
                    <a:pt x="22863" y="48352"/>
                  </a:lnTo>
                  <a:lnTo>
                    <a:pt x="23709" y="43241"/>
                  </a:lnTo>
                  <a:lnTo>
                    <a:pt x="25119" y="38141"/>
                  </a:lnTo>
                  <a:lnTo>
                    <a:pt x="26906" y="33047"/>
                  </a:lnTo>
                  <a:lnTo>
                    <a:pt x="28945" y="28805"/>
                  </a:lnTo>
                  <a:lnTo>
                    <a:pt x="31150" y="25130"/>
                  </a:lnTo>
                  <a:lnTo>
                    <a:pt x="33467" y="21833"/>
                  </a:lnTo>
                  <a:lnTo>
                    <a:pt x="36705" y="18789"/>
                  </a:lnTo>
                  <a:lnTo>
                    <a:pt x="40556" y="15913"/>
                  </a:lnTo>
                  <a:lnTo>
                    <a:pt x="44818" y="13148"/>
                  </a:lnTo>
                  <a:lnTo>
                    <a:pt x="49352" y="11305"/>
                  </a:lnTo>
                  <a:lnTo>
                    <a:pt x="54068" y="10077"/>
                  </a:lnTo>
                  <a:lnTo>
                    <a:pt x="58905" y="9258"/>
                  </a:lnTo>
                  <a:lnTo>
                    <a:pt x="63824" y="7865"/>
                  </a:lnTo>
                  <a:lnTo>
                    <a:pt x="68796" y="6090"/>
                  </a:lnTo>
                  <a:lnTo>
                    <a:pt x="73804" y="4060"/>
                  </a:lnTo>
                  <a:lnTo>
                    <a:pt x="77990" y="2707"/>
                  </a:lnTo>
                  <a:lnTo>
                    <a:pt x="81627" y="1804"/>
                  </a:lnTo>
                  <a:lnTo>
                    <a:pt x="84897" y="1203"/>
                  </a:lnTo>
                  <a:lnTo>
                    <a:pt x="88772" y="802"/>
                  </a:lnTo>
                  <a:lnTo>
                    <a:pt x="93048" y="534"/>
                  </a:lnTo>
                  <a:lnTo>
                    <a:pt x="101468" y="238"/>
                  </a:ln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SMARTInkAnnotation105"/>
            <p:cNvSpPr/>
            <p:nvPr/>
          </p:nvSpPr>
          <p:spPr>
            <a:xfrm>
              <a:off x="3127680" y="3687840"/>
              <a:ext cx="209160" cy="2358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09320" h="235745">
                  <a:moveTo>
                    <a:pt x="117879" y="0"/>
                  </a:moveTo>
                  <a:lnTo>
                    <a:pt x="117879" y="4045"/>
                  </a:lnTo>
                  <a:lnTo>
                    <a:pt x="118726" y="5236"/>
                  </a:lnTo>
                  <a:lnTo>
                    <a:pt x="120137" y="6031"/>
                  </a:lnTo>
                  <a:lnTo>
                    <a:pt x="124440" y="7306"/>
                  </a:lnTo>
                  <a:lnTo>
                    <a:pt x="124793" y="8257"/>
                  </a:lnTo>
                  <a:lnTo>
                    <a:pt x="125186" y="11572"/>
                  </a:lnTo>
                  <a:lnTo>
                    <a:pt x="126137" y="13641"/>
                  </a:lnTo>
                  <a:lnTo>
                    <a:pt x="129452" y="18198"/>
                  </a:lnTo>
                  <a:lnTo>
                    <a:pt x="130674" y="21446"/>
                  </a:lnTo>
                  <a:lnTo>
                    <a:pt x="131489" y="25303"/>
                  </a:lnTo>
                  <a:lnTo>
                    <a:pt x="132032" y="29569"/>
                  </a:lnTo>
                  <a:lnTo>
                    <a:pt x="133241" y="34106"/>
                  </a:lnTo>
                  <a:lnTo>
                    <a:pt x="134894" y="38824"/>
                  </a:lnTo>
                  <a:lnTo>
                    <a:pt x="136842" y="43663"/>
                  </a:lnTo>
                  <a:lnTo>
                    <a:pt x="138141" y="48582"/>
                  </a:lnTo>
                  <a:lnTo>
                    <a:pt x="139007" y="53554"/>
                  </a:lnTo>
                  <a:lnTo>
                    <a:pt x="139585" y="58563"/>
                  </a:lnTo>
                  <a:lnTo>
                    <a:pt x="139970" y="63595"/>
                  </a:lnTo>
                  <a:lnTo>
                    <a:pt x="140227" y="68644"/>
                  </a:lnTo>
                  <a:lnTo>
                    <a:pt x="140397" y="73702"/>
                  </a:lnTo>
                  <a:lnTo>
                    <a:pt x="140672" y="99225"/>
                  </a:lnTo>
                  <a:lnTo>
                    <a:pt x="140730" y="130733"/>
                  </a:lnTo>
                  <a:lnTo>
                    <a:pt x="141580" y="137109"/>
                  </a:lnTo>
                  <a:lnTo>
                    <a:pt x="142993" y="143052"/>
                  </a:lnTo>
                  <a:lnTo>
                    <a:pt x="144782" y="148708"/>
                  </a:lnTo>
                  <a:lnTo>
                    <a:pt x="145974" y="154172"/>
                  </a:lnTo>
                  <a:lnTo>
                    <a:pt x="146769" y="159508"/>
                  </a:lnTo>
                  <a:lnTo>
                    <a:pt x="147299" y="164759"/>
                  </a:lnTo>
                  <a:lnTo>
                    <a:pt x="148499" y="169106"/>
                  </a:lnTo>
                  <a:lnTo>
                    <a:pt x="152091" y="176194"/>
                  </a:lnTo>
                  <a:lnTo>
                    <a:pt x="154251" y="182166"/>
                  </a:lnTo>
                  <a:lnTo>
                    <a:pt x="154827" y="184944"/>
                  </a:lnTo>
                  <a:lnTo>
                    <a:pt x="156058" y="186796"/>
                  </a:lnTo>
                  <a:lnTo>
                    <a:pt x="157725" y="188031"/>
                  </a:lnTo>
                  <a:lnTo>
                    <a:pt x="162439" y="190012"/>
                  </a:lnTo>
                  <a:lnTo>
                    <a:pt x="161979" y="190175"/>
                  </a:lnTo>
                  <a:lnTo>
                    <a:pt x="156936" y="190457"/>
                  </a:lnTo>
                  <a:lnTo>
                    <a:pt x="152218" y="186442"/>
                  </a:lnTo>
                  <a:lnTo>
                    <a:pt x="149238" y="184408"/>
                  </a:lnTo>
                  <a:lnTo>
                    <a:pt x="145559" y="182205"/>
                  </a:lnTo>
                  <a:lnTo>
                    <a:pt x="141413" y="179890"/>
                  </a:lnTo>
                  <a:lnTo>
                    <a:pt x="136955" y="176653"/>
                  </a:lnTo>
                  <a:lnTo>
                    <a:pt x="132290" y="172803"/>
                  </a:lnTo>
                  <a:lnTo>
                    <a:pt x="127486" y="168542"/>
                  </a:lnTo>
                  <a:lnTo>
                    <a:pt x="122591" y="164854"/>
                  </a:lnTo>
                  <a:lnTo>
                    <a:pt x="117633" y="161550"/>
                  </a:lnTo>
                  <a:lnTo>
                    <a:pt x="112635" y="158500"/>
                  </a:lnTo>
                  <a:lnTo>
                    <a:pt x="106763" y="156466"/>
                  </a:lnTo>
                  <a:lnTo>
                    <a:pt x="100308" y="155111"/>
                  </a:lnTo>
                  <a:lnTo>
                    <a:pt x="93465" y="154208"/>
                  </a:lnTo>
                  <a:lnTo>
                    <a:pt x="86364" y="152758"/>
                  </a:lnTo>
                  <a:lnTo>
                    <a:pt x="79089" y="150946"/>
                  </a:lnTo>
                  <a:lnTo>
                    <a:pt x="71699" y="148890"/>
                  </a:lnTo>
                  <a:lnTo>
                    <a:pt x="65079" y="148367"/>
                  </a:lnTo>
                  <a:lnTo>
                    <a:pt x="58972" y="148864"/>
                  </a:lnTo>
                  <a:lnTo>
                    <a:pt x="53208" y="150043"/>
                  </a:lnTo>
                  <a:lnTo>
                    <a:pt x="47672" y="150829"/>
                  </a:lnTo>
                  <a:lnTo>
                    <a:pt x="42288" y="151353"/>
                  </a:lnTo>
                  <a:lnTo>
                    <a:pt x="37005" y="151702"/>
                  </a:lnTo>
                  <a:lnTo>
                    <a:pt x="30943" y="152781"/>
                  </a:lnTo>
                  <a:lnTo>
                    <a:pt x="24362" y="154348"/>
                  </a:lnTo>
                  <a:lnTo>
                    <a:pt x="17434" y="156238"/>
                  </a:lnTo>
                  <a:lnTo>
                    <a:pt x="12816" y="158346"/>
                  </a:lnTo>
                  <a:lnTo>
                    <a:pt x="9737" y="160597"/>
                  </a:lnTo>
                  <a:lnTo>
                    <a:pt x="5469" y="165356"/>
                  </a:lnTo>
                  <a:lnTo>
                    <a:pt x="751" y="170294"/>
                  </a:lnTo>
                  <a:lnTo>
                    <a:pt x="0" y="172796"/>
                  </a:lnTo>
                  <a:lnTo>
                    <a:pt x="347" y="175311"/>
                  </a:lnTo>
                  <a:lnTo>
                    <a:pt x="1424" y="177834"/>
                  </a:lnTo>
                  <a:lnTo>
                    <a:pt x="7137" y="185153"/>
                  </a:lnTo>
                  <a:lnTo>
                    <a:pt x="11032" y="189476"/>
                  </a:lnTo>
                  <a:lnTo>
                    <a:pt x="16167" y="193204"/>
                  </a:lnTo>
                  <a:lnTo>
                    <a:pt x="22131" y="196536"/>
                  </a:lnTo>
                  <a:lnTo>
                    <a:pt x="36378" y="203343"/>
                  </a:lnTo>
                  <a:lnTo>
                    <a:pt x="53998" y="212012"/>
                  </a:lnTo>
                  <a:lnTo>
                    <a:pt x="62593" y="215848"/>
                  </a:lnTo>
                  <a:lnTo>
                    <a:pt x="70861" y="219252"/>
                  </a:lnTo>
                  <a:lnTo>
                    <a:pt x="78914" y="222368"/>
                  </a:lnTo>
                  <a:lnTo>
                    <a:pt x="87669" y="225292"/>
                  </a:lnTo>
                  <a:lnTo>
                    <a:pt x="96893" y="228088"/>
                  </a:lnTo>
                  <a:lnTo>
                    <a:pt x="106428" y="230799"/>
                  </a:lnTo>
                  <a:lnTo>
                    <a:pt x="116172" y="232606"/>
                  </a:lnTo>
                  <a:lnTo>
                    <a:pt x="126055" y="233811"/>
                  </a:lnTo>
                  <a:lnTo>
                    <a:pt x="136029" y="234614"/>
                  </a:lnTo>
                  <a:lnTo>
                    <a:pt x="144373" y="235150"/>
                  </a:lnTo>
                  <a:lnTo>
                    <a:pt x="158158" y="235744"/>
                  </a:lnTo>
                  <a:lnTo>
                    <a:pt x="164205" y="235056"/>
                  </a:lnTo>
                  <a:lnTo>
                    <a:pt x="169930" y="233751"/>
                  </a:lnTo>
                  <a:lnTo>
                    <a:pt x="175440" y="232034"/>
                  </a:lnTo>
                  <a:lnTo>
                    <a:pt x="179959" y="230043"/>
                  </a:lnTo>
                  <a:lnTo>
                    <a:pt x="183819" y="227869"/>
                  </a:lnTo>
                  <a:lnTo>
                    <a:pt x="187240" y="225573"/>
                  </a:lnTo>
                  <a:lnTo>
                    <a:pt x="193297" y="220764"/>
                  </a:lnTo>
                  <a:lnTo>
                    <a:pt x="198811" y="215804"/>
                  </a:lnTo>
                  <a:lnTo>
                    <a:pt x="209319" y="2057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SMARTInkAnnotation106"/>
            <p:cNvSpPr/>
            <p:nvPr/>
          </p:nvSpPr>
          <p:spPr>
            <a:xfrm>
              <a:off x="152280" y="2917800"/>
              <a:ext cx="227880" cy="26676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27995" h="266701">
                  <a:moveTo>
                    <a:pt x="98454" y="0"/>
                  </a:moveTo>
                  <a:lnTo>
                    <a:pt x="98454" y="4046"/>
                  </a:lnTo>
                  <a:lnTo>
                    <a:pt x="97607" y="6084"/>
                  </a:lnTo>
                  <a:lnTo>
                    <a:pt x="94409" y="10606"/>
                  </a:lnTo>
                  <a:lnTo>
                    <a:pt x="87907" y="17696"/>
                  </a:lnTo>
                  <a:lnTo>
                    <a:pt x="83803" y="21957"/>
                  </a:lnTo>
                  <a:lnTo>
                    <a:pt x="79373" y="28185"/>
                  </a:lnTo>
                  <a:lnTo>
                    <a:pt x="74727" y="35724"/>
                  </a:lnTo>
                  <a:lnTo>
                    <a:pt x="69936" y="44136"/>
                  </a:lnTo>
                  <a:lnTo>
                    <a:pt x="65049" y="52284"/>
                  </a:lnTo>
                  <a:lnTo>
                    <a:pt x="55103" y="68111"/>
                  </a:lnTo>
                  <a:lnTo>
                    <a:pt x="49233" y="76734"/>
                  </a:lnTo>
                  <a:lnTo>
                    <a:pt x="35938" y="95346"/>
                  </a:lnTo>
                  <a:lnTo>
                    <a:pt x="29684" y="105051"/>
                  </a:lnTo>
                  <a:lnTo>
                    <a:pt x="23820" y="114907"/>
                  </a:lnTo>
                  <a:lnTo>
                    <a:pt x="18218" y="124865"/>
                  </a:lnTo>
                  <a:lnTo>
                    <a:pt x="13637" y="134043"/>
                  </a:lnTo>
                  <a:lnTo>
                    <a:pt x="9736" y="142702"/>
                  </a:lnTo>
                  <a:lnTo>
                    <a:pt x="6289" y="151015"/>
                  </a:lnTo>
                  <a:lnTo>
                    <a:pt x="3991" y="159097"/>
                  </a:lnTo>
                  <a:lnTo>
                    <a:pt x="2459" y="167025"/>
                  </a:lnTo>
                  <a:lnTo>
                    <a:pt x="1437" y="174850"/>
                  </a:lnTo>
                  <a:lnTo>
                    <a:pt x="756" y="181760"/>
                  </a:lnTo>
                  <a:lnTo>
                    <a:pt x="302" y="188060"/>
                  </a:lnTo>
                  <a:lnTo>
                    <a:pt x="0" y="193954"/>
                  </a:lnTo>
                  <a:lnTo>
                    <a:pt x="644" y="199576"/>
                  </a:lnTo>
                  <a:lnTo>
                    <a:pt x="1921" y="205017"/>
                  </a:lnTo>
                  <a:lnTo>
                    <a:pt x="3619" y="210338"/>
                  </a:lnTo>
                  <a:lnTo>
                    <a:pt x="7763" y="218508"/>
                  </a:lnTo>
                  <a:lnTo>
                    <a:pt x="10053" y="221872"/>
                  </a:lnTo>
                  <a:lnTo>
                    <a:pt x="12427" y="224115"/>
                  </a:lnTo>
                  <a:lnTo>
                    <a:pt x="14856" y="225610"/>
                  </a:lnTo>
                  <a:lnTo>
                    <a:pt x="17322" y="226607"/>
                  </a:lnTo>
                  <a:lnTo>
                    <a:pt x="19813" y="226425"/>
                  </a:lnTo>
                  <a:lnTo>
                    <a:pt x="22320" y="225456"/>
                  </a:lnTo>
                  <a:lnTo>
                    <a:pt x="27364" y="222123"/>
                  </a:lnTo>
                  <a:lnTo>
                    <a:pt x="32427" y="217819"/>
                  </a:lnTo>
                  <a:lnTo>
                    <a:pt x="37500" y="210827"/>
                  </a:lnTo>
                  <a:lnTo>
                    <a:pt x="40038" y="206591"/>
                  </a:lnTo>
                  <a:lnTo>
                    <a:pt x="47374" y="195112"/>
                  </a:lnTo>
                  <a:lnTo>
                    <a:pt x="51701" y="188495"/>
                  </a:lnTo>
                  <a:lnTo>
                    <a:pt x="55432" y="180696"/>
                  </a:lnTo>
                  <a:lnTo>
                    <a:pt x="58766" y="172111"/>
                  </a:lnTo>
                  <a:lnTo>
                    <a:pt x="61835" y="163001"/>
                  </a:lnTo>
                  <a:lnTo>
                    <a:pt x="63882" y="153541"/>
                  </a:lnTo>
                  <a:lnTo>
                    <a:pt x="65246" y="143847"/>
                  </a:lnTo>
                  <a:lnTo>
                    <a:pt x="66155" y="133998"/>
                  </a:lnTo>
                  <a:lnTo>
                    <a:pt x="67608" y="124892"/>
                  </a:lnTo>
                  <a:lnTo>
                    <a:pt x="69424" y="116282"/>
                  </a:lnTo>
                  <a:lnTo>
                    <a:pt x="71480" y="108001"/>
                  </a:lnTo>
                  <a:lnTo>
                    <a:pt x="72852" y="99094"/>
                  </a:lnTo>
                  <a:lnTo>
                    <a:pt x="73766" y="89769"/>
                  </a:lnTo>
                  <a:lnTo>
                    <a:pt x="74782" y="72071"/>
                  </a:lnTo>
                  <a:lnTo>
                    <a:pt x="75233" y="58560"/>
                  </a:lnTo>
                  <a:lnTo>
                    <a:pt x="75523" y="42173"/>
                  </a:lnTo>
                  <a:lnTo>
                    <a:pt x="75562" y="36241"/>
                  </a:lnTo>
                  <a:lnTo>
                    <a:pt x="74726" y="34321"/>
                  </a:lnTo>
                  <a:lnTo>
                    <a:pt x="73322" y="33041"/>
                  </a:lnTo>
                  <a:lnTo>
                    <a:pt x="69031" y="30986"/>
                  </a:lnTo>
                  <a:lnTo>
                    <a:pt x="74266" y="37510"/>
                  </a:lnTo>
                  <a:lnTo>
                    <a:pt x="78673" y="45176"/>
                  </a:lnTo>
                  <a:lnTo>
                    <a:pt x="80187" y="49590"/>
                  </a:lnTo>
                  <a:lnTo>
                    <a:pt x="81196" y="54227"/>
                  </a:lnTo>
                  <a:lnTo>
                    <a:pt x="81869" y="59012"/>
                  </a:lnTo>
                  <a:lnTo>
                    <a:pt x="84010" y="65588"/>
                  </a:lnTo>
                  <a:lnTo>
                    <a:pt x="87132" y="73359"/>
                  </a:lnTo>
                  <a:lnTo>
                    <a:pt x="90906" y="81926"/>
                  </a:lnTo>
                  <a:lnTo>
                    <a:pt x="95115" y="90177"/>
                  </a:lnTo>
                  <a:lnTo>
                    <a:pt x="99615" y="98218"/>
                  </a:lnTo>
                  <a:lnTo>
                    <a:pt x="104308" y="106119"/>
                  </a:lnTo>
                  <a:lnTo>
                    <a:pt x="109130" y="114772"/>
                  </a:lnTo>
                  <a:lnTo>
                    <a:pt x="119003" y="133419"/>
                  </a:lnTo>
                  <a:lnTo>
                    <a:pt x="124007" y="142286"/>
                  </a:lnTo>
                  <a:lnTo>
                    <a:pt x="129036" y="150738"/>
                  </a:lnTo>
                  <a:lnTo>
                    <a:pt x="134082" y="158912"/>
                  </a:lnTo>
                  <a:lnTo>
                    <a:pt x="139139" y="167748"/>
                  </a:lnTo>
                  <a:lnTo>
                    <a:pt x="149274" y="186597"/>
                  </a:lnTo>
                  <a:lnTo>
                    <a:pt x="154348" y="194671"/>
                  </a:lnTo>
                  <a:lnTo>
                    <a:pt x="159423" y="201748"/>
                  </a:lnTo>
                  <a:lnTo>
                    <a:pt x="164500" y="208159"/>
                  </a:lnTo>
                  <a:lnTo>
                    <a:pt x="169578" y="214126"/>
                  </a:lnTo>
                  <a:lnTo>
                    <a:pt x="174657" y="219797"/>
                  </a:lnTo>
                  <a:lnTo>
                    <a:pt x="179736" y="225272"/>
                  </a:lnTo>
                  <a:lnTo>
                    <a:pt x="184815" y="231461"/>
                  </a:lnTo>
                  <a:lnTo>
                    <a:pt x="189895" y="238128"/>
                  </a:lnTo>
                  <a:lnTo>
                    <a:pt x="194975" y="245112"/>
                  </a:lnTo>
                  <a:lnTo>
                    <a:pt x="200054" y="249768"/>
                  </a:lnTo>
                  <a:lnTo>
                    <a:pt x="205134" y="252872"/>
                  </a:lnTo>
                  <a:lnTo>
                    <a:pt x="210214" y="254941"/>
                  </a:lnTo>
                  <a:lnTo>
                    <a:pt x="214447" y="257168"/>
                  </a:lnTo>
                  <a:lnTo>
                    <a:pt x="221409" y="261899"/>
                  </a:lnTo>
                  <a:lnTo>
                    <a:pt x="227994" y="2667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SMARTInkAnnotation107"/>
            <p:cNvSpPr/>
            <p:nvPr/>
          </p:nvSpPr>
          <p:spPr>
            <a:xfrm>
              <a:off x="464040" y="3093120"/>
              <a:ext cx="45720" cy="45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5721" h="45721">
                  <a:moveTo>
                    <a:pt x="0" y="0"/>
                  </a:moveTo>
                  <a:lnTo>
                    <a:pt x="10606" y="10606"/>
                  </a:lnTo>
                  <a:lnTo>
                    <a:pt x="12151" y="12998"/>
                  </a:lnTo>
                  <a:lnTo>
                    <a:pt x="13181" y="15438"/>
                  </a:lnTo>
                  <a:lnTo>
                    <a:pt x="13867" y="17912"/>
                  </a:lnTo>
                  <a:lnTo>
                    <a:pt x="15171" y="20408"/>
                  </a:lnTo>
                  <a:lnTo>
                    <a:pt x="16888" y="22919"/>
                  </a:lnTo>
                  <a:lnTo>
                    <a:pt x="18878" y="25439"/>
                  </a:lnTo>
                  <a:lnTo>
                    <a:pt x="21899" y="27120"/>
                  </a:lnTo>
                  <a:lnTo>
                    <a:pt x="25606" y="28240"/>
                  </a:lnTo>
                  <a:lnTo>
                    <a:pt x="29771" y="28986"/>
                  </a:lnTo>
                  <a:lnTo>
                    <a:pt x="-32142" y="30331"/>
                  </a:lnTo>
                  <a:lnTo>
                    <a:pt x="-28880" y="32074"/>
                  </a:lnTo>
                  <a:lnTo>
                    <a:pt x="-25859" y="-31454"/>
                  </a:lnTo>
                  <a:lnTo>
                    <a:pt x="-23845" y="-29268"/>
                  </a:lnTo>
                  <a:lnTo>
                    <a:pt x="-22502" y="-26964"/>
                  </a:lnTo>
                  <a:lnTo>
                    <a:pt x="-19816" y="-198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SMARTInkAnnotation108"/>
            <p:cNvSpPr/>
            <p:nvPr/>
          </p:nvSpPr>
          <p:spPr>
            <a:xfrm>
              <a:off x="387720" y="2895120"/>
              <a:ext cx="162360" cy="41904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62398" h="419101">
                  <a:moveTo>
                    <a:pt x="0" y="0"/>
                  </a:moveTo>
                  <a:lnTo>
                    <a:pt x="6561" y="6561"/>
                  </a:lnTo>
                  <a:lnTo>
                    <a:pt x="8607" y="7760"/>
                  </a:lnTo>
                  <a:lnTo>
                    <a:pt x="15397" y="11352"/>
                  </a:lnTo>
                  <a:lnTo>
                    <a:pt x="19578" y="14341"/>
                  </a:lnTo>
                  <a:lnTo>
                    <a:pt x="24059" y="18027"/>
                  </a:lnTo>
                  <a:lnTo>
                    <a:pt x="28739" y="22178"/>
                  </a:lnTo>
                  <a:lnTo>
                    <a:pt x="40713" y="33563"/>
                  </a:lnTo>
                  <a:lnTo>
                    <a:pt x="69096" y="61569"/>
                  </a:lnTo>
                  <a:lnTo>
                    <a:pt x="76544" y="69833"/>
                  </a:lnTo>
                  <a:lnTo>
                    <a:pt x="84050" y="78729"/>
                  </a:lnTo>
                  <a:lnTo>
                    <a:pt x="91593" y="88046"/>
                  </a:lnTo>
                  <a:lnTo>
                    <a:pt x="99162" y="98490"/>
                  </a:lnTo>
                  <a:lnTo>
                    <a:pt x="106748" y="109687"/>
                  </a:lnTo>
                  <a:lnTo>
                    <a:pt x="114345" y="121385"/>
                  </a:lnTo>
                  <a:lnTo>
                    <a:pt x="121104" y="133416"/>
                  </a:lnTo>
                  <a:lnTo>
                    <a:pt x="127303" y="145671"/>
                  </a:lnTo>
                  <a:lnTo>
                    <a:pt x="133128" y="158074"/>
                  </a:lnTo>
                  <a:lnTo>
                    <a:pt x="144117" y="183144"/>
                  </a:lnTo>
                  <a:lnTo>
                    <a:pt x="149418" y="195756"/>
                  </a:lnTo>
                  <a:lnTo>
                    <a:pt x="153799" y="207551"/>
                  </a:lnTo>
                  <a:lnTo>
                    <a:pt x="157566" y="218801"/>
                  </a:lnTo>
                  <a:lnTo>
                    <a:pt x="160924" y="229687"/>
                  </a:lnTo>
                  <a:lnTo>
                    <a:pt x="162316" y="241178"/>
                  </a:lnTo>
                  <a:lnTo>
                    <a:pt x="162397" y="253072"/>
                  </a:lnTo>
                  <a:lnTo>
                    <a:pt x="161605" y="265235"/>
                  </a:lnTo>
                  <a:lnTo>
                    <a:pt x="160230" y="276730"/>
                  </a:lnTo>
                  <a:lnTo>
                    <a:pt x="158467" y="287780"/>
                  </a:lnTo>
                  <a:lnTo>
                    <a:pt x="156444" y="298533"/>
                  </a:lnTo>
                  <a:lnTo>
                    <a:pt x="151940" y="319513"/>
                  </a:lnTo>
                  <a:lnTo>
                    <a:pt x="149553" y="329848"/>
                  </a:lnTo>
                  <a:lnTo>
                    <a:pt x="146269" y="339279"/>
                  </a:lnTo>
                  <a:lnTo>
                    <a:pt x="142386" y="348106"/>
                  </a:lnTo>
                  <a:lnTo>
                    <a:pt x="138104" y="356531"/>
                  </a:lnTo>
                  <a:lnTo>
                    <a:pt x="133556" y="364687"/>
                  </a:lnTo>
                  <a:lnTo>
                    <a:pt x="128831" y="372665"/>
                  </a:lnTo>
                  <a:lnTo>
                    <a:pt x="123987" y="380523"/>
                  </a:lnTo>
                  <a:lnTo>
                    <a:pt x="119911" y="387455"/>
                  </a:lnTo>
                  <a:lnTo>
                    <a:pt x="113125" y="399674"/>
                  </a:lnTo>
                  <a:lnTo>
                    <a:pt x="109284" y="404456"/>
                  </a:lnTo>
                  <a:lnTo>
                    <a:pt x="105029" y="408491"/>
                  </a:lnTo>
                  <a:lnTo>
                    <a:pt x="91440" y="419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SMARTInkAnnotation109"/>
            <p:cNvSpPr/>
            <p:nvPr/>
          </p:nvSpPr>
          <p:spPr>
            <a:xfrm>
              <a:off x="3849120" y="3101400"/>
              <a:ext cx="457920" cy="4248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457966" h="424871">
                  <a:moveTo>
                    <a:pt x="13802" y="106126"/>
                  </a:moveTo>
                  <a:lnTo>
                    <a:pt x="13802" y="112687"/>
                  </a:lnTo>
                  <a:lnTo>
                    <a:pt x="17846" y="121523"/>
                  </a:lnTo>
                  <a:lnTo>
                    <a:pt x="24348" y="130184"/>
                  </a:lnTo>
                  <a:lnTo>
                    <a:pt x="28453" y="134865"/>
                  </a:lnTo>
                  <a:lnTo>
                    <a:pt x="35271" y="146839"/>
                  </a:lnTo>
                  <a:lnTo>
                    <a:pt x="38275" y="153588"/>
                  </a:lnTo>
                  <a:lnTo>
                    <a:pt x="40277" y="160627"/>
                  </a:lnTo>
                  <a:lnTo>
                    <a:pt x="41612" y="167860"/>
                  </a:lnTo>
                  <a:lnTo>
                    <a:pt x="42502" y="175222"/>
                  </a:lnTo>
                  <a:lnTo>
                    <a:pt x="43942" y="183517"/>
                  </a:lnTo>
                  <a:lnTo>
                    <a:pt x="45749" y="192433"/>
                  </a:lnTo>
                  <a:lnTo>
                    <a:pt x="50014" y="211372"/>
                  </a:lnTo>
                  <a:lnTo>
                    <a:pt x="54731" y="231077"/>
                  </a:lnTo>
                  <a:lnTo>
                    <a:pt x="56328" y="241074"/>
                  </a:lnTo>
                  <a:lnTo>
                    <a:pt x="57393" y="251124"/>
                  </a:lnTo>
                  <a:lnTo>
                    <a:pt x="58103" y="261212"/>
                  </a:lnTo>
                  <a:lnTo>
                    <a:pt x="58576" y="271323"/>
                  </a:lnTo>
                  <a:lnTo>
                    <a:pt x="59101" y="291589"/>
                  </a:lnTo>
                  <a:lnTo>
                    <a:pt x="60088" y="301735"/>
                  </a:lnTo>
                  <a:lnTo>
                    <a:pt x="61592" y="311886"/>
                  </a:lnTo>
                  <a:lnTo>
                    <a:pt x="63443" y="322039"/>
                  </a:lnTo>
                  <a:lnTo>
                    <a:pt x="64676" y="331348"/>
                  </a:lnTo>
                  <a:lnTo>
                    <a:pt x="65497" y="340094"/>
                  </a:lnTo>
                  <a:lnTo>
                    <a:pt x="66046" y="348465"/>
                  </a:lnTo>
                  <a:lnTo>
                    <a:pt x="66411" y="356585"/>
                  </a:lnTo>
                  <a:lnTo>
                    <a:pt x="66817" y="372381"/>
                  </a:lnTo>
                  <a:lnTo>
                    <a:pt x="67133" y="412876"/>
                  </a:lnTo>
                  <a:lnTo>
                    <a:pt x="67139" y="416866"/>
                  </a:lnTo>
                  <a:lnTo>
                    <a:pt x="67141" y="403747"/>
                  </a:lnTo>
                  <a:lnTo>
                    <a:pt x="64884" y="392495"/>
                  </a:lnTo>
                  <a:lnTo>
                    <a:pt x="63096" y="385939"/>
                  </a:lnTo>
                  <a:lnTo>
                    <a:pt x="61905" y="378182"/>
                  </a:lnTo>
                  <a:lnTo>
                    <a:pt x="61111" y="369623"/>
                  </a:lnTo>
                  <a:lnTo>
                    <a:pt x="60581" y="360531"/>
                  </a:lnTo>
                  <a:lnTo>
                    <a:pt x="59382" y="351083"/>
                  </a:lnTo>
                  <a:lnTo>
                    <a:pt x="57735" y="341397"/>
                  </a:lnTo>
                  <a:lnTo>
                    <a:pt x="55791" y="331553"/>
                  </a:lnTo>
                  <a:lnTo>
                    <a:pt x="54494" y="320758"/>
                  </a:lnTo>
                  <a:lnTo>
                    <a:pt x="53630" y="309327"/>
                  </a:lnTo>
                  <a:lnTo>
                    <a:pt x="53054" y="297473"/>
                  </a:lnTo>
                  <a:lnTo>
                    <a:pt x="50976" y="286184"/>
                  </a:lnTo>
                  <a:lnTo>
                    <a:pt x="47899" y="275272"/>
                  </a:lnTo>
                  <a:lnTo>
                    <a:pt x="44153" y="264609"/>
                  </a:lnTo>
                  <a:lnTo>
                    <a:pt x="41656" y="253268"/>
                  </a:lnTo>
                  <a:lnTo>
                    <a:pt x="39991" y="241474"/>
                  </a:lnTo>
                  <a:lnTo>
                    <a:pt x="38881" y="229378"/>
                  </a:lnTo>
                  <a:lnTo>
                    <a:pt x="37295" y="217928"/>
                  </a:lnTo>
                  <a:lnTo>
                    <a:pt x="35391" y="206907"/>
                  </a:lnTo>
                  <a:lnTo>
                    <a:pt x="33274" y="196173"/>
                  </a:lnTo>
                  <a:lnTo>
                    <a:pt x="30170" y="185631"/>
                  </a:lnTo>
                  <a:lnTo>
                    <a:pt x="26408" y="175216"/>
                  </a:lnTo>
                  <a:lnTo>
                    <a:pt x="22206" y="164886"/>
                  </a:lnTo>
                  <a:lnTo>
                    <a:pt x="19404" y="154613"/>
                  </a:lnTo>
                  <a:lnTo>
                    <a:pt x="17537" y="144377"/>
                  </a:lnTo>
                  <a:lnTo>
                    <a:pt x="16292" y="134167"/>
                  </a:lnTo>
                  <a:lnTo>
                    <a:pt x="14616" y="124820"/>
                  </a:lnTo>
                  <a:lnTo>
                    <a:pt x="12651" y="116049"/>
                  </a:lnTo>
                  <a:lnTo>
                    <a:pt x="10495" y="107661"/>
                  </a:lnTo>
                  <a:lnTo>
                    <a:pt x="8210" y="99529"/>
                  </a:lnTo>
                  <a:lnTo>
                    <a:pt x="3414" y="83721"/>
                  </a:lnTo>
                  <a:lnTo>
                    <a:pt x="1797" y="75949"/>
                  </a:lnTo>
                  <a:lnTo>
                    <a:pt x="719" y="68228"/>
                  </a:lnTo>
                  <a:lnTo>
                    <a:pt x="0" y="60541"/>
                  </a:lnTo>
                  <a:lnTo>
                    <a:pt x="1458" y="47484"/>
                  </a:lnTo>
                  <a:lnTo>
                    <a:pt x="4929" y="36883"/>
                  </a:lnTo>
                  <a:lnTo>
                    <a:pt x="9294" y="29349"/>
                  </a:lnTo>
                  <a:lnTo>
                    <a:pt x="20556" y="16302"/>
                  </a:lnTo>
                  <a:lnTo>
                    <a:pt x="32044" y="8913"/>
                  </a:lnTo>
                  <a:lnTo>
                    <a:pt x="38663" y="5758"/>
                  </a:lnTo>
                  <a:lnTo>
                    <a:pt x="52791" y="2251"/>
                  </a:lnTo>
                  <a:lnTo>
                    <a:pt x="60115" y="1316"/>
                  </a:lnTo>
                  <a:lnTo>
                    <a:pt x="69231" y="693"/>
                  </a:lnTo>
                  <a:lnTo>
                    <a:pt x="79541" y="277"/>
                  </a:lnTo>
                  <a:lnTo>
                    <a:pt x="90648" y="0"/>
                  </a:lnTo>
                  <a:lnTo>
                    <a:pt x="101439" y="662"/>
                  </a:lnTo>
                  <a:lnTo>
                    <a:pt x="112020" y="1950"/>
                  </a:lnTo>
                  <a:lnTo>
                    <a:pt x="122461" y="3655"/>
                  </a:lnTo>
                  <a:lnTo>
                    <a:pt x="133655" y="6485"/>
                  </a:lnTo>
                  <a:lnTo>
                    <a:pt x="145350" y="10066"/>
                  </a:lnTo>
                  <a:lnTo>
                    <a:pt x="157380" y="14146"/>
                  </a:lnTo>
                  <a:lnTo>
                    <a:pt x="169635" y="17713"/>
                  </a:lnTo>
                  <a:lnTo>
                    <a:pt x="182036" y="20937"/>
                  </a:lnTo>
                  <a:lnTo>
                    <a:pt x="194538" y="23933"/>
                  </a:lnTo>
                  <a:lnTo>
                    <a:pt x="207106" y="28471"/>
                  </a:lnTo>
                  <a:lnTo>
                    <a:pt x="219718" y="34036"/>
                  </a:lnTo>
                  <a:lnTo>
                    <a:pt x="232359" y="40286"/>
                  </a:lnTo>
                  <a:lnTo>
                    <a:pt x="243327" y="46146"/>
                  </a:lnTo>
                  <a:lnTo>
                    <a:pt x="253179" y="51746"/>
                  </a:lnTo>
                  <a:lnTo>
                    <a:pt x="262286" y="57173"/>
                  </a:lnTo>
                  <a:lnTo>
                    <a:pt x="270898" y="63330"/>
                  </a:lnTo>
                  <a:lnTo>
                    <a:pt x="279180" y="69976"/>
                  </a:lnTo>
                  <a:lnTo>
                    <a:pt x="287240" y="76946"/>
                  </a:lnTo>
                  <a:lnTo>
                    <a:pt x="298454" y="89206"/>
                  </a:lnTo>
                  <a:lnTo>
                    <a:pt x="306261" y="101146"/>
                  </a:lnTo>
                  <a:lnTo>
                    <a:pt x="309528" y="107886"/>
                  </a:lnTo>
                  <a:lnTo>
                    <a:pt x="312552" y="114919"/>
                  </a:lnTo>
                  <a:lnTo>
                    <a:pt x="313722" y="121302"/>
                  </a:lnTo>
                  <a:lnTo>
                    <a:pt x="312764" y="132909"/>
                  </a:lnTo>
                  <a:lnTo>
                    <a:pt x="309517" y="141454"/>
                  </a:lnTo>
                  <a:lnTo>
                    <a:pt x="302928" y="153283"/>
                  </a:lnTo>
                  <a:lnTo>
                    <a:pt x="300532" y="157883"/>
                  </a:lnTo>
                  <a:lnTo>
                    <a:pt x="293356" y="165254"/>
                  </a:lnTo>
                  <a:lnTo>
                    <a:pt x="283675" y="171352"/>
                  </a:lnTo>
                  <a:lnTo>
                    <a:pt x="270906" y="176885"/>
                  </a:lnTo>
                  <a:lnTo>
                    <a:pt x="259021" y="179908"/>
                  </a:lnTo>
                  <a:lnTo>
                    <a:pt x="247248" y="181251"/>
                  </a:lnTo>
                  <a:lnTo>
                    <a:pt x="233549" y="181848"/>
                  </a:lnTo>
                  <a:lnTo>
                    <a:pt x="215601" y="182184"/>
                  </a:lnTo>
                  <a:lnTo>
                    <a:pt x="190643" y="182314"/>
                  </a:lnTo>
                  <a:lnTo>
                    <a:pt x="187576" y="181471"/>
                  </a:lnTo>
                  <a:lnTo>
                    <a:pt x="185532" y="180063"/>
                  </a:lnTo>
                  <a:lnTo>
                    <a:pt x="181462" y="174734"/>
                  </a:lnTo>
                  <a:lnTo>
                    <a:pt x="188005" y="174708"/>
                  </a:lnTo>
                  <a:lnTo>
                    <a:pt x="174966" y="174706"/>
                  </a:lnTo>
                  <a:lnTo>
                    <a:pt x="175431" y="175552"/>
                  </a:lnTo>
                  <a:lnTo>
                    <a:pt x="178206" y="178751"/>
                  </a:lnTo>
                  <a:lnTo>
                    <a:pt x="181825" y="179943"/>
                  </a:lnTo>
                  <a:lnTo>
                    <a:pt x="210398" y="184113"/>
                  </a:lnTo>
                  <a:lnTo>
                    <a:pt x="256306" y="192839"/>
                  </a:lnTo>
                  <a:lnTo>
                    <a:pt x="293559" y="200211"/>
                  </a:lnTo>
                  <a:lnTo>
                    <a:pt x="306140" y="203562"/>
                  </a:lnTo>
                  <a:lnTo>
                    <a:pt x="318761" y="207490"/>
                  </a:lnTo>
                  <a:lnTo>
                    <a:pt x="331408" y="211803"/>
                  </a:lnTo>
                  <a:lnTo>
                    <a:pt x="356749" y="221109"/>
                  </a:lnTo>
                  <a:lnTo>
                    <a:pt x="369433" y="225961"/>
                  </a:lnTo>
                  <a:lnTo>
                    <a:pt x="380429" y="230890"/>
                  </a:lnTo>
                  <a:lnTo>
                    <a:pt x="390300" y="235869"/>
                  </a:lnTo>
                  <a:lnTo>
                    <a:pt x="399421" y="240881"/>
                  </a:lnTo>
                  <a:lnTo>
                    <a:pt x="408042" y="246762"/>
                  </a:lnTo>
                  <a:lnTo>
                    <a:pt x="416328" y="253224"/>
                  </a:lnTo>
                  <a:lnTo>
                    <a:pt x="424393" y="260071"/>
                  </a:lnTo>
                  <a:lnTo>
                    <a:pt x="437869" y="272195"/>
                  </a:lnTo>
                  <a:lnTo>
                    <a:pt x="443833" y="277799"/>
                  </a:lnTo>
                  <a:lnTo>
                    <a:pt x="452718" y="290799"/>
                  </a:lnTo>
                  <a:lnTo>
                    <a:pt x="456272" y="297821"/>
                  </a:lnTo>
                  <a:lnTo>
                    <a:pt x="457796" y="304196"/>
                  </a:lnTo>
                  <a:lnTo>
                    <a:pt x="457965" y="310139"/>
                  </a:lnTo>
                  <a:lnTo>
                    <a:pt x="455895" y="322106"/>
                  </a:lnTo>
                  <a:lnTo>
                    <a:pt x="454156" y="328852"/>
                  </a:lnTo>
                  <a:lnTo>
                    <a:pt x="452152" y="335890"/>
                  </a:lnTo>
                  <a:lnTo>
                    <a:pt x="445409" y="348226"/>
                  </a:lnTo>
                  <a:lnTo>
                    <a:pt x="435920" y="359352"/>
                  </a:lnTo>
                  <a:lnTo>
                    <a:pt x="423237" y="369943"/>
                  </a:lnTo>
                  <a:lnTo>
                    <a:pt x="409132" y="380293"/>
                  </a:lnTo>
                  <a:lnTo>
                    <a:pt x="401816" y="385424"/>
                  </a:lnTo>
                  <a:lnTo>
                    <a:pt x="392704" y="389691"/>
                  </a:lnTo>
                  <a:lnTo>
                    <a:pt x="382397" y="393383"/>
                  </a:lnTo>
                  <a:lnTo>
                    <a:pt x="371292" y="396691"/>
                  </a:lnTo>
                  <a:lnTo>
                    <a:pt x="359655" y="400589"/>
                  </a:lnTo>
                  <a:lnTo>
                    <a:pt x="335437" y="409436"/>
                  </a:lnTo>
                  <a:lnTo>
                    <a:pt x="323052" y="412473"/>
                  </a:lnTo>
                  <a:lnTo>
                    <a:pt x="310562" y="414498"/>
                  </a:lnTo>
                  <a:lnTo>
                    <a:pt x="298002" y="415847"/>
                  </a:lnTo>
                  <a:lnTo>
                    <a:pt x="285395" y="417593"/>
                  </a:lnTo>
                  <a:lnTo>
                    <a:pt x="260099" y="421792"/>
                  </a:lnTo>
                  <a:lnTo>
                    <a:pt x="247427" y="423250"/>
                  </a:lnTo>
                  <a:lnTo>
                    <a:pt x="234745" y="424222"/>
                  </a:lnTo>
                  <a:lnTo>
                    <a:pt x="222058" y="424870"/>
                  </a:lnTo>
                  <a:lnTo>
                    <a:pt x="210212" y="424455"/>
                  </a:lnTo>
                  <a:lnTo>
                    <a:pt x="198928" y="423332"/>
                  </a:lnTo>
                  <a:lnTo>
                    <a:pt x="188020" y="421737"/>
                  </a:lnTo>
                  <a:lnTo>
                    <a:pt x="178207" y="420673"/>
                  </a:lnTo>
                  <a:lnTo>
                    <a:pt x="169125" y="419964"/>
                  </a:lnTo>
                  <a:lnTo>
                    <a:pt x="160531" y="419491"/>
                  </a:lnTo>
                  <a:lnTo>
                    <a:pt x="146466" y="416709"/>
                  </a:lnTo>
                  <a:lnTo>
                    <a:pt x="134570" y="413496"/>
                  </a:lnTo>
                  <a:lnTo>
                    <a:pt x="123639" y="412068"/>
                  </a:lnTo>
                  <a:lnTo>
                    <a:pt x="109754" y="411152"/>
                  </a:lnTo>
                  <a:lnTo>
                    <a:pt x="105242" y="4109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SMARTInkAnnotation110"/>
            <p:cNvSpPr/>
            <p:nvPr/>
          </p:nvSpPr>
          <p:spPr>
            <a:xfrm>
              <a:off x="4739040" y="3269160"/>
              <a:ext cx="304560" cy="26604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304788" h="266212">
                  <a:moveTo>
                    <a:pt x="45706" y="22371"/>
                  </a:moveTo>
                  <a:lnTo>
                    <a:pt x="45706" y="26416"/>
                  </a:lnTo>
                  <a:lnTo>
                    <a:pt x="46552" y="27608"/>
                  </a:lnTo>
                  <a:lnTo>
                    <a:pt x="47963" y="28402"/>
                  </a:lnTo>
                  <a:lnTo>
                    <a:pt x="49751" y="28932"/>
                  </a:lnTo>
                  <a:lnTo>
                    <a:pt x="50943" y="30132"/>
                  </a:lnTo>
                  <a:lnTo>
                    <a:pt x="51737" y="31778"/>
                  </a:lnTo>
                  <a:lnTo>
                    <a:pt x="52267" y="33722"/>
                  </a:lnTo>
                  <a:lnTo>
                    <a:pt x="52855" y="40398"/>
                  </a:lnTo>
                  <a:lnTo>
                    <a:pt x="53012" y="44549"/>
                  </a:lnTo>
                  <a:lnTo>
                    <a:pt x="53963" y="49010"/>
                  </a:lnTo>
                  <a:lnTo>
                    <a:pt x="55444" y="53677"/>
                  </a:lnTo>
                  <a:lnTo>
                    <a:pt x="57278" y="58482"/>
                  </a:lnTo>
                  <a:lnTo>
                    <a:pt x="57654" y="63378"/>
                  </a:lnTo>
                  <a:lnTo>
                    <a:pt x="57058" y="68336"/>
                  </a:lnTo>
                  <a:lnTo>
                    <a:pt x="55814" y="73334"/>
                  </a:lnTo>
                  <a:lnTo>
                    <a:pt x="54985" y="79206"/>
                  </a:lnTo>
                  <a:lnTo>
                    <a:pt x="54432" y="85661"/>
                  </a:lnTo>
                  <a:lnTo>
                    <a:pt x="54063" y="92504"/>
                  </a:lnTo>
                  <a:lnTo>
                    <a:pt x="52971" y="98760"/>
                  </a:lnTo>
                  <a:lnTo>
                    <a:pt x="51396" y="104624"/>
                  </a:lnTo>
                  <a:lnTo>
                    <a:pt x="35433" y="152266"/>
                  </a:lnTo>
                  <a:lnTo>
                    <a:pt x="32931" y="158921"/>
                  </a:lnTo>
                  <a:lnTo>
                    <a:pt x="30416" y="165051"/>
                  </a:lnTo>
                  <a:lnTo>
                    <a:pt x="27892" y="170831"/>
                  </a:lnTo>
                  <a:lnTo>
                    <a:pt x="24517" y="176377"/>
                  </a:lnTo>
                  <a:lnTo>
                    <a:pt x="20573" y="181769"/>
                  </a:lnTo>
                  <a:lnTo>
                    <a:pt x="16251" y="187056"/>
                  </a:lnTo>
                  <a:lnTo>
                    <a:pt x="9191" y="195189"/>
                  </a:lnTo>
                  <a:lnTo>
                    <a:pt x="6122" y="198543"/>
                  </a:lnTo>
                  <a:lnTo>
                    <a:pt x="2713" y="204528"/>
                  </a:lnTo>
                  <a:lnTo>
                    <a:pt x="33" y="212726"/>
                  </a:lnTo>
                  <a:lnTo>
                    <a:pt x="0" y="208783"/>
                  </a:lnTo>
                  <a:lnTo>
                    <a:pt x="2250" y="202305"/>
                  </a:lnTo>
                  <a:lnTo>
                    <a:pt x="4035" y="198207"/>
                  </a:lnTo>
                  <a:lnTo>
                    <a:pt x="6918" y="192935"/>
                  </a:lnTo>
                  <a:lnTo>
                    <a:pt x="10535" y="186880"/>
                  </a:lnTo>
                  <a:lnTo>
                    <a:pt x="14639" y="180304"/>
                  </a:lnTo>
                  <a:lnTo>
                    <a:pt x="18221" y="173380"/>
                  </a:lnTo>
                  <a:lnTo>
                    <a:pt x="21456" y="166224"/>
                  </a:lnTo>
                  <a:lnTo>
                    <a:pt x="24459" y="158912"/>
                  </a:lnTo>
                  <a:lnTo>
                    <a:pt x="28155" y="150652"/>
                  </a:lnTo>
                  <a:lnTo>
                    <a:pt x="36777" y="132443"/>
                  </a:lnTo>
                  <a:lnTo>
                    <a:pt x="42293" y="123692"/>
                  </a:lnTo>
                  <a:lnTo>
                    <a:pt x="48510" y="115319"/>
                  </a:lnTo>
                  <a:lnTo>
                    <a:pt x="55196" y="107196"/>
                  </a:lnTo>
                  <a:lnTo>
                    <a:pt x="61346" y="99241"/>
                  </a:lnTo>
                  <a:lnTo>
                    <a:pt x="67139" y="91398"/>
                  </a:lnTo>
                  <a:lnTo>
                    <a:pt x="78092" y="75910"/>
                  </a:lnTo>
                  <a:lnTo>
                    <a:pt x="88604" y="60559"/>
                  </a:lnTo>
                  <a:lnTo>
                    <a:pt x="94625" y="53756"/>
                  </a:lnTo>
                  <a:lnTo>
                    <a:pt x="101178" y="47528"/>
                  </a:lnTo>
                  <a:lnTo>
                    <a:pt x="108087" y="41682"/>
                  </a:lnTo>
                  <a:lnTo>
                    <a:pt x="114387" y="36092"/>
                  </a:lnTo>
                  <a:lnTo>
                    <a:pt x="125903" y="25364"/>
                  </a:lnTo>
                  <a:lnTo>
                    <a:pt x="131344" y="20980"/>
                  </a:lnTo>
                  <a:lnTo>
                    <a:pt x="136665" y="17211"/>
                  </a:lnTo>
                  <a:lnTo>
                    <a:pt x="141905" y="13851"/>
                  </a:lnTo>
                  <a:lnTo>
                    <a:pt x="147939" y="10764"/>
                  </a:lnTo>
                  <a:lnTo>
                    <a:pt x="154501" y="7860"/>
                  </a:lnTo>
                  <a:lnTo>
                    <a:pt x="161417" y="5077"/>
                  </a:lnTo>
                  <a:lnTo>
                    <a:pt x="166872" y="3222"/>
                  </a:lnTo>
                  <a:lnTo>
                    <a:pt x="175194" y="1160"/>
                  </a:lnTo>
                  <a:lnTo>
                    <a:pt x="184638" y="0"/>
                  </a:lnTo>
                  <a:lnTo>
                    <a:pt x="187434" y="684"/>
                  </a:lnTo>
                  <a:lnTo>
                    <a:pt x="192798" y="3701"/>
                  </a:lnTo>
                  <a:lnTo>
                    <a:pt x="200579" y="10160"/>
                  </a:lnTo>
                  <a:lnTo>
                    <a:pt x="205696" y="17226"/>
                  </a:lnTo>
                  <a:lnTo>
                    <a:pt x="208246" y="21481"/>
                  </a:lnTo>
                  <a:lnTo>
                    <a:pt x="209946" y="26011"/>
                  </a:lnTo>
                  <a:lnTo>
                    <a:pt x="211079" y="30725"/>
                  </a:lnTo>
                  <a:lnTo>
                    <a:pt x="211835" y="35560"/>
                  </a:lnTo>
                  <a:lnTo>
                    <a:pt x="213186" y="41324"/>
                  </a:lnTo>
                  <a:lnTo>
                    <a:pt x="214933" y="47706"/>
                  </a:lnTo>
                  <a:lnTo>
                    <a:pt x="219131" y="61571"/>
                  </a:lnTo>
                  <a:lnTo>
                    <a:pt x="223819" y="76200"/>
                  </a:lnTo>
                  <a:lnTo>
                    <a:pt x="225408" y="84504"/>
                  </a:lnTo>
                  <a:lnTo>
                    <a:pt x="226468" y="93426"/>
                  </a:lnTo>
                  <a:lnTo>
                    <a:pt x="227175" y="102761"/>
                  </a:lnTo>
                  <a:lnTo>
                    <a:pt x="228492" y="112371"/>
                  </a:lnTo>
                  <a:lnTo>
                    <a:pt x="230216" y="122165"/>
                  </a:lnTo>
                  <a:lnTo>
                    <a:pt x="232213" y="132080"/>
                  </a:lnTo>
                  <a:lnTo>
                    <a:pt x="236689" y="152128"/>
                  </a:lnTo>
                  <a:lnTo>
                    <a:pt x="239068" y="162216"/>
                  </a:lnTo>
                  <a:lnTo>
                    <a:pt x="241500" y="171481"/>
                  </a:lnTo>
                  <a:lnTo>
                    <a:pt x="246462" y="188549"/>
                  </a:lnTo>
                  <a:lnTo>
                    <a:pt x="254015" y="212438"/>
                  </a:lnTo>
                  <a:lnTo>
                    <a:pt x="257392" y="219355"/>
                  </a:lnTo>
                  <a:lnTo>
                    <a:pt x="261336" y="225661"/>
                  </a:lnTo>
                  <a:lnTo>
                    <a:pt x="265660" y="231558"/>
                  </a:lnTo>
                  <a:lnTo>
                    <a:pt x="269389" y="236335"/>
                  </a:lnTo>
                  <a:lnTo>
                    <a:pt x="275789" y="243902"/>
                  </a:lnTo>
                  <a:lnTo>
                    <a:pt x="279528" y="247952"/>
                  </a:lnTo>
                  <a:lnTo>
                    <a:pt x="288199" y="256967"/>
                  </a:lnTo>
                  <a:lnTo>
                    <a:pt x="295438" y="262102"/>
                  </a:lnTo>
                  <a:lnTo>
                    <a:pt x="304787" y="26621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SMARTInkAnnotation111"/>
            <p:cNvSpPr/>
            <p:nvPr/>
          </p:nvSpPr>
          <p:spPr>
            <a:xfrm>
              <a:off x="5214960" y="3253320"/>
              <a:ext cx="27000" cy="266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7231" h="266701">
                  <a:moveTo>
                    <a:pt x="27230" y="0"/>
                  </a:moveTo>
                  <a:lnTo>
                    <a:pt x="27230" y="24473"/>
                  </a:lnTo>
                  <a:lnTo>
                    <a:pt x="26383" y="29015"/>
                  </a:lnTo>
                  <a:lnTo>
                    <a:pt x="24973" y="34584"/>
                  </a:lnTo>
                  <a:lnTo>
                    <a:pt x="23185" y="40836"/>
                  </a:lnTo>
                  <a:lnTo>
                    <a:pt x="21993" y="47544"/>
                  </a:lnTo>
                  <a:lnTo>
                    <a:pt x="21199" y="54556"/>
                  </a:lnTo>
                  <a:lnTo>
                    <a:pt x="20669" y="61771"/>
                  </a:lnTo>
                  <a:lnTo>
                    <a:pt x="19469" y="69120"/>
                  </a:lnTo>
                  <a:lnTo>
                    <a:pt x="17823" y="76560"/>
                  </a:lnTo>
                  <a:lnTo>
                    <a:pt x="15879" y="84061"/>
                  </a:lnTo>
                  <a:lnTo>
                    <a:pt x="14583" y="91600"/>
                  </a:lnTo>
                  <a:lnTo>
                    <a:pt x="13718" y="99167"/>
                  </a:lnTo>
                  <a:lnTo>
                    <a:pt x="13142" y="106751"/>
                  </a:lnTo>
                  <a:lnTo>
                    <a:pt x="11912" y="114347"/>
                  </a:lnTo>
                  <a:lnTo>
                    <a:pt x="10244" y="121952"/>
                  </a:lnTo>
                  <a:lnTo>
                    <a:pt x="8286" y="129561"/>
                  </a:lnTo>
                  <a:lnTo>
                    <a:pt x="6981" y="138020"/>
                  </a:lnTo>
                  <a:lnTo>
                    <a:pt x="6111" y="147047"/>
                  </a:lnTo>
                  <a:lnTo>
                    <a:pt x="5531" y="156451"/>
                  </a:lnTo>
                  <a:lnTo>
                    <a:pt x="4886" y="173674"/>
                  </a:lnTo>
                  <a:lnTo>
                    <a:pt x="4523" y="197650"/>
                  </a:lnTo>
                  <a:lnTo>
                    <a:pt x="4472" y="205427"/>
                  </a:lnTo>
                  <a:lnTo>
                    <a:pt x="3591" y="212304"/>
                  </a:lnTo>
                  <a:lnTo>
                    <a:pt x="2158" y="218583"/>
                  </a:lnTo>
                  <a:lnTo>
                    <a:pt x="355" y="224462"/>
                  </a:lnTo>
                  <a:lnTo>
                    <a:pt x="0" y="230075"/>
                  </a:lnTo>
                  <a:lnTo>
                    <a:pt x="610" y="235510"/>
                  </a:lnTo>
                  <a:lnTo>
                    <a:pt x="1863" y="240827"/>
                  </a:lnTo>
                  <a:lnTo>
                    <a:pt x="2699" y="245218"/>
                  </a:lnTo>
                  <a:lnTo>
                    <a:pt x="3256" y="248992"/>
                  </a:lnTo>
                  <a:lnTo>
                    <a:pt x="3875" y="255443"/>
                  </a:lnTo>
                  <a:lnTo>
                    <a:pt x="4223" y="262988"/>
                  </a:lnTo>
                  <a:lnTo>
                    <a:pt x="4370" y="2667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SMARTInkAnnotation112"/>
            <p:cNvSpPr/>
            <p:nvPr/>
          </p:nvSpPr>
          <p:spPr>
            <a:xfrm>
              <a:off x="5150880" y="3390480"/>
              <a:ext cx="198000" cy="30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8122" h="30481">
                  <a:moveTo>
                    <a:pt x="0" y="30480"/>
                  </a:moveTo>
                  <a:lnTo>
                    <a:pt x="8091" y="26435"/>
                  </a:lnTo>
                  <a:lnTo>
                    <a:pt x="12168" y="25243"/>
                  </a:lnTo>
                  <a:lnTo>
                    <a:pt x="16578" y="24449"/>
                  </a:lnTo>
                  <a:lnTo>
                    <a:pt x="21212" y="23919"/>
                  </a:lnTo>
                  <a:lnTo>
                    <a:pt x="25995" y="23566"/>
                  </a:lnTo>
                  <a:lnTo>
                    <a:pt x="30877" y="23331"/>
                  </a:lnTo>
                  <a:lnTo>
                    <a:pt x="35825" y="23174"/>
                  </a:lnTo>
                  <a:lnTo>
                    <a:pt x="41663" y="22223"/>
                  </a:lnTo>
                  <a:lnTo>
                    <a:pt x="48096" y="20742"/>
                  </a:lnTo>
                  <a:lnTo>
                    <a:pt x="54923" y="18908"/>
                  </a:lnTo>
                  <a:lnTo>
                    <a:pt x="62016" y="17685"/>
                  </a:lnTo>
                  <a:lnTo>
                    <a:pt x="69284" y="16870"/>
                  </a:lnTo>
                  <a:lnTo>
                    <a:pt x="76669" y="16327"/>
                  </a:lnTo>
                  <a:lnTo>
                    <a:pt x="84980" y="15965"/>
                  </a:lnTo>
                  <a:lnTo>
                    <a:pt x="103245" y="15562"/>
                  </a:lnTo>
                  <a:lnTo>
                    <a:pt x="112856" y="14608"/>
                  </a:lnTo>
                  <a:lnTo>
                    <a:pt x="122651" y="13126"/>
                  </a:lnTo>
                  <a:lnTo>
                    <a:pt x="132568" y="11290"/>
                  </a:lnTo>
                  <a:lnTo>
                    <a:pt x="141719" y="10067"/>
                  </a:lnTo>
                  <a:lnTo>
                    <a:pt x="150360" y="9251"/>
                  </a:lnTo>
                  <a:lnTo>
                    <a:pt x="158660" y="8708"/>
                  </a:lnTo>
                  <a:lnTo>
                    <a:pt x="172398" y="8103"/>
                  </a:lnTo>
                  <a:lnTo>
                    <a:pt x="178433" y="7942"/>
                  </a:lnTo>
                  <a:lnTo>
                    <a:pt x="183301" y="6988"/>
                  </a:lnTo>
                  <a:lnTo>
                    <a:pt x="187395" y="5505"/>
                  </a:lnTo>
                  <a:lnTo>
                    <a:pt x="19812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SMARTInkAnnotation113"/>
            <p:cNvSpPr/>
            <p:nvPr/>
          </p:nvSpPr>
          <p:spPr>
            <a:xfrm>
              <a:off x="5478480" y="3269160"/>
              <a:ext cx="258840" cy="2419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259080" h="242022">
                  <a:moveTo>
                    <a:pt x="7619" y="7134"/>
                  </a:moveTo>
                  <a:lnTo>
                    <a:pt x="7619" y="11179"/>
                  </a:lnTo>
                  <a:lnTo>
                    <a:pt x="8465" y="13218"/>
                  </a:lnTo>
                  <a:lnTo>
                    <a:pt x="12856" y="20131"/>
                  </a:lnTo>
                  <a:lnTo>
                    <a:pt x="14179" y="25046"/>
                  </a:lnTo>
                  <a:lnTo>
                    <a:pt x="14768" y="32311"/>
                  </a:lnTo>
                  <a:lnTo>
                    <a:pt x="15029" y="41183"/>
                  </a:lnTo>
                  <a:lnTo>
                    <a:pt x="15231" y="84879"/>
                  </a:lnTo>
                  <a:lnTo>
                    <a:pt x="15237" y="102607"/>
                  </a:lnTo>
                  <a:lnTo>
                    <a:pt x="14390" y="109729"/>
                  </a:lnTo>
                  <a:lnTo>
                    <a:pt x="12980" y="117864"/>
                  </a:lnTo>
                  <a:lnTo>
                    <a:pt x="11193" y="126674"/>
                  </a:lnTo>
                  <a:lnTo>
                    <a:pt x="10002" y="135087"/>
                  </a:lnTo>
                  <a:lnTo>
                    <a:pt x="9207" y="143237"/>
                  </a:lnTo>
                  <a:lnTo>
                    <a:pt x="8677" y="151209"/>
                  </a:lnTo>
                  <a:lnTo>
                    <a:pt x="7478" y="158217"/>
                  </a:lnTo>
                  <a:lnTo>
                    <a:pt x="5831" y="164583"/>
                  </a:lnTo>
                  <a:lnTo>
                    <a:pt x="3887" y="170520"/>
                  </a:lnTo>
                  <a:lnTo>
                    <a:pt x="2591" y="177018"/>
                  </a:lnTo>
                  <a:lnTo>
                    <a:pt x="1727" y="183890"/>
                  </a:lnTo>
                  <a:lnTo>
                    <a:pt x="1151" y="191011"/>
                  </a:lnTo>
                  <a:lnTo>
                    <a:pt x="766" y="197452"/>
                  </a:lnTo>
                  <a:lnTo>
                    <a:pt x="340" y="209124"/>
                  </a:lnTo>
                  <a:lnTo>
                    <a:pt x="29" y="232618"/>
                  </a:lnTo>
                  <a:lnTo>
                    <a:pt x="1" y="242021"/>
                  </a:lnTo>
                  <a:lnTo>
                    <a:pt x="0" y="238914"/>
                  </a:lnTo>
                  <a:lnTo>
                    <a:pt x="846" y="237008"/>
                  </a:lnTo>
                  <a:lnTo>
                    <a:pt x="4044" y="232631"/>
                  </a:lnTo>
                  <a:lnTo>
                    <a:pt x="5236" y="229432"/>
                  </a:lnTo>
                  <a:lnTo>
                    <a:pt x="6030" y="225606"/>
                  </a:lnTo>
                  <a:lnTo>
                    <a:pt x="6560" y="221362"/>
                  </a:lnTo>
                  <a:lnTo>
                    <a:pt x="7759" y="215993"/>
                  </a:lnTo>
                  <a:lnTo>
                    <a:pt x="9406" y="209873"/>
                  </a:lnTo>
                  <a:lnTo>
                    <a:pt x="11351" y="203253"/>
                  </a:lnTo>
                  <a:lnTo>
                    <a:pt x="14340" y="195454"/>
                  </a:lnTo>
                  <a:lnTo>
                    <a:pt x="18026" y="186867"/>
                  </a:lnTo>
                  <a:lnTo>
                    <a:pt x="22177" y="177756"/>
                  </a:lnTo>
                  <a:lnTo>
                    <a:pt x="25791" y="169142"/>
                  </a:lnTo>
                  <a:lnTo>
                    <a:pt x="29047" y="160860"/>
                  </a:lnTo>
                  <a:lnTo>
                    <a:pt x="32064" y="152798"/>
                  </a:lnTo>
                  <a:lnTo>
                    <a:pt x="34922" y="144036"/>
                  </a:lnTo>
                  <a:lnTo>
                    <a:pt x="37675" y="134809"/>
                  </a:lnTo>
                  <a:lnTo>
                    <a:pt x="42990" y="116372"/>
                  </a:lnTo>
                  <a:lnTo>
                    <a:pt x="50743" y="91712"/>
                  </a:lnTo>
                  <a:lnTo>
                    <a:pt x="55854" y="76051"/>
                  </a:lnTo>
                  <a:lnTo>
                    <a:pt x="59249" y="69165"/>
                  </a:lnTo>
                  <a:lnTo>
                    <a:pt x="63206" y="62881"/>
                  </a:lnTo>
                  <a:lnTo>
                    <a:pt x="67536" y="56999"/>
                  </a:lnTo>
                  <a:lnTo>
                    <a:pt x="72117" y="51384"/>
                  </a:lnTo>
                  <a:lnTo>
                    <a:pt x="76864" y="45948"/>
                  </a:lnTo>
                  <a:lnTo>
                    <a:pt x="81723" y="40630"/>
                  </a:lnTo>
                  <a:lnTo>
                    <a:pt x="85808" y="35391"/>
                  </a:lnTo>
                  <a:lnTo>
                    <a:pt x="89378" y="30205"/>
                  </a:lnTo>
                  <a:lnTo>
                    <a:pt x="92605" y="25055"/>
                  </a:lnTo>
                  <a:lnTo>
                    <a:pt x="96450" y="20775"/>
                  </a:lnTo>
                  <a:lnTo>
                    <a:pt x="100706" y="17075"/>
                  </a:lnTo>
                  <a:lnTo>
                    <a:pt x="105237" y="13761"/>
                  </a:lnTo>
                  <a:lnTo>
                    <a:pt x="109951" y="10705"/>
                  </a:lnTo>
                  <a:lnTo>
                    <a:pt x="114787" y="7822"/>
                  </a:lnTo>
                  <a:lnTo>
                    <a:pt x="119705" y="5052"/>
                  </a:lnTo>
                  <a:lnTo>
                    <a:pt x="124676" y="3206"/>
                  </a:lnTo>
                  <a:lnTo>
                    <a:pt x="129684" y="1976"/>
                  </a:lnTo>
                  <a:lnTo>
                    <a:pt x="134715" y="1155"/>
                  </a:lnTo>
                  <a:lnTo>
                    <a:pt x="139763" y="608"/>
                  </a:lnTo>
                  <a:lnTo>
                    <a:pt x="144821" y="243"/>
                  </a:lnTo>
                  <a:lnTo>
                    <a:pt x="149887" y="0"/>
                  </a:lnTo>
                  <a:lnTo>
                    <a:pt x="154958" y="685"/>
                  </a:lnTo>
                  <a:lnTo>
                    <a:pt x="160032" y="1988"/>
                  </a:lnTo>
                  <a:lnTo>
                    <a:pt x="165107" y="3704"/>
                  </a:lnTo>
                  <a:lnTo>
                    <a:pt x="170185" y="6540"/>
                  </a:lnTo>
                  <a:lnTo>
                    <a:pt x="175263" y="10125"/>
                  </a:lnTo>
                  <a:lnTo>
                    <a:pt x="180341" y="14208"/>
                  </a:lnTo>
                  <a:lnTo>
                    <a:pt x="186267" y="18624"/>
                  </a:lnTo>
                  <a:lnTo>
                    <a:pt x="199625" y="28045"/>
                  </a:lnTo>
                  <a:lnTo>
                    <a:pt x="205896" y="33775"/>
                  </a:lnTo>
                  <a:lnTo>
                    <a:pt x="211771" y="40134"/>
                  </a:lnTo>
                  <a:lnTo>
                    <a:pt x="217380" y="46914"/>
                  </a:lnTo>
                  <a:lnTo>
                    <a:pt x="221966" y="53974"/>
                  </a:lnTo>
                  <a:lnTo>
                    <a:pt x="225870" y="61221"/>
                  </a:lnTo>
                  <a:lnTo>
                    <a:pt x="229320" y="68592"/>
                  </a:lnTo>
                  <a:lnTo>
                    <a:pt x="232466" y="76046"/>
                  </a:lnTo>
                  <a:lnTo>
                    <a:pt x="235410" y="83555"/>
                  </a:lnTo>
                  <a:lnTo>
                    <a:pt x="240940" y="98672"/>
                  </a:lnTo>
                  <a:lnTo>
                    <a:pt x="246219" y="113858"/>
                  </a:lnTo>
                  <a:lnTo>
                    <a:pt x="247966" y="121463"/>
                  </a:lnTo>
                  <a:lnTo>
                    <a:pt x="249130" y="129073"/>
                  </a:lnTo>
                  <a:lnTo>
                    <a:pt x="249907" y="136687"/>
                  </a:lnTo>
                  <a:lnTo>
                    <a:pt x="250424" y="143456"/>
                  </a:lnTo>
                  <a:lnTo>
                    <a:pt x="250768" y="149662"/>
                  </a:lnTo>
                  <a:lnTo>
                    <a:pt x="250999" y="155493"/>
                  </a:lnTo>
                  <a:lnTo>
                    <a:pt x="251254" y="168745"/>
                  </a:lnTo>
                  <a:lnTo>
                    <a:pt x="251456" y="218909"/>
                  </a:lnTo>
                  <a:lnTo>
                    <a:pt x="252303" y="221977"/>
                  </a:lnTo>
                  <a:lnTo>
                    <a:pt x="253715" y="224023"/>
                  </a:lnTo>
                  <a:lnTo>
                    <a:pt x="255503" y="225387"/>
                  </a:lnTo>
                  <a:lnTo>
                    <a:pt x="256695" y="227143"/>
                  </a:lnTo>
                  <a:lnTo>
                    <a:pt x="258609" y="233786"/>
                  </a:lnTo>
                  <a:lnTo>
                    <a:pt x="259079" y="23573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SMARTInkAnnotation114"/>
            <p:cNvSpPr/>
            <p:nvPr/>
          </p:nvSpPr>
          <p:spPr>
            <a:xfrm>
              <a:off x="5897520" y="3329640"/>
              <a:ext cx="30240" cy="213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30481" h="213361">
                  <a:moveTo>
                    <a:pt x="0" y="0"/>
                  </a:moveTo>
                  <a:lnTo>
                    <a:pt x="0" y="69363"/>
                  </a:lnTo>
                  <a:lnTo>
                    <a:pt x="846" y="77569"/>
                  </a:lnTo>
                  <a:lnTo>
                    <a:pt x="2258" y="86425"/>
                  </a:lnTo>
                  <a:lnTo>
                    <a:pt x="4045" y="95717"/>
                  </a:lnTo>
                  <a:lnTo>
                    <a:pt x="5237" y="105298"/>
                  </a:lnTo>
                  <a:lnTo>
                    <a:pt x="6032" y="115072"/>
                  </a:lnTo>
                  <a:lnTo>
                    <a:pt x="6561" y="124975"/>
                  </a:lnTo>
                  <a:lnTo>
                    <a:pt x="7760" y="134116"/>
                  </a:lnTo>
                  <a:lnTo>
                    <a:pt x="9407" y="142751"/>
                  </a:lnTo>
                  <a:lnTo>
                    <a:pt x="11352" y="151047"/>
                  </a:lnTo>
                  <a:lnTo>
                    <a:pt x="13494" y="159118"/>
                  </a:lnTo>
                  <a:lnTo>
                    <a:pt x="18133" y="174860"/>
                  </a:lnTo>
                  <a:lnTo>
                    <a:pt x="19708" y="181766"/>
                  </a:lnTo>
                  <a:lnTo>
                    <a:pt x="20759" y="188064"/>
                  </a:lnTo>
                  <a:lnTo>
                    <a:pt x="21459" y="193956"/>
                  </a:lnTo>
                  <a:lnTo>
                    <a:pt x="22773" y="198731"/>
                  </a:lnTo>
                  <a:lnTo>
                    <a:pt x="24495" y="202761"/>
                  </a:lnTo>
                  <a:lnTo>
                    <a:pt x="30480" y="213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SMARTInkAnnotation115"/>
            <p:cNvSpPr/>
            <p:nvPr/>
          </p:nvSpPr>
          <p:spPr>
            <a:xfrm>
              <a:off x="5851800" y="3405600"/>
              <a:ext cx="152280" cy="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2401" h="7621">
                  <a:moveTo>
                    <a:pt x="0" y="0"/>
                  </a:moveTo>
                  <a:lnTo>
                    <a:pt x="34274" y="0"/>
                  </a:lnTo>
                  <a:lnTo>
                    <a:pt x="41476" y="847"/>
                  </a:lnTo>
                  <a:lnTo>
                    <a:pt x="49665" y="2258"/>
                  </a:lnTo>
                  <a:lnTo>
                    <a:pt x="58509" y="4045"/>
                  </a:lnTo>
                  <a:lnTo>
                    <a:pt x="68639" y="5237"/>
                  </a:lnTo>
                  <a:lnTo>
                    <a:pt x="79626" y="6032"/>
                  </a:lnTo>
                  <a:lnTo>
                    <a:pt x="100582" y="6914"/>
                  </a:lnTo>
                  <a:lnTo>
                    <a:pt x="115541" y="7307"/>
                  </a:lnTo>
                  <a:lnTo>
                    <a:pt x="152400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SMARTInkAnnotation116"/>
            <p:cNvSpPr/>
            <p:nvPr/>
          </p:nvSpPr>
          <p:spPr>
            <a:xfrm>
              <a:off x="6202440" y="3314160"/>
              <a:ext cx="30240" cy="236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0481" h="236221">
                  <a:moveTo>
                    <a:pt x="0" y="0"/>
                  </a:moveTo>
                  <a:lnTo>
                    <a:pt x="0" y="33530"/>
                  </a:lnTo>
                  <a:lnTo>
                    <a:pt x="846" y="40980"/>
                  </a:lnTo>
                  <a:lnTo>
                    <a:pt x="2258" y="49333"/>
                  </a:lnTo>
                  <a:lnTo>
                    <a:pt x="4046" y="58289"/>
                  </a:lnTo>
                  <a:lnTo>
                    <a:pt x="5237" y="66799"/>
                  </a:lnTo>
                  <a:lnTo>
                    <a:pt x="6032" y="75013"/>
                  </a:lnTo>
                  <a:lnTo>
                    <a:pt x="6561" y="83029"/>
                  </a:lnTo>
                  <a:lnTo>
                    <a:pt x="7761" y="91759"/>
                  </a:lnTo>
                  <a:lnTo>
                    <a:pt x="9407" y="100966"/>
                  </a:lnTo>
                  <a:lnTo>
                    <a:pt x="20555" y="155348"/>
                  </a:lnTo>
                  <a:lnTo>
                    <a:pt x="25505" y="176853"/>
                  </a:lnTo>
                  <a:lnTo>
                    <a:pt x="27163" y="186482"/>
                  </a:lnTo>
                  <a:lnTo>
                    <a:pt x="28269" y="195441"/>
                  </a:lnTo>
                  <a:lnTo>
                    <a:pt x="29006" y="203955"/>
                  </a:lnTo>
                  <a:lnTo>
                    <a:pt x="29497" y="211323"/>
                  </a:lnTo>
                  <a:lnTo>
                    <a:pt x="30480" y="2362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SMARTInkAnnotation117"/>
            <p:cNvSpPr/>
            <p:nvPr/>
          </p:nvSpPr>
          <p:spPr>
            <a:xfrm>
              <a:off x="6598800" y="3276000"/>
              <a:ext cx="30240" cy="289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30473" h="289561">
                  <a:moveTo>
                    <a:pt x="30472" y="0"/>
                  </a:moveTo>
                  <a:lnTo>
                    <a:pt x="30472" y="11573"/>
                  </a:lnTo>
                  <a:lnTo>
                    <a:pt x="29626" y="14488"/>
                  </a:lnTo>
                  <a:lnTo>
                    <a:pt x="28215" y="18126"/>
                  </a:lnTo>
                  <a:lnTo>
                    <a:pt x="26427" y="22244"/>
                  </a:lnTo>
                  <a:lnTo>
                    <a:pt x="25235" y="26682"/>
                  </a:lnTo>
                  <a:lnTo>
                    <a:pt x="24441" y="31335"/>
                  </a:lnTo>
                  <a:lnTo>
                    <a:pt x="23911" y="36130"/>
                  </a:lnTo>
                  <a:lnTo>
                    <a:pt x="22711" y="41020"/>
                  </a:lnTo>
                  <a:lnTo>
                    <a:pt x="21066" y="45974"/>
                  </a:lnTo>
                  <a:lnTo>
                    <a:pt x="19121" y="50969"/>
                  </a:lnTo>
                  <a:lnTo>
                    <a:pt x="17825" y="56840"/>
                  </a:lnTo>
                  <a:lnTo>
                    <a:pt x="16960" y="63293"/>
                  </a:lnTo>
                  <a:lnTo>
                    <a:pt x="16384" y="70135"/>
                  </a:lnTo>
                  <a:lnTo>
                    <a:pt x="15154" y="77237"/>
                  </a:lnTo>
                  <a:lnTo>
                    <a:pt x="13486" y="84511"/>
                  </a:lnTo>
                  <a:lnTo>
                    <a:pt x="11528" y="91901"/>
                  </a:lnTo>
                  <a:lnTo>
                    <a:pt x="10223" y="99368"/>
                  </a:lnTo>
                  <a:lnTo>
                    <a:pt x="9352" y="106885"/>
                  </a:lnTo>
                  <a:lnTo>
                    <a:pt x="8773" y="114437"/>
                  </a:lnTo>
                  <a:lnTo>
                    <a:pt x="8385" y="122011"/>
                  </a:lnTo>
                  <a:lnTo>
                    <a:pt x="7956" y="137201"/>
                  </a:lnTo>
                  <a:lnTo>
                    <a:pt x="6994" y="144807"/>
                  </a:lnTo>
                  <a:lnTo>
                    <a:pt x="5507" y="152418"/>
                  </a:lnTo>
                  <a:lnTo>
                    <a:pt x="3668" y="160032"/>
                  </a:lnTo>
                  <a:lnTo>
                    <a:pt x="2443" y="167648"/>
                  </a:lnTo>
                  <a:lnTo>
                    <a:pt x="1626" y="175266"/>
                  </a:lnTo>
                  <a:lnTo>
                    <a:pt x="1082" y="182884"/>
                  </a:lnTo>
                  <a:lnTo>
                    <a:pt x="718" y="190502"/>
                  </a:lnTo>
                  <a:lnTo>
                    <a:pt x="315" y="205741"/>
                  </a:lnTo>
                  <a:lnTo>
                    <a:pt x="20" y="244900"/>
                  </a:lnTo>
                  <a:lnTo>
                    <a:pt x="0" y="262969"/>
                  </a:lnTo>
                  <a:lnTo>
                    <a:pt x="844" y="268446"/>
                  </a:lnTo>
                  <a:lnTo>
                    <a:pt x="2254" y="273791"/>
                  </a:lnTo>
                  <a:lnTo>
                    <a:pt x="7612" y="2895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SMARTInkAnnotation118"/>
            <p:cNvSpPr/>
            <p:nvPr/>
          </p:nvSpPr>
          <p:spPr>
            <a:xfrm>
              <a:off x="6583320" y="346680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0"/>
                  </a:moveTo>
                  <a:lnTo>
                    <a:pt x="21212" y="0"/>
                  </a:lnTo>
                  <a:lnTo>
                    <a:pt x="26841" y="847"/>
                  </a:lnTo>
                  <a:lnTo>
                    <a:pt x="33134" y="2258"/>
                  </a:lnTo>
                  <a:lnTo>
                    <a:pt x="39869" y="4045"/>
                  </a:lnTo>
                  <a:lnTo>
                    <a:pt x="47747" y="5237"/>
                  </a:lnTo>
                  <a:lnTo>
                    <a:pt x="56384" y="6031"/>
                  </a:lnTo>
                  <a:lnTo>
                    <a:pt x="65530" y="6561"/>
                  </a:lnTo>
                  <a:lnTo>
                    <a:pt x="75860" y="7760"/>
                  </a:lnTo>
                  <a:lnTo>
                    <a:pt x="86980" y="9407"/>
                  </a:lnTo>
                  <a:lnTo>
                    <a:pt x="98627" y="11352"/>
                  </a:lnTo>
                  <a:lnTo>
                    <a:pt x="108084" y="12648"/>
                  </a:lnTo>
                  <a:lnTo>
                    <a:pt x="116082" y="13512"/>
                  </a:lnTo>
                  <a:lnTo>
                    <a:pt x="123108" y="14088"/>
                  </a:lnTo>
                  <a:lnTo>
                    <a:pt x="130333" y="14472"/>
                  </a:lnTo>
                  <a:lnTo>
                    <a:pt x="16002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SMARTInkAnnotation119"/>
            <p:cNvSpPr/>
            <p:nvPr/>
          </p:nvSpPr>
          <p:spPr>
            <a:xfrm>
              <a:off x="6957000" y="3321720"/>
              <a:ext cx="281880" cy="2649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1941" h="265136">
                  <a:moveTo>
                    <a:pt x="0" y="0"/>
                  </a:moveTo>
                  <a:lnTo>
                    <a:pt x="0" y="4046"/>
                  </a:lnTo>
                  <a:lnTo>
                    <a:pt x="846" y="6084"/>
                  </a:lnTo>
                  <a:lnTo>
                    <a:pt x="6083" y="13844"/>
                  </a:lnTo>
                  <a:lnTo>
                    <a:pt x="10606" y="21957"/>
                  </a:lnTo>
                  <a:lnTo>
                    <a:pt x="12151" y="26491"/>
                  </a:lnTo>
                  <a:lnTo>
                    <a:pt x="13180" y="31208"/>
                  </a:lnTo>
                  <a:lnTo>
                    <a:pt x="13867" y="36045"/>
                  </a:lnTo>
                  <a:lnTo>
                    <a:pt x="15171" y="41810"/>
                  </a:lnTo>
                  <a:lnTo>
                    <a:pt x="16888" y="48194"/>
                  </a:lnTo>
                  <a:lnTo>
                    <a:pt x="18879" y="54989"/>
                  </a:lnTo>
                  <a:lnTo>
                    <a:pt x="20206" y="62059"/>
                  </a:lnTo>
                  <a:lnTo>
                    <a:pt x="21091" y="69313"/>
                  </a:lnTo>
                  <a:lnTo>
                    <a:pt x="21681" y="76689"/>
                  </a:lnTo>
                  <a:lnTo>
                    <a:pt x="22074" y="84146"/>
                  </a:lnTo>
                  <a:lnTo>
                    <a:pt x="22510" y="99205"/>
                  </a:lnTo>
                  <a:lnTo>
                    <a:pt x="22829" y="155399"/>
                  </a:lnTo>
                  <a:lnTo>
                    <a:pt x="23686" y="164559"/>
                  </a:lnTo>
                  <a:lnTo>
                    <a:pt x="25104" y="173206"/>
                  </a:lnTo>
                  <a:lnTo>
                    <a:pt x="26896" y="181511"/>
                  </a:lnTo>
                  <a:lnTo>
                    <a:pt x="28090" y="190434"/>
                  </a:lnTo>
                  <a:lnTo>
                    <a:pt x="28886" y="199769"/>
                  </a:lnTo>
                  <a:lnTo>
                    <a:pt x="29417" y="209380"/>
                  </a:lnTo>
                  <a:lnTo>
                    <a:pt x="28924" y="217480"/>
                  </a:lnTo>
                  <a:lnTo>
                    <a:pt x="27750" y="224573"/>
                  </a:lnTo>
                  <a:lnTo>
                    <a:pt x="26120" y="230995"/>
                  </a:lnTo>
                  <a:lnTo>
                    <a:pt x="25033" y="236124"/>
                  </a:lnTo>
                  <a:lnTo>
                    <a:pt x="23826" y="244079"/>
                  </a:lnTo>
                  <a:lnTo>
                    <a:pt x="23289" y="250438"/>
                  </a:lnTo>
                  <a:lnTo>
                    <a:pt x="23050" y="256086"/>
                  </a:lnTo>
                  <a:lnTo>
                    <a:pt x="22885" y="265135"/>
                  </a:lnTo>
                  <a:lnTo>
                    <a:pt x="22867" y="262191"/>
                  </a:lnTo>
                  <a:lnTo>
                    <a:pt x="25122" y="255947"/>
                  </a:lnTo>
                  <a:lnTo>
                    <a:pt x="26908" y="251911"/>
                  </a:lnTo>
                  <a:lnTo>
                    <a:pt x="28099" y="246681"/>
                  </a:lnTo>
                  <a:lnTo>
                    <a:pt x="28892" y="240654"/>
                  </a:lnTo>
                  <a:lnTo>
                    <a:pt x="29421" y="234096"/>
                  </a:lnTo>
                  <a:lnTo>
                    <a:pt x="29774" y="227184"/>
                  </a:lnTo>
                  <a:lnTo>
                    <a:pt x="30166" y="212731"/>
                  </a:lnTo>
                  <a:lnTo>
                    <a:pt x="31117" y="205320"/>
                  </a:lnTo>
                  <a:lnTo>
                    <a:pt x="32598" y="197840"/>
                  </a:lnTo>
                  <a:lnTo>
                    <a:pt x="41058" y="163540"/>
                  </a:lnTo>
                  <a:lnTo>
                    <a:pt x="44305" y="153900"/>
                  </a:lnTo>
                  <a:lnTo>
                    <a:pt x="48164" y="144087"/>
                  </a:lnTo>
                  <a:lnTo>
                    <a:pt x="52429" y="134158"/>
                  </a:lnTo>
                  <a:lnTo>
                    <a:pt x="56120" y="124999"/>
                  </a:lnTo>
                  <a:lnTo>
                    <a:pt x="62477" y="108049"/>
                  </a:lnTo>
                  <a:lnTo>
                    <a:pt x="66205" y="99973"/>
                  </a:lnTo>
                  <a:lnTo>
                    <a:pt x="70384" y="92048"/>
                  </a:lnTo>
                  <a:lnTo>
                    <a:pt x="74863" y="84226"/>
                  </a:lnTo>
                  <a:lnTo>
                    <a:pt x="79542" y="77317"/>
                  </a:lnTo>
                  <a:lnTo>
                    <a:pt x="84354" y="71018"/>
                  </a:lnTo>
                  <a:lnTo>
                    <a:pt x="89256" y="65126"/>
                  </a:lnTo>
                  <a:lnTo>
                    <a:pt x="94217" y="60350"/>
                  </a:lnTo>
                  <a:lnTo>
                    <a:pt x="99219" y="56320"/>
                  </a:lnTo>
                  <a:lnTo>
                    <a:pt x="104246" y="52787"/>
                  </a:lnTo>
                  <a:lnTo>
                    <a:pt x="109290" y="49585"/>
                  </a:lnTo>
                  <a:lnTo>
                    <a:pt x="114348" y="46603"/>
                  </a:lnTo>
                  <a:lnTo>
                    <a:pt x="119411" y="43769"/>
                  </a:lnTo>
                  <a:lnTo>
                    <a:pt x="125327" y="41879"/>
                  </a:lnTo>
                  <a:lnTo>
                    <a:pt x="131813" y="40620"/>
                  </a:lnTo>
                  <a:lnTo>
                    <a:pt x="138674" y="39780"/>
                  </a:lnTo>
                  <a:lnTo>
                    <a:pt x="144943" y="39220"/>
                  </a:lnTo>
                  <a:lnTo>
                    <a:pt x="150816" y="38847"/>
                  </a:lnTo>
                  <a:lnTo>
                    <a:pt x="161857" y="38432"/>
                  </a:lnTo>
                  <a:lnTo>
                    <a:pt x="172407" y="38248"/>
                  </a:lnTo>
                  <a:lnTo>
                    <a:pt x="177591" y="39045"/>
                  </a:lnTo>
                  <a:lnTo>
                    <a:pt x="182741" y="40424"/>
                  </a:lnTo>
                  <a:lnTo>
                    <a:pt x="187867" y="42189"/>
                  </a:lnTo>
                  <a:lnTo>
                    <a:pt x="192978" y="44213"/>
                  </a:lnTo>
                  <a:lnTo>
                    <a:pt x="198079" y="46409"/>
                  </a:lnTo>
                  <a:lnTo>
                    <a:pt x="203173" y="48719"/>
                  </a:lnTo>
                  <a:lnTo>
                    <a:pt x="208262" y="51953"/>
                  </a:lnTo>
                  <a:lnTo>
                    <a:pt x="213348" y="55802"/>
                  </a:lnTo>
                  <a:lnTo>
                    <a:pt x="218431" y="60062"/>
                  </a:lnTo>
                  <a:lnTo>
                    <a:pt x="222668" y="65441"/>
                  </a:lnTo>
                  <a:lnTo>
                    <a:pt x="226339" y="71567"/>
                  </a:lnTo>
                  <a:lnTo>
                    <a:pt x="229632" y="78192"/>
                  </a:lnTo>
                  <a:lnTo>
                    <a:pt x="232676" y="85148"/>
                  </a:lnTo>
                  <a:lnTo>
                    <a:pt x="235551" y="92325"/>
                  </a:lnTo>
                  <a:lnTo>
                    <a:pt x="238314" y="99650"/>
                  </a:lnTo>
                  <a:lnTo>
                    <a:pt x="240156" y="106227"/>
                  </a:lnTo>
                  <a:lnTo>
                    <a:pt x="241384" y="112305"/>
                  </a:lnTo>
                  <a:lnTo>
                    <a:pt x="242202" y="118050"/>
                  </a:lnTo>
                  <a:lnTo>
                    <a:pt x="243594" y="125267"/>
                  </a:lnTo>
                  <a:lnTo>
                    <a:pt x="247400" y="142317"/>
                  </a:lnTo>
                  <a:lnTo>
                    <a:pt x="248754" y="150758"/>
                  </a:lnTo>
                  <a:lnTo>
                    <a:pt x="249656" y="158925"/>
                  </a:lnTo>
                  <a:lnTo>
                    <a:pt x="250257" y="166910"/>
                  </a:lnTo>
                  <a:lnTo>
                    <a:pt x="250658" y="174774"/>
                  </a:lnTo>
                  <a:lnTo>
                    <a:pt x="251104" y="190284"/>
                  </a:lnTo>
                  <a:lnTo>
                    <a:pt x="252070" y="197130"/>
                  </a:lnTo>
                  <a:lnTo>
                    <a:pt x="253560" y="203386"/>
                  </a:lnTo>
                  <a:lnTo>
                    <a:pt x="255400" y="209251"/>
                  </a:lnTo>
                  <a:lnTo>
                    <a:pt x="257473" y="214854"/>
                  </a:lnTo>
                  <a:lnTo>
                    <a:pt x="259702" y="220283"/>
                  </a:lnTo>
                  <a:lnTo>
                    <a:pt x="262034" y="225595"/>
                  </a:lnTo>
                  <a:lnTo>
                    <a:pt x="266884" y="233756"/>
                  </a:lnTo>
                  <a:lnTo>
                    <a:pt x="271015" y="240205"/>
                  </a:lnTo>
                  <a:lnTo>
                    <a:pt x="272851" y="245894"/>
                  </a:lnTo>
                  <a:lnTo>
                    <a:pt x="274187" y="247749"/>
                  </a:lnTo>
                  <a:lnTo>
                    <a:pt x="275925" y="248986"/>
                  </a:lnTo>
                  <a:lnTo>
                    <a:pt x="281940" y="2514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SMARTInkAnnotation120"/>
            <p:cNvSpPr/>
            <p:nvPr/>
          </p:nvSpPr>
          <p:spPr>
            <a:xfrm>
              <a:off x="7470720" y="3329640"/>
              <a:ext cx="23760" cy="243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3940" h="243841">
                  <a:moveTo>
                    <a:pt x="19549" y="0"/>
                  </a:moveTo>
                  <a:lnTo>
                    <a:pt x="19549" y="4045"/>
                  </a:lnTo>
                  <a:lnTo>
                    <a:pt x="20395" y="6084"/>
                  </a:lnTo>
                  <a:lnTo>
                    <a:pt x="21808" y="8289"/>
                  </a:lnTo>
                  <a:lnTo>
                    <a:pt x="23594" y="10606"/>
                  </a:lnTo>
                  <a:lnTo>
                    <a:pt x="23939" y="12997"/>
                  </a:lnTo>
                  <a:lnTo>
                    <a:pt x="23323" y="15438"/>
                  </a:lnTo>
                  <a:lnTo>
                    <a:pt x="22065" y="17912"/>
                  </a:lnTo>
                  <a:lnTo>
                    <a:pt x="21226" y="21255"/>
                  </a:lnTo>
                  <a:lnTo>
                    <a:pt x="20667" y="25177"/>
                  </a:lnTo>
                  <a:lnTo>
                    <a:pt x="20294" y="29485"/>
                  </a:lnTo>
                  <a:lnTo>
                    <a:pt x="20046" y="34896"/>
                  </a:lnTo>
                  <a:lnTo>
                    <a:pt x="19771" y="47683"/>
                  </a:lnTo>
                  <a:lnTo>
                    <a:pt x="19615" y="73207"/>
                  </a:lnTo>
                  <a:lnTo>
                    <a:pt x="18747" y="81825"/>
                  </a:lnTo>
                  <a:lnTo>
                    <a:pt x="17320" y="90109"/>
                  </a:lnTo>
                  <a:lnTo>
                    <a:pt x="13479" y="106935"/>
                  </a:lnTo>
                  <a:lnTo>
                    <a:pt x="8949" y="125702"/>
                  </a:lnTo>
                  <a:lnTo>
                    <a:pt x="7402" y="134602"/>
                  </a:lnTo>
                  <a:lnTo>
                    <a:pt x="6371" y="143074"/>
                  </a:lnTo>
                  <a:lnTo>
                    <a:pt x="5683" y="151263"/>
                  </a:lnTo>
                  <a:lnTo>
                    <a:pt x="5225" y="159262"/>
                  </a:lnTo>
                  <a:lnTo>
                    <a:pt x="4716" y="174923"/>
                  </a:lnTo>
                  <a:lnTo>
                    <a:pt x="3734" y="182655"/>
                  </a:lnTo>
                  <a:lnTo>
                    <a:pt x="2232" y="190350"/>
                  </a:lnTo>
                  <a:lnTo>
                    <a:pt x="385" y="198020"/>
                  </a:lnTo>
                  <a:lnTo>
                    <a:pt x="0" y="204827"/>
                  </a:lnTo>
                  <a:lnTo>
                    <a:pt x="590" y="211058"/>
                  </a:lnTo>
                  <a:lnTo>
                    <a:pt x="1829" y="216905"/>
                  </a:lnTo>
                  <a:lnTo>
                    <a:pt x="2655" y="221650"/>
                  </a:lnTo>
                  <a:lnTo>
                    <a:pt x="3206" y="225660"/>
                  </a:lnTo>
                  <a:lnTo>
                    <a:pt x="3818" y="232374"/>
                  </a:lnTo>
                  <a:lnTo>
                    <a:pt x="3982" y="235349"/>
                  </a:lnTo>
                  <a:lnTo>
                    <a:pt x="4309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SMARTInkAnnotation121"/>
            <p:cNvSpPr/>
            <p:nvPr/>
          </p:nvSpPr>
          <p:spPr>
            <a:xfrm>
              <a:off x="7429320" y="346680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1">
                  <a:moveTo>
                    <a:pt x="0" y="0"/>
                  </a:moveTo>
                  <a:lnTo>
                    <a:pt x="15397" y="0"/>
                  </a:lnTo>
                  <a:lnTo>
                    <a:pt x="20425" y="847"/>
                  </a:lnTo>
                  <a:lnTo>
                    <a:pt x="26317" y="2258"/>
                  </a:lnTo>
                  <a:lnTo>
                    <a:pt x="32784" y="4045"/>
                  </a:lnTo>
                  <a:lnTo>
                    <a:pt x="41330" y="5237"/>
                  </a:lnTo>
                  <a:lnTo>
                    <a:pt x="51260" y="6032"/>
                  </a:lnTo>
                  <a:lnTo>
                    <a:pt x="62114" y="6561"/>
                  </a:lnTo>
                  <a:lnTo>
                    <a:pt x="83204" y="7149"/>
                  </a:lnTo>
                  <a:lnTo>
                    <a:pt x="167640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SMARTInkAnnotation122"/>
            <p:cNvSpPr/>
            <p:nvPr/>
          </p:nvSpPr>
          <p:spPr>
            <a:xfrm>
              <a:off x="7726680" y="3344760"/>
              <a:ext cx="185040" cy="28188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85261" h="281840">
                  <a:moveTo>
                    <a:pt x="0" y="15139"/>
                  </a:moveTo>
                  <a:lnTo>
                    <a:pt x="0" y="8579"/>
                  </a:lnTo>
                  <a:lnTo>
                    <a:pt x="4046" y="3788"/>
                  </a:lnTo>
                  <a:lnTo>
                    <a:pt x="6084" y="2491"/>
                  </a:lnTo>
                  <a:lnTo>
                    <a:pt x="10606" y="1052"/>
                  </a:lnTo>
                  <a:lnTo>
                    <a:pt x="13844" y="667"/>
                  </a:lnTo>
                  <a:lnTo>
                    <a:pt x="17696" y="411"/>
                  </a:lnTo>
                  <a:lnTo>
                    <a:pt x="21957" y="240"/>
                  </a:lnTo>
                  <a:lnTo>
                    <a:pt x="31208" y="51"/>
                  </a:lnTo>
                  <a:lnTo>
                    <a:pt x="36045" y="0"/>
                  </a:lnTo>
                  <a:lnTo>
                    <a:pt x="41811" y="813"/>
                  </a:lnTo>
                  <a:lnTo>
                    <a:pt x="48193" y="2202"/>
                  </a:lnTo>
                  <a:lnTo>
                    <a:pt x="54988" y="3974"/>
                  </a:lnTo>
                  <a:lnTo>
                    <a:pt x="62059" y="5156"/>
                  </a:lnTo>
                  <a:lnTo>
                    <a:pt x="69313" y="5944"/>
                  </a:lnTo>
                  <a:lnTo>
                    <a:pt x="76689" y="6469"/>
                  </a:lnTo>
                  <a:lnTo>
                    <a:pt x="83299" y="7666"/>
                  </a:lnTo>
                  <a:lnTo>
                    <a:pt x="89400" y="9310"/>
                  </a:lnTo>
                  <a:lnTo>
                    <a:pt x="95160" y="11253"/>
                  </a:lnTo>
                  <a:lnTo>
                    <a:pt x="101540" y="14241"/>
                  </a:lnTo>
                  <a:lnTo>
                    <a:pt x="108333" y="17927"/>
                  </a:lnTo>
                  <a:lnTo>
                    <a:pt x="115403" y="22078"/>
                  </a:lnTo>
                  <a:lnTo>
                    <a:pt x="122655" y="25692"/>
                  </a:lnTo>
                  <a:lnTo>
                    <a:pt x="130030" y="28948"/>
                  </a:lnTo>
                  <a:lnTo>
                    <a:pt x="137486" y="31965"/>
                  </a:lnTo>
                  <a:lnTo>
                    <a:pt x="144151" y="35670"/>
                  </a:lnTo>
                  <a:lnTo>
                    <a:pt x="150288" y="39833"/>
                  </a:lnTo>
                  <a:lnTo>
                    <a:pt x="156071" y="44302"/>
                  </a:lnTo>
                  <a:lnTo>
                    <a:pt x="161621" y="48974"/>
                  </a:lnTo>
                  <a:lnTo>
                    <a:pt x="167014" y="53782"/>
                  </a:lnTo>
                  <a:lnTo>
                    <a:pt x="172303" y="58681"/>
                  </a:lnTo>
                  <a:lnTo>
                    <a:pt x="176675" y="63641"/>
                  </a:lnTo>
                  <a:lnTo>
                    <a:pt x="180437" y="68640"/>
                  </a:lnTo>
                  <a:lnTo>
                    <a:pt x="183791" y="73667"/>
                  </a:lnTo>
                  <a:lnTo>
                    <a:pt x="185180" y="78711"/>
                  </a:lnTo>
                  <a:lnTo>
                    <a:pt x="185260" y="83767"/>
                  </a:lnTo>
                  <a:lnTo>
                    <a:pt x="184467" y="88831"/>
                  </a:lnTo>
                  <a:lnTo>
                    <a:pt x="181328" y="96715"/>
                  </a:lnTo>
                  <a:lnTo>
                    <a:pt x="176264" y="104736"/>
                  </a:lnTo>
                  <a:lnTo>
                    <a:pt x="168368" y="116766"/>
                  </a:lnTo>
                  <a:lnTo>
                    <a:pt x="163893" y="122684"/>
                  </a:lnTo>
                  <a:lnTo>
                    <a:pt x="159215" y="128322"/>
                  </a:lnTo>
                  <a:lnTo>
                    <a:pt x="154403" y="133775"/>
                  </a:lnTo>
                  <a:lnTo>
                    <a:pt x="144541" y="144349"/>
                  </a:lnTo>
                  <a:lnTo>
                    <a:pt x="139541" y="149539"/>
                  </a:lnTo>
                  <a:lnTo>
                    <a:pt x="133667" y="154692"/>
                  </a:lnTo>
                  <a:lnTo>
                    <a:pt x="127212" y="159821"/>
                  </a:lnTo>
                  <a:lnTo>
                    <a:pt x="120367" y="164934"/>
                  </a:lnTo>
                  <a:lnTo>
                    <a:pt x="112418" y="170035"/>
                  </a:lnTo>
                  <a:lnTo>
                    <a:pt x="103733" y="175130"/>
                  </a:lnTo>
                  <a:lnTo>
                    <a:pt x="94555" y="180220"/>
                  </a:lnTo>
                  <a:lnTo>
                    <a:pt x="86744" y="185306"/>
                  </a:lnTo>
                  <a:lnTo>
                    <a:pt x="79843" y="190391"/>
                  </a:lnTo>
                  <a:lnTo>
                    <a:pt x="73549" y="195473"/>
                  </a:lnTo>
                  <a:lnTo>
                    <a:pt x="68505" y="199709"/>
                  </a:lnTo>
                  <a:lnTo>
                    <a:pt x="64298" y="203379"/>
                  </a:lnTo>
                  <a:lnTo>
                    <a:pt x="57363" y="209714"/>
                  </a:lnTo>
                  <a:lnTo>
                    <a:pt x="51459" y="215353"/>
                  </a:lnTo>
                  <a:lnTo>
                    <a:pt x="49546" y="218041"/>
                  </a:lnTo>
                  <a:lnTo>
                    <a:pt x="47421" y="223287"/>
                  </a:lnTo>
                  <a:lnTo>
                    <a:pt x="47700" y="226718"/>
                  </a:lnTo>
                  <a:lnTo>
                    <a:pt x="50269" y="235045"/>
                  </a:lnTo>
                  <a:lnTo>
                    <a:pt x="54233" y="242133"/>
                  </a:lnTo>
                  <a:lnTo>
                    <a:pt x="56476" y="245209"/>
                  </a:lnTo>
                  <a:lnTo>
                    <a:pt x="60510" y="248105"/>
                  </a:lnTo>
                  <a:lnTo>
                    <a:pt x="65740" y="250883"/>
                  </a:lnTo>
                  <a:lnTo>
                    <a:pt x="71767" y="253582"/>
                  </a:lnTo>
                  <a:lnTo>
                    <a:pt x="78325" y="256228"/>
                  </a:lnTo>
                  <a:lnTo>
                    <a:pt x="92385" y="261425"/>
                  </a:lnTo>
                  <a:lnTo>
                    <a:pt x="114580" y="269112"/>
                  </a:lnTo>
                  <a:lnTo>
                    <a:pt x="122953" y="271661"/>
                  </a:lnTo>
                  <a:lnTo>
                    <a:pt x="141289" y="276751"/>
                  </a:lnTo>
                  <a:lnTo>
                    <a:pt x="149225" y="278447"/>
                  </a:lnTo>
                  <a:lnTo>
                    <a:pt x="156210" y="279578"/>
                  </a:lnTo>
                  <a:lnTo>
                    <a:pt x="175260" y="2818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SMARTInkAnnotation123"/>
            <p:cNvSpPr/>
            <p:nvPr/>
          </p:nvSpPr>
          <p:spPr>
            <a:xfrm>
              <a:off x="8160840" y="3542760"/>
              <a:ext cx="167400" cy="226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67641" h="22861">
                  <a:moveTo>
                    <a:pt x="0" y="22860"/>
                  </a:moveTo>
                  <a:lnTo>
                    <a:pt x="15396" y="22860"/>
                  </a:lnTo>
                  <a:lnTo>
                    <a:pt x="20425" y="22013"/>
                  </a:lnTo>
                  <a:lnTo>
                    <a:pt x="26317" y="20603"/>
                  </a:lnTo>
                  <a:lnTo>
                    <a:pt x="32784" y="18815"/>
                  </a:lnTo>
                  <a:lnTo>
                    <a:pt x="38789" y="17623"/>
                  </a:lnTo>
                  <a:lnTo>
                    <a:pt x="44487" y="16829"/>
                  </a:lnTo>
                  <a:lnTo>
                    <a:pt x="49977" y="16299"/>
                  </a:lnTo>
                  <a:lnTo>
                    <a:pt x="57026" y="15946"/>
                  </a:lnTo>
                  <a:lnTo>
                    <a:pt x="73887" y="15554"/>
                  </a:lnTo>
                  <a:lnTo>
                    <a:pt x="81431" y="14603"/>
                  </a:lnTo>
                  <a:lnTo>
                    <a:pt x="88155" y="13122"/>
                  </a:lnTo>
                  <a:lnTo>
                    <a:pt x="94329" y="11288"/>
                  </a:lnTo>
                  <a:lnTo>
                    <a:pt x="101833" y="10065"/>
                  </a:lnTo>
                  <a:lnTo>
                    <a:pt x="110222" y="9250"/>
                  </a:lnTo>
                  <a:lnTo>
                    <a:pt x="119201" y="8707"/>
                  </a:lnTo>
                  <a:lnTo>
                    <a:pt x="127728" y="7498"/>
                  </a:lnTo>
                  <a:lnTo>
                    <a:pt x="135952" y="5845"/>
                  </a:lnTo>
                  <a:lnTo>
                    <a:pt x="143975" y="3897"/>
                  </a:lnTo>
                  <a:lnTo>
                    <a:pt x="150170" y="2598"/>
                  </a:lnTo>
                  <a:lnTo>
                    <a:pt x="155147" y="1732"/>
                  </a:ln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SMARTInkAnnotation124"/>
            <p:cNvSpPr/>
            <p:nvPr/>
          </p:nvSpPr>
          <p:spPr>
            <a:xfrm>
              <a:off x="8206560" y="3451320"/>
              <a:ext cx="172080" cy="1512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2165" h="15222">
                  <a:moveTo>
                    <a:pt x="0" y="15221"/>
                  </a:moveTo>
                  <a:lnTo>
                    <a:pt x="4045" y="15221"/>
                  </a:lnTo>
                  <a:lnTo>
                    <a:pt x="6083" y="14375"/>
                  </a:lnTo>
                  <a:lnTo>
                    <a:pt x="8288" y="12963"/>
                  </a:lnTo>
                  <a:lnTo>
                    <a:pt x="10605" y="11176"/>
                  </a:lnTo>
                  <a:lnTo>
                    <a:pt x="13843" y="9984"/>
                  </a:lnTo>
                  <a:lnTo>
                    <a:pt x="17695" y="9190"/>
                  </a:lnTo>
                  <a:lnTo>
                    <a:pt x="21957" y="8661"/>
                  </a:lnTo>
                  <a:lnTo>
                    <a:pt x="27338" y="8307"/>
                  </a:lnTo>
                  <a:lnTo>
                    <a:pt x="33465" y="8072"/>
                  </a:lnTo>
                  <a:lnTo>
                    <a:pt x="40091" y="7915"/>
                  </a:lnTo>
                  <a:lnTo>
                    <a:pt x="46199" y="6964"/>
                  </a:lnTo>
                  <a:lnTo>
                    <a:pt x="51967" y="5483"/>
                  </a:lnTo>
                  <a:lnTo>
                    <a:pt x="57503" y="3649"/>
                  </a:lnTo>
                  <a:lnTo>
                    <a:pt x="64582" y="2426"/>
                  </a:lnTo>
                  <a:lnTo>
                    <a:pt x="72689" y="1611"/>
                  </a:lnTo>
                  <a:lnTo>
                    <a:pt x="81478" y="1068"/>
                  </a:lnTo>
                  <a:lnTo>
                    <a:pt x="98020" y="464"/>
                  </a:lnTo>
                  <a:lnTo>
                    <a:pt x="129333" y="77"/>
                  </a:lnTo>
                  <a:lnTo>
                    <a:pt x="1721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SMARTInkAnnotation125"/>
            <p:cNvSpPr/>
            <p:nvPr/>
          </p:nvSpPr>
          <p:spPr>
            <a:xfrm>
              <a:off x="8488800" y="3337200"/>
              <a:ext cx="250920" cy="30888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251003" h="308864">
                  <a:moveTo>
                    <a:pt x="68580" y="22859"/>
                  </a:moveTo>
                  <a:lnTo>
                    <a:pt x="72625" y="22859"/>
                  </a:lnTo>
                  <a:lnTo>
                    <a:pt x="74663" y="22013"/>
                  </a:lnTo>
                  <a:lnTo>
                    <a:pt x="81578" y="17622"/>
                  </a:lnTo>
                  <a:lnTo>
                    <a:pt x="86493" y="16299"/>
                  </a:lnTo>
                  <a:lnTo>
                    <a:pt x="90682" y="15099"/>
                  </a:lnTo>
                  <a:lnTo>
                    <a:pt x="102110" y="11508"/>
                  </a:lnTo>
                  <a:lnTo>
                    <a:pt x="107867" y="10211"/>
                  </a:lnTo>
                  <a:lnTo>
                    <a:pt x="113397" y="9347"/>
                  </a:lnTo>
                  <a:lnTo>
                    <a:pt x="118778" y="8772"/>
                  </a:lnTo>
                  <a:lnTo>
                    <a:pt x="125752" y="8387"/>
                  </a:lnTo>
                  <a:lnTo>
                    <a:pt x="142533" y="7960"/>
                  </a:lnTo>
                  <a:lnTo>
                    <a:pt x="150055" y="7000"/>
                  </a:lnTo>
                  <a:lnTo>
                    <a:pt x="156764" y="5513"/>
                  </a:lnTo>
                  <a:lnTo>
                    <a:pt x="162929" y="3675"/>
                  </a:lnTo>
                  <a:lnTo>
                    <a:pt x="169580" y="2449"/>
                  </a:lnTo>
                  <a:lnTo>
                    <a:pt x="176554" y="1633"/>
                  </a:lnTo>
                  <a:lnTo>
                    <a:pt x="183743" y="1088"/>
                  </a:lnTo>
                  <a:lnTo>
                    <a:pt x="190229" y="726"/>
                  </a:lnTo>
                  <a:lnTo>
                    <a:pt x="201952" y="322"/>
                  </a:lnTo>
                  <a:lnTo>
                    <a:pt x="226179" y="42"/>
                  </a:lnTo>
                  <a:lnTo>
                    <a:pt x="249914" y="0"/>
                  </a:lnTo>
                  <a:lnTo>
                    <a:pt x="250429" y="846"/>
                  </a:lnTo>
                  <a:lnTo>
                    <a:pt x="251002" y="4044"/>
                  </a:lnTo>
                  <a:lnTo>
                    <a:pt x="249000" y="10546"/>
                  </a:lnTo>
                  <a:lnTo>
                    <a:pt x="245287" y="18233"/>
                  </a:lnTo>
                  <a:lnTo>
                    <a:pt x="240815" y="24472"/>
                  </a:lnTo>
                  <a:lnTo>
                    <a:pt x="233747" y="34582"/>
                  </a:lnTo>
                  <a:lnTo>
                    <a:pt x="215412" y="61770"/>
                  </a:lnTo>
                  <a:lnTo>
                    <a:pt x="209649" y="69119"/>
                  </a:lnTo>
                  <a:lnTo>
                    <a:pt x="203266" y="76559"/>
                  </a:lnTo>
                  <a:lnTo>
                    <a:pt x="196470" y="84059"/>
                  </a:lnTo>
                  <a:lnTo>
                    <a:pt x="189401" y="92446"/>
                  </a:lnTo>
                  <a:lnTo>
                    <a:pt x="174772" y="110796"/>
                  </a:lnTo>
                  <a:lnTo>
                    <a:pt x="166468" y="120430"/>
                  </a:lnTo>
                  <a:lnTo>
                    <a:pt x="157546" y="130239"/>
                  </a:lnTo>
                  <a:lnTo>
                    <a:pt x="139447" y="149323"/>
                  </a:lnTo>
                  <a:lnTo>
                    <a:pt x="122937" y="166272"/>
                  </a:lnTo>
                  <a:lnTo>
                    <a:pt x="114978" y="175195"/>
                  </a:lnTo>
                  <a:lnTo>
                    <a:pt x="107132" y="184529"/>
                  </a:lnTo>
                  <a:lnTo>
                    <a:pt x="99362" y="194139"/>
                  </a:lnTo>
                  <a:lnTo>
                    <a:pt x="91641" y="203086"/>
                  </a:lnTo>
                  <a:lnTo>
                    <a:pt x="83955" y="211590"/>
                  </a:lnTo>
                  <a:lnTo>
                    <a:pt x="76290" y="219800"/>
                  </a:lnTo>
                  <a:lnTo>
                    <a:pt x="69486" y="227813"/>
                  </a:lnTo>
                  <a:lnTo>
                    <a:pt x="63258" y="235695"/>
                  </a:lnTo>
                  <a:lnTo>
                    <a:pt x="57412" y="243490"/>
                  </a:lnTo>
                  <a:lnTo>
                    <a:pt x="50975" y="250379"/>
                  </a:lnTo>
                  <a:lnTo>
                    <a:pt x="44143" y="256666"/>
                  </a:lnTo>
                  <a:lnTo>
                    <a:pt x="37049" y="262550"/>
                  </a:lnTo>
                  <a:lnTo>
                    <a:pt x="32319" y="268167"/>
                  </a:lnTo>
                  <a:lnTo>
                    <a:pt x="29167" y="273604"/>
                  </a:lnTo>
                  <a:lnTo>
                    <a:pt x="27065" y="278923"/>
                  </a:lnTo>
                  <a:lnTo>
                    <a:pt x="23970" y="283315"/>
                  </a:lnTo>
                  <a:lnTo>
                    <a:pt x="20214" y="287089"/>
                  </a:lnTo>
                  <a:lnTo>
                    <a:pt x="12371" y="293541"/>
                  </a:lnTo>
                  <a:lnTo>
                    <a:pt x="6062" y="299231"/>
                  </a:lnTo>
                  <a:lnTo>
                    <a:pt x="1796" y="303149"/>
                  </a:lnTo>
                  <a:lnTo>
                    <a:pt x="1198" y="304546"/>
                  </a:lnTo>
                  <a:lnTo>
                    <a:pt x="355" y="308863"/>
                  </a:lnTo>
                  <a:lnTo>
                    <a:pt x="237" y="308355"/>
                  </a:lnTo>
                  <a:lnTo>
                    <a:pt x="0" y="30479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SMARTInkAnnotation126"/>
            <p:cNvSpPr/>
            <p:nvPr/>
          </p:nvSpPr>
          <p:spPr>
            <a:xfrm>
              <a:off x="8526600" y="3489480"/>
              <a:ext cx="205560" cy="151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05741" h="15241">
                  <a:moveTo>
                    <a:pt x="0" y="15240"/>
                  </a:moveTo>
                  <a:lnTo>
                    <a:pt x="4046" y="11195"/>
                  </a:lnTo>
                  <a:lnTo>
                    <a:pt x="6084" y="10003"/>
                  </a:lnTo>
                  <a:lnTo>
                    <a:pt x="8289" y="9209"/>
                  </a:lnTo>
                  <a:lnTo>
                    <a:pt x="10606" y="8680"/>
                  </a:lnTo>
                  <a:lnTo>
                    <a:pt x="13844" y="8326"/>
                  </a:lnTo>
                  <a:lnTo>
                    <a:pt x="17696" y="8091"/>
                  </a:lnTo>
                  <a:lnTo>
                    <a:pt x="21957" y="7934"/>
                  </a:lnTo>
                  <a:lnTo>
                    <a:pt x="40091" y="7713"/>
                  </a:lnTo>
                  <a:lnTo>
                    <a:pt x="176379" y="7620"/>
                  </a:lnTo>
                  <a:lnTo>
                    <a:pt x="182779" y="6774"/>
                  </a:lnTo>
                  <a:lnTo>
                    <a:pt x="188740" y="5363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SMARTInkAnnotation127"/>
            <p:cNvSpPr/>
            <p:nvPr/>
          </p:nvSpPr>
          <p:spPr>
            <a:xfrm>
              <a:off x="8798040" y="3344760"/>
              <a:ext cx="207720" cy="28584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08042" h="285997">
                  <a:moveTo>
                    <a:pt x="48924" y="22850"/>
                  </a:moveTo>
                  <a:lnTo>
                    <a:pt x="48924" y="16288"/>
                  </a:lnTo>
                  <a:lnTo>
                    <a:pt x="49771" y="15935"/>
                  </a:lnTo>
                  <a:lnTo>
                    <a:pt x="52969" y="15543"/>
                  </a:lnTo>
                  <a:lnTo>
                    <a:pt x="54161" y="14592"/>
                  </a:lnTo>
                  <a:lnTo>
                    <a:pt x="54955" y="13111"/>
                  </a:lnTo>
                  <a:lnTo>
                    <a:pt x="55838" y="9208"/>
                  </a:lnTo>
                  <a:lnTo>
                    <a:pt x="56231" y="4651"/>
                  </a:lnTo>
                  <a:lnTo>
                    <a:pt x="57182" y="3097"/>
                  </a:lnTo>
                  <a:lnTo>
                    <a:pt x="58662" y="2061"/>
                  </a:lnTo>
                  <a:lnTo>
                    <a:pt x="60497" y="1371"/>
                  </a:lnTo>
                  <a:lnTo>
                    <a:pt x="64259" y="910"/>
                  </a:lnTo>
                  <a:lnTo>
                    <a:pt x="69307" y="603"/>
                  </a:lnTo>
                  <a:lnTo>
                    <a:pt x="84032" y="171"/>
                  </a:lnTo>
                  <a:lnTo>
                    <a:pt x="98273" y="43"/>
                  </a:lnTo>
                  <a:lnTo>
                    <a:pt x="125841" y="0"/>
                  </a:lnTo>
                  <a:lnTo>
                    <a:pt x="133222" y="843"/>
                  </a:lnTo>
                  <a:lnTo>
                    <a:pt x="140682" y="2252"/>
                  </a:lnTo>
                  <a:lnTo>
                    <a:pt x="148196" y="4038"/>
                  </a:lnTo>
                  <a:lnTo>
                    <a:pt x="154899" y="6075"/>
                  </a:lnTo>
                  <a:lnTo>
                    <a:pt x="161060" y="8280"/>
                  </a:lnTo>
                  <a:lnTo>
                    <a:pt x="166862" y="10596"/>
                  </a:lnTo>
                  <a:lnTo>
                    <a:pt x="172422" y="12987"/>
                  </a:lnTo>
                  <a:lnTo>
                    <a:pt x="183117" y="17901"/>
                  </a:lnTo>
                  <a:lnTo>
                    <a:pt x="188339" y="21244"/>
                  </a:lnTo>
                  <a:lnTo>
                    <a:pt x="193514" y="25166"/>
                  </a:lnTo>
                  <a:lnTo>
                    <a:pt x="198657" y="29474"/>
                  </a:lnTo>
                  <a:lnTo>
                    <a:pt x="204372" y="36518"/>
                  </a:lnTo>
                  <a:lnTo>
                    <a:pt x="205897" y="39581"/>
                  </a:lnTo>
                  <a:lnTo>
                    <a:pt x="207590" y="47502"/>
                  </a:lnTo>
                  <a:lnTo>
                    <a:pt x="208041" y="51984"/>
                  </a:lnTo>
                  <a:lnTo>
                    <a:pt x="206648" y="56666"/>
                  </a:lnTo>
                  <a:lnTo>
                    <a:pt x="204027" y="61480"/>
                  </a:lnTo>
                  <a:lnTo>
                    <a:pt x="200587" y="66383"/>
                  </a:lnTo>
                  <a:lnTo>
                    <a:pt x="195753" y="71345"/>
                  </a:lnTo>
                  <a:lnTo>
                    <a:pt x="189989" y="76346"/>
                  </a:lnTo>
                  <a:lnTo>
                    <a:pt x="183607" y="81374"/>
                  </a:lnTo>
                  <a:lnTo>
                    <a:pt x="176813" y="86419"/>
                  </a:lnTo>
                  <a:lnTo>
                    <a:pt x="145400" y="108941"/>
                  </a:lnTo>
                  <a:lnTo>
                    <a:pt x="136101" y="115804"/>
                  </a:lnTo>
                  <a:lnTo>
                    <a:pt x="127362" y="122919"/>
                  </a:lnTo>
                  <a:lnTo>
                    <a:pt x="118996" y="130202"/>
                  </a:lnTo>
                  <a:lnTo>
                    <a:pt x="110880" y="137598"/>
                  </a:lnTo>
                  <a:lnTo>
                    <a:pt x="102081" y="144221"/>
                  </a:lnTo>
                  <a:lnTo>
                    <a:pt x="92829" y="150331"/>
                  </a:lnTo>
                  <a:lnTo>
                    <a:pt x="83274" y="156097"/>
                  </a:lnTo>
                  <a:lnTo>
                    <a:pt x="74363" y="162481"/>
                  </a:lnTo>
                  <a:lnTo>
                    <a:pt x="65884" y="169277"/>
                  </a:lnTo>
                  <a:lnTo>
                    <a:pt x="57691" y="176348"/>
                  </a:lnTo>
                  <a:lnTo>
                    <a:pt x="49690" y="182755"/>
                  </a:lnTo>
                  <a:lnTo>
                    <a:pt x="41814" y="188720"/>
                  </a:lnTo>
                  <a:lnTo>
                    <a:pt x="34024" y="194390"/>
                  </a:lnTo>
                  <a:lnTo>
                    <a:pt x="27984" y="199863"/>
                  </a:lnTo>
                  <a:lnTo>
                    <a:pt x="23111" y="205205"/>
                  </a:lnTo>
                  <a:lnTo>
                    <a:pt x="19015" y="210460"/>
                  </a:lnTo>
                  <a:lnTo>
                    <a:pt x="15438" y="215656"/>
                  </a:lnTo>
                  <a:lnTo>
                    <a:pt x="12207" y="220814"/>
                  </a:lnTo>
                  <a:lnTo>
                    <a:pt x="9206" y="225946"/>
                  </a:lnTo>
                  <a:lnTo>
                    <a:pt x="6358" y="231060"/>
                  </a:lnTo>
                  <a:lnTo>
                    <a:pt x="937" y="241259"/>
                  </a:lnTo>
                  <a:lnTo>
                    <a:pt x="0" y="246349"/>
                  </a:lnTo>
                  <a:lnTo>
                    <a:pt x="221" y="251436"/>
                  </a:lnTo>
                  <a:lnTo>
                    <a:pt x="1216" y="256520"/>
                  </a:lnTo>
                  <a:lnTo>
                    <a:pt x="2320" y="264427"/>
                  </a:lnTo>
                  <a:lnTo>
                    <a:pt x="2616" y="267721"/>
                  </a:lnTo>
                  <a:lnTo>
                    <a:pt x="4505" y="270764"/>
                  </a:lnTo>
                  <a:lnTo>
                    <a:pt x="7458" y="273639"/>
                  </a:lnTo>
                  <a:lnTo>
                    <a:pt x="11120" y="276402"/>
                  </a:lnTo>
                  <a:lnTo>
                    <a:pt x="15254" y="278245"/>
                  </a:lnTo>
                  <a:lnTo>
                    <a:pt x="19705" y="279473"/>
                  </a:lnTo>
                  <a:lnTo>
                    <a:pt x="24364" y="280292"/>
                  </a:lnTo>
                  <a:lnTo>
                    <a:pt x="30012" y="281684"/>
                  </a:lnTo>
                  <a:lnTo>
                    <a:pt x="36314" y="283459"/>
                  </a:lnTo>
                  <a:lnTo>
                    <a:pt x="43058" y="285489"/>
                  </a:lnTo>
                  <a:lnTo>
                    <a:pt x="50094" y="285996"/>
                  </a:lnTo>
                  <a:lnTo>
                    <a:pt x="57324" y="285487"/>
                  </a:lnTo>
                  <a:lnTo>
                    <a:pt x="64684" y="284301"/>
                  </a:lnTo>
                  <a:lnTo>
                    <a:pt x="72977" y="283510"/>
                  </a:lnTo>
                  <a:lnTo>
                    <a:pt x="81893" y="282983"/>
                  </a:lnTo>
                  <a:lnTo>
                    <a:pt x="91223" y="282632"/>
                  </a:lnTo>
                  <a:lnTo>
                    <a:pt x="100831" y="281551"/>
                  </a:lnTo>
                  <a:lnTo>
                    <a:pt x="110621" y="279983"/>
                  </a:lnTo>
                  <a:lnTo>
                    <a:pt x="120536" y="278092"/>
                  </a:lnTo>
                  <a:lnTo>
                    <a:pt x="128838" y="276831"/>
                  </a:lnTo>
                  <a:lnTo>
                    <a:pt x="136066" y="275990"/>
                  </a:lnTo>
                  <a:lnTo>
                    <a:pt x="155604" y="27430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SMARTInkAnnotation128"/>
            <p:cNvSpPr/>
            <p:nvPr/>
          </p:nvSpPr>
          <p:spPr>
            <a:xfrm>
              <a:off x="4419720" y="3505320"/>
              <a:ext cx="52560" cy="147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2897" h="14892">
                  <a:moveTo>
                    <a:pt x="-27881" y="7279"/>
                  </a:moveTo>
                  <a:lnTo>
                    <a:pt x="-27881" y="14807"/>
                  </a:lnTo>
                  <a:lnTo>
                    <a:pt x="-28727" y="14837"/>
                  </a:lnTo>
                  <a:lnTo>
                    <a:pt x="27049" y="14891"/>
                  </a:lnTo>
                  <a:lnTo>
                    <a:pt x="24658" y="14047"/>
                  </a:lnTo>
                  <a:lnTo>
                    <a:pt x="22217" y="12638"/>
                  </a:lnTo>
                  <a:lnTo>
                    <a:pt x="19743" y="10851"/>
                  </a:lnTo>
                  <a:lnTo>
                    <a:pt x="17247" y="9661"/>
                  </a:lnTo>
                  <a:lnTo>
                    <a:pt x="14737" y="8867"/>
                  </a:lnTo>
                  <a:lnTo>
                    <a:pt x="12216" y="8338"/>
                  </a:lnTo>
                  <a:lnTo>
                    <a:pt x="9689" y="7138"/>
                  </a:lnTo>
                  <a:lnTo>
                    <a:pt x="7158" y="5492"/>
                  </a:lnTo>
                  <a:lnTo>
                    <a:pt x="0" y="0"/>
                  </a:lnTo>
                  <a:lnTo>
                    <a:pt x="699" y="733"/>
                  </a:lnTo>
                  <a:lnTo>
                    <a:pt x="3732" y="3805"/>
                  </a:lnTo>
                  <a:lnTo>
                    <a:pt x="6573" y="4963"/>
                  </a:lnTo>
                  <a:lnTo>
                    <a:pt x="10161" y="5735"/>
                  </a:lnTo>
                  <a:lnTo>
                    <a:pt x="14245" y="6250"/>
                  </a:lnTo>
                  <a:lnTo>
                    <a:pt x="17816" y="6593"/>
                  </a:lnTo>
                  <a:lnTo>
                    <a:pt x="21042" y="6821"/>
                  </a:lnTo>
                  <a:lnTo>
                    <a:pt x="24040" y="6974"/>
                  </a:lnTo>
                  <a:lnTo>
                    <a:pt x="29628" y="7144"/>
                  </a:lnTo>
                  <a:lnTo>
                    <a:pt x="-21790" y="7271"/>
                  </a:lnTo>
                  <a:lnTo>
                    <a:pt x="-12640" y="72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SMARTInkAnnotation129"/>
            <p:cNvSpPr/>
            <p:nvPr/>
          </p:nvSpPr>
          <p:spPr>
            <a:xfrm>
              <a:off x="4304880" y="3054960"/>
              <a:ext cx="220680" cy="571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220741" h="571501">
                  <a:moveTo>
                    <a:pt x="0" y="0"/>
                  </a:moveTo>
                  <a:lnTo>
                    <a:pt x="4045" y="0"/>
                  </a:lnTo>
                  <a:lnTo>
                    <a:pt x="10546" y="2258"/>
                  </a:lnTo>
                  <a:lnTo>
                    <a:pt x="14651" y="4046"/>
                  </a:lnTo>
                  <a:lnTo>
                    <a:pt x="21469" y="6031"/>
                  </a:lnTo>
                  <a:lnTo>
                    <a:pt x="24473" y="6561"/>
                  </a:lnTo>
                  <a:lnTo>
                    <a:pt x="28168" y="8607"/>
                  </a:lnTo>
                  <a:lnTo>
                    <a:pt x="32326" y="11665"/>
                  </a:lnTo>
                  <a:lnTo>
                    <a:pt x="36791" y="15397"/>
                  </a:lnTo>
                  <a:lnTo>
                    <a:pt x="41461" y="19578"/>
                  </a:lnTo>
                  <a:lnTo>
                    <a:pt x="51165" y="28739"/>
                  </a:lnTo>
                  <a:lnTo>
                    <a:pt x="91918" y="69096"/>
                  </a:lnTo>
                  <a:lnTo>
                    <a:pt x="100225" y="76544"/>
                  </a:lnTo>
                  <a:lnTo>
                    <a:pt x="109150" y="84050"/>
                  </a:lnTo>
                  <a:lnTo>
                    <a:pt x="118487" y="91593"/>
                  </a:lnTo>
                  <a:lnTo>
                    <a:pt x="127252" y="100856"/>
                  </a:lnTo>
                  <a:lnTo>
                    <a:pt x="135634" y="111264"/>
                  </a:lnTo>
                  <a:lnTo>
                    <a:pt x="167339" y="154340"/>
                  </a:lnTo>
                  <a:lnTo>
                    <a:pt x="174213" y="165547"/>
                  </a:lnTo>
                  <a:lnTo>
                    <a:pt x="180489" y="177251"/>
                  </a:lnTo>
                  <a:lnTo>
                    <a:pt x="186366" y="189288"/>
                  </a:lnTo>
                  <a:lnTo>
                    <a:pt x="191131" y="202392"/>
                  </a:lnTo>
                  <a:lnTo>
                    <a:pt x="195154" y="216208"/>
                  </a:lnTo>
                  <a:lnTo>
                    <a:pt x="198683" y="230499"/>
                  </a:lnTo>
                  <a:lnTo>
                    <a:pt x="202729" y="244260"/>
                  </a:lnTo>
                  <a:lnTo>
                    <a:pt x="207119" y="257666"/>
                  </a:lnTo>
                  <a:lnTo>
                    <a:pt x="211740" y="270837"/>
                  </a:lnTo>
                  <a:lnTo>
                    <a:pt x="214820" y="284699"/>
                  </a:lnTo>
                  <a:lnTo>
                    <a:pt x="216873" y="299019"/>
                  </a:lnTo>
                  <a:lnTo>
                    <a:pt x="218242" y="313646"/>
                  </a:lnTo>
                  <a:lnTo>
                    <a:pt x="219155" y="327631"/>
                  </a:lnTo>
                  <a:lnTo>
                    <a:pt x="219763" y="341187"/>
                  </a:lnTo>
                  <a:lnTo>
                    <a:pt x="220440" y="367539"/>
                  </a:lnTo>
                  <a:lnTo>
                    <a:pt x="220740" y="393362"/>
                  </a:lnTo>
                  <a:lnTo>
                    <a:pt x="219973" y="405328"/>
                  </a:lnTo>
                  <a:lnTo>
                    <a:pt x="218616" y="416692"/>
                  </a:lnTo>
                  <a:lnTo>
                    <a:pt x="216864" y="427655"/>
                  </a:lnTo>
                  <a:lnTo>
                    <a:pt x="214003" y="438350"/>
                  </a:lnTo>
                  <a:lnTo>
                    <a:pt x="210402" y="448867"/>
                  </a:lnTo>
                  <a:lnTo>
                    <a:pt x="206308" y="459265"/>
                  </a:lnTo>
                  <a:lnTo>
                    <a:pt x="202733" y="469583"/>
                  </a:lnTo>
                  <a:lnTo>
                    <a:pt x="199502" y="479849"/>
                  </a:lnTo>
                  <a:lnTo>
                    <a:pt x="196502" y="490079"/>
                  </a:lnTo>
                  <a:lnTo>
                    <a:pt x="192808" y="499440"/>
                  </a:lnTo>
                  <a:lnTo>
                    <a:pt x="188652" y="508220"/>
                  </a:lnTo>
                  <a:lnTo>
                    <a:pt x="184188" y="516613"/>
                  </a:lnTo>
                  <a:lnTo>
                    <a:pt x="179519" y="523902"/>
                  </a:lnTo>
                  <a:lnTo>
                    <a:pt x="174713" y="530455"/>
                  </a:lnTo>
                  <a:lnTo>
                    <a:pt x="169815" y="536517"/>
                  </a:lnTo>
                  <a:lnTo>
                    <a:pt x="165704" y="542251"/>
                  </a:lnTo>
                  <a:lnTo>
                    <a:pt x="158878" y="553138"/>
                  </a:lnTo>
                  <a:lnTo>
                    <a:pt x="153021" y="561364"/>
                  </a:lnTo>
                  <a:lnTo>
                    <a:pt x="144781" y="5715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SMARTInkAnnotation130"/>
            <p:cNvSpPr/>
            <p:nvPr/>
          </p:nvSpPr>
          <p:spPr>
            <a:xfrm>
              <a:off x="4822920" y="3733920"/>
              <a:ext cx="505080" cy="33408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505279" h="334359">
                  <a:moveTo>
                    <a:pt x="0" y="45275"/>
                  </a:moveTo>
                  <a:lnTo>
                    <a:pt x="11320" y="40038"/>
                  </a:lnTo>
                  <a:lnTo>
                    <a:pt x="27103" y="35868"/>
                  </a:lnTo>
                  <a:lnTo>
                    <a:pt x="40833" y="31781"/>
                  </a:lnTo>
                  <a:lnTo>
                    <a:pt x="58223" y="27142"/>
                  </a:lnTo>
                  <a:lnTo>
                    <a:pt x="79499" y="22258"/>
                  </a:lnTo>
                  <a:lnTo>
                    <a:pt x="91099" y="19770"/>
                  </a:lnTo>
                  <a:lnTo>
                    <a:pt x="104760" y="17265"/>
                  </a:lnTo>
                  <a:lnTo>
                    <a:pt x="135742" y="12224"/>
                  </a:lnTo>
                  <a:lnTo>
                    <a:pt x="186505" y="4626"/>
                  </a:lnTo>
                  <a:lnTo>
                    <a:pt x="204770" y="2936"/>
                  </a:lnTo>
                  <a:lnTo>
                    <a:pt x="223720" y="1809"/>
                  </a:lnTo>
                  <a:lnTo>
                    <a:pt x="261991" y="557"/>
                  </a:lnTo>
                  <a:lnTo>
                    <a:pt x="298756" y="0"/>
                  </a:lnTo>
                  <a:lnTo>
                    <a:pt x="315164" y="699"/>
                  </a:lnTo>
                  <a:lnTo>
                    <a:pt x="330337" y="2011"/>
                  </a:lnTo>
                  <a:lnTo>
                    <a:pt x="344685" y="3732"/>
                  </a:lnTo>
                  <a:lnTo>
                    <a:pt x="358483" y="5726"/>
                  </a:lnTo>
                  <a:lnTo>
                    <a:pt x="385104" y="10200"/>
                  </a:lnTo>
                  <a:lnTo>
                    <a:pt x="396436" y="12579"/>
                  </a:lnTo>
                  <a:lnTo>
                    <a:pt x="406530" y="15011"/>
                  </a:lnTo>
                  <a:lnTo>
                    <a:pt x="421981" y="19971"/>
                  </a:lnTo>
                  <a:lnTo>
                    <a:pt x="426101" y="22479"/>
                  </a:lnTo>
                  <a:lnTo>
                    <a:pt x="428847" y="24997"/>
                  </a:lnTo>
                  <a:lnTo>
                    <a:pt x="428985" y="28370"/>
                  </a:lnTo>
                  <a:lnTo>
                    <a:pt x="427384" y="32312"/>
                  </a:lnTo>
                  <a:lnTo>
                    <a:pt x="424622" y="36633"/>
                  </a:lnTo>
                  <a:lnTo>
                    <a:pt x="420241" y="40360"/>
                  </a:lnTo>
                  <a:lnTo>
                    <a:pt x="408601" y="46759"/>
                  </a:lnTo>
                  <a:lnTo>
                    <a:pt x="400247" y="50498"/>
                  </a:lnTo>
                  <a:lnTo>
                    <a:pt x="379676" y="59168"/>
                  </a:lnTo>
                  <a:lnTo>
                    <a:pt x="367418" y="63850"/>
                  </a:lnTo>
                  <a:lnTo>
                    <a:pt x="340250" y="73569"/>
                  </a:lnTo>
                  <a:lnTo>
                    <a:pt x="325894" y="77684"/>
                  </a:lnTo>
                  <a:lnTo>
                    <a:pt x="311243" y="81275"/>
                  </a:lnTo>
                  <a:lnTo>
                    <a:pt x="296395" y="84515"/>
                  </a:lnTo>
                  <a:lnTo>
                    <a:pt x="282263" y="88368"/>
                  </a:lnTo>
                  <a:lnTo>
                    <a:pt x="268609" y="92630"/>
                  </a:lnTo>
                  <a:lnTo>
                    <a:pt x="255273" y="97165"/>
                  </a:lnTo>
                  <a:lnTo>
                    <a:pt x="242995" y="101882"/>
                  </a:lnTo>
                  <a:lnTo>
                    <a:pt x="231423" y="106720"/>
                  </a:lnTo>
                  <a:lnTo>
                    <a:pt x="220322" y="111638"/>
                  </a:lnTo>
                  <a:lnTo>
                    <a:pt x="205730" y="121619"/>
                  </a:lnTo>
                  <a:lnTo>
                    <a:pt x="197269" y="130852"/>
                  </a:lnTo>
                  <a:lnTo>
                    <a:pt x="193508" y="137778"/>
                  </a:lnTo>
                  <a:lnTo>
                    <a:pt x="195045" y="141657"/>
                  </a:lnTo>
                  <a:lnTo>
                    <a:pt x="203527" y="150483"/>
                  </a:lnTo>
                  <a:lnTo>
                    <a:pt x="218021" y="160049"/>
                  </a:lnTo>
                  <a:lnTo>
                    <a:pt x="226627" y="164972"/>
                  </a:lnTo>
                  <a:lnTo>
                    <a:pt x="238292" y="169946"/>
                  </a:lnTo>
                  <a:lnTo>
                    <a:pt x="251994" y="174956"/>
                  </a:lnTo>
                  <a:lnTo>
                    <a:pt x="267057" y="179989"/>
                  </a:lnTo>
                  <a:lnTo>
                    <a:pt x="299596" y="190097"/>
                  </a:lnTo>
                  <a:lnTo>
                    <a:pt x="368777" y="210383"/>
                  </a:lnTo>
                  <a:lnTo>
                    <a:pt x="386398" y="216307"/>
                  </a:lnTo>
                  <a:lnTo>
                    <a:pt x="404072" y="222796"/>
                  </a:lnTo>
                  <a:lnTo>
                    <a:pt x="421781" y="229662"/>
                  </a:lnTo>
                  <a:lnTo>
                    <a:pt x="436975" y="236780"/>
                  </a:lnTo>
                  <a:lnTo>
                    <a:pt x="450490" y="244065"/>
                  </a:lnTo>
                  <a:lnTo>
                    <a:pt x="473691" y="258086"/>
                  </a:lnTo>
                  <a:lnTo>
                    <a:pt x="492469" y="269962"/>
                  </a:lnTo>
                  <a:lnTo>
                    <a:pt x="498493" y="275500"/>
                  </a:lnTo>
                  <a:lnTo>
                    <a:pt x="502509" y="280885"/>
                  </a:lnTo>
                  <a:lnTo>
                    <a:pt x="505186" y="286168"/>
                  </a:lnTo>
                  <a:lnTo>
                    <a:pt x="505278" y="290537"/>
                  </a:lnTo>
                  <a:lnTo>
                    <a:pt x="503645" y="294296"/>
                  </a:lnTo>
                  <a:lnTo>
                    <a:pt x="500863" y="297650"/>
                  </a:lnTo>
                  <a:lnTo>
                    <a:pt x="488741" y="305890"/>
                  </a:lnTo>
                  <a:lnTo>
                    <a:pt x="480768" y="310459"/>
                  </a:lnTo>
                  <a:lnTo>
                    <a:pt x="471218" y="314351"/>
                  </a:lnTo>
                  <a:lnTo>
                    <a:pt x="460619" y="317793"/>
                  </a:lnTo>
                  <a:lnTo>
                    <a:pt x="449319" y="320933"/>
                  </a:lnTo>
                  <a:lnTo>
                    <a:pt x="436707" y="323874"/>
                  </a:lnTo>
                  <a:lnTo>
                    <a:pt x="423218" y="326681"/>
                  </a:lnTo>
                  <a:lnTo>
                    <a:pt x="409146" y="329399"/>
                  </a:lnTo>
                  <a:lnTo>
                    <a:pt x="395530" y="331212"/>
                  </a:lnTo>
                  <a:lnTo>
                    <a:pt x="382220" y="332419"/>
                  </a:lnTo>
                  <a:lnTo>
                    <a:pt x="369114" y="333225"/>
                  </a:lnTo>
                  <a:lnTo>
                    <a:pt x="343261" y="334119"/>
                  </a:lnTo>
                  <a:lnTo>
                    <a:pt x="330441" y="334358"/>
                  </a:lnTo>
                  <a:lnTo>
                    <a:pt x="317661" y="333670"/>
                  </a:lnTo>
                  <a:lnTo>
                    <a:pt x="304907" y="332365"/>
                  </a:lnTo>
                  <a:lnTo>
                    <a:pt x="292172" y="330649"/>
                  </a:lnTo>
                  <a:lnTo>
                    <a:pt x="281141" y="329504"/>
                  </a:lnTo>
                  <a:lnTo>
                    <a:pt x="271247" y="328741"/>
                  </a:lnTo>
                  <a:lnTo>
                    <a:pt x="262111" y="328232"/>
                  </a:lnTo>
                  <a:lnTo>
                    <a:pt x="247445" y="325409"/>
                  </a:lnTo>
                  <a:lnTo>
                    <a:pt x="241163" y="323471"/>
                  </a:lnTo>
                  <a:lnTo>
                    <a:pt x="236975" y="321333"/>
                  </a:lnTo>
                  <a:lnTo>
                    <a:pt x="234184" y="319060"/>
                  </a:lnTo>
                  <a:lnTo>
                    <a:pt x="228600" y="31197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SMARTInkAnnotation131"/>
            <p:cNvSpPr/>
            <p:nvPr/>
          </p:nvSpPr>
          <p:spPr>
            <a:xfrm>
              <a:off x="5425200" y="3885840"/>
              <a:ext cx="327600" cy="28188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327649" h="281941">
                  <a:moveTo>
                    <a:pt x="38089" y="0"/>
                  </a:moveTo>
                  <a:lnTo>
                    <a:pt x="38089" y="22178"/>
                  </a:lnTo>
                  <a:lnTo>
                    <a:pt x="37242" y="26639"/>
                  </a:lnTo>
                  <a:lnTo>
                    <a:pt x="35831" y="31306"/>
                  </a:lnTo>
                  <a:lnTo>
                    <a:pt x="34043" y="36111"/>
                  </a:lnTo>
                  <a:lnTo>
                    <a:pt x="27483" y="55008"/>
                  </a:lnTo>
                  <a:lnTo>
                    <a:pt x="5056" y="121963"/>
                  </a:lnTo>
                  <a:lnTo>
                    <a:pt x="3367" y="129569"/>
                  </a:lnTo>
                  <a:lnTo>
                    <a:pt x="2241" y="137180"/>
                  </a:lnTo>
                  <a:lnTo>
                    <a:pt x="1490" y="144793"/>
                  </a:lnTo>
                  <a:lnTo>
                    <a:pt x="990" y="151562"/>
                  </a:lnTo>
                  <a:lnTo>
                    <a:pt x="656" y="157768"/>
                  </a:lnTo>
                  <a:lnTo>
                    <a:pt x="187" y="172335"/>
                  </a:lnTo>
                  <a:lnTo>
                    <a:pt x="0" y="182263"/>
                  </a:lnTo>
                  <a:lnTo>
                    <a:pt x="6921" y="175828"/>
                  </a:lnTo>
                  <a:lnTo>
                    <a:pt x="14640" y="168175"/>
                  </a:lnTo>
                  <a:lnTo>
                    <a:pt x="19070" y="162070"/>
                  </a:lnTo>
                  <a:lnTo>
                    <a:pt x="23716" y="154613"/>
                  </a:lnTo>
                  <a:lnTo>
                    <a:pt x="28507" y="146255"/>
                  </a:lnTo>
                  <a:lnTo>
                    <a:pt x="35087" y="137297"/>
                  </a:lnTo>
                  <a:lnTo>
                    <a:pt x="42861" y="127938"/>
                  </a:lnTo>
                  <a:lnTo>
                    <a:pt x="51430" y="118312"/>
                  </a:lnTo>
                  <a:lnTo>
                    <a:pt x="67724" y="100843"/>
                  </a:lnTo>
                  <a:lnTo>
                    <a:pt x="75626" y="92629"/>
                  </a:lnTo>
                  <a:lnTo>
                    <a:pt x="84280" y="84613"/>
                  </a:lnTo>
                  <a:lnTo>
                    <a:pt x="93436" y="76728"/>
                  </a:lnTo>
                  <a:lnTo>
                    <a:pt x="102927" y="68932"/>
                  </a:lnTo>
                  <a:lnTo>
                    <a:pt x="112640" y="62042"/>
                  </a:lnTo>
                  <a:lnTo>
                    <a:pt x="122503" y="55754"/>
                  </a:lnTo>
                  <a:lnTo>
                    <a:pt x="132465" y="49869"/>
                  </a:lnTo>
                  <a:lnTo>
                    <a:pt x="142493" y="45100"/>
                  </a:lnTo>
                  <a:lnTo>
                    <a:pt x="152565" y="41073"/>
                  </a:lnTo>
                  <a:lnTo>
                    <a:pt x="162665" y="37542"/>
                  </a:lnTo>
                  <a:lnTo>
                    <a:pt x="171940" y="35188"/>
                  </a:lnTo>
                  <a:lnTo>
                    <a:pt x="180662" y="33618"/>
                  </a:lnTo>
                  <a:lnTo>
                    <a:pt x="189018" y="32572"/>
                  </a:lnTo>
                  <a:lnTo>
                    <a:pt x="197975" y="32722"/>
                  </a:lnTo>
                  <a:lnTo>
                    <a:pt x="207332" y="33668"/>
                  </a:lnTo>
                  <a:lnTo>
                    <a:pt x="216958" y="35146"/>
                  </a:lnTo>
                  <a:lnTo>
                    <a:pt x="225914" y="37823"/>
                  </a:lnTo>
                  <a:lnTo>
                    <a:pt x="234426" y="41302"/>
                  </a:lnTo>
                  <a:lnTo>
                    <a:pt x="242640" y="45315"/>
                  </a:lnTo>
                  <a:lnTo>
                    <a:pt x="249809" y="49683"/>
                  </a:lnTo>
                  <a:lnTo>
                    <a:pt x="256283" y="54289"/>
                  </a:lnTo>
                  <a:lnTo>
                    <a:pt x="262291" y="59053"/>
                  </a:lnTo>
                  <a:lnTo>
                    <a:pt x="267990" y="65615"/>
                  </a:lnTo>
                  <a:lnTo>
                    <a:pt x="273483" y="73377"/>
                  </a:lnTo>
                  <a:lnTo>
                    <a:pt x="278838" y="81938"/>
                  </a:lnTo>
                  <a:lnTo>
                    <a:pt x="283255" y="91032"/>
                  </a:lnTo>
                  <a:lnTo>
                    <a:pt x="287046" y="100481"/>
                  </a:lnTo>
                  <a:lnTo>
                    <a:pt x="290420" y="110168"/>
                  </a:lnTo>
                  <a:lnTo>
                    <a:pt x="293516" y="120012"/>
                  </a:lnTo>
                  <a:lnTo>
                    <a:pt x="299214" y="139981"/>
                  </a:lnTo>
                  <a:lnTo>
                    <a:pt x="301919" y="150894"/>
                  </a:lnTo>
                  <a:lnTo>
                    <a:pt x="314905" y="207245"/>
                  </a:lnTo>
                  <a:lnTo>
                    <a:pt x="316612" y="218597"/>
                  </a:lnTo>
                  <a:lnTo>
                    <a:pt x="317751" y="230398"/>
                  </a:lnTo>
                  <a:lnTo>
                    <a:pt x="318510" y="242499"/>
                  </a:lnTo>
                  <a:lnTo>
                    <a:pt x="319863" y="252259"/>
                  </a:lnTo>
                  <a:lnTo>
                    <a:pt x="321612" y="260460"/>
                  </a:lnTo>
                  <a:lnTo>
                    <a:pt x="327648" y="2819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SMARTInkAnnotation132"/>
            <p:cNvSpPr/>
            <p:nvPr/>
          </p:nvSpPr>
          <p:spPr>
            <a:xfrm>
              <a:off x="6034680" y="3748680"/>
              <a:ext cx="7560" cy="3657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7620" h="365761">
                  <a:moveTo>
                    <a:pt x="0" y="0"/>
                  </a:moveTo>
                  <a:lnTo>
                    <a:pt x="0" y="33530"/>
                  </a:lnTo>
                  <a:lnTo>
                    <a:pt x="846" y="40133"/>
                  </a:lnTo>
                  <a:lnTo>
                    <a:pt x="2257" y="47076"/>
                  </a:lnTo>
                  <a:lnTo>
                    <a:pt x="4044" y="54244"/>
                  </a:lnTo>
                  <a:lnTo>
                    <a:pt x="4390" y="61563"/>
                  </a:lnTo>
                  <a:lnTo>
                    <a:pt x="3773" y="68982"/>
                  </a:lnTo>
                  <a:lnTo>
                    <a:pt x="2515" y="76468"/>
                  </a:lnTo>
                  <a:lnTo>
                    <a:pt x="1677" y="84845"/>
                  </a:lnTo>
                  <a:lnTo>
                    <a:pt x="1118" y="93817"/>
                  </a:lnTo>
                  <a:lnTo>
                    <a:pt x="744" y="103185"/>
                  </a:lnTo>
                  <a:lnTo>
                    <a:pt x="331" y="124882"/>
                  </a:lnTo>
                  <a:lnTo>
                    <a:pt x="5" y="237620"/>
                  </a:lnTo>
                  <a:lnTo>
                    <a:pt x="850" y="248160"/>
                  </a:lnTo>
                  <a:lnTo>
                    <a:pt x="2260" y="258574"/>
                  </a:lnTo>
                  <a:lnTo>
                    <a:pt x="4047" y="268902"/>
                  </a:lnTo>
                  <a:lnTo>
                    <a:pt x="5237" y="278328"/>
                  </a:lnTo>
                  <a:lnTo>
                    <a:pt x="6031" y="287152"/>
                  </a:lnTo>
                  <a:lnTo>
                    <a:pt x="6560" y="295575"/>
                  </a:lnTo>
                  <a:lnTo>
                    <a:pt x="7149" y="311707"/>
                  </a:lnTo>
                  <a:lnTo>
                    <a:pt x="7526" y="338714"/>
                  </a:lnTo>
                  <a:lnTo>
                    <a:pt x="7619" y="3657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SMARTInkAnnotation133"/>
            <p:cNvSpPr/>
            <p:nvPr/>
          </p:nvSpPr>
          <p:spPr>
            <a:xfrm>
              <a:off x="5988960" y="3924000"/>
              <a:ext cx="220680" cy="75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0981" h="7621">
                  <a:moveTo>
                    <a:pt x="0" y="7620"/>
                  </a:moveTo>
                  <a:lnTo>
                    <a:pt x="4045" y="3575"/>
                  </a:lnTo>
                  <a:lnTo>
                    <a:pt x="6084" y="2383"/>
                  </a:lnTo>
                  <a:lnTo>
                    <a:pt x="8289" y="1589"/>
                  </a:lnTo>
                  <a:lnTo>
                    <a:pt x="10606" y="1059"/>
                  </a:lnTo>
                  <a:lnTo>
                    <a:pt x="13844" y="706"/>
                  </a:lnTo>
                  <a:lnTo>
                    <a:pt x="17696" y="471"/>
                  </a:lnTo>
                  <a:lnTo>
                    <a:pt x="21958" y="314"/>
                  </a:lnTo>
                  <a:lnTo>
                    <a:pt x="40091" y="93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SMARTInkAnnotation134"/>
            <p:cNvSpPr/>
            <p:nvPr/>
          </p:nvSpPr>
          <p:spPr>
            <a:xfrm>
              <a:off x="6469200" y="3916440"/>
              <a:ext cx="213120" cy="3780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13361" h="38101">
                  <a:moveTo>
                    <a:pt x="0" y="38100"/>
                  </a:moveTo>
                  <a:lnTo>
                    <a:pt x="4046" y="38100"/>
                  </a:lnTo>
                  <a:lnTo>
                    <a:pt x="6931" y="37253"/>
                  </a:lnTo>
                  <a:lnTo>
                    <a:pt x="10547" y="35843"/>
                  </a:lnTo>
                  <a:lnTo>
                    <a:pt x="20428" y="31539"/>
                  </a:lnTo>
                  <a:lnTo>
                    <a:pt x="28552" y="28693"/>
                  </a:lnTo>
                  <a:lnTo>
                    <a:pt x="34275" y="26749"/>
                  </a:lnTo>
                  <a:lnTo>
                    <a:pt x="40630" y="25453"/>
                  </a:lnTo>
                  <a:lnTo>
                    <a:pt x="47407" y="24588"/>
                  </a:lnTo>
                  <a:lnTo>
                    <a:pt x="54464" y="24012"/>
                  </a:lnTo>
                  <a:lnTo>
                    <a:pt x="61710" y="22781"/>
                  </a:lnTo>
                  <a:lnTo>
                    <a:pt x="69080" y="21114"/>
                  </a:lnTo>
                  <a:lnTo>
                    <a:pt x="76533" y="19156"/>
                  </a:lnTo>
                  <a:lnTo>
                    <a:pt x="96104" y="14723"/>
                  </a:lnTo>
                  <a:lnTo>
                    <a:pt x="107250" y="12355"/>
                  </a:lnTo>
                  <a:lnTo>
                    <a:pt x="118066" y="10777"/>
                  </a:lnTo>
                  <a:lnTo>
                    <a:pt x="128664" y="9725"/>
                  </a:lnTo>
                  <a:lnTo>
                    <a:pt x="139116" y="9023"/>
                  </a:lnTo>
                  <a:lnTo>
                    <a:pt x="148625" y="7709"/>
                  </a:lnTo>
                  <a:lnTo>
                    <a:pt x="157503" y="5986"/>
                  </a:lnTo>
                  <a:lnTo>
                    <a:pt x="165962" y="3990"/>
                  </a:lnTo>
                  <a:lnTo>
                    <a:pt x="173295" y="2660"/>
                  </a:lnTo>
                  <a:lnTo>
                    <a:pt x="179876" y="1773"/>
                  </a:lnTo>
                  <a:lnTo>
                    <a:pt x="185958" y="1182"/>
                  </a:lnTo>
                  <a:lnTo>
                    <a:pt x="191706" y="788"/>
                  </a:lnTo>
                  <a:lnTo>
                    <a:pt x="197231" y="525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SMARTInkAnnotation135"/>
            <p:cNvSpPr/>
            <p:nvPr/>
          </p:nvSpPr>
          <p:spPr>
            <a:xfrm>
              <a:off x="6270840" y="3802320"/>
              <a:ext cx="180720" cy="272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80791" h="273031">
                  <a:moveTo>
                    <a:pt x="22860" y="22765"/>
                  </a:moveTo>
                  <a:lnTo>
                    <a:pt x="22860" y="8612"/>
                  </a:lnTo>
                  <a:lnTo>
                    <a:pt x="27375" y="8008"/>
                  </a:lnTo>
                  <a:lnTo>
                    <a:pt x="30950" y="7847"/>
                  </a:lnTo>
                  <a:lnTo>
                    <a:pt x="34180" y="6893"/>
                  </a:lnTo>
                  <a:lnTo>
                    <a:pt x="37180" y="5410"/>
                  </a:lnTo>
                  <a:lnTo>
                    <a:pt x="40026" y="3575"/>
                  </a:lnTo>
                  <a:lnTo>
                    <a:pt x="44464" y="2352"/>
                  </a:lnTo>
                  <a:lnTo>
                    <a:pt x="49964" y="1536"/>
                  </a:lnTo>
                  <a:lnTo>
                    <a:pt x="56169" y="992"/>
                  </a:lnTo>
                  <a:lnTo>
                    <a:pt x="62846" y="630"/>
                  </a:lnTo>
                  <a:lnTo>
                    <a:pt x="77039" y="227"/>
                  </a:lnTo>
                  <a:lnTo>
                    <a:pt x="95263" y="0"/>
                  </a:lnTo>
                  <a:lnTo>
                    <a:pt x="102456" y="815"/>
                  </a:lnTo>
                  <a:lnTo>
                    <a:pt x="110637" y="2205"/>
                  </a:lnTo>
                  <a:lnTo>
                    <a:pt x="119478" y="3978"/>
                  </a:lnTo>
                  <a:lnTo>
                    <a:pt x="127065" y="5161"/>
                  </a:lnTo>
                  <a:lnTo>
                    <a:pt x="133817" y="5948"/>
                  </a:lnTo>
                  <a:lnTo>
                    <a:pt x="140011" y="6474"/>
                  </a:lnTo>
                  <a:lnTo>
                    <a:pt x="145834" y="8518"/>
                  </a:lnTo>
                  <a:lnTo>
                    <a:pt x="151409" y="11574"/>
                  </a:lnTo>
                  <a:lnTo>
                    <a:pt x="156820" y="15304"/>
                  </a:lnTo>
                  <a:lnTo>
                    <a:pt x="161273" y="18638"/>
                  </a:lnTo>
                  <a:lnTo>
                    <a:pt x="165088" y="21707"/>
                  </a:lnTo>
                  <a:lnTo>
                    <a:pt x="168479" y="24600"/>
                  </a:lnTo>
                  <a:lnTo>
                    <a:pt x="170739" y="27375"/>
                  </a:lnTo>
                  <a:lnTo>
                    <a:pt x="173251" y="32716"/>
                  </a:lnTo>
                  <a:lnTo>
                    <a:pt x="173074" y="35326"/>
                  </a:lnTo>
                  <a:lnTo>
                    <a:pt x="172109" y="37912"/>
                  </a:lnTo>
                  <a:lnTo>
                    <a:pt x="170619" y="40483"/>
                  </a:lnTo>
                  <a:lnTo>
                    <a:pt x="167086" y="43044"/>
                  </a:lnTo>
                  <a:lnTo>
                    <a:pt x="162191" y="45597"/>
                  </a:lnTo>
                  <a:lnTo>
                    <a:pt x="156386" y="48147"/>
                  </a:lnTo>
                  <a:lnTo>
                    <a:pt x="149978" y="51539"/>
                  </a:lnTo>
                  <a:lnTo>
                    <a:pt x="143165" y="55494"/>
                  </a:lnTo>
                  <a:lnTo>
                    <a:pt x="136083" y="59825"/>
                  </a:lnTo>
                  <a:lnTo>
                    <a:pt x="128822" y="63558"/>
                  </a:lnTo>
                  <a:lnTo>
                    <a:pt x="121441" y="66893"/>
                  </a:lnTo>
                  <a:lnTo>
                    <a:pt x="113981" y="69964"/>
                  </a:lnTo>
                  <a:lnTo>
                    <a:pt x="105621" y="72858"/>
                  </a:lnTo>
                  <a:lnTo>
                    <a:pt x="96661" y="75634"/>
                  </a:lnTo>
                  <a:lnTo>
                    <a:pt x="87300" y="78331"/>
                  </a:lnTo>
                  <a:lnTo>
                    <a:pt x="79367" y="80976"/>
                  </a:lnTo>
                  <a:lnTo>
                    <a:pt x="72384" y="83585"/>
                  </a:lnTo>
                  <a:lnTo>
                    <a:pt x="66036" y="86172"/>
                  </a:lnTo>
                  <a:lnTo>
                    <a:pt x="60957" y="89589"/>
                  </a:lnTo>
                  <a:lnTo>
                    <a:pt x="56725" y="93561"/>
                  </a:lnTo>
                  <a:lnTo>
                    <a:pt x="53057" y="97902"/>
                  </a:lnTo>
                  <a:lnTo>
                    <a:pt x="49764" y="101643"/>
                  </a:lnTo>
                  <a:lnTo>
                    <a:pt x="43848" y="108058"/>
                  </a:lnTo>
                  <a:lnTo>
                    <a:pt x="42779" y="110954"/>
                  </a:lnTo>
                  <a:lnTo>
                    <a:pt x="42913" y="113731"/>
                  </a:lnTo>
                  <a:lnTo>
                    <a:pt x="43848" y="116428"/>
                  </a:lnTo>
                  <a:lnTo>
                    <a:pt x="49403" y="123942"/>
                  </a:lnTo>
                  <a:lnTo>
                    <a:pt x="53256" y="128316"/>
                  </a:lnTo>
                  <a:lnTo>
                    <a:pt x="58364" y="132926"/>
                  </a:lnTo>
                  <a:lnTo>
                    <a:pt x="64309" y="137692"/>
                  </a:lnTo>
                  <a:lnTo>
                    <a:pt x="70813" y="142563"/>
                  </a:lnTo>
                  <a:lnTo>
                    <a:pt x="78535" y="147504"/>
                  </a:lnTo>
                  <a:lnTo>
                    <a:pt x="87070" y="152491"/>
                  </a:lnTo>
                  <a:lnTo>
                    <a:pt x="96147" y="157509"/>
                  </a:lnTo>
                  <a:lnTo>
                    <a:pt x="104738" y="162548"/>
                  </a:lnTo>
                  <a:lnTo>
                    <a:pt x="121057" y="172661"/>
                  </a:lnTo>
                  <a:lnTo>
                    <a:pt x="144524" y="187876"/>
                  </a:lnTo>
                  <a:lnTo>
                    <a:pt x="151383" y="192952"/>
                  </a:lnTo>
                  <a:lnTo>
                    <a:pt x="157648" y="198030"/>
                  </a:lnTo>
                  <a:lnTo>
                    <a:pt x="163520" y="203108"/>
                  </a:lnTo>
                  <a:lnTo>
                    <a:pt x="168279" y="208187"/>
                  </a:lnTo>
                  <a:lnTo>
                    <a:pt x="172301" y="213267"/>
                  </a:lnTo>
                  <a:lnTo>
                    <a:pt x="175826" y="218346"/>
                  </a:lnTo>
                  <a:lnTo>
                    <a:pt x="178178" y="223426"/>
                  </a:lnTo>
                  <a:lnTo>
                    <a:pt x="179745" y="228505"/>
                  </a:lnTo>
                  <a:lnTo>
                    <a:pt x="180790" y="233585"/>
                  </a:lnTo>
                  <a:lnTo>
                    <a:pt x="180640" y="237818"/>
                  </a:lnTo>
                  <a:lnTo>
                    <a:pt x="179693" y="241487"/>
                  </a:lnTo>
                  <a:lnTo>
                    <a:pt x="176384" y="247822"/>
                  </a:lnTo>
                  <a:lnTo>
                    <a:pt x="172091" y="253459"/>
                  </a:lnTo>
                  <a:lnTo>
                    <a:pt x="168067" y="256147"/>
                  </a:lnTo>
                  <a:lnTo>
                    <a:pt x="162845" y="258787"/>
                  </a:lnTo>
                  <a:lnTo>
                    <a:pt x="156823" y="261393"/>
                  </a:lnTo>
                  <a:lnTo>
                    <a:pt x="151116" y="263130"/>
                  </a:lnTo>
                  <a:lnTo>
                    <a:pt x="145616" y="264289"/>
                  </a:lnTo>
                  <a:lnTo>
                    <a:pt x="140258" y="265061"/>
                  </a:lnTo>
                  <a:lnTo>
                    <a:pt x="134145" y="266422"/>
                  </a:lnTo>
                  <a:lnTo>
                    <a:pt x="127530" y="268177"/>
                  </a:lnTo>
                  <a:lnTo>
                    <a:pt x="120580" y="270193"/>
                  </a:lnTo>
                  <a:lnTo>
                    <a:pt x="113406" y="271537"/>
                  </a:lnTo>
                  <a:lnTo>
                    <a:pt x="106084" y="272433"/>
                  </a:lnTo>
                  <a:lnTo>
                    <a:pt x="98663" y="273030"/>
                  </a:lnTo>
                  <a:lnTo>
                    <a:pt x="91175" y="272582"/>
                  </a:lnTo>
                  <a:lnTo>
                    <a:pt x="83643" y="271436"/>
                  </a:lnTo>
                  <a:lnTo>
                    <a:pt x="76083" y="269826"/>
                  </a:lnTo>
                  <a:lnTo>
                    <a:pt x="68502" y="268752"/>
                  </a:lnTo>
                  <a:lnTo>
                    <a:pt x="60908" y="268037"/>
                  </a:lnTo>
                  <a:lnTo>
                    <a:pt x="53305" y="267560"/>
                  </a:lnTo>
                  <a:lnTo>
                    <a:pt x="45697" y="266395"/>
                  </a:lnTo>
                  <a:lnTo>
                    <a:pt x="38084" y="264772"/>
                  </a:lnTo>
                  <a:lnTo>
                    <a:pt x="30469" y="262843"/>
                  </a:lnTo>
                  <a:lnTo>
                    <a:pt x="23700" y="261557"/>
                  </a:lnTo>
                  <a:lnTo>
                    <a:pt x="17493" y="260699"/>
                  </a:lnTo>
                  <a:lnTo>
                    <a:pt x="0" y="2589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SMARTInkAnnotation136"/>
            <p:cNvSpPr/>
            <p:nvPr/>
          </p:nvSpPr>
          <p:spPr>
            <a:xfrm>
              <a:off x="6583320" y="401544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1" h="7621">
                  <a:moveTo>
                    <a:pt x="0" y="7620"/>
                  </a:moveTo>
                  <a:lnTo>
                    <a:pt x="54244" y="7620"/>
                  </a:lnTo>
                  <a:lnTo>
                    <a:pt x="62409" y="6774"/>
                  </a:lnTo>
                  <a:lnTo>
                    <a:pt x="71239" y="5363"/>
                  </a:lnTo>
                  <a:lnTo>
                    <a:pt x="80512" y="3575"/>
                  </a:lnTo>
                  <a:lnTo>
                    <a:pt x="90082" y="2383"/>
                  </a:lnTo>
                  <a:lnTo>
                    <a:pt x="99848" y="1589"/>
                  </a:lnTo>
                  <a:lnTo>
                    <a:pt x="109746" y="1059"/>
                  </a:lnTo>
                  <a:lnTo>
                    <a:pt x="129774" y="471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SMARTInkAnnotation137"/>
            <p:cNvSpPr/>
            <p:nvPr/>
          </p:nvSpPr>
          <p:spPr>
            <a:xfrm>
              <a:off x="6888240" y="3771720"/>
              <a:ext cx="243000" cy="32004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43242" h="320032">
                  <a:moveTo>
                    <a:pt x="0" y="38091"/>
                  </a:moveTo>
                  <a:lnTo>
                    <a:pt x="0" y="31531"/>
                  </a:lnTo>
                  <a:lnTo>
                    <a:pt x="4046" y="26740"/>
                  </a:lnTo>
                  <a:lnTo>
                    <a:pt x="10548" y="22322"/>
                  </a:lnTo>
                  <a:lnTo>
                    <a:pt x="14651" y="19958"/>
                  </a:lnTo>
                  <a:lnTo>
                    <a:pt x="23727" y="15074"/>
                  </a:lnTo>
                  <a:lnTo>
                    <a:pt x="28519" y="12586"/>
                  </a:lnTo>
                  <a:lnTo>
                    <a:pt x="34252" y="10928"/>
                  </a:lnTo>
                  <a:lnTo>
                    <a:pt x="40614" y="9823"/>
                  </a:lnTo>
                  <a:lnTo>
                    <a:pt x="47397" y="9085"/>
                  </a:lnTo>
                  <a:lnTo>
                    <a:pt x="55305" y="7747"/>
                  </a:lnTo>
                  <a:lnTo>
                    <a:pt x="63963" y="6009"/>
                  </a:lnTo>
                  <a:lnTo>
                    <a:pt x="73122" y="4003"/>
                  </a:lnTo>
                  <a:lnTo>
                    <a:pt x="82615" y="2665"/>
                  </a:lnTo>
                  <a:lnTo>
                    <a:pt x="92330" y="1774"/>
                  </a:lnTo>
                  <a:lnTo>
                    <a:pt x="102193" y="1180"/>
                  </a:lnTo>
                  <a:lnTo>
                    <a:pt x="122184" y="519"/>
                  </a:lnTo>
                  <a:lnTo>
                    <a:pt x="167518" y="60"/>
                  </a:lnTo>
                  <a:lnTo>
                    <a:pt x="208128" y="0"/>
                  </a:lnTo>
                  <a:lnTo>
                    <a:pt x="214105" y="844"/>
                  </a:lnTo>
                  <a:lnTo>
                    <a:pt x="219784" y="2253"/>
                  </a:lnTo>
                  <a:lnTo>
                    <a:pt x="225263" y="4039"/>
                  </a:lnTo>
                  <a:lnTo>
                    <a:pt x="229762" y="6076"/>
                  </a:lnTo>
                  <a:lnTo>
                    <a:pt x="237019" y="10598"/>
                  </a:lnTo>
                  <a:lnTo>
                    <a:pt x="239293" y="12989"/>
                  </a:lnTo>
                  <a:lnTo>
                    <a:pt x="240808" y="15429"/>
                  </a:lnTo>
                  <a:lnTo>
                    <a:pt x="242492" y="20399"/>
                  </a:lnTo>
                  <a:lnTo>
                    <a:pt x="243241" y="25430"/>
                  </a:lnTo>
                  <a:lnTo>
                    <a:pt x="242594" y="27957"/>
                  </a:lnTo>
                  <a:lnTo>
                    <a:pt x="237639" y="37252"/>
                  </a:lnTo>
                  <a:lnTo>
                    <a:pt x="235472" y="42612"/>
                  </a:lnTo>
                  <a:lnTo>
                    <a:pt x="233181" y="48725"/>
                  </a:lnTo>
                  <a:lnTo>
                    <a:pt x="229961" y="54493"/>
                  </a:lnTo>
                  <a:lnTo>
                    <a:pt x="226121" y="60033"/>
                  </a:lnTo>
                  <a:lnTo>
                    <a:pt x="221867" y="65419"/>
                  </a:lnTo>
                  <a:lnTo>
                    <a:pt x="217338" y="71549"/>
                  </a:lnTo>
                  <a:lnTo>
                    <a:pt x="207790" y="85135"/>
                  </a:lnTo>
                  <a:lnTo>
                    <a:pt x="177757" y="129647"/>
                  </a:lnTo>
                  <a:lnTo>
                    <a:pt x="171845" y="137229"/>
                  </a:lnTo>
                  <a:lnTo>
                    <a:pt x="165363" y="144823"/>
                  </a:lnTo>
                  <a:lnTo>
                    <a:pt x="158502" y="152425"/>
                  </a:lnTo>
                  <a:lnTo>
                    <a:pt x="152234" y="160034"/>
                  </a:lnTo>
                  <a:lnTo>
                    <a:pt x="146363" y="167646"/>
                  </a:lnTo>
                  <a:lnTo>
                    <a:pt x="140755" y="175261"/>
                  </a:lnTo>
                  <a:lnTo>
                    <a:pt x="130009" y="190496"/>
                  </a:lnTo>
                  <a:lnTo>
                    <a:pt x="124773" y="198114"/>
                  </a:lnTo>
                  <a:lnTo>
                    <a:pt x="119588" y="206580"/>
                  </a:lnTo>
                  <a:lnTo>
                    <a:pt x="114439" y="215610"/>
                  </a:lnTo>
                  <a:lnTo>
                    <a:pt x="109312" y="225017"/>
                  </a:lnTo>
                  <a:lnTo>
                    <a:pt x="104202" y="232982"/>
                  </a:lnTo>
                  <a:lnTo>
                    <a:pt x="99101" y="239985"/>
                  </a:lnTo>
                  <a:lnTo>
                    <a:pt x="94008" y="246347"/>
                  </a:lnTo>
                  <a:lnTo>
                    <a:pt x="89765" y="253129"/>
                  </a:lnTo>
                  <a:lnTo>
                    <a:pt x="86090" y="260189"/>
                  </a:lnTo>
                  <a:lnTo>
                    <a:pt x="79749" y="273961"/>
                  </a:lnTo>
                  <a:lnTo>
                    <a:pt x="74108" y="285727"/>
                  </a:lnTo>
                  <a:lnTo>
                    <a:pt x="68779" y="294342"/>
                  </a:lnTo>
                  <a:lnTo>
                    <a:pt x="66173" y="297826"/>
                  </a:lnTo>
                  <a:lnTo>
                    <a:pt x="64435" y="301840"/>
                  </a:lnTo>
                  <a:lnTo>
                    <a:pt x="62504" y="310818"/>
                  </a:lnTo>
                  <a:lnTo>
                    <a:pt x="60960" y="3200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SMARTInkAnnotation138"/>
            <p:cNvSpPr/>
            <p:nvPr/>
          </p:nvSpPr>
          <p:spPr>
            <a:xfrm>
              <a:off x="6979680" y="3893400"/>
              <a:ext cx="152280" cy="53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52401" h="53341">
                  <a:moveTo>
                    <a:pt x="0" y="53340"/>
                  </a:moveTo>
                  <a:lnTo>
                    <a:pt x="0" y="46779"/>
                  </a:lnTo>
                  <a:lnTo>
                    <a:pt x="847" y="45579"/>
                  </a:lnTo>
                  <a:lnTo>
                    <a:pt x="2258" y="43933"/>
                  </a:lnTo>
                  <a:lnTo>
                    <a:pt x="4046" y="41989"/>
                  </a:lnTo>
                  <a:lnTo>
                    <a:pt x="6930" y="40693"/>
                  </a:lnTo>
                  <a:lnTo>
                    <a:pt x="10548" y="39828"/>
                  </a:lnTo>
                  <a:lnTo>
                    <a:pt x="14652" y="39252"/>
                  </a:lnTo>
                  <a:lnTo>
                    <a:pt x="19081" y="38021"/>
                  </a:lnTo>
                  <a:lnTo>
                    <a:pt x="23727" y="36354"/>
                  </a:lnTo>
                  <a:lnTo>
                    <a:pt x="28519" y="34396"/>
                  </a:lnTo>
                  <a:lnTo>
                    <a:pt x="33405" y="32244"/>
                  </a:lnTo>
                  <a:lnTo>
                    <a:pt x="43352" y="27595"/>
                  </a:lnTo>
                  <a:lnTo>
                    <a:pt x="49221" y="25170"/>
                  </a:lnTo>
                  <a:lnTo>
                    <a:pt x="55674" y="22706"/>
                  </a:lnTo>
                  <a:lnTo>
                    <a:pt x="62517" y="20218"/>
                  </a:lnTo>
                  <a:lnTo>
                    <a:pt x="70464" y="17712"/>
                  </a:lnTo>
                  <a:lnTo>
                    <a:pt x="88326" y="12669"/>
                  </a:lnTo>
                  <a:lnTo>
                    <a:pt x="98678" y="10987"/>
                  </a:lnTo>
                  <a:lnTo>
                    <a:pt x="109812" y="9865"/>
                  </a:lnTo>
                  <a:lnTo>
                    <a:pt x="121468" y="9116"/>
                  </a:lnTo>
                  <a:lnTo>
                    <a:pt x="130086" y="7771"/>
                  </a:lnTo>
                  <a:lnTo>
                    <a:pt x="136677" y="6028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SMARTInkAnnotation139"/>
            <p:cNvSpPr/>
            <p:nvPr/>
          </p:nvSpPr>
          <p:spPr>
            <a:xfrm>
              <a:off x="7254000" y="3742560"/>
              <a:ext cx="220320" cy="33372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220397" h="333842">
                  <a:moveTo>
                    <a:pt x="0" y="51901"/>
                  </a:moveTo>
                  <a:lnTo>
                    <a:pt x="0" y="45340"/>
                  </a:lnTo>
                  <a:lnTo>
                    <a:pt x="4516" y="42494"/>
                  </a:lnTo>
                  <a:lnTo>
                    <a:pt x="11320" y="38407"/>
                  </a:lnTo>
                  <a:lnTo>
                    <a:pt x="17167" y="33768"/>
                  </a:lnTo>
                  <a:lnTo>
                    <a:pt x="20758" y="30499"/>
                  </a:lnTo>
                  <a:lnTo>
                    <a:pt x="29263" y="22351"/>
                  </a:lnTo>
                  <a:lnTo>
                    <a:pt x="34749" y="19501"/>
                  </a:lnTo>
                  <a:lnTo>
                    <a:pt x="40946" y="17601"/>
                  </a:lnTo>
                  <a:lnTo>
                    <a:pt x="47618" y="16334"/>
                  </a:lnTo>
                  <a:lnTo>
                    <a:pt x="54606" y="14643"/>
                  </a:lnTo>
                  <a:lnTo>
                    <a:pt x="61804" y="12669"/>
                  </a:lnTo>
                  <a:lnTo>
                    <a:pt x="69142" y="10506"/>
                  </a:lnTo>
                  <a:lnTo>
                    <a:pt x="86328" y="5846"/>
                  </a:lnTo>
                  <a:lnTo>
                    <a:pt x="95652" y="3417"/>
                  </a:lnTo>
                  <a:lnTo>
                    <a:pt x="104408" y="1799"/>
                  </a:lnTo>
                  <a:lnTo>
                    <a:pt x="112786" y="719"/>
                  </a:lnTo>
                  <a:lnTo>
                    <a:pt x="120910" y="0"/>
                  </a:lnTo>
                  <a:lnTo>
                    <a:pt x="129713" y="367"/>
                  </a:lnTo>
                  <a:lnTo>
                    <a:pt x="138969" y="1459"/>
                  </a:lnTo>
                  <a:lnTo>
                    <a:pt x="148526" y="3033"/>
                  </a:lnTo>
                  <a:lnTo>
                    <a:pt x="156591" y="4082"/>
                  </a:lnTo>
                  <a:lnTo>
                    <a:pt x="163661" y="4782"/>
                  </a:lnTo>
                  <a:lnTo>
                    <a:pt x="170067" y="5248"/>
                  </a:lnTo>
                  <a:lnTo>
                    <a:pt x="176031" y="6406"/>
                  </a:lnTo>
                  <a:lnTo>
                    <a:pt x="181701" y="8024"/>
                  </a:lnTo>
                  <a:lnTo>
                    <a:pt x="187175" y="9950"/>
                  </a:lnTo>
                  <a:lnTo>
                    <a:pt x="192516" y="12080"/>
                  </a:lnTo>
                  <a:lnTo>
                    <a:pt x="197770" y="14347"/>
                  </a:lnTo>
                  <a:lnTo>
                    <a:pt x="202968" y="16705"/>
                  </a:lnTo>
                  <a:lnTo>
                    <a:pt x="207278" y="19124"/>
                  </a:lnTo>
                  <a:lnTo>
                    <a:pt x="210999" y="21583"/>
                  </a:lnTo>
                  <a:lnTo>
                    <a:pt x="214327" y="24069"/>
                  </a:lnTo>
                  <a:lnTo>
                    <a:pt x="216545" y="27420"/>
                  </a:lnTo>
                  <a:lnTo>
                    <a:pt x="219008" y="35658"/>
                  </a:lnTo>
                  <a:lnTo>
                    <a:pt x="220396" y="45771"/>
                  </a:lnTo>
                  <a:lnTo>
                    <a:pt x="218898" y="49508"/>
                  </a:lnTo>
                  <a:lnTo>
                    <a:pt x="212717" y="58175"/>
                  </a:lnTo>
                  <a:lnTo>
                    <a:pt x="208699" y="63704"/>
                  </a:lnTo>
                  <a:lnTo>
                    <a:pt x="199718" y="76620"/>
                  </a:lnTo>
                  <a:lnTo>
                    <a:pt x="194105" y="83620"/>
                  </a:lnTo>
                  <a:lnTo>
                    <a:pt x="187824" y="90828"/>
                  </a:lnTo>
                  <a:lnTo>
                    <a:pt x="181096" y="98172"/>
                  </a:lnTo>
                  <a:lnTo>
                    <a:pt x="166848" y="113106"/>
                  </a:lnTo>
                  <a:lnTo>
                    <a:pt x="159493" y="120644"/>
                  </a:lnTo>
                  <a:lnTo>
                    <a:pt x="151201" y="128210"/>
                  </a:lnTo>
                  <a:lnTo>
                    <a:pt x="142288" y="135793"/>
                  </a:lnTo>
                  <a:lnTo>
                    <a:pt x="123353" y="150993"/>
                  </a:lnTo>
                  <a:lnTo>
                    <a:pt x="103648" y="166216"/>
                  </a:lnTo>
                  <a:lnTo>
                    <a:pt x="94499" y="173831"/>
                  </a:lnTo>
                  <a:lnTo>
                    <a:pt x="85860" y="181447"/>
                  </a:lnTo>
                  <a:lnTo>
                    <a:pt x="77559" y="189065"/>
                  </a:lnTo>
                  <a:lnTo>
                    <a:pt x="69487" y="195837"/>
                  </a:lnTo>
                  <a:lnTo>
                    <a:pt x="61565" y="202045"/>
                  </a:lnTo>
                  <a:lnTo>
                    <a:pt x="53743" y="207877"/>
                  </a:lnTo>
                  <a:lnTo>
                    <a:pt x="47682" y="214305"/>
                  </a:lnTo>
                  <a:lnTo>
                    <a:pt x="42795" y="221130"/>
                  </a:lnTo>
                  <a:lnTo>
                    <a:pt x="38691" y="228221"/>
                  </a:lnTo>
                  <a:lnTo>
                    <a:pt x="34261" y="234640"/>
                  </a:lnTo>
                  <a:lnTo>
                    <a:pt x="29613" y="240614"/>
                  </a:lnTo>
                  <a:lnTo>
                    <a:pt x="24823" y="246290"/>
                  </a:lnTo>
                  <a:lnTo>
                    <a:pt x="20783" y="251767"/>
                  </a:lnTo>
                  <a:lnTo>
                    <a:pt x="17241" y="257111"/>
                  </a:lnTo>
                  <a:lnTo>
                    <a:pt x="14034" y="262368"/>
                  </a:lnTo>
                  <a:lnTo>
                    <a:pt x="10472" y="272724"/>
                  </a:lnTo>
                  <a:lnTo>
                    <a:pt x="9521" y="277856"/>
                  </a:lnTo>
                  <a:lnTo>
                    <a:pt x="9734" y="282125"/>
                  </a:lnTo>
                  <a:lnTo>
                    <a:pt x="10723" y="285816"/>
                  </a:lnTo>
                  <a:lnTo>
                    <a:pt x="14079" y="292177"/>
                  </a:lnTo>
                  <a:lnTo>
                    <a:pt x="20729" y="300517"/>
                  </a:lnTo>
                  <a:lnTo>
                    <a:pt x="25582" y="305766"/>
                  </a:lnTo>
                  <a:lnTo>
                    <a:pt x="29755" y="308351"/>
                  </a:lnTo>
                  <a:lnTo>
                    <a:pt x="35077" y="310921"/>
                  </a:lnTo>
                  <a:lnTo>
                    <a:pt x="41165" y="313481"/>
                  </a:lnTo>
                  <a:lnTo>
                    <a:pt x="47763" y="316034"/>
                  </a:lnTo>
                  <a:lnTo>
                    <a:pt x="61868" y="321129"/>
                  </a:lnTo>
                  <a:lnTo>
                    <a:pt x="70033" y="322827"/>
                  </a:lnTo>
                  <a:lnTo>
                    <a:pt x="78861" y="323958"/>
                  </a:lnTo>
                  <a:lnTo>
                    <a:pt x="88134" y="324712"/>
                  </a:lnTo>
                  <a:lnTo>
                    <a:pt x="98550" y="326062"/>
                  </a:lnTo>
                  <a:lnTo>
                    <a:pt x="109727" y="327808"/>
                  </a:lnTo>
                  <a:lnTo>
                    <a:pt x="121411" y="329819"/>
                  </a:lnTo>
                  <a:lnTo>
                    <a:pt x="133434" y="331160"/>
                  </a:lnTo>
                  <a:lnTo>
                    <a:pt x="145684" y="332053"/>
                  </a:lnTo>
                  <a:lnTo>
                    <a:pt x="168041" y="333047"/>
                  </a:lnTo>
                  <a:lnTo>
                    <a:pt x="198121" y="3338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SMARTInkAnnotation140"/>
            <p:cNvSpPr/>
            <p:nvPr/>
          </p:nvSpPr>
          <p:spPr>
            <a:xfrm>
              <a:off x="5905080" y="4411800"/>
              <a:ext cx="167400" cy="118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7642" h="11993">
                  <a:moveTo>
                    <a:pt x="0" y="0"/>
                  </a:moveTo>
                  <a:lnTo>
                    <a:pt x="4045" y="0"/>
                  </a:lnTo>
                  <a:lnTo>
                    <a:pt x="5237" y="846"/>
                  </a:lnTo>
                  <a:lnTo>
                    <a:pt x="6032" y="2258"/>
                  </a:lnTo>
                  <a:lnTo>
                    <a:pt x="6561" y="4045"/>
                  </a:lnTo>
                  <a:lnTo>
                    <a:pt x="7760" y="5237"/>
                  </a:lnTo>
                  <a:lnTo>
                    <a:pt x="9408" y="6031"/>
                  </a:lnTo>
                  <a:lnTo>
                    <a:pt x="11352" y="6561"/>
                  </a:lnTo>
                  <a:lnTo>
                    <a:pt x="15188" y="6914"/>
                  </a:lnTo>
                  <a:lnTo>
                    <a:pt x="20285" y="7149"/>
                  </a:lnTo>
                  <a:lnTo>
                    <a:pt x="32722" y="7411"/>
                  </a:lnTo>
                  <a:lnTo>
                    <a:pt x="46717" y="7527"/>
                  </a:lnTo>
                  <a:lnTo>
                    <a:pt x="54851" y="8405"/>
                  </a:lnTo>
                  <a:lnTo>
                    <a:pt x="63661" y="9836"/>
                  </a:lnTo>
                  <a:lnTo>
                    <a:pt x="72921" y="11638"/>
                  </a:lnTo>
                  <a:lnTo>
                    <a:pt x="83327" y="11992"/>
                  </a:lnTo>
                  <a:lnTo>
                    <a:pt x="94498" y="11381"/>
                  </a:lnTo>
                  <a:lnTo>
                    <a:pt x="106179" y="10127"/>
                  </a:lnTo>
                  <a:lnTo>
                    <a:pt x="115660" y="9292"/>
                  </a:lnTo>
                  <a:lnTo>
                    <a:pt x="123673" y="8734"/>
                  </a:lnTo>
                  <a:lnTo>
                    <a:pt x="130709" y="8363"/>
                  </a:lnTo>
                  <a:lnTo>
                    <a:pt x="145300" y="7950"/>
                  </a:lnTo>
                  <a:lnTo>
                    <a:pt x="167641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SMARTInkAnnotation141"/>
            <p:cNvSpPr/>
            <p:nvPr/>
          </p:nvSpPr>
          <p:spPr>
            <a:xfrm>
              <a:off x="6316560" y="4198680"/>
              <a:ext cx="221760" cy="23580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22052" h="236098">
                  <a:moveTo>
                    <a:pt x="0" y="37977"/>
                  </a:moveTo>
                  <a:lnTo>
                    <a:pt x="0" y="24110"/>
                  </a:lnTo>
                  <a:lnTo>
                    <a:pt x="4516" y="21090"/>
                  </a:lnTo>
                  <a:lnTo>
                    <a:pt x="11320" y="17771"/>
                  </a:lnTo>
                  <a:lnTo>
                    <a:pt x="17166" y="16297"/>
                  </a:lnTo>
                  <a:lnTo>
                    <a:pt x="21604" y="15057"/>
                  </a:lnTo>
                  <a:lnTo>
                    <a:pt x="33309" y="11421"/>
                  </a:lnTo>
                  <a:lnTo>
                    <a:pt x="54179" y="4615"/>
                  </a:lnTo>
                  <a:lnTo>
                    <a:pt x="61519" y="3035"/>
                  </a:lnTo>
                  <a:lnTo>
                    <a:pt x="68953" y="1982"/>
                  </a:lnTo>
                  <a:lnTo>
                    <a:pt x="76449" y="1280"/>
                  </a:lnTo>
                  <a:lnTo>
                    <a:pt x="83985" y="813"/>
                  </a:lnTo>
                  <a:lnTo>
                    <a:pt x="99134" y="293"/>
                  </a:lnTo>
                  <a:lnTo>
                    <a:pt x="121942" y="0"/>
                  </a:lnTo>
                  <a:lnTo>
                    <a:pt x="129555" y="806"/>
                  </a:lnTo>
                  <a:lnTo>
                    <a:pt x="137170" y="2189"/>
                  </a:lnTo>
                  <a:lnTo>
                    <a:pt x="144786" y="3959"/>
                  </a:lnTo>
                  <a:lnTo>
                    <a:pt x="151558" y="5138"/>
                  </a:lnTo>
                  <a:lnTo>
                    <a:pt x="157765" y="5924"/>
                  </a:lnTo>
                  <a:lnTo>
                    <a:pt x="163597" y="6449"/>
                  </a:lnTo>
                  <a:lnTo>
                    <a:pt x="167485" y="7645"/>
                  </a:lnTo>
                  <a:lnTo>
                    <a:pt x="170077" y="9289"/>
                  </a:lnTo>
                  <a:lnTo>
                    <a:pt x="174237" y="13966"/>
                  </a:lnTo>
                  <a:lnTo>
                    <a:pt x="173731" y="15196"/>
                  </a:lnTo>
                  <a:lnTo>
                    <a:pt x="170912" y="18821"/>
                  </a:lnTo>
                  <a:lnTo>
                    <a:pt x="166434" y="20973"/>
                  </a:lnTo>
                  <a:lnTo>
                    <a:pt x="160063" y="23255"/>
                  </a:lnTo>
                  <a:lnTo>
                    <a:pt x="152429" y="25622"/>
                  </a:lnTo>
                  <a:lnTo>
                    <a:pt x="144799" y="28894"/>
                  </a:lnTo>
                  <a:lnTo>
                    <a:pt x="137173" y="32768"/>
                  </a:lnTo>
                  <a:lnTo>
                    <a:pt x="129548" y="37045"/>
                  </a:lnTo>
                  <a:lnTo>
                    <a:pt x="121079" y="40742"/>
                  </a:lnTo>
                  <a:lnTo>
                    <a:pt x="112047" y="44054"/>
                  </a:lnTo>
                  <a:lnTo>
                    <a:pt x="102638" y="47108"/>
                  </a:lnTo>
                  <a:lnTo>
                    <a:pt x="92978" y="49991"/>
                  </a:lnTo>
                  <a:lnTo>
                    <a:pt x="73215" y="55452"/>
                  </a:lnTo>
                  <a:lnTo>
                    <a:pt x="64050" y="57247"/>
                  </a:lnTo>
                  <a:lnTo>
                    <a:pt x="55399" y="58444"/>
                  </a:lnTo>
                  <a:lnTo>
                    <a:pt x="47093" y="59241"/>
                  </a:lnTo>
                  <a:lnTo>
                    <a:pt x="39862" y="60620"/>
                  </a:lnTo>
                  <a:lnTo>
                    <a:pt x="33348" y="62386"/>
                  </a:lnTo>
                  <a:lnTo>
                    <a:pt x="27313" y="64409"/>
                  </a:lnTo>
                  <a:lnTo>
                    <a:pt x="23288" y="66606"/>
                  </a:lnTo>
                  <a:lnTo>
                    <a:pt x="20606" y="68916"/>
                  </a:lnTo>
                  <a:lnTo>
                    <a:pt x="18817" y="71303"/>
                  </a:lnTo>
                  <a:lnTo>
                    <a:pt x="18471" y="74588"/>
                  </a:lnTo>
                  <a:lnTo>
                    <a:pt x="19087" y="78471"/>
                  </a:lnTo>
                  <a:lnTo>
                    <a:pt x="20345" y="82753"/>
                  </a:lnTo>
                  <a:lnTo>
                    <a:pt x="22877" y="86454"/>
                  </a:lnTo>
                  <a:lnTo>
                    <a:pt x="26258" y="89768"/>
                  </a:lnTo>
                  <a:lnTo>
                    <a:pt x="30205" y="92825"/>
                  </a:lnTo>
                  <a:lnTo>
                    <a:pt x="37070" y="95709"/>
                  </a:lnTo>
                  <a:lnTo>
                    <a:pt x="45880" y="98478"/>
                  </a:lnTo>
                  <a:lnTo>
                    <a:pt x="55987" y="101171"/>
                  </a:lnTo>
                  <a:lnTo>
                    <a:pt x="66111" y="104660"/>
                  </a:lnTo>
                  <a:lnTo>
                    <a:pt x="76247" y="108679"/>
                  </a:lnTo>
                  <a:lnTo>
                    <a:pt x="97387" y="117660"/>
                  </a:lnTo>
                  <a:lnTo>
                    <a:pt x="157929" y="142241"/>
                  </a:lnTo>
                  <a:lnTo>
                    <a:pt x="168787" y="147280"/>
                  </a:lnTo>
                  <a:lnTo>
                    <a:pt x="178565" y="152333"/>
                  </a:lnTo>
                  <a:lnTo>
                    <a:pt x="187622" y="157394"/>
                  </a:lnTo>
                  <a:lnTo>
                    <a:pt x="195356" y="162461"/>
                  </a:lnTo>
                  <a:lnTo>
                    <a:pt x="202203" y="167534"/>
                  </a:lnTo>
                  <a:lnTo>
                    <a:pt x="208463" y="172608"/>
                  </a:lnTo>
                  <a:lnTo>
                    <a:pt x="213482" y="176838"/>
                  </a:lnTo>
                  <a:lnTo>
                    <a:pt x="217675" y="180504"/>
                  </a:lnTo>
                  <a:lnTo>
                    <a:pt x="221317" y="183795"/>
                  </a:lnTo>
                  <a:lnTo>
                    <a:pt x="222051" y="186836"/>
                  </a:lnTo>
                  <a:lnTo>
                    <a:pt x="220847" y="189709"/>
                  </a:lnTo>
                  <a:lnTo>
                    <a:pt x="218351" y="192472"/>
                  </a:lnTo>
                  <a:lnTo>
                    <a:pt x="214995" y="194314"/>
                  </a:lnTo>
                  <a:lnTo>
                    <a:pt x="211063" y="195541"/>
                  </a:lnTo>
                  <a:lnTo>
                    <a:pt x="206749" y="196360"/>
                  </a:lnTo>
                  <a:lnTo>
                    <a:pt x="192924" y="199527"/>
                  </a:lnTo>
                  <a:lnTo>
                    <a:pt x="96429" y="223424"/>
                  </a:lnTo>
                  <a:lnTo>
                    <a:pt x="87993" y="225108"/>
                  </a:lnTo>
                  <a:lnTo>
                    <a:pt x="80676" y="226231"/>
                  </a:lnTo>
                  <a:lnTo>
                    <a:pt x="74104" y="226979"/>
                  </a:lnTo>
                  <a:lnTo>
                    <a:pt x="68030" y="228326"/>
                  </a:lnTo>
                  <a:lnTo>
                    <a:pt x="62287" y="230070"/>
                  </a:lnTo>
                  <a:lnTo>
                    <a:pt x="56764" y="232079"/>
                  </a:lnTo>
                  <a:lnTo>
                    <a:pt x="52236" y="233418"/>
                  </a:lnTo>
                  <a:lnTo>
                    <a:pt x="48371" y="234311"/>
                  </a:lnTo>
                  <a:lnTo>
                    <a:pt x="38100" y="23609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SMARTInkAnnotation142"/>
            <p:cNvSpPr/>
            <p:nvPr/>
          </p:nvSpPr>
          <p:spPr>
            <a:xfrm>
              <a:off x="7078680" y="426708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15240"/>
                  </a:moveTo>
                  <a:lnTo>
                    <a:pt x="55887" y="15240"/>
                  </a:lnTo>
                  <a:lnTo>
                    <a:pt x="59271" y="14394"/>
                  </a:lnTo>
                  <a:lnTo>
                    <a:pt x="63220" y="12983"/>
                  </a:lnTo>
                  <a:lnTo>
                    <a:pt x="67547" y="11195"/>
                  </a:lnTo>
                  <a:lnTo>
                    <a:pt x="72125" y="10003"/>
                  </a:lnTo>
                  <a:lnTo>
                    <a:pt x="76870" y="9209"/>
                  </a:lnTo>
                  <a:lnTo>
                    <a:pt x="81726" y="8679"/>
                  </a:lnTo>
                  <a:lnTo>
                    <a:pt x="87504" y="8326"/>
                  </a:lnTo>
                  <a:lnTo>
                    <a:pt x="100698" y="7934"/>
                  </a:lnTo>
                  <a:lnTo>
                    <a:pt x="108618" y="6983"/>
                  </a:lnTo>
                  <a:lnTo>
                    <a:pt x="117286" y="5502"/>
                  </a:lnTo>
                  <a:lnTo>
                    <a:pt x="126451" y="3668"/>
                  </a:lnTo>
                  <a:lnTo>
                    <a:pt x="135101" y="2445"/>
                  </a:lnTo>
                  <a:lnTo>
                    <a:pt x="143407" y="1630"/>
                  </a:lnTo>
                  <a:lnTo>
                    <a:pt x="151485" y="1087"/>
                  </a:lnTo>
                  <a:lnTo>
                    <a:pt x="159410" y="725"/>
                  </a:lnTo>
                  <a:lnTo>
                    <a:pt x="181006" y="214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SMARTInkAnnotation143"/>
            <p:cNvSpPr/>
            <p:nvPr/>
          </p:nvSpPr>
          <p:spPr>
            <a:xfrm>
              <a:off x="7398720" y="4160160"/>
              <a:ext cx="173160" cy="27432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173272" h="274310">
                  <a:moveTo>
                    <a:pt x="0" y="22849"/>
                  </a:moveTo>
                  <a:lnTo>
                    <a:pt x="4045" y="22849"/>
                  </a:lnTo>
                  <a:lnTo>
                    <a:pt x="5237" y="22003"/>
                  </a:lnTo>
                  <a:lnTo>
                    <a:pt x="6031" y="20592"/>
                  </a:lnTo>
                  <a:lnTo>
                    <a:pt x="6561" y="18805"/>
                  </a:lnTo>
                  <a:lnTo>
                    <a:pt x="7760" y="17612"/>
                  </a:lnTo>
                  <a:lnTo>
                    <a:pt x="9406" y="16818"/>
                  </a:lnTo>
                  <a:lnTo>
                    <a:pt x="11350" y="16288"/>
                  </a:lnTo>
                  <a:lnTo>
                    <a:pt x="15768" y="13442"/>
                  </a:lnTo>
                  <a:lnTo>
                    <a:pt x="18133" y="11498"/>
                  </a:lnTo>
                  <a:lnTo>
                    <a:pt x="21401" y="9355"/>
                  </a:lnTo>
                  <a:lnTo>
                    <a:pt x="25275" y="7080"/>
                  </a:lnTo>
                  <a:lnTo>
                    <a:pt x="29549" y="4716"/>
                  </a:lnTo>
                  <a:lnTo>
                    <a:pt x="34093" y="3140"/>
                  </a:lnTo>
                  <a:lnTo>
                    <a:pt x="38815" y="2090"/>
                  </a:lnTo>
                  <a:lnTo>
                    <a:pt x="43657" y="1390"/>
                  </a:lnTo>
                  <a:lnTo>
                    <a:pt x="48577" y="923"/>
                  </a:lnTo>
                  <a:lnTo>
                    <a:pt x="53552" y="612"/>
                  </a:lnTo>
                  <a:lnTo>
                    <a:pt x="58561" y="404"/>
                  </a:lnTo>
                  <a:lnTo>
                    <a:pt x="70900" y="173"/>
                  </a:lnTo>
                  <a:lnTo>
                    <a:pt x="122055" y="0"/>
                  </a:lnTo>
                  <a:lnTo>
                    <a:pt x="128784" y="843"/>
                  </a:lnTo>
                  <a:lnTo>
                    <a:pt x="134963" y="2252"/>
                  </a:lnTo>
                  <a:lnTo>
                    <a:pt x="140775" y="4038"/>
                  </a:lnTo>
                  <a:lnTo>
                    <a:pt x="146343" y="6075"/>
                  </a:lnTo>
                  <a:lnTo>
                    <a:pt x="151749" y="8280"/>
                  </a:lnTo>
                  <a:lnTo>
                    <a:pt x="157046" y="10597"/>
                  </a:lnTo>
                  <a:lnTo>
                    <a:pt x="161425" y="12141"/>
                  </a:lnTo>
                  <a:lnTo>
                    <a:pt x="165189" y="13170"/>
                  </a:lnTo>
                  <a:lnTo>
                    <a:pt x="168545" y="13856"/>
                  </a:lnTo>
                  <a:lnTo>
                    <a:pt x="170784" y="15161"/>
                  </a:lnTo>
                  <a:lnTo>
                    <a:pt x="172275" y="16877"/>
                  </a:lnTo>
                  <a:lnTo>
                    <a:pt x="173271" y="18867"/>
                  </a:lnTo>
                  <a:lnTo>
                    <a:pt x="173087" y="21042"/>
                  </a:lnTo>
                  <a:lnTo>
                    <a:pt x="172117" y="23338"/>
                  </a:lnTo>
                  <a:lnTo>
                    <a:pt x="170624" y="25715"/>
                  </a:lnTo>
                  <a:lnTo>
                    <a:pt x="167936" y="28146"/>
                  </a:lnTo>
                  <a:lnTo>
                    <a:pt x="164452" y="30614"/>
                  </a:lnTo>
                  <a:lnTo>
                    <a:pt x="160434" y="33106"/>
                  </a:lnTo>
                  <a:lnTo>
                    <a:pt x="155216" y="35614"/>
                  </a:lnTo>
                  <a:lnTo>
                    <a:pt x="149198" y="38132"/>
                  </a:lnTo>
                  <a:lnTo>
                    <a:pt x="142644" y="40658"/>
                  </a:lnTo>
                  <a:lnTo>
                    <a:pt x="134891" y="43188"/>
                  </a:lnTo>
                  <a:lnTo>
                    <a:pt x="126334" y="45722"/>
                  </a:lnTo>
                  <a:lnTo>
                    <a:pt x="107795" y="50795"/>
                  </a:lnTo>
                  <a:lnTo>
                    <a:pt x="88266" y="55872"/>
                  </a:lnTo>
                  <a:lnTo>
                    <a:pt x="79165" y="58411"/>
                  </a:lnTo>
                  <a:lnTo>
                    <a:pt x="62277" y="63490"/>
                  </a:lnTo>
                  <a:lnTo>
                    <a:pt x="55064" y="66030"/>
                  </a:lnTo>
                  <a:lnTo>
                    <a:pt x="48563" y="68570"/>
                  </a:lnTo>
                  <a:lnTo>
                    <a:pt x="42536" y="71110"/>
                  </a:lnTo>
                  <a:lnTo>
                    <a:pt x="37669" y="73649"/>
                  </a:lnTo>
                  <a:lnTo>
                    <a:pt x="33580" y="76189"/>
                  </a:lnTo>
                  <a:lnTo>
                    <a:pt x="30007" y="78729"/>
                  </a:lnTo>
                  <a:lnTo>
                    <a:pt x="27624" y="82116"/>
                  </a:lnTo>
                  <a:lnTo>
                    <a:pt x="24977" y="90394"/>
                  </a:lnTo>
                  <a:lnTo>
                    <a:pt x="25965" y="94126"/>
                  </a:lnTo>
                  <a:lnTo>
                    <a:pt x="28317" y="97460"/>
                  </a:lnTo>
                  <a:lnTo>
                    <a:pt x="31577" y="100530"/>
                  </a:lnTo>
                  <a:lnTo>
                    <a:pt x="35445" y="105116"/>
                  </a:lnTo>
                  <a:lnTo>
                    <a:pt x="39717" y="110714"/>
                  </a:lnTo>
                  <a:lnTo>
                    <a:pt x="44257" y="116986"/>
                  </a:lnTo>
                  <a:lnTo>
                    <a:pt x="51518" y="123707"/>
                  </a:lnTo>
                  <a:lnTo>
                    <a:pt x="60592" y="130728"/>
                  </a:lnTo>
                  <a:lnTo>
                    <a:pt x="89073" y="150486"/>
                  </a:lnTo>
                  <a:lnTo>
                    <a:pt x="97482" y="156201"/>
                  </a:lnTo>
                  <a:lnTo>
                    <a:pt x="106475" y="161703"/>
                  </a:lnTo>
                  <a:lnTo>
                    <a:pt x="115857" y="167065"/>
                  </a:lnTo>
                  <a:lnTo>
                    <a:pt x="125498" y="172333"/>
                  </a:lnTo>
                  <a:lnTo>
                    <a:pt x="133619" y="177538"/>
                  </a:lnTo>
                  <a:lnTo>
                    <a:pt x="140726" y="182702"/>
                  </a:lnTo>
                  <a:lnTo>
                    <a:pt x="147157" y="187838"/>
                  </a:lnTo>
                  <a:lnTo>
                    <a:pt x="153138" y="192108"/>
                  </a:lnTo>
                  <a:lnTo>
                    <a:pt x="158818" y="195802"/>
                  </a:lnTo>
                  <a:lnTo>
                    <a:pt x="164299" y="199111"/>
                  </a:lnTo>
                  <a:lnTo>
                    <a:pt x="167952" y="203010"/>
                  </a:lnTo>
                  <a:lnTo>
                    <a:pt x="170389" y="207304"/>
                  </a:lnTo>
                  <a:lnTo>
                    <a:pt x="172012" y="211858"/>
                  </a:lnTo>
                  <a:lnTo>
                    <a:pt x="172247" y="214895"/>
                  </a:lnTo>
                  <a:lnTo>
                    <a:pt x="171559" y="216920"/>
                  </a:lnTo>
                  <a:lnTo>
                    <a:pt x="170252" y="218270"/>
                  </a:lnTo>
                  <a:lnTo>
                    <a:pt x="167689" y="220016"/>
                  </a:lnTo>
                  <a:lnTo>
                    <a:pt x="164285" y="222027"/>
                  </a:lnTo>
                  <a:lnTo>
                    <a:pt x="160324" y="224215"/>
                  </a:lnTo>
                  <a:lnTo>
                    <a:pt x="151407" y="228903"/>
                  </a:lnTo>
                  <a:lnTo>
                    <a:pt x="146657" y="231338"/>
                  </a:lnTo>
                  <a:lnTo>
                    <a:pt x="140952" y="233808"/>
                  </a:lnTo>
                  <a:lnTo>
                    <a:pt x="134608" y="236302"/>
                  </a:lnTo>
                  <a:lnTo>
                    <a:pt x="127838" y="238811"/>
                  </a:lnTo>
                  <a:lnTo>
                    <a:pt x="119939" y="241331"/>
                  </a:lnTo>
                  <a:lnTo>
                    <a:pt x="111286" y="243857"/>
                  </a:lnTo>
                  <a:lnTo>
                    <a:pt x="102131" y="246388"/>
                  </a:lnTo>
                  <a:lnTo>
                    <a:pt x="85185" y="251457"/>
                  </a:lnTo>
                  <a:lnTo>
                    <a:pt x="77109" y="253995"/>
                  </a:lnTo>
                  <a:lnTo>
                    <a:pt x="69186" y="255686"/>
                  </a:lnTo>
                  <a:lnTo>
                    <a:pt x="61364" y="256814"/>
                  </a:lnTo>
                  <a:lnTo>
                    <a:pt x="53610" y="257566"/>
                  </a:lnTo>
                  <a:lnTo>
                    <a:pt x="46746" y="258913"/>
                  </a:lnTo>
                  <a:lnTo>
                    <a:pt x="40477" y="260659"/>
                  </a:lnTo>
                  <a:lnTo>
                    <a:pt x="34605" y="262669"/>
                  </a:lnTo>
                  <a:lnTo>
                    <a:pt x="29844" y="264856"/>
                  </a:lnTo>
                  <a:lnTo>
                    <a:pt x="25822" y="267160"/>
                  </a:lnTo>
                  <a:lnTo>
                    <a:pt x="22295" y="269543"/>
                  </a:lnTo>
                  <a:lnTo>
                    <a:pt x="19096" y="271131"/>
                  </a:lnTo>
                  <a:lnTo>
                    <a:pt x="16117" y="272191"/>
                  </a:lnTo>
                  <a:lnTo>
                    <a:pt x="7620" y="27430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SMARTInkAnnotation144"/>
            <p:cNvSpPr/>
            <p:nvPr/>
          </p:nvSpPr>
          <p:spPr>
            <a:xfrm>
              <a:off x="5097240" y="4793040"/>
              <a:ext cx="403920" cy="23616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404087" h="236206">
                  <a:moveTo>
                    <a:pt x="0" y="30477"/>
                  </a:moveTo>
                  <a:lnTo>
                    <a:pt x="0" y="26432"/>
                  </a:lnTo>
                  <a:lnTo>
                    <a:pt x="1694" y="25240"/>
                  </a:lnTo>
                  <a:lnTo>
                    <a:pt x="8091" y="23916"/>
                  </a:lnTo>
                  <a:lnTo>
                    <a:pt x="17167" y="23171"/>
                  </a:lnTo>
                  <a:lnTo>
                    <a:pt x="29263" y="18905"/>
                  </a:lnTo>
                  <a:lnTo>
                    <a:pt x="36442" y="17682"/>
                  </a:lnTo>
                  <a:lnTo>
                    <a:pt x="45462" y="16867"/>
                  </a:lnTo>
                  <a:lnTo>
                    <a:pt x="55708" y="16324"/>
                  </a:lnTo>
                  <a:lnTo>
                    <a:pt x="65926" y="15115"/>
                  </a:lnTo>
                  <a:lnTo>
                    <a:pt x="76124" y="13462"/>
                  </a:lnTo>
                  <a:lnTo>
                    <a:pt x="120870" y="4726"/>
                  </a:lnTo>
                  <a:lnTo>
                    <a:pt x="133920" y="3150"/>
                  </a:lnTo>
                  <a:lnTo>
                    <a:pt x="147700" y="2099"/>
                  </a:lnTo>
                  <a:lnTo>
                    <a:pt x="161966" y="1398"/>
                  </a:lnTo>
                  <a:lnTo>
                    <a:pt x="191365" y="620"/>
                  </a:lnTo>
                  <a:lnTo>
                    <a:pt x="344489" y="0"/>
                  </a:lnTo>
                  <a:lnTo>
                    <a:pt x="349886" y="846"/>
                  </a:lnTo>
                  <a:lnTo>
                    <a:pt x="362373" y="6029"/>
                  </a:lnTo>
                  <a:lnTo>
                    <a:pt x="363502" y="6558"/>
                  </a:lnTo>
                  <a:lnTo>
                    <a:pt x="362562" y="7758"/>
                  </a:lnTo>
                  <a:lnTo>
                    <a:pt x="357001" y="11349"/>
                  </a:lnTo>
                  <a:lnTo>
                    <a:pt x="346627" y="13509"/>
                  </a:lnTo>
                  <a:lnTo>
                    <a:pt x="340305" y="14085"/>
                  </a:lnTo>
                  <a:lnTo>
                    <a:pt x="331857" y="15316"/>
                  </a:lnTo>
                  <a:lnTo>
                    <a:pt x="311181" y="18941"/>
                  </a:lnTo>
                  <a:lnTo>
                    <a:pt x="300588" y="21093"/>
                  </a:lnTo>
                  <a:lnTo>
                    <a:pt x="279786" y="25742"/>
                  </a:lnTo>
                  <a:lnTo>
                    <a:pt x="269497" y="29013"/>
                  </a:lnTo>
                  <a:lnTo>
                    <a:pt x="259251" y="32888"/>
                  </a:lnTo>
                  <a:lnTo>
                    <a:pt x="249034" y="37164"/>
                  </a:lnTo>
                  <a:lnTo>
                    <a:pt x="239683" y="40862"/>
                  </a:lnTo>
                  <a:lnTo>
                    <a:pt x="222519" y="47228"/>
                  </a:lnTo>
                  <a:lnTo>
                    <a:pt x="215233" y="50111"/>
                  </a:lnTo>
                  <a:lnTo>
                    <a:pt x="202622" y="55572"/>
                  </a:lnTo>
                  <a:lnTo>
                    <a:pt x="198581" y="59060"/>
                  </a:lnTo>
                  <a:lnTo>
                    <a:pt x="195887" y="63080"/>
                  </a:lnTo>
                  <a:lnTo>
                    <a:pt x="194092" y="67452"/>
                  </a:lnTo>
                  <a:lnTo>
                    <a:pt x="193741" y="72061"/>
                  </a:lnTo>
                  <a:lnTo>
                    <a:pt x="194354" y="76826"/>
                  </a:lnTo>
                  <a:lnTo>
                    <a:pt x="195609" y="81696"/>
                  </a:lnTo>
                  <a:lnTo>
                    <a:pt x="199833" y="85790"/>
                  </a:lnTo>
                  <a:lnTo>
                    <a:pt x="206035" y="89365"/>
                  </a:lnTo>
                  <a:lnTo>
                    <a:pt x="213557" y="92596"/>
                  </a:lnTo>
                  <a:lnTo>
                    <a:pt x="222805" y="97290"/>
                  </a:lnTo>
                  <a:lnTo>
                    <a:pt x="233203" y="102959"/>
                  </a:lnTo>
                  <a:lnTo>
                    <a:pt x="244369" y="109278"/>
                  </a:lnTo>
                  <a:lnTo>
                    <a:pt x="265807" y="120815"/>
                  </a:lnTo>
                  <a:lnTo>
                    <a:pt x="276264" y="126262"/>
                  </a:lnTo>
                  <a:lnTo>
                    <a:pt x="288316" y="131587"/>
                  </a:lnTo>
                  <a:lnTo>
                    <a:pt x="301431" y="136830"/>
                  </a:lnTo>
                  <a:lnTo>
                    <a:pt x="315254" y="142020"/>
                  </a:lnTo>
                  <a:lnTo>
                    <a:pt x="328703" y="148019"/>
                  </a:lnTo>
                  <a:lnTo>
                    <a:pt x="341902" y="154558"/>
                  </a:lnTo>
                  <a:lnTo>
                    <a:pt x="354935" y="161458"/>
                  </a:lnTo>
                  <a:lnTo>
                    <a:pt x="365317" y="167751"/>
                  </a:lnTo>
                  <a:lnTo>
                    <a:pt x="373931" y="173639"/>
                  </a:lnTo>
                  <a:lnTo>
                    <a:pt x="381367" y="179259"/>
                  </a:lnTo>
                  <a:lnTo>
                    <a:pt x="388018" y="184698"/>
                  </a:lnTo>
                  <a:lnTo>
                    <a:pt x="394145" y="190018"/>
                  </a:lnTo>
                  <a:lnTo>
                    <a:pt x="399924" y="195258"/>
                  </a:lnTo>
                  <a:lnTo>
                    <a:pt x="402929" y="199598"/>
                  </a:lnTo>
                  <a:lnTo>
                    <a:pt x="404086" y="203338"/>
                  </a:lnTo>
                  <a:lnTo>
                    <a:pt x="404011" y="206677"/>
                  </a:lnTo>
                  <a:lnTo>
                    <a:pt x="402267" y="209750"/>
                  </a:lnTo>
                  <a:lnTo>
                    <a:pt x="395815" y="215423"/>
                  </a:lnTo>
                  <a:lnTo>
                    <a:pt x="390030" y="218121"/>
                  </a:lnTo>
                  <a:lnTo>
                    <a:pt x="382787" y="220767"/>
                  </a:lnTo>
                  <a:lnTo>
                    <a:pt x="374571" y="223376"/>
                  </a:lnTo>
                  <a:lnTo>
                    <a:pt x="364861" y="225963"/>
                  </a:lnTo>
                  <a:lnTo>
                    <a:pt x="354154" y="228535"/>
                  </a:lnTo>
                  <a:lnTo>
                    <a:pt x="342783" y="231096"/>
                  </a:lnTo>
                  <a:lnTo>
                    <a:pt x="330968" y="232803"/>
                  </a:lnTo>
                  <a:lnTo>
                    <a:pt x="318859" y="233941"/>
                  </a:lnTo>
                  <a:lnTo>
                    <a:pt x="306553" y="234700"/>
                  </a:lnTo>
                  <a:lnTo>
                    <a:pt x="281590" y="235543"/>
                  </a:lnTo>
                  <a:lnTo>
                    <a:pt x="224477" y="236129"/>
                  </a:lnTo>
                  <a:lnTo>
                    <a:pt x="176891" y="236205"/>
                  </a:lnTo>
                  <a:lnTo>
                    <a:pt x="169574" y="235363"/>
                  </a:lnTo>
                  <a:lnTo>
                    <a:pt x="163003" y="233954"/>
                  </a:lnTo>
                  <a:lnTo>
                    <a:pt x="156929" y="232168"/>
                  </a:lnTo>
                  <a:lnTo>
                    <a:pt x="152879" y="230131"/>
                  </a:lnTo>
                  <a:lnTo>
                    <a:pt x="150180" y="227927"/>
                  </a:lnTo>
                  <a:lnTo>
                    <a:pt x="145846" y="222350"/>
                  </a:lnTo>
                  <a:lnTo>
                    <a:pt x="145254" y="219330"/>
                  </a:lnTo>
                  <a:lnTo>
                    <a:pt x="144780" y="2133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SMARTInkAnnotation145"/>
            <p:cNvSpPr/>
            <p:nvPr/>
          </p:nvSpPr>
          <p:spPr>
            <a:xfrm>
              <a:off x="5562720" y="4808520"/>
              <a:ext cx="258480" cy="18972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258726" h="190032">
                  <a:moveTo>
                    <a:pt x="22505" y="14771"/>
                  </a:moveTo>
                  <a:lnTo>
                    <a:pt x="26550" y="14771"/>
                  </a:lnTo>
                  <a:lnTo>
                    <a:pt x="27742" y="15618"/>
                  </a:lnTo>
                  <a:lnTo>
                    <a:pt x="28536" y="17028"/>
                  </a:lnTo>
                  <a:lnTo>
                    <a:pt x="29066" y="18816"/>
                  </a:lnTo>
                  <a:lnTo>
                    <a:pt x="31912" y="23060"/>
                  </a:lnTo>
                  <a:lnTo>
                    <a:pt x="33856" y="25377"/>
                  </a:lnTo>
                  <a:lnTo>
                    <a:pt x="35153" y="27769"/>
                  </a:lnTo>
                  <a:lnTo>
                    <a:pt x="37824" y="36026"/>
                  </a:lnTo>
                  <a:lnTo>
                    <a:pt x="39491" y="39948"/>
                  </a:lnTo>
                  <a:lnTo>
                    <a:pt x="41449" y="44255"/>
                  </a:lnTo>
                  <a:lnTo>
                    <a:pt x="42755" y="48821"/>
                  </a:lnTo>
                  <a:lnTo>
                    <a:pt x="43624" y="53558"/>
                  </a:lnTo>
                  <a:lnTo>
                    <a:pt x="44205" y="58408"/>
                  </a:lnTo>
                  <a:lnTo>
                    <a:pt x="44592" y="63336"/>
                  </a:lnTo>
                  <a:lnTo>
                    <a:pt x="44850" y="68314"/>
                  </a:lnTo>
                  <a:lnTo>
                    <a:pt x="45021" y="73327"/>
                  </a:lnTo>
                  <a:lnTo>
                    <a:pt x="44290" y="79208"/>
                  </a:lnTo>
                  <a:lnTo>
                    <a:pt x="42955" y="85669"/>
                  </a:lnTo>
                  <a:lnTo>
                    <a:pt x="41218" y="92516"/>
                  </a:lnTo>
                  <a:lnTo>
                    <a:pt x="38367" y="99621"/>
                  </a:lnTo>
                  <a:lnTo>
                    <a:pt x="34773" y="106898"/>
                  </a:lnTo>
                  <a:lnTo>
                    <a:pt x="27111" y="120910"/>
                  </a:lnTo>
                  <a:lnTo>
                    <a:pt x="18037" y="138318"/>
                  </a:lnTo>
                  <a:lnTo>
                    <a:pt x="12617" y="148985"/>
                  </a:lnTo>
                  <a:lnTo>
                    <a:pt x="10833" y="153354"/>
                  </a:lnTo>
                  <a:lnTo>
                    <a:pt x="9644" y="157113"/>
                  </a:lnTo>
                  <a:lnTo>
                    <a:pt x="8851" y="160466"/>
                  </a:lnTo>
                  <a:lnTo>
                    <a:pt x="7476" y="164394"/>
                  </a:lnTo>
                  <a:lnTo>
                    <a:pt x="5712" y="168707"/>
                  </a:lnTo>
                  <a:lnTo>
                    <a:pt x="0" y="181609"/>
                  </a:lnTo>
                  <a:lnTo>
                    <a:pt x="728" y="181876"/>
                  </a:lnTo>
                  <a:lnTo>
                    <a:pt x="3796" y="182174"/>
                  </a:lnTo>
                  <a:lnTo>
                    <a:pt x="4952" y="180560"/>
                  </a:lnTo>
                  <a:lnTo>
                    <a:pt x="5723" y="177790"/>
                  </a:lnTo>
                  <a:lnTo>
                    <a:pt x="6238" y="174251"/>
                  </a:lnTo>
                  <a:lnTo>
                    <a:pt x="7427" y="171044"/>
                  </a:lnTo>
                  <a:lnTo>
                    <a:pt x="11006" y="165224"/>
                  </a:lnTo>
                  <a:lnTo>
                    <a:pt x="13145" y="160793"/>
                  </a:lnTo>
                  <a:lnTo>
                    <a:pt x="15419" y="155299"/>
                  </a:lnTo>
                  <a:lnTo>
                    <a:pt x="17781" y="149097"/>
                  </a:lnTo>
                  <a:lnTo>
                    <a:pt x="21049" y="142421"/>
                  </a:lnTo>
                  <a:lnTo>
                    <a:pt x="24921" y="135431"/>
                  </a:lnTo>
                  <a:lnTo>
                    <a:pt x="29196" y="128231"/>
                  </a:lnTo>
                  <a:lnTo>
                    <a:pt x="38461" y="113458"/>
                  </a:lnTo>
                  <a:lnTo>
                    <a:pt x="43302" y="105962"/>
                  </a:lnTo>
                  <a:lnTo>
                    <a:pt x="49070" y="98425"/>
                  </a:lnTo>
                  <a:lnTo>
                    <a:pt x="55455" y="90861"/>
                  </a:lnTo>
                  <a:lnTo>
                    <a:pt x="62252" y="83278"/>
                  </a:lnTo>
                  <a:lnTo>
                    <a:pt x="76577" y="68078"/>
                  </a:lnTo>
                  <a:lnTo>
                    <a:pt x="106470" y="37624"/>
                  </a:lnTo>
                  <a:lnTo>
                    <a:pt x="114042" y="31700"/>
                  </a:lnTo>
                  <a:lnTo>
                    <a:pt x="121629" y="26904"/>
                  </a:lnTo>
                  <a:lnTo>
                    <a:pt x="129228" y="22859"/>
                  </a:lnTo>
                  <a:lnTo>
                    <a:pt x="136834" y="19317"/>
                  </a:lnTo>
                  <a:lnTo>
                    <a:pt x="144444" y="16108"/>
                  </a:lnTo>
                  <a:lnTo>
                    <a:pt x="152058" y="13122"/>
                  </a:lnTo>
                  <a:lnTo>
                    <a:pt x="158827" y="10285"/>
                  </a:lnTo>
                  <a:lnTo>
                    <a:pt x="165033" y="7547"/>
                  </a:lnTo>
                  <a:lnTo>
                    <a:pt x="170863" y="4875"/>
                  </a:lnTo>
                  <a:lnTo>
                    <a:pt x="176444" y="3094"/>
                  </a:lnTo>
                  <a:lnTo>
                    <a:pt x="181858" y="1906"/>
                  </a:lnTo>
                  <a:lnTo>
                    <a:pt x="187160" y="1114"/>
                  </a:lnTo>
                  <a:lnTo>
                    <a:pt x="192389" y="587"/>
                  </a:lnTo>
                  <a:lnTo>
                    <a:pt x="197567" y="235"/>
                  </a:lnTo>
                  <a:lnTo>
                    <a:pt x="202713" y="0"/>
                  </a:lnTo>
                  <a:lnTo>
                    <a:pt x="206991" y="691"/>
                  </a:lnTo>
                  <a:lnTo>
                    <a:pt x="214001" y="3715"/>
                  </a:lnTo>
                  <a:lnTo>
                    <a:pt x="216209" y="5707"/>
                  </a:lnTo>
                  <a:lnTo>
                    <a:pt x="217681" y="7882"/>
                  </a:lnTo>
                  <a:lnTo>
                    <a:pt x="220163" y="13403"/>
                  </a:lnTo>
                  <a:lnTo>
                    <a:pt x="224089" y="21500"/>
                  </a:lnTo>
                  <a:lnTo>
                    <a:pt x="225474" y="26031"/>
                  </a:lnTo>
                  <a:lnTo>
                    <a:pt x="226397" y="30744"/>
                  </a:lnTo>
                  <a:lnTo>
                    <a:pt x="227013" y="35580"/>
                  </a:lnTo>
                  <a:lnTo>
                    <a:pt x="228271" y="41343"/>
                  </a:lnTo>
                  <a:lnTo>
                    <a:pt x="229955" y="47726"/>
                  </a:lnTo>
                  <a:lnTo>
                    <a:pt x="231925" y="54521"/>
                  </a:lnTo>
                  <a:lnTo>
                    <a:pt x="233239" y="60744"/>
                  </a:lnTo>
                  <a:lnTo>
                    <a:pt x="234114" y="66587"/>
                  </a:lnTo>
                  <a:lnTo>
                    <a:pt x="234698" y="72175"/>
                  </a:lnTo>
                  <a:lnTo>
                    <a:pt x="235087" y="78441"/>
                  </a:lnTo>
                  <a:lnTo>
                    <a:pt x="235519" y="92175"/>
                  </a:lnTo>
                  <a:lnTo>
                    <a:pt x="235835" y="136798"/>
                  </a:lnTo>
                  <a:lnTo>
                    <a:pt x="236691" y="143535"/>
                  </a:lnTo>
                  <a:lnTo>
                    <a:pt x="238110" y="149720"/>
                  </a:lnTo>
                  <a:lnTo>
                    <a:pt x="239902" y="155537"/>
                  </a:lnTo>
                  <a:lnTo>
                    <a:pt x="241943" y="161109"/>
                  </a:lnTo>
                  <a:lnTo>
                    <a:pt x="244150" y="166516"/>
                  </a:lnTo>
                  <a:lnTo>
                    <a:pt x="246469" y="171814"/>
                  </a:lnTo>
                  <a:lnTo>
                    <a:pt x="248860" y="176194"/>
                  </a:lnTo>
                  <a:lnTo>
                    <a:pt x="251302" y="179960"/>
                  </a:lnTo>
                  <a:lnTo>
                    <a:pt x="258725" y="19003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SMARTInkAnnotation146"/>
            <p:cNvSpPr/>
            <p:nvPr/>
          </p:nvSpPr>
          <p:spPr>
            <a:xfrm>
              <a:off x="6072840" y="4861440"/>
              <a:ext cx="198000" cy="3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98120" h="1">
                  <a:moveTo>
                    <a:pt x="0" y="0"/>
                  </a:moveTo>
                  <a:lnTo>
                    <a:pt x="19811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SMARTInkAnnotation147"/>
            <p:cNvSpPr/>
            <p:nvPr/>
          </p:nvSpPr>
          <p:spPr>
            <a:xfrm>
              <a:off x="6126120" y="4930200"/>
              <a:ext cx="167400" cy="15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7641" h="15241">
                  <a:moveTo>
                    <a:pt x="0" y="0"/>
                  </a:moveTo>
                  <a:lnTo>
                    <a:pt x="4046" y="0"/>
                  </a:lnTo>
                  <a:lnTo>
                    <a:pt x="6083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3844" y="5237"/>
                  </a:lnTo>
                  <a:lnTo>
                    <a:pt x="17696" y="6031"/>
                  </a:lnTo>
                  <a:lnTo>
                    <a:pt x="21957" y="6561"/>
                  </a:lnTo>
                  <a:lnTo>
                    <a:pt x="26491" y="7761"/>
                  </a:lnTo>
                  <a:lnTo>
                    <a:pt x="31207" y="9407"/>
                  </a:lnTo>
                  <a:lnTo>
                    <a:pt x="36045" y="11351"/>
                  </a:lnTo>
                  <a:lnTo>
                    <a:pt x="41810" y="12647"/>
                  </a:lnTo>
                  <a:lnTo>
                    <a:pt x="48193" y="13512"/>
                  </a:lnTo>
                  <a:lnTo>
                    <a:pt x="54989" y="14088"/>
                  </a:lnTo>
                  <a:lnTo>
                    <a:pt x="62059" y="14472"/>
                  </a:lnTo>
                  <a:lnTo>
                    <a:pt x="76688" y="14898"/>
                  </a:lnTo>
                  <a:lnTo>
                    <a:pt x="16764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SMARTInkAnnotation148"/>
            <p:cNvSpPr/>
            <p:nvPr/>
          </p:nvSpPr>
          <p:spPr>
            <a:xfrm>
              <a:off x="6502680" y="4655520"/>
              <a:ext cx="217800" cy="3103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310320"/>
                <a:gd name="textAreaBottom" fmla="*/ 310680 h 310320"/>
              </a:gdLst>
              <a:ahLst/>
              <a:rect l="textAreaLeft" t="textAreaTop" r="textAreaRight" b="textAreaBottom"/>
              <a:pathLst>
                <a:path w="218028" h="310400">
                  <a:moveTo>
                    <a:pt x="157068" y="0"/>
                  </a:moveTo>
                  <a:lnTo>
                    <a:pt x="148977" y="4045"/>
                  </a:lnTo>
                  <a:lnTo>
                    <a:pt x="142748" y="8289"/>
                  </a:lnTo>
                  <a:lnTo>
                    <a:pt x="139902" y="10606"/>
                  </a:lnTo>
                  <a:lnTo>
                    <a:pt x="135463" y="13844"/>
                  </a:lnTo>
                  <a:lnTo>
                    <a:pt x="123758" y="21957"/>
                  </a:lnTo>
                  <a:lnTo>
                    <a:pt x="117929" y="27338"/>
                  </a:lnTo>
                  <a:lnTo>
                    <a:pt x="112348" y="33466"/>
                  </a:lnTo>
                  <a:lnTo>
                    <a:pt x="106934" y="40091"/>
                  </a:lnTo>
                  <a:lnTo>
                    <a:pt x="101632" y="47047"/>
                  </a:lnTo>
                  <a:lnTo>
                    <a:pt x="91226" y="61550"/>
                  </a:lnTo>
                  <a:lnTo>
                    <a:pt x="84386" y="68973"/>
                  </a:lnTo>
                  <a:lnTo>
                    <a:pt x="76440" y="76462"/>
                  </a:lnTo>
                  <a:lnTo>
                    <a:pt x="67756" y="83995"/>
                  </a:lnTo>
                  <a:lnTo>
                    <a:pt x="59427" y="92403"/>
                  </a:lnTo>
                  <a:lnTo>
                    <a:pt x="51333" y="101395"/>
                  </a:lnTo>
                  <a:lnTo>
                    <a:pt x="43398" y="110777"/>
                  </a:lnTo>
                  <a:lnTo>
                    <a:pt x="36415" y="120418"/>
                  </a:lnTo>
                  <a:lnTo>
                    <a:pt x="30067" y="130232"/>
                  </a:lnTo>
                  <a:lnTo>
                    <a:pt x="24140" y="140161"/>
                  </a:lnTo>
                  <a:lnTo>
                    <a:pt x="18495" y="150168"/>
                  </a:lnTo>
                  <a:lnTo>
                    <a:pt x="7710" y="170317"/>
                  </a:lnTo>
                  <a:lnTo>
                    <a:pt x="4156" y="180431"/>
                  </a:lnTo>
                  <a:lnTo>
                    <a:pt x="1785" y="190561"/>
                  </a:lnTo>
                  <a:lnTo>
                    <a:pt x="206" y="200700"/>
                  </a:lnTo>
                  <a:lnTo>
                    <a:pt x="0" y="210000"/>
                  </a:lnTo>
                  <a:lnTo>
                    <a:pt x="710" y="218740"/>
                  </a:lnTo>
                  <a:lnTo>
                    <a:pt x="2029" y="227107"/>
                  </a:lnTo>
                  <a:lnTo>
                    <a:pt x="3755" y="236071"/>
                  </a:lnTo>
                  <a:lnTo>
                    <a:pt x="7931" y="255062"/>
                  </a:lnTo>
                  <a:lnTo>
                    <a:pt x="11923" y="263175"/>
                  </a:lnTo>
                  <a:lnTo>
                    <a:pt x="17124" y="270277"/>
                  </a:lnTo>
                  <a:lnTo>
                    <a:pt x="23132" y="276705"/>
                  </a:lnTo>
                  <a:lnTo>
                    <a:pt x="29677" y="282683"/>
                  </a:lnTo>
                  <a:lnTo>
                    <a:pt x="36580" y="288362"/>
                  </a:lnTo>
                  <a:lnTo>
                    <a:pt x="43722" y="293841"/>
                  </a:lnTo>
                  <a:lnTo>
                    <a:pt x="51871" y="298341"/>
                  </a:lnTo>
                  <a:lnTo>
                    <a:pt x="60689" y="302187"/>
                  </a:lnTo>
                  <a:lnTo>
                    <a:pt x="69956" y="305598"/>
                  </a:lnTo>
                  <a:lnTo>
                    <a:pt x="78673" y="307872"/>
                  </a:lnTo>
                  <a:lnTo>
                    <a:pt x="87025" y="309388"/>
                  </a:lnTo>
                  <a:lnTo>
                    <a:pt x="95132" y="310399"/>
                  </a:lnTo>
                  <a:lnTo>
                    <a:pt x="103077" y="310226"/>
                  </a:lnTo>
                  <a:lnTo>
                    <a:pt x="110914" y="309264"/>
                  </a:lnTo>
                  <a:lnTo>
                    <a:pt x="118679" y="307776"/>
                  </a:lnTo>
                  <a:lnTo>
                    <a:pt x="126396" y="305091"/>
                  </a:lnTo>
                  <a:lnTo>
                    <a:pt x="134079" y="301607"/>
                  </a:lnTo>
                  <a:lnTo>
                    <a:pt x="141742" y="297592"/>
                  </a:lnTo>
                  <a:lnTo>
                    <a:pt x="147697" y="293221"/>
                  </a:lnTo>
                  <a:lnTo>
                    <a:pt x="152515" y="288614"/>
                  </a:lnTo>
                  <a:lnTo>
                    <a:pt x="156572" y="283849"/>
                  </a:lnTo>
                  <a:lnTo>
                    <a:pt x="160970" y="278133"/>
                  </a:lnTo>
                  <a:lnTo>
                    <a:pt x="165596" y="271782"/>
                  </a:lnTo>
                  <a:lnTo>
                    <a:pt x="170373" y="265008"/>
                  </a:lnTo>
                  <a:lnTo>
                    <a:pt x="173558" y="258799"/>
                  </a:lnTo>
                  <a:lnTo>
                    <a:pt x="175681" y="252966"/>
                  </a:lnTo>
                  <a:lnTo>
                    <a:pt x="177096" y="247384"/>
                  </a:lnTo>
                  <a:lnTo>
                    <a:pt x="178040" y="241123"/>
                  </a:lnTo>
                  <a:lnTo>
                    <a:pt x="178669" y="234409"/>
                  </a:lnTo>
                  <a:lnTo>
                    <a:pt x="179088" y="227392"/>
                  </a:lnTo>
                  <a:lnTo>
                    <a:pt x="179555" y="215081"/>
                  </a:lnTo>
                  <a:lnTo>
                    <a:pt x="179678" y="209427"/>
                  </a:lnTo>
                  <a:lnTo>
                    <a:pt x="178068" y="204812"/>
                  </a:lnTo>
                  <a:lnTo>
                    <a:pt x="175301" y="200888"/>
                  </a:lnTo>
                  <a:lnTo>
                    <a:pt x="162738" y="188507"/>
                  </a:lnTo>
                  <a:lnTo>
                    <a:pt x="160002" y="186631"/>
                  </a:lnTo>
                  <a:lnTo>
                    <a:pt x="154703" y="184547"/>
                  </a:lnTo>
                  <a:lnTo>
                    <a:pt x="149525" y="183621"/>
                  </a:lnTo>
                  <a:lnTo>
                    <a:pt x="146959" y="183374"/>
                  </a:lnTo>
                  <a:lnTo>
                    <a:pt x="143555" y="184056"/>
                  </a:lnTo>
                  <a:lnTo>
                    <a:pt x="139592" y="185357"/>
                  </a:lnTo>
                  <a:lnTo>
                    <a:pt x="135258" y="187071"/>
                  </a:lnTo>
                  <a:lnTo>
                    <a:pt x="131521" y="189907"/>
                  </a:lnTo>
                  <a:lnTo>
                    <a:pt x="125112" y="197574"/>
                  </a:lnTo>
                  <a:lnTo>
                    <a:pt x="121698" y="204369"/>
                  </a:lnTo>
                  <a:lnTo>
                    <a:pt x="120788" y="207366"/>
                  </a:lnTo>
                  <a:lnTo>
                    <a:pt x="121028" y="211904"/>
                  </a:lnTo>
                  <a:lnTo>
                    <a:pt x="122034" y="217469"/>
                  </a:lnTo>
                  <a:lnTo>
                    <a:pt x="123552" y="223719"/>
                  </a:lnTo>
                  <a:lnTo>
                    <a:pt x="125410" y="229579"/>
                  </a:lnTo>
                  <a:lnTo>
                    <a:pt x="127496" y="235180"/>
                  </a:lnTo>
                  <a:lnTo>
                    <a:pt x="129733" y="240607"/>
                  </a:lnTo>
                  <a:lnTo>
                    <a:pt x="132918" y="245918"/>
                  </a:lnTo>
                  <a:lnTo>
                    <a:pt x="136734" y="251152"/>
                  </a:lnTo>
                  <a:lnTo>
                    <a:pt x="140972" y="256334"/>
                  </a:lnTo>
                  <a:lnTo>
                    <a:pt x="145490" y="261483"/>
                  </a:lnTo>
                  <a:lnTo>
                    <a:pt x="150196" y="266609"/>
                  </a:lnTo>
                  <a:lnTo>
                    <a:pt x="155026" y="271719"/>
                  </a:lnTo>
                  <a:lnTo>
                    <a:pt x="161633" y="275973"/>
                  </a:lnTo>
                  <a:lnTo>
                    <a:pt x="169425" y="279655"/>
                  </a:lnTo>
                  <a:lnTo>
                    <a:pt x="178006" y="282956"/>
                  </a:lnTo>
                  <a:lnTo>
                    <a:pt x="184573" y="286004"/>
                  </a:lnTo>
                  <a:lnTo>
                    <a:pt x="189797" y="288883"/>
                  </a:lnTo>
                  <a:lnTo>
                    <a:pt x="194127" y="291649"/>
                  </a:lnTo>
                  <a:lnTo>
                    <a:pt x="198707" y="293492"/>
                  </a:lnTo>
                  <a:lnTo>
                    <a:pt x="203454" y="294722"/>
                  </a:lnTo>
                  <a:lnTo>
                    <a:pt x="218027" y="297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SMARTInkAnnotation149"/>
            <p:cNvSpPr/>
            <p:nvPr/>
          </p:nvSpPr>
          <p:spPr>
            <a:xfrm>
              <a:off x="6829200" y="4588200"/>
              <a:ext cx="188640" cy="318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318600"/>
                <a:gd name="textAreaBottom" fmla="*/ 318600 h 318600"/>
              </a:gdLst>
              <a:ahLst/>
              <a:rect l="textAreaLeft" t="textAreaTop" r="textAreaRight" b="textAreaBottom"/>
              <a:pathLst>
                <a:path w="188694" h="318822">
                  <a:moveTo>
                    <a:pt x="188693" y="59741"/>
                  </a:moveTo>
                  <a:lnTo>
                    <a:pt x="188693" y="34302"/>
                  </a:lnTo>
                  <a:lnTo>
                    <a:pt x="186435" y="26986"/>
                  </a:lnTo>
                  <a:lnTo>
                    <a:pt x="184649" y="22664"/>
                  </a:lnTo>
                  <a:lnTo>
                    <a:pt x="181764" y="18937"/>
                  </a:lnTo>
                  <a:lnTo>
                    <a:pt x="178147" y="15605"/>
                  </a:lnTo>
                  <a:lnTo>
                    <a:pt x="174042" y="12537"/>
                  </a:lnTo>
                  <a:lnTo>
                    <a:pt x="169612" y="10492"/>
                  </a:lnTo>
                  <a:lnTo>
                    <a:pt x="164966" y="9128"/>
                  </a:lnTo>
                  <a:lnTo>
                    <a:pt x="160176" y="8219"/>
                  </a:lnTo>
                  <a:lnTo>
                    <a:pt x="154441" y="6766"/>
                  </a:lnTo>
                  <a:lnTo>
                    <a:pt x="148079" y="4951"/>
                  </a:lnTo>
                  <a:lnTo>
                    <a:pt x="141297" y="2894"/>
                  </a:lnTo>
                  <a:lnTo>
                    <a:pt x="133389" y="1523"/>
                  </a:lnTo>
                  <a:lnTo>
                    <a:pt x="124731" y="609"/>
                  </a:lnTo>
                  <a:lnTo>
                    <a:pt x="115572" y="0"/>
                  </a:lnTo>
                  <a:lnTo>
                    <a:pt x="106079" y="440"/>
                  </a:lnTo>
                  <a:lnTo>
                    <a:pt x="96364" y="1581"/>
                  </a:lnTo>
                  <a:lnTo>
                    <a:pt x="86500" y="3187"/>
                  </a:lnTo>
                  <a:lnTo>
                    <a:pt x="76538" y="5952"/>
                  </a:lnTo>
                  <a:lnTo>
                    <a:pt x="66509" y="9488"/>
                  </a:lnTo>
                  <a:lnTo>
                    <a:pt x="56438" y="13539"/>
                  </a:lnTo>
                  <a:lnTo>
                    <a:pt x="38472" y="20298"/>
                  </a:lnTo>
                  <a:lnTo>
                    <a:pt x="30126" y="23285"/>
                  </a:lnTo>
                  <a:lnTo>
                    <a:pt x="23715" y="27817"/>
                  </a:lnTo>
                  <a:lnTo>
                    <a:pt x="18594" y="33379"/>
                  </a:lnTo>
                  <a:lnTo>
                    <a:pt x="14334" y="39626"/>
                  </a:lnTo>
                  <a:lnTo>
                    <a:pt x="10647" y="45484"/>
                  </a:lnTo>
                  <a:lnTo>
                    <a:pt x="7343" y="51083"/>
                  </a:lnTo>
                  <a:lnTo>
                    <a:pt x="4292" y="56509"/>
                  </a:lnTo>
                  <a:lnTo>
                    <a:pt x="2260" y="61820"/>
                  </a:lnTo>
                  <a:lnTo>
                    <a:pt x="904" y="67054"/>
                  </a:lnTo>
                  <a:lnTo>
                    <a:pt x="0" y="72236"/>
                  </a:lnTo>
                  <a:lnTo>
                    <a:pt x="245" y="77384"/>
                  </a:lnTo>
                  <a:lnTo>
                    <a:pt x="1255" y="82510"/>
                  </a:lnTo>
                  <a:lnTo>
                    <a:pt x="2774" y="87620"/>
                  </a:lnTo>
                  <a:lnTo>
                    <a:pt x="5480" y="91874"/>
                  </a:lnTo>
                  <a:lnTo>
                    <a:pt x="8978" y="95556"/>
                  </a:lnTo>
                  <a:lnTo>
                    <a:pt x="13003" y="98858"/>
                  </a:lnTo>
                  <a:lnTo>
                    <a:pt x="18226" y="101905"/>
                  </a:lnTo>
                  <a:lnTo>
                    <a:pt x="24249" y="104784"/>
                  </a:lnTo>
                  <a:lnTo>
                    <a:pt x="30804" y="107550"/>
                  </a:lnTo>
                  <a:lnTo>
                    <a:pt x="37714" y="110240"/>
                  </a:lnTo>
                  <a:lnTo>
                    <a:pt x="52164" y="115488"/>
                  </a:lnTo>
                  <a:lnTo>
                    <a:pt x="59573" y="116379"/>
                  </a:lnTo>
                  <a:lnTo>
                    <a:pt x="67054" y="116126"/>
                  </a:lnTo>
                  <a:lnTo>
                    <a:pt x="74580" y="115111"/>
                  </a:lnTo>
                  <a:lnTo>
                    <a:pt x="82138" y="113588"/>
                  </a:lnTo>
                  <a:lnTo>
                    <a:pt x="89716" y="111725"/>
                  </a:lnTo>
                  <a:lnTo>
                    <a:pt x="97308" y="109638"/>
                  </a:lnTo>
                  <a:lnTo>
                    <a:pt x="104063" y="106552"/>
                  </a:lnTo>
                  <a:lnTo>
                    <a:pt x="110260" y="102802"/>
                  </a:lnTo>
                  <a:lnTo>
                    <a:pt x="116085" y="98608"/>
                  </a:lnTo>
                  <a:lnTo>
                    <a:pt x="121661" y="94119"/>
                  </a:lnTo>
                  <a:lnTo>
                    <a:pt x="127072" y="89433"/>
                  </a:lnTo>
                  <a:lnTo>
                    <a:pt x="132372" y="84616"/>
                  </a:lnTo>
                  <a:lnTo>
                    <a:pt x="136752" y="79711"/>
                  </a:lnTo>
                  <a:lnTo>
                    <a:pt x="140520" y="74747"/>
                  </a:lnTo>
                  <a:lnTo>
                    <a:pt x="143878" y="69745"/>
                  </a:lnTo>
                  <a:lnTo>
                    <a:pt x="146963" y="65564"/>
                  </a:lnTo>
                  <a:lnTo>
                    <a:pt x="152649" y="58660"/>
                  </a:lnTo>
                  <a:lnTo>
                    <a:pt x="157999" y="52770"/>
                  </a:lnTo>
                  <a:lnTo>
                    <a:pt x="160611" y="50013"/>
                  </a:lnTo>
                  <a:lnTo>
                    <a:pt x="162351" y="47329"/>
                  </a:lnTo>
                  <a:lnTo>
                    <a:pt x="165376" y="38424"/>
                  </a:lnTo>
                  <a:lnTo>
                    <a:pt x="165527" y="38756"/>
                  </a:lnTo>
                  <a:lnTo>
                    <a:pt x="165697" y="41384"/>
                  </a:lnTo>
                  <a:lnTo>
                    <a:pt x="164896" y="43270"/>
                  </a:lnTo>
                  <a:lnTo>
                    <a:pt x="161748" y="47623"/>
                  </a:lnTo>
                  <a:lnTo>
                    <a:pt x="160570" y="50816"/>
                  </a:lnTo>
                  <a:lnTo>
                    <a:pt x="159260" y="58879"/>
                  </a:lnTo>
                  <a:lnTo>
                    <a:pt x="156421" y="68107"/>
                  </a:lnTo>
                  <a:lnTo>
                    <a:pt x="154478" y="72938"/>
                  </a:lnTo>
                  <a:lnTo>
                    <a:pt x="150062" y="85080"/>
                  </a:lnTo>
                  <a:lnTo>
                    <a:pt x="147700" y="91874"/>
                  </a:lnTo>
                  <a:lnTo>
                    <a:pt x="146124" y="98943"/>
                  </a:lnTo>
                  <a:lnTo>
                    <a:pt x="145074" y="106196"/>
                  </a:lnTo>
                  <a:lnTo>
                    <a:pt x="144373" y="113571"/>
                  </a:lnTo>
                  <a:lnTo>
                    <a:pt x="143906" y="121874"/>
                  </a:lnTo>
                  <a:lnTo>
                    <a:pt x="143388" y="140131"/>
                  </a:lnTo>
                  <a:lnTo>
                    <a:pt x="142978" y="250260"/>
                  </a:lnTo>
                  <a:lnTo>
                    <a:pt x="142973" y="3188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SMARTInkAnnotation150"/>
            <p:cNvSpPr/>
            <p:nvPr/>
          </p:nvSpPr>
          <p:spPr>
            <a:xfrm>
              <a:off x="5295600" y="5158800"/>
              <a:ext cx="472320" cy="30240"/>
            </a:xfrm>
            <a:custGeom>
              <a:avLst/>
              <a:gdLst>
                <a:gd name="textAreaLeft" fmla="*/ 0 w 472320"/>
                <a:gd name="textAreaRight" fmla="*/ 472680 w 4723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472442" h="3048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5537" y="5237"/>
                  </a:lnTo>
                  <a:lnTo>
                    <a:pt x="22211" y="6031"/>
                  </a:lnTo>
                  <a:lnTo>
                    <a:pt x="30047" y="6561"/>
                  </a:lnTo>
                  <a:lnTo>
                    <a:pt x="38659" y="6914"/>
                  </a:lnTo>
                  <a:lnTo>
                    <a:pt x="57257" y="7306"/>
                  </a:lnTo>
                  <a:lnTo>
                    <a:pt x="67805" y="8257"/>
                  </a:lnTo>
                  <a:lnTo>
                    <a:pt x="79070" y="9739"/>
                  </a:lnTo>
                  <a:lnTo>
                    <a:pt x="90813" y="11572"/>
                  </a:lnTo>
                  <a:lnTo>
                    <a:pt x="102876" y="12795"/>
                  </a:lnTo>
                  <a:lnTo>
                    <a:pt x="115151" y="13610"/>
                  </a:lnTo>
                  <a:lnTo>
                    <a:pt x="127567" y="14154"/>
                  </a:lnTo>
                  <a:lnTo>
                    <a:pt x="154910" y="14757"/>
                  </a:lnTo>
                  <a:lnTo>
                    <a:pt x="169313" y="14919"/>
                  </a:lnTo>
                  <a:lnTo>
                    <a:pt x="184843" y="15872"/>
                  </a:lnTo>
                  <a:lnTo>
                    <a:pt x="201121" y="17355"/>
                  </a:lnTo>
                  <a:lnTo>
                    <a:pt x="217901" y="19190"/>
                  </a:lnTo>
                  <a:lnTo>
                    <a:pt x="235014" y="20414"/>
                  </a:lnTo>
                  <a:lnTo>
                    <a:pt x="252350" y="21229"/>
                  </a:lnTo>
                  <a:lnTo>
                    <a:pt x="288262" y="22135"/>
                  </a:lnTo>
                  <a:lnTo>
                    <a:pt x="326801" y="22538"/>
                  </a:lnTo>
                  <a:lnTo>
                    <a:pt x="345714" y="23493"/>
                  </a:lnTo>
                  <a:lnTo>
                    <a:pt x="364250" y="24975"/>
                  </a:lnTo>
                  <a:lnTo>
                    <a:pt x="382534" y="26810"/>
                  </a:lnTo>
                  <a:lnTo>
                    <a:pt x="397262" y="28034"/>
                  </a:lnTo>
                  <a:lnTo>
                    <a:pt x="409622" y="28849"/>
                  </a:lnTo>
                  <a:lnTo>
                    <a:pt x="420401" y="29393"/>
                  </a:lnTo>
                  <a:lnTo>
                    <a:pt x="441410" y="29997"/>
                  </a:lnTo>
                  <a:lnTo>
                    <a:pt x="472441" y="30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SMARTInkAnnotation151"/>
            <p:cNvSpPr/>
            <p:nvPr/>
          </p:nvSpPr>
          <p:spPr>
            <a:xfrm>
              <a:off x="6613920" y="5051880"/>
              <a:ext cx="624600" cy="608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624841" h="60961">
                  <a:moveTo>
                    <a:pt x="0" y="60960"/>
                  </a:moveTo>
                  <a:lnTo>
                    <a:pt x="12136" y="60960"/>
                  </a:lnTo>
                  <a:lnTo>
                    <a:pt x="19944" y="60114"/>
                  </a:lnTo>
                  <a:lnTo>
                    <a:pt x="29383" y="58702"/>
                  </a:lnTo>
                  <a:lnTo>
                    <a:pt x="39908" y="56915"/>
                  </a:lnTo>
                  <a:lnTo>
                    <a:pt x="48619" y="55723"/>
                  </a:lnTo>
                  <a:lnTo>
                    <a:pt x="62813" y="54399"/>
                  </a:lnTo>
                  <a:lnTo>
                    <a:pt x="72355" y="53200"/>
                  </a:lnTo>
                  <a:lnTo>
                    <a:pt x="110057" y="47466"/>
                  </a:lnTo>
                  <a:lnTo>
                    <a:pt x="187369" y="35455"/>
                  </a:lnTo>
                  <a:lnTo>
                    <a:pt x="292272" y="20311"/>
                  </a:lnTo>
                  <a:lnTo>
                    <a:pt x="309148" y="18621"/>
                  </a:lnTo>
                  <a:lnTo>
                    <a:pt x="325478" y="17494"/>
                  </a:lnTo>
                  <a:lnTo>
                    <a:pt x="341446" y="16743"/>
                  </a:lnTo>
                  <a:lnTo>
                    <a:pt x="358018" y="15395"/>
                  </a:lnTo>
                  <a:lnTo>
                    <a:pt x="392235" y="11640"/>
                  </a:lnTo>
                  <a:lnTo>
                    <a:pt x="408810" y="10300"/>
                  </a:lnTo>
                  <a:lnTo>
                    <a:pt x="424940" y="9407"/>
                  </a:lnTo>
                  <a:lnTo>
                    <a:pt x="455562" y="8414"/>
                  </a:lnTo>
                  <a:lnTo>
                    <a:pt x="483284" y="7973"/>
                  </a:lnTo>
                  <a:lnTo>
                    <a:pt x="496602" y="7009"/>
                  </a:lnTo>
                  <a:lnTo>
                    <a:pt x="509715" y="5519"/>
                  </a:lnTo>
                  <a:lnTo>
                    <a:pt x="522690" y="3679"/>
                  </a:lnTo>
                  <a:lnTo>
                    <a:pt x="535573" y="2453"/>
                  </a:lnTo>
                  <a:lnTo>
                    <a:pt x="548396" y="1635"/>
                  </a:lnTo>
                  <a:lnTo>
                    <a:pt x="572238" y="727"/>
                  </a:lnTo>
                  <a:lnTo>
                    <a:pt x="605983" y="143"/>
                  </a:lnTo>
                  <a:lnTo>
                    <a:pt x="6248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SMARTInkAnnotation152"/>
            <p:cNvSpPr/>
            <p:nvPr/>
          </p:nvSpPr>
          <p:spPr>
            <a:xfrm>
              <a:off x="5440320" y="5250240"/>
              <a:ext cx="340560" cy="19008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40740" h="190203">
                  <a:moveTo>
                    <a:pt x="30480" y="22737"/>
                  </a:moveTo>
                  <a:lnTo>
                    <a:pt x="34525" y="18692"/>
                  </a:lnTo>
                  <a:lnTo>
                    <a:pt x="37410" y="17500"/>
                  </a:lnTo>
                  <a:lnTo>
                    <a:pt x="50407" y="14977"/>
                  </a:lnTo>
                  <a:lnTo>
                    <a:pt x="56465" y="13330"/>
                  </a:lnTo>
                  <a:lnTo>
                    <a:pt x="63043" y="11386"/>
                  </a:lnTo>
                  <a:lnTo>
                    <a:pt x="79384" y="6967"/>
                  </a:lnTo>
                  <a:lnTo>
                    <a:pt x="88483" y="4604"/>
                  </a:lnTo>
                  <a:lnTo>
                    <a:pt x="98781" y="3029"/>
                  </a:lnTo>
                  <a:lnTo>
                    <a:pt x="109881" y="1978"/>
                  </a:lnTo>
                  <a:lnTo>
                    <a:pt x="121514" y="1278"/>
                  </a:lnTo>
                  <a:lnTo>
                    <a:pt x="145729" y="500"/>
                  </a:lnTo>
                  <a:lnTo>
                    <a:pt x="195768" y="0"/>
                  </a:lnTo>
                  <a:lnTo>
                    <a:pt x="208405" y="806"/>
                  </a:lnTo>
                  <a:lnTo>
                    <a:pt x="221064" y="2190"/>
                  </a:lnTo>
                  <a:lnTo>
                    <a:pt x="233736" y="3959"/>
                  </a:lnTo>
                  <a:lnTo>
                    <a:pt x="246417" y="5138"/>
                  </a:lnTo>
                  <a:lnTo>
                    <a:pt x="259105" y="5925"/>
                  </a:lnTo>
                  <a:lnTo>
                    <a:pt x="271797" y="6449"/>
                  </a:lnTo>
                  <a:lnTo>
                    <a:pt x="282798" y="7645"/>
                  </a:lnTo>
                  <a:lnTo>
                    <a:pt x="292673" y="9289"/>
                  </a:lnTo>
                  <a:lnTo>
                    <a:pt x="301795" y="11232"/>
                  </a:lnTo>
                  <a:lnTo>
                    <a:pt x="309570" y="12527"/>
                  </a:lnTo>
                  <a:lnTo>
                    <a:pt x="316447" y="13390"/>
                  </a:lnTo>
                  <a:lnTo>
                    <a:pt x="322725" y="13966"/>
                  </a:lnTo>
                  <a:lnTo>
                    <a:pt x="331958" y="16864"/>
                  </a:lnTo>
                  <a:lnTo>
                    <a:pt x="340739" y="21577"/>
                  </a:lnTo>
                  <a:lnTo>
                    <a:pt x="339766" y="21964"/>
                  </a:lnTo>
                  <a:lnTo>
                    <a:pt x="330306" y="22508"/>
                  </a:lnTo>
                  <a:lnTo>
                    <a:pt x="315086" y="22669"/>
                  </a:lnTo>
                  <a:lnTo>
                    <a:pt x="241008" y="22735"/>
                  </a:lnTo>
                  <a:lnTo>
                    <a:pt x="231792" y="23582"/>
                  </a:lnTo>
                  <a:lnTo>
                    <a:pt x="223108" y="24994"/>
                  </a:lnTo>
                  <a:lnTo>
                    <a:pt x="214779" y="26782"/>
                  </a:lnTo>
                  <a:lnTo>
                    <a:pt x="207533" y="27974"/>
                  </a:lnTo>
                  <a:lnTo>
                    <a:pt x="201008" y="28768"/>
                  </a:lnTo>
                  <a:lnTo>
                    <a:pt x="194966" y="29298"/>
                  </a:lnTo>
                  <a:lnTo>
                    <a:pt x="189244" y="30498"/>
                  </a:lnTo>
                  <a:lnTo>
                    <a:pt x="183736" y="32144"/>
                  </a:lnTo>
                  <a:lnTo>
                    <a:pt x="178370" y="34088"/>
                  </a:lnTo>
                  <a:lnTo>
                    <a:pt x="174794" y="36231"/>
                  </a:lnTo>
                  <a:lnTo>
                    <a:pt x="172410" y="38507"/>
                  </a:lnTo>
                  <a:lnTo>
                    <a:pt x="170819" y="40870"/>
                  </a:lnTo>
                  <a:lnTo>
                    <a:pt x="171453" y="44139"/>
                  </a:lnTo>
                  <a:lnTo>
                    <a:pt x="173569" y="48012"/>
                  </a:lnTo>
                  <a:lnTo>
                    <a:pt x="176673" y="52287"/>
                  </a:lnTo>
                  <a:lnTo>
                    <a:pt x="189131" y="70440"/>
                  </a:lnTo>
                  <a:lnTo>
                    <a:pt x="194667" y="77399"/>
                  </a:lnTo>
                  <a:lnTo>
                    <a:pt x="200898" y="84578"/>
                  </a:lnTo>
                  <a:lnTo>
                    <a:pt x="207592" y="91905"/>
                  </a:lnTo>
                  <a:lnTo>
                    <a:pt x="221804" y="106818"/>
                  </a:lnTo>
                  <a:lnTo>
                    <a:pt x="270323" y="155867"/>
                  </a:lnTo>
                  <a:lnTo>
                    <a:pt x="275042" y="161444"/>
                  </a:lnTo>
                  <a:lnTo>
                    <a:pt x="279035" y="166855"/>
                  </a:lnTo>
                  <a:lnTo>
                    <a:pt x="282544" y="172156"/>
                  </a:lnTo>
                  <a:lnTo>
                    <a:pt x="284036" y="176536"/>
                  </a:lnTo>
                  <a:lnTo>
                    <a:pt x="284184" y="180303"/>
                  </a:lnTo>
                  <a:lnTo>
                    <a:pt x="283436" y="183661"/>
                  </a:lnTo>
                  <a:lnTo>
                    <a:pt x="281244" y="185900"/>
                  </a:lnTo>
                  <a:lnTo>
                    <a:pt x="278090" y="187393"/>
                  </a:lnTo>
                  <a:lnTo>
                    <a:pt x="268376" y="189051"/>
                  </a:lnTo>
                  <a:lnTo>
                    <a:pt x="261043" y="189493"/>
                  </a:lnTo>
                  <a:lnTo>
                    <a:pt x="252769" y="189788"/>
                  </a:lnTo>
                  <a:lnTo>
                    <a:pt x="220898" y="190202"/>
                  </a:lnTo>
                  <a:lnTo>
                    <a:pt x="208225" y="189414"/>
                  </a:lnTo>
                  <a:lnTo>
                    <a:pt x="194697" y="188042"/>
                  </a:lnTo>
                  <a:lnTo>
                    <a:pt x="180598" y="186280"/>
                  </a:lnTo>
                  <a:lnTo>
                    <a:pt x="166965" y="185106"/>
                  </a:lnTo>
                  <a:lnTo>
                    <a:pt x="153644" y="184323"/>
                  </a:lnTo>
                  <a:lnTo>
                    <a:pt x="140529" y="183801"/>
                  </a:lnTo>
                  <a:lnTo>
                    <a:pt x="127553" y="181760"/>
                  </a:lnTo>
                  <a:lnTo>
                    <a:pt x="114669" y="178706"/>
                  </a:lnTo>
                  <a:lnTo>
                    <a:pt x="101846" y="174976"/>
                  </a:lnTo>
                  <a:lnTo>
                    <a:pt x="89910" y="172490"/>
                  </a:lnTo>
                  <a:lnTo>
                    <a:pt x="78567" y="170832"/>
                  </a:lnTo>
                  <a:lnTo>
                    <a:pt x="67618" y="169727"/>
                  </a:lnTo>
                  <a:lnTo>
                    <a:pt x="57779" y="168144"/>
                  </a:lnTo>
                  <a:lnTo>
                    <a:pt x="48680" y="166242"/>
                  </a:lnTo>
                  <a:lnTo>
                    <a:pt x="40073" y="164127"/>
                  </a:lnTo>
                  <a:lnTo>
                    <a:pt x="32642" y="161871"/>
                  </a:lnTo>
                  <a:lnTo>
                    <a:pt x="25994" y="159520"/>
                  </a:lnTo>
                  <a:lnTo>
                    <a:pt x="19869" y="157105"/>
                  </a:lnTo>
                  <a:lnTo>
                    <a:pt x="10807" y="154423"/>
                  </a:lnTo>
                  <a:lnTo>
                    <a:pt x="7204" y="153708"/>
                  </a:lnTo>
                  <a:lnTo>
                    <a:pt x="4803" y="152384"/>
                  </a:lnTo>
                  <a:lnTo>
                    <a:pt x="3202" y="150656"/>
                  </a:lnTo>
                  <a:lnTo>
                    <a:pt x="0" y="1446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SMARTInkAnnotation153"/>
            <p:cNvSpPr/>
            <p:nvPr/>
          </p:nvSpPr>
          <p:spPr>
            <a:xfrm>
              <a:off x="6911280" y="5135760"/>
              <a:ext cx="253440" cy="21312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53738" h="213358">
                  <a:moveTo>
                    <a:pt x="0" y="15237"/>
                  </a:moveTo>
                  <a:lnTo>
                    <a:pt x="0" y="11192"/>
                  </a:lnTo>
                  <a:lnTo>
                    <a:pt x="847" y="10001"/>
                  </a:lnTo>
                  <a:lnTo>
                    <a:pt x="2259" y="9206"/>
                  </a:lnTo>
                  <a:lnTo>
                    <a:pt x="4046" y="8676"/>
                  </a:lnTo>
                  <a:lnTo>
                    <a:pt x="10548" y="8088"/>
                  </a:lnTo>
                  <a:lnTo>
                    <a:pt x="14651" y="7931"/>
                  </a:lnTo>
                  <a:lnTo>
                    <a:pt x="19928" y="6980"/>
                  </a:lnTo>
                  <a:lnTo>
                    <a:pt x="25985" y="5499"/>
                  </a:lnTo>
                  <a:lnTo>
                    <a:pt x="32564" y="3665"/>
                  </a:lnTo>
                  <a:lnTo>
                    <a:pt x="38643" y="2443"/>
                  </a:lnTo>
                  <a:lnTo>
                    <a:pt x="44388" y="1627"/>
                  </a:lnTo>
                  <a:lnTo>
                    <a:pt x="49913" y="1084"/>
                  </a:lnTo>
                  <a:lnTo>
                    <a:pt x="56982" y="722"/>
                  </a:lnTo>
                  <a:lnTo>
                    <a:pt x="73868" y="319"/>
                  </a:lnTo>
                  <a:lnTo>
                    <a:pt x="197106" y="0"/>
                  </a:lnTo>
                  <a:lnTo>
                    <a:pt x="206758" y="846"/>
                  </a:lnTo>
                  <a:lnTo>
                    <a:pt x="214885" y="2256"/>
                  </a:lnTo>
                  <a:lnTo>
                    <a:pt x="221997" y="4043"/>
                  </a:lnTo>
                  <a:lnTo>
                    <a:pt x="228431" y="5235"/>
                  </a:lnTo>
                  <a:lnTo>
                    <a:pt x="234415" y="6029"/>
                  </a:lnTo>
                  <a:lnTo>
                    <a:pt x="240096" y="6559"/>
                  </a:lnTo>
                  <a:lnTo>
                    <a:pt x="244731" y="7758"/>
                  </a:lnTo>
                  <a:lnTo>
                    <a:pt x="252138" y="11349"/>
                  </a:lnTo>
                  <a:lnTo>
                    <a:pt x="253605" y="12645"/>
                  </a:lnTo>
                  <a:lnTo>
                    <a:pt x="253737" y="13509"/>
                  </a:lnTo>
                  <a:lnTo>
                    <a:pt x="250779" y="15316"/>
                  </a:lnTo>
                  <a:lnTo>
                    <a:pt x="243819" y="18942"/>
                  </a:lnTo>
                  <a:lnTo>
                    <a:pt x="238747" y="21093"/>
                  </a:lnTo>
                  <a:lnTo>
                    <a:pt x="232824" y="23375"/>
                  </a:lnTo>
                  <a:lnTo>
                    <a:pt x="226336" y="25742"/>
                  </a:lnTo>
                  <a:lnTo>
                    <a:pt x="218624" y="28167"/>
                  </a:lnTo>
                  <a:lnTo>
                    <a:pt x="192436" y="35625"/>
                  </a:lnTo>
                  <a:lnTo>
                    <a:pt x="176120" y="40668"/>
                  </a:lnTo>
                  <a:lnTo>
                    <a:pt x="167367" y="42351"/>
                  </a:lnTo>
                  <a:lnTo>
                    <a:pt x="158145" y="43473"/>
                  </a:lnTo>
                  <a:lnTo>
                    <a:pt x="148610" y="44221"/>
                  </a:lnTo>
                  <a:lnTo>
                    <a:pt x="139713" y="45567"/>
                  </a:lnTo>
                  <a:lnTo>
                    <a:pt x="131243" y="47310"/>
                  </a:lnTo>
                  <a:lnTo>
                    <a:pt x="123055" y="49319"/>
                  </a:lnTo>
                  <a:lnTo>
                    <a:pt x="115904" y="51505"/>
                  </a:lnTo>
                  <a:lnTo>
                    <a:pt x="109443" y="53810"/>
                  </a:lnTo>
                  <a:lnTo>
                    <a:pt x="103443" y="56192"/>
                  </a:lnTo>
                  <a:lnTo>
                    <a:pt x="99441" y="58627"/>
                  </a:lnTo>
                  <a:lnTo>
                    <a:pt x="96774" y="61097"/>
                  </a:lnTo>
                  <a:lnTo>
                    <a:pt x="94997" y="63590"/>
                  </a:lnTo>
                  <a:lnTo>
                    <a:pt x="94658" y="66946"/>
                  </a:lnTo>
                  <a:lnTo>
                    <a:pt x="95278" y="70876"/>
                  </a:lnTo>
                  <a:lnTo>
                    <a:pt x="96538" y="75190"/>
                  </a:lnTo>
                  <a:lnTo>
                    <a:pt x="99920" y="79759"/>
                  </a:lnTo>
                  <a:lnTo>
                    <a:pt x="104713" y="84498"/>
                  </a:lnTo>
                  <a:lnTo>
                    <a:pt x="110449" y="89352"/>
                  </a:lnTo>
                  <a:lnTo>
                    <a:pt x="116812" y="94280"/>
                  </a:lnTo>
                  <a:lnTo>
                    <a:pt x="123596" y="99259"/>
                  </a:lnTo>
                  <a:lnTo>
                    <a:pt x="130657" y="104272"/>
                  </a:lnTo>
                  <a:lnTo>
                    <a:pt x="138751" y="109307"/>
                  </a:lnTo>
                  <a:lnTo>
                    <a:pt x="147535" y="114357"/>
                  </a:lnTo>
                  <a:lnTo>
                    <a:pt x="156777" y="119417"/>
                  </a:lnTo>
                  <a:lnTo>
                    <a:pt x="165478" y="124484"/>
                  </a:lnTo>
                  <a:lnTo>
                    <a:pt x="181919" y="134629"/>
                  </a:lnTo>
                  <a:lnTo>
                    <a:pt x="205456" y="149861"/>
                  </a:lnTo>
                  <a:lnTo>
                    <a:pt x="212324" y="154093"/>
                  </a:lnTo>
                  <a:lnTo>
                    <a:pt x="218595" y="157761"/>
                  </a:lnTo>
                  <a:lnTo>
                    <a:pt x="232739" y="165686"/>
                  </a:lnTo>
                  <a:lnTo>
                    <a:pt x="233053" y="167183"/>
                  </a:lnTo>
                  <a:lnTo>
                    <a:pt x="232415" y="169028"/>
                  </a:lnTo>
                  <a:lnTo>
                    <a:pt x="231143" y="171105"/>
                  </a:lnTo>
                  <a:lnTo>
                    <a:pt x="228602" y="172488"/>
                  </a:lnTo>
                  <a:lnTo>
                    <a:pt x="221264" y="174027"/>
                  </a:lnTo>
                  <a:lnTo>
                    <a:pt x="216089" y="175284"/>
                  </a:lnTo>
                  <a:lnTo>
                    <a:pt x="210099" y="176968"/>
                  </a:lnTo>
                  <a:lnTo>
                    <a:pt x="203566" y="178937"/>
                  </a:lnTo>
                  <a:lnTo>
                    <a:pt x="195825" y="180251"/>
                  </a:lnTo>
                  <a:lnTo>
                    <a:pt x="187276" y="181127"/>
                  </a:lnTo>
                  <a:lnTo>
                    <a:pt x="178191" y="181710"/>
                  </a:lnTo>
                  <a:lnTo>
                    <a:pt x="167901" y="182945"/>
                  </a:lnTo>
                  <a:lnTo>
                    <a:pt x="156808" y="184617"/>
                  </a:lnTo>
                  <a:lnTo>
                    <a:pt x="133192" y="188730"/>
                  </a:lnTo>
                  <a:lnTo>
                    <a:pt x="108587" y="193380"/>
                  </a:lnTo>
                  <a:lnTo>
                    <a:pt x="98637" y="195806"/>
                  </a:lnTo>
                  <a:lnTo>
                    <a:pt x="90312" y="198270"/>
                  </a:lnTo>
                  <a:lnTo>
                    <a:pt x="83068" y="200759"/>
                  </a:lnTo>
                  <a:lnTo>
                    <a:pt x="76545" y="203265"/>
                  </a:lnTo>
                  <a:lnTo>
                    <a:pt x="70504" y="205782"/>
                  </a:lnTo>
                  <a:lnTo>
                    <a:pt x="53340" y="2133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SMARTInkAnnotation154"/>
            <p:cNvSpPr/>
            <p:nvPr/>
          </p:nvSpPr>
          <p:spPr>
            <a:xfrm>
              <a:off x="5669280" y="5617800"/>
              <a:ext cx="319320" cy="27252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319553" h="272640">
                  <a:moveTo>
                    <a:pt x="136673" y="89759"/>
                  </a:moveTo>
                  <a:lnTo>
                    <a:pt x="136673" y="93804"/>
                  </a:lnTo>
                  <a:lnTo>
                    <a:pt x="135826" y="95842"/>
                  </a:lnTo>
                  <a:lnTo>
                    <a:pt x="130111" y="103626"/>
                  </a:lnTo>
                  <a:lnTo>
                    <a:pt x="125007" y="108904"/>
                  </a:lnTo>
                  <a:lnTo>
                    <a:pt x="117942" y="116894"/>
                  </a:lnTo>
                  <a:lnTo>
                    <a:pt x="114871" y="121397"/>
                  </a:lnTo>
                  <a:lnTo>
                    <a:pt x="111979" y="126090"/>
                  </a:lnTo>
                  <a:lnTo>
                    <a:pt x="99816" y="144833"/>
                  </a:lnTo>
                  <a:lnTo>
                    <a:pt x="94322" y="151875"/>
                  </a:lnTo>
                  <a:lnTo>
                    <a:pt x="88119" y="159110"/>
                  </a:lnTo>
                  <a:lnTo>
                    <a:pt x="81443" y="166473"/>
                  </a:lnTo>
                  <a:lnTo>
                    <a:pt x="67253" y="181427"/>
                  </a:lnTo>
                  <a:lnTo>
                    <a:pt x="41492" y="207679"/>
                  </a:lnTo>
                  <a:lnTo>
                    <a:pt x="35966" y="214092"/>
                  </a:lnTo>
                  <a:lnTo>
                    <a:pt x="30588" y="220908"/>
                  </a:lnTo>
                  <a:lnTo>
                    <a:pt x="25310" y="227991"/>
                  </a:lnTo>
                  <a:lnTo>
                    <a:pt x="20944" y="233561"/>
                  </a:lnTo>
                  <a:lnTo>
                    <a:pt x="13835" y="242006"/>
                  </a:lnTo>
                  <a:lnTo>
                    <a:pt x="7854" y="248582"/>
                  </a:lnTo>
                  <a:lnTo>
                    <a:pt x="0" y="256883"/>
                  </a:lnTo>
                  <a:lnTo>
                    <a:pt x="3702" y="253201"/>
                  </a:lnTo>
                  <a:lnTo>
                    <a:pt x="5693" y="249520"/>
                  </a:lnTo>
                  <a:lnTo>
                    <a:pt x="7866" y="244526"/>
                  </a:lnTo>
                  <a:lnTo>
                    <a:pt x="10162" y="238657"/>
                  </a:lnTo>
                  <a:lnTo>
                    <a:pt x="14232" y="233051"/>
                  </a:lnTo>
                  <a:lnTo>
                    <a:pt x="19485" y="227620"/>
                  </a:lnTo>
                  <a:lnTo>
                    <a:pt x="25528" y="222307"/>
                  </a:lnTo>
                  <a:lnTo>
                    <a:pt x="32096" y="214531"/>
                  </a:lnTo>
                  <a:lnTo>
                    <a:pt x="39015" y="205114"/>
                  </a:lnTo>
                  <a:lnTo>
                    <a:pt x="46167" y="194602"/>
                  </a:lnTo>
                  <a:lnTo>
                    <a:pt x="54322" y="184208"/>
                  </a:lnTo>
                  <a:lnTo>
                    <a:pt x="63146" y="173891"/>
                  </a:lnTo>
                  <a:lnTo>
                    <a:pt x="72414" y="163628"/>
                  </a:lnTo>
                  <a:lnTo>
                    <a:pt x="81134" y="152551"/>
                  </a:lnTo>
                  <a:lnTo>
                    <a:pt x="89487" y="140934"/>
                  </a:lnTo>
                  <a:lnTo>
                    <a:pt x="97595" y="128955"/>
                  </a:lnTo>
                  <a:lnTo>
                    <a:pt x="107234" y="117583"/>
                  </a:lnTo>
                  <a:lnTo>
                    <a:pt x="117893" y="106616"/>
                  </a:lnTo>
                  <a:lnTo>
                    <a:pt x="129233" y="95917"/>
                  </a:lnTo>
                  <a:lnTo>
                    <a:pt x="140180" y="86244"/>
                  </a:lnTo>
                  <a:lnTo>
                    <a:pt x="150864" y="77255"/>
                  </a:lnTo>
                  <a:lnTo>
                    <a:pt x="171767" y="60495"/>
                  </a:lnTo>
                  <a:lnTo>
                    <a:pt x="192346" y="44579"/>
                  </a:lnTo>
                  <a:lnTo>
                    <a:pt x="202574" y="37626"/>
                  </a:lnTo>
                  <a:lnTo>
                    <a:pt x="212780" y="31297"/>
                  </a:lnTo>
                  <a:lnTo>
                    <a:pt x="222971" y="25384"/>
                  </a:lnTo>
                  <a:lnTo>
                    <a:pt x="232305" y="20596"/>
                  </a:lnTo>
                  <a:lnTo>
                    <a:pt x="241067" y="16557"/>
                  </a:lnTo>
                  <a:lnTo>
                    <a:pt x="249449" y="13017"/>
                  </a:lnTo>
                  <a:lnTo>
                    <a:pt x="263277" y="6827"/>
                  </a:lnTo>
                  <a:lnTo>
                    <a:pt x="269336" y="3991"/>
                  </a:lnTo>
                  <a:lnTo>
                    <a:pt x="275068" y="2101"/>
                  </a:lnTo>
                  <a:lnTo>
                    <a:pt x="280583" y="840"/>
                  </a:lnTo>
                  <a:lnTo>
                    <a:pt x="285953" y="0"/>
                  </a:lnTo>
                  <a:lnTo>
                    <a:pt x="290379" y="286"/>
                  </a:lnTo>
                  <a:lnTo>
                    <a:pt x="294177" y="1323"/>
                  </a:lnTo>
                  <a:lnTo>
                    <a:pt x="297556" y="2862"/>
                  </a:lnTo>
                  <a:lnTo>
                    <a:pt x="299808" y="5581"/>
                  </a:lnTo>
                  <a:lnTo>
                    <a:pt x="301310" y="9087"/>
                  </a:lnTo>
                  <a:lnTo>
                    <a:pt x="302977" y="17498"/>
                  </a:lnTo>
                  <a:lnTo>
                    <a:pt x="303422" y="22112"/>
                  </a:lnTo>
                  <a:lnTo>
                    <a:pt x="303719" y="26881"/>
                  </a:lnTo>
                  <a:lnTo>
                    <a:pt x="304048" y="36695"/>
                  </a:lnTo>
                  <a:lnTo>
                    <a:pt x="304234" y="56256"/>
                  </a:lnTo>
                  <a:lnTo>
                    <a:pt x="304260" y="64884"/>
                  </a:lnTo>
                  <a:lnTo>
                    <a:pt x="303431" y="73176"/>
                  </a:lnTo>
                  <a:lnTo>
                    <a:pt x="302032" y="81243"/>
                  </a:lnTo>
                  <a:lnTo>
                    <a:pt x="298219" y="98674"/>
                  </a:lnTo>
                  <a:lnTo>
                    <a:pt x="293702" y="120533"/>
                  </a:lnTo>
                  <a:lnTo>
                    <a:pt x="292159" y="131442"/>
                  </a:lnTo>
                  <a:lnTo>
                    <a:pt x="291130" y="142101"/>
                  </a:lnTo>
                  <a:lnTo>
                    <a:pt x="290444" y="152593"/>
                  </a:lnTo>
                  <a:lnTo>
                    <a:pt x="289683" y="171025"/>
                  </a:lnTo>
                  <a:lnTo>
                    <a:pt x="289343" y="188530"/>
                  </a:lnTo>
                  <a:lnTo>
                    <a:pt x="289193" y="207600"/>
                  </a:lnTo>
                  <a:lnTo>
                    <a:pt x="289999" y="216580"/>
                  </a:lnTo>
                  <a:lnTo>
                    <a:pt x="291384" y="225106"/>
                  </a:lnTo>
                  <a:lnTo>
                    <a:pt x="293153" y="233330"/>
                  </a:lnTo>
                  <a:lnTo>
                    <a:pt x="295180" y="239660"/>
                  </a:lnTo>
                  <a:lnTo>
                    <a:pt x="297377" y="244726"/>
                  </a:lnTo>
                  <a:lnTo>
                    <a:pt x="302077" y="253460"/>
                  </a:lnTo>
                  <a:lnTo>
                    <a:pt x="306988" y="262986"/>
                  </a:lnTo>
                  <a:lnTo>
                    <a:pt x="309483" y="266204"/>
                  </a:lnTo>
                  <a:lnTo>
                    <a:pt x="311992" y="268349"/>
                  </a:lnTo>
                  <a:lnTo>
                    <a:pt x="319552" y="2726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SMARTInkAnnotation155"/>
            <p:cNvSpPr/>
            <p:nvPr/>
          </p:nvSpPr>
          <p:spPr>
            <a:xfrm>
              <a:off x="6164280" y="570744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0501" h="22861">
                  <a:moveTo>
                    <a:pt x="0" y="22860"/>
                  </a:moveTo>
                  <a:lnTo>
                    <a:pt x="6561" y="16299"/>
                  </a:lnTo>
                  <a:lnTo>
                    <a:pt x="9455" y="15946"/>
                  </a:lnTo>
                  <a:lnTo>
                    <a:pt x="13923" y="15711"/>
                  </a:lnTo>
                  <a:lnTo>
                    <a:pt x="19442" y="15554"/>
                  </a:lnTo>
                  <a:lnTo>
                    <a:pt x="24815" y="14603"/>
                  </a:lnTo>
                  <a:lnTo>
                    <a:pt x="30090" y="13122"/>
                  </a:lnTo>
                  <a:lnTo>
                    <a:pt x="35300" y="11288"/>
                  </a:lnTo>
                  <a:lnTo>
                    <a:pt x="40467" y="10065"/>
                  </a:lnTo>
                  <a:lnTo>
                    <a:pt x="45605" y="9250"/>
                  </a:lnTo>
                  <a:lnTo>
                    <a:pt x="50723" y="8707"/>
                  </a:lnTo>
                  <a:lnTo>
                    <a:pt x="57522" y="7498"/>
                  </a:lnTo>
                  <a:lnTo>
                    <a:pt x="65442" y="5846"/>
                  </a:lnTo>
                  <a:lnTo>
                    <a:pt x="74108" y="3897"/>
                  </a:lnTo>
                  <a:lnTo>
                    <a:pt x="83272" y="2598"/>
                  </a:lnTo>
                  <a:lnTo>
                    <a:pt x="92768" y="1732"/>
                  </a:lnTo>
                  <a:lnTo>
                    <a:pt x="102486" y="1154"/>
                  </a:lnTo>
                  <a:lnTo>
                    <a:pt x="122313" y="513"/>
                  </a:lnTo>
                  <a:lnTo>
                    <a:pt x="172368" y="45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SMARTInkAnnotation156"/>
            <p:cNvSpPr/>
            <p:nvPr/>
          </p:nvSpPr>
          <p:spPr>
            <a:xfrm>
              <a:off x="6217560" y="5798880"/>
              <a:ext cx="129240" cy="147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29541" h="14920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2"/>
                  </a:lnTo>
                  <a:lnTo>
                    <a:pt x="6561" y="7306"/>
                  </a:lnTo>
                  <a:lnTo>
                    <a:pt x="19442" y="11572"/>
                  </a:lnTo>
                  <a:lnTo>
                    <a:pt x="24815" y="12795"/>
                  </a:lnTo>
                  <a:lnTo>
                    <a:pt x="30090" y="13610"/>
                  </a:lnTo>
                  <a:lnTo>
                    <a:pt x="35300" y="14153"/>
                  </a:lnTo>
                  <a:lnTo>
                    <a:pt x="41313" y="14516"/>
                  </a:lnTo>
                  <a:lnTo>
                    <a:pt x="54768" y="14919"/>
                  </a:lnTo>
                  <a:lnTo>
                    <a:pt x="62759" y="14179"/>
                  </a:lnTo>
                  <a:lnTo>
                    <a:pt x="71472" y="12840"/>
                  </a:lnTo>
                  <a:lnTo>
                    <a:pt x="80668" y="11099"/>
                  </a:lnTo>
                  <a:lnTo>
                    <a:pt x="88493" y="9940"/>
                  </a:lnTo>
                  <a:lnTo>
                    <a:pt x="95401" y="9167"/>
                  </a:lnTo>
                  <a:lnTo>
                    <a:pt x="101701" y="8651"/>
                  </a:lnTo>
                  <a:lnTo>
                    <a:pt x="107594" y="8307"/>
                  </a:lnTo>
                  <a:lnTo>
                    <a:pt x="129540" y="762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SMARTInkAnnotation157"/>
            <p:cNvSpPr/>
            <p:nvPr/>
          </p:nvSpPr>
          <p:spPr>
            <a:xfrm>
              <a:off x="6547320" y="5502240"/>
              <a:ext cx="239400" cy="302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239544" h="302813">
                  <a:moveTo>
                    <a:pt x="5467" y="37657"/>
                  </a:moveTo>
                  <a:lnTo>
                    <a:pt x="5467" y="33611"/>
                  </a:lnTo>
                  <a:lnTo>
                    <a:pt x="6313" y="32420"/>
                  </a:lnTo>
                  <a:lnTo>
                    <a:pt x="7726" y="31625"/>
                  </a:lnTo>
                  <a:lnTo>
                    <a:pt x="9512" y="31095"/>
                  </a:lnTo>
                  <a:lnTo>
                    <a:pt x="13756" y="28249"/>
                  </a:lnTo>
                  <a:lnTo>
                    <a:pt x="16073" y="26305"/>
                  </a:lnTo>
                  <a:lnTo>
                    <a:pt x="20158" y="24162"/>
                  </a:lnTo>
                  <a:lnTo>
                    <a:pt x="25421" y="21887"/>
                  </a:lnTo>
                  <a:lnTo>
                    <a:pt x="31469" y="19523"/>
                  </a:lnTo>
                  <a:lnTo>
                    <a:pt x="44964" y="14639"/>
                  </a:lnTo>
                  <a:lnTo>
                    <a:pt x="52118" y="12152"/>
                  </a:lnTo>
                  <a:lnTo>
                    <a:pt x="60275" y="9646"/>
                  </a:lnTo>
                  <a:lnTo>
                    <a:pt x="78369" y="4605"/>
                  </a:lnTo>
                  <a:lnTo>
                    <a:pt x="88781" y="2922"/>
                  </a:lnTo>
                  <a:lnTo>
                    <a:pt x="99957" y="1800"/>
                  </a:lnTo>
                  <a:lnTo>
                    <a:pt x="111640" y="1053"/>
                  </a:lnTo>
                  <a:lnTo>
                    <a:pt x="131395" y="221"/>
                  </a:lnTo>
                  <a:lnTo>
                    <a:pt x="140219" y="0"/>
                  </a:lnTo>
                  <a:lnTo>
                    <a:pt x="150335" y="1545"/>
                  </a:lnTo>
                  <a:lnTo>
                    <a:pt x="161313" y="4268"/>
                  </a:lnTo>
                  <a:lnTo>
                    <a:pt x="192472" y="13935"/>
                  </a:lnTo>
                  <a:lnTo>
                    <a:pt x="201257" y="16762"/>
                  </a:lnTo>
                  <a:lnTo>
                    <a:pt x="208807" y="19493"/>
                  </a:lnTo>
                  <a:lnTo>
                    <a:pt x="215533" y="22162"/>
                  </a:lnTo>
                  <a:lnTo>
                    <a:pt x="221711" y="24786"/>
                  </a:lnTo>
                  <a:lnTo>
                    <a:pt x="226677" y="28230"/>
                  </a:lnTo>
                  <a:lnTo>
                    <a:pt x="230833" y="32218"/>
                  </a:lnTo>
                  <a:lnTo>
                    <a:pt x="234451" y="36571"/>
                  </a:lnTo>
                  <a:lnTo>
                    <a:pt x="236863" y="41166"/>
                  </a:lnTo>
                  <a:lnTo>
                    <a:pt x="238471" y="45923"/>
                  </a:lnTo>
                  <a:lnTo>
                    <a:pt x="239543" y="50787"/>
                  </a:lnTo>
                  <a:lnTo>
                    <a:pt x="239411" y="56570"/>
                  </a:lnTo>
                  <a:lnTo>
                    <a:pt x="238476" y="62966"/>
                  </a:lnTo>
                  <a:lnTo>
                    <a:pt x="237006" y="69769"/>
                  </a:lnTo>
                  <a:lnTo>
                    <a:pt x="233486" y="75998"/>
                  </a:lnTo>
                  <a:lnTo>
                    <a:pt x="228600" y="81845"/>
                  </a:lnTo>
                  <a:lnTo>
                    <a:pt x="222803" y="87435"/>
                  </a:lnTo>
                  <a:lnTo>
                    <a:pt x="216398" y="92855"/>
                  </a:lnTo>
                  <a:lnTo>
                    <a:pt x="209587" y="98163"/>
                  </a:lnTo>
                  <a:lnTo>
                    <a:pt x="202507" y="103394"/>
                  </a:lnTo>
                  <a:lnTo>
                    <a:pt x="193553" y="109422"/>
                  </a:lnTo>
                  <a:lnTo>
                    <a:pt x="172317" y="122892"/>
                  </a:lnTo>
                  <a:lnTo>
                    <a:pt x="136561" y="144755"/>
                  </a:lnTo>
                  <a:lnTo>
                    <a:pt x="125036" y="151389"/>
                  </a:lnTo>
                  <a:lnTo>
                    <a:pt x="103200" y="163275"/>
                  </a:lnTo>
                  <a:lnTo>
                    <a:pt x="91789" y="170509"/>
                  </a:lnTo>
                  <a:lnTo>
                    <a:pt x="79949" y="178718"/>
                  </a:lnTo>
                  <a:lnTo>
                    <a:pt x="57197" y="195177"/>
                  </a:lnTo>
                  <a:lnTo>
                    <a:pt x="38618" y="208136"/>
                  </a:lnTo>
                  <a:lnTo>
                    <a:pt x="30955" y="213963"/>
                  </a:lnTo>
                  <a:lnTo>
                    <a:pt x="24152" y="219541"/>
                  </a:lnTo>
                  <a:lnTo>
                    <a:pt x="17924" y="224953"/>
                  </a:lnTo>
                  <a:lnTo>
                    <a:pt x="12925" y="230254"/>
                  </a:lnTo>
                  <a:lnTo>
                    <a:pt x="8745" y="235482"/>
                  </a:lnTo>
                  <a:lnTo>
                    <a:pt x="5113" y="240660"/>
                  </a:lnTo>
                  <a:lnTo>
                    <a:pt x="2691" y="245805"/>
                  </a:lnTo>
                  <a:lnTo>
                    <a:pt x="1076" y="250929"/>
                  </a:lnTo>
                  <a:lnTo>
                    <a:pt x="0" y="256039"/>
                  </a:lnTo>
                  <a:lnTo>
                    <a:pt x="129" y="261138"/>
                  </a:lnTo>
                  <a:lnTo>
                    <a:pt x="1062" y="266231"/>
                  </a:lnTo>
                  <a:lnTo>
                    <a:pt x="2531" y="271319"/>
                  </a:lnTo>
                  <a:lnTo>
                    <a:pt x="5203" y="275558"/>
                  </a:lnTo>
                  <a:lnTo>
                    <a:pt x="12688" y="282526"/>
                  </a:lnTo>
                  <a:lnTo>
                    <a:pt x="18748" y="285570"/>
                  </a:lnTo>
                  <a:lnTo>
                    <a:pt x="26174" y="288444"/>
                  </a:lnTo>
                  <a:lnTo>
                    <a:pt x="34512" y="291209"/>
                  </a:lnTo>
                  <a:lnTo>
                    <a:pt x="43457" y="293898"/>
                  </a:lnTo>
                  <a:lnTo>
                    <a:pt x="62427" y="299144"/>
                  </a:lnTo>
                  <a:lnTo>
                    <a:pt x="73074" y="300881"/>
                  </a:lnTo>
                  <a:lnTo>
                    <a:pt x="84405" y="302040"/>
                  </a:lnTo>
                  <a:lnTo>
                    <a:pt x="96192" y="302812"/>
                  </a:lnTo>
                  <a:lnTo>
                    <a:pt x="108283" y="302480"/>
                  </a:lnTo>
                  <a:lnTo>
                    <a:pt x="120579" y="301412"/>
                  </a:lnTo>
                  <a:lnTo>
                    <a:pt x="133007" y="299853"/>
                  </a:lnTo>
                  <a:lnTo>
                    <a:pt x="144681" y="297967"/>
                  </a:lnTo>
                  <a:lnTo>
                    <a:pt x="155849" y="295864"/>
                  </a:lnTo>
                  <a:lnTo>
                    <a:pt x="166682" y="293614"/>
                  </a:lnTo>
                  <a:lnTo>
                    <a:pt x="175597" y="292115"/>
                  </a:lnTo>
                  <a:lnTo>
                    <a:pt x="183234" y="291115"/>
                  </a:lnTo>
                  <a:lnTo>
                    <a:pt x="203587" y="2891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SMARTInkAnnotation158"/>
            <p:cNvSpPr/>
            <p:nvPr/>
          </p:nvSpPr>
          <p:spPr>
            <a:xfrm>
              <a:off x="6933960" y="5509440"/>
              <a:ext cx="217800" cy="32724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217961" h="327433">
                  <a:moveTo>
                    <a:pt x="0" y="15144"/>
                  </a:moveTo>
                  <a:lnTo>
                    <a:pt x="6562" y="8583"/>
                  </a:lnTo>
                  <a:lnTo>
                    <a:pt x="9407" y="7995"/>
                  </a:lnTo>
                  <a:lnTo>
                    <a:pt x="11351" y="7838"/>
                  </a:lnTo>
                  <a:lnTo>
                    <a:pt x="18027" y="5406"/>
                  </a:lnTo>
                  <a:lnTo>
                    <a:pt x="22178" y="3572"/>
                  </a:lnTo>
                  <a:lnTo>
                    <a:pt x="26639" y="2349"/>
                  </a:lnTo>
                  <a:lnTo>
                    <a:pt x="31306" y="1534"/>
                  </a:lnTo>
                  <a:lnTo>
                    <a:pt x="36110" y="991"/>
                  </a:lnTo>
                  <a:lnTo>
                    <a:pt x="41854" y="629"/>
                  </a:lnTo>
                  <a:lnTo>
                    <a:pt x="48223" y="387"/>
                  </a:lnTo>
                  <a:lnTo>
                    <a:pt x="69321" y="47"/>
                  </a:lnTo>
                  <a:lnTo>
                    <a:pt x="76695" y="0"/>
                  </a:lnTo>
                  <a:lnTo>
                    <a:pt x="84149" y="814"/>
                  </a:lnTo>
                  <a:lnTo>
                    <a:pt x="91660" y="2205"/>
                  </a:lnTo>
                  <a:lnTo>
                    <a:pt x="99207" y="3978"/>
                  </a:lnTo>
                  <a:lnTo>
                    <a:pt x="106778" y="6007"/>
                  </a:lnTo>
                  <a:lnTo>
                    <a:pt x="121964" y="10519"/>
                  </a:lnTo>
                  <a:lnTo>
                    <a:pt x="144793" y="17819"/>
                  </a:lnTo>
                  <a:lnTo>
                    <a:pt x="151562" y="21160"/>
                  </a:lnTo>
                  <a:lnTo>
                    <a:pt x="157768" y="25082"/>
                  </a:lnTo>
                  <a:lnTo>
                    <a:pt x="163599" y="29389"/>
                  </a:lnTo>
                  <a:lnTo>
                    <a:pt x="169180" y="33108"/>
                  </a:lnTo>
                  <a:lnTo>
                    <a:pt x="174593" y="36433"/>
                  </a:lnTo>
                  <a:lnTo>
                    <a:pt x="179895" y="39497"/>
                  </a:lnTo>
                  <a:lnTo>
                    <a:pt x="190303" y="45159"/>
                  </a:lnTo>
                  <a:lnTo>
                    <a:pt x="195449" y="47854"/>
                  </a:lnTo>
                  <a:lnTo>
                    <a:pt x="198879" y="51344"/>
                  </a:lnTo>
                  <a:lnTo>
                    <a:pt x="201166" y="55364"/>
                  </a:lnTo>
                  <a:lnTo>
                    <a:pt x="202691" y="59737"/>
                  </a:lnTo>
                  <a:lnTo>
                    <a:pt x="202860" y="63500"/>
                  </a:lnTo>
                  <a:lnTo>
                    <a:pt x="202127" y="66855"/>
                  </a:lnTo>
                  <a:lnTo>
                    <a:pt x="200792" y="69938"/>
                  </a:lnTo>
                  <a:lnTo>
                    <a:pt x="197361" y="72840"/>
                  </a:lnTo>
                  <a:lnTo>
                    <a:pt x="192534" y="75622"/>
                  </a:lnTo>
                  <a:lnTo>
                    <a:pt x="186775" y="78322"/>
                  </a:lnTo>
                  <a:lnTo>
                    <a:pt x="181244" y="81817"/>
                  </a:lnTo>
                  <a:lnTo>
                    <a:pt x="175863" y="85839"/>
                  </a:lnTo>
                  <a:lnTo>
                    <a:pt x="170582" y="90214"/>
                  </a:lnTo>
                  <a:lnTo>
                    <a:pt x="164521" y="93977"/>
                  </a:lnTo>
                  <a:lnTo>
                    <a:pt x="157940" y="97332"/>
                  </a:lnTo>
                  <a:lnTo>
                    <a:pt x="151014" y="100417"/>
                  </a:lnTo>
                  <a:lnTo>
                    <a:pt x="143856" y="104166"/>
                  </a:lnTo>
                  <a:lnTo>
                    <a:pt x="136544" y="108358"/>
                  </a:lnTo>
                  <a:lnTo>
                    <a:pt x="129130" y="112847"/>
                  </a:lnTo>
                  <a:lnTo>
                    <a:pt x="122493" y="116686"/>
                  </a:lnTo>
                  <a:lnTo>
                    <a:pt x="110603" y="123209"/>
                  </a:lnTo>
                  <a:lnTo>
                    <a:pt x="104216" y="126134"/>
                  </a:lnTo>
                  <a:lnTo>
                    <a:pt x="97417" y="128931"/>
                  </a:lnTo>
                  <a:lnTo>
                    <a:pt x="90346" y="131642"/>
                  </a:lnTo>
                  <a:lnTo>
                    <a:pt x="84783" y="134296"/>
                  </a:lnTo>
                  <a:lnTo>
                    <a:pt x="80230" y="136912"/>
                  </a:lnTo>
                  <a:lnTo>
                    <a:pt x="76347" y="139503"/>
                  </a:lnTo>
                  <a:lnTo>
                    <a:pt x="73758" y="142077"/>
                  </a:lnTo>
                  <a:lnTo>
                    <a:pt x="72032" y="144639"/>
                  </a:lnTo>
                  <a:lnTo>
                    <a:pt x="70882" y="147194"/>
                  </a:lnTo>
                  <a:lnTo>
                    <a:pt x="70962" y="149745"/>
                  </a:lnTo>
                  <a:lnTo>
                    <a:pt x="71861" y="152291"/>
                  </a:lnTo>
                  <a:lnTo>
                    <a:pt x="75119" y="157378"/>
                  </a:lnTo>
                  <a:lnTo>
                    <a:pt x="79389" y="162461"/>
                  </a:lnTo>
                  <a:lnTo>
                    <a:pt x="83405" y="165849"/>
                  </a:lnTo>
                  <a:lnTo>
                    <a:pt x="88623" y="169800"/>
                  </a:lnTo>
                  <a:lnTo>
                    <a:pt x="94643" y="174128"/>
                  </a:lnTo>
                  <a:lnTo>
                    <a:pt x="101195" y="179553"/>
                  </a:lnTo>
                  <a:lnTo>
                    <a:pt x="108103" y="185711"/>
                  </a:lnTo>
                  <a:lnTo>
                    <a:pt x="115249" y="192355"/>
                  </a:lnTo>
                  <a:lnTo>
                    <a:pt x="123399" y="198478"/>
                  </a:lnTo>
                  <a:lnTo>
                    <a:pt x="132220" y="204254"/>
                  </a:lnTo>
                  <a:lnTo>
                    <a:pt x="141487" y="209797"/>
                  </a:lnTo>
                  <a:lnTo>
                    <a:pt x="151051" y="215186"/>
                  </a:lnTo>
                  <a:lnTo>
                    <a:pt x="170710" y="225690"/>
                  </a:lnTo>
                  <a:lnTo>
                    <a:pt x="178999" y="231708"/>
                  </a:lnTo>
                  <a:lnTo>
                    <a:pt x="186220" y="238259"/>
                  </a:lnTo>
                  <a:lnTo>
                    <a:pt x="198757" y="251467"/>
                  </a:lnTo>
                  <a:lnTo>
                    <a:pt x="209974" y="262980"/>
                  </a:lnTo>
                  <a:lnTo>
                    <a:pt x="213643" y="268422"/>
                  </a:lnTo>
                  <a:lnTo>
                    <a:pt x="216088" y="273743"/>
                  </a:lnTo>
                  <a:lnTo>
                    <a:pt x="217718" y="278983"/>
                  </a:lnTo>
                  <a:lnTo>
                    <a:pt x="217960" y="283323"/>
                  </a:lnTo>
                  <a:lnTo>
                    <a:pt x="217272" y="287063"/>
                  </a:lnTo>
                  <a:lnTo>
                    <a:pt x="214252" y="293477"/>
                  </a:lnTo>
                  <a:lnTo>
                    <a:pt x="210088" y="299150"/>
                  </a:lnTo>
                  <a:lnTo>
                    <a:pt x="206945" y="301848"/>
                  </a:lnTo>
                  <a:lnTo>
                    <a:pt x="203157" y="304493"/>
                  </a:lnTo>
                  <a:lnTo>
                    <a:pt x="198937" y="307103"/>
                  </a:lnTo>
                  <a:lnTo>
                    <a:pt x="192739" y="309690"/>
                  </a:lnTo>
                  <a:lnTo>
                    <a:pt x="185220" y="312262"/>
                  </a:lnTo>
                  <a:lnTo>
                    <a:pt x="160713" y="319926"/>
                  </a:lnTo>
                  <a:lnTo>
                    <a:pt x="152863" y="322472"/>
                  </a:lnTo>
                  <a:lnTo>
                    <a:pt x="144242" y="324169"/>
                  </a:lnTo>
                  <a:lnTo>
                    <a:pt x="135108" y="325301"/>
                  </a:lnTo>
                  <a:lnTo>
                    <a:pt x="125633" y="326056"/>
                  </a:lnTo>
                  <a:lnTo>
                    <a:pt x="116774" y="326558"/>
                  </a:lnTo>
                  <a:lnTo>
                    <a:pt x="100160" y="327117"/>
                  </a:lnTo>
                  <a:lnTo>
                    <a:pt x="76526" y="327432"/>
                  </a:lnTo>
                  <a:lnTo>
                    <a:pt x="69645" y="326630"/>
                  </a:lnTo>
                  <a:lnTo>
                    <a:pt x="63363" y="325248"/>
                  </a:lnTo>
                  <a:lnTo>
                    <a:pt x="57483" y="323479"/>
                  </a:lnTo>
                  <a:lnTo>
                    <a:pt x="51867" y="322301"/>
                  </a:lnTo>
                  <a:lnTo>
                    <a:pt x="46432" y="321516"/>
                  </a:lnTo>
                  <a:lnTo>
                    <a:pt x="30480" y="3199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SMARTInkAnnotation159"/>
            <p:cNvSpPr/>
            <p:nvPr/>
          </p:nvSpPr>
          <p:spPr>
            <a:xfrm>
              <a:off x="7292160" y="5631120"/>
              <a:ext cx="112680" cy="312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12669" h="312421">
                  <a:moveTo>
                    <a:pt x="38100" y="0"/>
                  </a:moveTo>
                  <a:lnTo>
                    <a:pt x="42146" y="4045"/>
                  </a:lnTo>
                  <a:lnTo>
                    <a:pt x="44184" y="5237"/>
                  </a:lnTo>
                  <a:lnTo>
                    <a:pt x="46389" y="6032"/>
                  </a:lnTo>
                  <a:lnTo>
                    <a:pt x="51968" y="7306"/>
                  </a:lnTo>
                  <a:lnTo>
                    <a:pt x="54118" y="9104"/>
                  </a:lnTo>
                  <a:lnTo>
                    <a:pt x="57245" y="11996"/>
                  </a:lnTo>
                  <a:lnTo>
                    <a:pt x="69738" y="24157"/>
                  </a:lnTo>
                  <a:lnTo>
                    <a:pt x="74431" y="28804"/>
                  </a:lnTo>
                  <a:lnTo>
                    <a:pt x="79254" y="34443"/>
                  </a:lnTo>
                  <a:lnTo>
                    <a:pt x="84163" y="40742"/>
                  </a:lnTo>
                  <a:lnTo>
                    <a:pt x="89129" y="47482"/>
                  </a:lnTo>
                  <a:lnTo>
                    <a:pt x="93286" y="54514"/>
                  </a:lnTo>
                  <a:lnTo>
                    <a:pt x="96904" y="61743"/>
                  </a:lnTo>
                  <a:lnTo>
                    <a:pt x="100162" y="69102"/>
                  </a:lnTo>
                  <a:lnTo>
                    <a:pt x="103181" y="76548"/>
                  </a:lnTo>
                  <a:lnTo>
                    <a:pt x="108794" y="91594"/>
                  </a:lnTo>
                  <a:lnTo>
                    <a:pt x="110630" y="100010"/>
                  </a:lnTo>
                  <a:lnTo>
                    <a:pt x="111853" y="109007"/>
                  </a:lnTo>
                  <a:lnTo>
                    <a:pt x="112668" y="118391"/>
                  </a:lnTo>
                  <a:lnTo>
                    <a:pt x="112365" y="128034"/>
                  </a:lnTo>
                  <a:lnTo>
                    <a:pt x="111317" y="137850"/>
                  </a:lnTo>
                  <a:lnTo>
                    <a:pt x="109771" y="147780"/>
                  </a:lnTo>
                  <a:lnTo>
                    <a:pt x="107894" y="157786"/>
                  </a:lnTo>
                  <a:lnTo>
                    <a:pt x="103551" y="177936"/>
                  </a:lnTo>
                  <a:lnTo>
                    <a:pt x="101207" y="187204"/>
                  </a:lnTo>
                  <a:lnTo>
                    <a:pt x="98798" y="195923"/>
                  </a:lnTo>
                  <a:lnTo>
                    <a:pt x="96345" y="204275"/>
                  </a:lnTo>
                  <a:lnTo>
                    <a:pt x="93017" y="212384"/>
                  </a:lnTo>
                  <a:lnTo>
                    <a:pt x="89105" y="220329"/>
                  </a:lnTo>
                  <a:lnTo>
                    <a:pt x="84804" y="228166"/>
                  </a:lnTo>
                  <a:lnTo>
                    <a:pt x="79395" y="235931"/>
                  </a:lnTo>
                  <a:lnTo>
                    <a:pt x="73250" y="243647"/>
                  </a:lnTo>
                  <a:lnTo>
                    <a:pt x="66614" y="251331"/>
                  </a:lnTo>
                  <a:lnTo>
                    <a:pt x="60496" y="258148"/>
                  </a:lnTo>
                  <a:lnTo>
                    <a:pt x="49182" y="270237"/>
                  </a:lnTo>
                  <a:lnTo>
                    <a:pt x="33294" y="286563"/>
                  </a:lnTo>
                  <a:lnTo>
                    <a:pt x="28122" y="290948"/>
                  </a:lnTo>
                  <a:lnTo>
                    <a:pt x="22982" y="294719"/>
                  </a:lnTo>
                  <a:lnTo>
                    <a:pt x="17862" y="298079"/>
                  </a:lnTo>
                  <a:lnTo>
                    <a:pt x="13602" y="300319"/>
                  </a:lnTo>
                  <a:lnTo>
                    <a:pt x="9914" y="301814"/>
                  </a:lnTo>
                  <a:lnTo>
                    <a:pt x="6609" y="302809"/>
                  </a:lnTo>
                  <a:lnTo>
                    <a:pt x="4407" y="304319"/>
                  </a:lnTo>
                  <a:lnTo>
                    <a:pt x="2938" y="306173"/>
                  </a:lnTo>
                  <a:lnTo>
                    <a:pt x="0" y="3124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SMARTInkAnnotation160"/>
            <p:cNvSpPr/>
            <p:nvPr/>
          </p:nvSpPr>
          <p:spPr>
            <a:xfrm>
              <a:off x="7553160" y="5486400"/>
              <a:ext cx="249480" cy="2577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249679" h="257755">
                  <a:moveTo>
                    <a:pt x="51559" y="22756"/>
                  </a:moveTo>
                  <a:lnTo>
                    <a:pt x="55603" y="18711"/>
                  </a:lnTo>
                  <a:lnTo>
                    <a:pt x="62105" y="14467"/>
                  </a:lnTo>
                  <a:lnTo>
                    <a:pt x="71986" y="8889"/>
                  </a:lnTo>
                  <a:lnTo>
                    <a:pt x="81788" y="3878"/>
                  </a:lnTo>
                  <a:lnTo>
                    <a:pt x="87797" y="2550"/>
                  </a:lnTo>
                  <a:lnTo>
                    <a:pt x="95191" y="1666"/>
                  </a:lnTo>
                  <a:lnTo>
                    <a:pt x="103507" y="1076"/>
                  </a:lnTo>
                  <a:lnTo>
                    <a:pt x="117262" y="420"/>
                  </a:lnTo>
                  <a:lnTo>
                    <a:pt x="129866" y="129"/>
                  </a:lnTo>
                  <a:lnTo>
                    <a:pt x="143935" y="0"/>
                  </a:lnTo>
                  <a:lnTo>
                    <a:pt x="150396" y="812"/>
                  </a:lnTo>
                  <a:lnTo>
                    <a:pt x="156396" y="2201"/>
                  </a:lnTo>
                  <a:lnTo>
                    <a:pt x="162091" y="3972"/>
                  </a:lnTo>
                  <a:lnTo>
                    <a:pt x="167580" y="6000"/>
                  </a:lnTo>
                  <a:lnTo>
                    <a:pt x="172932" y="8199"/>
                  </a:lnTo>
                  <a:lnTo>
                    <a:pt x="178194" y="10512"/>
                  </a:lnTo>
                  <a:lnTo>
                    <a:pt x="182549" y="12899"/>
                  </a:lnTo>
                  <a:lnTo>
                    <a:pt x="189646" y="17811"/>
                  </a:lnTo>
                  <a:lnTo>
                    <a:pt x="195621" y="22816"/>
                  </a:lnTo>
                  <a:lnTo>
                    <a:pt x="198400" y="25336"/>
                  </a:lnTo>
                  <a:lnTo>
                    <a:pt x="200253" y="27863"/>
                  </a:lnTo>
                  <a:lnTo>
                    <a:pt x="202311" y="32928"/>
                  </a:lnTo>
                  <a:lnTo>
                    <a:pt x="203226" y="40259"/>
                  </a:lnTo>
                  <a:lnTo>
                    <a:pt x="203471" y="44585"/>
                  </a:lnTo>
                  <a:lnTo>
                    <a:pt x="201939" y="49162"/>
                  </a:lnTo>
                  <a:lnTo>
                    <a:pt x="199226" y="53907"/>
                  </a:lnTo>
                  <a:lnTo>
                    <a:pt x="195723" y="58763"/>
                  </a:lnTo>
                  <a:lnTo>
                    <a:pt x="182703" y="77734"/>
                  </a:lnTo>
                  <a:lnTo>
                    <a:pt x="177088" y="83961"/>
                  </a:lnTo>
                  <a:lnTo>
                    <a:pt x="170805" y="89806"/>
                  </a:lnTo>
                  <a:lnTo>
                    <a:pt x="164076" y="95396"/>
                  </a:lnTo>
                  <a:lnTo>
                    <a:pt x="147568" y="108380"/>
                  </a:lnTo>
                  <a:lnTo>
                    <a:pt x="109376" y="137413"/>
                  </a:lnTo>
                  <a:lnTo>
                    <a:pt x="99417" y="144067"/>
                  </a:lnTo>
                  <a:lnTo>
                    <a:pt x="89390" y="150197"/>
                  </a:lnTo>
                  <a:lnTo>
                    <a:pt x="79319" y="155976"/>
                  </a:lnTo>
                  <a:lnTo>
                    <a:pt x="70066" y="162370"/>
                  </a:lnTo>
                  <a:lnTo>
                    <a:pt x="61356" y="169172"/>
                  </a:lnTo>
                  <a:lnTo>
                    <a:pt x="53010" y="176247"/>
                  </a:lnTo>
                  <a:lnTo>
                    <a:pt x="44906" y="182657"/>
                  </a:lnTo>
                  <a:lnTo>
                    <a:pt x="36964" y="188624"/>
                  </a:lnTo>
                  <a:lnTo>
                    <a:pt x="29129" y="194294"/>
                  </a:lnTo>
                  <a:lnTo>
                    <a:pt x="23059" y="199768"/>
                  </a:lnTo>
                  <a:lnTo>
                    <a:pt x="18165" y="205111"/>
                  </a:lnTo>
                  <a:lnTo>
                    <a:pt x="14056" y="210366"/>
                  </a:lnTo>
                  <a:lnTo>
                    <a:pt x="10470" y="214716"/>
                  </a:lnTo>
                  <a:lnTo>
                    <a:pt x="4228" y="221808"/>
                  </a:lnTo>
                  <a:lnTo>
                    <a:pt x="2224" y="225730"/>
                  </a:lnTo>
                  <a:lnTo>
                    <a:pt x="890" y="230039"/>
                  </a:lnTo>
                  <a:lnTo>
                    <a:pt x="0" y="234605"/>
                  </a:lnTo>
                  <a:lnTo>
                    <a:pt x="252" y="238495"/>
                  </a:lnTo>
                  <a:lnTo>
                    <a:pt x="1267" y="241935"/>
                  </a:lnTo>
                  <a:lnTo>
                    <a:pt x="2791" y="245076"/>
                  </a:lnTo>
                  <a:lnTo>
                    <a:pt x="5501" y="247169"/>
                  </a:lnTo>
                  <a:lnTo>
                    <a:pt x="8999" y="248565"/>
                  </a:lnTo>
                  <a:lnTo>
                    <a:pt x="13026" y="249495"/>
                  </a:lnTo>
                  <a:lnTo>
                    <a:pt x="18250" y="250962"/>
                  </a:lnTo>
                  <a:lnTo>
                    <a:pt x="30827" y="254850"/>
                  </a:lnTo>
                  <a:lnTo>
                    <a:pt x="38584" y="256226"/>
                  </a:lnTo>
                  <a:lnTo>
                    <a:pt x="47142" y="257142"/>
                  </a:lnTo>
                  <a:lnTo>
                    <a:pt x="56234" y="257754"/>
                  </a:lnTo>
                  <a:lnTo>
                    <a:pt x="67375" y="257314"/>
                  </a:lnTo>
                  <a:lnTo>
                    <a:pt x="79883" y="256175"/>
                  </a:lnTo>
                  <a:lnTo>
                    <a:pt x="93301" y="254568"/>
                  </a:lnTo>
                  <a:lnTo>
                    <a:pt x="106480" y="251804"/>
                  </a:lnTo>
                  <a:lnTo>
                    <a:pt x="119500" y="248268"/>
                  </a:lnTo>
                  <a:lnTo>
                    <a:pt x="132413" y="244218"/>
                  </a:lnTo>
                  <a:lnTo>
                    <a:pt x="146101" y="240670"/>
                  </a:lnTo>
                  <a:lnTo>
                    <a:pt x="160307" y="237459"/>
                  </a:lnTo>
                  <a:lnTo>
                    <a:pt x="174857" y="234471"/>
                  </a:lnTo>
                  <a:lnTo>
                    <a:pt x="187098" y="231633"/>
                  </a:lnTo>
                  <a:lnTo>
                    <a:pt x="197798" y="228894"/>
                  </a:lnTo>
                  <a:lnTo>
                    <a:pt x="207472" y="226221"/>
                  </a:lnTo>
                  <a:lnTo>
                    <a:pt x="216459" y="222746"/>
                  </a:lnTo>
                  <a:lnTo>
                    <a:pt x="224992" y="218737"/>
                  </a:lnTo>
                  <a:lnTo>
                    <a:pt x="249678" y="20563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SMARTInkAnnotation161"/>
            <p:cNvSpPr/>
            <p:nvPr/>
          </p:nvSpPr>
          <p:spPr>
            <a:xfrm>
              <a:off x="7864920" y="5478840"/>
              <a:ext cx="234720" cy="1180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35029" h="118346">
                  <a:moveTo>
                    <a:pt x="36908" y="7593"/>
                  </a:moveTo>
                  <a:lnTo>
                    <a:pt x="36908" y="286"/>
                  </a:lnTo>
                  <a:lnTo>
                    <a:pt x="43470" y="0"/>
                  </a:lnTo>
                  <a:lnTo>
                    <a:pt x="43822" y="838"/>
                  </a:lnTo>
                  <a:lnTo>
                    <a:pt x="44215" y="4026"/>
                  </a:lnTo>
                  <a:lnTo>
                    <a:pt x="44435" y="6536"/>
                  </a:lnTo>
                  <a:lnTo>
                    <a:pt x="42773" y="8582"/>
                  </a:lnTo>
                  <a:lnTo>
                    <a:pt x="39971" y="11639"/>
                  </a:lnTo>
                  <a:lnTo>
                    <a:pt x="30196" y="21774"/>
                  </a:lnTo>
                  <a:lnTo>
                    <a:pt x="27353" y="24667"/>
                  </a:lnTo>
                  <a:lnTo>
                    <a:pt x="24611" y="28289"/>
                  </a:lnTo>
                  <a:lnTo>
                    <a:pt x="21937" y="32397"/>
                  </a:lnTo>
                  <a:lnTo>
                    <a:pt x="19307" y="36829"/>
                  </a:lnTo>
                  <a:lnTo>
                    <a:pt x="16707" y="41477"/>
                  </a:lnTo>
                  <a:lnTo>
                    <a:pt x="11561" y="51157"/>
                  </a:lnTo>
                  <a:lnTo>
                    <a:pt x="9850" y="56109"/>
                  </a:lnTo>
                  <a:lnTo>
                    <a:pt x="8709" y="61104"/>
                  </a:lnTo>
                  <a:lnTo>
                    <a:pt x="7949" y="66127"/>
                  </a:lnTo>
                  <a:lnTo>
                    <a:pt x="6595" y="70322"/>
                  </a:lnTo>
                  <a:lnTo>
                    <a:pt x="4847" y="73966"/>
                  </a:lnTo>
                  <a:lnTo>
                    <a:pt x="2833" y="77241"/>
                  </a:lnTo>
                  <a:lnTo>
                    <a:pt x="1492" y="81119"/>
                  </a:lnTo>
                  <a:lnTo>
                    <a:pt x="598" y="85396"/>
                  </a:lnTo>
                  <a:lnTo>
                    <a:pt x="0" y="89941"/>
                  </a:lnTo>
                  <a:lnTo>
                    <a:pt x="450" y="93818"/>
                  </a:lnTo>
                  <a:lnTo>
                    <a:pt x="1596" y="97250"/>
                  </a:lnTo>
                  <a:lnTo>
                    <a:pt x="3207" y="100384"/>
                  </a:lnTo>
                  <a:lnTo>
                    <a:pt x="5126" y="103320"/>
                  </a:lnTo>
                  <a:lnTo>
                    <a:pt x="7254" y="106125"/>
                  </a:lnTo>
                  <a:lnTo>
                    <a:pt x="9519" y="108841"/>
                  </a:lnTo>
                  <a:lnTo>
                    <a:pt x="12721" y="110651"/>
                  </a:lnTo>
                  <a:lnTo>
                    <a:pt x="16551" y="111859"/>
                  </a:lnTo>
                  <a:lnTo>
                    <a:pt x="20797" y="112663"/>
                  </a:lnTo>
                  <a:lnTo>
                    <a:pt x="25320" y="114047"/>
                  </a:lnTo>
                  <a:lnTo>
                    <a:pt x="30030" y="115815"/>
                  </a:lnTo>
                  <a:lnTo>
                    <a:pt x="34863" y="117841"/>
                  </a:lnTo>
                  <a:lnTo>
                    <a:pt x="40624" y="118345"/>
                  </a:lnTo>
                  <a:lnTo>
                    <a:pt x="47005" y="117834"/>
                  </a:lnTo>
                  <a:lnTo>
                    <a:pt x="53799" y="116647"/>
                  </a:lnTo>
                  <a:lnTo>
                    <a:pt x="61716" y="115856"/>
                  </a:lnTo>
                  <a:lnTo>
                    <a:pt x="70380" y="115328"/>
                  </a:lnTo>
                  <a:lnTo>
                    <a:pt x="79543" y="114977"/>
                  </a:lnTo>
                  <a:lnTo>
                    <a:pt x="89038" y="113895"/>
                  </a:lnTo>
                  <a:lnTo>
                    <a:pt x="98755" y="112328"/>
                  </a:lnTo>
                  <a:lnTo>
                    <a:pt x="108619" y="110436"/>
                  </a:lnTo>
                  <a:lnTo>
                    <a:pt x="118582" y="107481"/>
                  </a:lnTo>
                  <a:lnTo>
                    <a:pt x="128611" y="103819"/>
                  </a:lnTo>
                  <a:lnTo>
                    <a:pt x="138683" y="99683"/>
                  </a:lnTo>
                  <a:lnTo>
                    <a:pt x="147939" y="96080"/>
                  </a:lnTo>
                  <a:lnTo>
                    <a:pt x="164995" y="89818"/>
                  </a:lnTo>
                  <a:lnTo>
                    <a:pt x="173946" y="86117"/>
                  </a:lnTo>
                  <a:lnTo>
                    <a:pt x="183300" y="81956"/>
                  </a:lnTo>
                  <a:lnTo>
                    <a:pt x="192923" y="77488"/>
                  </a:lnTo>
                  <a:lnTo>
                    <a:pt x="200184" y="73663"/>
                  </a:lnTo>
                  <a:lnTo>
                    <a:pt x="205872" y="70266"/>
                  </a:lnTo>
                  <a:lnTo>
                    <a:pt x="210512" y="67155"/>
                  </a:lnTo>
                  <a:lnTo>
                    <a:pt x="215297" y="64234"/>
                  </a:lnTo>
                  <a:lnTo>
                    <a:pt x="220181" y="61441"/>
                  </a:lnTo>
                  <a:lnTo>
                    <a:pt x="235028" y="533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SMARTInkAnnotation162"/>
            <p:cNvSpPr/>
            <p:nvPr/>
          </p:nvSpPr>
          <p:spPr>
            <a:xfrm>
              <a:off x="8065440" y="5440680"/>
              <a:ext cx="42120" cy="266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2255" h="266701">
                  <a:moveTo>
                    <a:pt x="42254" y="0"/>
                  </a:moveTo>
                  <a:lnTo>
                    <a:pt x="42254" y="4045"/>
                  </a:lnTo>
                  <a:lnTo>
                    <a:pt x="41408" y="6931"/>
                  </a:lnTo>
                  <a:lnTo>
                    <a:pt x="39996" y="10546"/>
                  </a:lnTo>
                  <a:lnTo>
                    <a:pt x="38209" y="14651"/>
                  </a:lnTo>
                  <a:lnTo>
                    <a:pt x="37017" y="19081"/>
                  </a:lnTo>
                  <a:lnTo>
                    <a:pt x="36223" y="23727"/>
                  </a:lnTo>
                  <a:lnTo>
                    <a:pt x="35693" y="28518"/>
                  </a:lnTo>
                  <a:lnTo>
                    <a:pt x="34494" y="33405"/>
                  </a:lnTo>
                  <a:lnTo>
                    <a:pt x="32847" y="38356"/>
                  </a:lnTo>
                  <a:lnTo>
                    <a:pt x="30903" y="43352"/>
                  </a:lnTo>
                  <a:lnTo>
                    <a:pt x="28761" y="48374"/>
                  </a:lnTo>
                  <a:lnTo>
                    <a:pt x="24121" y="58471"/>
                  </a:lnTo>
                  <a:lnTo>
                    <a:pt x="21699" y="65227"/>
                  </a:lnTo>
                  <a:lnTo>
                    <a:pt x="19238" y="73118"/>
                  </a:lnTo>
                  <a:lnTo>
                    <a:pt x="16750" y="81765"/>
                  </a:lnTo>
                  <a:lnTo>
                    <a:pt x="15092" y="90070"/>
                  </a:lnTo>
                  <a:lnTo>
                    <a:pt x="13985" y="98147"/>
                  </a:lnTo>
                  <a:lnTo>
                    <a:pt x="13248" y="106071"/>
                  </a:lnTo>
                  <a:lnTo>
                    <a:pt x="11910" y="114741"/>
                  </a:lnTo>
                  <a:lnTo>
                    <a:pt x="10172" y="123907"/>
                  </a:lnTo>
                  <a:lnTo>
                    <a:pt x="8166" y="133405"/>
                  </a:lnTo>
                  <a:lnTo>
                    <a:pt x="6829" y="142277"/>
                  </a:lnTo>
                  <a:lnTo>
                    <a:pt x="5936" y="150731"/>
                  </a:lnTo>
                  <a:lnTo>
                    <a:pt x="5343" y="158907"/>
                  </a:lnTo>
                  <a:lnTo>
                    <a:pt x="4101" y="166898"/>
                  </a:lnTo>
                  <a:lnTo>
                    <a:pt x="2425" y="174766"/>
                  </a:lnTo>
                  <a:lnTo>
                    <a:pt x="462" y="182550"/>
                  </a:lnTo>
                  <a:lnTo>
                    <a:pt x="0" y="190281"/>
                  </a:lnTo>
                  <a:lnTo>
                    <a:pt x="537" y="197973"/>
                  </a:lnTo>
                  <a:lnTo>
                    <a:pt x="1743" y="205643"/>
                  </a:lnTo>
                  <a:lnTo>
                    <a:pt x="2547" y="213295"/>
                  </a:lnTo>
                  <a:lnTo>
                    <a:pt x="3083" y="220937"/>
                  </a:lnTo>
                  <a:lnTo>
                    <a:pt x="3440" y="228572"/>
                  </a:lnTo>
                  <a:lnTo>
                    <a:pt x="4525" y="234507"/>
                  </a:lnTo>
                  <a:lnTo>
                    <a:pt x="6095" y="239312"/>
                  </a:lnTo>
                  <a:lnTo>
                    <a:pt x="7987" y="243361"/>
                  </a:lnTo>
                  <a:lnTo>
                    <a:pt x="10944" y="247754"/>
                  </a:lnTo>
                  <a:lnTo>
                    <a:pt x="14606" y="252376"/>
                  </a:lnTo>
                  <a:lnTo>
                    <a:pt x="27014" y="2667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SMARTInkAnnotation163"/>
            <p:cNvSpPr/>
            <p:nvPr/>
          </p:nvSpPr>
          <p:spPr>
            <a:xfrm>
              <a:off x="8130600" y="5639040"/>
              <a:ext cx="135360" cy="30456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135630" h="304801">
                  <a:moveTo>
                    <a:pt x="76200" y="0"/>
                  </a:moveTo>
                  <a:lnTo>
                    <a:pt x="80245" y="0"/>
                  </a:lnTo>
                  <a:lnTo>
                    <a:pt x="82283" y="846"/>
                  </a:lnTo>
                  <a:lnTo>
                    <a:pt x="84488" y="2258"/>
                  </a:lnTo>
                  <a:lnTo>
                    <a:pt x="90067" y="6561"/>
                  </a:lnTo>
                  <a:lnTo>
                    <a:pt x="93087" y="9408"/>
                  </a:lnTo>
                  <a:lnTo>
                    <a:pt x="95078" y="11352"/>
                  </a:lnTo>
                  <a:lnTo>
                    <a:pt x="98099" y="15187"/>
                  </a:lnTo>
                  <a:lnTo>
                    <a:pt x="101805" y="20285"/>
                  </a:lnTo>
                  <a:lnTo>
                    <a:pt x="105970" y="26224"/>
                  </a:lnTo>
                  <a:lnTo>
                    <a:pt x="109593" y="31876"/>
                  </a:lnTo>
                  <a:lnTo>
                    <a:pt x="112854" y="37337"/>
                  </a:lnTo>
                  <a:lnTo>
                    <a:pt x="115877" y="42671"/>
                  </a:lnTo>
                  <a:lnTo>
                    <a:pt x="118737" y="48768"/>
                  </a:lnTo>
                  <a:lnTo>
                    <a:pt x="121491" y="55372"/>
                  </a:lnTo>
                  <a:lnTo>
                    <a:pt x="124174" y="62315"/>
                  </a:lnTo>
                  <a:lnTo>
                    <a:pt x="126809" y="70330"/>
                  </a:lnTo>
                  <a:lnTo>
                    <a:pt x="129413" y="79060"/>
                  </a:lnTo>
                  <a:lnTo>
                    <a:pt x="131995" y="88267"/>
                  </a:lnTo>
                  <a:lnTo>
                    <a:pt x="133717" y="97792"/>
                  </a:lnTo>
                  <a:lnTo>
                    <a:pt x="134864" y="107528"/>
                  </a:lnTo>
                  <a:lnTo>
                    <a:pt x="135629" y="117405"/>
                  </a:lnTo>
                  <a:lnTo>
                    <a:pt x="135292" y="126530"/>
                  </a:lnTo>
                  <a:lnTo>
                    <a:pt x="134222" y="135153"/>
                  </a:lnTo>
                  <a:lnTo>
                    <a:pt x="132662" y="143443"/>
                  </a:lnTo>
                  <a:lnTo>
                    <a:pt x="128669" y="161684"/>
                  </a:lnTo>
                  <a:lnTo>
                    <a:pt x="126419" y="171289"/>
                  </a:lnTo>
                  <a:lnTo>
                    <a:pt x="123225" y="181080"/>
                  </a:lnTo>
                  <a:lnTo>
                    <a:pt x="119403" y="190993"/>
                  </a:lnTo>
                  <a:lnTo>
                    <a:pt x="115161" y="200989"/>
                  </a:lnTo>
                  <a:lnTo>
                    <a:pt x="110640" y="210193"/>
                  </a:lnTo>
                  <a:lnTo>
                    <a:pt x="105933" y="218868"/>
                  </a:lnTo>
                  <a:lnTo>
                    <a:pt x="101102" y="227192"/>
                  </a:lnTo>
                  <a:lnTo>
                    <a:pt x="95341" y="234435"/>
                  </a:lnTo>
                  <a:lnTo>
                    <a:pt x="88960" y="240957"/>
                  </a:lnTo>
                  <a:lnTo>
                    <a:pt x="82167" y="246998"/>
                  </a:lnTo>
                  <a:lnTo>
                    <a:pt x="75944" y="253566"/>
                  </a:lnTo>
                  <a:lnTo>
                    <a:pt x="70103" y="260484"/>
                  </a:lnTo>
                  <a:lnTo>
                    <a:pt x="64515" y="267636"/>
                  </a:lnTo>
                  <a:lnTo>
                    <a:pt x="59096" y="273251"/>
                  </a:lnTo>
                  <a:lnTo>
                    <a:pt x="53790" y="277840"/>
                  </a:lnTo>
                  <a:lnTo>
                    <a:pt x="48560" y="281747"/>
                  </a:lnTo>
                  <a:lnTo>
                    <a:pt x="35974" y="290603"/>
                  </a:lnTo>
                  <a:lnTo>
                    <a:pt x="29063" y="295336"/>
                  </a:lnTo>
                  <a:lnTo>
                    <a:pt x="22761" y="298490"/>
                  </a:lnTo>
                  <a:lnTo>
                    <a:pt x="16868" y="300594"/>
                  </a:lnTo>
                  <a:lnTo>
                    <a:pt x="0" y="3048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SMARTInkAnnotation164"/>
            <p:cNvSpPr/>
            <p:nvPr/>
          </p:nvSpPr>
          <p:spPr>
            <a:xfrm>
              <a:off x="8374320" y="5440680"/>
              <a:ext cx="182880" cy="2361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82881" h="236177">
                  <a:moveTo>
                    <a:pt x="0" y="30436"/>
                  </a:moveTo>
                  <a:lnTo>
                    <a:pt x="4046" y="30436"/>
                  </a:lnTo>
                  <a:lnTo>
                    <a:pt x="6084" y="29589"/>
                  </a:lnTo>
                  <a:lnTo>
                    <a:pt x="10606" y="26391"/>
                  </a:lnTo>
                  <a:lnTo>
                    <a:pt x="12997" y="25199"/>
                  </a:lnTo>
                  <a:lnTo>
                    <a:pt x="17912" y="23875"/>
                  </a:lnTo>
                  <a:lnTo>
                    <a:pt x="21255" y="21829"/>
                  </a:lnTo>
                  <a:lnTo>
                    <a:pt x="25177" y="18771"/>
                  </a:lnTo>
                  <a:lnTo>
                    <a:pt x="29485" y="15039"/>
                  </a:lnTo>
                  <a:lnTo>
                    <a:pt x="34897" y="11705"/>
                  </a:lnTo>
                  <a:lnTo>
                    <a:pt x="41044" y="8635"/>
                  </a:lnTo>
                  <a:lnTo>
                    <a:pt x="47683" y="5742"/>
                  </a:lnTo>
                  <a:lnTo>
                    <a:pt x="55495" y="3813"/>
                  </a:lnTo>
                  <a:lnTo>
                    <a:pt x="64090" y="2527"/>
                  </a:lnTo>
                  <a:lnTo>
                    <a:pt x="73207" y="1670"/>
                  </a:lnTo>
                  <a:lnTo>
                    <a:pt x="81825" y="1099"/>
                  </a:lnTo>
                  <a:lnTo>
                    <a:pt x="90110" y="718"/>
                  </a:lnTo>
                  <a:lnTo>
                    <a:pt x="106088" y="294"/>
                  </a:lnTo>
                  <a:lnTo>
                    <a:pt x="140657" y="0"/>
                  </a:lnTo>
                  <a:lnTo>
                    <a:pt x="146264" y="832"/>
                  </a:lnTo>
                  <a:lnTo>
                    <a:pt x="151696" y="2234"/>
                  </a:lnTo>
                  <a:lnTo>
                    <a:pt x="157011" y="4014"/>
                  </a:lnTo>
                  <a:lnTo>
                    <a:pt x="161401" y="6048"/>
                  </a:lnTo>
                  <a:lnTo>
                    <a:pt x="165173" y="8250"/>
                  </a:lnTo>
                  <a:lnTo>
                    <a:pt x="168536" y="10565"/>
                  </a:lnTo>
                  <a:lnTo>
                    <a:pt x="170777" y="12956"/>
                  </a:lnTo>
                  <a:lnTo>
                    <a:pt x="172271" y="15396"/>
                  </a:lnTo>
                  <a:lnTo>
                    <a:pt x="173267" y="17869"/>
                  </a:lnTo>
                  <a:lnTo>
                    <a:pt x="174778" y="19518"/>
                  </a:lnTo>
                  <a:lnTo>
                    <a:pt x="176633" y="20617"/>
                  </a:lnTo>
                  <a:lnTo>
                    <a:pt x="178715" y="21351"/>
                  </a:lnTo>
                  <a:lnTo>
                    <a:pt x="180103" y="22686"/>
                  </a:lnTo>
                  <a:lnTo>
                    <a:pt x="181029" y="24422"/>
                  </a:lnTo>
                  <a:lnTo>
                    <a:pt x="181646" y="26427"/>
                  </a:lnTo>
                  <a:lnTo>
                    <a:pt x="181210" y="28610"/>
                  </a:lnTo>
                  <a:lnTo>
                    <a:pt x="178469" y="33293"/>
                  </a:lnTo>
                  <a:lnTo>
                    <a:pt x="174428" y="38197"/>
                  </a:lnTo>
                  <a:lnTo>
                    <a:pt x="168964" y="44045"/>
                  </a:lnTo>
                  <a:lnTo>
                    <a:pt x="160890" y="52289"/>
                  </a:lnTo>
                  <a:lnTo>
                    <a:pt x="155519" y="56011"/>
                  </a:lnTo>
                  <a:lnTo>
                    <a:pt x="149400" y="59340"/>
                  </a:lnTo>
                  <a:lnTo>
                    <a:pt x="142780" y="62405"/>
                  </a:lnTo>
                  <a:lnTo>
                    <a:pt x="135827" y="66142"/>
                  </a:lnTo>
                  <a:lnTo>
                    <a:pt x="128651" y="70327"/>
                  </a:lnTo>
                  <a:lnTo>
                    <a:pt x="113905" y="79492"/>
                  </a:lnTo>
                  <a:lnTo>
                    <a:pt x="98884" y="89211"/>
                  </a:lnTo>
                  <a:lnTo>
                    <a:pt x="90476" y="94172"/>
                  </a:lnTo>
                  <a:lnTo>
                    <a:pt x="81484" y="99173"/>
                  </a:lnTo>
                  <a:lnTo>
                    <a:pt x="57163" y="112044"/>
                  </a:lnTo>
                  <a:lnTo>
                    <a:pt x="50809" y="115322"/>
                  </a:lnTo>
                  <a:lnTo>
                    <a:pt x="44879" y="119200"/>
                  </a:lnTo>
                  <a:lnTo>
                    <a:pt x="39233" y="123478"/>
                  </a:lnTo>
                  <a:lnTo>
                    <a:pt x="33776" y="128024"/>
                  </a:lnTo>
                  <a:lnTo>
                    <a:pt x="28444" y="132749"/>
                  </a:lnTo>
                  <a:lnTo>
                    <a:pt x="18004" y="142513"/>
                  </a:lnTo>
                  <a:lnTo>
                    <a:pt x="6652" y="153485"/>
                  </a:lnTo>
                  <a:lnTo>
                    <a:pt x="4434" y="156495"/>
                  </a:lnTo>
                  <a:lnTo>
                    <a:pt x="1972" y="162098"/>
                  </a:lnTo>
                  <a:lnTo>
                    <a:pt x="1313" y="165624"/>
                  </a:lnTo>
                  <a:lnTo>
                    <a:pt x="875" y="169668"/>
                  </a:lnTo>
                  <a:lnTo>
                    <a:pt x="584" y="174058"/>
                  </a:lnTo>
                  <a:lnTo>
                    <a:pt x="1237" y="178677"/>
                  </a:lnTo>
                  <a:lnTo>
                    <a:pt x="2517" y="183450"/>
                  </a:lnTo>
                  <a:lnTo>
                    <a:pt x="4219" y="188325"/>
                  </a:lnTo>
                  <a:lnTo>
                    <a:pt x="6199" y="192423"/>
                  </a:lnTo>
                  <a:lnTo>
                    <a:pt x="10657" y="199232"/>
                  </a:lnTo>
                  <a:lnTo>
                    <a:pt x="13879" y="202233"/>
                  </a:lnTo>
                  <a:lnTo>
                    <a:pt x="17719" y="205081"/>
                  </a:lnTo>
                  <a:lnTo>
                    <a:pt x="21973" y="207827"/>
                  </a:lnTo>
                  <a:lnTo>
                    <a:pt x="26502" y="210503"/>
                  </a:lnTo>
                  <a:lnTo>
                    <a:pt x="31214" y="213134"/>
                  </a:lnTo>
                  <a:lnTo>
                    <a:pt x="36050" y="215735"/>
                  </a:lnTo>
                  <a:lnTo>
                    <a:pt x="42660" y="218315"/>
                  </a:lnTo>
                  <a:lnTo>
                    <a:pt x="50453" y="220882"/>
                  </a:lnTo>
                  <a:lnTo>
                    <a:pt x="67296" y="225992"/>
                  </a:lnTo>
                  <a:lnTo>
                    <a:pt x="83250" y="231086"/>
                  </a:lnTo>
                  <a:lnTo>
                    <a:pt x="91906" y="232782"/>
                  </a:lnTo>
                  <a:lnTo>
                    <a:pt x="101065" y="233913"/>
                  </a:lnTo>
                  <a:lnTo>
                    <a:pt x="110556" y="234668"/>
                  </a:lnTo>
                  <a:lnTo>
                    <a:pt x="119424" y="235171"/>
                  </a:lnTo>
                  <a:lnTo>
                    <a:pt x="136051" y="235729"/>
                  </a:lnTo>
                  <a:lnTo>
                    <a:pt x="182880" y="2361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SMARTInkAnnotation165"/>
            <p:cNvSpPr/>
            <p:nvPr/>
          </p:nvSpPr>
          <p:spPr>
            <a:xfrm>
              <a:off x="8580240" y="5402520"/>
              <a:ext cx="241920" cy="32364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42020" h="323828">
                  <a:moveTo>
                    <a:pt x="129491" y="0"/>
                  </a:moveTo>
                  <a:lnTo>
                    <a:pt x="122929" y="0"/>
                  </a:lnTo>
                  <a:lnTo>
                    <a:pt x="115997" y="5237"/>
                  </a:lnTo>
                  <a:lnTo>
                    <a:pt x="111358" y="6561"/>
                  </a:lnTo>
                  <a:lnTo>
                    <a:pt x="104216" y="9407"/>
                  </a:lnTo>
                  <a:lnTo>
                    <a:pt x="99940" y="11352"/>
                  </a:lnTo>
                  <a:lnTo>
                    <a:pt x="92933" y="15770"/>
                  </a:lnTo>
                  <a:lnTo>
                    <a:pt x="86148" y="20556"/>
                  </a:lnTo>
                  <a:lnTo>
                    <a:pt x="81969" y="23017"/>
                  </a:lnTo>
                  <a:lnTo>
                    <a:pt x="77490" y="25505"/>
                  </a:lnTo>
                  <a:lnTo>
                    <a:pt x="71963" y="28857"/>
                  </a:lnTo>
                  <a:lnTo>
                    <a:pt x="59049" y="37096"/>
                  </a:lnTo>
                  <a:lnTo>
                    <a:pt x="53743" y="40818"/>
                  </a:lnTo>
                  <a:lnTo>
                    <a:pt x="49358" y="44145"/>
                  </a:lnTo>
                  <a:lnTo>
                    <a:pt x="45590" y="47211"/>
                  </a:lnTo>
                  <a:lnTo>
                    <a:pt x="41383" y="50100"/>
                  </a:lnTo>
                  <a:lnTo>
                    <a:pt x="36885" y="52873"/>
                  </a:lnTo>
                  <a:lnTo>
                    <a:pt x="32193" y="55569"/>
                  </a:lnTo>
                  <a:lnTo>
                    <a:pt x="22465" y="60821"/>
                  </a:lnTo>
                  <a:lnTo>
                    <a:pt x="17501" y="63408"/>
                  </a:lnTo>
                  <a:lnTo>
                    <a:pt x="13343" y="65979"/>
                  </a:lnTo>
                  <a:lnTo>
                    <a:pt x="6467" y="71093"/>
                  </a:lnTo>
                  <a:lnTo>
                    <a:pt x="0" y="76161"/>
                  </a:lnTo>
                  <a:lnTo>
                    <a:pt x="8055" y="76189"/>
                  </a:lnTo>
                  <a:lnTo>
                    <a:pt x="12127" y="77039"/>
                  </a:lnTo>
                  <a:lnTo>
                    <a:pt x="16534" y="78453"/>
                  </a:lnTo>
                  <a:lnTo>
                    <a:pt x="21166" y="80242"/>
                  </a:lnTo>
                  <a:lnTo>
                    <a:pt x="25947" y="81435"/>
                  </a:lnTo>
                  <a:lnTo>
                    <a:pt x="30828" y="82229"/>
                  </a:lnTo>
                  <a:lnTo>
                    <a:pt x="35776" y="82760"/>
                  </a:lnTo>
                  <a:lnTo>
                    <a:pt x="42461" y="83113"/>
                  </a:lnTo>
                  <a:lnTo>
                    <a:pt x="58920" y="83506"/>
                  </a:lnTo>
                  <a:lnTo>
                    <a:pt x="87225" y="83727"/>
                  </a:lnTo>
                  <a:lnTo>
                    <a:pt x="96234" y="85451"/>
                  </a:lnTo>
                  <a:lnTo>
                    <a:pt x="104779" y="88294"/>
                  </a:lnTo>
                  <a:lnTo>
                    <a:pt x="113016" y="91883"/>
                  </a:lnTo>
                  <a:lnTo>
                    <a:pt x="121894" y="95122"/>
                  </a:lnTo>
                  <a:lnTo>
                    <a:pt x="131199" y="98128"/>
                  </a:lnTo>
                  <a:lnTo>
                    <a:pt x="140791" y="100979"/>
                  </a:lnTo>
                  <a:lnTo>
                    <a:pt x="149723" y="105419"/>
                  </a:lnTo>
                  <a:lnTo>
                    <a:pt x="158219" y="110920"/>
                  </a:lnTo>
                  <a:lnTo>
                    <a:pt x="166423" y="117126"/>
                  </a:lnTo>
                  <a:lnTo>
                    <a:pt x="174432" y="123804"/>
                  </a:lnTo>
                  <a:lnTo>
                    <a:pt x="182311" y="130797"/>
                  </a:lnTo>
                  <a:lnTo>
                    <a:pt x="197840" y="145339"/>
                  </a:lnTo>
                  <a:lnTo>
                    <a:pt x="213209" y="160268"/>
                  </a:lnTo>
                  <a:lnTo>
                    <a:pt x="219169" y="167806"/>
                  </a:lnTo>
                  <a:lnTo>
                    <a:pt x="223990" y="175371"/>
                  </a:lnTo>
                  <a:lnTo>
                    <a:pt x="228050" y="182953"/>
                  </a:lnTo>
                  <a:lnTo>
                    <a:pt x="231604" y="190549"/>
                  </a:lnTo>
                  <a:lnTo>
                    <a:pt x="234820" y="198153"/>
                  </a:lnTo>
                  <a:lnTo>
                    <a:pt x="237810" y="205762"/>
                  </a:lnTo>
                  <a:lnTo>
                    <a:pt x="239804" y="214221"/>
                  </a:lnTo>
                  <a:lnTo>
                    <a:pt x="241133" y="223248"/>
                  </a:lnTo>
                  <a:lnTo>
                    <a:pt x="242019" y="232652"/>
                  </a:lnTo>
                  <a:lnTo>
                    <a:pt x="241763" y="241462"/>
                  </a:lnTo>
                  <a:lnTo>
                    <a:pt x="240745" y="249875"/>
                  </a:lnTo>
                  <a:lnTo>
                    <a:pt x="239221" y="258023"/>
                  </a:lnTo>
                  <a:lnTo>
                    <a:pt x="236510" y="265148"/>
                  </a:lnTo>
                  <a:lnTo>
                    <a:pt x="233011" y="271593"/>
                  </a:lnTo>
                  <a:lnTo>
                    <a:pt x="228985" y="277583"/>
                  </a:lnTo>
                  <a:lnTo>
                    <a:pt x="224606" y="283268"/>
                  </a:lnTo>
                  <a:lnTo>
                    <a:pt x="219995" y="288752"/>
                  </a:lnTo>
                  <a:lnTo>
                    <a:pt x="215227" y="294102"/>
                  </a:lnTo>
                  <a:lnTo>
                    <a:pt x="205414" y="304561"/>
                  </a:lnTo>
                  <a:lnTo>
                    <a:pt x="200426" y="309721"/>
                  </a:lnTo>
                  <a:lnTo>
                    <a:pt x="194561" y="313161"/>
                  </a:lnTo>
                  <a:lnTo>
                    <a:pt x="188110" y="315455"/>
                  </a:lnTo>
                  <a:lnTo>
                    <a:pt x="173324" y="318849"/>
                  </a:lnTo>
                  <a:lnTo>
                    <a:pt x="155463" y="323180"/>
                  </a:lnTo>
                  <a:lnTo>
                    <a:pt x="146806" y="323827"/>
                  </a:lnTo>
                  <a:lnTo>
                    <a:pt x="138493" y="323411"/>
                  </a:lnTo>
                  <a:lnTo>
                    <a:pt x="130412" y="322287"/>
                  </a:lnTo>
                  <a:lnTo>
                    <a:pt x="122485" y="321538"/>
                  </a:lnTo>
                  <a:lnTo>
                    <a:pt x="114661" y="321040"/>
                  </a:lnTo>
                  <a:lnTo>
                    <a:pt x="106904" y="320707"/>
                  </a:lnTo>
                  <a:lnTo>
                    <a:pt x="99193" y="318791"/>
                  </a:lnTo>
                  <a:lnTo>
                    <a:pt x="91512" y="315821"/>
                  </a:lnTo>
                  <a:lnTo>
                    <a:pt x="83851" y="312148"/>
                  </a:lnTo>
                  <a:lnTo>
                    <a:pt x="77898" y="308005"/>
                  </a:lnTo>
                  <a:lnTo>
                    <a:pt x="73082" y="303550"/>
                  </a:lnTo>
                  <a:lnTo>
                    <a:pt x="69025" y="298887"/>
                  </a:lnTo>
                  <a:lnTo>
                    <a:pt x="62259" y="291448"/>
                  </a:lnTo>
                  <a:lnTo>
                    <a:pt x="56429" y="284472"/>
                  </a:lnTo>
                  <a:lnTo>
                    <a:pt x="53689" y="280242"/>
                  </a:lnTo>
                  <a:lnTo>
                    <a:pt x="45670" y="26670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SMARTInkAnnotation166"/>
            <p:cNvSpPr/>
            <p:nvPr/>
          </p:nvSpPr>
          <p:spPr>
            <a:xfrm>
              <a:off x="8694360" y="5425560"/>
              <a:ext cx="152280" cy="30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52401" h="30480">
                  <a:moveTo>
                    <a:pt x="0" y="0"/>
                  </a:moveTo>
                  <a:lnTo>
                    <a:pt x="8090" y="0"/>
                  </a:lnTo>
                  <a:lnTo>
                    <a:pt x="13860" y="846"/>
                  </a:lnTo>
                  <a:lnTo>
                    <a:pt x="21092" y="2257"/>
                  </a:lnTo>
                  <a:lnTo>
                    <a:pt x="29303" y="4044"/>
                  </a:lnTo>
                  <a:lnTo>
                    <a:pt x="37314" y="5236"/>
                  </a:lnTo>
                  <a:lnTo>
                    <a:pt x="45196" y="6031"/>
                  </a:lnTo>
                  <a:lnTo>
                    <a:pt x="52991" y="6560"/>
                  </a:lnTo>
                  <a:lnTo>
                    <a:pt x="63268" y="8607"/>
                  </a:lnTo>
                  <a:lnTo>
                    <a:pt x="75198" y="11664"/>
                  </a:lnTo>
                  <a:lnTo>
                    <a:pt x="88232" y="15396"/>
                  </a:lnTo>
                  <a:lnTo>
                    <a:pt x="98615" y="17884"/>
                  </a:lnTo>
                  <a:lnTo>
                    <a:pt x="107230" y="19543"/>
                  </a:lnTo>
                  <a:lnTo>
                    <a:pt x="114666" y="20648"/>
                  </a:lnTo>
                  <a:lnTo>
                    <a:pt x="122164" y="22231"/>
                  </a:lnTo>
                  <a:lnTo>
                    <a:pt x="129703" y="24134"/>
                  </a:lnTo>
                  <a:lnTo>
                    <a:pt x="152400" y="304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3" descr="http://www.irtc.org/ftp/pub/stills/1999-02-28/integers.jpg"/>
          <p:cNvPicPr/>
          <p:nvPr/>
        </p:nvPicPr>
        <p:blipFill>
          <a:blip r:embed="rId1"/>
          <a:stretch/>
        </p:blipFill>
        <p:spPr>
          <a:xfrm>
            <a:off x="6176880" y="838080"/>
            <a:ext cx="2967120" cy="222588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6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s and Problem Solving – Consecutiv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7"/>
          <p:cNvSpPr/>
          <p:nvPr/>
        </p:nvSpPr>
        <p:spPr>
          <a:xfrm>
            <a:off x="0" y="838080"/>
            <a:ext cx="62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4) The sum of three consecutive odd integers is -243.   Find the integer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th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an equation relating th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he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6"/>
          <p:cNvSpPr/>
          <p:nvPr/>
        </p:nvSpPr>
        <p:spPr>
          <a:xfrm>
            <a:off x="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Equations –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8"/>
          <p:cNvSpPr/>
          <p:nvPr/>
        </p:nvSpPr>
        <p:spPr>
          <a:xfrm>
            <a:off x="30240" y="838080"/>
            <a:ext cx="85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5) Solve the following equation and check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Object 2"/>
          <p:cNvGraphicFramePr/>
          <p:nvPr/>
        </p:nvGraphicFramePr>
        <p:xfrm>
          <a:off x="380880" y="1523880"/>
          <a:ext cx="367056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36705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9" name="Picture 4" descr="http://www.bodycontouringimplants.com/images/bicep.jpg"/>
          <p:cNvPicPr/>
          <p:nvPr/>
        </p:nvPicPr>
        <p:blipFill>
          <a:blip r:embed="rId3"/>
          <a:stretch/>
        </p:blipFill>
        <p:spPr>
          <a:xfrm>
            <a:off x="6705720" y="1295280"/>
            <a:ext cx="2181240" cy="1905120"/>
          </a:xfrm>
          <a:prstGeom prst="rect">
            <a:avLst/>
          </a:prstGeom>
          <a:ln w="0">
            <a:noFill/>
          </a:ln>
        </p:spPr>
      </p:pic>
      <p:grpSp>
        <p:nvGrpSpPr>
          <p:cNvPr id="890" name="Group 21524"/>
          <p:cNvGrpSpPr/>
          <p:nvPr/>
        </p:nvGrpSpPr>
        <p:grpSpPr>
          <a:xfrm>
            <a:off x="511200" y="2270160"/>
            <a:ext cx="4630680" cy="3673440"/>
            <a:chOff x="511200" y="2270160"/>
            <a:chExt cx="4630680" cy="3673440"/>
          </a:xfrm>
        </p:grpSpPr>
        <p:sp>
          <p:nvSpPr>
            <p:cNvPr id="891" name="SMARTInkAnnotation0"/>
            <p:cNvSpPr/>
            <p:nvPr/>
          </p:nvSpPr>
          <p:spPr>
            <a:xfrm>
              <a:off x="2134080" y="2414880"/>
              <a:ext cx="159840" cy="7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0021" h="7621">
                  <a:moveTo>
                    <a:pt x="0" y="0"/>
                  </a:moveTo>
                  <a:lnTo>
                    <a:pt x="0" y="4045"/>
                  </a:lnTo>
                  <a:lnTo>
                    <a:pt x="1693" y="5237"/>
                  </a:lnTo>
                  <a:lnTo>
                    <a:pt x="4516" y="6031"/>
                  </a:lnTo>
                  <a:lnTo>
                    <a:pt x="8091" y="6561"/>
                  </a:lnTo>
                  <a:lnTo>
                    <a:pt x="13014" y="6914"/>
                  </a:lnTo>
                  <a:lnTo>
                    <a:pt x="18836" y="7149"/>
                  </a:lnTo>
                  <a:lnTo>
                    <a:pt x="32078" y="7411"/>
                  </a:lnTo>
                  <a:lnTo>
                    <a:pt x="16002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SMARTInkAnnotation1"/>
            <p:cNvSpPr/>
            <p:nvPr/>
          </p:nvSpPr>
          <p:spPr>
            <a:xfrm>
              <a:off x="2172240" y="2506320"/>
              <a:ext cx="174960" cy="72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75261" h="7528">
                  <a:moveTo>
                    <a:pt x="0" y="0"/>
                  </a:moveTo>
                  <a:lnTo>
                    <a:pt x="8091" y="0"/>
                  </a:lnTo>
                  <a:lnTo>
                    <a:pt x="11320" y="847"/>
                  </a:lnTo>
                  <a:lnTo>
                    <a:pt x="14320" y="2258"/>
                  </a:lnTo>
                  <a:lnTo>
                    <a:pt x="17167" y="4045"/>
                  </a:lnTo>
                  <a:lnTo>
                    <a:pt x="20758" y="5237"/>
                  </a:lnTo>
                  <a:lnTo>
                    <a:pt x="24845" y="6031"/>
                  </a:lnTo>
                  <a:lnTo>
                    <a:pt x="29264" y="6561"/>
                  </a:lnTo>
                  <a:lnTo>
                    <a:pt x="35596" y="6914"/>
                  </a:lnTo>
                  <a:lnTo>
                    <a:pt x="51662" y="7306"/>
                  </a:lnTo>
                  <a:lnTo>
                    <a:pt x="83794" y="7527"/>
                  </a:lnTo>
                  <a:lnTo>
                    <a:pt x="95656" y="6711"/>
                  </a:lnTo>
                  <a:lnTo>
                    <a:pt x="107797" y="5321"/>
                  </a:lnTo>
                  <a:lnTo>
                    <a:pt x="120125" y="3547"/>
                  </a:lnTo>
                  <a:lnTo>
                    <a:pt x="131730" y="2365"/>
                  </a:lnTo>
                  <a:lnTo>
                    <a:pt x="142853" y="1577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SMARTInkAnnotation2"/>
            <p:cNvSpPr/>
            <p:nvPr/>
          </p:nvSpPr>
          <p:spPr>
            <a:xfrm>
              <a:off x="2797200" y="2331000"/>
              <a:ext cx="83520" cy="2512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83821" h="251461">
                  <a:moveTo>
                    <a:pt x="83820" y="0"/>
                  </a:moveTo>
                  <a:lnTo>
                    <a:pt x="83820" y="11352"/>
                  </a:lnTo>
                  <a:lnTo>
                    <a:pt x="81562" y="18027"/>
                  </a:lnTo>
                  <a:lnTo>
                    <a:pt x="79775" y="22178"/>
                  </a:lnTo>
                  <a:lnTo>
                    <a:pt x="78583" y="27486"/>
                  </a:lnTo>
                  <a:lnTo>
                    <a:pt x="77789" y="33564"/>
                  </a:lnTo>
                  <a:lnTo>
                    <a:pt x="77259" y="40156"/>
                  </a:lnTo>
                  <a:lnTo>
                    <a:pt x="75213" y="46244"/>
                  </a:lnTo>
                  <a:lnTo>
                    <a:pt x="72155" y="51996"/>
                  </a:lnTo>
                  <a:lnTo>
                    <a:pt x="68423" y="57524"/>
                  </a:lnTo>
                  <a:lnTo>
                    <a:pt x="65089" y="64596"/>
                  </a:lnTo>
                  <a:lnTo>
                    <a:pt x="62019" y="72698"/>
                  </a:lnTo>
                  <a:lnTo>
                    <a:pt x="59126" y="81485"/>
                  </a:lnTo>
                  <a:lnTo>
                    <a:pt x="55504" y="90730"/>
                  </a:lnTo>
                  <a:lnTo>
                    <a:pt x="51396" y="100280"/>
                  </a:lnTo>
                  <a:lnTo>
                    <a:pt x="46964" y="110033"/>
                  </a:lnTo>
                  <a:lnTo>
                    <a:pt x="43163" y="119922"/>
                  </a:lnTo>
                  <a:lnTo>
                    <a:pt x="39782" y="129902"/>
                  </a:lnTo>
                  <a:lnTo>
                    <a:pt x="36681" y="139941"/>
                  </a:lnTo>
                  <a:lnTo>
                    <a:pt x="32921" y="150021"/>
                  </a:lnTo>
                  <a:lnTo>
                    <a:pt x="28721" y="160127"/>
                  </a:lnTo>
                  <a:lnTo>
                    <a:pt x="24227" y="170252"/>
                  </a:lnTo>
                  <a:lnTo>
                    <a:pt x="20385" y="179541"/>
                  </a:lnTo>
                  <a:lnTo>
                    <a:pt x="16977" y="188274"/>
                  </a:lnTo>
                  <a:lnTo>
                    <a:pt x="10932" y="204751"/>
                  </a:lnTo>
                  <a:lnTo>
                    <a:pt x="5423" y="220540"/>
                  </a:lnTo>
                  <a:lnTo>
                    <a:pt x="3615" y="226614"/>
                  </a:lnTo>
                  <a:lnTo>
                    <a:pt x="2410" y="231509"/>
                  </a:lnTo>
                  <a:lnTo>
                    <a:pt x="1071" y="239206"/>
                  </a:lnTo>
                  <a:lnTo>
                    <a:pt x="714" y="242444"/>
                  </a:lnTo>
                  <a:lnTo>
                    <a:pt x="0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SMARTInkAnnotation3"/>
            <p:cNvSpPr/>
            <p:nvPr/>
          </p:nvSpPr>
          <p:spPr>
            <a:xfrm>
              <a:off x="2972520" y="2285280"/>
              <a:ext cx="312120" cy="27360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312421" h="273698">
                  <a:moveTo>
                    <a:pt x="0" y="76065"/>
                  </a:moveTo>
                  <a:lnTo>
                    <a:pt x="14651" y="61414"/>
                  </a:lnTo>
                  <a:lnTo>
                    <a:pt x="21470" y="56854"/>
                  </a:lnTo>
                  <a:lnTo>
                    <a:pt x="29016" y="53133"/>
                  </a:lnTo>
                  <a:lnTo>
                    <a:pt x="34584" y="49770"/>
                  </a:lnTo>
                  <a:lnTo>
                    <a:pt x="40836" y="45835"/>
                  </a:lnTo>
                  <a:lnTo>
                    <a:pt x="48390" y="41519"/>
                  </a:lnTo>
                  <a:lnTo>
                    <a:pt x="65816" y="32207"/>
                  </a:lnTo>
                  <a:lnTo>
                    <a:pt x="74357" y="28200"/>
                  </a:lnTo>
                  <a:lnTo>
                    <a:pt x="82591" y="24681"/>
                  </a:lnTo>
                  <a:lnTo>
                    <a:pt x="90621" y="21489"/>
                  </a:lnTo>
                  <a:lnTo>
                    <a:pt x="97667" y="18515"/>
                  </a:lnTo>
                  <a:lnTo>
                    <a:pt x="110012" y="12952"/>
                  </a:lnTo>
                  <a:lnTo>
                    <a:pt x="116522" y="10283"/>
                  </a:lnTo>
                  <a:lnTo>
                    <a:pt x="123401" y="7657"/>
                  </a:lnTo>
                  <a:lnTo>
                    <a:pt x="130528" y="5060"/>
                  </a:lnTo>
                  <a:lnTo>
                    <a:pt x="136125" y="3328"/>
                  </a:lnTo>
                  <a:lnTo>
                    <a:pt x="144603" y="1404"/>
                  </a:lnTo>
                  <a:lnTo>
                    <a:pt x="153450" y="549"/>
                  </a:lnTo>
                  <a:lnTo>
                    <a:pt x="162180" y="169"/>
                  </a:lnTo>
                  <a:lnTo>
                    <a:pt x="168883" y="0"/>
                  </a:lnTo>
                  <a:lnTo>
                    <a:pt x="171855" y="802"/>
                  </a:lnTo>
                  <a:lnTo>
                    <a:pt x="181261" y="6438"/>
                  </a:lnTo>
                  <a:lnTo>
                    <a:pt x="182160" y="11535"/>
                  </a:lnTo>
                  <a:lnTo>
                    <a:pt x="182560" y="19445"/>
                  </a:lnTo>
                  <a:lnTo>
                    <a:pt x="182738" y="28605"/>
                  </a:lnTo>
                  <a:lnTo>
                    <a:pt x="181092" y="34265"/>
                  </a:lnTo>
                  <a:lnTo>
                    <a:pt x="178302" y="40579"/>
                  </a:lnTo>
                  <a:lnTo>
                    <a:pt x="174748" y="47327"/>
                  </a:lnTo>
                  <a:lnTo>
                    <a:pt x="171532" y="54367"/>
                  </a:lnTo>
                  <a:lnTo>
                    <a:pt x="168542" y="61600"/>
                  </a:lnTo>
                  <a:lnTo>
                    <a:pt x="165701" y="68961"/>
                  </a:lnTo>
                  <a:lnTo>
                    <a:pt x="161268" y="76409"/>
                  </a:lnTo>
                  <a:lnTo>
                    <a:pt x="155772" y="83915"/>
                  </a:lnTo>
                  <a:lnTo>
                    <a:pt x="149568" y="91458"/>
                  </a:lnTo>
                  <a:lnTo>
                    <a:pt x="143739" y="99874"/>
                  </a:lnTo>
                  <a:lnTo>
                    <a:pt x="138159" y="108871"/>
                  </a:lnTo>
                  <a:lnTo>
                    <a:pt x="132746" y="118256"/>
                  </a:lnTo>
                  <a:lnTo>
                    <a:pt x="122216" y="135457"/>
                  </a:lnTo>
                  <a:lnTo>
                    <a:pt x="106768" y="159420"/>
                  </a:lnTo>
                  <a:lnTo>
                    <a:pt x="101659" y="167195"/>
                  </a:lnTo>
                  <a:lnTo>
                    <a:pt x="95713" y="174919"/>
                  </a:lnTo>
                  <a:lnTo>
                    <a:pt x="89208" y="182607"/>
                  </a:lnTo>
                  <a:lnTo>
                    <a:pt x="82332" y="190273"/>
                  </a:lnTo>
                  <a:lnTo>
                    <a:pt x="76901" y="197924"/>
                  </a:lnTo>
                  <a:lnTo>
                    <a:pt x="72434" y="205564"/>
                  </a:lnTo>
                  <a:lnTo>
                    <a:pt x="68610" y="213198"/>
                  </a:lnTo>
                  <a:lnTo>
                    <a:pt x="66060" y="219980"/>
                  </a:lnTo>
                  <a:lnTo>
                    <a:pt x="64360" y="226195"/>
                  </a:lnTo>
                  <a:lnTo>
                    <a:pt x="63227" y="232032"/>
                  </a:lnTo>
                  <a:lnTo>
                    <a:pt x="63317" y="237616"/>
                  </a:lnTo>
                  <a:lnTo>
                    <a:pt x="64225" y="243033"/>
                  </a:lnTo>
                  <a:lnTo>
                    <a:pt x="65677" y="248337"/>
                  </a:lnTo>
                  <a:lnTo>
                    <a:pt x="68338" y="252719"/>
                  </a:lnTo>
                  <a:lnTo>
                    <a:pt x="75810" y="259847"/>
                  </a:lnTo>
                  <a:lnTo>
                    <a:pt x="81020" y="262933"/>
                  </a:lnTo>
                  <a:lnTo>
                    <a:pt x="87033" y="265837"/>
                  </a:lnTo>
                  <a:lnTo>
                    <a:pt x="93582" y="268620"/>
                  </a:lnTo>
                  <a:lnTo>
                    <a:pt x="101335" y="270475"/>
                  </a:lnTo>
                  <a:lnTo>
                    <a:pt x="109890" y="271712"/>
                  </a:lnTo>
                  <a:lnTo>
                    <a:pt x="118980" y="272536"/>
                  </a:lnTo>
                  <a:lnTo>
                    <a:pt x="130120" y="273086"/>
                  </a:lnTo>
                  <a:lnTo>
                    <a:pt x="156045" y="273697"/>
                  </a:lnTo>
                  <a:lnTo>
                    <a:pt x="170070" y="273013"/>
                  </a:lnTo>
                  <a:lnTo>
                    <a:pt x="184500" y="271710"/>
                  </a:lnTo>
                  <a:lnTo>
                    <a:pt x="199200" y="269995"/>
                  </a:lnTo>
                  <a:lnTo>
                    <a:pt x="213233" y="268005"/>
                  </a:lnTo>
                  <a:lnTo>
                    <a:pt x="240115" y="263536"/>
                  </a:lnTo>
                  <a:lnTo>
                    <a:pt x="251517" y="262006"/>
                  </a:lnTo>
                  <a:lnTo>
                    <a:pt x="261658" y="260985"/>
                  </a:lnTo>
                  <a:lnTo>
                    <a:pt x="270959" y="260305"/>
                  </a:lnTo>
                  <a:lnTo>
                    <a:pt x="279699" y="259005"/>
                  </a:lnTo>
                  <a:lnTo>
                    <a:pt x="288066" y="257292"/>
                  </a:lnTo>
                  <a:lnTo>
                    <a:pt x="312420" y="2513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SMARTInkAnnotation4"/>
            <p:cNvSpPr/>
            <p:nvPr/>
          </p:nvSpPr>
          <p:spPr>
            <a:xfrm>
              <a:off x="3368880" y="2414880"/>
              <a:ext cx="220680" cy="302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0981" h="30481">
                  <a:moveTo>
                    <a:pt x="0" y="0"/>
                  </a:moveTo>
                  <a:lnTo>
                    <a:pt x="10606" y="0"/>
                  </a:lnTo>
                  <a:lnTo>
                    <a:pt x="12151" y="847"/>
                  </a:lnTo>
                  <a:lnTo>
                    <a:pt x="13181" y="2258"/>
                  </a:lnTo>
                  <a:lnTo>
                    <a:pt x="13867" y="4045"/>
                  </a:lnTo>
                  <a:lnTo>
                    <a:pt x="16018" y="5237"/>
                  </a:lnTo>
                  <a:lnTo>
                    <a:pt x="19145" y="6031"/>
                  </a:lnTo>
                  <a:lnTo>
                    <a:pt x="22924" y="6561"/>
                  </a:lnTo>
                  <a:lnTo>
                    <a:pt x="27136" y="7761"/>
                  </a:lnTo>
                  <a:lnTo>
                    <a:pt x="31637" y="9407"/>
                  </a:lnTo>
                  <a:lnTo>
                    <a:pt x="36331" y="11351"/>
                  </a:lnTo>
                  <a:lnTo>
                    <a:pt x="41154" y="13494"/>
                  </a:lnTo>
                  <a:lnTo>
                    <a:pt x="51028" y="18133"/>
                  </a:lnTo>
                  <a:lnTo>
                    <a:pt x="57726" y="20555"/>
                  </a:lnTo>
                  <a:lnTo>
                    <a:pt x="65577" y="23017"/>
                  </a:lnTo>
                  <a:lnTo>
                    <a:pt x="74198" y="25505"/>
                  </a:lnTo>
                  <a:lnTo>
                    <a:pt x="83332" y="27163"/>
                  </a:lnTo>
                  <a:lnTo>
                    <a:pt x="92808" y="28269"/>
                  </a:lnTo>
                  <a:lnTo>
                    <a:pt x="102512" y="29006"/>
                  </a:lnTo>
                  <a:lnTo>
                    <a:pt x="111521" y="29498"/>
                  </a:lnTo>
                  <a:lnTo>
                    <a:pt x="128306" y="30043"/>
                  </a:lnTo>
                  <a:lnTo>
                    <a:pt x="198719" y="30463"/>
                  </a:lnTo>
                  <a:lnTo>
                    <a:pt x="220980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SMARTInkAnnotation5"/>
            <p:cNvSpPr/>
            <p:nvPr/>
          </p:nvSpPr>
          <p:spPr>
            <a:xfrm>
              <a:off x="3576600" y="2285280"/>
              <a:ext cx="291600" cy="34992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349920"/>
                <a:gd name="textAreaBottom" fmla="*/ 350280 h 349920"/>
              </a:gdLst>
              <a:ahLst/>
              <a:rect l="textAreaLeft" t="textAreaTop" r="textAreaRight" b="textAreaBottom"/>
              <a:pathLst>
                <a:path w="291823" h="349900">
                  <a:moveTo>
                    <a:pt x="150099" y="0"/>
                  </a:moveTo>
                  <a:lnTo>
                    <a:pt x="138748" y="0"/>
                  </a:lnTo>
                  <a:lnTo>
                    <a:pt x="137451" y="847"/>
                  </a:lnTo>
                  <a:lnTo>
                    <a:pt x="136587" y="2258"/>
                  </a:lnTo>
                  <a:lnTo>
                    <a:pt x="124354" y="39124"/>
                  </a:lnTo>
                  <a:lnTo>
                    <a:pt x="121083" y="47249"/>
                  </a:lnTo>
                  <a:lnTo>
                    <a:pt x="117208" y="56053"/>
                  </a:lnTo>
                  <a:lnTo>
                    <a:pt x="108388" y="74866"/>
                  </a:lnTo>
                  <a:lnTo>
                    <a:pt x="98823" y="94516"/>
                  </a:lnTo>
                  <a:lnTo>
                    <a:pt x="93055" y="104497"/>
                  </a:lnTo>
                  <a:lnTo>
                    <a:pt x="86670" y="114538"/>
                  </a:lnTo>
                  <a:lnTo>
                    <a:pt x="79873" y="124619"/>
                  </a:lnTo>
                  <a:lnTo>
                    <a:pt x="65547" y="147108"/>
                  </a:lnTo>
                  <a:lnTo>
                    <a:pt x="58171" y="159032"/>
                  </a:lnTo>
                  <a:lnTo>
                    <a:pt x="51560" y="171215"/>
                  </a:lnTo>
                  <a:lnTo>
                    <a:pt x="45460" y="183570"/>
                  </a:lnTo>
                  <a:lnTo>
                    <a:pt x="39700" y="196040"/>
                  </a:lnTo>
                  <a:lnTo>
                    <a:pt x="33320" y="207740"/>
                  </a:lnTo>
                  <a:lnTo>
                    <a:pt x="26526" y="218927"/>
                  </a:lnTo>
                  <a:lnTo>
                    <a:pt x="19457" y="229771"/>
                  </a:lnTo>
                  <a:lnTo>
                    <a:pt x="13898" y="240388"/>
                  </a:lnTo>
                  <a:lnTo>
                    <a:pt x="9345" y="250852"/>
                  </a:lnTo>
                  <a:lnTo>
                    <a:pt x="5463" y="261215"/>
                  </a:lnTo>
                  <a:lnTo>
                    <a:pt x="2875" y="270663"/>
                  </a:lnTo>
                  <a:lnTo>
                    <a:pt x="1150" y="279502"/>
                  </a:lnTo>
                  <a:lnTo>
                    <a:pt x="0" y="287935"/>
                  </a:lnTo>
                  <a:lnTo>
                    <a:pt x="79" y="296097"/>
                  </a:lnTo>
                  <a:lnTo>
                    <a:pt x="979" y="304078"/>
                  </a:lnTo>
                  <a:lnTo>
                    <a:pt x="2426" y="311939"/>
                  </a:lnTo>
                  <a:lnTo>
                    <a:pt x="5930" y="318872"/>
                  </a:lnTo>
                  <a:lnTo>
                    <a:pt x="10807" y="325188"/>
                  </a:lnTo>
                  <a:lnTo>
                    <a:pt x="16597" y="331092"/>
                  </a:lnTo>
                  <a:lnTo>
                    <a:pt x="22998" y="335875"/>
                  </a:lnTo>
                  <a:lnTo>
                    <a:pt x="29805" y="339910"/>
                  </a:lnTo>
                  <a:lnTo>
                    <a:pt x="36883" y="343447"/>
                  </a:lnTo>
                  <a:lnTo>
                    <a:pt x="44988" y="345804"/>
                  </a:lnTo>
                  <a:lnTo>
                    <a:pt x="53779" y="347376"/>
                  </a:lnTo>
                  <a:lnTo>
                    <a:pt x="63026" y="348424"/>
                  </a:lnTo>
                  <a:lnTo>
                    <a:pt x="72577" y="349123"/>
                  </a:lnTo>
                  <a:lnTo>
                    <a:pt x="82331" y="349589"/>
                  </a:lnTo>
                  <a:lnTo>
                    <a:pt x="92220" y="349899"/>
                  </a:lnTo>
                  <a:lnTo>
                    <a:pt x="103893" y="349259"/>
                  </a:lnTo>
                  <a:lnTo>
                    <a:pt x="116756" y="347987"/>
                  </a:lnTo>
                  <a:lnTo>
                    <a:pt x="130410" y="346291"/>
                  </a:lnTo>
                  <a:lnTo>
                    <a:pt x="143747" y="343467"/>
                  </a:lnTo>
                  <a:lnTo>
                    <a:pt x="156871" y="339892"/>
                  </a:lnTo>
                  <a:lnTo>
                    <a:pt x="169854" y="335814"/>
                  </a:lnTo>
                  <a:lnTo>
                    <a:pt x="182742" y="331403"/>
                  </a:lnTo>
                  <a:lnTo>
                    <a:pt x="208351" y="321986"/>
                  </a:lnTo>
                  <a:lnTo>
                    <a:pt x="220261" y="316257"/>
                  </a:lnTo>
                  <a:lnTo>
                    <a:pt x="231587" y="309898"/>
                  </a:lnTo>
                  <a:lnTo>
                    <a:pt x="242525" y="303119"/>
                  </a:lnTo>
                  <a:lnTo>
                    <a:pt x="251509" y="296906"/>
                  </a:lnTo>
                  <a:lnTo>
                    <a:pt x="259193" y="291071"/>
                  </a:lnTo>
                  <a:lnTo>
                    <a:pt x="266008" y="285487"/>
                  </a:lnTo>
                  <a:lnTo>
                    <a:pt x="272245" y="280918"/>
                  </a:lnTo>
                  <a:lnTo>
                    <a:pt x="278097" y="277026"/>
                  </a:lnTo>
                  <a:lnTo>
                    <a:pt x="283690" y="273584"/>
                  </a:lnTo>
                  <a:lnTo>
                    <a:pt x="287420" y="269596"/>
                  </a:lnTo>
                  <a:lnTo>
                    <a:pt x="289906" y="265244"/>
                  </a:lnTo>
                  <a:lnTo>
                    <a:pt x="291564" y="260649"/>
                  </a:lnTo>
                  <a:lnTo>
                    <a:pt x="291822" y="256740"/>
                  </a:lnTo>
                  <a:lnTo>
                    <a:pt x="291148" y="253286"/>
                  </a:lnTo>
                  <a:lnTo>
                    <a:pt x="288027" y="245706"/>
                  </a:lnTo>
                  <a:lnTo>
                    <a:pt x="279396" y="240348"/>
                  </a:lnTo>
                  <a:lnTo>
                    <a:pt x="274397" y="238972"/>
                  </a:lnTo>
                  <a:lnTo>
                    <a:pt x="268524" y="238055"/>
                  </a:lnTo>
                  <a:lnTo>
                    <a:pt x="262070" y="237443"/>
                  </a:lnTo>
                  <a:lnTo>
                    <a:pt x="256073" y="237882"/>
                  </a:lnTo>
                  <a:lnTo>
                    <a:pt x="250381" y="239021"/>
                  </a:lnTo>
                  <a:lnTo>
                    <a:pt x="244895" y="240628"/>
                  </a:lnTo>
                  <a:lnTo>
                    <a:pt x="225035" y="246934"/>
                  </a:lnTo>
                  <a:lnTo>
                    <a:pt x="203065" y="254164"/>
                  </a:lnTo>
                  <a:lnTo>
                    <a:pt x="195569" y="257496"/>
                  </a:lnTo>
                  <a:lnTo>
                    <a:pt x="188033" y="261411"/>
                  </a:lnTo>
                  <a:lnTo>
                    <a:pt x="173732" y="269429"/>
                  </a:lnTo>
                  <a:lnTo>
                    <a:pt x="161732" y="275816"/>
                  </a:lnTo>
                  <a:lnTo>
                    <a:pt x="157854" y="279550"/>
                  </a:lnTo>
                  <a:lnTo>
                    <a:pt x="155269" y="283734"/>
                  </a:lnTo>
                  <a:lnTo>
                    <a:pt x="152396" y="292897"/>
                  </a:lnTo>
                  <a:lnTo>
                    <a:pt x="151120" y="302614"/>
                  </a:lnTo>
                  <a:lnTo>
                    <a:pt x="153320" y="306730"/>
                  </a:lnTo>
                  <a:lnTo>
                    <a:pt x="157326" y="310320"/>
                  </a:lnTo>
                  <a:lnTo>
                    <a:pt x="162537" y="313560"/>
                  </a:lnTo>
                  <a:lnTo>
                    <a:pt x="167704" y="316567"/>
                  </a:lnTo>
                  <a:lnTo>
                    <a:pt x="177962" y="322165"/>
                  </a:lnTo>
                  <a:lnTo>
                    <a:pt x="185608" y="324844"/>
                  </a:lnTo>
                  <a:lnTo>
                    <a:pt x="194938" y="327476"/>
                  </a:lnTo>
                  <a:lnTo>
                    <a:pt x="205392" y="330077"/>
                  </a:lnTo>
                  <a:lnTo>
                    <a:pt x="216594" y="331812"/>
                  </a:lnTo>
                  <a:lnTo>
                    <a:pt x="228296" y="332968"/>
                  </a:lnTo>
                  <a:lnTo>
                    <a:pt x="240331" y="333739"/>
                  </a:lnTo>
                  <a:lnTo>
                    <a:pt x="250894" y="335099"/>
                  </a:lnTo>
                  <a:lnTo>
                    <a:pt x="260475" y="336853"/>
                  </a:lnTo>
                  <a:lnTo>
                    <a:pt x="287260" y="3429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SMARTInkAnnotation6"/>
            <p:cNvSpPr/>
            <p:nvPr/>
          </p:nvSpPr>
          <p:spPr>
            <a:xfrm>
              <a:off x="3940200" y="2475720"/>
              <a:ext cx="152280" cy="23616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52308" h="236221">
                  <a:moveTo>
                    <a:pt x="144779" y="0"/>
                  </a:moveTo>
                  <a:lnTo>
                    <a:pt x="144779" y="6561"/>
                  </a:lnTo>
                  <a:lnTo>
                    <a:pt x="148824" y="11352"/>
                  </a:lnTo>
                  <a:lnTo>
                    <a:pt x="150016" y="14341"/>
                  </a:lnTo>
                  <a:lnTo>
                    <a:pt x="150811" y="18027"/>
                  </a:lnTo>
                  <a:lnTo>
                    <a:pt x="151340" y="22178"/>
                  </a:lnTo>
                  <a:lnTo>
                    <a:pt x="151929" y="29048"/>
                  </a:lnTo>
                  <a:lnTo>
                    <a:pt x="152086" y="32065"/>
                  </a:lnTo>
                  <a:lnTo>
                    <a:pt x="152260" y="42192"/>
                  </a:lnTo>
                  <a:lnTo>
                    <a:pt x="152307" y="48448"/>
                  </a:lnTo>
                  <a:lnTo>
                    <a:pt x="150644" y="55158"/>
                  </a:lnTo>
                  <a:lnTo>
                    <a:pt x="147842" y="62172"/>
                  </a:lnTo>
                  <a:lnTo>
                    <a:pt x="144282" y="69388"/>
                  </a:lnTo>
                  <a:lnTo>
                    <a:pt x="140214" y="76739"/>
                  </a:lnTo>
                  <a:lnTo>
                    <a:pt x="135809" y="84179"/>
                  </a:lnTo>
                  <a:lnTo>
                    <a:pt x="131180" y="91680"/>
                  </a:lnTo>
                  <a:lnTo>
                    <a:pt x="125553" y="100067"/>
                  </a:lnTo>
                  <a:lnTo>
                    <a:pt x="112528" y="118416"/>
                  </a:lnTo>
                  <a:lnTo>
                    <a:pt x="105498" y="127204"/>
                  </a:lnTo>
                  <a:lnTo>
                    <a:pt x="98272" y="135603"/>
                  </a:lnTo>
                  <a:lnTo>
                    <a:pt x="90914" y="143742"/>
                  </a:lnTo>
                  <a:lnTo>
                    <a:pt x="83469" y="152555"/>
                  </a:lnTo>
                  <a:lnTo>
                    <a:pt x="68424" y="171378"/>
                  </a:lnTo>
                  <a:lnTo>
                    <a:pt x="60856" y="179445"/>
                  </a:lnTo>
                  <a:lnTo>
                    <a:pt x="53271" y="186517"/>
                  </a:lnTo>
                  <a:lnTo>
                    <a:pt x="45673" y="192924"/>
                  </a:lnTo>
                  <a:lnTo>
                    <a:pt x="38915" y="198890"/>
                  </a:lnTo>
                  <a:lnTo>
                    <a:pt x="26891" y="210033"/>
                  </a:lnTo>
                  <a:lnTo>
                    <a:pt x="14646" y="221782"/>
                  </a:lnTo>
                  <a:lnTo>
                    <a:pt x="11457" y="224055"/>
                  </a:lnTo>
                  <a:lnTo>
                    <a:pt x="8485" y="225570"/>
                  </a:lnTo>
                  <a:lnTo>
                    <a:pt x="5656" y="226580"/>
                  </a:lnTo>
                  <a:lnTo>
                    <a:pt x="3771" y="228100"/>
                  </a:lnTo>
                  <a:lnTo>
                    <a:pt x="2513" y="229960"/>
                  </a:lnTo>
                  <a:lnTo>
                    <a:pt x="0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SMARTInkAnnotation7"/>
            <p:cNvSpPr/>
            <p:nvPr/>
          </p:nvSpPr>
          <p:spPr>
            <a:xfrm>
              <a:off x="3978360" y="2544480"/>
              <a:ext cx="228600" cy="99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28601" h="99061">
                  <a:moveTo>
                    <a:pt x="0" y="0"/>
                  </a:moveTo>
                  <a:lnTo>
                    <a:pt x="0" y="4045"/>
                  </a:lnTo>
                  <a:lnTo>
                    <a:pt x="846" y="6084"/>
                  </a:lnTo>
                  <a:lnTo>
                    <a:pt x="2257" y="8289"/>
                  </a:lnTo>
                  <a:lnTo>
                    <a:pt x="6560" y="13867"/>
                  </a:lnTo>
                  <a:lnTo>
                    <a:pt x="11664" y="16887"/>
                  </a:lnTo>
                  <a:lnTo>
                    <a:pt x="19577" y="21052"/>
                  </a:lnTo>
                  <a:lnTo>
                    <a:pt x="94892" y="58875"/>
                  </a:lnTo>
                  <a:lnTo>
                    <a:pt x="104748" y="62956"/>
                  </a:lnTo>
                  <a:lnTo>
                    <a:pt x="114705" y="66524"/>
                  </a:lnTo>
                  <a:lnTo>
                    <a:pt x="124730" y="69750"/>
                  </a:lnTo>
                  <a:lnTo>
                    <a:pt x="134800" y="73593"/>
                  </a:lnTo>
                  <a:lnTo>
                    <a:pt x="144900" y="77849"/>
                  </a:lnTo>
                  <a:lnTo>
                    <a:pt x="155020" y="82379"/>
                  </a:lnTo>
                  <a:lnTo>
                    <a:pt x="165999" y="86246"/>
                  </a:lnTo>
                  <a:lnTo>
                    <a:pt x="177553" y="89671"/>
                  </a:lnTo>
                  <a:lnTo>
                    <a:pt x="189488" y="92801"/>
                  </a:lnTo>
                  <a:lnTo>
                    <a:pt x="199139" y="94887"/>
                  </a:lnTo>
                  <a:lnTo>
                    <a:pt x="207266" y="96278"/>
                  </a:lnTo>
                  <a:lnTo>
                    <a:pt x="228600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SMARTInkAnnotation8"/>
            <p:cNvSpPr/>
            <p:nvPr/>
          </p:nvSpPr>
          <p:spPr>
            <a:xfrm>
              <a:off x="4504320" y="2346120"/>
              <a:ext cx="53280" cy="2437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53341" h="243841">
                  <a:moveTo>
                    <a:pt x="0" y="0"/>
                  </a:moveTo>
                  <a:lnTo>
                    <a:pt x="0" y="4045"/>
                  </a:lnTo>
                  <a:lnTo>
                    <a:pt x="847" y="6084"/>
                  </a:lnTo>
                  <a:lnTo>
                    <a:pt x="2258" y="8289"/>
                  </a:lnTo>
                  <a:lnTo>
                    <a:pt x="4045" y="10606"/>
                  </a:lnTo>
                  <a:lnTo>
                    <a:pt x="5237" y="13844"/>
                  </a:lnTo>
                  <a:lnTo>
                    <a:pt x="6032" y="17696"/>
                  </a:lnTo>
                  <a:lnTo>
                    <a:pt x="6561" y="21957"/>
                  </a:lnTo>
                  <a:lnTo>
                    <a:pt x="6914" y="27338"/>
                  </a:lnTo>
                  <a:lnTo>
                    <a:pt x="7149" y="33466"/>
                  </a:lnTo>
                  <a:lnTo>
                    <a:pt x="7481" y="51967"/>
                  </a:lnTo>
                  <a:lnTo>
                    <a:pt x="7528" y="57505"/>
                  </a:lnTo>
                  <a:lnTo>
                    <a:pt x="8405" y="64583"/>
                  </a:lnTo>
                  <a:lnTo>
                    <a:pt x="9836" y="72689"/>
                  </a:lnTo>
                  <a:lnTo>
                    <a:pt x="11637" y="81479"/>
                  </a:lnTo>
                  <a:lnTo>
                    <a:pt x="12839" y="89880"/>
                  </a:lnTo>
                  <a:lnTo>
                    <a:pt x="13639" y="98020"/>
                  </a:lnTo>
                  <a:lnTo>
                    <a:pt x="14173" y="105986"/>
                  </a:lnTo>
                  <a:lnTo>
                    <a:pt x="14528" y="114685"/>
                  </a:lnTo>
                  <a:lnTo>
                    <a:pt x="14924" y="133380"/>
                  </a:lnTo>
                  <a:lnTo>
                    <a:pt x="15876" y="142260"/>
                  </a:lnTo>
                  <a:lnTo>
                    <a:pt x="17358" y="150720"/>
                  </a:lnTo>
                  <a:lnTo>
                    <a:pt x="19192" y="158900"/>
                  </a:lnTo>
                  <a:lnTo>
                    <a:pt x="20414" y="166894"/>
                  </a:lnTo>
                  <a:lnTo>
                    <a:pt x="21229" y="174762"/>
                  </a:lnTo>
                  <a:lnTo>
                    <a:pt x="21773" y="182548"/>
                  </a:lnTo>
                  <a:lnTo>
                    <a:pt x="22982" y="190279"/>
                  </a:lnTo>
                  <a:lnTo>
                    <a:pt x="24635" y="197973"/>
                  </a:lnTo>
                  <a:lnTo>
                    <a:pt x="26583" y="205642"/>
                  </a:lnTo>
                  <a:lnTo>
                    <a:pt x="29575" y="212448"/>
                  </a:lnTo>
                  <a:lnTo>
                    <a:pt x="33264" y="218679"/>
                  </a:lnTo>
                  <a:lnTo>
                    <a:pt x="37416" y="224526"/>
                  </a:lnTo>
                  <a:lnTo>
                    <a:pt x="40184" y="229271"/>
                  </a:lnTo>
                  <a:lnTo>
                    <a:pt x="42029" y="233280"/>
                  </a:lnTo>
                  <a:lnTo>
                    <a:pt x="43259" y="236800"/>
                  </a:lnTo>
                  <a:lnTo>
                    <a:pt x="44926" y="239147"/>
                  </a:lnTo>
                  <a:lnTo>
                    <a:pt x="46884" y="240711"/>
                  </a:lnTo>
                  <a:lnTo>
                    <a:pt x="53340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SMARTInkAnnotation9"/>
            <p:cNvSpPr/>
            <p:nvPr/>
          </p:nvSpPr>
          <p:spPr>
            <a:xfrm>
              <a:off x="4389840" y="2513880"/>
              <a:ext cx="327600" cy="1512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27661" h="15241">
                  <a:moveTo>
                    <a:pt x="0" y="15240"/>
                  </a:moveTo>
                  <a:lnTo>
                    <a:pt x="43170" y="15240"/>
                  </a:lnTo>
                  <a:lnTo>
                    <a:pt x="54180" y="14393"/>
                  </a:lnTo>
                  <a:lnTo>
                    <a:pt x="66600" y="12982"/>
                  </a:lnTo>
                  <a:lnTo>
                    <a:pt x="79960" y="11195"/>
                  </a:lnTo>
                  <a:lnTo>
                    <a:pt x="94793" y="10003"/>
                  </a:lnTo>
                  <a:lnTo>
                    <a:pt x="110609" y="9209"/>
                  </a:lnTo>
                  <a:lnTo>
                    <a:pt x="143139" y="8326"/>
                  </a:lnTo>
                  <a:lnTo>
                    <a:pt x="220764" y="7713"/>
                  </a:lnTo>
                  <a:lnTo>
                    <a:pt x="236923" y="6836"/>
                  </a:lnTo>
                  <a:lnTo>
                    <a:pt x="253622" y="5403"/>
                  </a:lnTo>
                  <a:lnTo>
                    <a:pt x="270682" y="3602"/>
                  </a:lnTo>
                  <a:lnTo>
                    <a:pt x="284594" y="2402"/>
                  </a:lnTo>
                  <a:lnTo>
                    <a:pt x="296410" y="1601"/>
                  </a:lnTo>
                  <a:lnTo>
                    <a:pt x="3276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SMARTInkAnnotation10"/>
            <p:cNvSpPr/>
            <p:nvPr/>
          </p:nvSpPr>
          <p:spPr>
            <a:xfrm>
              <a:off x="4803840" y="2270160"/>
              <a:ext cx="304200" cy="20880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304397" h="209026">
                  <a:moveTo>
                    <a:pt x="180328" y="15232"/>
                  </a:moveTo>
                  <a:lnTo>
                    <a:pt x="180328" y="11187"/>
                  </a:lnTo>
                  <a:lnTo>
                    <a:pt x="181174" y="9995"/>
                  </a:lnTo>
                  <a:lnTo>
                    <a:pt x="182585" y="9201"/>
                  </a:lnTo>
                  <a:lnTo>
                    <a:pt x="186888" y="7926"/>
                  </a:lnTo>
                  <a:lnTo>
                    <a:pt x="187242" y="6975"/>
                  </a:lnTo>
                  <a:lnTo>
                    <a:pt x="187906" y="475"/>
                  </a:lnTo>
                  <a:lnTo>
                    <a:pt x="187920" y="314"/>
                  </a:lnTo>
                  <a:lnTo>
                    <a:pt x="179654" y="34"/>
                  </a:lnTo>
                  <a:lnTo>
                    <a:pt x="161944" y="0"/>
                  </a:lnTo>
                  <a:lnTo>
                    <a:pt x="155372" y="1691"/>
                  </a:lnTo>
                  <a:lnTo>
                    <a:pt x="148450" y="4511"/>
                  </a:lnTo>
                  <a:lnTo>
                    <a:pt x="115046" y="21205"/>
                  </a:lnTo>
                  <a:lnTo>
                    <a:pt x="104633" y="25987"/>
                  </a:lnTo>
                  <a:lnTo>
                    <a:pt x="81774" y="35817"/>
                  </a:lnTo>
                  <a:lnTo>
                    <a:pt x="70598" y="42502"/>
                  </a:lnTo>
                  <a:lnTo>
                    <a:pt x="59762" y="50345"/>
                  </a:lnTo>
                  <a:lnTo>
                    <a:pt x="49150" y="58961"/>
                  </a:lnTo>
                  <a:lnTo>
                    <a:pt x="39536" y="67245"/>
                  </a:lnTo>
                  <a:lnTo>
                    <a:pt x="30586" y="75307"/>
                  </a:lnTo>
                  <a:lnTo>
                    <a:pt x="22080" y="83222"/>
                  </a:lnTo>
                  <a:lnTo>
                    <a:pt x="15562" y="91039"/>
                  </a:lnTo>
                  <a:lnTo>
                    <a:pt x="10371" y="98790"/>
                  </a:lnTo>
                  <a:lnTo>
                    <a:pt x="6063" y="106497"/>
                  </a:lnTo>
                  <a:lnTo>
                    <a:pt x="3191" y="113329"/>
                  </a:lnTo>
                  <a:lnTo>
                    <a:pt x="1276" y="119577"/>
                  </a:lnTo>
                  <a:lnTo>
                    <a:pt x="0" y="125435"/>
                  </a:lnTo>
                  <a:lnTo>
                    <a:pt x="1689" y="131881"/>
                  </a:lnTo>
                  <a:lnTo>
                    <a:pt x="5355" y="138718"/>
                  </a:lnTo>
                  <a:lnTo>
                    <a:pt x="10339" y="145816"/>
                  </a:lnTo>
                  <a:lnTo>
                    <a:pt x="15355" y="152241"/>
                  </a:lnTo>
                  <a:lnTo>
                    <a:pt x="20392" y="158218"/>
                  </a:lnTo>
                  <a:lnTo>
                    <a:pt x="25444" y="163896"/>
                  </a:lnTo>
                  <a:lnTo>
                    <a:pt x="33045" y="169375"/>
                  </a:lnTo>
                  <a:lnTo>
                    <a:pt x="42345" y="174721"/>
                  </a:lnTo>
                  <a:lnTo>
                    <a:pt x="52779" y="179978"/>
                  </a:lnTo>
                  <a:lnTo>
                    <a:pt x="63122" y="184329"/>
                  </a:lnTo>
                  <a:lnTo>
                    <a:pt x="73403" y="188077"/>
                  </a:lnTo>
                  <a:lnTo>
                    <a:pt x="83644" y="191422"/>
                  </a:lnTo>
                  <a:lnTo>
                    <a:pt x="95552" y="194499"/>
                  </a:lnTo>
                  <a:lnTo>
                    <a:pt x="108570" y="197397"/>
                  </a:lnTo>
                  <a:lnTo>
                    <a:pt x="161920" y="208131"/>
                  </a:lnTo>
                  <a:lnTo>
                    <a:pt x="175676" y="209025"/>
                  </a:lnTo>
                  <a:lnTo>
                    <a:pt x="189926" y="208774"/>
                  </a:lnTo>
                  <a:lnTo>
                    <a:pt x="204507" y="207760"/>
                  </a:lnTo>
                  <a:lnTo>
                    <a:pt x="217614" y="205391"/>
                  </a:lnTo>
                  <a:lnTo>
                    <a:pt x="229739" y="202118"/>
                  </a:lnTo>
                  <a:lnTo>
                    <a:pt x="241208" y="198243"/>
                  </a:lnTo>
                  <a:lnTo>
                    <a:pt x="251395" y="193119"/>
                  </a:lnTo>
                  <a:lnTo>
                    <a:pt x="260726" y="187164"/>
                  </a:lnTo>
                  <a:lnTo>
                    <a:pt x="269486" y="180653"/>
                  </a:lnTo>
                  <a:lnTo>
                    <a:pt x="277020" y="173773"/>
                  </a:lnTo>
                  <a:lnTo>
                    <a:pt x="283736" y="166646"/>
                  </a:lnTo>
                  <a:lnTo>
                    <a:pt x="289906" y="159355"/>
                  </a:lnTo>
                  <a:lnTo>
                    <a:pt x="294867" y="151107"/>
                  </a:lnTo>
                  <a:lnTo>
                    <a:pt x="299020" y="142222"/>
                  </a:lnTo>
                  <a:lnTo>
                    <a:pt x="302637" y="132912"/>
                  </a:lnTo>
                  <a:lnTo>
                    <a:pt x="304200" y="124165"/>
                  </a:lnTo>
                  <a:lnTo>
                    <a:pt x="304396" y="115794"/>
                  </a:lnTo>
                  <a:lnTo>
                    <a:pt x="303679" y="107674"/>
                  </a:lnTo>
                  <a:lnTo>
                    <a:pt x="302356" y="99720"/>
                  </a:lnTo>
                  <a:lnTo>
                    <a:pt x="300626" y="91877"/>
                  </a:lnTo>
                  <a:lnTo>
                    <a:pt x="298627" y="84109"/>
                  </a:lnTo>
                  <a:lnTo>
                    <a:pt x="295601" y="77236"/>
                  </a:lnTo>
                  <a:lnTo>
                    <a:pt x="291889" y="70962"/>
                  </a:lnTo>
                  <a:lnTo>
                    <a:pt x="287722" y="65085"/>
                  </a:lnTo>
                  <a:lnTo>
                    <a:pt x="282404" y="59474"/>
                  </a:lnTo>
                  <a:lnTo>
                    <a:pt x="276318" y="54040"/>
                  </a:lnTo>
                  <a:lnTo>
                    <a:pt x="269721" y="48724"/>
                  </a:lnTo>
                  <a:lnTo>
                    <a:pt x="263630" y="44333"/>
                  </a:lnTo>
                  <a:lnTo>
                    <a:pt x="257876" y="40560"/>
                  </a:lnTo>
                  <a:lnTo>
                    <a:pt x="252347" y="37197"/>
                  </a:lnTo>
                  <a:lnTo>
                    <a:pt x="246120" y="34955"/>
                  </a:lnTo>
                  <a:lnTo>
                    <a:pt x="239429" y="33461"/>
                  </a:lnTo>
                  <a:lnTo>
                    <a:pt x="232428" y="32465"/>
                  </a:lnTo>
                  <a:lnTo>
                    <a:pt x="226068" y="31801"/>
                  </a:lnTo>
                  <a:lnTo>
                    <a:pt x="220135" y="31358"/>
                  </a:lnTo>
                  <a:lnTo>
                    <a:pt x="209873" y="30866"/>
                  </a:lnTo>
                  <a:lnTo>
                    <a:pt x="195567" y="304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SMARTInkAnnotation11"/>
            <p:cNvSpPr/>
            <p:nvPr/>
          </p:nvSpPr>
          <p:spPr>
            <a:xfrm>
              <a:off x="4871880" y="2483280"/>
              <a:ext cx="270000" cy="1591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270212" h="159221">
                  <a:moveTo>
                    <a:pt x="97178" y="7620"/>
                  </a:moveTo>
                  <a:lnTo>
                    <a:pt x="79266" y="7620"/>
                  </a:lnTo>
                  <a:lnTo>
                    <a:pt x="76770" y="8467"/>
                  </a:lnTo>
                  <a:lnTo>
                    <a:pt x="71739" y="11666"/>
                  </a:lnTo>
                  <a:lnTo>
                    <a:pt x="64423" y="15909"/>
                  </a:lnTo>
                  <a:lnTo>
                    <a:pt x="60101" y="18226"/>
                  </a:lnTo>
                  <a:lnTo>
                    <a:pt x="54680" y="21464"/>
                  </a:lnTo>
                  <a:lnTo>
                    <a:pt x="41883" y="29578"/>
                  </a:lnTo>
                  <a:lnTo>
                    <a:pt x="36608" y="34112"/>
                  </a:lnTo>
                  <a:lnTo>
                    <a:pt x="32245" y="38828"/>
                  </a:lnTo>
                  <a:lnTo>
                    <a:pt x="28489" y="43665"/>
                  </a:lnTo>
                  <a:lnTo>
                    <a:pt x="24293" y="48584"/>
                  </a:lnTo>
                  <a:lnTo>
                    <a:pt x="19800" y="53556"/>
                  </a:lnTo>
                  <a:lnTo>
                    <a:pt x="15113" y="58564"/>
                  </a:lnTo>
                  <a:lnTo>
                    <a:pt x="11141" y="64443"/>
                  </a:lnTo>
                  <a:lnTo>
                    <a:pt x="7647" y="70902"/>
                  </a:lnTo>
                  <a:lnTo>
                    <a:pt x="4471" y="77748"/>
                  </a:lnTo>
                  <a:lnTo>
                    <a:pt x="2353" y="84005"/>
                  </a:lnTo>
                  <a:lnTo>
                    <a:pt x="941" y="89870"/>
                  </a:lnTo>
                  <a:lnTo>
                    <a:pt x="0" y="95474"/>
                  </a:lnTo>
                  <a:lnTo>
                    <a:pt x="220" y="100902"/>
                  </a:lnTo>
                  <a:lnTo>
                    <a:pt x="1212" y="106215"/>
                  </a:lnTo>
                  <a:lnTo>
                    <a:pt x="2721" y="111450"/>
                  </a:lnTo>
                  <a:lnTo>
                    <a:pt x="5420" y="116633"/>
                  </a:lnTo>
                  <a:lnTo>
                    <a:pt x="8913" y="121782"/>
                  </a:lnTo>
                  <a:lnTo>
                    <a:pt x="12934" y="126908"/>
                  </a:lnTo>
                  <a:lnTo>
                    <a:pt x="18155" y="131172"/>
                  </a:lnTo>
                  <a:lnTo>
                    <a:pt x="24176" y="134862"/>
                  </a:lnTo>
                  <a:lnTo>
                    <a:pt x="56135" y="150911"/>
                  </a:lnTo>
                  <a:lnTo>
                    <a:pt x="66430" y="153948"/>
                  </a:lnTo>
                  <a:lnTo>
                    <a:pt x="77526" y="155972"/>
                  </a:lnTo>
                  <a:lnTo>
                    <a:pt x="89156" y="157321"/>
                  </a:lnTo>
                  <a:lnTo>
                    <a:pt x="101144" y="158221"/>
                  </a:lnTo>
                  <a:lnTo>
                    <a:pt x="113369" y="158821"/>
                  </a:lnTo>
                  <a:lnTo>
                    <a:pt x="125752" y="159220"/>
                  </a:lnTo>
                  <a:lnTo>
                    <a:pt x="138240" y="158640"/>
                  </a:lnTo>
                  <a:lnTo>
                    <a:pt x="150799" y="157407"/>
                  </a:lnTo>
                  <a:lnTo>
                    <a:pt x="163406" y="155738"/>
                  </a:lnTo>
                  <a:lnTo>
                    <a:pt x="175196" y="152932"/>
                  </a:lnTo>
                  <a:lnTo>
                    <a:pt x="186443" y="149368"/>
                  </a:lnTo>
                  <a:lnTo>
                    <a:pt x="197328" y="145299"/>
                  </a:lnTo>
                  <a:lnTo>
                    <a:pt x="207972" y="140046"/>
                  </a:lnTo>
                  <a:lnTo>
                    <a:pt x="218453" y="134004"/>
                  </a:lnTo>
                  <a:lnTo>
                    <a:pt x="228828" y="127436"/>
                  </a:lnTo>
                  <a:lnTo>
                    <a:pt x="237438" y="121364"/>
                  </a:lnTo>
                  <a:lnTo>
                    <a:pt x="244871" y="115623"/>
                  </a:lnTo>
                  <a:lnTo>
                    <a:pt x="251520" y="110102"/>
                  </a:lnTo>
                  <a:lnTo>
                    <a:pt x="256799" y="103881"/>
                  </a:lnTo>
                  <a:lnTo>
                    <a:pt x="261166" y="97194"/>
                  </a:lnTo>
                  <a:lnTo>
                    <a:pt x="264923" y="90196"/>
                  </a:lnTo>
                  <a:lnTo>
                    <a:pt x="267428" y="82991"/>
                  </a:lnTo>
                  <a:lnTo>
                    <a:pt x="269098" y="75647"/>
                  </a:lnTo>
                  <a:lnTo>
                    <a:pt x="270211" y="68212"/>
                  </a:lnTo>
                  <a:lnTo>
                    <a:pt x="270107" y="61561"/>
                  </a:lnTo>
                  <a:lnTo>
                    <a:pt x="269191" y="55434"/>
                  </a:lnTo>
                  <a:lnTo>
                    <a:pt x="267733" y="49656"/>
                  </a:lnTo>
                  <a:lnTo>
                    <a:pt x="264221" y="44111"/>
                  </a:lnTo>
                  <a:lnTo>
                    <a:pt x="259340" y="38721"/>
                  </a:lnTo>
                  <a:lnTo>
                    <a:pt x="253546" y="33434"/>
                  </a:lnTo>
                  <a:lnTo>
                    <a:pt x="246297" y="29063"/>
                  </a:lnTo>
                  <a:lnTo>
                    <a:pt x="238077" y="25302"/>
                  </a:lnTo>
                  <a:lnTo>
                    <a:pt x="229211" y="21948"/>
                  </a:lnTo>
                  <a:lnTo>
                    <a:pt x="219913" y="18865"/>
                  </a:lnTo>
                  <a:lnTo>
                    <a:pt x="210328" y="15964"/>
                  </a:lnTo>
                  <a:lnTo>
                    <a:pt x="190647" y="10482"/>
                  </a:lnTo>
                  <a:lnTo>
                    <a:pt x="170610" y="5223"/>
                  </a:lnTo>
                  <a:lnTo>
                    <a:pt x="161373" y="3482"/>
                  </a:lnTo>
                  <a:lnTo>
                    <a:pt x="152675" y="2321"/>
                  </a:lnTo>
                  <a:lnTo>
                    <a:pt x="12765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SMARTInkAnnotation12"/>
            <p:cNvSpPr/>
            <p:nvPr/>
          </p:nvSpPr>
          <p:spPr>
            <a:xfrm>
              <a:off x="693000" y="2300760"/>
              <a:ext cx="284760" cy="40320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84789" h="403410">
                  <a:moveTo>
                    <a:pt x="61771" y="113849"/>
                  </a:moveTo>
                  <a:lnTo>
                    <a:pt x="51165" y="103243"/>
                  </a:lnTo>
                  <a:lnTo>
                    <a:pt x="50467" y="101698"/>
                  </a:lnTo>
                  <a:lnTo>
                    <a:pt x="50848" y="100669"/>
                  </a:lnTo>
                  <a:lnTo>
                    <a:pt x="51949" y="99982"/>
                  </a:lnTo>
                  <a:lnTo>
                    <a:pt x="52683" y="98678"/>
                  </a:lnTo>
                  <a:lnTo>
                    <a:pt x="53499" y="94971"/>
                  </a:lnTo>
                  <a:lnTo>
                    <a:pt x="53958" y="88124"/>
                  </a:lnTo>
                  <a:lnTo>
                    <a:pt x="54869" y="85692"/>
                  </a:lnTo>
                  <a:lnTo>
                    <a:pt x="58139" y="80733"/>
                  </a:lnTo>
                  <a:lnTo>
                    <a:pt x="64672" y="73449"/>
                  </a:lnTo>
                  <a:lnTo>
                    <a:pt x="73221" y="65413"/>
                  </a:lnTo>
                  <a:lnTo>
                    <a:pt x="77871" y="62085"/>
                  </a:lnTo>
                  <a:lnTo>
                    <a:pt x="82664" y="59020"/>
                  </a:lnTo>
                  <a:lnTo>
                    <a:pt x="88400" y="54436"/>
                  </a:lnTo>
                  <a:lnTo>
                    <a:pt x="94764" y="48840"/>
                  </a:lnTo>
                  <a:lnTo>
                    <a:pt x="101546" y="42570"/>
                  </a:lnTo>
                  <a:lnTo>
                    <a:pt x="108608" y="37543"/>
                  </a:lnTo>
                  <a:lnTo>
                    <a:pt x="115855" y="33345"/>
                  </a:lnTo>
                  <a:lnTo>
                    <a:pt x="123227" y="29700"/>
                  </a:lnTo>
                  <a:lnTo>
                    <a:pt x="132375" y="26423"/>
                  </a:lnTo>
                  <a:lnTo>
                    <a:pt x="142707" y="23391"/>
                  </a:lnTo>
                  <a:lnTo>
                    <a:pt x="216542" y="4686"/>
                  </a:lnTo>
                  <a:lnTo>
                    <a:pt x="226759" y="2974"/>
                  </a:lnTo>
                  <a:lnTo>
                    <a:pt x="236956" y="1832"/>
                  </a:lnTo>
                  <a:lnTo>
                    <a:pt x="247141" y="1071"/>
                  </a:lnTo>
                  <a:lnTo>
                    <a:pt x="262973" y="225"/>
                  </a:lnTo>
                  <a:lnTo>
                    <a:pt x="269566" y="0"/>
                  </a:lnTo>
                  <a:lnTo>
                    <a:pt x="274808" y="696"/>
                  </a:lnTo>
                  <a:lnTo>
                    <a:pt x="282890" y="3728"/>
                  </a:lnTo>
                  <a:lnTo>
                    <a:pt x="284537" y="6568"/>
                  </a:lnTo>
                  <a:lnTo>
                    <a:pt x="284788" y="10155"/>
                  </a:lnTo>
                  <a:lnTo>
                    <a:pt x="284109" y="14240"/>
                  </a:lnTo>
                  <a:lnTo>
                    <a:pt x="281116" y="18656"/>
                  </a:lnTo>
                  <a:lnTo>
                    <a:pt x="276581" y="23294"/>
                  </a:lnTo>
                  <a:lnTo>
                    <a:pt x="271018" y="28079"/>
                  </a:lnTo>
                  <a:lnTo>
                    <a:pt x="263922" y="33809"/>
                  </a:lnTo>
                  <a:lnTo>
                    <a:pt x="247007" y="46949"/>
                  </a:lnTo>
                  <a:lnTo>
                    <a:pt x="236062" y="54009"/>
                  </a:lnTo>
                  <a:lnTo>
                    <a:pt x="223685" y="61256"/>
                  </a:lnTo>
                  <a:lnTo>
                    <a:pt x="210354" y="68627"/>
                  </a:lnTo>
                  <a:lnTo>
                    <a:pt x="196386" y="76928"/>
                  </a:lnTo>
                  <a:lnTo>
                    <a:pt x="167320" y="95182"/>
                  </a:lnTo>
                  <a:lnTo>
                    <a:pt x="151610" y="103944"/>
                  </a:lnTo>
                  <a:lnTo>
                    <a:pt x="135211" y="112326"/>
                  </a:lnTo>
                  <a:lnTo>
                    <a:pt x="118351" y="120454"/>
                  </a:lnTo>
                  <a:lnTo>
                    <a:pt x="102878" y="128412"/>
                  </a:lnTo>
                  <a:lnTo>
                    <a:pt x="88329" y="136258"/>
                  </a:lnTo>
                  <a:lnTo>
                    <a:pt x="74396" y="144028"/>
                  </a:lnTo>
                  <a:lnTo>
                    <a:pt x="61721" y="151749"/>
                  </a:lnTo>
                  <a:lnTo>
                    <a:pt x="49884" y="159435"/>
                  </a:lnTo>
                  <a:lnTo>
                    <a:pt x="38607" y="167100"/>
                  </a:lnTo>
                  <a:lnTo>
                    <a:pt x="29395" y="173903"/>
                  </a:lnTo>
                  <a:lnTo>
                    <a:pt x="21560" y="180132"/>
                  </a:lnTo>
                  <a:lnTo>
                    <a:pt x="9186" y="190721"/>
                  </a:lnTo>
                  <a:lnTo>
                    <a:pt x="864" y="198250"/>
                  </a:lnTo>
                  <a:lnTo>
                    <a:pt x="0" y="201443"/>
                  </a:lnTo>
                  <a:lnTo>
                    <a:pt x="1117" y="204418"/>
                  </a:lnTo>
                  <a:lnTo>
                    <a:pt x="3555" y="207249"/>
                  </a:lnTo>
                  <a:lnTo>
                    <a:pt x="7720" y="209135"/>
                  </a:lnTo>
                  <a:lnTo>
                    <a:pt x="13037" y="210393"/>
                  </a:lnTo>
                  <a:lnTo>
                    <a:pt x="19122" y="211232"/>
                  </a:lnTo>
                  <a:lnTo>
                    <a:pt x="27412" y="211791"/>
                  </a:lnTo>
                  <a:lnTo>
                    <a:pt x="37171" y="212164"/>
                  </a:lnTo>
                  <a:lnTo>
                    <a:pt x="47911" y="212412"/>
                  </a:lnTo>
                  <a:lnTo>
                    <a:pt x="60151" y="213424"/>
                  </a:lnTo>
                  <a:lnTo>
                    <a:pt x="73391" y="214946"/>
                  </a:lnTo>
                  <a:lnTo>
                    <a:pt x="135186" y="223471"/>
                  </a:lnTo>
                  <a:lnTo>
                    <a:pt x="151355" y="225031"/>
                  </a:lnTo>
                  <a:lnTo>
                    <a:pt x="167213" y="226070"/>
                  </a:lnTo>
                  <a:lnTo>
                    <a:pt x="182866" y="226763"/>
                  </a:lnTo>
                  <a:lnTo>
                    <a:pt x="197534" y="228072"/>
                  </a:lnTo>
                  <a:lnTo>
                    <a:pt x="211546" y="229791"/>
                  </a:lnTo>
                  <a:lnTo>
                    <a:pt x="225121" y="231784"/>
                  </a:lnTo>
                  <a:lnTo>
                    <a:pt x="236711" y="234805"/>
                  </a:lnTo>
                  <a:lnTo>
                    <a:pt x="246978" y="238513"/>
                  </a:lnTo>
                  <a:lnTo>
                    <a:pt x="264312" y="246302"/>
                  </a:lnTo>
                  <a:lnTo>
                    <a:pt x="277660" y="252586"/>
                  </a:lnTo>
                  <a:lnTo>
                    <a:pt x="281051" y="256294"/>
                  </a:lnTo>
                  <a:lnTo>
                    <a:pt x="282464" y="260459"/>
                  </a:lnTo>
                  <a:lnTo>
                    <a:pt x="282560" y="264929"/>
                  </a:lnTo>
                  <a:lnTo>
                    <a:pt x="280930" y="269602"/>
                  </a:lnTo>
                  <a:lnTo>
                    <a:pt x="274604" y="279311"/>
                  </a:lnTo>
                  <a:lnTo>
                    <a:pt x="269700" y="284270"/>
                  </a:lnTo>
                  <a:lnTo>
                    <a:pt x="263890" y="289270"/>
                  </a:lnTo>
                  <a:lnTo>
                    <a:pt x="257477" y="294296"/>
                  </a:lnTo>
                  <a:lnTo>
                    <a:pt x="248968" y="299341"/>
                  </a:lnTo>
                  <a:lnTo>
                    <a:pt x="239063" y="304396"/>
                  </a:lnTo>
                  <a:lnTo>
                    <a:pt x="228225" y="309461"/>
                  </a:lnTo>
                  <a:lnTo>
                    <a:pt x="217614" y="315377"/>
                  </a:lnTo>
                  <a:lnTo>
                    <a:pt x="207153" y="321861"/>
                  </a:lnTo>
                  <a:lnTo>
                    <a:pt x="196792" y="328724"/>
                  </a:lnTo>
                  <a:lnTo>
                    <a:pt x="184805" y="334992"/>
                  </a:lnTo>
                  <a:lnTo>
                    <a:pt x="171734" y="340864"/>
                  </a:lnTo>
                  <a:lnTo>
                    <a:pt x="118299" y="362456"/>
                  </a:lnTo>
                  <a:lnTo>
                    <a:pt x="106230" y="367640"/>
                  </a:lnTo>
                  <a:lnTo>
                    <a:pt x="83788" y="377916"/>
                  </a:lnTo>
                  <a:lnTo>
                    <a:pt x="73909" y="382180"/>
                  </a:lnTo>
                  <a:lnTo>
                    <a:pt x="64783" y="385870"/>
                  </a:lnTo>
                  <a:lnTo>
                    <a:pt x="56159" y="389176"/>
                  </a:lnTo>
                  <a:lnTo>
                    <a:pt x="48716" y="392227"/>
                  </a:lnTo>
                  <a:lnTo>
                    <a:pt x="42061" y="395108"/>
                  </a:lnTo>
                  <a:lnTo>
                    <a:pt x="35931" y="397875"/>
                  </a:lnTo>
                  <a:lnTo>
                    <a:pt x="30998" y="399720"/>
                  </a:lnTo>
                  <a:lnTo>
                    <a:pt x="26862" y="400949"/>
                  </a:lnTo>
                  <a:lnTo>
                    <a:pt x="16051" y="4034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SMARTInkAnnotation13"/>
            <p:cNvSpPr/>
            <p:nvPr/>
          </p:nvSpPr>
          <p:spPr>
            <a:xfrm>
              <a:off x="975960" y="2506320"/>
              <a:ext cx="205560" cy="19800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05741" h="198121">
                  <a:moveTo>
                    <a:pt x="205740" y="0"/>
                  </a:moveTo>
                  <a:lnTo>
                    <a:pt x="201695" y="4045"/>
                  </a:lnTo>
                  <a:lnTo>
                    <a:pt x="200503" y="6084"/>
                  </a:lnTo>
                  <a:lnTo>
                    <a:pt x="199179" y="10606"/>
                  </a:lnTo>
                  <a:lnTo>
                    <a:pt x="197133" y="13844"/>
                  </a:lnTo>
                  <a:lnTo>
                    <a:pt x="194075" y="17696"/>
                  </a:lnTo>
                  <a:lnTo>
                    <a:pt x="190344" y="21957"/>
                  </a:lnTo>
                  <a:lnTo>
                    <a:pt x="185316" y="27338"/>
                  </a:lnTo>
                  <a:lnTo>
                    <a:pt x="172956" y="40090"/>
                  </a:lnTo>
                  <a:lnTo>
                    <a:pt x="165257" y="47047"/>
                  </a:lnTo>
                  <a:lnTo>
                    <a:pt x="156738" y="54225"/>
                  </a:lnTo>
                  <a:lnTo>
                    <a:pt x="138242" y="68973"/>
                  </a:lnTo>
                  <a:lnTo>
                    <a:pt x="118732" y="83995"/>
                  </a:lnTo>
                  <a:lnTo>
                    <a:pt x="109635" y="92403"/>
                  </a:lnTo>
                  <a:lnTo>
                    <a:pt x="101030" y="101396"/>
                  </a:lnTo>
                  <a:lnTo>
                    <a:pt x="92753" y="110777"/>
                  </a:lnTo>
                  <a:lnTo>
                    <a:pt x="83849" y="119571"/>
                  </a:lnTo>
                  <a:lnTo>
                    <a:pt x="74526" y="127974"/>
                  </a:lnTo>
                  <a:lnTo>
                    <a:pt x="64924" y="136116"/>
                  </a:lnTo>
                  <a:lnTo>
                    <a:pt x="56830" y="144084"/>
                  </a:lnTo>
                  <a:lnTo>
                    <a:pt x="49740" y="151936"/>
                  </a:lnTo>
                  <a:lnTo>
                    <a:pt x="43320" y="159711"/>
                  </a:lnTo>
                  <a:lnTo>
                    <a:pt x="36500" y="165741"/>
                  </a:lnTo>
                  <a:lnTo>
                    <a:pt x="29413" y="170607"/>
                  </a:lnTo>
                  <a:lnTo>
                    <a:pt x="22149" y="174698"/>
                  </a:lnTo>
                  <a:lnTo>
                    <a:pt x="16459" y="179119"/>
                  </a:lnTo>
                  <a:lnTo>
                    <a:pt x="11820" y="183759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SMARTInkAnnotation14"/>
            <p:cNvSpPr/>
            <p:nvPr/>
          </p:nvSpPr>
          <p:spPr>
            <a:xfrm>
              <a:off x="1074960" y="2552040"/>
              <a:ext cx="137160" cy="1292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37161" h="129541">
                  <a:moveTo>
                    <a:pt x="0" y="0"/>
                  </a:moveTo>
                  <a:lnTo>
                    <a:pt x="10606" y="0"/>
                  </a:lnTo>
                  <a:lnTo>
                    <a:pt x="12997" y="847"/>
                  </a:lnTo>
                  <a:lnTo>
                    <a:pt x="15438" y="2258"/>
                  </a:lnTo>
                  <a:lnTo>
                    <a:pt x="17912" y="4045"/>
                  </a:lnTo>
                  <a:lnTo>
                    <a:pt x="20408" y="6084"/>
                  </a:lnTo>
                  <a:lnTo>
                    <a:pt x="22919" y="8289"/>
                  </a:lnTo>
                  <a:lnTo>
                    <a:pt x="25440" y="10606"/>
                  </a:lnTo>
                  <a:lnTo>
                    <a:pt x="30498" y="15438"/>
                  </a:lnTo>
                  <a:lnTo>
                    <a:pt x="33032" y="17912"/>
                  </a:lnTo>
                  <a:lnTo>
                    <a:pt x="35568" y="21255"/>
                  </a:lnTo>
                  <a:lnTo>
                    <a:pt x="38105" y="25177"/>
                  </a:lnTo>
                  <a:lnTo>
                    <a:pt x="40644" y="29484"/>
                  </a:lnTo>
                  <a:lnTo>
                    <a:pt x="44029" y="34050"/>
                  </a:lnTo>
                  <a:lnTo>
                    <a:pt x="47980" y="38787"/>
                  </a:lnTo>
                  <a:lnTo>
                    <a:pt x="52306" y="43638"/>
                  </a:lnTo>
                  <a:lnTo>
                    <a:pt x="56038" y="48565"/>
                  </a:lnTo>
                  <a:lnTo>
                    <a:pt x="59372" y="53543"/>
                  </a:lnTo>
                  <a:lnTo>
                    <a:pt x="62441" y="58556"/>
                  </a:lnTo>
                  <a:lnTo>
                    <a:pt x="65334" y="63590"/>
                  </a:lnTo>
                  <a:lnTo>
                    <a:pt x="70807" y="73700"/>
                  </a:lnTo>
                  <a:lnTo>
                    <a:pt x="74298" y="78767"/>
                  </a:lnTo>
                  <a:lnTo>
                    <a:pt x="78318" y="83838"/>
                  </a:lnTo>
                  <a:lnTo>
                    <a:pt x="82693" y="88912"/>
                  </a:lnTo>
                  <a:lnTo>
                    <a:pt x="86455" y="93988"/>
                  </a:lnTo>
                  <a:lnTo>
                    <a:pt x="89810" y="99065"/>
                  </a:lnTo>
                  <a:lnTo>
                    <a:pt x="92894" y="104144"/>
                  </a:lnTo>
                  <a:lnTo>
                    <a:pt x="95796" y="107529"/>
                  </a:lnTo>
                  <a:lnTo>
                    <a:pt x="98577" y="109786"/>
                  </a:lnTo>
                  <a:lnTo>
                    <a:pt x="101278" y="111291"/>
                  </a:lnTo>
                  <a:lnTo>
                    <a:pt x="108795" y="115220"/>
                  </a:lnTo>
                  <a:lnTo>
                    <a:pt x="113170" y="117454"/>
                  </a:lnTo>
                  <a:lnTo>
                    <a:pt x="116933" y="119789"/>
                  </a:lnTo>
                  <a:lnTo>
                    <a:pt x="120289" y="122193"/>
                  </a:lnTo>
                  <a:lnTo>
                    <a:pt x="123373" y="124642"/>
                  </a:lnTo>
                  <a:lnTo>
                    <a:pt x="126275" y="126275"/>
                  </a:lnTo>
                  <a:lnTo>
                    <a:pt x="129057" y="127363"/>
                  </a:lnTo>
                  <a:lnTo>
                    <a:pt x="137160" y="1295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SMARTInkAnnotation15"/>
            <p:cNvSpPr/>
            <p:nvPr/>
          </p:nvSpPr>
          <p:spPr>
            <a:xfrm>
              <a:off x="1326240" y="2536920"/>
              <a:ext cx="159840" cy="226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60021" h="22861">
                  <a:moveTo>
                    <a:pt x="0" y="22860"/>
                  </a:moveTo>
                  <a:lnTo>
                    <a:pt x="4046" y="18815"/>
                  </a:lnTo>
                  <a:lnTo>
                    <a:pt x="6084" y="17623"/>
                  </a:lnTo>
                  <a:lnTo>
                    <a:pt x="8289" y="16829"/>
                  </a:lnTo>
                  <a:lnTo>
                    <a:pt x="10606" y="16299"/>
                  </a:lnTo>
                  <a:lnTo>
                    <a:pt x="15439" y="15711"/>
                  </a:lnTo>
                  <a:lnTo>
                    <a:pt x="17912" y="15554"/>
                  </a:lnTo>
                  <a:lnTo>
                    <a:pt x="22102" y="14603"/>
                  </a:lnTo>
                  <a:lnTo>
                    <a:pt x="27434" y="13122"/>
                  </a:lnTo>
                  <a:lnTo>
                    <a:pt x="33529" y="11288"/>
                  </a:lnTo>
                  <a:lnTo>
                    <a:pt x="40980" y="10065"/>
                  </a:lnTo>
                  <a:lnTo>
                    <a:pt x="49333" y="9250"/>
                  </a:lnTo>
                  <a:lnTo>
                    <a:pt x="58289" y="8707"/>
                  </a:lnTo>
                  <a:lnTo>
                    <a:pt x="67646" y="7498"/>
                  </a:lnTo>
                  <a:lnTo>
                    <a:pt x="77271" y="5845"/>
                  </a:lnTo>
                  <a:lnTo>
                    <a:pt x="87074" y="3897"/>
                  </a:lnTo>
                  <a:lnTo>
                    <a:pt x="96996" y="2598"/>
                  </a:lnTo>
                  <a:lnTo>
                    <a:pt x="106997" y="1732"/>
                  </a:lnTo>
                  <a:lnTo>
                    <a:pt x="117052" y="1155"/>
                  </a:lnTo>
                  <a:lnTo>
                    <a:pt x="134996" y="513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SMARTInkAnnotation16"/>
            <p:cNvSpPr/>
            <p:nvPr/>
          </p:nvSpPr>
          <p:spPr>
            <a:xfrm>
              <a:off x="1570320" y="2376720"/>
              <a:ext cx="213120" cy="2588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13215" h="259078">
                  <a:moveTo>
                    <a:pt x="0" y="7617"/>
                  </a:moveTo>
                  <a:lnTo>
                    <a:pt x="4045" y="11662"/>
                  </a:lnTo>
                  <a:lnTo>
                    <a:pt x="6084" y="12854"/>
                  </a:lnTo>
                  <a:lnTo>
                    <a:pt x="10606" y="14178"/>
                  </a:lnTo>
                  <a:lnTo>
                    <a:pt x="15438" y="14766"/>
                  </a:lnTo>
                  <a:lnTo>
                    <a:pt x="21255" y="15028"/>
                  </a:lnTo>
                  <a:lnTo>
                    <a:pt x="38787" y="15196"/>
                  </a:lnTo>
                  <a:lnTo>
                    <a:pt x="88352" y="15235"/>
                  </a:lnTo>
                  <a:lnTo>
                    <a:pt x="97848" y="14389"/>
                  </a:lnTo>
                  <a:lnTo>
                    <a:pt x="107565" y="12978"/>
                  </a:lnTo>
                  <a:lnTo>
                    <a:pt x="117430" y="11191"/>
                  </a:lnTo>
                  <a:lnTo>
                    <a:pt x="127393" y="10000"/>
                  </a:lnTo>
                  <a:lnTo>
                    <a:pt x="137422" y="9206"/>
                  </a:lnTo>
                  <a:lnTo>
                    <a:pt x="147495" y="8676"/>
                  </a:lnTo>
                  <a:lnTo>
                    <a:pt x="155903" y="7477"/>
                  </a:lnTo>
                  <a:lnTo>
                    <a:pt x="163202" y="5830"/>
                  </a:lnTo>
                  <a:lnTo>
                    <a:pt x="169762" y="3886"/>
                  </a:lnTo>
                  <a:lnTo>
                    <a:pt x="175828" y="2590"/>
                  </a:lnTo>
                  <a:lnTo>
                    <a:pt x="181565" y="1725"/>
                  </a:lnTo>
                  <a:lnTo>
                    <a:pt x="187083" y="1149"/>
                  </a:lnTo>
                  <a:lnTo>
                    <a:pt x="191609" y="765"/>
                  </a:lnTo>
                  <a:lnTo>
                    <a:pt x="195473" y="509"/>
                  </a:lnTo>
                  <a:lnTo>
                    <a:pt x="202023" y="225"/>
                  </a:lnTo>
                  <a:lnTo>
                    <a:pt x="213214" y="0"/>
                  </a:lnTo>
                  <a:lnTo>
                    <a:pt x="207248" y="6928"/>
                  </a:lnTo>
                  <a:lnTo>
                    <a:pt x="202741" y="14649"/>
                  </a:lnTo>
                  <a:lnTo>
                    <a:pt x="200354" y="19925"/>
                  </a:lnTo>
                  <a:lnTo>
                    <a:pt x="197916" y="25982"/>
                  </a:lnTo>
                  <a:lnTo>
                    <a:pt x="192950" y="39486"/>
                  </a:lnTo>
                  <a:lnTo>
                    <a:pt x="187920" y="53955"/>
                  </a:lnTo>
                  <a:lnTo>
                    <a:pt x="184546" y="62215"/>
                  </a:lnTo>
                  <a:lnTo>
                    <a:pt x="180604" y="71109"/>
                  </a:lnTo>
                  <a:lnTo>
                    <a:pt x="171709" y="90023"/>
                  </a:lnTo>
                  <a:lnTo>
                    <a:pt x="162111" y="109717"/>
                  </a:lnTo>
                  <a:lnTo>
                    <a:pt x="158027" y="119711"/>
                  </a:lnTo>
                  <a:lnTo>
                    <a:pt x="154458" y="129760"/>
                  </a:lnTo>
                  <a:lnTo>
                    <a:pt x="127036" y="213229"/>
                  </a:lnTo>
                  <a:lnTo>
                    <a:pt x="125330" y="220045"/>
                  </a:lnTo>
                  <a:lnTo>
                    <a:pt x="124194" y="226282"/>
                  </a:lnTo>
                  <a:lnTo>
                    <a:pt x="123436" y="232134"/>
                  </a:lnTo>
                  <a:lnTo>
                    <a:pt x="122084" y="237728"/>
                  </a:lnTo>
                  <a:lnTo>
                    <a:pt x="120336" y="243151"/>
                  </a:lnTo>
                  <a:lnTo>
                    <a:pt x="114300" y="2590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SMARTInkAnnotation17"/>
            <p:cNvSpPr/>
            <p:nvPr/>
          </p:nvSpPr>
          <p:spPr>
            <a:xfrm>
              <a:off x="1623600" y="2529000"/>
              <a:ext cx="213120" cy="22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13361" h="22861">
                  <a:moveTo>
                    <a:pt x="0" y="22860"/>
                  </a:moveTo>
                  <a:lnTo>
                    <a:pt x="17912" y="22860"/>
                  </a:lnTo>
                  <a:lnTo>
                    <a:pt x="21255" y="22014"/>
                  </a:lnTo>
                  <a:lnTo>
                    <a:pt x="25177" y="20602"/>
                  </a:lnTo>
                  <a:lnTo>
                    <a:pt x="29485" y="18815"/>
                  </a:lnTo>
                  <a:lnTo>
                    <a:pt x="36590" y="17623"/>
                  </a:lnTo>
                  <a:lnTo>
                    <a:pt x="45560" y="16829"/>
                  </a:lnTo>
                  <a:lnTo>
                    <a:pt x="55773" y="16299"/>
                  </a:lnTo>
                  <a:lnTo>
                    <a:pt x="65969" y="15100"/>
                  </a:lnTo>
                  <a:lnTo>
                    <a:pt x="76153" y="13453"/>
                  </a:lnTo>
                  <a:lnTo>
                    <a:pt x="86328" y="11509"/>
                  </a:lnTo>
                  <a:lnTo>
                    <a:pt x="96499" y="10213"/>
                  </a:lnTo>
                  <a:lnTo>
                    <a:pt x="106666" y="9348"/>
                  </a:lnTo>
                  <a:lnTo>
                    <a:pt x="116831" y="8772"/>
                  </a:lnTo>
                  <a:lnTo>
                    <a:pt x="127840" y="7541"/>
                  </a:lnTo>
                  <a:lnTo>
                    <a:pt x="139414" y="5874"/>
                  </a:lnTo>
                  <a:lnTo>
                    <a:pt x="151363" y="3916"/>
                  </a:lnTo>
                  <a:lnTo>
                    <a:pt x="161022" y="2611"/>
                  </a:lnTo>
                  <a:lnTo>
                    <a:pt x="169155" y="1740"/>
                  </a:lnTo>
                  <a:lnTo>
                    <a:pt x="176270" y="1160"/>
                  </a:lnTo>
                  <a:lnTo>
                    <a:pt x="183553" y="773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SMARTInkAnnotation18"/>
            <p:cNvSpPr/>
            <p:nvPr/>
          </p:nvSpPr>
          <p:spPr>
            <a:xfrm>
              <a:off x="739800" y="2979000"/>
              <a:ext cx="378000" cy="36576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378171" h="365693">
                  <a:moveTo>
                    <a:pt x="30444" y="76132"/>
                  </a:moveTo>
                  <a:lnTo>
                    <a:pt x="16291" y="76132"/>
                  </a:lnTo>
                  <a:lnTo>
                    <a:pt x="9335" y="70895"/>
                  </a:lnTo>
                  <a:lnTo>
                    <a:pt x="1365" y="68826"/>
                  </a:lnTo>
                  <a:lnTo>
                    <a:pt x="898" y="67875"/>
                  </a:lnTo>
                  <a:lnTo>
                    <a:pt x="0" y="61214"/>
                  </a:lnTo>
                  <a:lnTo>
                    <a:pt x="8065" y="56942"/>
                  </a:lnTo>
                  <a:lnTo>
                    <a:pt x="18805" y="52646"/>
                  </a:lnTo>
                  <a:lnTo>
                    <a:pt x="25224" y="50314"/>
                  </a:lnTo>
                  <a:lnTo>
                    <a:pt x="32044" y="47067"/>
                  </a:lnTo>
                  <a:lnTo>
                    <a:pt x="39131" y="43209"/>
                  </a:lnTo>
                  <a:lnTo>
                    <a:pt x="46395" y="38943"/>
                  </a:lnTo>
                  <a:lnTo>
                    <a:pt x="54625" y="35253"/>
                  </a:lnTo>
                  <a:lnTo>
                    <a:pt x="63498" y="31946"/>
                  </a:lnTo>
                  <a:lnTo>
                    <a:pt x="72800" y="28895"/>
                  </a:lnTo>
                  <a:lnTo>
                    <a:pt x="83235" y="26014"/>
                  </a:lnTo>
                  <a:lnTo>
                    <a:pt x="94424" y="23247"/>
                  </a:lnTo>
                  <a:lnTo>
                    <a:pt x="106118" y="20555"/>
                  </a:lnTo>
                  <a:lnTo>
                    <a:pt x="118147" y="17068"/>
                  </a:lnTo>
                  <a:lnTo>
                    <a:pt x="130399" y="13049"/>
                  </a:lnTo>
                  <a:lnTo>
                    <a:pt x="142801" y="8677"/>
                  </a:lnTo>
                  <a:lnTo>
                    <a:pt x="156148" y="5762"/>
                  </a:lnTo>
                  <a:lnTo>
                    <a:pt x="170127" y="3819"/>
                  </a:lnTo>
                  <a:lnTo>
                    <a:pt x="184526" y="2523"/>
                  </a:lnTo>
                  <a:lnTo>
                    <a:pt x="197512" y="1660"/>
                  </a:lnTo>
                  <a:lnTo>
                    <a:pt x="209556" y="1084"/>
                  </a:lnTo>
                  <a:lnTo>
                    <a:pt x="232816" y="444"/>
                  </a:lnTo>
                  <a:lnTo>
                    <a:pt x="286739" y="0"/>
                  </a:lnTo>
                  <a:lnTo>
                    <a:pt x="293594" y="1670"/>
                  </a:lnTo>
                  <a:lnTo>
                    <a:pt x="299011" y="4478"/>
                  </a:lnTo>
                  <a:lnTo>
                    <a:pt x="303469" y="8042"/>
                  </a:lnTo>
                  <a:lnTo>
                    <a:pt x="306441" y="11266"/>
                  </a:lnTo>
                  <a:lnTo>
                    <a:pt x="308422" y="14261"/>
                  </a:lnTo>
                  <a:lnTo>
                    <a:pt x="309743" y="17105"/>
                  </a:lnTo>
                  <a:lnTo>
                    <a:pt x="309776" y="20694"/>
                  </a:lnTo>
                  <a:lnTo>
                    <a:pt x="307556" y="29198"/>
                  </a:lnTo>
                  <a:lnTo>
                    <a:pt x="304086" y="34682"/>
                  </a:lnTo>
                  <a:lnTo>
                    <a:pt x="299232" y="40879"/>
                  </a:lnTo>
                  <a:lnTo>
                    <a:pt x="293456" y="47550"/>
                  </a:lnTo>
                  <a:lnTo>
                    <a:pt x="285372" y="54537"/>
                  </a:lnTo>
                  <a:lnTo>
                    <a:pt x="275749" y="61736"/>
                  </a:lnTo>
                  <a:lnTo>
                    <a:pt x="254616" y="76507"/>
                  </a:lnTo>
                  <a:lnTo>
                    <a:pt x="233933" y="91539"/>
                  </a:lnTo>
                  <a:lnTo>
                    <a:pt x="221984" y="99103"/>
                  </a:lnTo>
                  <a:lnTo>
                    <a:pt x="208937" y="106686"/>
                  </a:lnTo>
                  <a:lnTo>
                    <a:pt x="182588" y="121038"/>
                  </a:lnTo>
                  <a:lnTo>
                    <a:pt x="159588" y="133061"/>
                  </a:lnTo>
                  <a:lnTo>
                    <a:pt x="148713" y="139485"/>
                  </a:lnTo>
                  <a:lnTo>
                    <a:pt x="138077" y="146307"/>
                  </a:lnTo>
                  <a:lnTo>
                    <a:pt x="127599" y="153396"/>
                  </a:lnTo>
                  <a:lnTo>
                    <a:pt x="118921" y="159815"/>
                  </a:lnTo>
                  <a:lnTo>
                    <a:pt x="111442" y="165787"/>
                  </a:lnTo>
                  <a:lnTo>
                    <a:pt x="99463" y="176092"/>
                  </a:lnTo>
                  <a:lnTo>
                    <a:pt x="91317" y="183495"/>
                  </a:lnTo>
                  <a:lnTo>
                    <a:pt x="90499" y="186654"/>
                  </a:lnTo>
                  <a:lnTo>
                    <a:pt x="91648" y="189607"/>
                  </a:lnTo>
                  <a:lnTo>
                    <a:pt x="94106" y="192422"/>
                  </a:lnTo>
                  <a:lnTo>
                    <a:pt x="98286" y="194299"/>
                  </a:lnTo>
                  <a:lnTo>
                    <a:pt x="109702" y="196384"/>
                  </a:lnTo>
                  <a:lnTo>
                    <a:pt x="127759" y="199569"/>
                  </a:lnTo>
                  <a:lnTo>
                    <a:pt x="138501" y="201603"/>
                  </a:lnTo>
                  <a:lnTo>
                    <a:pt x="166240" y="206121"/>
                  </a:lnTo>
                  <a:lnTo>
                    <a:pt x="319980" y="231080"/>
                  </a:lnTo>
                  <a:lnTo>
                    <a:pt x="332688" y="234464"/>
                  </a:lnTo>
                  <a:lnTo>
                    <a:pt x="343700" y="238413"/>
                  </a:lnTo>
                  <a:lnTo>
                    <a:pt x="353582" y="242740"/>
                  </a:lnTo>
                  <a:lnTo>
                    <a:pt x="361016" y="247317"/>
                  </a:lnTo>
                  <a:lnTo>
                    <a:pt x="371534" y="256919"/>
                  </a:lnTo>
                  <a:lnTo>
                    <a:pt x="374677" y="261850"/>
                  </a:lnTo>
                  <a:lnTo>
                    <a:pt x="378170" y="271844"/>
                  </a:lnTo>
                  <a:lnTo>
                    <a:pt x="377408" y="277727"/>
                  </a:lnTo>
                  <a:lnTo>
                    <a:pt x="375207" y="284189"/>
                  </a:lnTo>
                  <a:lnTo>
                    <a:pt x="372046" y="291036"/>
                  </a:lnTo>
                  <a:lnTo>
                    <a:pt x="366552" y="297295"/>
                  </a:lnTo>
                  <a:lnTo>
                    <a:pt x="359502" y="303160"/>
                  </a:lnTo>
                  <a:lnTo>
                    <a:pt x="351416" y="308764"/>
                  </a:lnTo>
                  <a:lnTo>
                    <a:pt x="341792" y="314194"/>
                  </a:lnTo>
                  <a:lnTo>
                    <a:pt x="331143" y="319506"/>
                  </a:lnTo>
                  <a:lnTo>
                    <a:pt x="319810" y="324742"/>
                  </a:lnTo>
                  <a:lnTo>
                    <a:pt x="306328" y="329078"/>
                  </a:lnTo>
                  <a:lnTo>
                    <a:pt x="291413" y="332816"/>
                  </a:lnTo>
                  <a:lnTo>
                    <a:pt x="275544" y="336155"/>
                  </a:lnTo>
                  <a:lnTo>
                    <a:pt x="260730" y="340074"/>
                  </a:lnTo>
                  <a:lnTo>
                    <a:pt x="246622" y="344380"/>
                  </a:lnTo>
                  <a:lnTo>
                    <a:pt x="232983" y="348944"/>
                  </a:lnTo>
                  <a:lnTo>
                    <a:pt x="218810" y="352833"/>
                  </a:lnTo>
                  <a:lnTo>
                    <a:pt x="204281" y="356273"/>
                  </a:lnTo>
                  <a:lnTo>
                    <a:pt x="189515" y="359412"/>
                  </a:lnTo>
                  <a:lnTo>
                    <a:pt x="175438" y="361506"/>
                  </a:lnTo>
                  <a:lnTo>
                    <a:pt x="161820" y="362901"/>
                  </a:lnTo>
                  <a:lnTo>
                    <a:pt x="148508" y="363831"/>
                  </a:lnTo>
                  <a:lnTo>
                    <a:pt x="135400" y="364452"/>
                  </a:lnTo>
                  <a:lnTo>
                    <a:pt x="99266" y="365324"/>
                  </a:lnTo>
                  <a:lnTo>
                    <a:pt x="60924" y="3656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SMARTInkAnnotation19"/>
            <p:cNvSpPr/>
            <p:nvPr/>
          </p:nvSpPr>
          <p:spPr>
            <a:xfrm>
              <a:off x="1051920" y="3100680"/>
              <a:ext cx="228600" cy="205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28601" h="205741">
                  <a:moveTo>
                    <a:pt x="228600" y="0"/>
                  </a:moveTo>
                  <a:lnTo>
                    <a:pt x="228600" y="6561"/>
                  </a:lnTo>
                  <a:lnTo>
                    <a:pt x="226342" y="11665"/>
                  </a:lnTo>
                  <a:lnTo>
                    <a:pt x="224555" y="15397"/>
                  </a:lnTo>
                  <a:lnTo>
                    <a:pt x="221670" y="18731"/>
                  </a:lnTo>
                  <a:lnTo>
                    <a:pt x="218054" y="21801"/>
                  </a:lnTo>
                  <a:lnTo>
                    <a:pt x="213949" y="24694"/>
                  </a:lnTo>
                  <a:lnTo>
                    <a:pt x="209520" y="29162"/>
                  </a:lnTo>
                  <a:lnTo>
                    <a:pt x="204873" y="34682"/>
                  </a:lnTo>
                  <a:lnTo>
                    <a:pt x="200082" y="40901"/>
                  </a:lnTo>
                  <a:lnTo>
                    <a:pt x="194348" y="47588"/>
                  </a:lnTo>
                  <a:lnTo>
                    <a:pt x="187986" y="54585"/>
                  </a:lnTo>
                  <a:lnTo>
                    <a:pt x="181204" y="61790"/>
                  </a:lnTo>
                  <a:lnTo>
                    <a:pt x="173296" y="69133"/>
                  </a:lnTo>
                  <a:lnTo>
                    <a:pt x="164637" y="76569"/>
                  </a:lnTo>
                  <a:lnTo>
                    <a:pt x="155478" y="84066"/>
                  </a:lnTo>
                  <a:lnTo>
                    <a:pt x="146832" y="91604"/>
                  </a:lnTo>
                  <a:lnTo>
                    <a:pt x="138528" y="99169"/>
                  </a:lnTo>
                  <a:lnTo>
                    <a:pt x="130452" y="106753"/>
                  </a:lnTo>
                  <a:lnTo>
                    <a:pt x="121682" y="114349"/>
                  </a:lnTo>
                  <a:lnTo>
                    <a:pt x="112448" y="121952"/>
                  </a:lnTo>
                  <a:lnTo>
                    <a:pt x="93157" y="137174"/>
                  </a:lnTo>
                  <a:lnTo>
                    <a:pt x="73294" y="152406"/>
                  </a:lnTo>
                  <a:lnTo>
                    <a:pt x="63256" y="159178"/>
                  </a:lnTo>
                  <a:lnTo>
                    <a:pt x="53177" y="165385"/>
                  </a:lnTo>
                  <a:lnTo>
                    <a:pt x="43072" y="171217"/>
                  </a:lnTo>
                  <a:lnTo>
                    <a:pt x="35488" y="176798"/>
                  </a:lnTo>
                  <a:lnTo>
                    <a:pt x="29585" y="182212"/>
                  </a:lnTo>
                  <a:lnTo>
                    <a:pt x="24804" y="187515"/>
                  </a:lnTo>
                  <a:lnTo>
                    <a:pt x="19922" y="191896"/>
                  </a:lnTo>
                  <a:lnTo>
                    <a:pt x="14975" y="195664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SMARTInkAnnotation20"/>
            <p:cNvSpPr/>
            <p:nvPr/>
          </p:nvSpPr>
          <p:spPr>
            <a:xfrm>
              <a:off x="1143360" y="3138840"/>
              <a:ext cx="236160" cy="1598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6221" h="160021">
                  <a:moveTo>
                    <a:pt x="0" y="0"/>
                  </a:moveTo>
                  <a:lnTo>
                    <a:pt x="4045" y="4045"/>
                  </a:lnTo>
                  <a:lnTo>
                    <a:pt x="6084" y="5237"/>
                  </a:lnTo>
                  <a:lnTo>
                    <a:pt x="10606" y="6561"/>
                  </a:lnTo>
                  <a:lnTo>
                    <a:pt x="17912" y="7306"/>
                  </a:lnTo>
                  <a:lnTo>
                    <a:pt x="20408" y="9104"/>
                  </a:lnTo>
                  <a:lnTo>
                    <a:pt x="22919" y="11996"/>
                  </a:lnTo>
                  <a:lnTo>
                    <a:pt x="25439" y="15617"/>
                  </a:lnTo>
                  <a:lnTo>
                    <a:pt x="28813" y="19725"/>
                  </a:lnTo>
                  <a:lnTo>
                    <a:pt x="32755" y="24157"/>
                  </a:lnTo>
                  <a:lnTo>
                    <a:pt x="41651" y="33596"/>
                  </a:lnTo>
                  <a:lnTo>
                    <a:pt x="51249" y="43436"/>
                  </a:lnTo>
                  <a:lnTo>
                    <a:pt x="57026" y="48431"/>
                  </a:lnTo>
                  <a:lnTo>
                    <a:pt x="63417" y="53454"/>
                  </a:lnTo>
                  <a:lnTo>
                    <a:pt x="70218" y="58496"/>
                  </a:lnTo>
                  <a:lnTo>
                    <a:pt x="77292" y="64397"/>
                  </a:lnTo>
                  <a:lnTo>
                    <a:pt x="84548" y="70871"/>
                  </a:lnTo>
                  <a:lnTo>
                    <a:pt x="91926" y="77728"/>
                  </a:lnTo>
                  <a:lnTo>
                    <a:pt x="99384" y="83992"/>
                  </a:lnTo>
                  <a:lnTo>
                    <a:pt x="106896" y="89861"/>
                  </a:lnTo>
                  <a:lnTo>
                    <a:pt x="114444" y="95468"/>
                  </a:lnTo>
                  <a:lnTo>
                    <a:pt x="129604" y="106212"/>
                  </a:lnTo>
                  <a:lnTo>
                    <a:pt x="137203" y="111448"/>
                  </a:lnTo>
                  <a:lnTo>
                    <a:pt x="144809" y="117479"/>
                  </a:lnTo>
                  <a:lnTo>
                    <a:pt x="152419" y="124039"/>
                  </a:lnTo>
                  <a:lnTo>
                    <a:pt x="160033" y="130953"/>
                  </a:lnTo>
                  <a:lnTo>
                    <a:pt x="168495" y="136408"/>
                  </a:lnTo>
                  <a:lnTo>
                    <a:pt x="177523" y="140892"/>
                  </a:lnTo>
                  <a:lnTo>
                    <a:pt x="186929" y="144729"/>
                  </a:lnTo>
                  <a:lnTo>
                    <a:pt x="194893" y="148132"/>
                  </a:lnTo>
                  <a:lnTo>
                    <a:pt x="208257" y="154172"/>
                  </a:lnTo>
                  <a:lnTo>
                    <a:pt x="214191" y="156122"/>
                  </a:lnTo>
                  <a:lnTo>
                    <a:pt x="219841" y="157421"/>
                  </a:lnTo>
                  <a:lnTo>
                    <a:pt x="236220" y="160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SMARTInkAnnotation21"/>
            <p:cNvSpPr/>
            <p:nvPr/>
          </p:nvSpPr>
          <p:spPr>
            <a:xfrm>
              <a:off x="1455840" y="3161880"/>
              <a:ext cx="129240" cy="151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9541" h="15146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6561" y="7306"/>
                  </a:lnTo>
                  <a:lnTo>
                    <a:pt x="8607" y="8257"/>
                  </a:lnTo>
                  <a:lnTo>
                    <a:pt x="15397" y="11573"/>
                  </a:lnTo>
                  <a:lnTo>
                    <a:pt x="19578" y="12795"/>
                  </a:lnTo>
                  <a:lnTo>
                    <a:pt x="24059" y="13610"/>
                  </a:lnTo>
                  <a:lnTo>
                    <a:pt x="28739" y="14153"/>
                  </a:lnTo>
                  <a:lnTo>
                    <a:pt x="34399" y="14516"/>
                  </a:lnTo>
                  <a:lnTo>
                    <a:pt x="40713" y="14757"/>
                  </a:lnTo>
                  <a:lnTo>
                    <a:pt x="61734" y="15097"/>
                  </a:lnTo>
                  <a:lnTo>
                    <a:pt x="69096" y="15145"/>
                  </a:lnTo>
                  <a:lnTo>
                    <a:pt x="77391" y="14330"/>
                  </a:lnTo>
                  <a:lnTo>
                    <a:pt x="86307" y="12940"/>
                  </a:lnTo>
                  <a:lnTo>
                    <a:pt x="95638" y="11167"/>
                  </a:lnTo>
                  <a:lnTo>
                    <a:pt x="103552" y="9984"/>
                  </a:lnTo>
                  <a:lnTo>
                    <a:pt x="110522" y="9196"/>
                  </a:lnTo>
                  <a:lnTo>
                    <a:pt x="12954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SMARTInkAnnotation22"/>
            <p:cNvSpPr/>
            <p:nvPr/>
          </p:nvSpPr>
          <p:spPr>
            <a:xfrm>
              <a:off x="1623600" y="3024720"/>
              <a:ext cx="285120" cy="32004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85118" h="320041">
                  <a:moveTo>
                    <a:pt x="0" y="0"/>
                  </a:moveTo>
                  <a:lnTo>
                    <a:pt x="14651" y="0"/>
                  </a:lnTo>
                  <a:lnTo>
                    <a:pt x="19928" y="847"/>
                  </a:lnTo>
                  <a:lnTo>
                    <a:pt x="25985" y="2258"/>
                  </a:lnTo>
                  <a:lnTo>
                    <a:pt x="32564" y="4045"/>
                  </a:lnTo>
                  <a:lnTo>
                    <a:pt x="39489" y="5237"/>
                  </a:lnTo>
                  <a:lnTo>
                    <a:pt x="46646" y="6031"/>
                  </a:lnTo>
                  <a:lnTo>
                    <a:pt x="53957" y="6561"/>
                  </a:lnTo>
                  <a:lnTo>
                    <a:pt x="63065" y="6914"/>
                  </a:lnTo>
                  <a:lnTo>
                    <a:pt x="84473" y="7306"/>
                  </a:lnTo>
                  <a:lnTo>
                    <a:pt x="95262" y="6564"/>
                  </a:lnTo>
                  <a:lnTo>
                    <a:pt x="105841" y="5223"/>
                  </a:lnTo>
                  <a:lnTo>
                    <a:pt x="116281" y="3482"/>
                  </a:lnTo>
                  <a:lnTo>
                    <a:pt x="127474" y="2321"/>
                  </a:lnTo>
                  <a:lnTo>
                    <a:pt x="139169" y="1548"/>
                  </a:lnTo>
                  <a:lnTo>
                    <a:pt x="151200" y="1032"/>
                  </a:lnTo>
                  <a:lnTo>
                    <a:pt x="175856" y="458"/>
                  </a:lnTo>
                  <a:lnTo>
                    <a:pt x="249544" y="27"/>
                  </a:lnTo>
                  <a:lnTo>
                    <a:pt x="256109" y="865"/>
                  </a:lnTo>
                  <a:lnTo>
                    <a:pt x="261333" y="2270"/>
                  </a:lnTo>
                  <a:lnTo>
                    <a:pt x="269395" y="5242"/>
                  </a:lnTo>
                  <a:lnTo>
                    <a:pt x="275799" y="6563"/>
                  </a:lnTo>
                  <a:lnTo>
                    <a:pt x="278693" y="8609"/>
                  </a:lnTo>
                  <a:lnTo>
                    <a:pt x="284166" y="15397"/>
                  </a:lnTo>
                  <a:lnTo>
                    <a:pt x="285117" y="18731"/>
                  </a:lnTo>
                  <a:lnTo>
                    <a:pt x="284905" y="21801"/>
                  </a:lnTo>
                  <a:lnTo>
                    <a:pt x="282411" y="28316"/>
                  </a:lnTo>
                  <a:lnTo>
                    <a:pt x="278481" y="36856"/>
                  </a:lnTo>
                  <a:lnTo>
                    <a:pt x="271653" y="46296"/>
                  </a:lnTo>
                  <a:lnTo>
                    <a:pt x="267462" y="51184"/>
                  </a:lnTo>
                  <a:lnTo>
                    <a:pt x="262975" y="56983"/>
                  </a:lnTo>
                  <a:lnTo>
                    <a:pt x="258290" y="63389"/>
                  </a:lnTo>
                  <a:lnTo>
                    <a:pt x="253473" y="70199"/>
                  </a:lnTo>
                  <a:lnTo>
                    <a:pt x="247722" y="76433"/>
                  </a:lnTo>
                  <a:lnTo>
                    <a:pt x="241348" y="82282"/>
                  </a:lnTo>
                  <a:lnTo>
                    <a:pt x="234559" y="87874"/>
                  </a:lnTo>
                  <a:lnTo>
                    <a:pt x="228339" y="94143"/>
                  </a:lnTo>
                  <a:lnTo>
                    <a:pt x="222499" y="100862"/>
                  </a:lnTo>
                  <a:lnTo>
                    <a:pt x="210649" y="115948"/>
                  </a:lnTo>
                  <a:lnTo>
                    <a:pt x="196915" y="133941"/>
                  </a:lnTo>
                  <a:lnTo>
                    <a:pt x="190543" y="143481"/>
                  </a:lnTo>
                  <a:lnTo>
                    <a:pt x="184602" y="153227"/>
                  </a:lnTo>
                  <a:lnTo>
                    <a:pt x="178948" y="163111"/>
                  </a:lnTo>
                  <a:lnTo>
                    <a:pt x="174332" y="172241"/>
                  </a:lnTo>
                  <a:lnTo>
                    <a:pt x="170408" y="180867"/>
                  </a:lnTo>
                  <a:lnTo>
                    <a:pt x="166945" y="189158"/>
                  </a:lnTo>
                  <a:lnTo>
                    <a:pt x="164637" y="198072"/>
                  </a:lnTo>
                  <a:lnTo>
                    <a:pt x="163098" y="207402"/>
                  </a:lnTo>
                  <a:lnTo>
                    <a:pt x="162072" y="217008"/>
                  </a:lnTo>
                  <a:lnTo>
                    <a:pt x="160541" y="225952"/>
                  </a:lnTo>
                  <a:lnTo>
                    <a:pt x="158674" y="234454"/>
                  </a:lnTo>
                  <a:lnTo>
                    <a:pt x="156583" y="242663"/>
                  </a:lnTo>
                  <a:lnTo>
                    <a:pt x="155189" y="250676"/>
                  </a:lnTo>
                  <a:lnTo>
                    <a:pt x="154259" y="258557"/>
                  </a:lnTo>
                  <a:lnTo>
                    <a:pt x="153639" y="266351"/>
                  </a:lnTo>
                  <a:lnTo>
                    <a:pt x="153226" y="273241"/>
                  </a:lnTo>
                  <a:lnTo>
                    <a:pt x="152767" y="285411"/>
                  </a:lnTo>
                  <a:lnTo>
                    <a:pt x="152473" y="306175"/>
                  </a:lnTo>
                  <a:lnTo>
                    <a:pt x="152400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SMARTInkAnnotation23"/>
            <p:cNvSpPr/>
            <p:nvPr/>
          </p:nvSpPr>
          <p:spPr>
            <a:xfrm>
              <a:off x="1692360" y="3215160"/>
              <a:ext cx="220680" cy="22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0981" h="22861">
                  <a:moveTo>
                    <a:pt x="0" y="22860"/>
                  </a:moveTo>
                  <a:lnTo>
                    <a:pt x="17167" y="22860"/>
                  </a:lnTo>
                  <a:lnTo>
                    <a:pt x="21605" y="22014"/>
                  </a:lnTo>
                  <a:lnTo>
                    <a:pt x="27103" y="20602"/>
                  </a:lnTo>
                  <a:lnTo>
                    <a:pt x="33309" y="18815"/>
                  </a:lnTo>
                  <a:lnTo>
                    <a:pt x="39986" y="17623"/>
                  </a:lnTo>
                  <a:lnTo>
                    <a:pt x="46977" y="16829"/>
                  </a:lnTo>
                  <a:lnTo>
                    <a:pt x="54178" y="16299"/>
                  </a:lnTo>
                  <a:lnTo>
                    <a:pt x="61519" y="15946"/>
                  </a:lnTo>
                  <a:lnTo>
                    <a:pt x="76448" y="15554"/>
                  </a:lnTo>
                  <a:lnTo>
                    <a:pt x="99133" y="15333"/>
                  </a:lnTo>
                  <a:lnTo>
                    <a:pt x="107576" y="14456"/>
                  </a:lnTo>
                  <a:lnTo>
                    <a:pt x="116591" y="13024"/>
                  </a:lnTo>
                  <a:lnTo>
                    <a:pt x="125987" y="11223"/>
                  </a:lnTo>
                  <a:lnTo>
                    <a:pt x="135638" y="10022"/>
                  </a:lnTo>
                  <a:lnTo>
                    <a:pt x="145459" y="9221"/>
                  </a:lnTo>
                  <a:lnTo>
                    <a:pt x="155392" y="8688"/>
                  </a:lnTo>
                  <a:lnTo>
                    <a:pt x="166248" y="7485"/>
                  </a:lnTo>
                  <a:lnTo>
                    <a:pt x="177719" y="5837"/>
                  </a:lnTo>
                  <a:lnTo>
                    <a:pt x="189599" y="3891"/>
                  </a:lnTo>
                  <a:lnTo>
                    <a:pt x="198366" y="2594"/>
                  </a:lnTo>
                  <a:lnTo>
                    <a:pt x="205058" y="1729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SMARTInkAnnotation24"/>
            <p:cNvSpPr/>
            <p:nvPr/>
          </p:nvSpPr>
          <p:spPr>
            <a:xfrm>
              <a:off x="2027520" y="3161880"/>
              <a:ext cx="236160" cy="75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6221" h="7619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7" y="6032"/>
                  </a:lnTo>
                  <a:lnTo>
                    <a:pt x="14652" y="6561"/>
                  </a:lnTo>
                  <a:lnTo>
                    <a:pt x="18234" y="6914"/>
                  </a:lnTo>
                  <a:lnTo>
                    <a:pt x="21470" y="7150"/>
                  </a:lnTo>
                  <a:lnTo>
                    <a:pt x="24473" y="7307"/>
                  </a:lnTo>
                  <a:lnTo>
                    <a:pt x="34584" y="7481"/>
                  </a:lnTo>
                  <a:lnTo>
                    <a:pt x="146621" y="7618"/>
                  </a:lnTo>
                  <a:lnTo>
                    <a:pt x="160401" y="6772"/>
                  </a:lnTo>
                  <a:lnTo>
                    <a:pt x="173820" y="5361"/>
                  </a:lnTo>
                  <a:lnTo>
                    <a:pt x="187000" y="3574"/>
                  </a:lnTo>
                  <a:lnTo>
                    <a:pt x="198327" y="2383"/>
                  </a:lnTo>
                  <a:lnTo>
                    <a:pt x="208418" y="1589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SMARTInkAnnotation25"/>
            <p:cNvSpPr/>
            <p:nvPr/>
          </p:nvSpPr>
          <p:spPr>
            <a:xfrm>
              <a:off x="2065680" y="3321720"/>
              <a:ext cx="258840" cy="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9081" h="7622">
                  <a:moveTo>
                    <a:pt x="0" y="7621"/>
                  </a:moveTo>
                  <a:lnTo>
                    <a:pt x="4046" y="7621"/>
                  </a:lnTo>
                  <a:lnTo>
                    <a:pt x="6084" y="6774"/>
                  </a:lnTo>
                  <a:lnTo>
                    <a:pt x="8289" y="5363"/>
                  </a:lnTo>
                  <a:lnTo>
                    <a:pt x="10606" y="3575"/>
                  </a:lnTo>
                  <a:lnTo>
                    <a:pt x="12997" y="2384"/>
                  </a:lnTo>
                  <a:lnTo>
                    <a:pt x="15438" y="1589"/>
                  </a:lnTo>
                  <a:lnTo>
                    <a:pt x="17912" y="1059"/>
                  </a:lnTo>
                  <a:lnTo>
                    <a:pt x="21255" y="706"/>
                  </a:lnTo>
                  <a:lnTo>
                    <a:pt x="25177" y="471"/>
                  </a:lnTo>
                  <a:lnTo>
                    <a:pt x="29485" y="314"/>
                  </a:lnTo>
                  <a:lnTo>
                    <a:pt x="47683" y="93"/>
                  </a:lnTo>
                  <a:lnTo>
                    <a:pt x="2590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SMARTInkAnnotation26"/>
            <p:cNvSpPr/>
            <p:nvPr/>
          </p:nvSpPr>
          <p:spPr>
            <a:xfrm>
              <a:off x="2632680" y="3024720"/>
              <a:ext cx="243000" cy="25884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43214" h="259035">
                  <a:moveTo>
                    <a:pt x="27167" y="45674"/>
                  </a:moveTo>
                  <a:lnTo>
                    <a:pt x="27167" y="34102"/>
                  </a:lnTo>
                  <a:lnTo>
                    <a:pt x="28014" y="32879"/>
                  </a:lnTo>
                  <a:lnTo>
                    <a:pt x="29425" y="32064"/>
                  </a:lnTo>
                  <a:lnTo>
                    <a:pt x="34098" y="30312"/>
                  </a:lnTo>
                  <a:lnTo>
                    <a:pt x="37714" y="28659"/>
                  </a:lnTo>
                  <a:lnTo>
                    <a:pt x="47941" y="23719"/>
                  </a:lnTo>
                  <a:lnTo>
                    <a:pt x="63776" y="15878"/>
                  </a:lnTo>
                  <a:lnTo>
                    <a:pt x="72740" y="12264"/>
                  </a:lnTo>
                  <a:lnTo>
                    <a:pt x="82102" y="9007"/>
                  </a:lnTo>
                  <a:lnTo>
                    <a:pt x="91730" y="5989"/>
                  </a:lnTo>
                  <a:lnTo>
                    <a:pt x="101536" y="3977"/>
                  </a:lnTo>
                  <a:lnTo>
                    <a:pt x="111460" y="2637"/>
                  </a:lnTo>
                  <a:lnTo>
                    <a:pt x="121462" y="1742"/>
                  </a:lnTo>
                  <a:lnTo>
                    <a:pt x="132364" y="1146"/>
                  </a:lnTo>
                  <a:lnTo>
                    <a:pt x="155766" y="484"/>
                  </a:lnTo>
                  <a:lnTo>
                    <a:pt x="215856" y="0"/>
                  </a:lnTo>
                  <a:lnTo>
                    <a:pt x="222387" y="832"/>
                  </a:lnTo>
                  <a:lnTo>
                    <a:pt x="227587" y="2233"/>
                  </a:lnTo>
                  <a:lnTo>
                    <a:pt x="231900" y="4013"/>
                  </a:lnTo>
                  <a:lnTo>
                    <a:pt x="238951" y="8249"/>
                  </a:lnTo>
                  <a:lnTo>
                    <a:pt x="242016" y="10564"/>
                  </a:lnTo>
                  <a:lnTo>
                    <a:pt x="243213" y="13801"/>
                  </a:lnTo>
                  <a:lnTo>
                    <a:pt x="243165" y="17652"/>
                  </a:lnTo>
                  <a:lnTo>
                    <a:pt x="242285" y="21913"/>
                  </a:lnTo>
                  <a:lnTo>
                    <a:pt x="239051" y="28905"/>
                  </a:lnTo>
                  <a:lnTo>
                    <a:pt x="237003" y="31954"/>
                  </a:lnTo>
                  <a:lnTo>
                    <a:pt x="232251" y="36528"/>
                  </a:lnTo>
                  <a:lnTo>
                    <a:pt x="225696" y="42116"/>
                  </a:lnTo>
                  <a:lnTo>
                    <a:pt x="209382" y="55099"/>
                  </a:lnTo>
                  <a:lnTo>
                    <a:pt x="190843" y="69337"/>
                  </a:lnTo>
                  <a:lnTo>
                    <a:pt x="180311" y="76689"/>
                  </a:lnTo>
                  <a:lnTo>
                    <a:pt x="169056" y="84131"/>
                  </a:lnTo>
                  <a:lnTo>
                    <a:pt x="145262" y="99173"/>
                  </a:lnTo>
                  <a:lnTo>
                    <a:pt x="120576" y="114324"/>
                  </a:lnTo>
                  <a:lnTo>
                    <a:pt x="108066" y="122768"/>
                  </a:lnTo>
                  <a:lnTo>
                    <a:pt x="95493" y="131783"/>
                  </a:lnTo>
                  <a:lnTo>
                    <a:pt x="48942" y="166541"/>
                  </a:lnTo>
                  <a:lnTo>
                    <a:pt x="39991" y="174512"/>
                  </a:lnTo>
                  <a:lnTo>
                    <a:pt x="32329" y="182366"/>
                  </a:lnTo>
                  <a:lnTo>
                    <a:pt x="25529" y="190142"/>
                  </a:lnTo>
                  <a:lnTo>
                    <a:pt x="13457" y="203298"/>
                  </a:lnTo>
                  <a:lnTo>
                    <a:pt x="7867" y="209176"/>
                  </a:lnTo>
                  <a:lnTo>
                    <a:pt x="4140" y="214789"/>
                  </a:lnTo>
                  <a:lnTo>
                    <a:pt x="1656" y="220224"/>
                  </a:lnTo>
                  <a:lnTo>
                    <a:pt x="0" y="225541"/>
                  </a:lnTo>
                  <a:lnTo>
                    <a:pt x="589" y="230779"/>
                  </a:lnTo>
                  <a:lnTo>
                    <a:pt x="2675" y="235964"/>
                  </a:lnTo>
                  <a:lnTo>
                    <a:pt x="5759" y="241114"/>
                  </a:lnTo>
                  <a:lnTo>
                    <a:pt x="10355" y="245394"/>
                  </a:lnTo>
                  <a:lnTo>
                    <a:pt x="15959" y="249094"/>
                  </a:lnTo>
                  <a:lnTo>
                    <a:pt x="22235" y="252407"/>
                  </a:lnTo>
                  <a:lnTo>
                    <a:pt x="29806" y="254616"/>
                  </a:lnTo>
                  <a:lnTo>
                    <a:pt x="38240" y="256089"/>
                  </a:lnTo>
                  <a:lnTo>
                    <a:pt x="47249" y="257071"/>
                  </a:lnTo>
                  <a:lnTo>
                    <a:pt x="58335" y="257725"/>
                  </a:lnTo>
                  <a:lnTo>
                    <a:pt x="84200" y="258453"/>
                  </a:lnTo>
                  <a:lnTo>
                    <a:pt x="126295" y="258957"/>
                  </a:lnTo>
                  <a:lnTo>
                    <a:pt x="149087" y="2590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SMARTInkAnnotation27"/>
            <p:cNvSpPr/>
            <p:nvPr/>
          </p:nvSpPr>
          <p:spPr>
            <a:xfrm>
              <a:off x="3012480" y="3034080"/>
              <a:ext cx="271080" cy="24732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271105" h="247466">
                  <a:moveTo>
                    <a:pt x="97011" y="5626"/>
                  </a:moveTo>
                  <a:lnTo>
                    <a:pt x="92966" y="13717"/>
                  </a:lnTo>
                  <a:lnTo>
                    <a:pt x="88722" y="19946"/>
                  </a:lnTo>
                  <a:lnTo>
                    <a:pt x="86405" y="22793"/>
                  </a:lnTo>
                  <a:lnTo>
                    <a:pt x="82320" y="26384"/>
                  </a:lnTo>
                  <a:lnTo>
                    <a:pt x="77058" y="30471"/>
                  </a:lnTo>
                  <a:lnTo>
                    <a:pt x="71008" y="34890"/>
                  </a:lnTo>
                  <a:lnTo>
                    <a:pt x="65283" y="41222"/>
                  </a:lnTo>
                  <a:lnTo>
                    <a:pt x="59773" y="48830"/>
                  </a:lnTo>
                  <a:lnTo>
                    <a:pt x="54405" y="57289"/>
                  </a:lnTo>
                  <a:lnTo>
                    <a:pt x="48287" y="65468"/>
                  </a:lnTo>
                  <a:lnTo>
                    <a:pt x="41668" y="73461"/>
                  </a:lnTo>
                  <a:lnTo>
                    <a:pt x="34716" y="81329"/>
                  </a:lnTo>
                  <a:lnTo>
                    <a:pt x="28388" y="89962"/>
                  </a:lnTo>
                  <a:lnTo>
                    <a:pt x="22475" y="99103"/>
                  </a:lnTo>
                  <a:lnTo>
                    <a:pt x="16841" y="108584"/>
                  </a:lnTo>
                  <a:lnTo>
                    <a:pt x="12238" y="118292"/>
                  </a:lnTo>
                  <a:lnTo>
                    <a:pt x="8322" y="128150"/>
                  </a:lnTo>
                  <a:lnTo>
                    <a:pt x="4865" y="138109"/>
                  </a:lnTo>
                  <a:lnTo>
                    <a:pt x="2560" y="148134"/>
                  </a:lnTo>
                  <a:lnTo>
                    <a:pt x="1024" y="158205"/>
                  </a:lnTo>
                  <a:lnTo>
                    <a:pt x="0" y="168305"/>
                  </a:lnTo>
                  <a:lnTo>
                    <a:pt x="164" y="177579"/>
                  </a:lnTo>
                  <a:lnTo>
                    <a:pt x="1119" y="186301"/>
                  </a:lnTo>
                  <a:lnTo>
                    <a:pt x="2603" y="194656"/>
                  </a:lnTo>
                  <a:lnTo>
                    <a:pt x="5286" y="201920"/>
                  </a:lnTo>
                  <a:lnTo>
                    <a:pt x="8768" y="208455"/>
                  </a:lnTo>
                  <a:lnTo>
                    <a:pt x="12782" y="214506"/>
                  </a:lnTo>
                  <a:lnTo>
                    <a:pt x="18845" y="220233"/>
                  </a:lnTo>
                  <a:lnTo>
                    <a:pt x="26274" y="225744"/>
                  </a:lnTo>
                  <a:lnTo>
                    <a:pt x="34613" y="231111"/>
                  </a:lnTo>
                  <a:lnTo>
                    <a:pt x="43559" y="235536"/>
                  </a:lnTo>
                  <a:lnTo>
                    <a:pt x="52909" y="239333"/>
                  </a:lnTo>
                  <a:lnTo>
                    <a:pt x="62530" y="242711"/>
                  </a:lnTo>
                  <a:lnTo>
                    <a:pt x="73177" y="244962"/>
                  </a:lnTo>
                  <a:lnTo>
                    <a:pt x="84508" y="246464"/>
                  </a:lnTo>
                  <a:lnTo>
                    <a:pt x="96296" y="247465"/>
                  </a:lnTo>
                  <a:lnTo>
                    <a:pt x="108387" y="247285"/>
                  </a:lnTo>
                  <a:lnTo>
                    <a:pt x="120682" y="246319"/>
                  </a:lnTo>
                  <a:lnTo>
                    <a:pt x="133112" y="244828"/>
                  </a:lnTo>
                  <a:lnTo>
                    <a:pt x="145632" y="242141"/>
                  </a:lnTo>
                  <a:lnTo>
                    <a:pt x="158211" y="238656"/>
                  </a:lnTo>
                  <a:lnTo>
                    <a:pt x="170831" y="234639"/>
                  </a:lnTo>
                  <a:lnTo>
                    <a:pt x="182631" y="230268"/>
                  </a:lnTo>
                  <a:lnTo>
                    <a:pt x="193885" y="225661"/>
                  </a:lnTo>
                  <a:lnTo>
                    <a:pt x="204773" y="220896"/>
                  </a:lnTo>
                  <a:lnTo>
                    <a:pt x="215419" y="214333"/>
                  </a:lnTo>
                  <a:lnTo>
                    <a:pt x="225903" y="206570"/>
                  </a:lnTo>
                  <a:lnTo>
                    <a:pt x="236279" y="198009"/>
                  </a:lnTo>
                  <a:lnTo>
                    <a:pt x="244890" y="188068"/>
                  </a:lnTo>
                  <a:lnTo>
                    <a:pt x="252323" y="177208"/>
                  </a:lnTo>
                  <a:lnTo>
                    <a:pt x="258973" y="165734"/>
                  </a:lnTo>
                  <a:lnTo>
                    <a:pt x="263406" y="154698"/>
                  </a:lnTo>
                  <a:lnTo>
                    <a:pt x="266361" y="143954"/>
                  </a:lnTo>
                  <a:lnTo>
                    <a:pt x="268331" y="133405"/>
                  </a:lnTo>
                  <a:lnTo>
                    <a:pt x="269644" y="122985"/>
                  </a:lnTo>
                  <a:lnTo>
                    <a:pt x="270520" y="112652"/>
                  </a:lnTo>
                  <a:lnTo>
                    <a:pt x="271104" y="102377"/>
                  </a:lnTo>
                  <a:lnTo>
                    <a:pt x="269800" y="92987"/>
                  </a:lnTo>
                  <a:lnTo>
                    <a:pt x="267237" y="84187"/>
                  </a:lnTo>
                  <a:lnTo>
                    <a:pt x="263835" y="75780"/>
                  </a:lnTo>
                  <a:lnTo>
                    <a:pt x="259874" y="67635"/>
                  </a:lnTo>
                  <a:lnTo>
                    <a:pt x="255540" y="59665"/>
                  </a:lnTo>
                  <a:lnTo>
                    <a:pt x="250956" y="51812"/>
                  </a:lnTo>
                  <a:lnTo>
                    <a:pt x="245361" y="44884"/>
                  </a:lnTo>
                  <a:lnTo>
                    <a:pt x="239092" y="38571"/>
                  </a:lnTo>
                  <a:lnTo>
                    <a:pt x="232371" y="32669"/>
                  </a:lnTo>
                  <a:lnTo>
                    <a:pt x="224505" y="27042"/>
                  </a:lnTo>
                  <a:lnTo>
                    <a:pt x="215874" y="21596"/>
                  </a:lnTo>
                  <a:lnTo>
                    <a:pt x="206733" y="16273"/>
                  </a:lnTo>
                  <a:lnTo>
                    <a:pt x="198099" y="11877"/>
                  </a:lnTo>
                  <a:lnTo>
                    <a:pt x="189803" y="8100"/>
                  </a:lnTo>
                  <a:lnTo>
                    <a:pt x="181733" y="4736"/>
                  </a:lnTo>
                  <a:lnTo>
                    <a:pt x="173812" y="2493"/>
                  </a:lnTo>
                  <a:lnTo>
                    <a:pt x="165992" y="997"/>
                  </a:lnTo>
                  <a:lnTo>
                    <a:pt x="158238" y="0"/>
                  </a:lnTo>
                  <a:lnTo>
                    <a:pt x="151376" y="182"/>
                  </a:lnTo>
                  <a:lnTo>
                    <a:pt x="145107" y="1150"/>
                  </a:lnTo>
                  <a:lnTo>
                    <a:pt x="127491" y="56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SMARTInkAnnotation28"/>
            <p:cNvSpPr/>
            <p:nvPr/>
          </p:nvSpPr>
          <p:spPr>
            <a:xfrm>
              <a:off x="3483000" y="3154320"/>
              <a:ext cx="236160" cy="2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36221" h="22768">
                  <a:moveTo>
                    <a:pt x="0" y="7527"/>
                  </a:moveTo>
                  <a:lnTo>
                    <a:pt x="8091" y="3482"/>
                  </a:lnTo>
                  <a:lnTo>
                    <a:pt x="12167" y="2290"/>
                  </a:lnTo>
                  <a:lnTo>
                    <a:pt x="16578" y="1496"/>
                  </a:lnTo>
                  <a:lnTo>
                    <a:pt x="27734" y="221"/>
                  </a:lnTo>
                  <a:lnTo>
                    <a:pt x="38291" y="46"/>
                  </a:lnTo>
                  <a:lnTo>
                    <a:pt x="45847" y="0"/>
                  </a:lnTo>
                  <a:lnTo>
                    <a:pt x="55118" y="816"/>
                  </a:lnTo>
                  <a:lnTo>
                    <a:pt x="65532" y="2206"/>
                  </a:lnTo>
                  <a:lnTo>
                    <a:pt x="76708" y="3980"/>
                  </a:lnTo>
                  <a:lnTo>
                    <a:pt x="89239" y="5162"/>
                  </a:lnTo>
                  <a:lnTo>
                    <a:pt x="102672" y="5951"/>
                  </a:lnTo>
                  <a:lnTo>
                    <a:pt x="116708" y="6476"/>
                  </a:lnTo>
                  <a:lnTo>
                    <a:pt x="131146" y="7673"/>
                  </a:lnTo>
                  <a:lnTo>
                    <a:pt x="145850" y="9318"/>
                  </a:lnTo>
                  <a:lnTo>
                    <a:pt x="160733" y="11261"/>
                  </a:lnTo>
                  <a:lnTo>
                    <a:pt x="173195" y="12556"/>
                  </a:lnTo>
                  <a:lnTo>
                    <a:pt x="184044" y="13420"/>
                  </a:lnTo>
                  <a:lnTo>
                    <a:pt x="193816" y="13995"/>
                  </a:lnTo>
                  <a:lnTo>
                    <a:pt x="202870" y="15226"/>
                  </a:lnTo>
                  <a:lnTo>
                    <a:pt x="211447" y="16893"/>
                  </a:lnTo>
                  <a:lnTo>
                    <a:pt x="236220" y="227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SMARTInkAnnotation29"/>
            <p:cNvSpPr/>
            <p:nvPr/>
          </p:nvSpPr>
          <p:spPr>
            <a:xfrm>
              <a:off x="3759480" y="3024720"/>
              <a:ext cx="281520" cy="32004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81502" h="320041">
                  <a:moveTo>
                    <a:pt x="157902" y="0"/>
                  </a:moveTo>
                  <a:lnTo>
                    <a:pt x="165429" y="0"/>
                  </a:lnTo>
                  <a:lnTo>
                    <a:pt x="161449" y="4045"/>
                  </a:lnTo>
                  <a:lnTo>
                    <a:pt x="160267" y="6930"/>
                  </a:lnTo>
                  <a:lnTo>
                    <a:pt x="158953" y="14651"/>
                  </a:lnTo>
                  <a:lnTo>
                    <a:pt x="156909" y="19081"/>
                  </a:lnTo>
                  <a:lnTo>
                    <a:pt x="150123" y="28518"/>
                  </a:lnTo>
                  <a:lnTo>
                    <a:pt x="145943" y="34252"/>
                  </a:lnTo>
                  <a:lnTo>
                    <a:pt x="131122" y="55304"/>
                  </a:lnTo>
                  <a:lnTo>
                    <a:pt x="118060" y="73122"/>
                  </a:lnTo>
                  <a:lnTo>
                    <a:pt x="110174" y="81768"/>
                  </a:lnTo>
                  <a:lnTo>
                    <a:pt x="101531" y="90072"/>
                  </a:lnTo>
                  <a:lnTo>
                    <a:pt x="92381" y="98148"/>
                  </a:lnTo>
                  <a:lnTo>
                    <a:pt x="73183" y="116152"/>
                  </a:lnTo>
                  <a:lnTo>
                    <a:pt x="63324" y="125695"/>
                  </a:lnTo>
                  <a:lnTo>
                    <a:pt x="54209" y="135443"/>
                  </a:lnTo>
                  <a:lnTo>
                    <a:pt x="45594" y="145329"/>
                  </a:lnTo>
                  <a:lnTo>
                    <a:pt x="37310" y="155306"/>
                  </a:lnTo>
                  <a:lnTo>
                    <a:pt x="30094" y="165344"/>
                  </a:lnTo>
                  <a:lnTo>
                    <a:pt x="23591" y="175423"/>
                  </a:lnTo>
                  <a:lnTo>
                    <a:pt x="17561" y="185529"/>
                  </a:lnTo>
                  <a:lnTo>
                    <a:pt x="8604" y="201273"/>
                  </a:lnTo>
                  <a:lnTo>
                    <a:pt x="5030" y="207842"/>
                  </a:lnTo>
                  <a:lnTo>
                    <a:pt x="2648" y="214761"/>
                  </a:lnTo>
                  <a:lnTo>
                    <a:pt x="1059" y="221914"/>
                  </a:lnTo>
                  <a:lnTo>
                    <a:pt x="0" y="229223"/>
                  </a:lnTo>
                  <a:lnTo>
                    <a:pt x="141" y="235788"/>
                  </a:lnTo>
                  <a:lnTo>
                    <a:pt x="1081" y="241859"/>
                  </a:lnTo>
                  <a:lnTo>
                    <a:pt x="2555" y="247599"/>
                  </a:lnTo>
                  <a:lnTo>
                    <a:pt x="5231" y="253120"/>
                  </a:lnTo>
                  <a:lnTo>
                    <a:pt x="8708" y="258493"/>
                  </a:lnTo>
                  <a:lnTo>
                    <a:pt x="12719" y="263769"/>
                  </a:lnTo>
                  <a:lnTo>
                    <a:pt x="17934" y="267286"/>
                  </a:lnTo>
                  <a:lnTo>
                    <a:pt x="23950" y="269631"/>
                  </a:lnTo>
                  <a:lnTo>
                    <a:pt x="30501" y="271194"/>
                  </a:lnTo>
                  <a:lnTo>
                    <a:pt x="59947" y="277439"/>
                  </a:lnTo>
                  <a:lnTo>
                    <a:pt x="71432" y="278939"/>
                  </a:lnTo>
                  <a:lnTo>
                    <a:pt x="83322" y="279939"/>
                  </a:lnTo>
                  <a:lnTo>
                    <a:pt x="95482" y="280607"/>
                  </a:lnTo>
                  <a:lnTo>
                    <a:pt x="107822" y="280204"/>
                  </a:lnTo>
                  <a:lnTo>
                    <a:pt x="120283" y="279089"/>
                  </a:lnTo>
                  <a:lnTo>
                    <a:pt x="132822" y="277500"/>
                  </a:lnTo>
                  <a:lnTo>
                    <a:pt x="160302" y="273475"/>
                  </a:lnTo>
                  <a:lnTo>
                    <a:pt x="174742" y="271217"/>
                  </a:lnTo>
                  <a:lnTo>
                    <a:pt x="187755" y="268864"/>
                  </a:lnTo>
                  <a:lnTo>
                    <a:pt x="199818" y="266450"/>
                  </a:lnTo>
                  <a:lnTo>
                    <a:pt x="211246" y="263993"/>
                  </a:lnTo>
                  <a:lnTo>
                    <a:pt x="221404" y="259815"/>
                  </a:lnTo>
                  <a:lnTo>
                    <a:pt x="230717" y="254490"/>
                  </a:lnTo>
                  <a:lnTo>
                    <a:pt x="239465" y="248400"/>
                  </a:lnTo>
                  <a:lnTo>
                    <a:pt x="247838" y="243493"/>
                  </a:lnTo>
                  <a:lnTo>
                    <a:pt x="255959" y="239375"/>
                  </a:lnTo>
                  <a:lnTo>
                    <a:pt x="263913" y="235784"/>
                  </a:lnTo>
                  <a:lnTo>
                    <a:pt x="270063" y="232543"/>
                  </a:lnTo>
                  <a:lnTo>
                    <a:pt x="275009" y="229535"/>
                  </a:lnTo>
                  <a:lnTo>
                    <a:pt x="279154" y="226683"/>
                  </a:lnTo>
                  <a:lnTo>
                    <a:pt x="281070" y="223936"/>
                  </a:lnTo>
                  <a:lnTo>
                    <a:pt x="281501" y="221257"/>
                  </a:lnTo>
                  <a:lnTo>
                    <a:pt x="280941" y="218625"/>
                  </a:lnTo>
                  <a:lnTo>
                    <a:pt x="278061" y="213442"/>
                  </a:lnTo>
                  <a:lnTo>
                    <a:pt x="276108" y="210875"/>
                  </a:lnTo>
                  <a:lnTo>
                    <a:pt x="273113" y="209163"/>
                  </a:lnTo>
                  <a:lnTo>
                    <a:pt x="265269" y="207262"/>
                  </a:lnTo>
                  <a:lnTo>
                    <a:pt x="259960" y="206754"/>
                  </a:lnTo>
                  <a:lnTo>
                    <a:pt x="253881" y="206416"/>
                  </a:lnTo>
                  <a:lnTo>
                    <a:pt x="247288" y="206191"/>
                  </a:lnTo>
                  <a:lnTo>
                    <a:pt x="241199" y="206887"/>
                  </a:lnTo>
                  <a:lnTo>
                    <a:pt x="235447" y="208198"/>
                  </a:lnTo>
                  <a:lnTo>
                    <a:pt x="229919" y="209919"/>
                  </a:lnTo>
                  <a:lnTo>
                    <a:pt x="224540" y="211912"/>
                  </a:lnTo>
                  <a:lnTo>
                    <a:pt x="219260" y="214088"/>
                  </a:lnTo>
                  <a:lnTo>
                    <a:pt x="214048" y="216386"/>
                  </a:lnTo>
                  <a:lnTo>
                    <a:pt x="208879" y="219610"/>
                  </a:lnTo>
                  <a:lnTo>
                    <a:pt x="203740" y="223454"/>
                  </a:lnTo>
                  <a:lnTo>
                    <a:pt x="198621" y="227709"/>
                  </a:lnTo>
                  <a:lnTo>
                    <a:pt x="190675" y="236953"/>
                  </a:lnTo>
                  <a:lnTo>
                    <a:pt x="187371" y="241788"/>
                  </a:lnTo>
                  <a:lnTo>
                    <a:pt x="183700" y="251677"/>
                  </a:lnTo>
                  <a:lnTo>
                    <a:pt x="182721" y="256685"/>
                  </a:lnTo>
                  <a:lnTo>
                    <a:pt x="182914" y="261717"/>
                  </a:lnTo>
                  <a:lnTo>
                    <a:pt x="183890" y="266764"/>
                  </a:lnTo>
                  <a:lnTo>
                    <a:pt x="185387" y="271823"/>
                  </a:lnTo>
                  <a:lnTo>
                    <a:pt x="188926" y="276889"/>
                  </a:lnTo>
                  <a:lnTo>
                    <a:pt x="193825" y="281959"/>
                  </a:lnTo>
                  <a:lnTo>
                    <a:pt x="199630" y="287033"/>
                  </a:lnTo>
                  <a:lnTo>
                    <a:pt x="206888" y="292108"/>
                  </a:lnTo>
                  <a:lnTo>
                    <a:pt x="215112" y="297186"/>
                  </a:lnTo>
                  <a:lnTo>
                    <a:pt x="231589" y="306496"/>
                  </a:lnTo>
                  <a:lnTo>
                    <a:pt x="244556" y="313456"/>
                  </a:lnTo>
                  <a:lnTo>
                    <a:pt x="251231" y="315651"/>
                  </a:lnTo>
                  <a:lnTo>
                    <a:pt x="258221" y="317114"/>
                  </a:lnTo>
                  <a:lnTo>
                    <a:pt x="279822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SMARTInkAnnotation30"/>
            <p:cNvSpPr/>
            <p:nvPr/>
          </p:nvSpPr>
          <p:spPr>
            <a:xfrm>
              <a:off x="4191840" y="3192120"/>
              <a:ext cx="236160" cy="182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36221" h="182881">
                  <a:moveTo>
                    <a:pt x="236220" y="0"/>
                  </a:moveTo>
                  <a:lnTo>
                    <a:pt x="236220" y="6561"/>
                  </a:lnTo>
                  <a:lnTo>
                    <a:pt x="235374" y="6914"/>
                  </a:lnTo>
                  <a:lnTo>
                    <a:pt x="232175" y="7306"/>
                  </a:lnTo>
                  <a:lnTo>
                    <a:pt x="230137" y="8257"/>
                  </a:lnTo>
                  <a:lnTo>
                    <a:pt x="223223" y="13641"/>
                  </a:lnTo>
                  <a:lnTo>
                    <a:pt x="218308" y="18199"/>
                  </a:lnTo>
                  <a:lnTo>
                    <a:pt x="215812" y="21446"/>
                  </a:lnTo>
                  <a:lnTo>
                    <a:pt x="213302" y="25303"/>
                  </a:lnTo>
                  <a:lnTo>
                    <a:pt x="210781" y="29569"/>
                  </a:lnTo>
                  <a:lnTo>
                    <a:pt x="207407" y="34106"/>
                  </a:lnTo>
                  <a:lnTo>
                    <a:pt x="203465" y="38824"/>
                  </a:lnTo>
                  <a:lnTo>
                    <a:pt x="199144" y="43663"/>
                  </a:lnTo>
                  <a:lnTo>
                    <a:pt x="193723" y="48582"/>
                  </a:lnTo>
                  <a:lnTo>
                    <a:pt x="187569" y="53555"/>
                  </a:lnTo>
                  <a:lnTo>
                    <a:pt x="180925" y="58563"/>
                  </a:lnTo>
                  <a:lnTo>
                    <a:pt x="173957" y="64442"/>
                  </a:lnTo>
                  <a:lnTo>
                    <a:pt x="166771" y="70901"/>
                  </a:lnTo>
                  <a:lnTo>
                    <a:pt x="159441" y="77748"/>
                  </a:lnTo>
                  <a:lnTo>
                    <a:pt x="151168" y="84005"/>
                  </a:lnTo>
                  <a:lnTo>
                    <a:pt x="142265" y="89870"/>
                  </a:lnTo>
                  <a:lnTo>
                    <a:pt x="132943" y="95474"/>
                  </a:lnTo>
                  <a:lnTo>
                    <a:pt x="124189" y="101749"/>
                  </a:lnTo>
                  <a:lnTo>
                    <a:pt x="115813" y="108472"/>
                  </a:lnTo>
                  <a:lnTo>
                    <a:pt x="107689" y="115495"/>
                  </a:lnTo>
                  <a:lnTo>
                    <a:pt x="98886" y="121870"/>
                  </a:lnTo>
                  <a:lnTo>
                    <a:pt x="89631" y="127813"/>
                  </a:lnTo>
                  <a:lnTo>
                    <a:pt x="80074" y="133469"/>
                  </a:lnTo>
                  <a:lnTo>
                    <a:pt x="72009" y="138933"/>
                  </a:lnTo>
                  <a:lnTo>
                    <a:pt x="64940" y="144269"/>
                  </a:lnTo>
                  <a:lnTo>
                    <a:pt x="58534" y="149519"/>
                  </a:lnTo>
                  <a:lnTo>
                    <a:pt x="51722" y="153866"/>
                  </a:lnTo>
                  <a:lnTo>
                    <a:pt x="44642" y="157610"/>
                  </a:lnTo>
                  <a:lnTo>
                    <a:pt x="37381" y="160954"/>
                  </a:lnTo>
                  <a:lnTo>
                    <a:pt x="31694" y="164029"/>
                  </a:lnTo>
                  <a:lnTo>
                    <a:pt x="27056" y="166926"/>
                  </a:lnTo>
                  <a:lnTo>
                    <a:pt x="23118" y="169704"/>
                  </a:lnTo>
                  <a:lnTo>
                    <a:pt x="18798" y="172403"/>
                  </a:lnTo>
                  <a:lnTo>
                    <a:pt x="14226" y="175049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SMARTInkAnnotation31"/>
            <p:cNvSpPr/>
            <p:nvPr/>
          </p:nvSpPr>
          <p:spPr>
            <a:xfrm>
              <a:off x="4230000" y="3199680"/>
              <a:ext cx="251280" cy="1980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51461" h="198121">
                  <a:moveTo>
                    <a:pt x="0" y="0"/>
                  </a:moveTo>
                  <a:lnTo>
                    <a:pt x="21958" y="21957"/>
                  </a:lnTo>
                  <a:lnTo>
                    <a:pt x="27339" y="26492"/>
                  </a:lnTo>
                  <a:lnTo>
                    <a:pt x="33466" y="31208"/>
                  </a:lnTo>
                  <a:lnTo>
                    <a:pt x="40091" y="36045"/>
                  </a:lnTo>
                  <a:lnTo>
                    <a:pt x="47047" y="41810"/>
                  </a:lnTo>
                  <a:lnTo>
                    <a:pt x="54225" y="48194"/>
                  </a:lnTo>
                  <a:lnTo>
                    <a:pt x="61550" y="54989"/>
                  </a:lnTo>
                  <a:lnTo>
                    <a:pt x="69820" y="62059"/>
                  </a:lnTo>
                  <a:lnTo>
                    <a:pt x="78720" y="69313"/>
                  </a:lnTo>
                  <a:lnTo>
                    <a:pt x="97640" y="84146"/>
                  </a:lnTo>
                  <a:lnTo>
                    <a:pt x="117338" y="99205"/>
                  </a:lnTo>
                  <a:lnTo>
                    <a:pt x="127332" y="107623"/>
                  </a:lnTo>
                  <a:lnTo>
                    <a:pt x="137381" y="116622"/>
                  </a:lnTo>
                  <a:lnTo>
                    <a:pt x="147468" y="126008"/>
                  </a:lnTo>
                  <a:lnTo>
                    <a:pt x="158425" y="134806"/>
                  </a:lnTo>
                  <a:lnTo>
                    <a:pt x="169964" y="143211"/>
                  </a:lnTo>
                  <a:lnTo>
                    <a:pt x="25146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SMARTInkAnnotation32"/>
            <p:cNvSpPr/>
            <p:nvPr/>
          </p:nvSpPr>
          <p:spPr>
            <a:xfrm>
              <a:off x="511200" y="358092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241">
                  <a:moveTo>
                    <a:pt x="0" y="15240"/>
                  </a:moveTo>
                  <a:lnTo>
                    <a:pt x="32784" y="15240"/>
                  </a:lnTo>
                  <a:lnTo>
                    <a:pt x="39636" y="14394"/>
                  </a:lnTo>
                  <a:lnTo>
                    <a:pt x="46744" y="12983"/>
                  </a:lnTo>
                  <a:lnTo>
                    <a:pt x="54023" y="11195"/>
                  </a:lnTo>
                  <a:lnTo>
                    <a:pt x="62262" y="10004"/>
                  </a:lnTo>
                  <a:lnTo>
                    <a:pt x="71141" y="9209"/>
                  </a:lnTo>
                  <a:lnTo>
                    <a:pt x="80448" y="8679"/>
                  </a:lnTo>
                  <a:lnTo>
                    <a:pt x="90038" y="7480"/>
                  </a:lnTo>
                  <a:lnTo>
                    <a:pt x="99819" y="5833"/>
                  </a:lnTo>
                  <a:lnTo>
                    <a:pt x="109726" y="3889"/>
                  </a:lnTo>
                  <a:lnTo>
                    <a:pt x="118024" y="2592"/>
                  </a:lnTo>
                  <a:lnTo>
                    <a:pt x="125249" y="1728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SMARTInkAnnotation33"/>
            <p:cNvSpPr/>
            <p:nvPr/>
          </p:nvSpPr>
          <p:spPr>
            <a:xfrm>
              <a:off x="876960" y="3489480"/>
              <a:ext cx="374040" cy="22500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374233" h="224949">
                  <a:moveTo>
                    <a:pt x="7592" y="45616"/>
                  </a:moveTo>
                  <a:lnTo>
                    <a:pt x="1031" y="45616"/>
                  </a:lnTo>
                  <a:lnTo>
                    <a:pt x="678" y="44769"/>
                  </a:lnTo>
                  <a:lnTo>
                    <a:pt x="34" y="37856"/>
                  </a:lnTo>
                  <a:lnTo>
                    <a:pt x="0" y="34265"/>
                  </a:lnTo>
                  <a:lnTo>
                    <a:pt x="1684" y="32969"/>
                  </a:lnTo>
                  <a:lnTo>
                    <a:pt x="12144" y="30297"/>
                  </a:lnTo>
                  <a:lnTo>
                    <a:pt x="33107" y="22239"/>
                  </a:lnTo>
                  <a:lnTo>
                    <a:pt x="39842" y="19871"/>
                  </a:lnTo>
                  <a:lnTo>
                    <a:pt x="47719" y="17446"/>
                  </a:lnTo>
                  <a:lnTo>
                    <a:pt x="65502" y="12494"/>
                  </a:lnTo>
                  <a:lnTo>
                    <a:pt x="74985" y="10834"/>
                  </a:lnTo>
                  <a:lnTo>
                    <a:pt x="84694" y="9728"/>
                  </a:lnTo>
                  <a:lnTo>
                    <a:pt x="94553" y="8991"/>
                  </a:lnTo>
                  <a:lnTo>
                    <a:pt x="105360" y="7652"/>
                  </a:lnTo>
                  <a:lnTo>
                    <a:pt x="116797" y="5914"/>
                  </a:lnTo>
                  <a:lnTo>
                    <a:pt x="128656" y="3908"/>
                  </a:lnTo>
                  <a:lnTo>
                    <a:pt x="139948" y="2570"/>
                  </a:lnTo>
                  <a:lnTo>
                    <a:pt x="150862" y="1679"/>
                  </a:lnTo>
                  <a:lnTo>
                    <a:pt x="170328" y="688"/>
                  </a:lnTo>
                  <a:lnTo>
                    <a:pt x="184624" y="248"/>
                  </a:lnTo>
                  <a:lnTo>
                    <a:pt x="206237" y="0"/>
                  </a:lnTo>
                  <a:lnTo>
                    <a:pt x="211142" y="812"/>
                  </a:lnTo>
                  <a:lnTo>
                    <a:pt x="214412" y="2200"/>
                  </a:lnTo>
                  <a:lnTo>
                    <a:pt x="219660" y="6466"/>
                  </a:lnTo>
                  <a:lnTo>
                    <a:pt x="219244" y="7663"/>
                  </a:lnTo>
                  <a:lnTo>
                    <a:pt x="216524" y="11250"/>
                  </a:lnTo>
                  <a:lnTo>
                    <a:pt x="207977" y="17925"/>
                  </a:lnTo>
                  <a:lnTo>
                    <a:pt x="202142" y="22075"/>
                  </a:lnTo>
                  <a:lnTo>
                    <a:pt x="195712" y="25688"/>
                  </a:lnTo>
                  <a:lnTo>
                    <a:pt x="188885" y="28944"/>
                  </a:lnTo>
                  <a:lnTo>
                    <a:pt x="181794" y="31962"/>
                  </a:lnTo>
                  <a:lnTo>
                    <a:pt x="164884" y="39829"/>
                  </a:lnTo>
                  <a:lnTo>
                    <a:pt x="117544" y="63057"/>
                  </a:lnTo>
                  <a:lnTo>
                    <a:pt x="113914" y="65710"/>
                  </a:lnTo>
                  <a:lnTo>
                    <a:pt x="111493" y="68325"/>
                  </a:lnTo>
                  <a:lnTo>
                    <a:pt x="109879" y="70916"/>
                  </a:lnTo>
                  <a:lnTo>
                    <a:pt x="109650" y="73489"/>
                  </a:lnTo>
                  <a:lnTo>
                    <a:pt x="110344" y="76051"/>
                  </a:lnTo>
                  <a:lnTo>
                    <a:pt x="111654" y="78606"/>
                  </a:lnTo>
                  <a:lnTo>
                    <a:pt x="115066" y="82003"/>
                  </a:lnTo>
                  <a:lnTo>
                    <a:pt x="119882" y="85961"/>
                  </a:lnTo>
                  <a:lnTo>
                    <a:pt x="125632" y="90292"/>
                  </a:lnTo>
                  <a:lnTo>
                    <a:pt x="132852" y="93180"/>
                  </a:lnTo>
                  <a:lnTo>
                    <a:pt x="141052" y="95106"/>
                  </a:lnTo>
                  <a:lnTo>
                    <a:pt x="149905" y="96389"/>
                  </a:lnTo>
                  <a:lnTo>
                    <a:pt x="160041" y="98938"/>
                  </a:lnTo>
                  <a:lnTo>
                    <a:pt x="171031" y="102331"/>
                  </a:lnTo>
                  <a:lnTo>
                    <a:pt x="182591" y="106286"/>
                  </a:lnTo>
                  <a:lnTo>
                    <a:pt x="194532" y="109769"/>
                  </a:lnTo>
                  <a:lnTo>
                    <a:pt x="206725" y="112938"/>
                  </a:lnTo>
                  <a:lnTo>
                    <a:pt x="219088" y="115897"/>
                  </a:lnTo>
                  <a:lnTo>
                    <a:pt x="233256" y="118717"/>
                  </a:lnTo>
                  <a:lnTo>
                    <a:pt x="264802" y="124108"/>
                  </a:lnTo>
                  <a:lnTo>
                    <a:pt x="278972" y="127577"/>
                  </a:lnTo>
                  <a:lnTo>
                    <a:pt x="291806" y="131584"/>
                  </a:lnTo>
                  <a:lnTo>
                    <a:pt x="303748" y="135947"/>
                  </a:lnTo>
                  <a:lnTo>
                    <a:pt x="315096" y="140550"/>
                  </a:lnTo>
                  <a:lnTo>
                    <a:pt x="326048" y="145312"/>
                  </a:lnTo>
                  <a:lnTo>
                    <a:pt x="353127" y="157847"/>
                  </a:lnTo>
                  <a:lnTo>
                    <a:pt x="359869" y="161077"/>
                  </a:lnTo>
                  <a:lnTo>
                    <a:pt x="365210" y="164923"/>
                  </a:lnTo>
                  <a:lnTo>
                    <a:pt x="369617" y="169180"/>
                  </a:lnTo>
                  <a:lnTo>
                    <a:pt x="373402" y="173712"/>
                  </a:lnTo>
                  <a:lnTo>
                    <a:pt x="374232" y="177580"/>
                  </a:lnTo>
                  <a:lnTo>
                    <a:pt x="373092" y="181005"/>
                  </a:lnTo>
                  <a:lnTo>
                    <a:pt x="370639" y="184136"/>
                  </a:lnTo>
                  <a:lnTo>
                    <a:pt x="366463" y="187916"/>
                  </a:lnTo>
                  <a:lnTo>
                    <a:pt x="361140" y="192129"/>
                  </a:lnTo>
                  <a:lnTo>
                    <a:pt x="355050" y="196632"/>
                  </a:lnTo>
                  <a:lnTo>
                    <a:pt x="348451" y="200480"/>
                  </a:lnTo>
                  <a:lnTo>
                    <a:pt x="341511" y="203892"/>
                  </a:lnTo>
                  <a:lnTo>
                    <a:pt x="334345" y="207013"/>
                  </a:lnTo>
                  <a:lnTo>
                    <a:pt x="324487" y="209941"/>
                  </a:lnTo>
                  <a:lnTo>
                    <a:pt x="312836" y="212739"/>
                  </a:lnTo>
                  <a:lnTo>
                    <a:pt x="299988" y="215451"/>
                  </a:lnTo>
                  <a:lnTo>
                    <a:pt x="287189" y="217260"/>
                  </a:lnTo>
                  <a:lnTo>
                    <a:pt x="274423" y="218465"/>
                  </a:lnTo>
                  <a:lnTo>
                    <a:pt x="261680" y="219269"/>
                  </a:lnTo>
                  <a:lnTo>
                    <a:pt x="248104" y="220651"/>
                  </a:lnTo>
                  <a:lnTo>
                    <a:pt x="233973" y="222419"/>
                  </a:lnTo>
                  <a:lnTo>
                    <a:pt x="219473" y="224445"/>
                  </a:lnTo>
                  <a:lnTo>
                    <a:pt x="206419" y="224948"/>
                  </a:lnTo>
                  <a:lnTo>
                    <a:pt x="194330" y="224438"/>
                  </a:lnTo>
                  <a:lnTo>
                    <a:pt x="182884" y="223250"/>
                  </a:lnTo>
                  <a:lnTo>
                    <a:pt x="171020" y="222459"/>
                  </a:lnTo>
                  <a:lnTo>
                    <a:pt x="158878" y="221932"/>
                  </a:lnTo>
                  <a:lnTo>
                    <a:pt x="121108" y="221084"/>
                  </a:lnTo>
                  <a:lnTo>
                    <a:pt x="114596" y="220168"/>
                  </a:lnTo>
                  <a:lnTo>
                    <a:pt x="108561" y="218711"/>
                  </a:lnTo>
                  <a:lnTo>
                    <a:pt x="98187" y="215681"/>
                  </a:lnTo>
                  <a:lnTo>
                    <a:pt x="86886" y="213735"/>
                  </a:lnTo>
                  <a:lnTo>
                    <a:pt x="83792" y="2132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SMARTInkAnnotation34"/>
            <p:cNvSpPr/>
            <p:nvPr/>
          </p:nvSpPr>
          <p:spPr>
            <a:xfrm>
              <a:off x="1280520" y="3603960"/>
              <a:ext cx="220680" cy="144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20981" h="144781">
                  <a:moveTo>
                    <a:pt x="220980" y="0"/>
                  </a:moveTo>
                  <a:lnTo>
                    <a:pt x="220980" y="4045"/>
                  </a:lnTo>
                  <a:lnTo>
                    <a:pt x="220134" y="6084"/>
                  </a:lnTo>
                  <a:lnTo>
                    <a:pt x="216935" y="10606"/>
                  </a:lnTo>
                  <a:lnTo>
                    <a:pt x="214419" y="13867"/>
                  </a:lnTo>
                  <a:lnTo>
                    <a:pt x="209315" y="19146"/>
                  </a:lnTo>
                  <a:lnTo>
                    <a:pt x="205584" y="22924"/>
                  </a:lnTo>
                  <a:lnTo>
                    <a:pt x="200556" y="27136"/>
                  </a:lnTo>
                  <a:lnTo>
                    <a:pt x="194664" y="31637"/>
                  </a:lnTo>
                  <a:lnTo>
                    <a:pt x="188196" y="36331"/>
                  </a:lnTo>
                  <a:lnTo>
                    <a:pt x="180497" y="41154"/>
                  </a:lnTo>
                  <a:lnTo>
                    <a:pt x="171978" y="46063"/>
                  </a:lnTo>
                  <a:lnTo>
                    <a:pt x="153481" y="56032"/>
                  </a:lnTo>
                  <a:lnTo>
                    <a:pt x="103948" y="81300"/>
                  </a:lnTo>
                  <a:lnTo>
                    <a:pt x="93852" y="87220"/>
                  </a:lnTo>
                  <a:lnTo>
                    <a:pt x="83735" y="93707"/>
                  </a:lnTo>
                  <a:lnTo>
                    <a:pt x="47208" y="118322"/>
                  </a:lnTo>
                  <a:lnTo>
                    <a:pt x="39092" y="122908"/>
                  </a:lnTo>
                  <a:lnTo>
                    <a:pt x="31141" y="126812"/>
                  </a:lnTo>
                  <a:lnTo>
                    <a:pt x="23301" y="130262"/>
                  </a:lnTo>
                  <a:lnTo>
                    <a:pt x="17227" y="133408"/>
                  </a:lnTo>
                  <a:lnTo>
                    <a:pt x="12332" y="136352"/>
                  </a:lnTo>
                  <a:lnTo>
                    <a:pt x="0" y="144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SMARTInkAnnotation35"/>
            <p:cNvSpPr/>
            <p:nvPr/>
          </p:nvSpPr>
          <p:spPr>
            <a:xfrm>
              <a:off x="1395000" y="3565800"/>
              <a:ext cx="190440" cy="152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0501" h="152401">
                  <a:moveTo>
                    <a:pt x="0" y="0"/>
                  </a:moveTo>
                  <a:lnTo>
                    <a:pt x="22703" y="0"/>
                  </a:lnTo>
                  <a:lnTo>
                    <a:pt x="26989" y="847"/>
                  </a:lnTo>
                  <a:lnTo>
                    <a:pt x="31539" y="2258"/>
                  </a:lnTo>
                  <a:lnTo>
                    <a:pt x="36266" y="4045"/>
                  </a:lnTo>
                  <a:lnTo>
                    <a:pt x="41111" y="6930"/>
                  </a:lnTo>
                  <a:lnTo>
                    <a:pt x="46034" y="10547"/>
                  </a:lnTo>
                  <a:lnTo>
                    <a:pt x="51009" y="14651"/>
                  </a:lnTo>
                  <a:lnTo>
                    <a:pt x="56020" y="19928"/>
                  </a:lnTo>
                  <a:lnTo>
                    <a:pt x="61053" y="25985"/>
                  </a:lnTo>
                  <a:lnTo>
                    <a:pt x="66102" y="32564"/>
                  </a:lnTo>
                  <a:lnTo>
                    <a:pt x="72008" y="39489"/>
                  </a:lnTo>
                  <a:lnTo>
                    <a:pt x="78486" y="46646"/>
                  </a:lnTo>
                  <a:lnTo>
                    <a:pt x="85344" y="53958"/>
                  </a:lnTo>
                  <a:lnTo>
                    <a:pt x="91609" y="61372"/>
                  </a:lnTo>
                  <a:lnTo>
                    <a:pt x="97480" y="68855"/>
                  </a:lnTo>
                  <a:lnTo>
                    <a:pt x="103086" y="76383"/>
                  </a:lnTo>
                  <a:lnTo>
                    <a:pt x="110211" y="83096"/>
                  </a:lnTo>
                  <a:lnTo>
                    <a:pt x="118347" y="89263"/>
                  </a:lnTo>
                  <a:lnTo>
                    <a:pt x="127158" y="95069"/>
                  </a:lnTo>
                  <a:lnTo>
                    <a:pt x="135572" y="101480"/>
                  </a:lnTo>
                  <a:lnTo>
                    <a:pt x="143722" y="108293"/>
                  </a:lnTo>
                  <a:lnTo>
                    <a:pt x="157856" y="120944"/>
                  </a:lnTo>
                  <a:lnTo>
                    <a:pt x="166961" y="129388"/>
                  </a:lnTo>
                  <a:lnTo>
                    <a:pt x="190500" y="1524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SMARTInkAnnotation36"/>
            <p:cNvSpPr/>
            <p:nvPr/>
          </p:nvSpPr>
          <p:spPr>
            <a:xfrm>
              <a:off x="3490560" y="356580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241">
                  <a:moveTo>
                    <a:pt x="0" y="0"/>
                  </a:moveTo>
                  <a:lnTo>
                    <a:pt x="26003" y="0"/>
                  </a:lnTo>
                  <a:lnTo>
                    <a:pt x="32575" y="847"/>
                  </a:lnTo>
                  <a:lnTo>
                    <a:pt x="39497" y="2258"/>
                  </a:lnTo>
                  <a:lnTo>
                    <a:pt x="46651" y="4045"/>
                  </a:lnTo>
                  <a:lnTo>
                    <a:pt x="56501" y="5237"/>
                  </a:lnTo>
                  <a:lnTo>
                    <a:pt x="68147" y="6031"/>
                  </a:lnTo>
                  <a:lnTo>
                    <a:pt x="80991" y="6561"/>
                  </a:lnTo>
                  <a:lnTo>
                    <a:pt x="108810" y="7149"/>
                  </a:lnTo>
                  <a:lnTo>
                    <a:pt x="123340" y="7306"/>
                  </a:lnTo>
                  <a:lnTo>
                    <a:pt x="138953" y="8257"/>
                  </a:lnTo>
                  <a:lnTo>
                    <a:pt x="155289" y="9738"/>
                  </a:lnTo>
                  <a:lnTo>
                    <a:pt x="172106" y="11572"/>
                  </a:lnTo>
                  <a:lnTo>
                    <a:pt x="185857" y="12795"/>
                  </a:lnTo>
                  <a:lnTo>
                    <a:pt x="197565" y="13610"/>
                  </a:lnTo>
                  <a:lnTo>
                    <a:pt x="217347" y="14516"/>
                  </a:lnTo>
                  <a:lnTo>
                    <a:pt x="25146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SMARTInkAnnotation37"/>
            <p:cNvSpPr/>
            <p:nvPr/>
          </p:nvSpPr>
          <p:spPr>
            <a:xfrm>
              <a:off x="3826080" y="3466800"/>
              <a:ext cx="285840" cy="2286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86160" h="228598">
                  <a:moveTo>
                    <a:pt x="0" y="30477"/>
                  </a:moveTo>
                  <a:lnTo>
                    <a:pt x="4044" y="30477"/>
                  </a:lnTo>
                  <a:lnTo>
                    <a:pt x="6083" y="29630"/>
                  </a:lnTo>
                  <a:lnTo>
                    <a:pt x="13866" y="23916"/>
                  </a:lnTo>
                  <a:lnTo>
                    <a:pt x="19144" y="21070"/>
                  </a:lnTo>
                  <a:lnTo>
                    <a:pt x="36331" y="12344"/>
                  </a:lnTo>
                  <a:lnTo>
                    <a:pt x="42001" y="9922"/>
                  </a:lnTo>
                  <a:lnTo>
                    <a:pt x="48320" y="7460"/>
                  </a:lnTo>
                  <a:lnTo>
                    <a:pt x="55073" y="4973"/>
                  </a:lnTo>
                  <a:lnTo>
                    <a:pt x="62115" y="3314"/>
                  </a:lnTo>
                  <a:lnTo>
                    <a:pt x="69350" y="2208"/>
                  </a:lnTo>
                  <a:lnTo>
                    <a:pt x="76713" y="1471"/>
                  </a:lnTo>
                  <a:lnTo>
                    <a:pt x="85009" y="980"/>
                  </a:lnTo>
                  <a:lnTo>
                    <a:pt x="103257" y="434"/>
                  </a:lnTo>
                  <a:lnTo>
                    <a:pt x="219707" y="0"/>
                  </a:lnTo>
                  <a:lnTo>
                    <a:pt x="226058" y="846"/>
                  </a:lnTo>
                  <a:lnTo>
                    <a:pt x="231139" y="2257"/>
                  </a:lnTo>
                  <a:lnTo>
                    <a:pt x="235372" y="4043"/>
                  </a:lnTo>
                  <a:lnTo>
                    <a:pt x="238194" y="6081"/>
                  </a:lnTo>
                  <a:lnTo>
                    <a:pt x="240076" y="8286"/>
                  </a:lnTo>
                  <a:lnTo>
                    <a:pt x="241330" y="10603"/>
                  </a:lnTo>
                  <a:lnTo>
                    <a:pt x="241320" y="12148"/>
                  </a:lnTo>
                  <a:lnTo>
                    <a:pt x="240467" y="13177"/>
                  </a:lnTo>
                  <a:lnTo>
                    <a:pt x="228967" y="18876"/>
                  </a:lnTo>
                  <a:lnTo>
                    <a:pt x="222918" y="21049"/>
                  </a:lnTo>
                  <a:lnTo>
                    <a:pt x="215498" y="23346"/>
                  </a:lnTo>
                  <a:lnTo>
                    <a:pt x="199070" y="28154"/>
                  </a:lnTo>
                  <a:lnTo>
                    <a:pt x="183302" y="33113"/>
                  </a:lnTo>
                  <a:lnTo>
                    <a:pt x="174694" y="36468"/>
                  </a:lnTo>
                  <a:lnTo>
                    <a:pt x="165569" y="40398"/>
                  </a:lnTo>
                  <a:lnTo>
                    <a:pt x="156099" y="44711"/>
                  </a:lnTo>
                  <a:lnTo>
                    <a:pt x="147246" y="47586"/>
                  </a:lnTo>
                  <a:lnTo>
                    <a:pt x="138803" y="49503"/>
                  </a:lnTo>
                  <a:lnTo>
                    <a:pt x="130635" y="50781"/>
                  </a:lnTo>
                  <a:lnTo>
                    <a:pt x="122650" y="52479"/>
                  </a:lnTo>
                  <a:lnTo>
                    <a:pt x="114786" y="54458"/>
                  </a:lnTo>
                  <a:lnTo>
                    <a:pt x="107004" y="56625"/>
                  </a:lnTo>
                  <a:lnTo>
                    <a:pt x="100969" y="58916"/>
                  </a:lnTo>
                  <a:lnTo>
                    <a:pt x="96099" y="61289"/>
                  </a:lnTo>
                  <a:lnTo>
                    <a:pt x="92006" y="63719"/>
                  </a:lnTo>
                  <a:lnTo>
                    <a:pt x="89277" y="66185"/>
                  </a:lnTo>
                  <a:lnTo>
                    <a:pt x="87458" y="68676"/>
                  </a:lnTo>
                  <a:lnTo>
                    <a:pt x="86245" y="71183"/>
                  </a:lnTo>
                  <a:lnTo>
                    <a:pt x="86283" y="72854"/>
                  </a:lnTo>
                  <a:lnTo>
                    <a:pt x="87155" y="73968"/>
                  </a:lnTo>
                  <a:lnTo>
                    <a:pt x="88583" y="74711"/>
                  </a:lnTo>
                  <a:lnTo>
                    <a:pt x="92922" y="76053"/>
                  </a:lnTo>
                  <a:lnTo>
                    <a:pt x="106774" y="79802"/>
                  </a:lnTo>
                  <a:lnTo>
                    <a:pt x="114362" y="82833"/>
                  </a:lnTo>
                  <a:lnTo>
                    <a:pt x="121961" y="86548"/>
                  </a:lnTo>
                  <a:lnTo>
                    <a:pt x="129567" y="90718"/>
                  </a:lnTo>
                  <a:lnTo>
                    <a:pt x="138871" y="94344"/>
                  </a:lnTo>
                  <a:lnTo>
                    <a:pt x="149307" y="97609"/>
                  </a:lnTo>
                  <a:lnTo>
                    <a:pt x="160498" y="100632"/>
                  </a:lnTo>
                  <a:lnTo>
                    <a:pt x="172191" y="104340"/>
                  </a:lnTo>
                  <a:lnTo>
                    <a:pt x="184221" y="108506"/>
                  </a:lnTo>
                  <a:lnTo>
                    <a:pt x="208875" y="117650"/>
                  </a:lnTo>
                  <a:lnTo>
                    <a:pt x="233944" y="127359"/>
                  </a:lnTo>
                  <a:lnTo>
                    <a:pt x="244016" y="131472"/>
                  </a:lnTo>
                  <a:lnTo>
                    <a:pt x="252424" y="135060"/>
                  </a:lnTo>
                  <a:lnTo>
                    <a:pt x="259722" y="138299"/>
                  </a:lnTo>
                  <a:lnTo>
                    <a:pt x="266281" y="142152"/>
                  </a:lnTo>
                  <a:lnTo>
                    <a:pt x="272347" y="146413"/>
                  </a:lnTo>
                  <a:lnTo>
                    <a:pt x="278085" y="150948"/>
                  </a:lnTo>
                  <a:lnTo>
                    <a:pt x="281909" y="155664"/>
                  </a:lnTo>
                  <a:lnTo>
                    <a:pt x="284459" y="160502"/>
                  </a:lnTo>
                  <a:lnTo>
                    <a:pt x="286159" y="165421"/>
                  </a:lnTo>
                  <a:lnTo>
                    <a:pt x="285599" y="169546"/>
                  </a:lnTo>
                  <a:lnTo>
                    <a:pt x="283532" y="173143"/>
                  </a:lnTo>
                  <a:lnTo>
                    <a:pt x="276720" y="180244"/>
                  </a:lnTo>
                  <a:lnTo>
                    <a:pt x="268049" y="189045"/>
                  </a:lnTo>
                  <a:lnTo>
                    <a:pt x="261672" y="192915"/>
                  </a:lnTo>
                  <a:lnTo>
                    <a:pt x="254035" y="196343"/>
                  </a:lnTo>
                  <a:lnTo>
                    <a:pt x="245557" y="199474"/>
                  </a:lnTo>
                  <a:lnTo>
                    <a:pt x="235670" y="202408"/>
                  </a:lnTo>
                  <a:lnTo>
                    <a:pt x="224847" y="205211"/>
                  </a:lnTo>
                  <a:lnTo>
                    <a:pt x="213398" y="207927"/>
                  </a:lnTo>
                  <a:lnTo>
                    <a:pt x="203225" y="210583"/>
                  </a:lnTo>
                  <a:lnTo>
                    <a:pt x="185148" y="215793"/>
                  </a:lnTo>
                  <a:lnTo>
                    <a:pt x="175079" y="217521"/>
                  </a:lnTo>
                  <a:lnTo>
                    <a:pt x="164132" y="218673"/>
                  </a:lnTo>
                  <a:lnTo>
                    <a:pt x="152601" y="219441"/>
                  </a:lnTo>
                  <a:lnTo>
                    <a:pt x="141528" y="220800"/>
                  </a:lnTo>
                  <a:lnTo>
                    <a:pt x="130757" y="222552"/>
                  </a:lnTo>
                  <a:lnTo>
                    <a:pt x="120192" y="224567"/>
                  </a:lnTo>
                  <a:lnTo>
                    <a:pt x="109761" y="225911"/>
                  </a:lnTo>
                  <a:lnTo>
                    <a:pt x="99420" y="226806"/>
                  </a:lnTo>
                  <a:lnTo>
                    <a:pt x="89140" y="227403"/>
                  </a:lnTo>
                  <a:lnTo>
                    <a:pt x="70944" y="228066"/>
                  </a:lnTo>
                  <a:lnTo>
                    <a:pt x="46420" y="228440"/>
                  </a:lnTo>
                  <a:lnTo>
                    <a:pt x="22859" y="2285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SMARTInkAnnotation38"/>
            <p:cNvSpPr/>
            <p:nvPr/>
          </p:nvSpPr>
          <p:spPr>
            <a:xfrm>
              <a:off x="4230000" y="3558240"/>
              <a:ext cx="220320" cy="19764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220660" h="197807">
                  <a:moveTo>
                    <a:pt x="205741" y="7306"/>
                  </a:moveTo>
                  <a:lnTo>
                    <a:pt x="209785" y="7306"/>
                  </a:lnTo>
                  <a:lnTo>
                    <a:pt x="210977" y="6459"/>
                  </a:lnTo>
                  <a:lnTo>
                    <a:pt x="211771" y="5049"/>
                  </a:lnTo>
                  <a:lnTo>
                    <a:pt x="213046" y="745"/>
                  </a:lnTo>
                  <a:lnTo>
                    <a:pt x="213998" y="392"/>
                  </a:lnTo>
                  <a:lnTo>
                    <a:pt x="217312" y="0"/>
                  </a:lnTo>
                  <a:lnTo>
                    <a:pt x="218535" y="742"/>
                  </a:lnTo>
                  <a:lnTo>
                    <a:pt x="219350" y="2083"/>
                  </a:lnTo>
                  <a:lnTo>
                    <a:pt x="220659" y="6275"/>
                  </a:lnTo>
                  <a:lnTo>
                    <a:pt x="218580" y="9105"/>
                  </a:lnTo>
                  <a:lnTo>
                    <a:pt x="216839" y="11046"/>
                  </a:lnTo>
                  <a:lnTo>
                    <a:pt x="210391" y="15459"/>
                  </a:lnTo>
                  <a:lnTo>
                    <a:pt x="206301" y="17821"/>
                  </a:lnTo>
                  <a:lnTo>
                    <a:pt x="201880" y="21090"/>
                  </a:lnTo>
                  <a:lnTo>
                    <a:pt x="197241" y="24962"/>
                  </a:lnTo>
                  <a:lnTo>
                    <a:pt x="192453" y="29236"/>
                  </a:lnTo>
                  <a:lnTo>
                    <a:pt x="186723" y="33780"/>
                  </a:lnTo>
                  <a:lnTo>
                    <a:pt x="180362" y="38502"/>
                  </a:lnTo>
                  <a:lnTo>
                    <a:pt x="173582" y="43343"/>
                  </a:lnTo>
                  <a:lnTo>
                    <a:pt x="167368" y="49111"/>
                  </a:lnTo>
                  <a:lnTo>
                    <a:pt x="161532" y="55496"/>
                  </a:lnTo>
                  <a:lnTo>
                    <a:pt x="155948" y="62292"/>
                  </a:lnTo>
                  <a:lnTo>
                    <a:pt x="148839" y="69364"/>
                  </a:lnTo>
                  <a:lnTo>
                    <a:pt x="140712" y="76618"/>
                  </a:lnTo>
                  <a:lnTo>
                    <a:pt x="131908" y="83994"/>
                  </a:lnTo>
                  <a:lnTo>
                    <a:pt x="123499" y="91451"/>
                  </a:lnTo>
                  <a:lnTo>
                    <a:pt x="107382" y="106510"/>
                  </a:lnTo>
                  <a:lnTo>
                    <a:pt x="84028" y="129269"/>
                  </a:lnTo>
                  <a:lnTo>
                    <a:pt x="75492" y="136874"/>
                  </a:lnTo>
                  <a:lnTo>
                    <a:pt x="66415" y="144485"/>
                  </a:lnTo>
                  <a:lnTo>
                    <a:pt x="56977" y="152099"/>
                  </a:lnTo>
                  <a:lnTo>
                    <a:pt x="48991" y="158868"/>
                  </a:lnTo>
                  <a:lnTo>
                    <a:pt x="41974" y="165074"/>
                  </a:lnTo>
                  <a:lnTo>
                    <a:pt x="29662" y="176485"/>
                  </a:lnTo>
                  <a:lnTo>
                    <a:pt x="18546" y="187201"/>
                  </a:lnTo>
                  <a:lnTo>
                    <a:pt x="14057" y="190737"/>
                  </a:lnTo>
                  <a:lnTo>
                    <a:pt x="10218" y="193093"/>
                  </a:lnTo>
                  <a:lnTo>
                    <a:pt x="0" y="1978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SMARTInkAnnotation39"/>
            <p:cNvSpPr/>
            <p:nvPr/>
          </p:nvSpPr>
          <p:spPr>
            <a:xfrm>
              <a:off x="4283280" y="3596040"/>
              <a:ext cx="236160" cy="1598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6220" h="160021">
                  <a:moveTo>
                    <a:pt x="0" y="0"/>
                  </a:moveTo>
                  <a:lnTo>
                    <a:pt x="14650" y="0"/>
                  </a:lnTo>
                  <a:lnTo>
                    <a:pt x="17386" y="847"/>
                  </a:lnTo>
                  <a:lnTo>
                    <a:pt x="19212" y="2258"/>
                  </a:lnTo>
                  <a:lnTo>
                    <a:pt x="20427" y="4045"/>
                  </a:lnTo>
                  <a:lnTo>
                    <a:pt x="23778" y="5237"/>
                  </a:lnTo>
                  <a:lnTo>
                    <a:pt x="28552" y="6031"/>
                  </a:lnTo>
                  <a:lnTo>
                    <a:pt x="34274" y="6561"/>
                  </a:lnTo>
                  <a:lnTo>
                    <a:pt x="39782" y="8607"/>
                  </a:lnTo>
                  <a:lnTo>
                    <a:pt x="45148" y="11665"/>
                  </a:lnTo>
                  <a:lnTo>
                    <a:pt x="50418" y="15397"/>
                  </a:lnTo>
                  <a:lnTo>
                    <a:pt x="56472" y="18731"/>
                  </a:lnTo>
                  <a:lnTo>
                    <a:pt x="63048" y="21801"/>
                  </a:lnTo>
                  <a:lnTo>
                    <a:pt x="69972" y="24694"/>
                  </a:lnTo>
                  <a:lnTo>
                    <a:pt x="76281" y="29163"/>
                  </a:lnTo>
                  <a:lnTo>
                    <a:pt x="82181" y="34682"/>
                  </a:lnTo>
                  <a:lnTo>
                    <a:pt x="87807" y="40901"/>
                  </a:lnTo>
                  <a:lnTo>
                    <a:pt x="94097" y="46741"/>
                  </a:lnTo>
                  <a:lnTo>
                    <a:pt x="100832" y="52327"/>
                  </a:lnTo>
                  <a:lnTo>
                    <a:pt x="107861" y="57745"/>
                  </a:lnTo>
                  <a:lnTo>
                    <a:pt x="115087" y="63050"/>
                  </a:lnTo>
                  <a:lnTo>
                    <a:pt x="147192" y="85989"/>
                  </a:lnTo>
                  <a:lnTo>
                    <a:pt x="156548" y="92886"/>
                  </a:lnTo>
                  <a:lnTo>
                    <a:pt x="165325" y="100024"/>
                  </a:lnTo>
                  <a:lnTo>
                    <a:pt x="173716" y="107323"/>
                  </a:lnTo>
                  <a:lnTo>
                    <a:pt x="181850" y="114728"/>
                  </a:lnTo>
                  <a:lnTo>
                    <a:pt x="197662" y="129730"/>
                  </a:lnTo>
                  <a:lnTo>
                    <a:pt x="205434" y="137287"/>
                  </a:lnTo>
                  <a:lnTo>
                    <a:pt x="212309" y="143171"/>
                  </a:lnTo>
                  <a:lnTo>
                    <a:pt x="218585" y="147941"/>
                  </a:lnTo>
                  <a:lnTo>
                    <a:pt x="236219" y="160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SMARTInkAnnotation40"/>
            <p:cNvSpPr/>
            <p:nvPr/>
          </p:nvSpPr>
          <p:spPr>
            <a:xfrm>
              <a:off x="1334160" y="405360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21">
                  <a:moveTo>
                    <a:pt x="0" y="0"/>
                  </a:moveTo>
                  <a:lnTo>
                    <a:pt x="14651" y="0"/>
                  </a:lnTo>
                  <a:lnTo>
                    <a:pt x="19081" y="847"/>
                  </a:lnTo>
                  <a:lnTo>
                    <a:pt x="23727" y="2258"/>
                  </a:lnTo>
                  <a:lnTo>
                    <a:pt x="28518" y="4045"/>
                  </a:lnTo>
                  <a:lnTo>
                    <a:pt x="34252" y="5237"/>
                  </a:lnTo>
                  <a:lnTo>
                    <a:pt x="40615" y="6032"/>
                  </a:lnTo>
                  <a:lnTo>
                    <a:pt x="47397" y="6561"/>
                  </a:lnTo>
                  <a:lnTo>
                    <a:pt x="55304" y="6914"/>
                  </a:lnTo>
                  <a:lnTo>
                    <a:pt x="73122" y="7306"/>
                  </a:lnTo>
                  <a:lnTo>
                    <a:pt x="22860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SMARTInkAnnotation41"/>
            <p:cNvSpPr/>
            <p:nvPr/>
          </p:nvSpPr>
          <p:spPr>
            <a:xfrm>
              <a:off x="1692360" y="3878280"/>
              <a:ext cx="204840" cy="3276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05152" h="327624">
                  <a:moveTo>
                    <a:pt x="0" y="38063"/>
                  </a:moveTo>
                  <a:lnTo>
                    <a:pt x="0" y="34018"/>
                  </a:lnTo>
                  <a:lnTo>
                    <a:pt x="847" y="32826"/>
                  </a:lnTo>
                  <a:lnTo>
                    <a:pt x="2258" y="32032"/>
                  </a:lnTo>
                  <a:lnTo>
                    <a:pt x="6561" y="30757"/>
                  </a:lnTo>
                  <a:lnTo>
                    <a:pt x="11351" y="26491"/>
                  </a:lnTo>
                  <a:lnTo>
                    <a:pt x="18133" y="19865"/>
                  </a:lnTo>
                  <a:lnTo>
                    <a:pt x="21402" y="18311"/>
                  </a:lnTo>
                  <a:lnTo>
                    <a:pt x="25275" y="17275"/>
                  </a:lnTo>
                  <a:lnTo>
                    <a:pt x="29550" y="16584"/>
                  </a:lnTo>
                  <a:lnTo>
                    <a:pt x="34093" y="15277"/>
                  </a:lnTo>
                  <a:lnTo>
                    <a:pt x="38815" y="13559"/>
                  </a:lnTo>
                  <a:lnTo>
                    <a:pt x="43657" y="11567"/>
                  </a:lnTo>
                  <a:lnTo>
                    <a:pt x="49425" y="9393"/>
                  </a:lnTo>
                  <a:lnTo>
                    <a:pt x="62606" y="4718"/>
                  </a:lnTo>
                  <a:lnTo>
                    <a:pt x="69678" y="3133"/>
                  </a:lnTo>
                  <a:lnTo>
                    <a:pt x="76932" y="2076"/>
                  </a:lnTo>
                  <a:lnTo>
                    <a:pt x="84308" y="1372"/>
                  </a:lnTo>
                  <a:lnTo>
                    <a:pt x="91765" y="902"/>
                  </a:lnTo>
                  <a:lnTo>
                    <a:pt x="106825" y="381"/>
                  </a:lnTo>
                  <a:lnTo>
                    <a:pt x="137189" y="46"/>
                  </a:lnTo>
                  <a:lnTo>
                    <a:pt x="152413" y="0"/>
                  </a:lnTo>
                  <a:lnTo>
                    <a:pt x="159182" y="834"/>
                  </a:lnTo>
                  <a:lnTo>
                    <a:pt x="165388" y="2237"/>
                  </a:lnTo>
                  <a:lnTo>
                    <a:pt x="171219" y="4019"/>
                  </a:lnTo>
                  <a:lnTo>
                    <a:pt x="176799" y="5207"/>
                  </a:lnTo>
                  <a:lnTo>
                    <a:pt x="182213" y="5999"/>
                  </a:lnTo>
                  <a:lnTo>
                    <a:pt x="187515" y="6527"/>
                  </a:lnTo>
                  <a:lnTo>
                    <a:pt x="191897" y="7726"/>
                  </a:lnTo>
                  <a:lnTo>
                    <a:pt x="195665" y="9372"/>
                  </a:lnTo>
                  <a:lnTo>
                    <a:pt x="199023" y="11315"/>
                  </a:lnTo>
                  <a:lnTo>
                    <a:pt x="201262" y="13458"/>
                  </a:lnTo>
                  <a:lnTo>
                    <a:pt x="202755" y="15733"/>
                  </a:lnTo>
                  <a:lnTo>
                    <a:pt x="204414" y="20519"/>
                  </a:lnTo>
                  <a:lnTo>
                    <a:pt x="205151" y="25468"/>
                  </a:lnTo>
                  <a:lnTo>
                    <a:pt x="203221" y="35005"/>
                  </a:lnTo>
                  <a:lnTo>
                    <a:pt x="201520" y="41104"/>
                  </a:lnTo>
                  <a:lnTo>
                    <a:pt x="199540" y="46864"/>
                  </a:lnTo>
                  <a:lnTo>
                    <a:pt x="197374" y="52397"/>
                  </a:lnTo>
                  <a:lnTo>
                    <a:pt x="195082" y="57779"/>
                  </a:lnTo>
                  <a:lnTo>
                    <a:pt x="191862" y="63060"/>
                  </a:lnTo>
                  <a:lnTo>
                    <a:pt x="188021" y="68275"/>
                  </a:lnTo>
                  <a:lnTo>
                    <a:pt x="183768" y="73444"/>
                  </a:lnTo>
                  <a:lnTo>
                    <a:pt x="179239" y="80277"/>
                  </a:lnTo>
                  <a:lnTo>
                    <a:pt x="174526" y="88219"/>
                  </a:lnTo>
                  <a:lnTo>
                    <a:pt x="169691" y="96900"/>
                  </a:lnTo>
                  <a:lnTo>
                    <a:pt x="164774" y="105228"/>
                  </a:lnTo>
                  <a:lnTo>
                    <a:pt x="154795" y="121254"/>
                  </a:lnTo>
                  <a:lnTo>
                    <a:pt x="148917" y="129931"/>
                  </a:lnTo>
                  <a:lnTo>
                    <a:pt x="135612" y="148602"/>
                  </a:lnTo>
                  <a:lnTo>
                    <a:pt x="130201" y="158322"/>
                  </a:lnTo>
                  <a:lnTo>
                    <a:pt x="125748" y="168189"/>
                  </a:lnTo>
                  <a:lnTo>
                    <a:pt x="121932" y="178154"/>
                  </a:lnTo>
                  <a:lnTo>
                    <a:pt x="117695" y="187337"/>
                  </a:lnTo>
                  <a:lnTo>
                    <a:pt x="113176" y="195999"/>
                  </a:lnTo>
                  <a:lnTo>
                    <a:pt x="108471" y="204314"/>
                  </a:lnTo>
                  <a:lnTo>
                    <a:pt x="104488" y="213244"/>
                  </a:lnTo>
                  <a:lnTo>
                    <a:pt x="100985" y="222583"/>
                  </a:lnTo>
                  <a:lnTo>
                    <a:pt x="97803" y="232197"/>
                  </a:lnTo>
                  <a:lnTo>
                    <a:pt x="93989" y="241145"/>
                  </a:lnTo>
                  <a:lnTo>
                    <a:pt x="89753" y="249651"/>
                  </a:lnTo>
                  <a:lnTo>
                    <a:pt x="85235" y="257862"/>
                  </a:lnTo>
                  <a:lnTo>
                    <a:pt x="81377" y="265876"/>
                  </a:lnTo>
                  <a:lnTo>
                    <a:pt x="77958" y="273758"/>
                  </a:lnTo>
                  <a:lnTo>
                    <a:pt x="74832" y="281553"/>
                  </a:lnTo>
                  <a:lnTo>
                    <a:pt x="72748" y="287596"/>
                  </a:lnTo>
                  <a:lnTo>
                    <a:pt x="70432" y="296569"/>
                  </a:lnTo>
                  <a:lnTo>
                    <a:pt x="67145" y="305637"/>
                  </a:lnTo>
                  <a:lnTo>
                    <a:pt x="63709" y="314465"/>
                  </a:lnTo>
                  <a:lnTo>
                    <a:pt x="61775" y="323348"/>
                  </a:lnTo>
                  <a:lnTo>
                    <a:pt x="60960" y="32762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SMARTInkAnnotation42"/>
            <p:cNvSpPr/>
            <p:nvPr/>
          </p:nvSpPr>
          <p:spPr>
            <a:xfrm>
              <a:off x="1745640" y="4046040"/>
              <a:ext cx="243720" cy="118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3841" h="11949">
                  <a:moveTo>
                    <a:pt x="0" y="0"/>
                  </a:moveTo>
                  <a:lnTo>
                    <a:pt x="28518" y="0"/>
                  </a:lnTo>
                  <a:lnTo>
                    <a:pt x="34252" y="847"/>
                  </a:lnTo>
                  <a:lnTo>
                    <a:pt x="40615" y="2258"/>
                  </a:lnTo>
                  <a:lnTo>
                    <a:pt x="47397" y="4045"/>
                  </a:lnTo>
                  <a:lnTo>
                    <a:pt x="55304" y="5237"/>
                  </a:lnTo>
                  <a:lnTo>
                    <a:pt x="63963" y="6031"/>
                  </a:lnTo>
                  <a:lnTo>
                    <a:pt x="73122" y="6561"/>
                  </a:lnTo>
                  <a:lnTo>
                    <a:pt x="92330" y="7150"/>
                  </a:lnTo>
                  <a:lnTo>
                    <a:pt x="102193" y="7307"/>
                  </a:lnTo>
                  <a:lnTo>
                    <a:pt x="113849" y="8258"/>
                  </a:lnTo>
                  <a:lnTo>
                    <a:pt x="126700" y="9739"/>
                  </a:lnTo>
                  <a:lnTo>
                    <a:pt x="140346" y="11573"/>
                  </a:lnTo>
                  <a:lnTo>
                    <a:pt x="155371" y="11948"/>
                  </a:lnTo>
                  <a:lnTo>
                    <a:pt x="171314" y="11353"/>
                  </a:lnTo>
                  <a:lnTo>
                    <a:pt x="201446" y="9279"/>
                  </a:lnTo>
                  <a:lnTo>
                    <a:pt x="243840" y="76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SMARTInkAnnotation43"/>
            <p:cNvSpPr/>
            <p:nvPr/>
          </p:nvSpPr>
          <p:spPr>
            <a:xfrm>
              <a:off x="2095920" y="4061160"/>
              <a:ext cx="213120" cy="457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3361" h="45721">
                  <a:moveTo>
                    <a:pt x="0" y="45720"/>
                  </a:moveTo>
                  <a:lnTo>
                    <a:pt x="0" y="41676"/>
                  </a:lnTo>
                  <a:lnTo>
                    <a:pt x="847" y="39637"/>
                  </a:lnTo>
                  <a:lnTo>
                    <a:pt x="2258" y="37432"/>
                  </a:lnTo>
                  <a:lnTo>
                    <a:pt x="4045" y="35114"/>
                  </a:lnTo>
                  <a:lnTo>
                    <a:pt x="6084" y="33570"/>
                  </a:lnTo>
                  <a:lnTo>
                    <a:pt x="8289" y="32539"/>
                  </a:lnTo>
                  <a:lnTo>
                    <a:pt x="10606" y="31853"/>
                  </a:lnTo>
                  <a:lnTo>
                    <a:pt x="46651" y="19995"/>
                  </a:lnTo>
                  <a:lnTo>
                    <a:pt x="55654" y="18410"/>
                  </a:lnTo>
                  <a:lnTo>
                    <a:pt x="65889" y="17353"/>
                  </a:lnTo>
                  <a:lnTo>
                    <a:pt x="76946" y="16649"/>
                  </a:lnTo>
                  <a:lnTo>
                    <a:pt x="87704" y="15333"/>
                  </a:lnTo>
                  <a:lnTo>
                    <a:pt x="98263" y="13609"/>
                  </a:lnTo>
                  <a:lnTo>
                    <a:pt x="108689" y="11612"/>
                  </a:lnTo>
                  <a:lnTo>
                    <a:pt x="129304" y="7137"/>
                  </a:lnTo>
                  <a:lnTo>
                    <a:pt x="139542" y="4758"/>
                  </a:lnTo>
                  <a:lnTo>
                    <a:pt x="150602" y="3172"/>
                  </a:lnTo>
                  <a:lnTo>
                    <a:pt x="162208" y="2115"/>
                  </a:lnTo>
                  <a:lnTo>
                    <a:pt x="183852" y="940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SMARTInkAnnotation44"/>
            <p:cNvSpPr/>
            <p:nvPr/>
          </p:nvSpPr>
          <p:spPr>
            <a:xfrm>
              <a:off x="2149560" y="414504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90501" h="22826">
                  <a:moveTo>
                    <a:pt x="0" y="7620"/>
                  </a:moveTo>
                  <a:lnTo>
                    <a:pt x="4046" y="11665"/>
                  </a:lnTo>
                  <a:lnTo>
                    <a:pt x="6931" y="13703"/>
                  </a:lnTo>
                  <a:lnTo>
                    <a:pt x="10547" y="15909"/>
                  </a:lnTo>
                  <a:lnTo>
                    <a:pt x="14652" y="18226"/>
                  </a:lnTo>
                  <a:lnTo>
                    <a:pt x="19081" y="19770"/>
                  </a:lnTo>
                  <a:lnTo>
                    <a:pt x="23727" y="20801"/>
                  </a:lnTo>
                  <a:lnTo>
                    <a:pt x="28518" y="21487"/>
                  </a:lnTo>
                  <a:lnTo>
                    <a:pt x="34252" y="21945"/>
                  </a:lnTo>
                  <a:lnTo>
                    <a:pt x="40615" y="22250"/>
                  </a:lnTo>
                  <a:lnTo>
                    <a:pt x="54458" y="22589"/>
                  </a:lnTo>
                  <a:lnTo>
                    <a:pt x="95633" y="22825"/>
                  </a:lnTo>
                  <a:lnTo>
                    <a:pt x="105242" y="21990"/>
                  </a:lnTo>
                  <a:lnTo>
                    <a:pt x="115035" y="20587"/>
                  </a:lnTo>
                  <a:lnTo>
                    <a:pt x="124950" y="18804"/>
                  </a:lnTo>
                  <a:lnTo>
                    <a:pt x="134947" y="16769"/>
                  </a:lnTo>
                  <a:lnTo>
                    <a:pt x="155086" y="12251"/>
                  </a:lnTo>
                  <a:lnTo>
                    <a:pt x="163504" y="9861"/>
                  </a:lnTo>
                  <a:lnTo>
                    <a:pt x="170809" y="7420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SMARTInkAnnotation45"/>
            <p:cNvSpPr/>
            <p:nvPr/>
          </p:nvSpPr>
          <p:spPr>
            <a:xfrm>
              <a:off x="2545560" y="3955680"/>
              <a:ext cx="274320" cy="2196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274321" h="219790">
                  <a:moveTo>
                    <a:pt x="0" y="52149"/>
                  </a:moveTo>
                  <a:lnTo>
                    <a:pt x="0" y="48104"/>
                  </a:lnTo>
                  <a:lnTo>
                    <a:pt x="847" y="46066"/>
                  </a:lnTo>
                  <a:lnTo>
                    <a:pt x="4045" y="41543"/>
                  </a:lnTo>
                  <a:lnTo>
                    <a:pt x="10547" y="36711"/>
                  </a:lnTo>
                  <a:lnTo>
                    <a:pt x="14651" y="34237"/>
                  </a:lnTo>
                  <a:lnTo>
                    <a:pt x="19928" y="31741"/>
                  </a:lnTo>
                  <a:lnTo>
                    <a:pt x="25985" y="29231"/>
                  </a:lnTo>
                  <a:lnTo>
                    <a:pt x="32563" y="26710"/>
                  </a:lnTo>
                  <a:lnTo>
                    <a:pt x="40335" y="24183"/>
                  </a:lnTo>
                  <a:lnTo>
                    <a:pt x="48904" y="21652"/>
                  </a:lnTo>
                  <a:lnTo>
                    <a:pt x="58002" y="19118"/>
                  </a:lnTo>
                  <a:lnTo>
                    <a:pt x="74885" y="14044"/>
                  </a:lnTo>
                  <a:lnTo>
                    <a:pt x="82943" y="11506"/>
                  </a:lnTo>
                  <a:lnTo>
                    <a:pt x="91702" y="9814"/>
                  </a:lnTo>
                  <a:lnTo>
                    <a:pt x="100928" y="8686"/>
                  </a:lnTo>
                  <a:lnTo>
                    <a:pt x="110466" y="7933"/>
                  </a:lnTo>
                  <a:lnTo>
                    <a:pt x="120210" y="6586"/>
                  </a:lnTo>
                  <a:lnTo>
                    <a:pt x="130093" y="4840"/>
                  </a:lnTo>
                  <a:lnTo>
                    <a:pt x="140069" y="2830"/>
                  </a:lnTo>
                  <a:lnTo>
                    <a:pt x="150106" y="1489"/>
                  </a:lnTo>
                  <a:lnTo>
                    <a:pt x="160184" y="596"/>
                  </a:lnTo>
                  <a:lnTo>
                    <a:pt x="170290" y="0"/>
                  </a:lnTo>
                  <a:lnTo>
                    <a:pt x="178720" y="450"/>
                  </a:lnTo>
                  <a:lnTo>
                    <a:pt x="186033" y="1596"/>
                  </a:lnTo>
                  <a:lnTo>
                    <a:pt x="192602" y="3207"/>
                  </a:lnTo>
                  <a:lnTo>
                    <a:pt x="198675" y="4281"/>
                  </a:lnTo>
                  <a:lnTo>
                    <a:pt x="204417" y="4997"/>
                  </a:lnTo>
                  <a:lnTo>
                    <a:pt x="209938" y="5474"/>
                  </a:lnTo>
                  <a:lnTo>
                    <a:pt x="218330" y="8263"/>
                  </a:lnTo>
                  <a:lnTo>
                    <a:pt x="221753" y="10191"/>
                  </a:lnTo>
                  <a:lnTo>
                    <a:pt x="224036" y="12324"/>
                  </a:lnTo>
                  <a:lnTo>
                    <a:pt x="225557" y="14592"/>
                  </a:lnTo>
                  <a:lnTo>
                    <a:pt x="226572" y="16951"/>
                  </a:lnTo>
                  <a:lnTo>
                    <a:pt x="226401" y="19371"/>
                  </a:lnTo>
                  <a:lnTo>
                    <a:pt x="225441" y="21830"/>
                  </a:lnTo>
                  <a:lnTo>
                    <a:pt x="222116" y="26820"/>
                  </a:lnTo>
                  <a:lnTo>
                    <a:pt x="217816" y="31861"/>
                  </a:lnTo>
                  <a:lnTo>
                    <a:pt x="210825" y="39180"/>
                  </a:lnTo>
                  <a:lnTo>
                    <a:pt x="206590" y="43503"/>
                  </a:lnTo>
                  <a:lnTo>
                    <a:pt x="201227" y="48079"/>
                  </a:lnTo>
                  <a:lnTo>
                    <a:pt x="195111" y="52822"/>
                  </a:lnTo>
                  <a:lnTo>
                    <a:pt x="188494" y="57678"/>
                  </a:lnTo>
                  <a:lnTo>
                    <a:pt x="174369" y="67588"/>
                  </a:lnTo>
                  <a:lnTo>
                    <a:pt x="144604" y="87748"/>
                  </a:lnTo>
                  <a:lnTo>
                    <a:pt x="137889" y="92816"/>
                  </a:lnTo>
                  <a:lnTo>
                    <a:pt x="131719" y="97886"/>
                  </a:lnTo>
                  <a:lnTo>
                    <a:pt x="125913" y="102961"/>
                  </a:lnTo>
                  <a:lnTo>
                    <a:pt x="120349" y="108883"/>
                  </a:lnTo>
                  <a:lnTo>
                    <a:pt x="114946" y="115372"/>
                  </a:lnTo>
                  <a:lnTo>
                    <a:pt x="109650" y="122238"/>
                  </a:lnTo>
                  <a:lnTo>
                    <a:pt x="105274" y="128508"/>
                  </a:lnTo>
                  <a:lnTo>
                    <a:pt x="101509" y="134382"/>
                  </a:lnTo>
                  <a:lnTo>
                    <a:pt x="98153" y="139991"/>
                  </a:lnTo>
                  <a:lnTo>
                    <a:pt x="95915" y="145424"/>
                  </a:lnTo>
                  <a:lnTo>
                    <a:pt x="94423" y="150739"/>
                  </a:lnTo>
                  <a:lnTo>
                    <a:pt x="93429" y="155976"/>
                  </a:lnTo>
                  <a:lnTo>
                    <a:pt x="92766" y="160314"/>
                  </a:lnTo>
                  <a:lnTo>
                    <a:pt x="92324" y="164052"/>
                  </a:lnTo>
                  <a:lnTo>
                    <a:pt x="92029" y="167391"/>
                  </a:lnTo>
                  <a:lnTo>
                    <a:pt x="92679" y="171311"/>
                  </a:lnTo>
                  <a:lnTo>
                    <a:pt x="93960" y="175616"/>
                  </a:lnTo>
                  <a:lnTo>
                    <a:pt x="95660" y="180181"/>
                  </a:lnTo>
                  <a:lnTo>
                    <a:pt x="98487" y="184917"/>
                  </a:lnTo>
                  <a:lnTo>
                    <a:pt x="102064" y="189768"/>
                  </a:lnTo>
                  <a:lnTo>
                    <a:pt x="106143" y="194695"/>
                  </a:lnTo>
                  <a:lnTo>
                    <a:pt x="110555" y="198827"/>
                  </a:lnTo>
                  <a:lnTo>
                    <a:pt x="115190" y="202427"/>
                  </a:lnTo>
                  <a:lnTo>
                    <a:pt x="119973" y="205675"/>
                  </a:lnTo>
                  <a:lnTo>
                    <a:pt x="127395" y="208686"/>
                  </a:lnTo>
                  <a:lnTo>
                    <a:pt x="136577" y="211541"/>
                  </a:lnTo>
                  <a:lnTo>
                    <a:pt x="146931" y="214290"/>
                  </a:lnTo>
                  <a:lnTo>
                    <a:pt x="157221" y="216123"/>
                  </a:lnTo>
                  <a:lnTo>
                    <a:pt x="167467" y="217345"/>
                  </a:lnTo>
                  <a:lnTo>
                    <a:pt x="177685" y="218160"/>
                  </a:lnTo>
                  <a:lnTo>
                    <a:pt x="188730" y="218703"/>
                  </a:lnTo>
                  <a:lnTo>
                    <a:pt x="212291" y="219307"/>
                  </a:lnTo>
                  <a:lnTo>
                    <a:pt x="274320" y="2197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SMARTInkAnnotation46"/>
            <p:cNvSpPr/>
            <p:nvPr/>
          </p:nvSpPr>
          <p:spPr>
            <a:xfrm>
              <a:off x="2931480" y="3946680"/>
              <a:ext cx="267120" cy="28404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267180" h="284299">
                  <a:moveTo>
                    <a:pt x="124779" y="0"/>
                  </a:moveTo>
                  <a:lnTo>
                    <a:pt x="120734" y="0"/>
                  </a:lnTo>
                  <a:lnTo>
                    <a:pt x="118696" y="847"/>
                  </a:lnTo>
                  <a:lnTo>
                    <a:pt x="111782" y="5237"/>
                  </a:lnTo>
                  <a:lnTo>
                    <a:pt x="106867" y="6561"/>
                  </a:lnTo>
                  <a:lnTo>
                    <a:pt x="104371" y="8607"/>
                  </a:lnTo>
                  <a:lnTo>
                    <a:pt x="95120" y="20425"/>
                  </a:lnTo>
                  <a:lnTo>
                    <a:pt x="89766" y="26316"/>
                  </a:lnTo>
                  <a:lnTo>
                    <a:pt x="77044" y="39636"/>
                  </a:lnTo>
                  <a:lnTo>
                    <a:pt x="62924" y="54023"/>
                  </a:lnTo>
                  <a:lnTo>
                    <a:pt x="56449" y="62262"/>
                  </a:lnTo>
                  <a:lnTo>
                    <a:pt x="50439" y="71141"/>
                  </a:lnTo>
                  <a:lnTo>
                    <a:pt x="44739" y="80447"/>
                  </a:lnTo>
                  <a:lnTo>
                    <a:pt x="38399" y="90038"/>
                  </a:lnTo>
                  <a:lnTo>
                    <a:pt x="24581" y="109726"/>
                  </a:lnTo>
                  <a:lnTo>
                    <a:pt x="19034" y="120564"/>
                  </a:lnTo>
                  <a:lnTo>
                    <a:pt x="14489" y="132023"/>
                  </a:lnTo>
                  <a:lnTo>
                    <a:pt x="10612" y="143895"/>
                  </a:lnTo>
                  <a:lnTo>
                    <a:pt x="7181" y="155197"/>
                  </a:lnTo>
                  <a:lnTo>
                    <a:pt x="1111" y="176785"/>
                  </a:lnTo>
                  <a:lnTo>
                    <a:pt x="0" y="187283"/>
                  </a:lnTo>
                  <a:lnTo>
                    <a:pt x="107" y="197669"/>
                  </a:lnTo>
                  <a:lnTo>
                    <a:pt x="1024" y="207979"/>
                  </a:lnTo>
                  <a:lnTo>
                    <a:pt x="3329" y="217393"/>
                  </a:lnTo>
                  <a:lnTo>
                    <a:pt x="6559" y="226209"/>
                  </a:lnTo>
                  <a:lnTo>
                    <a:pt x="10406" y="234626"/>
                  </a:lnTo>
                  <a:lnTo>
                    <a:pt x="15510" y="241930"/>
                  </a:lnTo>
                  <a:lnTo>
                    <a:pt x="21453" y="248494"/>
                  </a:lnTo>
                  <a:lnTo>
                    <a:pt x="27955" y="254563"/>
                  </a:lnTo>
                  <a:lnTo>
                    <a:pt x="36523" y="260302"/>
                  </a:lnTo>
                  <a:lnTo>
                    <a:pt x="46468" y="265821"/>
                  </a:lnTo>
                  <a:lnTo>
                    <a:pt x="57332" y="271194"/>
                  </a:lnTo>
                  <a:lnTo>
                    <a:pt x="68807" y="275623"/>
                  </a:lnTo>
                  <a:lnTo>
                    <a:pt x="80692" y="279422"/>
                  </a:lnTo>
                  <a:lnTo>
                    <a:pt x="92848" y="282801"/>
                  </a:lnTo>
                  <a:lnTo>
                    <a:pt x="104338" y="284207"/>
                  </a:lnTo>
                  <a:lnTo>
                    <a:pt x="115385" y="284298"/>
                  </a:lnTo>
                  <a:lnTo>
                    <a:pt x="126137" y="283512"/>
                  </a:lnTo>
                  <a:lnTo>
                    <a:pt x="137537" y="281295"/>
                  </a:lnTo>
                  <a:lnTo>
                    <a:pt x="149371" y="278124"/>
                  </a:lnTo>
                  <a:lnTo>
                    <a:pt x="161494" y="274316"/>
                  </a:lnTo>
                  <a:lnTo>
                    <a:pt x="173809" y="270083"/>
                  </a:lnTo>
                  <a:lnTo>
                    <a:pt x="198781" y="260866"/>
                  </a:lnTo>
                  <a:lnTo>
                    <a:pt x="208827" y="254344"/>
                  </a:lnTo>
                  <a:lnTo>
                    <a:pt x="217218" y="246610"/>
                  </a:lnTo>
                  <a:lnTo>
                    <a:pt x="224505" y="238066"/>
                  </a:lnTo>
                  <a:lnTo>
                    <a:pt x="231903" y="228138"/>
                  </a:lnTo>
                  <a:lnTo>
                    <a:pt x="239375" y="217285"/>
                  </a:lnTo>
                  <a:lnTo>
                    <a:pt x="246896" y="205817"/>
                  </a:lnTo>
                  <a:lnTo>
                    <a:pt x="252757" y="194784"/>
                  </a:lnTo>
                  <a:lnTo>
                    <a:pt x="257511" y="184043"/>
                  </a:lnTo>
                  <a:lnTo>
                    <a:pt x="261527" y="173495"/>
                  </a:lnTo>
                  <a:lnTo>
                    <a:pt x="264205" y="162230"/>
                  </a:lnTo>
                  <a:lnTo>
                    <a:pt x="265989" y="150487"/>
                  </a:lnTo>
                  <a:lnTo>
                    <a:pt x="267179" y="138425"/>
                  </a:lnTo>
                  <a:lnTo>
                    <a:pt x="266279" y="127843"/>
                  </a:lnTo>
                  <a:lnTo>
                    <a:pt x="263986" y="118249"/>
                  </a:lnTo>
                  <a:lnTo>
                    <a:pt x="260764" y="109313"/>
                  </a:lnTo>
                  <a:lnTo>
                    <a:pt x="256922" y="100815"/>
                  </a:lnTo>
                  <a:lnTo>
                    <a:pt x="252668" y="92610"/>
                  </a:lnTo>
                  <a:lnTo>
                    <a:pt x="248138" y="84600"/>
                  </a:lnTo>
                  <a:lnTo>
                    <a:pt x="241732" y="77566"/>
                  </a:lnTo>
                  <a:lnTo>
                    <a:pt x="234074" y="71185"/>
                  </a:lnTo>
                  <a:lnTo>
                    <a:pt x="225583" y="65237"/>
                  </a:lnTo>
                  <a:lnTo>
                    <a:pt x="217381" y="60424"/>
                  </a:lnTo>
                  <a:lnTo>
                    <a:pt x="209374" y="56370"/>
                  </a:lnTo>
                  <a:lnTo>
                    <a:pt x="201496" y="52819"/>
                  </a:lnTo>
                  <a:lnTo>
                    <a:pt x="192857" y="49607"/>
                  </a:lnTo>
                  <a:lnTo>
                    <a:pt x="183711" y="46618"/>
                  </a:lnTo>
                  <a:lnTo>
                    <a:pt x="174227" y="43779"/>
                  </a:lnTo>
                  <a:lnTo>
                    <a:pt x="165364" y="41886"/>
                  </a:lnTo>
                  <a:lnTo>
                    <a:pt x="156916" y="40624"/>
                  </a:lnTo>
                  <a:lnTo>
                    <a:pt x="148744" y="39783"/>
                  </a:lnTo>
                  <a:lnTo>
                    <a:pt x="139909" y="40068"/>
                  </a:lnTo>
                  <a:lnTo>
                    <a:pt x="130632" y="41105"/>
                  </a:lnTo>
                  <a:lnTo>
                    <a:pt x="121061" y="42644"/>
                  </a:lnTo>
                  <a:lnTo>
                    <a:pt x="113834" y="44516"/>
                  </a:lnTo>
                  <a:lnTo>
                    <a:pt x="108169" y="46611"/>
                  </a:lnTo>
                  <a:lnTo>
                    <a:pt x="94299" y="53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SMARTInkAnnotation47"/>
            <p:cNvSpPr/>
            <p:nvPr/>
          </p:nvSpPr>
          <p:spPr>
            <a:xfrm>
              <a:off x="3345840" y="406872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15240"/>
                  </a:moveTo>
                  <a:lnTo>
                    <a:pt x="0" y="11195"/>
                  </a:lnTo>
                  <a:lnTo>
                    <a:pt x="846" y="10850"/>
                  </a:lnTo>
                  <a:lnTo>
                    <a:pt x="2258" y="11467"/>
                  </a:lnTo>
                  <a:lnTo>
                    <a:pt x="4045" y="12724"/>
                  </a:lnTo>
                  <a:lnTo>
                    <a:pt x="6930" y="12717"/>
                  </a:lnTo>
                  <a:lnTo>
                    <a:pt x="10546" y="11864"/>
                  </a:lnTo>
                  <a:lnTo>
                    <a:pt x="14651" y="10450"/>
                  </a:lnTo>
                  <a:lnTo>
                    <a:pt x="20774" y="9506"/>
                  </a:lnTo>
                  <a:lnTo>
                    <a:pt x="28242" y="8878"/>
                  </a:lnTo>
                  <a:lnTo>
                    <a:pt x="36609" y="8459"/>
                  </a:lnTo>
                  <a:lnTo>
                    <a:pt x="54935" y="7992"/>
                  </a:lnTo>
                  <a:lnTo>
                    <a:pt x="102386" y="7694"/>
                  </a:lnTo>
                  <a:lnTo>
                    <a:pt x="115670" y="6822"/>
                  </a:lnTo>
                  <a:lnTo>
                    <a:pt x="128761" y="5395"/>
                  </a:lnTo>
                  <a:lnTo>
                    <a:pt x="141720" y="3597"/>
                  </a:lnTo>
                  <a:lnTo>
                    <a:pt x="153747" y="2398"/>
                  </a:lnTo>
                  <a:lnTo>
                    <a:pt x="165151" y="1599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SMARTInkAnnotation48"/>
            <p:cNvSpPr/>
            <p:nvPr/>
          </p:nvSpPr>
          <p:spPr>
            <a:xfrm>
              <a:off x="3663720" y="3878280"/>
              <a:ext cx="214920" cy="35784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214979" h="358011">
                  <a:moveTo>
                    <a:pt x="184962" y="37970"/>
                  </a:moveTo>
                  <a:lnTo>
                    <a:pt x="184962" y="33925"/>
                  </a:lnTo>
                  <a:lnTo>
                    <a:pt x="185808" y="31887"/>
                  </a:lnTo>
                  <a:lnTo>
                    <a:pt x="191523" y="24103"/>
                  </a:lnTo>
                  <a:lnTo>
                    <a:pt x="192111" y="21083"/>
                  </a:lnTo>
                  <a:lnTo>
                    <a:pt x="192489" y="12245"/>
                  </a:lnTo>
                  <a:lnTo>
                    <a:pt x="191673" y="9813"/>
                  </a:lnTo>
                  <a:lnTo>
                    <a:pt x="188509" y="4854"/>
                  </a:lnTo>
                  <a:lnTo>
                    <a:pt x="186480" y="3192"/>
                  </a:lnTo>
                  <a:lnTo>
                    <a:pt x="184281" y="2085"/>
                  </a:lnTo>
                  <a:lnTo>
                    <a:pt x="181968" y="1347"/>
                  </a:lnTo>
                  <a:lnTo>
                    <a:pt x="177886" y="855"/>
                  </a:lnTo>
                  <a:lnTo>
                    <a:pt x="172625" y="527"/>
                  </a:lnTo>
                  <a:lnTo>
                    <a:pt x="160005" y="162"/>
                  </a:lnTo>
                  <a:lnTo>
                    <a:pt x="145930" y="0"/>
                  </a:lnTo>
                  <a:lnTo>
                    <a:pt x="137774" y="1650"/>
                  </a:lnTo>
                  <a:lnTo>
                    <a:pt x="128950" y="4443"/>
                  </a:lnTo>
                  <a:lnTo>
                    <a:pt x="119681" y="7999"/>
                  </a:lnTo>
                  <a:lnTo>
                    <a:pt x="110115" y="12063"/>
                  </a:lnTo>
                  <a:lnTo>
                    <a:pt x="90454" y="21093"/>
                  </a:lnTo>
                  <a:lnTo>
                    <a:pt x="81317" y="25872"/>
                  </a:lnTo>
                  <a:lnTo>
                    <a:pt x="72685" y="30751"/>
                  </a:lnTo>
                  <a:lnTo>
                    <a:pt x="64391" y="35698"/>
                  </a:lnTo>
                  <a:lnTo>
                    <a:pt x="55475" y="41535"/>
                  </a:lnTo>
                  <a:lnTo>
                    <a:pt x="46144" y="47967"/>
                  </a:lnTo>
                  <a:lnTo>
                    <a:pt x="36537" y="54794"/>
                  </a:lnTo>
                  <a:lnTo>
                    <a:pt x="28439" y="61040"/>
                  </a:lnTo>
                  <a:lnTo>
                    <a:pt x="21346" y="66897"/>
                  </a:lnTo>
                  <a:lnTo>
                    <a:pt x="14925" y="72495"/>
                  </a:lnTo>
                  <a:lnTo>
                    <a:pt x="9797" y="77920"/>
                  </a:lnTo>
                  <a:lnTo>
                    <a:pt x="5533" y="83230"/>
                  </a:lnTo>
                  <a:lnTo>
                    <a:pt x="1843" y="88463"/>
                  </a:lnTo>
                  <a:lnTo>
                    <a:pt x="229" y="93646"/>
                  </a:lnTo>
                  <a:lnTo>
                    <a:pt x="0" y="98794"/>
                  </a:lnTo>
                  <a:lnTo>
                    <a:pt x="694" y="103919"/>
                  </a:lnTo>
                  <a:lnTo>
                    <a:pt x="2850" y="109030"/>
                  </a:lnTo>
                  <a:lnTo>
                    <a:pt x="5980" y="114130"/>
                  </a:lnTo>
                  <a:lnTo>
                    <a:pt x="9761" y="119223"/>
                  </a:lnTo>
                  <a:lnTo>
                    <a:pt x="13975" y="123465"/>
                  </a:lnTo>
                  <a:lnTo>
                    <a:pt x="18477" y="127140"/>
                  </a:lnTo>
                  <a:lnTo>
                    <a:pt x="23172" y="130437"/>
                  </a:lnTo>
                  <a:lnTo>
                    <a:pt x="28843" y="132635"/>
                  </a:lnTo>
                  <a:lnTo>
                    <a:pt x="35162" y="134100"/>
                  </a:lnTo>
                  <a:lnTo>
                    <a:pt x="41916" y="135077"/>
                  </a:lnTo>
                  <a:lnTo>
                    <a:pt x="49804" y="134881"/>
                  </a:lnTo>
                  <a:lnTo>
                    <a:pt x="58450" y="133904"/>
                  </a:lnTo>
                  <a:lnTo>
                    <a:pt x="67601" y="132406"/>
                  </a:lnTo>
                  <a:lnTo>
                    <a:pt x="77088" y="130561"/>
                  </a:lnTo>
                  <a:lnTo>
                    <a:pt x="96660" y="126253"/>
                  </a:lnTo>
                  <a:lnTo>
                    <a:pt x="106621" y="123072"/>
                  </a:lnTo>
                  <a:lnTo>
                    <a:pt x="116648" y="119258"/>
                  </a:lnTo>
                  <a:lnTo>
                    <a:pt x="126719" y="115022"/>
                  </a:lnTo>
                  <a:lnTo>
                    <a:pt x="136820" y="110505"/>
                  </a:lnTo>
                  <a:lnTo>
                    <a:pt x="157075" y="100970"/>
                  </a:lnTo>
                  <a:lnTo>
                    <a:pt x="165524" y="95210"/>
                  </a:lnTo>
                  <a:lnTo>
                    <a:pt x="172850" y="88830"/>
                  </a:lnTo>
                  <a:lnTo>
                    <a:pt x="204810" y="56248"/>
                  </a:lnTo>
                  <a:lnTo>
                    <a:pt x="214978" y="46055"/>
                  </a:lnTo>
                  <a:lnTo>
                    <a:pt x="204795" y="56237"/>
                  </a:lnTo>
                  <a:lnTo>
                    <a:pt x="201571" y="60308"/>
                  </a:lnTo>
                  <a:lnTo>
                    <a:pt x="197728" y="65562"/>
                  </a:lnTo>
                  <a:lnTo>
                    <a:pt x="193473" y="71605"/>
                  </a:lnTo>
                  <a:lnTo>
                    <a:pt x="189789" y="78173"/>
                  </a:lnTo>
                  <a:lnTo>
                    <a:pt x="186487" y="85092"/>
                  </a:lnTo>
                  <a:lnTo>
                    <a:pt x="183438" y="92245"/>
                  </a:lnTo>
                  <a:lnTo>
                    <a:pt x="175535" y="109223"/>
                  </a:lnTo>
                  <a:lnTo>
                    <a:pt x="171058" y="118492"/>
                  </a:lnTo>
                  <a:lnTo>
                    <a:pt x="167226" y="128058"/>
                  </a:lnTo>
                  <a:lnTo>
                    <a:pt x="163825" y="137822"/>
                  </a:lnTo>
                  <a:lnTo>
                    <a:pt x="160710" y="147718"/>
                  </a:lnTo>
                  <a:lnTo>
                    <a:pt x="158634" y="157703"/>
                  </a:lnTo>
                  <a:lnTo>
                    <a:pt x="157250" y="167745"/>
                  </a:lnTo>
                  <a:lnTo>
                    <a:pt x="156327" y="177827"/>
                  </a:lnTo>
                  <a:lnTo>
                    <a:pt x="154866" y="188781"/>
                  </a:lnTo>
                  <a:lnTo>
                    <a:pt x="153045" y="200318"/>
                  </a:lnTo>
                  <a:lnTo>
                    <a:pt x="150984" y="212242"/>
                  </a:lnTo>
                  <a:lnTo>
                    <a:pt x="149610" y="223578"/>
                  </a:lnTo>
                  <a:lnTo>
                    <a:pt x="148694" y="234522"/>
                  </a:lnTo>
                  <a:lnTo>
                    <a:pt x="148083" y="245205"/>
                  </a:lnTo>
                  <a:lnTo>
                    <a:pt x="148523" y="255713"/>
                  </a:lnTo>
                  <a:lnTo>
                    <a:pt x="149663" y="266106"/>
                  </a:lnTo>
                  <a:lnTo>
                    <a:pt x="151269" y="276420"/>
                  </a:lnTo>
                  <a:lnTo>
                    <a:pt x="152340" y="285837"/>
                  </a:lnTo>
                  <a:lnTo>
                    <a:pt x="153054" y="294655"/>
                  </a:lnTo>
                  <a:lnTo>
                    <a:pt x="153847" y="310379"/>
                  </a:lnTo>
                  <a:lnTo>
                    <a:pt x="154201" y="323012"/>
                  </a:lnTo>
                  <a:lnTo>
                    <a:pt x="155141" y="328752"/>
                  </a:lnTo>
                  <a:lnTo>
                    <a:pt x="159663" y="344073"/>
                  </a:lnTo>
                  <a:lnTo>
                    <a:pt x="161018" y="351251"/>
                  </a:lnTo>
                  <a:lnTo>
                    <a:pt x="162227" y="353505"/>
                  </a:lnTo>
                  <a:lnTo>
                    <a:pt x="163878" y="355006"/>
                  </a:lnTo>
                  <a:lnTo>
                    <a:pt x="169722" y="3580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SMARTInkAnnotation49"/>
            <p:cNvSpPr/>
            <p:nvPr/>
          </p:nvSpPr>
          <p:spPr>
            <a:xfrm>
              <a:off x="4001040" y="4015440"/>
              <a:ext cx="220680" cy="22860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20981" h="228601">
                  <a:moveTo>
                    <a:pt x="220980" y="0"/>
                  </a:moveTo>
                  <a:lnTo>
                    <a:pt x="214419" y="0"/>
                  </a:lnTo>
                  <a:lnTo>
                    <a:pt x="209629" y="4045"/>
                  </a:lnTo>
                  <a:lnTo>
                    <a:pt x="202848" y="10606"/>
                  </a:lnTo>
                  <a:lnTo>
                    <a:pt x="197963" y="17696"/>
                  </a:lnTo>
                  <a:lnTo>
                    <a:pt x="195475" y="21957"/>
                  </a:lnTo>
                  <a:lnTo>
                    <a:pt x="188196" y="33466"/>
                  </a:lnTo>
                  <a:lnTo>
                    <a:pt x="183884" y="40091"/>
                  </a:lnTo>
                  <a:lnTo>
                    <a:pt x="179316" y="46200"/>
                  </a:lnTo>
                  <a:lnTo>
                    <a:pt x="174578" y="51967"/>
                  </a:lnTo>
                  <a:lnTo>
                    <a:pt x="169725" y="57505"/>
                  </a:lnTo>
                  <a:lnTo>
                    <a:pt x="163950" y="64583"/>
                  </a:lnTo>
                  <a:lnTo>
                    <a:pt x="150760" y="81479"/>
                  </a:lnTo>
                  <a:lnTo>
                    <a:pt x="143687" y="89880"/>
                  </a:lnTo>
                  <a:lnTo>
                    <a:pt x="136432" y="98020"/>
                  </a:lnTo>
                  <a:lnTo>
                    <a:pt x="121597" y="113838"/>
                  </a:lnTo>
                  <a:lnTo>
                    <a:pt x="106537" y="129335"/>
                  </a:lnTo>
                  <a:lnTo>
                    <a:pt x="98118" y="137023"/>
                  </a:lnTo>
                  <a:lnTo>
                    <a:pt x="89118" y="144689"/>
                  </a:lnTo>
                  <a:lnTo>
                    <a:pt x="79732" y="152339"/>
                  </a:lnTo>
                  <a:lnTo>
                    <a:pt x="70935" y="159980"/>
                  </a:lnTo>
                  <a:lnTo>
                    <a:pt x="62530" y="167613"/>
                  </a:lnTo>
                  <a:lnTo>
                    <a:pt x="46418" y="182868"/>
                  </a:lnTo>
                  <a:lnTo>
                    <a:pt x="0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SMARTInkAnnotation50"/>
            <p:cNvSpPr/>
            <p:nvPr/>
          </p:nvSpPr>
          <p:spPr>
            <a:xfrm>
              <a:off x="4062240" y="4023000"/>
              <a:ext cx="198000" cy="1749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98121" h="175261">
                  <a:moveTo>
                    <a:pt x="0" y="0"/>
                  </a:moveTo>
                  <a:lnTo>
                    <a:pt x="4045" y="0"/>
                  </a:lnTo>
                  <a:lnTo>
                    <a:pt x="5237" y="847"/>
                  </a:lnTo>
                  <a:lnTo>
                    <a:pt x="6031" y="2258"/>
                  </a:lnTo>
                  <a:lnTo>
                    <a:pt x="6561" y="4045"/>
                  </a:lnTo>
                  <a:lnTo>
                    <a:pt x="8607" y="6930"/>
                  </a:lnTo>
                  <a:lnTo>
                    <a:pt x="11665" y="10546"/>
                  </a:lnTo>
                  <a:lnTo>
                    <a:pt x="18731" y="18234"/>
                  </a:lnTo>
                  <a:lnTo>
                    <a:pt x="24694" y="24473"/>
                  </a:lnTo>
                  <a:lnTo>
                    <a:pt x="36856" y="36791"/>
                  </a:lnTo>
                  <a:lnTo>
                    <a:pt x="40657" y="42307"/>
                  </a:lnTo>
                  <a:lnTo>
                    <a:pt x="44038" y="48525"/>
                  </a:lnTo>
                  <a:lnTo>
                    <a:pt x="47139" y="55210"/>
                  </a:lnTo>
                  <a:lnTo>
                    <a:pt x="51746" y="62207"/>
                  </a:lnTo>
                  <a:lnTo>
                    <a:pt x="57357" y="69411"/>
                  </a:lnTo>
                  <a:lnTo>
                    <a:pt x="63638" y="76754"/>
                  </a:lnTo>
                  <a:lnTo>
                    <a:pt x="70366" y="84189"/>
                  </a:lnTo>
                  <a:lnTo>
                    <a:pt x="84613" y="99224"/>
                  </a:lnTo>
                  <a:lnTo>
                    <a:pt x="92815" y="106790"/>
                  </a:lnTo>
                  <a:lnTo>
                    <a:pt x="101670" y="114373"/>
                  </a:lnTo>
                  <a:lnTo>
                    <a:pt x="110960" y="121969"/>
                  </a:lnTo>
                  <a:lnTo>
                    <a:pt x="121387" y="128726"/>
                  </a:lnTo>
                  <a:lnTo>
                    <a:pt x="132571" y="134924"/>
                  </a:lnTo>
                  <a:lnTo>
                    <a:pt x="144261" y="140749"/>
                  </a:lnTo>
                  <a:lnTo>
                    <a:pt x="153747" y="146326"/>
                  </a:lnTo>
                  <a:lnTo>
                    <a:pt x="161765" y="151737"/>
                  </a:lnTo>
                  <a:lnTo>
                    <a:pt x="168803" y="157038"/>
                  </a:lnTo>
                  <a:lnTo>
                    <a:pt x="175188" y="161419"/>
                  </a:lnTo>
                  <a:lnTo>
                    <a:pt x="181139" y="165187"/>
                  </a:lnTo>
                  <a:lnTo>
                    <a:pt x="198120" y="1752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SMARTInkAnnotation51"/>
            <p:cNvSpPr/>
            <p:nvPr/>
          </p:nvSpPr>
          <p:spPr>
            <a:xfrm>
              <a:off x="2324520" y="4503240"/>
              <a:ext cx="121680" cy="3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1921" h="1">
                  <a:moveTo>
                    <a:pt x="0" y="0"/>
                  </a:moveTo>
                  <a:lnTo>
                    <a:pt x="1219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SMARTInkAnnotation52"/>
            <p:cNvSpPr/>
            <p:nvPr/>
          </p:nvSpPr>
          <p:spPr>
            <a:xfrm>
              <a:off x="2614320" y="4366080"/>
              <a:ext cx="281880" cy="2055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81941" h="205617">
                  <a:moveTo>
                    <a:pt x="0" y="30356"/>
                  </a:moveTo>
                  <a:lnTo>
                    <a:pt x="4045" y="26311"/>
                  </a:lnTo>
                  <a:lnTo>
                    <a:pt x="10547" y="22067"/>
                  </a:lnTo>
                  <a:lnTo>
                    <a:pt x="14651" y="19750"/>
                  </a:lnTo>
                  <a:lnTo>
                    <a:pt x="19081" y="18206"/>
                  </a:lnTo>
                  <a:lnTo>
                    <a:pt x="23727" y="17176"/>
                  </a:lnTo>
                  <a:lnTo>
                    <a:pt x="28518" y="16489"/>
                  </a:lnTo>
                  <a:lnTo>
                    <a:pt x="35099" y="15185"/>
                  </a:lnTo>
                  <a:lnTo>
                    <a:pt x="83728" y="4631"/>
                  </a:lnTo>
                  <a:lnTo>
                    <a:pt x="94765" y="3046"/>
                  </a:lnTo>
                  <a:lnTo>
                    <a:pt x="105510" y="1989"/>
                  </a:lnTo>
                  <a:lnTo>
                    <a:pt x="116060" y="1285"/>
                  </a:lnTo>
                  <a:lnTo>
                    <a:pt x="126480" y="815"/>
                  </a:lnTo>
                  <a:lnTo>
                    <a:pt x="147089" y="293"/>
                  </a:lnTo>
                  <a:lnTo>
                    <a:pt x="177731" y="0"/>
                  </a:lnTo>
                  <a:lnTo>
                    <a:pt x="187915" y="805"/>
                  </a:lnTo>
                  <a:lnTo>
                    <a:pt x="198089" y="2188"/>
                  </a:lnTo>
                  <a:lnTo>
                    <a:pt x="208260" y="3958"/>
                  </a:lnTo>
                  <a:lnTo>
                    <a:pt x="215886" y="5984"/>
                  </a:lnTo>
                  <a:lnTo>
                    <a:pt x="221818" y="8181"/>
                  </a:lnTo>
                  <a:lnTo>
                    <a:pt x="226619" y="10493"/>
                  </a:lnTo>
                  <a:lnTo>
                    <a:pt x="234211" y="15319"/>
                  </a:lnTo>
                  <a:lnTo>
                    <a:pt x="237420" y="17791"/>
                  </a:lnTo>
                  <a:lnTo>
                    <a:pt x="239560" y="20287"/>
                  </a:lnTo>
                  <a:lnTo>
                    <a:pt x="240987" y="22796"/>
                  </a:lnTo>
                  <a:lnTo>
                    <a:pt x="241938" y="25316"/>
                  </a:lnTo>
                  <a:lnTo>
                    <a:pt x="240879" y="27843"/>
                  </a:lnTo>
                  <a:lnTo>
                    <a:pt x="238479" y="30374"/>
                  </a:lnTo>
                  <a:lnTo>
                    <a:pt x="231297" y="36291"/>
                  </a:lnTo>
                  <a:lnTo>
                    <a:pt x="227012" y="40239"/>
                  </a:lnTo>
                  <a:lnTo>
                    <a:pt x="222461" y="44565"/>
                  </a:lnTo>
                  <a:lnTo>
                    <a:pt x="216041" y="49142"/>
                  </a:lnTo>
                  <a:lnTo>
                    <a:pt x="208374" y="53887"/>
                  </a:lnTo>
                  <a:lnTo>
                    <a:pt x="199876" y="58743"/>
                  </a:lnTo>
                  <a:lnTo>
                    <a:pt x="191671" y="63674"/>
                  </a:lnTo>
                  <a:lnTo>
                    <a:pt x="175780" y="73669"/>
                  </a:lnTo>
                  <a:lnTo>
                    <a:pt x="167140" y="79551"/>
                  </a:lnTo>
                  <a:lnTo>
                    <a:pt x="123025" y="110588"/>
                  </a:lnTo>
                  <a:lnTo>
                    <a:pt x="115883" y="116864"/>
                  </a:lnTo>
                  <a:lnTo>
                    <a:pt x="109429" y="123588"/>
                  </a:lnTo>
                  <a:lnTo>
                    <a:pt x="103433" y="130611"/>
                  </a:lnTo>
                  <a:lnTo>
                    <a:pt x="98588" y="136986"/>
                  </a:lnTo>
                  <a:lnTo>
                    <a:pt x="94512" y="142929"/>
                  </a:lnTo>
                  <a:lnTo>
                    <a:pt x="90948" y="148585"/>
                  </a:lnTo>
                  <a:lnTo>
                    <a:pt x="88572" y="154049"/>
                  </a:lnTo>
                  <a:lnTo>
                    <a:pt x="86988" y="159384"/>
                  </a:lnTo>
                  <a:lnTo>
                    <a:pt x="85932" y="164635"/>
                  </a:lnTo>
                  <a:lnTo>
                    <a:pt x="86921" y="168982"/>
                  </a:lnTo>
                  <a:lnTo>
                    <a:pt x="89274" y="172727"/>
                  </a:lnTo>
                  <a:lnTo>
                    <a:pt x="92536" y="176070"/>
                  </a:lnTo>
                  <a:lnTo>
                    <a:pt x="97251" y="179146"/>
                  </a:lnTo>
                  <a:lnTo>
                    <a:pt x="102934" y="182042"/>
                  </a:lnTo>
                  <a:lnTo>
                    <a:pt x="109263" y="184820"/>
                  </a:lnTo>
                  <a:lnTo>
                    <a:pt x="125326" y="192423"/>
                  </a:lnTo>
                  <a:lnTo>
                    <a:pt x="134350" y="196820"/>
                  </a:lnTo>
                  <a:lnTo>
                    <a:pt x="144600" y="199752"/>
                  </a:lnTo>
                  <a:lnTo>
                    <a:pt x="155667" y="201707"/>
                  </a:lnTo>
                  <a:lnTo>
                    <a:pt x="167278" y="203010"/>
                  </a:lnTo>
                  <a:lnTo>
                    <a:pt x="180099" y="203879"/>
                  </a:lnTo>
                  <a:lnTo>
                    <a:pt x="193726" y="204458"/>
                  </a:lnTo>
                  <a:lnTo>
                    <a:pt x="230403" y="205273"/>
                  </a:lnTo>
                  <a:lnTo>
                    <a:pt x="281940" y="2056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SMARTInkAnnotation53"/>
            <p:cNvSpPr/>
            <p:nvPr/>
          </p:nvSpPr>
          <p:spPr>
            <a:xfrm>
              <a:off x="3087720" y="4359960"/>
              <a:ext cx="232560" cy="2559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232640" h="256001">
                  <a:moveTo>
                    <a:pt x="6561" y="90008"/>
                  </a:moveTo>
                  <a:lnTo>
                    <a:pt x="6561" y="108141"/>
                  </a:lnTo>
                  <a:lnTo>
                    <a:pt x="4304" y="115283"/>
                  </a:lnTo>
                  <a:lnTo>
                    <a:pt x="2516" y="119558"/>
                  </a:lnTo>
                  <a:lnTo>
                    <a:pt x="1324" y="124948"/>
                  </a:lnTo>
                  <a:lnTo>
                    <a:pt x="530" y="131082"/>
                  </a:lnTo>
                  <a:lnTo>
                    <a:pt x="0" y="137710"/>
                  </a:lnTo>
                  <a:lnTo>
                    <a:pt x="494" y="143823"/>
                  </a:lnTo>
                  <a:lnTo>
                    <a:pt x="1670" y="149591"/>
                  </a:lnTo>
                  <a:lnTo>
                    <a:pt x="3300" y="155130"/>
                  </a:lnTo>
                  <a:lnTo>
                    <a:pt x="4387" y="161363"/>
                  </a:lnTo>
                  <a:lnTo>
                    <a:pt x="5112" y="168059"/>
                  </a:lnTo>
                  <a:lnTo>
                    <a:pt x="5595" y="175062"/>
                  </a:lnTo>
                  <a:lnTo>
                    <a:pt x="7610" y="182271"/>
                  </a:lnTo>
                  <a:lnTo>
                    <a:pt x="10647" y="189617"/>
                  </a:lnTo>
                  <a:lnTo>
                    <a:pt x="14365" y="197054"/>
                  </a:lnTo>
                  <a:lnTo>
                    <a:pt x="18537" y="203705"/>
                  </a:lnTo>
                  <a:lnTo>
                    <a:pt x="23012" y="209833"/>
                  </a:lnTo>
                  <a:lnTo>
                    <a:pt x="27688" y="215611"/>
                  </a:lnTo>
                  <a:lnTo>
                    <a:pt x="34193" y="221157"/>
                  </a:lnTo>
                  <a:lnTo>
                    <a:pt x="41916" y="226547"/>
                  </a:lnTo>
                  <a:lnTo>
                    <a:pt x="50451" y="231834"/>
                  </a:lnTo>
                  <a:lnTo>
                    <a:pt x="57834" y="236206"/>
                  </a:lnTo>
                  <a:lnTo>
                    <a:pt x="64450" y="239966"/>
                  </a:lnTo>
                  <a:lnTo>
                    <a:pt x="70554" y="243320"/>
                  </a:lnTo>
                  <a:lnTo>
                    <a:pt x="78856" y="246403"/>
                  </a:lnTo>
                  <a:lnTo>
                    <a:pt x="88625" y="249305"/>
                  </a:lnTo>
                  <a:lnTo>
                    <a:pt x="99370" y="252086"/>
                  </a:lnTo>
                  <a:lnTo>
                    <a:pt x="109074" y="253940"/>
                  </a:lnTo>
                  <a:lnTo>
                    <a:pt x="118083" y="255176"/>
                  </a:lnTo>
                  <a:lnTo>
                    <a:pt x="126629" y="256000"/>
                  </a:lnTo>
                  <a:lnTo>
                    <a:pt x="135713" y="254856"/>
                  </a:lnTo>
                  <a:lnTo>
                    <a:pt x="145156" y="252400"/>
                  </a:lnTo>
                  <a:lnTo>
                    <a:pt x="154838" y="249069"/>
                  </a:lnTo>
                  <a:lnTo>
                    <a:pt x="164679" y="244309"/>
                  </a:lnTo>
                  <a:lnTo>
                    <a:pt x="174626" y="238595"/>
                  </a:lnTo>
                  <a:lnTo>
                    <a:pt x="184645" y="232247"/>
                  </a:lnTo>
                  <a:lnTo>
                    <a:pt x="193864" y="225474"/>
                  </a:lnTo>
                  <a:lnTo>
                    <a:pt x="202549" y="218418"/>
                  </a:lnTo>
                  <a:lnTo>
                    <a:pt x="210880" y="211175"/>
                  </a:lnTo>
                  <a:lnTo>
                    <a:pt x="217281" y="202959"/>
                  </a:lnTo>
                  <a:lnTo>
                    <a:pt x="222394" y="194096"/>
                  </a:lnTo>
                  <a:lnTo>
                    <a:pt x="226650" y="184800"/>
                  </a:lnTo>
                  <a:lnTo>
                    <a:pt x="229487" y="174369"/>
                  </a:lnTo>
                  <a:lnTo>
                    <a:pt x="231378" y="163182"/>
                  </a:lnTo>
                  <a:lnTo>
                    <a:pt x="232639" y="151491"/>
                  </a:lnTo>
                  <a:lnTo>
                    <a:pt x="232633" y="140310"/>
                  </a:lnTo>
                  <a:lnTo>
                    <a:pt x="231782" y="129469"/>
                  </a:lnTo>
                  <a:lnTo>
                    <a:pt x="230368" y="118856"/>
                  </a:lnTo>
                  <a:lnTo>
                    <a:pt x="226886" y="108393"/>
                  </a:lnTo>
                  <a:lnTo>
                    <a:pt x="222025" y="98032"/>
                  </a:lnTo>
                  <a:lnTo>
                    <a:pt x="216244" y="87737"/>
                  </a:lnTo>
                  <a:lnTo>
                    <a:pt x="209003" y="78334"/>
                  </a:lnTo>
                  <a:lnTo>
                    <a:pt x="200789" y="69526"/>
                  </a:lnTo>
                  <a:lnTo>
                    <a:pt x="191927" y="61113"/>
                  </a:lnTo>
                  <a:lnTo>
                    <a:pt x="182632" y="53811"/>
                  </a:lnTo>
                  <a:lnTo>
                    <a:pt x="173048" y="47250"/>
                  </a:lnTo>
                  <a:lnTo>
                    <a:pt x="163272" y="41183"/>
                  </a:lnTo>
                  <a:lnTo>
                    <a:pt x="153369" y="34598"/>
                  </a:lnTo>
                  <a:lnTo>
                    <a:pt x="133334" y="20508"/>
                  </a:lnTo>
                  <a:lnTo>
                    <a:pt x="124096" y="15735"/>
                  </a:lnTo>
                  <a:lnTo>
                    <a:pt x="115397" y="12553"/>
                  </a:lnTo>
                  <a:lnTo>
                    <a:pt x="107059" y="10431"/>
                  </a:lnTo>
                  <a:lnTo>
                    <a:pt x="99806" y="8171"/>
                  </a:lnTo>
                  <a:lnTo>
                    <a:pt x="93278" y="5816"/>
                  </a:lnTo>
                  <a:lnTo>
                    <a:pt x="87233" y="3400"/>
                  </a:lnTo>
                  <a:lnTo>
                    <a:pt x="80662" y="1790"/>
                  </a:lnTo>
                  <a:lnTo>
                    <a:pt x="73742" y="716"/>
                  </a:lnTo>
                  <a:lnTo>
                    <a:pt x="66588" y="0"/>
                  </a:lnTo>
                  <a:lnTo>
                    <a:pt x="60973" y="370"/>
                  </a:lnTo>
                  <a:lnTo>
                    <a:pt x="56382" y="1463"/>
                  </a:lnTo>
                  <a:lnTo>
                    <a:pt x="52475" y="3038"/>
                  </a:lnTo>
                  <a:lnTo>
                    <a:pt x="49871" y="4934"/>
                  </a:lnTo>
                  <a:lnTo>
                    <a:pt x="48135" y="7046"/>
                  </a:lnTo>
                  <a:lnTo>
                    <a:pt x="45358" y="11650"/>
                  </a:lnTo>
                  <a:lnTo>
                    <a:pt x="43432" y="14063"/>
                  </a:lnTo>
                  <a:lnTo>
                    <a:pt x="37041" y="214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SMARTInkAnnotation54"/>
            <p:cNvSpPr/>
            <p:nvPr/>
          </p:nvSpPr>
          <p:spPr>
            <a:xfrm>
              <a:off x="1257840" y="451080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1">
                  <a:moveTo>
                    <a:pt x="0" y="7620"/>
                  </a:moveTo>
                  <a:lnTo>
                    <a:pt x="65595" y="7620"/>
                  </a:lnTo>
                  <a:lnTo>
                    <a:pt x="74210" y="6774"/>
                  </a:lnTo>
                  <a:lnTo>
                    <a:pt x="82493" y="5363"/>
                  </a:lnTo>
                  <a:lnTo>
                    <a:pt x="90556" y="3575"/>
                  </a:lnTo>
                  <a:lnTo>
                    <a:pt x="99317" y="2383"/>
                  </a:lnTo>
                  <a:lnTo>
                    <a:pt x="108545" y="1589"/>
                  </a:lnTo>
                  <a:lnTo>
                    <a:pt x="118083" y="1059"/>
                  </a:lnTo>
                  <a:lnTo>
                    <a:pt x="135455" y="471"/>
                  </a:lnTo>
                  <a:lnTo>
                    <a:pt x="173342" y="62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SMARTInkAnnotation55"/>
            <p:cNvSpPr/>
            <p:nvPr/>
          </p:nvSpPr>
          <p:spPr>
            <a:xfrm>
              <a:off x="1455840" y="4404600"/>
              <a:ext cx="297000" cy="2188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97181" h="219082">
                  <a:moveTo>
                    <a:pt x="0" y="60605"/>
                  </a:moveTo>
                  <a:lnTo>
                    <a:pt x="4045" y="56560"/>
                  </a:lnTo>
                  <a:lnTo>
                    <a:pt x="10547" y="52316"/>
                  </a:lnTo>
                  <a:lnTo>
                    <a:pt x="18234" y="48455"/>
                  </a:lnTo>
                  <a:lnTo>
                    <a:pt x="24473" y="46738"/>
                  </a:lnTo>
                  <a:lnTo>
                    <a:pt x="32326" y="43718"/>
                  </a:lnTo>
                  <a:lnTo>
                    <a:pt x="36791" y="41727"/>
                  </a:lnTo>
                  <a:lnTo>
                    <a:pt x="42307" y="38706"/>
                  </a:lnTo>
                  <a:lnTo>
                    <a:pt x="48525" y="34999"/>
                  </a:lnTo>
                  <a:lnTo>
                    <a:pt x="55210" y="30834"/>
                  </a:lnTo>
                  <a:lnTo>
                    <a:pt x="63053" y="27211"/>
                  </a:lnTo>
                  <a:lnTo>
                    <a:pt x="71669" y="23949"/>
                  </a:lnTo>
                  <a:lnTo>
                    <a:pt x="80799" y="20928"/>
                  </a:lnTo>
                  <a:lnTo>
                    <a:pt x="91120" y="18067"/>
                  </a:lnTo>
                  <a:lnTo>
                    <a:pt x="102233" y="15313"/>
                  </a:lnTo>
                  <a:lnTo>
                    <a:pt x="113876" y="12630"/>
                  </a:lnTo>
                  <a:lnTo>
                    <a:pt x="125024" y="10842"/>
                  </a:lnTo>
                  <a:lnTo>
                    <a:pt x="135842" y="9650"/>
                  </a:lnTo>
                  <a:lnTo>
                    <a:pt x="146442" y="8855"/>
                  </a:lnTo>
                  <a:lnTo>
                    <a:pt x="157741" y="7478"/>
                  </a:lnTo>
                  <a:lnTo>
                    <a:pt x="169507" y="5714"/>
                  </a:lnTo>
                  <a:lnTo>
                    <a:pt x="181585" y="3691"/>
                  </a:lnTo>
                  <a:lnTo>
                    <a:pt x="193023" y="2342"/>
                  </a:lnTo>
                  <a:lnTo>
                    <a:pt x="204035" y="1444"/>
                  </a:lnTo>
                  <a:lnTo>
                    <a:pt x="223609" y="444"/>
                  </a:lnTo>
                  <a:lnTo>
                    <a:pt x="237953" y="0"/>
                  </a:lnTo>
                  <a:lnTo>
                    <a:pt x="244149" y="728"/>
                  </a:lnTo>
                  <a:lnTo>
                    <a:pt x="249973" y="2061"/>
                  </a:lnTo>
                  <a:lnTo>
                    <a:pt x="255548" y="3795"/>
                  </a:lnTo>
                  <a:lnTo>
                    <a:pt x="260959" y="5799"/>
                  </a:lnTo>
                  <a:lnTo>
                    <a:pt x="266259" y="7981"/>
                  </a:lnTo>
                  <a:lnTo>
                    <a:pt x="271486" y="10282"/>
                  </a:lnTo>
                  <a:lnTo>
                    <a:pt x="274971" y="12663"/>
                  </a:lnTo>
                  <a:lnTo>
                    <a:pt x="277294" y="15097"/>
                  </a:lnTo>
                  <a:lnTo>
                    <a:pt x="278843" y="17566"/>
                  </a:lnTo>
                  <a:lnTo>
                    <a:pt x="278182" y="20059"/>
                  </a:lnTo>
                  <a:lnTo>
                    <a:pt x="276048" y="22568"/>
                  </a:lnTo>
                  <a:lnTo>
                    <a:pt x="269161" y="28459"/>
                  </a:lnTo>
                  <a:lnTo>
                    <a:pt x="260456" y="36722"/>
                  </a:lnTo>
                  <a:lnTo>
                    <a:pt x="254071" y="42143"/>
                  </a:lnTo>
                  <a:lnTo>
                    <a:pt x="237945" y="54940"/>
                  </a:lnTo>
                  <a:lnTo>
                    <a:pt x="229750" y="61062"/>
                  </a:lnTo>
                  <a:lnTo>
                    <a:pt x="213871" y="72379"/>
                  </a:lnTo>
                  <a:lnTo>
                    <a:pt x="205234" y="77768"/>
                  </a:lnTo>
                  <a:lnTo>
                    <a:pt x="196089" y="83053"/>
                  </a:lnTo>
                  <a:lnTo>
                    <a:pt x="186606" y="88270"/>
                  </a:lnTo>
                  <a:lnTo>
                    <a:pt x="177744" y="94289"/>
                  </a:lnTo>
                  <a:lnTo>
                    <a:pt x="169296" y="100841"/>
                  </a:lnTo>
                  <a:lnTo>
                    <a:pt x="161124" y="107749"/>
                  </a:lnTo>
                  <a:lnTo>
                    <a:pt x="153983" y="114048"/>
                  </a:lnTo>
                  <a:lnTo>
                    <a:pt x="141532" y="125562"/>
                  </a:lnTo>
                  <a:lnTo>
                    <a:pt x="136688" y="131003"/>
                  </a:lnTo>
                  <a:lnTo>
                    <a:pt x="132612" y="136323"/>
                  </a:lnTo>
                  <a:lnTo>
                    <a:pt x="129048" y="141564"/>
                  </a:lnTo>
                  <a:lnTo>
                    <a:pt x="127519" y="146751"/>
                  </a:lnTo>
                  <a:lnTo>
                    <a:pt x="127346" y="151902"/>
                  </a:lnTo>
                  <a:lnTo>
                    <a:pt x="128077" y="157030"/>
                  </a:lnTo>
                  <a:lnTo>
                    <a:pt x="130258" y="162142"/>
                  </a:lnTo>
                  <a:lnTo>
                    <a:pt x="133405" y="167243"/>
                  </a:lnTo>
                  <a:lnTo>
                    <a:pt x="137197" y="172337"/>
                  </a:lnTo>
                  <a:lnTo>
                    <a:pt x="142265" y="177426"/>
                  </a:lnTo>
                  <a:lnTo>
                    <a:pt x="148183" y="182513"/>
                  </a:lnTo>
                  <a:lnTo>
                    <a:pt x="154669" y="187597"/>
                  </a:lnTo>
                  <a:lnTo>
                    <a:pt x="162379" y="191833"/>
                  </a:lnTo>
                  <a:lnTo>
                    <a:pt x="170906" y="195504"/>
                  </a:lnTo>
                  <a:lnTo>
                    <a:pt x="179978" y="198798"/>
                  </a:lnTo>
                  <a:lnTo>
                    <a:pt x="189412" y="201840"/>
                  </a:lnTo>
                  <a:lnTo>
                    <a:pt x="199088" y="204715"/>
                  </a:lnTo>
                  <a:lnTo>
                    <a:pt x="218870" y="210167"/>
                  </a:lnTo>
                  <a:lnTo>
                    <a:pt x="238951" y="215413"/>
                  </a:lnTo>
                  <a:lnTo>
                    <a:pt x="248201" y="217151"/>
                  </a:lnTo>
                  <a:lnTo>
                    <a:pt x="256907" y="218309"/>
                  </a:lnTo>
                  <a:lnTo>
                    <a:pt x="265252" y="219081"/>
                  </a:lnTo>
                  <a:lnTo>
                    <a:pt x="272507" y="218749"/>
                  </a:lnTo>
                  <a:lnTo>
                    <a:pt x="279039" y="217681"/>
                  </a:lnTo>
                  <a:lnTo>
                    <a:pt x="297180" y="21300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SMARTInkAnnotation56"/>
            <p:cNvSpPr/>
            <p:nvPr/>
          </p:nvSpPr>
          <p:spPr>
            <a:xfrm>
              <a:off x="1810080" y="4419360"/>
              <a:ext cx="272880" cy="2509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272985" h="250868">
                  <a:moveTo>
                    <a:pt x="141298" y="0"/>
                  </a:moveTo>
                  <a:lnTo>
                    <a:pt x="148825" y="0"/>
                  </a:lnTo>
                  <a:lnTo>
                    <a:pt x="142816" y="6083"/>
                  </a:lnTo>
                  <a:lnTo>
                    <a:pt x="122913" y="26003"/>
                  </a:lnTo>
                  <a:lnTo>
                    <a:pt x="116342" y="31728"/>
                  </a:lnTo>
                  <a:lnTo>
                    <a:pt x="109420" y="37239"/>
                  </a:lnTo>
                  <a:lnTo>
                    <a:pt x="76017" y="62295"/>
                  </a:lnTo>
                  <a:lnTo>
                    <a:pt x="67297" y="70317"/>
                  </a:lnTo>
                  <a:lnTo>
                    <a:pt x="58944" y="79051"/>
                  </a:lnTo>
                  <a:lnTo>
                    <a:pt x="50836" y="88261"/>
                  </a:lnTo>
                  <a:lnTo>
                    <a:pt x="35052" y="105267"/>
                  </a:lnTo>
                  <a:lnTo>
                    <a:pt x="27288" y="113358"/>
                  </a:lnTo>
                  <a:lnTo>
                    <a:pt x="20418" y="122139"/>
                  </a:lnTo>
                  <a:lnTo>
                    <a:pt x="14144" y="131380"/>
                  </a:lnTo>
                  <a:lnTo>
                    <a:pt x="8269" y="140926"/>
                  </a:lnTo>
                  <a:lnTo>
                    <a:pt x="4352" y="150678"/>
                  </a:lnTo>
                  <a:lnTo>
                    <a:pt x="1741" y="160565"/>
                  </a:lnTo>
                  <a:lnTo>
                    <a:pt x="0" y="170543"/>
                  </a:lnTo>
                  <a:lnTo>
                    <a:pt x="533" y="179736"/>
                  </a:lnTo>
                  <a:lnTo>
                    <a:pt x="2581" y="188404"/>
                  </a:lnTo>
                  <a:lnTo>
                    <a:pt x="5640" y="196723"/>
                  </a:lnTo>
                  <a:lnTo>
                    <a:pt x="10220" y="203962"/>
                  </a:lnTo>
                  <a:lnTo>
                    <a:pt x="15813" y="210481"/>
                  </a:lnTo>
                  <a:lnTo>
                    <a:pt x="22081" y="216521"/>
                  </a:lnTo>
                  <a:lnTo>
                    <a:pt x="30494" y="222241"/>
                  </a:lnTo>
                  <a:lnTo>
                    <a:pt x="40335" y="227747"/>
                  </a:lnTo>
                  <a:lnTo>
                    <a:pt x="51130" y="233111"/>
                  </a:lnTo>
                  <a:lnTo>
                    <a:pt x="62559" y="237534"/>
                  </a:lnTo>
                  <a:lnTo>
                    <a:pt x="74412" y="241329"/>
                  </a:lnTo>
                  <a:lnTo>
                    <a:pt x="86548" y="244707"/>
                  </a:lnTo>
                  <a:lnTo>
                    <a:pt x="99718" y="246958"/>
                  </a:lnTo>
                  <a:lnTo>
                    <a:pt x="113578" y="248458"/>
                  </a:lnTo>
                  <a:lnTo>
                    <a:pt x="127898" y="249459"/>
                  </a:lnTo>
                  <a:lnTo>
                    <a:pt x="142525" y="250126"/>
                  </a:lnTo>
                  <a:lnTo>
                    <a:pt x="172323" y="250867"/>
                  </a:lnTo>
                  <a:lnTo>
                    <a:pt x="185688" y="249372"/>
                  </a:lnTo>
                  <a:lnTo>
                    <a:pt x="197985" y="246681"/>
                  </a:lnTo>
                  <a:lnTo>
                    <a:pt x="209569" y="243194"/>
                  </a:lnTo>
                  <a:lnTo>
                    <a:pt x="219832" y="238330"/>
                  </a:lnTo>
                  <a:lnTo>
                    <a:pt x="229214" y="232546"/>
                  </a:lnTo>
                  <a:lnTo>
                    <a:pt x="238009" y="226151"/>
                  </a:lnTo>
                  <a:lnTo>
                    <a:pt x="245565" y="219347"/>
                  </a:lnTo>
                  <a:lnTo>
                    <a:pt x="252296" y="212272"/>
                  </a:lnTo>
                  <a:lnTo>
                    <a:pt x="258477" y="205015"/>
                  </a:lnTo>
                  <a:lnTo>
                    <a:pt x="263444" y="197637"/>
                  </a:lnTo>
                  <a:lnTo>
                    <a:pt x="267602" y="190178"/>
                  </a:lnTo>
                  <a:lnTo>
                    <a:pt x="271221" y="182666"/>
                  </a:lnTo>
                  <a:lnTo>
                    <a:pt x="272787" y="174270"/>
                  </a:lnTo>
                  <a:lnTo>
                    <a:pt x="272984" y="165287"/>
                  </a:lnTo>
                  <a:lnTo>
                    <a:pt x="272269" y="155911"/>
                  </a:lnTo>
                  <a:lnTo>
                    <a:pt x="270098" y="147121"/>
                  </a:lnTo>
                  <a:lnTo>
                    <a:pt x="266958" y="138721"/>
                  </a:lnTo>
                  <a:lnTo>
                    <a:pt x="263172" y="130580"/>
                  </a:lnTo>
                  <a:lnTo>
                    <a:pt x="258107" y="122613"/>
                  </a:lnTo>
                  <a:lnTo>
                    <a:pt x="252191" y="114763"/>
                  </a:lnTo>
                  <a:lnTo>
                    <a:pt x="245707" y="106989"/>
                  </a:lnTo>
                  <a:lnTo>
                    <a:pt x="237997" y="99266"/>
                  </a:lnTo>
                  <a:lnTo>
                    <a:pt x="229471" y="91577"/>
                  </a:lnTo>
                  <a:lnTo>
                    <a:pt x="220400" y="83912"/>
                  </a:lnTo>
                  <a:lnTo>
                    <a:pt x="210966" y="77955"/>
                  </a:lnTo>
                  <a:lnTo>
                    <a:pt x="201290" y="73136"/>
                  </a:lnTo>
                  <a:lnTo>
                    <a:pt x="191453" y="69078"/>
                  </a:lnTo>
                  <a:lnTo>
                    <a:pt x="181508" y="64679"/>
                  </a:lnTo>
                  <a:lnTo>
                    <a:pt x="161427" y="55275"/>
                  </a:lnTo>
                  <a:lnTo>
                    <a:pt x="153871" y="52090"/>
                  </a:lnTo>
                  <a:lnTo>
                    <a:pt x="147986" y="49967"/>
                  </a:lnTo>
                  <a:lnTo>
                    <a:pt x="143217" y="48551"/>
                  </a:lnTo>
                  <a:lnTo>
                    <a:pt x="138344" y="47608"/>
                  </a:lnTo>
                  <a:lnTo>
                    <a:pt x="133402" y="46979"/>
                  </a:lnTo>
                  <a:lnTo>
                    <a:pt x="118438" y="457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SMARTInkAnnotation57"/>
            <p:cNvSpPr/>
            <p:nvPr/>
          </p:nvSpPr>
          <p:spPr>
            <a:xfrm>
              <a:off x="1281960" y="4922280"/>
              <a:ext cx="303120" cy="3024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03420" h="30481">
                  <a:moveTo>
                    <a:pt x="21479" y="0"/>
                  </a:moveTo>
                  <a:lnTo>
                    <a:pt x="14173" y="0"/>
                  </a:lnTo>
                  <a:lnTo>
                    <a:pt x="13222" y="847"/>
                  </a:lnTo>
                  <a:lnTo>
                    <a:pt x="9907" y="4045"/>
                  </a:lnTo>
                  <a:lnTo>
                    <a:pt x="7837" y="5237"/>
                  </a:lnTo>
                  <a:lnTo>
                    <a:pt x="5611" y="6031"/>
                  </a:lnTo>
                  <a:lnTo>
                    <a:pt x="0" y="7307"/>
                  </a:lnTo>
                  <a:lnTo>
                    <a:pt x="387" y="7411"/>
                  </a:lnTo>
                  <a:lnTo>
                    <a:pt x="9346" y="7593"/>
                  </a:lnTo>
                  <a:lnTo>
                    <a:pt x="12544" y="8449"/>
                  </a:lnTo>
                  <a:lnTo>
                    <a:pt x="16369" y="9866"/>
                  </a:lnTo>
                  <a:lnTo>
                    <a:pt x="20612" y="11657"/>
                  </a:lnTo>
                  <a:lnTo>
                    <a:pt x="26828" y="12852"/>
                  </a:lnTo>
                  <a:lnTo>
                    <a:pt x="34358" y="13648"/>
                  </a:lnTo>
                  <a:lnTo>
                    <a:pt x="42765" y="14179"/>
                  </a:lnTo>
                  <a:lnTo>
                    <a:pt x="51756" y="15379"/>
                  </a:lnTo>
                  <a:lnTo>
                    <a:pt x="61137" y="17026"/>
                  </a:lnTo>
                  <a:lnTo>
                    <a:pt x="70778" y="18971"/>
                  </a:lnTo>
                  <a:lnTo>
                    <a:pt x="82285" y="20267"/>
                  </a:lnTo>
                  <a:lnTo>
                    <a:pt x="95037" y="21132"/>
                  </a:lnTo>
                  <a:lnTo>
                    <a:pt x="121905" y="22092"/>
                  </a:lnTo>
                  <a:lnTo>
                    <a:pt x="161678" y="22633"/>
                  </a:lnTo>
                  <a:lnTo>
                    <a:pt x="266026" y="22851"/>
                  </a:lnTo>
                  <a:lnTo>
                    <a:pt x="275104" y="23701"/>
                  </a:lnTo>
                  <a:lnTo>
                    <a:pt x="282849" y="25114"/>
                  </a:lnTo>
                  <a:lnTo>
                    <a:pt x="303419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SMARTInkAnnotation58"/>
            <p:cNvSpPr/>
            <p:nvPr/>
          </p:nvSpPr>
          <p:spPr>
            <a:xfrm>
              <a:off x="1654200" y="4826520"/>
              <a:ext cx="205560" cy="2023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205741" h="202430">
                  <a:moveTo>
                    <a:pt x="0" y="27170"/>
                  </a:moveTo>
                  <a:lnTo>
                    <a:pt x="4045" y="23124"/>
                  </a:lnTo>
                  <a:lnTo>
                    <a:pt x="6084" y="21933"/>
                  </a:lnTo>
                  <a:lnTo>
                    <a:pt x="10606" y="20608"/>
                  </a:lnTo>
                  <a:lnTo>
                    <a:pt x="15438" y="20020"/>
                  </a:lnTo>
                  <a:lnTo>
                    <a:pt x="17912" y="19863"/>
                  </a:lnTo>
                  <a:lnTo>
                    <a:pt x="21255" y="18912"/>
                  </a:lnTo>
                  <a:lnTo>
                    <a:pt x="25177" y="17431"/>
                  </a:lnTo>
                  <a:lnTo>
                    <a:pt x="29485" y="15597"/>
                  </a:lnTo>
                  <a:lnTo>
                    <a:pt x="38786" y="11302"/>
                  </a:lnTo>
                  <a:lnTo>
                    <a:pt x="43638" y="8971"/>
                  </a:lnTo>
                  <a:lnTo>
                    <a:pt x="48565" y="7417"/>
                  </a:lnTo>
                  <a:lnTo>
                    <a:pt x="53544" y="6381"/>
                  </a:lnTo>
                  <a:lnTo>
                    <a:pt x="58555" y="5691"/>
                  </a:lnTo>
                  <a:lnTo>
                    <a:pt x="65284" y="5230"/>
                  </a:lnTo>
                  <a:lnTo>
                    <a:pt x="73156" y="4923"/>
                  </a:lnTo>
                  <a:lnTo>
                    <a:pt x="81791" y="4719"/>
                  </a:lnTo>
                  <a:lnTo>
                    <a:pt x="90087" y="3735"/>
                  </a:lnTo>
                  <a:lnTo>
                    <a:pt x="98158" y="2234"/>
                  </a:lnTo>
                  <a:lnTo>
                    <a:pt x="106079" y="386"/>
                  </a:lnTo>
                  <a:lnTo>
                    <a:pt x="113899" y="0"/>
                  </a:lnTo>
                  <a:lnTo>
                    <a:pt x="121653" y="590"/>
                  </a:lnTo>
                  <a:lnTo>
                    <a:pt x="129362" y="1830"/>
                  </a:lnTo>
                  <a:lnTo>
                    <a:pt x="136194" y="2656"/>
                  </a:lnTo>
                  <a:lnTo>
                    <a:pt x="142443" y="3207"/>
                  </a:lnTo>
                  <a:lnTo>
                    <a:pt x="148302" y="3574"/>
                  </a:lnTo>
                  <a:lnTo>
                    <a:pt x="153054" y="4666"/>
                  </a:lnTo>
                  <a:lnTo>
                    <a:pt x="157070" y="6241"/>
                  </a:lnTo>
                  <a:lnTo>
                    <a:pt x="160593" y="8137"/>
                  </a:lnTo>
                  <a:lnTo>
                    <a:pt x="166766" y="12501"/>
                  </a:lnTo>
                  <a:lnTo>
                    <a:pt x="169597" y="14851"/>
                  </a:lnTo>
                  <a:lnTo>
                    <a:pt x="170638" y="17264"/>
                  </a:lnTo>
                  <a:lnTo>
                    <a:pt x="170485" y="19719"/>
                  </a:lnTo>
                  <a:lnTo>
                    <a:pt x="169537" y="22202"/>
                  </a:lnTo>
                  <a:lnTo>
                    <a:pt x="167211" y="24705"/>
                  </a:lnTo>
                  <a:lnTo>
                    <a:pt x="163967" y="27220"/>
                  </a:lnTo>
                  <a:lnTo>
                    <a:pt x="142549" y="41384"/>
                  </a:lnTo>
                  <a:lnTo>
                    <a:pt x="135673" y="45113"/>
                  </a:lnTo>
                  <a:lnTo>
                    <a:pt x="128549" y="48445"/>
                  </a:lnTo>
                  <a:lnTo>
                    <a:pt x="121259" y="51513"/>
                  </a:lnTo>
                  <a:lnTo>
                    <a:pt x="113013" y="55252"/>
                  </a:lnTo>
                  <a:lnTo>
                    <a:pt x="85226" y="68604"/>
                  </a:lnTo>
                  <a:lnTo>
                    <a:pt x="65536" y="78323"/>
                  </a:lnTo>
                  <a:lnTo>
                    <a:pt x="56391" y="83285"/>
                  </a:lnTo>
                  <a:lnTo>
                    <a:pt x="47754" y="88287"/>
                  </a:lnTo>
                  <a:lnTo>
                    <a:pt x="39456" y="93314"/>
                  </a:lnTo>
                  <a:lnTo>
                    <a:pt x="32231" y="98359"/>
                  </a:lnTo>
                  <a:lnTo>
                    <a:pt x="25720" y="103416"/>
                  </a:lnTo>
                  <a:lnTo>
                    <a:pt x="19687" y="108480"/>
                  </a:lnTo>
                  <a:lnTo>
                    <a:pt x="14818" y="113550"/>
                  </a:lnTo>
                  <a:lnTo>
                    <a:pt x="10725" y="118622"/>
                  </a:lnTo>
                  <a:lnTo>
                    <a:pt x="7150" y="123698"/>
                  </a:lnTo>
                  <a:lnTo>
                    <a:pt x="4767" y="128775"/>
                  </a:lnTo>
                  <a:lnTo>
                    <a:pt x="3178" y="133853"/>
                  </a:lnTo>
                  <a:lnTo>
                    <a:pt x="2119" y="138932"/>
                  </a:lnTo>
                  <a:lnTo>
                    <a:pt x="2259" y="144011"/>
                  </a:lnTo>
                  <a:lnTo>
                    <a:pt x="3199" y="149090"/>
                  </a:lnTo>
                  <a:lnTo>
                    <a:pt x="4673" y="154170"/>
                  </a:lnTo>
                  <a:lnTo>
                    <a:pt x="7349" y="158403"/>
                  </a:lnTo>
                  <a:lnTo>
                    <a:pt x="10826" y="162072"/>
                  </a:lnTo>
                  <a:lnTo>
                    <a:pt x="14837" y="165364"/>
                  </a:lnTo>
                  <a:lnTo>
                    <a:pt x="20052" y="169252"/>
                  </a:lnTo>
                  <a:lnTo>
                    <a:pt x="32619" y="178089"/>
                  </a:lnTo>
                  <a:lnTo>
                    <a:pt x="39526" y="181969"/>
                  </a:lnTo>
                  <a:lnTo>
                    <a:pt x="46670" y="185402"/>
                  </a:lnTo>
                  <a:lnTo>
                    <a:pt x="53974" y="188538"/>
                  </a:lnTo>
                  <a:lnTo>
                    <a:pt x="63076" y="191475"/>
                  </a:lnTo>
                  <a:lnTo>
                    <a:pt x="73377" y="194279"/>
                  </a:lnTo>
                  <a:lnTo>
                    <a:pt x="84478" y="196996"/>
                  </a:lnTo>
                  <a:lnTo>
                    <a:pt x="96112" y="198807"/>
                  </a:lnTo>
                  <a:lnTo>
                    <a:pt x="108101" y="200014"/>
                  </a:lnTo>
                  <a:lnTo>
                    <a:pt x="120328" y="200820"/>
                  </a:lnTo>
                  <a:lnTo>
                    <a:pt x="131865" y="201356"/>
                  </a:lnTo>
                  <a:lnTo>
                    <a:pt x="153716" y="201952"/>
                  </a:lnTo>
                  <a:lnTo>
                    <a:pt x="189001" y="202366"/>
                  </a:lnTo>
                  <a:lnTo>
                    <a:pt x="205740" y="2024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SMARTInkAnnotation59"/>
            <p:cNvSpPr/>
            <p:nvPr/>
          </p:nvSpPr>
          <p:spPr>
            <a:xfrm>
              <a:off x="1958760" y="4808160"/>
              <a:ext cx="242640" cy="2437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42870" h="243840">
                  <a:moveTo>
                    <a:pt x="0" y="7619"/>
                  </a:moveTo>
                  <a:lnTo>
                    <a:pt x="65309" y="7619"/>
                  </a:lnTo>
                  <a:lnTo>
                    <a:pt x="75713" y="6773"/>
                  </a:lnTo>
                  <a:lnTo>
                    <a:pt x="86882" y="5362"/>
                  </a:lnTo>
                  <a:lnTo>
                    <a:pt x="98561" y="3574"/>
                  </a:lnTo>
                  <a:lnTo>
                    <a:pt x="109734" y="2382"/>
                  </a:lnTo>
                  <a:lnTo>
                    <a:pt x="120570" y="1588"/>
                  </a:lnTo>
                  <a:lnTo>
                    <a:pt x="131180" y="1058"/>
                  </a:lnTo>
                  <a:lnTo>
                    <a:pt x="152000" y="470"/>
                  </a:lnTo>
                  <a:lnTo>
                    <a:pt x="221497" y="18"/>
                  </a:lnTo>
                  <a:lnTo>
                    <a:pt x="242869" y="0"/>
                  </a:lnTo>
                  <a:lnTo>
                    <a:pt x="242346" y="846"/>
                  </a:lnTo>
                  <a:lnTo>
                    <a:pt x="239507" y="4044"/>
                  </a:lnTo>
                  <a:lnTo>
                    <a:pt x="233166" y="8288"/>
                  </a:lnTo>
                  <a:lnTo>
                    <a:pt x="229104" y="10605"/>
                  </a:lnTo>
                  <a:lnTo>
                    <a:pt x="223856" y="13843"/>
                  </a:lnTo>
                  <a:lnTo>
                    <a:pt x="204334" y="26490"/>
                  </a:lnTo>
                  <a:lnTo>
                    <a:pt x="167455" y="50942"/>
                  </a:lnTo>
                  <a:lnTo>
                    <a:pt x="160743" y="56822"/>
                  </a:lnTo>
                  <a:lnTo>
                    <a:pt x="154576" y="63281"/>
                  </a:lnTo>
                  <a:lnTo>
                    <a:pt x="148771" y="70127"/>
                  </a:lnTo>
                  <a:lnTo>
                    <a:pt x="143207" y="77231"/>
                  </a:lnTo>
                  <a:lnTo>
                    <a:pt x="137805" y="84507"/>
                  </a:lnTo>
                  <a:lnTo>
                    <a:pt x="132510" y="91898"/>
                  </a:lnTo>
                  <a:lnTo>
                    <a:pt x="127287" y="100212"/>
                  </a:lnTo>
                  <a:lnTo>
                    <a:pt x="122111" y="109140"/>
                  </a:lnTo>
                  <a:lnTo>
                    <a:pt x="116968" y="118480"/>
                  </a:lnTo>
                  <a:lnTo>
                    <a:pt x="112692" y="127246"/>
                  </a:lnTo>
                  <a:lnTo>
                    <a:pt x="108994" y="135631"/>
                  </a:lnTo>
                  <a:lnTo>
                    <a:pt x="105683" y="143760"/>
                  </a:lnTo>
                  <a:lnTo>
                    <a:pt x="102629" y="151720"/>
                  </a:lnTo>
                  <a:lnTo>
                    <a:pt x="96978" y="167337"/>
                  </a:lnTo>
                  <a:lnTo>
                    <a:pt x="94285" y="174211"/>
                  </a:lnTo>
                  <a:lnTo>
                    <a:pt x="91644" y="180487"/>
                  </a:lnTo>
                  <a:lnTo>
                    <a:pt x="89036" y="186364"/>
                  </a:lnTo>
                  <a:lnTo>
                    <a:pt x="87297" y="191976"/>
                  </a:lnTo>
                  <a:lnTo>
                    <a:pt x="86138" y="197410"/>
                  </a:lnTo>
                  <a:lnTo>
                    <a:pt x="85365" y="202727"/>
                  </a:lnTo>
                  <a:lnTo>
                    <a:pt x="84850" y="208811"/>
                  </a:lnTo>
                  <a:lnTo>
                    <a:pt x="84507" y="215407"/>
                  </a:lnTo>
                  <a:lnTo>
                    <a:pt x="84024" y="232310"/>
                  </a:lnTo>
                  <a:lnTo>
                    <a:pt x="83820" y="2438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SMARTInkAnnotation60"/>
            <p:cNvSpPr/>
            <p:nvPr/>
          </p:nvSpPr>
          <p:spPr>
            <a:xfrm>
              <a:off x="2012400" y="4910400"/>
              <a:ext cx="174960" cy="43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75261" h="4391">
                  <a:moveTo>
                    <a:pt x="0" y="4390"/>
                  </a:moveTo>
                  <a:lnTo>
                    <a:pt x="73273" y="4390"/>
                  </a:lnTo>
                  <a:lnTo>
                    <a:pt x="82715" y="3544"/>
                  </a:lnTo>
                  <a:lnTo>
                    <a:pt x="92397" y="2133"/>
                  </a:lnTo>
                  <a:lnTo>
                    <a:pt x="102238" y="346"/>
                  </a:lnTo>
                  <a:lnTo>
                    <a:pt x="113032" y="0"/>
                  </a:lnTo>
                  <a:lnTo>
                    <a:pt x="124462" y="617"/>
                  </a:lnTo>
                  <a:lnTo>
                    <a:pt x="136314" y="1875"/>
                  </a:lnTo>
                  <a:lnTo>
                    <a:pt x="145910" y="2713"/>
                  </a:lnTo>
                  <a:lnTo>
                    <a:pt x="154000" y="3272"/>
                  </a:lnTo>
                  <a:lnTo>
                    <a:pt x="175260" y="43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SMARTInkAnnotation61"/>
            <p:cNvSpPr/>
            <p:nvPr/>
          </p:nvSpPr>
          <p:spPr>
            <a:xfrm>
              <a:off x="2393280" y="4869000"/>
              <a:ext cx="114120" cy="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4301" h="1">
                  <a:moveTo>
                    <a:pt x="0" y="0"/>
                  </a:move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SMARTInkAnnotation62"/>
            <p:cNvSpPr/>
            <p:nvPr/>
          </p:nvSpPr>
          <p:spPr>
            <a:xfrm>
              <a:off x="2370600" y="4968000"/>
              <a:ext cx="152280" cy="4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52401" h="45256">
                  <a:moveTo>
                    <a:pt x="0" y="0"/>
                  </a:moveTo>
                  <a:lnTo>
                    <a:pt x="0" y="13867"/>
                  </a:lnTo>
                  <a:lnTo>
                    <a:pt x="847" y="16018"/>
                  </a:lnTo>
                  <a:lnTo>
                    <a:pt x="2258" y="19145"/>
                  </a:lnTo>
                  <a:lnTo>
                    <a:pt x="4046" y="22924"/>
                  </a:lnTo>
                  <a:lnTo>
                    <a:pt x="6930" y="26289"/>
                  </a:lnTo>
                  <a:lnTo>
                    <a:pt x="10547" y="29380"/>
                  </a:lnTo>
                  <a:lnTo>
                    <a:pt x="14652" y="32287"/>
                  </a:lnTo>
                  <a:lnTo>
                    <a:pt x="19081" y="35071"/>
                  </a:lnTo>
                  <a:lnTo>
                    <a:pt x="23727" y="37774"/>
                  </a:lnTo>
                  <a:lnTo>
                    <a:pt x="28518" y="40422"/>
                  </a:lnTo>
                  <a:lnTo>
                    <a:pt x="34252" y="42189"/>
                  </a:lnTo>
                  <a:lnTo>
                    <a:pt x="40615" y="43366"/>
                  </a:lnTo>
                  <a:lnTo>
                    <a:pt x="47397" y="44150"/>
                  </a:lnTo>
                  <a:lnTo>
                    <a:pt x="55304" y="44673"/>
                  </a:lnTo>
                  <a:lnTo>
                    <a:pt x="63963" y="45022"/>
                  </a:lnTo>
                  <a:lnTo>
                    <a:pt x="73122" y="45255"/>
                  </a:lnTo>
                  <a:lnTo>
                    <a:pt x="82615" y="44563"/>
                  </a:lnTo>
                  <a:lnTo>
                    <a:pt x="92330" y="43255"/>
                  </a:lnTo>
                  <a:lnTo>
                    <a:pt x="102193" y="41537"/>
                  </a:lnTo>
                  <a:lnTo>
                    <a:pt x="110462" y="40391"/>
                  </a:lnTo>
                  <a:lnTo>
                    <a:pt x="117668" y="39627"/>
                  </a:lnTo>
                  <a:lnTo>
                    <a:pt x="124166" y="39118"/>
                  </a:lnTo>
                  <a:lnTo>
                    <a:pt x="130190" y="38779"/>
                  </a:lnTo>
                  <a:lnTo>
                    <a:pt x="152400" y="38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SMARTInkAnnotation63"/>
            <p:cNvSpPr/>
            <p:nvPr/>
          </p:nvSpPr>
          <p:spPr>
            <a:xfrm>
              <a:off x="2736360" y="488448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1" h="7621">
                  <a:moveTo>
                    <a:pt x="0" y="7620"/>
                  </a:moveTo>
                  <a:lnTo>
                    <a:pt x="72901" y="7620"/>
                  </a:lnTo>
                  <a:lnTo>
                    <a:pt x="84161" y="6774"/>
                  </a:lnTo>
                  <a:lnTo>
                    <a:pt x="96747" y="5363"/>
                  </a:lnTo>
                  <a:lnTo>
                    <a:pt x="110218" y="3575"/>
                  </a:lnTo>
                  <a:lnTo>
                    <a:pt x="120892" y="2383"/>
                  </a:lnTo>
                  <a:lnTo>
                    <a:pt x="129701" y="1589"/>
                  </a:lnTo>
                  <a:lnTo>
                    <a:pt x="137268" y="1059"/>
                  </a:lnTo>
                  <a:lnTo>
                    <a:pt x="144852" y="706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SMARTInkAnnotation64"/>
            <p:cNvSpPr/>
            <p:nvPr/>
          </p:nvSpPr>
          <p:spPr>
            <a:xfrm>
              <a:off x="3095280" y="4762800"/>
              <a:ext cx="203760" cy="37296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03866" h="372964">
                  <a:moveTo>
                    <a:pt x="181949" y="30063"/>
                  </a:moveTo>
                  <a:lnTo>
                    <a:pt x="181949" y="26019"/>
                  </a:lnTo>
                  <a:lnTo>
                    <a:pt x="181103" y="23980"/>
                  </a:lnTo>
                  <a:lnTo>
                    <a:pt x="175388" y="16196"/>
                  </a:lnTo>
                  <a:lnTo>
                    <a:pt x="170598" y="11185"/>
                  </a:lnTo>
                  <a:lnTo>
                    <a:pt x="167608" y="9011"/>
                  </a:lnTo>
                  <a:lnTo>
                    <a:pt x="163922" y="6715"/>
                  </a:lnTo>
                  <a:lnTo>
                    <a:pt x="159771" y="4338"/>
                  </a:lnTo>
                  <a:lnTo>
                    <a:pt x="155310" y="2753"/>
                  </a:lnTo>
                  <a:lnTo>
                    <a:pt x="150643" y="1696"/>
                  </a:lnTo>
                  <a:lnTo>
                    <a:pt x="145838" y="992"/>
                  </a:lnTo>
                  <a:lnTo>
                    <a:pt x="140942" y="522"/>
                  </a:lnTo>
                  <a:lnTo>
                    <a:pt x="135985" y="209"/>
                  </a:lnTo>
                  <a:lnTo>
                    <a:pt x="130986" y="0"/>
                  </a:lnTo>
                  <a:lnTo>
                    <a:pt x="125114" y="709"/>
                  </a:lnTo>
                  <a:lnTo>
                    <a:pt x="118659" y="2026"/>
                  </a:lnTo>
                  <a:lnTo>
                    <a:pt x="111816" y="3753"/>
                  </a:lnTo>
                  <a:lnTo>
                    <a:pt x="104713" y="5749"/>
                  </a:lnTo>
                  <a:lnTo>
                    <a:pt x="90049" y="10226"/>
                  </a:lnTo>
                  <a:lnTo>
                    <a:pt x="82582" y="13452"/>
                  </a:lnTo>
                  <a:lnTo>
                    <a:pt x="75065" y="17296"/>
                  </a:lnTo>
                  <a:lnTo>
                    <a:pt x="67513" y="21551"/>
                  </a:lnTo>
                  <a:lnTo>
                    <a:pt x="59938" y="26082"/>
                  </a:lnTo>
                  <a:lnTo>
                    <a:pt x="44748" y="35632"/>
                  </a:lnTo>
                  <a:lnTo>
                    <a:pt x="37988" y="41396"/>
                  </a:lnTo>
                  <a:lnTo>
                    <a:pt x="31789" y="47778"/>
                  </a:lnTo>
                  <a:lnTo>
                    <a:pt x="25962" y="54573"/>
                  </a:lnTo>
                  <a:lnTo>
                    <a:pt x="20385" y="60796"/>
                  </a:lnTo>
                  <a:lnTo>
                    <a:pt x="9671" y="72227"/>
                  </a:lnTo>
                  <a:lnTo>
                    <a:pt x="6138" y="78492"/>
                  </a:lnTo>
                  <a:lnTo>
                    <a:pt x="3781" y="85210"/>
                  </a:lnTo>
                  <a:lnTo>
                    <a:pt x="2210" y="92227"/>
                  </a:lnTo>
                  <a:lnTo>
                    <a:pt x="1164" y="98599"/>
                  </a:lnTo>
                  <a:lnTo>
                    <a:pt x="0" y="110195"/>
                  </a:lnTo>
                  <a:lnTo>
                    <a:pt x="1383" y="114811"/>
                  </a:lnTo>
                  <a:lnTo>
                    <a:pt x="3998" y="118735"/>
                  </a:lnTo>
                  <a:lnTo>
                    <a:pt x="20363" y="135161"/>
                  </a:lnTo>
                  <a:lnTo>
                    <a:pt x="26812" y="138228"/>
                  </a:lnTo>
                  <a:lnTo>
                    <a:pt x="34497" y="140274"/>
                  </a:lnTo>
                  <a:lnTo>
                    <a:pt x="43008" y="141637"/>
                  </a:lnTo>
                  <a:lnTo>
                    <a:pt x="51222" y="142546"/>
                  </a:lnTo>
                  <a:lnTo>
                    <a:pt x="59238" y="143151"/>
                  </a:lnTo>
                  <a:lnTo>
                    <a:pt x="67121" y="143556"/>
                  </a:lnTo>
                  <a:lnTo>
                    <a:pt x="87170" y="144004"/>
                  </a:lnTo>
                  <a:lnTo>
                    <a:pt x="98443" y="144124"/>
                  </a:lnTo>
                  <a:lnTo>
                    <a:pt x="109345" y="142510"/>
                  </a:lnTo>
                  <a:lnTo>
                    <a:pt x="120000" y="139741"/>
                  </a:lnTo>
                  <a:lnTo>
                    <a:pt x="130490" y="136202"/>
                  </a:lnTo>
                  <a:lnTo>
                    <a:pt x="140023" y="132149"/>
                  </a:lnTo>
                  <a:lnTo>
                    <a:pt x="148919" y="127753"/>
                  </a:lnTo>
                  <a:lnTo>
                    <a:pt x="157389" y="123130"/>
                  </a:lnTo>
                  <a:lnTo>
                    <a:pt x="164729" y="118355"/>
                  </a:lnTo>
                  <a:lnTo>
                    <a:pt x="171316" y="113477"/>
                  </a:lnTo>
                  <a:lnTo>
                    <a:pt x="177400" y="108532"/>
                  </a:lnTo>
                  <a:lnTo>
                    <a:pt x="183150" y="104389"/>
                  </a:lnTo>
                  <a:lnTo>
                    <a:pt x="188676" y="100781"/>
                  </a:lnTo>
                  <a:lnTo>
                    <a:pt x="194054" y="97528"/>
                  </a:lnTo>
                  <a:lnTo>
                    <a:pt x="197639" y="93666"/>
                  </a:lnTo>
                  <a:lnTo>
                    <a:pt x="200029" y="89399"/>
                  </a:lnTo>
                  <a:lnTo>
                    <a:pt x="203865" y="78473"/>
                  </a:lnTo>
                  <a:lnTo>
                    <a:pt x="203333" y="76729"/>
                  </a:lnTo>
                  <a:lnTo>
                    <a:pt x="200484" y="72535"/>
                  </a:lnTo>
                  <a:lnTo>
                    <a:pt x="198539" y="71924"/>
                  </a:lnTo>
                  <a:lnTo>
                    <a:pt x="196396" y="72364"/>
                  </a:lnTo>
                  <a:lnTo>
                    <a:pt x="191757" y="75110"/>
                  </a:lnTo>
                  <a:lnTo>
                    <a:pt x="186872" y="79153"/>
                  </a:lnTo>
                  <a:lnTo>
                    <a:pt x="183538" y="81416"/>
                  </a:lnTo>
                  <a:lnTo>
                    <a:pt x="179622" y="83772"/>
                  </a:lnTo>
                  <a:lnTo>
                    <a:pt x="175318" y="86189"/>
                  </a:lnTo>
                  <a:lnTo>
                    <a:pt x="171602" y="90340"/>
                  </a:lnTo>
                  <a:lnTo>
                    <a:pt x="168277" y="95648"/>
                  </a:lnTo>
                  <a:lnTo>
                    <a:pt x="165214" y="101726"/>
                  </a:lnTo>
                  <a:lnTo>
                    <a:pt x="160633" y="107472"/>
                  </a:lnTo>
                  <a:lnTo>
                    <a:pt x="155038" y="112996"/>
                  </a:lnTo>
                  <a:lnTo>
                    <a:pt x="148768" y="118371"/>
                  </a:lnTo>
                  <a:lnTo>
                    <a:pt x="142895" y="125342"/>
                  </a:lnTo>
                  <a:lnTo>
                    <a:pt x="137287" y="133376"/>
                  </a:lnTo>
                  <a:lnTo>
                    <a:pt x="131854" y="142118"/>
                  </a:lnTo>
                  <a:lnTo>
                    <a:pt x="127386" y="151333"/>
                  </a:lnTo>
                  <a:lnTo>
                    <a:pt x="123560" y="160863"/>
                  </a:lnTo>
                  <a:lnTo>
                    <a:pt x="120163" y="170603"/>
                  </a:lnTo>
                  <a:lnTo>
                    <a:pt x="117898" y="180483"/>
                  </a:lnTo>
                  <a:lnTo>
                    <a:pt x="116388" y="190457"/>
                  </a:lnTo>
                  <a:lnTo>
                    <a:pt x="115382" y="200492"/>
                  </a:lnTo>
                  <a:lnTo>
                    <a:pt x="113865" y="210569"/>
                  </a:lnTo>
                  <a:lnTo>
                    <a:pt x="112006" y="220674"/>
                  </a:lnTo>
                  <a:lnTo>
                    <a:pt x="102940" y="265270"/>
                  </a:lnTo>
                  <a:lnTo>
                    <a:pt x="101336" y="275768"/>
                  </a:lnTo>
                  <a:lnTo>
                    <a:pt x="100267" y="285306"/>
                  </a:lnTo>
                  <a:lnTo>
                    <a:pt x="99555" y="294205"/>
                  </a:lnTo>
                  <a:lnTo>
                    <a:pt x="99079" y="302678"/>
                  </a:lnTo>
                  <a:lnTo>
                    <a:pt x="98552" y="318865"/>
                  </a:lnTo>
                  <a:lnTo>
                    <a:pt x="99258" y="325891"/>
                  </a:lnTo>
                  <a:lnTo>
                    <a:pt x="100575" y="332268"/>
                  </a:lnTo>
                  <a:lnTo>
                    <a:pt x="104296" y="343870"/>
                  </a:lnTo>
                  <a:lnTo>
                    <a:pt x="108772" y="354670"/>
                  </a:lnTo>
                  <a:lnTo>
                    <a:pt x="112007" y="362181"/>
                  </a:lnTo>
                  <a:lnTo>
                    <a:pt x="115022" y="366196"/>
                  </a:lnTo>
                  <a:lnTo>
                    <a:pt x="120989" y="3729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SMARTInkAnnotation65"/>
            <p:cNvSpPr/>
            <p:nvPr/>
          </p:nvSpPr>
          <p:spPr>
            <a:xfrm>
              <a:off x="3406680" y="4914720"/>
              <a:ext cx="220680" cy="190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20981" h="190501">
                  <a:moveTo>
                    <a:pt x="220980" y="0"/>
                  </a:moveTo>
                  <a:lnTo>
                    <a:pt x="220980" y="4045"/>
                  </a:lnTo>
                  <a:lnTo>
                    <a:pt x="220134" y="6083"/>
                  </a:lnTo>
                  <a:lnTo>
                    <a:pt x="216935" y="10606"/>
                  </a:lnTo>
                  <a:lnTo>
                    <a:pt x="214897" y="12150"/>
                  </a:lnTo>
                  <a:lnTo>
                    <a:pt x="212691" y="13181"/>
                  </a:lnTo>
                  <a:lnTo>
                    <a:pt x="210374" y="13867"/>
                  </a:lnTo>
                  <a:lnTo>
                    <a:pt x="207983" y="16018"/>
                  </a:lnTo>
                  <a:lnTo>
                    <a:pt x="205542" y="19145"/>
                  </a:lnTo>
                  <a:lnTo>
                    <a:pt x="203068" y="22924"/>
                  </a:lnTo>
                  <a:lnTo>
                    <a:pt x="198879" y="27136"/>
                  </a:lnTo>
                  <a:lnTo>
                    <a:pt x="193545" y="31638"/>
                  </a:lnTo>
                  <a:lnTo>
                    <a:pt x="187450" y="36332"/>
                  </a:lnTo>
                  <a:lnTo>
                    <a:pt x="180847" y="42001"/>
                  </a:lnTo>
                  <a:lnTo>
                    <a:pt x="173904" y="48321"/>
                  </a:lnTo>
                  <a:lnTo>
                    <a:pt x="159418" y="62116"/>
                  </a:lnTo>
                  <a:lnTo>
                    <a:pt x="144512" y="76714"/>
                  </a:lnTo>
                  <a:lnTo>
                    <a:pt x="136135" y="84162"/>
                  </a:lnTo>
                  <a:lnTo>
                    <a:pt x="127163" y="91669"/>
                  </a:lnTo>
                  <a:lnTo>
                    <a:pt x="117796" y="99213"/>
                  </a:lnTo>
                  <a:lnTo>
                    <a:pt x="107317" y="106782"/>
                  </a:lnTo>
                  <a:lnTo>
                    <a:pt x="96098" y="114368"/>
                  </a:lnTo>
                  <a:lnTo>
                    <a:pt x="84385" y="121965"/>
                  </a:lnTo>
                  <a:lnTo>
                    <a:pt x="74037" y="129570"/>
                  </a:lnTo>
                  <a:lnTo>
                    <a:pt x="64598" y="137180"/>
                  </a:lnTo>
                  <a:lnTo>
                    <a:pt x="55765" y="144793"/>
                  </a:lnTo>
                  <a:lnTo>
                    <a:pt x="47337" y="151563"/>
                  </a:lnTo>
                  <a:lnTo>
                    <a:pt x="39178" y="157768"/>
                  </a:lnTo>
                  <a:lnTo>
                    <a:pt x="31199" y="163599"/>
                  </a:lnTo>
                  <a:lnTo>
                    <a:pt x="25032" y="168333"/>
                  </a:lnTo>
                  <a:lnTo>
                    <a:pt x="20075" y="172335"/>
                  </a:lnTo>
                  <a:lnTo>
                    <a:pt x="15923" y="175850"/>
                  </a:lnTo>
                  <a:lnTo>
                    <a:pt x="12309" y="179040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SMARTInkAnnotation66"/>
            <p:cNvSpPr/>
            <p:nvPr/>
          </p:nvSpPr>
          <p:spPr>
            <a:xfrm>
              <a:off x="3460320" y="4945320"/>
              <a:ext cx="198000" cy="1828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98121" h="182881">
                  <a:moveTo>
                    <a:pt x="0" y="0"/>
                  </a:moveTo>
                  <a:lnTo>
                    <a:pt x="4045" y="8091"/>
                  </a:lnTo>
                  <a:lnTo>
                    <a:pt x="6930" y="12167"/>
                  </a:lnTo>
                  <a:lnTo>
                    <a:pt x="10546" y="16578"/>
                  </a:lnTo>
                  <a:lnTo>
                    <a:pt x="14651" y="21212"/>
                  </a:lnTo>
                  <a:lnTo>
                    <a:pt x="19081" y="25148"/>
                  </a:lnTo>
                  <a:lnTo>
                    <a:pt x="23727" y="28618"/>
                  </a:lnTo>
                  <a:lnTo>
                    <a:pt x="28518" y="31779"/>
                  </a:lnTo>
                  <a:lnTo>
                    <a:pt x="33405" y="35579"/>
                  </a:lnTo>
                  <a:lnTo>
                    <a:pt x="38357" y="39806"/>
                  </a:lnTo>
                  <a:lnTo>
                    <a:pt x="43351" y="44317"/>
                  </a:lnTo>
                  <a:lnTo>
                    <a:pt x="57932" y="58361"/>
                  </a:lnTo>
                  <a:lnTo>
                    <a:pt x="66561" y="66847"/>
                  </a:lnTo>
                  <a:lnTo>
                    <a:pt x="74854" y="75892"/>
                  </a:lnTo>
                  <a:lnTo>
                    <a:pt x="82923" y="85308"/>
                  </a:lnTo>
                  <a:lnTo>
                    <a:pt x="90842" y="94972"/>
                  </a:lnTo>
                  <a:lnTo>
                    <a:pt x="100355" y="103954"/>
                  </a:lnTo>
                  <a:lnTo>
                    <a:pt x="110930" y="112483"/>
                  </a:lnTo>
                  <a:lnTo>
                    <a:pt x="122213" y="120709"/>
                  </a:lnTo>
                  <a:lnTo>
                    <a:pt x="146039" y="138879"/>
                  </a:lnTo>
                  <a:lnTo>
                    <a:pt x="158320" y="148466"/>
                  </a:lnTo>
                  <a:lnTo>
                    <a:pt x="168200" y="156551"/>
                  </a:lnTo>
                  <a:lnTo>
                    <a:pt x="176480" y="163634"/>
                  </a:lnTo>
                  <a:lnTo>
                    <a:pt x="19812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SMARTInkAnnotation67"/>
            <p:cNvSpPr/>
            <p:nvPr/>
          </p:nvSpPr>
          <p:spPr>
            <a:xfrm>
              <a:off x="3208680" y="5166720"/>
              <a:ext cx="746640" cy="5292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746761" h="52996">
                  <a:moveTo>
                    <a:pt x="0" y="52995"/>
                  </a:moveTo>
                  <a:lnTo>
                    <a:pt x="24271" y="52995"/>
                  </a:lnTo>
                  <a:lnTo>
                    <a:pt x="38194" y="52149"/>
                  </a:lnTo>
                  <a:lnTo>
                    <a:pt x="54250" y="50738"/>
                  </a:lnTo>
                  <a:lnTo>
                    <a:pt x="85072" y="47758"/>
                  </a:lnTo>
                  <a:lnTo>
                    <a:pt x="243610" y="34862"/>
                  </a:lnTo>
                  <a:lnTo>
                    <a:pt x="370757" y="22469"/>
                  </a:lnTo>
                  <a:lnTo>
                    <a:pt x="394492" y="19944"/>
                  </a:lnTo>
                  <a:lnTo>
                    <a:pt x="417935" y="18261"/>
                  </a:lnTo>
                  <a:lnTo>
                    <a:pt x="441182" y="17139"/>
                  </a:lnTo>
                  <a:lnTo>
                    <a:pt x="464302" y="16391"/>
                  </a:lnTo>
                  <a:lnTo>
                    <a:pt x="486488" y="15046"/>
                  </a:lnTo>
                  <a:lnTo>
                    <a:pt x="548381" y="9954"/>
                  </a:lnTo>
                  <a:lnTo>
                    <a:pt x="566247" y="9061"/>
                  </a:lnTo>
                  <a:lnTo>
                    <a:pt x="583239" y="8466"/>
                  </a:lnTo>
                  <a:lnTo>
                    <a:pt x="598799" y="7222"/>
                  </a:lnTo>
                  <a:lnTo>
                    <a:pt x="613406" y="5547"/>
                  </a:lnTo>
                  <a:lnTo>
                    <a:pt x="627377" y="3583"/>
                  </a:lnTo>
                  <a:lnTo>
                    <a:pt x="640925" y="2274"/>
                  </a:lnTo>
                  <a:lnTo>
                    <a:pt x="654190" y="1401"/>
                  </a:lnTo>
                  <a:lnTo>
                    <a:pt x="678524" y="431"/>
                  </a:lnTo>
                  <a:lnTo>
                    <a:pt x="697806" y="0"/>
                  </a:lnTo>
                  <a:lnTo>
                    <a:pt x="706504" y="732"/>
                  </a:lnTo>
                  <a:lnTo>
                    <a:pt x="714843" y="2066"/>
                  </a:lnTo>
                  <a:lnTo>
                    <a:pt x="722942" y="3802"/>
                  </a:lnTo>
                  <a:lnTo>
                    <a:pt x="729188" y="4960"/>
                  </a:lnTo>
                  <a:lnTo>
                    <a:pt x="734199" y="5732"/>
                  </a:lnTo>
                  <a:lnTo>
                    <a:pt x="746760" y="72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560" bIns="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SMARTInkAnnotation68"/>
            <p:cNvSpPr/>
            <p:nvPr/>
          </p:nvSpPr>
          <p:spPr>
            <a:xfrm>
              <a:off x="2881080" y="5334120"/>
              <a:ext cx="114120" cy="15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14301" h="15241">
                  <a:moveTo>
                    <a:pt x="0" y="0"/>
                  </a:moveTo>
                  <a:lnTo>
                    <a:pt x="4046" y="4045"/>
                  </a:lnTo>
                  <a:lnTo>
                    <a:pt x="6930" y="5237"/>
                  </a:lnTo>
                  <a:lnTo>
                    <a:pt x="10547" y="6031"/>
                  </a:lnTo>
                  <a:lnTo>
                    <a:pt x="14651" y="6561"/>
                  </a:lnTo>
                  <a:lnTo>
                    <a:pt x="19928" y="7760"/>
                  </a:lnTo>
                  <a:lnTo>
                    <a:pt x="25985" y="9408"/>
                  </a:lnTo>
                  <a:lnTo>
                    <a:pt x="32564" y="11352"/>
                  </a:lnTo>
                  <a:lnTo>
                    <a:pt x="41182" y="12648"/>
                  </a:lnTo>
                  <a:lnTo>
                    <a:pt x="51161" y="13512"/>
                  </a:lnTo>
                  <a:lnTo>
                    <a:pt x="70998" y="14472"/>
                  </a:lnTo>
                  <a:lnTo>
                    <a:pt x="85459" y="14899"/>
                  </a:lnTo>
                  <a:lnTo>
                    <a:pt x="11430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SMARTInkAnnotation69"/>
            <p:cNvSpPr/>
            <p:nvPr/>
          </p:nvSpPr>
          <p:spPr>
            <a:xfrm>
              <a:off x="3286440" y="5266800"/>
              <a:ext cx="226440" cy="45576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226728" h="455665">
                  <a:moveTo>
                    <a:pt x="120536" y="105144"/>
                  </a:moveTo>
                  <a:lnTo>
                    <a:pt x="128626" y="105144"/>
                  </a:lnTo>
                  <a:lnTo>
                    <a:pt x="132702" y="104298"/>
                  </a:lnTo>
                  <a:lnTo>
                    <a:pt x="137113" y="102887"/>
                  </a:lnTo>
                  <a:lnTo>
                    <a:pt x="148269" y="98583"/>
                  </a:lnTo>
                  <a:lnTo>
                    <a:pt x="158826" y="93480"/>
                  </a:lnTo>
                  <a:lnTo>
                    <a:pt x="185108" y="80450"/>
                  </a:lnTo>
                  <a:lnTo>
                    <a:pt x="190677" y="76828"/>
                  </a:lnTo>
                  <a:lnTo>
                    <a:pt x="196082" y="72720"/>
                  </a:lnTo>
                  <a:lnTo>
                    <a:pt x="201381" y="68288"/>
                  </a:lnTo>
                  <a:lnTo>
                    <a:pt x="205758" y="63640"/>
                  </a:lnTo>
                  <a:lnTo>
                    <a:pt x="209524" y="58848"/>
                  </a:lnTo>
                  <a:lnTo>
                    <a:pt x="215966" y="49855"/>
                  </a:lnTo>
                  <a:lnTo>
                    <a:pt x="221651" y="43036"/>
                  </a:lnTo>
                  <a:lnTo>
                    <a:pt x="223506" y="39185"/>
                  </a:lnTo>
                  <a:lnTo>
                    <a:pt x="226116" y="26522"/>
                  </a:lnTo>
                  <a:lnTo>
                    <a:pt x="226727" y="19965"/>
                  </a:lnTo>
                  <a:lnTo>
                    <a:pt x="225197" y="17032"/>
                  </a:lnTo>
                  <a:lnTo>
                    <a:pt x="218980" y="11514"/>
                  </a:lnTo>
                  <a:lnTo>
                    <a:pt x="214952" y="8858"/>
                  </a:lnTo>
                  <a:lnTo>
                    <a:pt x="210573" y="6240"/>
                  </a:lnTo>
                  <a:lnTo>
                    <a:pt x="205961" y="3648"/>
                  </a:lnTo>
                  <a:lnTo>
                    <a:pt x="200345" y="1920"/>
                  </a:lnTo>
                  <a:lnTo>
                    <a:pt x="194062" y="768"/>
                  </a:lnTo>
                  <a:lnTo>
                    <a:pt x="187333" y="0"/>
                  </a:lnTo>
                  <a:lnTo>
                    <a:pt x="179460" y="335"/>
                  </a:lnTo>
                  <a:lnTo>
                    <a:pt x="170825" y="1405"/>
                  </a:lnTo>
                  <a:lnTo>
                    <a:pt x="161682" y="2964"/>
                  </a:lnTo>
                  <a:lnTo>
                    <a:pt x="152200" y="4851"/>
                  </a:lnTo>
                  <a:lnTo>
                    <a:pt x="132632" y="9206"/>
                  </a:lnTo>
                  <a:lnTo>
                    <a:pt x="121827" y="12398"/>
                  </a:lnTo>
                  <a:lnTo>
                    <a:pt x="110390" y="16220"/>
                  </a:lnTo>
                  <a:lnTo>
                    <a:pt x="98531" y="20462"/>
                  </a:lnTo>
                  <a:lnTo>
                    <a:pt x="87240" y="24983"/>
                  </a:lnTo>
                  <a:lnTo>
                    <a:pt x="76324" y="29690"/>
                  </a:lnTo>
                  <a:lnTo>
                    <a:pt x="65661" y="34521"/>
                  </a:lnTo>
                  <a:lnTo>
                    <a:pt x="56013" y="40282"/>
                  </a:lnTo>
                  <a:lnTo>
                    <a:pt x="47040" y="46663"/>
                  </a:lnTo>
                  <a:lnTo>
                    <a:pt x="38518" y="53456"/>
                  </a:lnTo>
                  <a:lnTo>
                    <a:pt x="30297" y="60526"/>
                  </a:lnTo>
                  <a:lnTo>
                    <a:pt x="22277" y="67779"/>
                  </a:lnTo>
                  <a:lnTo>
                    <a:pt x="14390" y="75154"/>
                  </a:lnTo>
                  <a:lnTo>
                    <a:pt x="9131" y="81764"/>
                  </a:lnTo>
                  <a:lnTo>
                    <a:pt x="3289" y="93624"/>
                  </a:lnTo>
                  <a:lnTo>
                    <a:pt x="693" y="106797"/>
                  </a:lnTo>
                  <a:lnTo>
                    <a:pt x="0" y="113867"/>
                  </a:lnTo>
                  <a:lnTo>
                    <a:pt x="1232" y="119426"/>
                  </a:lnTo>
                  <a:lnTo>
                    <a:pt x="3747" y="123979"/>
                  </a:lnTo>
                  <a:lnTo>
                    <a:pt x="7116" y="127860"/>
                  </a:lnTo>
                  <a:lnTo>
                    <a:pt x="11056" y="132142"/>
                  </a:lnTo>
                  <a:lnTo>
                    <a:pt x="19949" y="141414"/>
                  </a:lnTo>
                  <a:lnTo>
                    <a:pt x="25538" y="145411"/>
                  </a:lnTo>
                  <a:lnTo>
                    <a:pt x="31803" y="148922"/>
                  </a:lnTo>
                  <a:lnTo>
                    <a:pt x="38521" y="152109"/>
                  </a:lnTo>
                  <a:lnTo>
                    <a:pt x="46385" y="153388"/>
                  </a:lnTo>
                  <a:lnTo>
                    <a:pt x="55016" y="153393"/>
                  </a:lnTo>
                  <a:lnTo>
                    <a:pt x="64155" y="152550"/>
                  </a:lnTo>
                  <a:lnTo>
                    <a:pt x="72788" y="151141"/>
                  </a:lnTo>
                  <a:lnTo>
                    <a:pt x="81084" y="149355"/>
                  </a:lnTo>
                  <a:lnTo>
                    <a:pt x="116694" y="140406"/>
                  </a:lnTo>
                  <a:lnTo>
                    <a:pt x="125594" y="137119"/>
                  </a:lnTo>
                  <a:lnTo>
                    <a:pt x="134068" y="133234"/>
                  </a:lnTo>
                  <a:lnTo>
                    <a:pt x="142257" y="128951"/>
                  </a:lnTo>
                  <a:lnTo>
                    <a:pt x="150256" y="124402"/>
                  </a:lnTo>
                  <a:lnTo>
                    <a:pt x="158129" y="119676"/>
                  </a:lnTo>
                  <a:lnTo>
                    <a:pt x="165918" y="114832"/>
                  </a:lnTo>
                  <a:lnTo>
                    <a:pt x="171957" y="110756"/>
                  </a:lnTo>
                  <a:lnTo>
                    <a:pt x="176830" y="107193"/>
                  </a:lnTo>
                  <a:lnTo>
                    <a:pt x="180925" y="103970"/>
                  </a:lnTo>
                  <a:lnTo>
                    <a:pt x="183655" y="100974"/>
                  </a:lnTo>
                  <a:lnTo>
                    <a:pt x="185475" y="98131"/>
                  </a:lnTo>
                  <a:lnTo>
                    <a:pt x="188344" y="92714"/>
                  </a:lnTo>
                  <a:lnTo>
                    <a:pt x="192441" y="87484"/>
                  </a:lnTo>
                  <a:lnTo>
                    <a:pt x="193026" y="85751"/>
                  </a:lnTo>
                  <a:lnTo>
                    <a:pt x="192569" y="84595"/>
                  </a:lnTo>
                  <a:lnTo>
                    <a:pt x="189798" y="82741"/>
                  </a:lnTo>
                  <a:lnTo>
                    <a:pt x="187161" y="84745"/>
                  </a:lnTo>
                  <a:lnTo>
                    <a:pt x="182320" y="89305"/>
                  </a:lnTo>
                  <a:lnTo>
                    <a:pt x="160615" y="110814"/>
                  </a:lnTo>
                  <a:lnTo>
                    <a:pt x="156568" y="116544"/>
                  </a:lnTo>
                  <a:lnTo>
                    <a:pt x="149814" y="129684"/>
                  </a:lnTo>
                  <a:lnTo>
                    <a:pt x="146828" y="137591"/>
                  </a:lnTo>
                  <a:lnTo>
                    <a:pt x="143990" y="146248"/>
                  </a:lnTo>
                  <a:lnTo>
                    <a:pt x="141252" y="155408"/>
                  </a:lnTo>
                  <a:lnTo>
                    <a:pt x="135952" y="174614"/>
                  </a:lnTo>
                  <a:lnTo>
                    <a:pt x="133353" y="184478"/>
                  </a:lnTo>
                  <a:lnTo>
                    <a:pt x="128208" y="206725"/>
                  </a:lnTo>
                  <a:lnTo>
                    <a:pt x="125650" y="218585"/>
                  </a:lnTo>
                  <a:lnTo>
                    <a:pt x="123945" y="231572"/>
                  </a:lnTo>
                  <a:lnTo>
                    <a:pt x="122809" y="245309"/>
                  </a:lnTo>
                  <a:lnTo>
                    <a:pt x="122051" y="259547"/>
                  </a:lnTo>
                  <a:lnTo>
                    <a:pt x="120699" y="273273"/>
                  </a:lnTo>
                  <a:lnTo>
                    <a:pt x="118951" y="286657"/>
                  </a:lnTo>
                  <a:lnTo>
                    <a:pt x="116939" y="299813"/>
                  </a:lnTo>
                  <a:lnTo>
                    <a:pt x="115598" y="313663"/>
                  </a:lnTo>
                  <a:lnTo>
                    <a:pt x="114703" y="327977"/>
                  </a:lnTo>
                  <a:lnTo>
                    <a:pt x="113710" y="356581"/>
                  </a:lnTo>
                  <a:lnTo>
                    <a:pt x="113020" y="414216"/>
                  </a:lnTo>
                  <a:lnTo>
                    <a:pt x="112915" y="4556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SMARTInkAnnotation70"/>
            <p:cNvSpPr/>
            <p:nvPr/>
          </p:nvSpPr>
          <p:spPr>
            <a:xfrm>
              <a:off x="1250280" y="5288400"/>
              <a:ext cx="213120" cy="532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13361" h="53341">
                  <a:moveTo>
                    <a:pt x="0" y="0"/>
                  </a:moveTo>
                  <a:lnTo>
                    <a:pt x="4046" y="0"/>
                  </a:lnTo>
                  <a:lnTo>
                    <a:pt x="6084" y="846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4691" y="6083"/>
                  </a:lnTo>
                  <a:lnTo>
                    <a:pt x="19954" y="8289"/>
                  </a:lnTo>
                  <a:lnTo>
                    <a:pt x="26003" y="10606"/>
                  </a:lnTo>
                  <a:lnTo>
                    <a:pt x="32575" y="12150"/>
                  </a:lnTo>
                  <a:lnTo>
                    <a:pt x="39497" y="13181"/>
                  </a:lnTo>
                  <a:lnTo>
                    <a:pt x="46651" y="13867"/>
                  </a:lnTo>
                  <a:lnTo>
                    <a:pt x="53961" y="15171"/>
                  </a:lnTo>
                  <a:lnTo>
                    <a:pt x="61374" y="16887"/>
                  </a:lnTo>
                  <a:lnTo>
                    <a:pt x="124930" y="33117"/>
                  </a:lnTo>
                  <a:lnTo>
                    <a:pt x="185461" y="48269"/>
                  </a:lnTo>
                  <a:lnTo>
                    <a:pt x="193067" y="49959"/>
                  </a:lnTo>
                  <a:lnTo>
                    <a:pt x="198985" y="51087"/>
                  </a:lnTo>
                  <a:lnTo>
                    <a:pt x="213360" y="53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SMARTInkAnnotation71"/>
            <p:cNvSpPr/>
            <p:nvPr/>
          </p:nvSpPr>
          <p:spPr>
            <a:xfrm>
              <a:off x="1704960" y="5174640"/>
              <a:ext cx="253800" cy="37260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253927" h="372839">
                  <a:moveTo>
                    <a:pt x="116766" y="121378"/>
                  </a:moveTo>
                  <a:lnTo>
                    <a:pt x="120812" y="117333"/>
                  </a:lnTo>
                  <a:lnTo>
                    <a:pt x="127313" y="113089"/>
                  </a:lnTo>
                  <a:lnTo>
                    <a:pt x="135000" y="109228"/>
                  </a:lnTo>
                  <a:lnTo>
                    <a:pt x="141239" y="107511"/>
                  </a:lnTo>
                  <a:lnTo>
                    <a:pt x="149092" y="104491"/>
                  </a:lnTo>
                  <a:lnTo>
                    <a:pt x="153557" y="102500"/>
                  </a:lnTo>
                  <a:lnTo>
                    <a:pt x="159073" y="100326"/>
                  </a:lnTo>
                  <a:lnTo>
                    <a:pt x="171976" y="95652"/>
                  </a:lnTo>
                  <a:lnTo>
                    <a:pt x="178126" y="92374"/>
                  </a:lnTo>
                  <a:lnTo>
                    <a:pt x="183919" y="88496"/>
                  </a:lnTo>
                  <a:lnTo>
                    <a:pt x="189475" y="84216"/>
                  </a:lnTo>
                  <a:lnTo>
                    <a:pt x="194026" y="80517"/>
                  </a:lnTo>
                  <a:lnTo>
                    <a:pt x="201339" y="74149"/>
                  </a:lnTo>
                  <a:lnTo>
                    <a:pt x="209670" y="66238"/>
                  </a:lnTo>
                  <a:lnTo>
                    <a:pt x="214262" y="61758"/>
                  </a:lnTo>
                  <a:lnTo>
                    <a:pt x="217324" y="57078"/>
                  </a:lnTo>
                  <a:lnTo>
                    <a:pt x="220725" y="47362"/>
                  </a:lnTo>
                  <a:lnTo>
                    <a:pt x="222640" y="36418"/>
                  </a:lnTo>
                  <a:lnTo>
                    <a:pt x="223207" y="27813"/>
                  </a:lnTo>
                  <a:lnTo>
                    <a:pt x="221082" y="20245"/>
                  </a:lnTo>
                  <a:lnTo>
                    <a:pt x="219330" y="15855"/>
                  </a:lnTo>
                  <a:lnTo>
                    <a:pt x="215622" y="12083"/>
                  </a:lnTo>
                  <a:lnTo>
                    <a:pt x="210610" y="8721"/>
                  </a:lnTo>
                  <a:lnTo>
                    <a:pt x="204729" y="5634"/>
                  </a:lnTo>
                  <a:lnTo>
                    <a:pt x="199115" y="3575"/>
                  </a:lnTo>
                  <a:lnTo>
                    <a:pt x="193678" y="2202"/>
                  </a:lnTo>
                  <a:lnTo>
                    <a:pt x="188361" y="1288"/>
                  </a:lnTo>
                  <a:lnTo>
                    <a:pt x="181429" y="678"/>
                  </a:lnTo>
                  <a:lnTo>
                    <a:pt x="173422" y="271"/>
                  </a:lnTo>
                  <a:lnTo>
                    <a:pt x="164697" y="0"/>
                  </a:lnTo>
                  <a:lnTo>
                    <a:pt x="154647" y="666"/>
                  </a:lnTo>
                  <a:lnTo>
                    <a:pt x="143713" y="1956"/>
                  </a:lnTo>
                  <a:lnTo>
                    <a:pt x="132191" y="3664"/>
                  </a:lnTo>
                  <a:lnTo>
                    <a:pt x="121122" y="5648"/>
                  </a:lnTo>
                  <a:lnTo>
                    <a:pt x="110357" y="7818"/>
                  </a:lnTo>
                  <a:lnTo>
                    <a:pt x="64700" y="17384"/>
                  </a:lnTo>
                  <a:lnTo>
                    <a:pt x="53269" y="20722"/>
                  </a:lnTo>
                  <a:lnTo>
                    <a:pt x="42262" y="24641"/>
                  </a:lnTo>
                  <a:lnTo>
                    <a:pt x="31536" y="28946"/>
                  </a:lnTo>
                  <a:lnTo>
                    <a:pt x="23540" y="34357"/>
                  </a:lnTo>
                  <a:lnTo>
                    <a:pt x="17362" y="40504"/>
                  </a:lnTo>
                  <a:lnTo>
                    <a:pt x="12397" y="47142"/>
                  </a:lnTo>
                  <a:lnTo>
                    <a:pt x="8240" y="53261"/>
                  </a:lnTo>
                  <a:lnTo>
                    <a:pt x="1363" y="64574"/>
                  </a:lnTo>
                  <a:lnTo>
                    <a:pt x="38" y="69116"/>
                  </a:lnTo>
                  <a:lnTo>
                    <a:pt x="0" y="72990"/>
                  </a:lnTo>
                  <a:lnTo>
                    <a:pt x="822" y="76419"/>
                  </a:lnTo>
                  <a:lnTo>
                    <a:pt x="6251" y="84745"/>
                  </a:lnTo>
                  <a:lnTo>
                    <a:pt x="10070" y="89336"/>
                  </a:lnTo>
                  <a:lnTo>
                    <a:pt x="16002" y="93243"/>
                  </a:lnTo>
                  <a:lnTo>
                    <a:pt x="23343" y="96695"/>
                  </a:lnTo>
                  <a:lnTo>
                    <a:pt x="31624" y="99842"/>
                  </a:lnTo>
                  <a:lnTo>
                    <a:pt x="40532" y="101941"/>
                  </a:lnTo>
                  <a:lnTo>
                    <a:pt x="49856" y="103340"/>
                  </a:lnTo>
                  <a:lnTo>
                    <a:pt x="59460" y="104272"/>
                  </a:lnTo>
                  <a:lnTo>
                    <a:pt x="70095" y="104894"/>
                  </a:lnTo>
                  <a:lnTo>
                    <a:pt x="93201" y="105586"/>
                  </a:lnTo>
                  <a:lnTo>
                    <a:pt x="125965" y="105974"/>
                  </a:lnTo>
                  <a:lnTo>
                    <a:pt x="136445" y="104335"/>
                  </a:lnTo>
                  <a:lnTo>
                    <a:pt x="146819" y="101549"/>
                  </a:lnTo>
                  <a:lnTo>
                    <a:pt x="157122" y="97999"/>
                  </a:lnTo>
                  <a:lnTo>
                    <a:pt x="167376" y="94785"/>
                  </a:lnTo>
                  <a:lnTo>
                    <a:pt x="205911" y="83544"/>
                  </a:lnTo>
                  <a:lnTo>
                    <a:pt x="214296" y="80915"/>
                  </a:lnTo>
                  <a:lnTo>
                    <a:pt x="220733" y="78316"/>
                  </a:lnTo>
                  <a:lnTo>
                    <a:pt x="225871" y="75737"/>
                  </a:lnTo>
                  <a:lnTo>
                    <a:pt x="230143" y="73170"/>
                  </a:lnTo>
                  <a:lnTo>
                    <a:pt x="237147" y="68061"/>
                  </a:lnTo>
                  <a:lnTo>
                    <a:pt x="245770" y="60865"/>
                  </a:lnTo>
                  <a:lnTo>
                    <a:pt x="243810" y="60617"/>
                  </a:lnTo>
                  <a:lnTo>
                    <a:pt x="242102" y="60550"/>
                  </a:lnTo>
                  <a:lnTo>
                    <a:pt x="240117" y="62200"/>
                  </a:lnTo>
                  <a:lnTo>
                    <a:pt x="235653" y="68548"/>
                  </a:lnTo>
                  <a:lnTo>
                    <a:pt x="233105" y="74756"/>
                  </a:lnTo>
                  <a:lnTo>
                    <a:pt x="232426" y="77597"/>
                  </a:lnTo>
                  <a:lnTo>
                    <a:pt x="227155" y="87526"/>
                  </a:lnTo>
                  <a:lnTo>
                    <a:pt x="223379" y="93730"/>
                  </a:lnTo>
                  <a:lnTo>
                    <a:pt x="220014" y="100406"/>
                  </a:lnTo>
                  <a:lnTo>
                    <a:pt x="216925" y="107397"/>
                  </a:lnTo>
                  <a:lnTo>
                    <a:pt x="214019" y="114597"/>
                  </a:lnTo>
                  <a:lnTo>
                    <a:pt x="212081" y="122784"/>
                  </a:lnTo>
                  <a:lnTo>
                    <a:pt x="210790" y="131629"/>
                  </a:lnTo>
                  <a:lnTo>
                    <a:pt x="209928" y="140912"/>
                  </a:lnTo>
                  <a:lnTo>
                    <a:pt x="209354" y="150487"/>
                  </a:lnTo>
                  <a:lnTo>
                    <a:pt x="208717" y="170158"/>
                  </a:lnTo>
                  <a:lnTo>
                    <a:pt x="209393" y="180145"/>
                  </a:lnTo>
                  <a:lnTo>
                    <a:pt x="210691" y="190189"/>
                  </a:lnTo>
                  <a:lnTo>
                    <a:pt x="214391" y="211227"/>
                  </a:lnTo>
                  <a:lnTo>
                    <a:pt x="218857" y="234689"/>
                  </a:lnTo>
                  <a:lnTo>
                    <a:pt x="223664" y="256970"/>
                  </a:lnTo>
                  <a:lnTo>
                    <a:pt x="233649" y="298868"/>
                  </a:lnTo>
                  <a:lnTo>
                    <a:pt x="235328" y="309132"/>
                  </a:lnTo>
                  <a:lnTo>
                    <a:pt x="236448" y="319360"/>
                  </a:lnTo>
                  <a:lnTo>
                    <a:pt x="237194" y="329566"/>
                  </a:lnTo>
                  <a:lnTo>
                    <a:pt x="238538" y="338063"/>
                  </a:lnTo>
                  <a:lnTo>
                    <a:pt x="240281" y="345422"/>
                  </a:lnTo>
                  <a:lnTo>
                    <a:pt x="242289" y="352021"/>
                  </a:lnTo>
                  <a:lnTo>
                    <a:pt x="246779" y="361610"/>
                  </a:lnTo>
                  <a:lnTo>
                    <a:pt x="253926" y="3728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SMARTInkAnnotation72"/>
            <p:cNvSpPr/>
            <p:nvPr/>
          </p:nvSpPr>
          <p:spPr>
            <a:xfrm>
              <a:off x="1692360" y="5654160"/>
              <a:ext cx="299880" cy="28764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99941" h="287656">
                  <a:moveTo>
                    <a:pt x="0" y="22852"/>
                  </a:moveTo>
                  <a:lnTo>
                    <a:pt x="0" y="7953"/>
                  </a:lnTo>
                  <a:lnTo>
                    <a:pt x="4045" y="3668"/>
                  </a:lnTo>
                  <a:lnTo>
                    <a:pt x="6084" y="2443"/>
                  </a:lnTo>
                  <a:lnTo>
                    <a:pt x="10606" y="1081"/>
                  </a:lnTo>
                  <a:lnTo>
                    <a:pt x="17912" y="315"/>
                  </a:lnTo>
                  <a:lnTo>
                    <a:pt x="29692" y="135"/>
                  </a:lnTo>
                  <a:lnTo>
                    <a:pt x="87819" y="0"/>
                  </a:lnTo>
                  <a:lnTo>
                    <a:pt x="98340" y="844"/>
                  </a:lnTo>
                  <a:lnTo>
                    <a:pt x="109586" y="2253"/>
                  </a:lnTo>
                  <a:lnTo>
                    <a:pt x="121318" y="4039"/>
                  </a:lnTo>
                  <a:lnTo>
                    <a:pt x="132525" y="5231"/>
                  </a:lnTo>
                  <a:lnTo>
                    <a:pt x="143383" y="6025"/>
                  </a:lnTo>
                  <a:lnTo>
                    <a:pt x="154009" y="6553"/>
                  </a:lnTo>
                  <a:lnTo>
                    <a:pt x="165326" y="8600"/>
                  </a:lnTo>
                  <a:lnTo>
                    <a:pt x="177104" y="11657"/>
                  </a:lnTo>
                  <a:lnTo>
                    <a:pt x="189189" y="15389"/>
                  </a:lnTo>
                  <a:lnTo>
                    <a:pt x="211649" y="21793"/>
                  </a:lnTo>
                  <a:lnTo>
                    <a:pt x="222379" y="24686"/>
                  </a:lnTo>
                  <a:lnTo>
                    <a:pt x="232073" y="28307"/>
                  </a:lnTo>
                  <a:lnTo>
                    <a:pt x="241075" y="32417"/>
                  </a:lnTo>
                  <a:lnTo>
                    <a:pt x="249617" y="36848"/>
                  </a:lnTo>
                  <a:lnTo>
                    <a:pt x="257851" y="40649"/>
                  </a:lnTo>
                  <a:lnTo>
                    <a:pt x="265881" y="44030"/>
                  </a:lnTo>
                  <a:lnTo>
                    <a:pt x="273774" y="47131"/>
                  </a:lnTo>
                  <a:lnTo>
                    <a:pt x="279883" y="50891"/>
                  </a:lnTo>
                  <a:lnTo>
                    <a:pt x="292525" y="62581"/>
                  </a:lnTo>
                  <a:lnTo>
                    <a:pt x="298780" y="65909"/>
                  </a:lnTo>
                  <a:lnTo>
                    <a:pt x="299940" y="67643"/>
                  </a:lnTo>
                  <a:lnTo>
                    <a:pt x="299867" y="69647"/>
                  </a:lnTo>
                  <a:lnTo>
                    <a:pt x="298971" y="71828"/>
                  </a:lnTo>
                  <a:lnTo>
                    <a:pt x="296681" y="73283"/>
                  </a:lnTo>
                  <a:lnTo>
                    <a:pt x="285367" y="76177"/>
                  </a:lnTo>
                  <a:lnTo>
                    <a:pt x="276125" y="79854"/>
                  </a:lnTo>
                  <a:lnTo>
                    <a:pt x="270444" y="81174"/>
                  </a:lnTo>
                  <a:lnTo>
                    <a:pt x="264115" y="82053"/>
                  </a:lnTo>
                  <a:lnTo>
                    <a:pt x="257357" y="82639"/>
                  </a:lnTo>
                  <a:lnTo>
                    <a:pt x="250312" y="83030"/>
                  </a:lnTo>
                  <a:lnTo>
                    <a:pt x="235710" y="83465"/>
                  </a:lnTo>
                  <a:lnTo>
                    <a:pt x="228259" y="84427"/>
                  </a:lnTo>
                  <a:lnTo>
                    <a:pt x="220753" y="85916"/>
                  </a:lnTo>
                  <a:lnTo>
                    <a:pt x="213209" y="87754"/>
                  </a:lnTo>
                  <a:lnTo>
                    <a:pt x="204792" y="88981"/>
                  </a:lnTo>
                  <a:lnTo>
                    <a:pt x="195795" y="89797"/>
                  </a:lnTo>
                  <a:lnTo>
                    <a:pt x="179307" y="90706"/>
                  </a:lnTo>
                  <a:lnTo>
                    <a:pt x="169156" y="91109"/>
                  </a:lnTo>
                  <a:lnTo>
                    <a:pt x="165264" y="92063"/>
                  </a:lnTo>
                  <a:lnTo>
                    <a:pt x="158682" y="95381"/>
                  </a:lnTo>
                  <a:lnTo>
                    <a:pt x="156588" y="97452"/>
                  </a:lnTo>
                  <a:lnTo>
                    <a:pt x="155192" y="99679"/>
                  </a:lnTo>
                  <a:lnTo>
                    <a:pt x="154261" y="102010"/>
                  </a:lnTo>
                  <a:lnTo>
                    <a:pt x="153227" y="109115"/>
                  </a:lnTo>
                  <a:lnTo>
                    <a:pt x="152952" y="113381"/>
                  </a:lnTo>
                  <a:lnTo>
                    <a:pt x="154461" y="117918"/>
                  </a:lnTo>
                  <a:lnTo>
                    <a:pt x="157161" y="122635"/>
                  </a:lnTo>
                  <a:lnTo>
                    <a:pt x="160654" y="127474"/>
                  </a:lnTo>
                  <a:lnTo>
                    <a:pt x="164676" y="132394"/>
                  </a:lnTo>
                  <a:lnTo>
                    <a:pt x="169051" y="137366"/>
                  </a:lnTo>
                  <a:lnTo>
                    <a:pt x="173660" y="142375"/>
                  </a:lnTo>
                  <a:lnTo>
                    <a:pt x="185556" y="154713"/>
                  </a:lnTo>
                  <a:lnTo>
                    <a:pt x="192284" y="161559"/>
                  </a:lnTo>
                  <a:lnTo>
                    <a:pt x="200156" y="167817"/>
                  </a:lnTo>
                  <a:lnTo>
                    <a:pt x="208791" y="173682"/>
                  </a:lnTo>
                  <a:lnTo>
                    <a:pt x="217934" y="179285"/>
                  </a:lnTo>
                  <a:lnTo>
                    <a:pt x="225722" y="185561"/>
                  </a:lnTo>
                  <a:lnTo>
                    <a:pt x="232608" y="192284"/>
                  </a:lnTo>
                  <a:lnTo>
                    <a:pt x="238892" y="199307"/>
                  </a:lnTo>
                  <a:lnTo>
                    <a:pt x="244775" y="206529"/>
                  </a:lnTo>
                  <a:lnTo>
                    <a:pt x="250390" y="213883"/>
                  </a:lnTo>
                  <a:lnTo>
                    <a:pt x="255827" y="221326"/>
                  </a:lnTo>
                  <a:lnTo>
                    <a:pt x="260298" y="228828"/>
                  </a:lnTo>
                  <a:lnTo>
                    <a:pt x="264125" y="236370"/>
                  </a:lnTo>
                  <a:lnTo>
                    <a:pt x="267524" y="243937"/>
                  </a:lnTo>
                  <a:lnTo>
                    <a:pt x="269789" y="249829"/>
                  </a:lnTo>
                  <a:lnTo>
                    <a:pt x="272306" y="258633"/>
                  </a:lnTo>
                  <a:lnTo>
                    <a:pt x="272131" y="263012"/>
                  </a:lnTo>
                  <a:lnTo>
                    <a:pt x="271167" y="267625"/>
                  </a:lnTo>
                  <a:lnTo>
                    <a:pt x="267839" y="276420"/>
                  </a:lnTo>
                  <a:lnTo>
                    <a:pt x="263537" y="283151"/>
                  </a:lnTo>
                  <a:lnTo>
                    <a:pt x="259512" y="285285"/>
                  </a:lnTo>
                  <a:lnTo>
                    <a:pt x="254288" y="286707"/>
                  </a:lnTo>
                  <a:lnTo>
                    <a:pt x="248265" y="287655"/>
                  </a:lnTo>
                  <a:lnTo>
                    <a:pt x="241710" y="287441"/>
                  </a:lnTo>
                  <a:lnTo>
                    <a:pt x="234800" y="286451"/>
                  </a:lnTo>
                  <a:lnTo>
                    <a:pt x="227654" y="284945"/>
                  </a:lnTo>
                  <a:lnTo>
                    <a:pt x="201415" y="278779"/>
                  </a:lnTo>
                  <a:lnTo>
                    <a:pt x="191849" y="277290"/>
                  </a:lnTo>
                  <a:lnTo>
                    <a:pt x="182087" y="276297"/>
                  </a:lnTo>
                  <a:lnTo>
                    <a:pt x="172191" y="275635"/>
                  </a:lnTo>
                  <a:lnTo>
                    <a:pt x="162207" y="274348"/>
                  </a:lnTo>
                  <a:lnTo>
                    <a:pt x="152165" y="272643"/>
                  </a:lnTo>
                  <a:lnTo>
                    <a:pt x="142083" y="270659"/>
                  </a:lnTo>
                  <a:lnTo>
                    <a:pt x="121850" y="266198"/>
                  </a:lnTo>
                  <a:lnTo>
                    <a:pt x="111714" y="263822"/>
                  </a:lnTo>
                  <a:lnTo>
                    <a:pt x="103262" y="261392"/>
                  </a:lnTo>
                  <a:lnTo>
                    <a:pt x="95935" y="258926"/>
                  </a:lnTo>
                  <a:lnTo>
                    <a:pt x="89357" y="256435"/>
                  </a:lnTo>
                  <a:lnTo>
                    <a:pt x="82431" y="254774"/>
                  </a:lnTo>
                  <a:lnTo>
                    <a:pt x="75274" y="253666"/>
                  </a:lnTo>
                  <a:lnTo>
                    <a:pt x="67963" y="252928"/>
                  </a:lnTo>
                  <a:lnTo>
                    <a:pt x="63089" y="251590"/>
                  </a:lnTo>
                  <a:lnTo>
                    <a:pt x="59839" y="249850"/>
                  </a:lnTo>
                  <a:lnTo>
                    <a:pt x="57673" y="247844"/>
                  </a:lnTo>
                  <a:lnTo>
                    <a:pt x="55382" y="246507"/>
                  </a:lnTo>
                  <a:lnTo>
                    <a:pt x="49806" y="244625"/>
                  </a:lnTo>
                  <a:lnTo>
                    <a:pt x="50137" y="244360"/>
                  </a:lnTo>
                  <a:lnTo>
                    <a:pt x="53340" y="2438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SMARTInkAnnotation73"/>
            <p:cNvSpPr/>
            <p:nvPr/>
          </p:nvSpPr>
          <p:spPr>
            <a:xfrm>
              <a:off x="2241000" y="576864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20">
                  <a:moveTo>
                    <a:pt x="0" y="7619"/>
                  </a:moveTo>
                  <a:lnTo>
                    <a:pt x="4045" y="7619"/>
                  </a:lnTo>
                  <a:lnTo>
                    <a:pt x="6084" y="6773"/>
                  </a:lnTo>
                  <a:lnTo>
                    <a:pt x="8289" y="5362"/>
                  </a:lnTo>
                  <a:lnTo>
                    <a:pt x="10606" y="3575"/>
                  </a:lnTo>
                  <a:lnTo>
                    <a:pt x="13844" y="2383"/>
                  </a:lnTo>
                  <a:lnTo>
                    <a:pt x="17696" y="1588"/>
                  </a:lnTo>
                  <a:lnTo>
                    <a:pt x="21957" y="1058"/>
                  </a:lnTo>
                  <a:lnTo>
                    <a:pt x="27338" y="706"/>
                  </a:lnTo>
                  <a:lnTo>
                    <a:pt x="33465" y="470"/>
                  </a:lnTo>
                  <a:lnTo>
                    <a:pt x="54225" y="139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SMARTInkAnnotation74"/>
            <p:cNvSpPr/>
            <p:nvPr/>
          </p:nvSpPr>
          <p:spPr>
            <a:xfrm>
              <a:off x="2294280" y="5798880"/>
              <a:ext cx="236160" cy="457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36221" h="45710">
                  <a:moveTo>
                    <a:pt x="0" y="0"/>
                  </a:moveTo>
                  <a:lnTo>
                    <a:pt x="0" y="11572"/>
                  </a:lnTo>
                  <a:lnTo>
                    <a:pt x="847" y="13642"/>
                  </a:lnTo>
                  <a:lnTo>
                    <a:pt x="2258" y="15868"/>
                  </a:lnTo>
                  <a:lnTo>
                    <a:pt x="4046" y="18199"/>
                  </a:lnTo>
                  <a:lnTo>
                    <a:pt x="6930" y="20599"/>
                  </a:lnTo>
                  <a:lnTo>
                    <a:pt x="10547" y="23046"/>
                  </a:lnTo>
                  <a:lnTo>
                    <a:pt x="14652" y="25524"/>
                  </a:lnTo>
                  <a:lnTo>
                    <a:pt x="19081" y="28022"/>
                  </a:lnTo>
                  <a:lnTo>
                    <a:pt x="28518" y="33057"/>
                  </a:lnTo>
                  <a:lnTo>
                    <a:pt x="34252" y="35584"/>
                  </a:lnTo>
                  <a:lnTo>
                    <a:pt x="40615" y="38116"/>
                  </a:lnTo>
                  <a:lnTo>
                    <a:pt x="47397" y="40651"/>
                  </a:lnTo>
                  <a:lnTo>
                    <a:pt x="55304" y="42341"/>
                  </a:lnTo>
                  <a:lnTo>
                    <a:pt x="63963" y="43468"/>
                  </a:lnTo>
                  <a:lnTo>
                    <a:pt x="73122" y="44218"/>
                  </a:lnTo>
                  <a:lnTo>
                    <a:pt x="81768" y="44719"/>
                  </a:lnTo>
                  <a:lnTo>
                    <a:pt x="98148" y="45275"/>
                  </a:lnTo>
                  <a:lnTo>
                    <a:pt x="145329" y="45661"/>
                  </a:lnTo>
                  <a:lnTo>
                    <a:pt x="181484" y="45709"/>
                  </a:lnTo>
                  <a:lnTo>
                    <a:pt x="188723" y="44866"/>
                  </a:lnTo>
                  <a:lnTo>
                    <a:pt x="195242" y="43457"/>
                  </a:lnTo>
                  <a:lnTo>
                    <a:pt x="201281" y="41672"/>
                  </a:lnTo>
                  <a:lnTo>
                    <a:pt x="207001" y="40481"/>
                  </a:lnTo>
                  <a:lnTo>
                    <a:pt x="212507" y="39687"/>
                  </a:lnTo>
                  <a:lnTo>
                    <a:pt x="217872" y="39158"/>
                  </a:lnTo>
                  <a:lnTo>
                    <a:pt x="222295" y="38806"/>
                  </a:lnTo>
                  <a:lnTo>
                    <a:pt x="226090" y="38570"/>
                  </a:lnTo>
                  <a:lnTo>
                    <a:pt x="236220" y="38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SMARTInkAnnotation75"/>
            <p:cNvSpPr/>
            <p:nvPr/>
          </p:nvSpPr>
          <p:spPr>
            <a:xfrm>
              <a:off x="2568600" y="5760720"/>
              <a:ext cx="335160" cy="9144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335281" h="91441">
                  <a:moveTo>
                    <a:pt x="335280" y="0"/>
                  </a:moveTo>
                  <a:lnTo>
                    <a:pt x="335280" y="6561"/>
                  </a:lnTo>
                  <a:lnTo>
                    <a:pt x="334434" y="6914"/>
                  </a:lnTo>
                  <a:lnTo>
                    <a:pt x="331235" y="7306"/>
                  </a:lnTo>
                  <a:lnTo>
                    <a:pt x="330044" y="8258"/>
                  </a:lnTo>
                  <a:lnTo>
                    <a:pt x="329249" y="9739"/>
                  </a:lnTo>
                  <a:lnTo>
                    <a:pt x="328719" y="11572"/>
                  </a:lnTo>
                  <a:lnTo>
                    <a:pt x="327520" y="12795"/>
                  </a:lnTo>
                  <a:lnTo>
                    <a:pt x="325873" y="13610"/>
                  </a:lnTo>
                  <a:lnTo>
                    <a:pt x="323929" y="14153"/>
                  </a:lnTo>
                  <a:lnTo>
                    <a:pt x="320939" y="16209"/>
                  </a:lnTo>
                  <a:lnTo>
                    <a:pt x="317253" y="19272"/>
                  </a:lnTo>
                  <a:lnTo>
                    <a:pt x="313102" y="23009"/>
                  </a:lnTo>
                  <a:lnTo>
                    <a:pt x="306948" y="26346"/>
                  </a:lnTo>
                  <a:lnTo>
                    <a:pt x="299459" y="29418"/>
                  </a:lnTo>
                  <a:lnTo>
                    <a:pt x="291080" y="32312"/>
                  </a:lnTo>
                  <a:lnTo>
                    <a:pt x="282106" y="35934"/>
                  </a:lnTo>
                  <a:lnTo>
                    <a:pt x="272738" y="40043"/>
                  </a:lnTo>
                  <a:lnTo>
                    <a:pt x="263105" y="44475"/>
                  </a:lnTo>
                  <a:lnTo>
                    <a:pt x="252450" y="48277"/>
                  </a:lnTo>
                  <a:lnTo>
                    <a:pt x="241114" y="51658"/>
                  </a:lnTo>
                  <a:lnTo>
                    <a:pt x="229323" y="54758"/>
                  </a:lnTo>
                  <a:lnTo>
                    <a:pt x="216382" y="58519"/>
                  </a:lnTo>
                  <a:lnTo>
                    <a:pt x="188457" y="67213"/>
                  </a:lnTo>
                  <a:lnTo>
                    <a:pt x="173898" y="71055"/>
                  </a:lnTo>
                  <a:lnTo>
                    <a:pt x="159112" y="74464"/>
                  </a:lnTo>
                  <a:lnTo>
                    <a:pt x="102926" y="86017"/>
                  </a:lnTo>
                  <a:lnTo>
                    <a:pt x="90631" y="87825"/>
                  </a:lnTo>
                  <a:lnTo>
                    <a:pt x="79048" y="89030"/>
                  </a:lnTo>
                  <a:lnTo>
                    <a:pt x="67938" y="89833"/>
                  </a:lnTo>
                  <a:lnTo>
                    <a:pt x="56299" y="90369"/>
                  </a:lnTo>
                  <a:lnTo>
                    <a:pt x="23078" y="91123"/>
                  </a:lnTo>
                  <a:lnTo>
                    <a:pt x="0" y="91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SMARTInkAnnotation76"/>
            <p:cNvSpPr/>
            <p:nvPr/>
          </p:nvSpPr>
          <p:spPr>
            <a:xfrm>
              <a:off x="2705760" y="5631120"/>
              <a:ext cx="190440" cy="3124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90501" h="312421">
                  <a:moveTo>
                    <a:pt x="0" y="0"/>
                  </a:moveTo>
                  <a:lnTo>
                    <a:pt x="6561" y="6561"/>
                  </a:lnTo>
                  <a:lnTo>
                    <a:pt x="7306" y="15397"/>
                  </a:lnTo>
                  <a:lnTo>
                    <a:pt x="8257" y="20425"/>
                  </a:lnTo>
                  <a:lnTo>
                    <a:pt x="9738" y="26316"/>
                  </a:lnTo>
                  <a:lnTo>
                    <a:pt x="11573" y="32784"/>
                  </a:lnTo>
                  <a:lnTo>
                    <a:pt x="15868" y="46744"/>
                  </a:lnTo>
                  <a:lnTo>
                    <a:pt x="18199" y="54023"/>
                  </a:lnTo>
                  <a:lnTo>
                    <a:pt x="20599" y="62262"/>
                  </a:lnTo>
                  <a:lnTo>
                    <a:pt x="25524" y="80447"/>
                  </a:lnTo>
                  <a:lnTo>
                    <a:pt x="29716" y="90885"/>
                  </a:lnTo>
                  <a:lnTo>
                    <a:pt x="35051" y="102077"/>
                  </a:lnTo>
                  <a:lnTo>
                    <a:pt x="41147" y="113771"/>
                  </a:lnTo>
                  <a:lnTo>
                    <a:pt x="48598" y="126648"/>
                  </a:lnTo>
                  <a:lnTo>
                    <a:pt x="56952" y="140312"/>
                  </a:lnTo>
                  <a:lnTo>
                    <a:pt x="65908" y="154501"/>
                  </a:lnTo>
                  <a:lnTo>
                    <a:pt x="75266" y="168194"/>
                  </a:lnTo>
                  <a:lnTo>
                    <a:pt x="84891" y="181556"/>
                  </a:lnTo>
                  <a:lnTo>
                    <a:pt x="94694" y="194698"/>
                  </a:lnTo>
                  <a:lnTo>
                    <a:pt x="116875" y="222846"/>
                  </a:lnTo>
                  <a:lnTo>
                    <a:pt x="128717" y="237464"/>
                  </a:lnTo>
                  <a:lnTo>
                    <a:pt x="139151" y="249749"/>
                  </a:lnTo>
                  <a:lnTo>
                    <a:pt x="148648" y="260480"/>
                  </a:lnTo>
                  <a:lnTo>
                    <a:pt x="157518" y="270173"/>
                  </a:lnTo>
                  <a:lnTo>
                    <a:pt x="165126" y="279176"/>
                  </a:lnTo>
                  <a:lnTo>
                    <a:pt x="171890" y="287717"/>
                  </a:lnTo>
                  <a:lnTo>
                    <a:pt x="190500" y="3124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4"/>
          <p:cNvSpPr/>
          <p:nvPr/>
        </p:nvSpPr>
        <p:spPr>
          <a:xfrm>
            <a:off x="26280" y="0"/>
            <a:ext cx="58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6a: Equations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0" descr="drummer_snow_dundas-yonge_02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4"/>
          <p:cNvSpPr/>
          <p:nvPr/>
        </p:nvSpPr>
        <p:spPr>
          <a:xfrm>
            <a:off x="18360" y="4572000"/>
            <a:ext cx="353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g: 162  # 1 – 8, 16, 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20:46:58Z</dcterms:created>
  <dc:creator>Pfeifer</dc:creator>
  <dc:description/>
  <dc:language>en-US</dc:language>
  <cp:lastModifiedBy>m</cp:lastModifiedBy>
  <dcterms:modified xsi:type="dcterms:W3CDTF">2012-01-25T21:49:08Z</dcterms:modified>
  <cp:revision>19</cp:revision>
  <dc:subject/>
  <dc:title>Slide 1</dc:title>
</cp:coreProperties>
</file>